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872-BFDB-41DD-AA9D-6F444134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4DA-513B-44BA-91CF-EF3169F9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B13-AA2E-402A-B2F7-59407957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7EF-10B7-4B1B-B52A-C4456BA8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1F4-6B33-4C3D-9F2D-21586C29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58F-102D-46FD-BED3-C5BBC106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C34-98E0-4E96-86DE-97378DE2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833-5317-4741-A5B5-BB63E4D8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E67-7783-43E3-B1E8-346721C4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9B4-1037-4C73-BA32-C1A396A8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D49-3C90-4B4A-8375-FDFE884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524-1978-44F5-9E78-B6B0D23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D2ED-E8EB-40E2-BF2A-99167EA5B27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9405-065D-4FE8-9CF3-3AA468A8D27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560520"/>
            <a:chOff x="2916360" y="1522440"/>
            <a:chExt cx="1206360" cy="56052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6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85184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104472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曹阳</cp:lastModifiedBy>
  <dcterms:modified xsi:type="dcterms:W3CDTF">2016-09-28T09:19:59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