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BEE6-914A-49FD-91CA-401BE86FE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777E-B916-4A46-96B4-BBE6511B5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7736-BE03-4B05-9675-B80417721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387E-E791-4253-AF93-4C5E3A38F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9ECE-7000-40C0-86B2-B666E0161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ACDD-9208-467B-B95F-A9480A6E7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2BCA-B082-458C-8725-FCE9F5E27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A889-66E0-40FC-AC79-7BB6B69CD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530F-3545-4205-9D83-BFC86C79F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C104-8168-449F-A0FA-E7C5A9AA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CABF-1842-470B-82A5-8C6ED029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AA9B-FE5B-4632-89B3-FED02869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6A01A-706F-4670-B0BA-E445DC3EF1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5936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219280" y="2636640"/>
            <a:ext cx="230508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Arial"/>
                <a:ea typeface="时尚中黑简体"/>
              </a:rPr>
              <a:t>印象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60720" y="3500280"/>
            <a:ext cx="27352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浪漫雅圆"/>
                <a:ea typeface="时尚中黑简体"/>
              </a:rPr>
              <a:t>TRAVEL ALO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89080" y="3573360"/>
            <a:ext cx="367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Impress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4920" y="620640"/>
            <a:ext cx="9131400" cy="5715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940360" y="34369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安徽之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848560" y="3659040"/>
            <a:ext cx="136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浪漫雅圆"/>
              </a:rPr>
              <a:t>ANHUI ZHI X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508720" y="3427560"/>
            <a:ext cx="565200" cy="433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651640" y="342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40360" y="4005360"/>
            <a:ext cx="28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周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来过未曾离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5508720" y="4003560"/>
            <a:ext cx="565200" cy="4334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651640" y="39988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4235400"/>
            <a:ext cx="295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浪漫雅圆"/>
              </a:rPr>
              <a:t>ZHOU ZHUANG,LAI GUO WEI CENG LI KA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5508720" y="4579920"/>
            <a:ext cx="565200" cy="433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651640" y="457524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788000" y="2421000"/>
            <a:ext cx="995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  <a:ea typeface="时尚中黑简体"/>
              </a:rPr>
              <a:t>目录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940360" y="4575240"/>
            <a:ext cx="28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CityWalk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寻梦青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940360" y="4809960"/>
            <a:ext cx="29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浪漫雅圆"/>
              </a:rPr>
              <a:t>CITYWALKS XUN MENG QING D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5508720" y="5156280"/>
            <a:ext cx="565200" cy="433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653080" y="51516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940360" y="5151600"/>
            <a:ext cx="28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解读湘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940360" y="5386320"/>
            <a:ext cx="29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浪漫雅圆"/>
              </a:rPr>
              <a:t>JIE DU XIANG X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57168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0" y="57168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-30240" y="571680"/>
            <a:ext cx="9136080" cy="5715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57360" y="1268280"/>
            <a:ext cx="74448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Arial"/>
                <a:ea typeface="时尚中黑简体"/>
              </a:rPr>
              <a:t>青岛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30636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0" y="522360"/>
            <a:ext cx="9137520" cy="5715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246760" y="1557360"/>
            <a:ext cx="146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faed8"/>
                </a:solidFill>
                <a:latin typeface="微软雅黑"/>
                <a:ea typeface="微软雅黑"/>
              </a:rPr>
              <a:t>岛域旧志 海岛风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85160" y="1886040"/>
            <a:ext cx="241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94949"/>
                </a:solidFill>
                <a:latin typeface="浪漫雅圆"/>
              </a:rPr>
              <a:t>MY TRAVEL MY CITYWAL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835280" y="2035080"/>
            <a:ext cx="59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94949"/>
                </a:solidFill>
                <a:latin typeface="浪漫雅圆"/>
              </a:rPr>
              <a:t>DAO YU JIU ZHI HAI DAO FENG Q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6360" y="2781360"/>
            <a:ext cx="721044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             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晚上，各位暴走团的朋友都背着厚厚的旅行包在鼓楼公园门口集合。旅行车还没到之前，各位同志都被暴站在路边，又热又闷，但是还是抵挡不了大家激动的心情呀。直到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11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点，大家总算坐上了车出发了，一路上，领头的在前面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K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歌，各个座位上的小情侣们有说有唱的，我和我们家的马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sir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两人也是各种吃，从果冻到薯片，从薯片到糖果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一路上没少折腾，抵达青岛要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8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个小时左右，中途在南京六合停（为了等后面的鲨鱼队和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XX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队），在某服务站停靠了一下（主要是很多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GG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和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MM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要尿尿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            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一路上真的没法睡，坐七八个小时的车程真的受不了，屁股难受，想睡也没法睡，压根就没一个好的姿势让自己能入睡。于是拿着导航仪在那与大巴做同步，一路北上，经过宿迁、日照等等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57168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124880" y="3141720"/>
            <a:ext cx="880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kzidenz-Grotesk BQ Light with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sus</dc:creator>
  <dc:description/>
  <dc:language>en-US</dc:language>
  <cp:lastModifiedBy/>
  <dcterms:modified xsi:type="dcterms:W3CDTF">2015-01-06T17:16:13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