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0EA-4CD6-4AD3-87F8-C89BF447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481-18AF-4832-AF47-44E218C6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C1B-3CAC-44F3-B0C3-4C0D36F1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D6A-874D-440E-8CA6-E478E717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2AE-BE5A-4767-8DE8-20E1770C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B05-8E22-40DC-88C4-330C887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12D-3802-49FC-B684-EEA8AECA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624-1B57-4F24-B6E8-BF4E1AE7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E05-EB2B-455A-AF77-A55B1F4E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2E8-0796-484C-9773-B339B41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21F-6042-47EB-991A-4FA3904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5AA-1318-46FF-900D-9176378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974-81F3-44B5-9D29-59A12F54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浪漫雅圆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4856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浪漫雅圆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浪漫雅圆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8516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4949"/>
                </a:solidFill>
                <a:latin typeface="浪漫雅圆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949"/>
                </a:solidFill>
                <a:latin typeface="浪漫雅圆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dc:language>en-US</dc:language>
  <cp:lastModifiedBy/>
  <dcterms:modified xsi:type="dcterms:W3CDTF">2015-01-06T17:16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