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FA8-73CB-4417-9BE1-E2AA685F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685-5224-4449-8933-80A3FA20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21B-402A-49E9-BC07-9E8AC1DD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C20-CBFE-4D4D-917E-E4E413EA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F10D-D850-4746-AA34-E20BA9B8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49A-116C-4B8B-944C-935F8407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C7B-7FF8-4817-BAEF-1B9DA981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7DBE-F830-4683-8C4C-0B1007B0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647-9D88-45AD-9A04-8EC3CAF6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160-B2BC-4BB1-AF32-4B9B0680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2625-3F34-415F-BAED-C05E4B19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CDF-8E13-4000-B243-3E4F529E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1E61-E95B-46C0-9D7C-2470663C8C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星空7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等腰三角形 8"/>
          <p:cNvSpPr/>
          <p:nvPr/>
        </p:nvSpPr>
        <p:spPr>
          <a:xfrm rot="16200000">
            <a:off x="3423240" y="3683160"/>
            <a:ext cx="839880" cy="6796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3"/>
          <p:cNvSpPr/>
          <p:nvPr/>
        </p:nvSpPr>
        <p:spPr>
          <a:xfrm rot="10800000">
            <a:off x="1351080" y="2059920"/>
            <a:ext cx="3071520" cy="2647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1271520" y="2467080"/>
            <a:ext cx="3672000" cy="13129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POWERPOINT</a:t>
            </a:r>
            <a:r>
              <a:rPr b="1" lang="zh-CN" sz="4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515880" y="5322960"/>
            <a:ext cx="51847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095640" y="4513320"/>
            <a:ext cx="1006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EAK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6089760" y="2133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7"/>
          <p:cNvSpPr/>
          <p:nvPr/>
        </p:nvSpPr>
        <p:spPr>
          <a:xfrm>
            <a:off x="6959520" y="3024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1865160" y="2301840"/>
            <a:ext cx="360360" cy="24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3"/>
          <p:cNvSpPr/>
          <p:nvPr/>
        </p:nvSpPr>
        <p:spPr>
          <a:xfrm>
            <a:off x="1631880" y="4778280"/>
            <a:ext cx="3456000" cy="0"/>
          </a:xfrm>
          <a:prstGeom prst="line">
            <a:avLst/>
          </a:prstGeom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6"/>
          <p:cNvSpPr/>
          <p:nvPr/>
        </p:nvSpPr>
        <p:spPr>
          <a:xfrm>
            <a:off x="2960640" y="2921040"/>
            <a:ext cx="327240" cy="1851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7"/>
          <p:cNvSpPr/>
          <p:nvPr/>
        </p:nvSpPr>
        <p:spPr>
          <a:xfrm>
            <a:off x="3852720" y="3525840"/>
            <a:ext cx="298440" cy="1230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"/>
          <p:cNvSpPr/>
          <p:nvPr/>
        </p:nvSpPr>
        <p:spPr>
          <a:xfrm>
            <a:off x="1871640" y="4849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8"/>
          <p:cNvSpPr/>
          <p:nvPr/>
        </p:nvSpPr>
        <p:spPr>
          <a:xfrm>
            <a:off x="2961720" y="4805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9"/>
          <p:cNvSpPr/>
          <p:nvPr/>
        </p:nvSpPr>
        <p:spPr>
          <a:xfrm>
            <a:off x="3866760" y="481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8"/>
          <p:cNvSpPr/>
          <p:nvPr/>
        </p:nvSpPr>
        <p:spPr>
          <a:xfrm>
            <a:off x="6089760" y="2060640"/>
            <a:ext cx="6102360" cy="338616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6288120" y="23544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7"/>
          <p:cNvSpPr/>
          <p:nvPr/>
        </p:nvSpPr>
        <p:spPr>
          <a:xfrm>
            <a:off x="6959520" y="3024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7" descr=""/>
          <p:cNvPicPr/>
          <p:nvPr/>
        </p:nvPicPr>
        <p:blipFill>
          <a:blip r:embed="rId1"/>
          <a:stretch/>
        </p:blipFill>
        <p:spPr>
          <a:xfrm>
            <a:off x="20520" y="2060640"/>
            <a:ext cx="606924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星空7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59" name="矩形 1"/>
          <p:cNvSpPr/>
          <p:nvPr/>
        </p:nvSpPr>
        <p:spPr>
          <a:xfrm>
            <a:off x="766800" y="3429000"/>
            <a:ext cx="5113440" cy="10083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"/>
              </a:rPr>
              <a:t>THANK YOU</a:t>
            </a:r>
            <a:r>
              <a:rPr b="1" lang="zh-CN" sz="6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985680" y="5153040"/>
            <a:ext cx="51832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982800" y="4444920"/>
            <a:ext cx="10080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EAK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星空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7"/>
          <p:cNvSpPr/>
          <p:nvPr/>
        </p:nvSpPr>
        <p:spPr>
          <a:xfrm>
            <a:off x="0" y="1197000"/>
            <a:ext cx="10775880" cy="475308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10"/>
          <p:cNvSpPr/>
          <p:nvPr/>
        </p:nvSpPr>
        <p:spPr>
          <a:xfrm rot="16200000">
            <a:off x="174708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11"/>
          <p:cNvSpPr/>
          <p:nvPr/>
        </p:nvSpPr>
        <p:spPr>
          <a:xfrm rot="10800000">
            <a:off x="880560" y="619920"/>
            <a:ext cx="1357560" cy="1171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79520" y="94464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5303880" y="234936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4"/>
          <p:cNvSpPr/>
          <p:nvPr/>
        </p:nvSpPr>
        <p:spPr>
          <a:xfrm>
            <a:off x="5303880" y="3179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5"/>
          <p:cNvSpPr/>
          <p:nvPr/>
        </p:nvSpPr>
        <p:spPr>
          <a:xfrm>
            <a:off x="5303880" y="4013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6"/>
          <p:cNvSpPr/>
          <p:nvPr/>
        </p:nvSpPr>
        <p:spPr>
          <a:xfrm>
            <a:off x="5303880" y="4759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19"/>
          <p:cNvSpPr/>
          <p:nvPr/>
        </p:nvSpPr>
        <p:spPr>
          <a:xfrm rot="16200000">
            <a:off x="4896720" y="334692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20"/>
          <p:cNvSpPr/>
          <p:nvPr/>
        </p:nvSpPr>
        <p:spPr>
          <a:xfrm rot="16200000">
            <a:off x="4896720" y="253872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21"/>
          <p:cNvSpPr/>
          <p:nvPr/>
        </p:nvSpPr>
        <p:spPr>
          <a:xfrm rot="16200000">
            <a:off x="4872600" y="4153320"/>
            <a:ext cx="344520" cy="250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22"/>
          <p:cNvSpPr/>
          <p:nvPr/>
        </p:nvSpPr>
        <p:spPr>
          <a:xfrm rot="16200000">
            <a:off x="4896720" y="490248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星空5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5159520" y="425772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"/>
          <p:cNvSpPr/>
          <p:nvPr/>
        </p:nvSpPr>
        <p:spPr>
          <a:xfrm>
            <a:off x="4424400" y="5265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蓝色地球"/>
          <p:cNvPicPr/>
          <p:nvPr/>
        </p:nvPicPr>
        <p:blipFill>
          <a:blip r:embed="rId1"/>
          <a:stretch/>
        </p:blipFill>
        <p:spPr>
          <a:xfrm>
            <a:off x="4680" y="-4680"/>
            <a:ext cx="12200040" cy="6862680"/>
          </a:xfrm>
          <a:prstGeom prst="rect">
            <a:avLst/>
          </a:prstGeom>
          <a:ln w="0">
            <a:noFill/>
          </a:ln>
        </p:spPr>
      </p:pic>
      <p:sp>
        <p:nvSpPr>
          <p:cNvPr id="66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3"/>
          <p:cNvSpPr/>
          <p:nvPr/>
        </p:nvSpPr>
        <p:spPr>
          <a:xfrm>
            <a:off x="22320" y="-4680"/>
            <a:ext cx="12182400" cy="6862680"/>
          </a:xfrm>
          <a:custGeom>
            <a:avLst/>
            <a:gdLst/>
            <a:ahLst/>
            <a:rect l="l" t="t" r="r" b="b"/>
            <a:pathLst>
              <a:path w="12182621" h="6862763">
                <a:moveTo>
                  <a:pt x="583791" y="1043690"/>
                </a:moveTo>
                <a:lnTo>
                  <a:pt x="0" y="1407557"/>
                </a:lnTo>
                <a:lnTo>
                  <a:pt x="0" y="1372553"/>
                </a:lnTo>
                <a:close/>
                <a:moveTo>
                  <a:pt x="7658981" y="0"/>
                </a:moveTo>
                <a:lnTo>
                  <a:pt x="12182621" y="0"/>
                </a:lnTo>
                <a:lnTo>
                  <a:pt x="12182621" y="6862763"/>
                </a:lnTo>
                <a:lnTo>
                  <a:pt x="0" y="6862763"/>
                </a:lnTo>
                <a:lnTo>
                  <a:pt x="0" y="4817744"/>
                </a:lnTo>
                <a:lnTo>
                  <a:pt x="7681989" y="29676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平行四边形 3"/>
          <p:cNvSpPr/>
          <p:nvPr/>
        </p:nvSpPr>
        <p:spPr>
          <a:xfrm rot="14109000">
            <a:off x="2715120" y="-2291760"/>
            <a:ext cx="1087560" cy="8531280"/>
          </a:xfrm>
          <a:custGeom>
            <a:avLst/>
            <a:gdLst/>
            <a:ahLst/>
            <a:rect l="l" t="t" r="r" b="b"/>
            <a:pathLst>
              <a:path w="1087319" h="8531283">
                <a:moveTo>
                  <a:pt x="0" y="8531283"/>
                </a:moveTo>
                <a:lnTo>
                  <a:pt x="176672" y="0"/>
                </a:lnTo>
                <a:lnTo>
                  <a:pt x="1087319" y="645604"/>
                </a:lnTo>
                <a:lnTo>
                  <a:pt x="869261" y="7345081"/>
                </a:lnTo>
                <a:lnTo>
                  <a:pt x="0" y="8531283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5"/>
          <p:cNvSpPr/>
          <p:nvPr/>
        </p:nvSpPr>
        <p:spPr>
          <a:xfrm>
            <a:off x="4656240" y="5967360"/>
            <a:ext cx="73389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105960" y="2092320"/>
            <a:ext cx="58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7"/>
          <p:cNvSpPr/>
          <p:nvPr/>
        </p:nvSpPr>
        <p:spPr>
          <a:xfrm>
            <a:off x="4079880" y="2876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8"/>
          <p:cNvSpPr/>
          <p:nvPr/>
        </p:nvSpPr>
        <p:spPr>
          <a:xfrm>
            <a:off x="4079880" y="4167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954000" y="22399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7"/>
          <p:cNvSpPr/>
          <p:nvPr/>
        </p:nvSpPr>
        <p:spPr>
          <a:xfrm>
            <a:off x="1060560" y="3421080"/>
            <a:ext cx="514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6789600" y="2282760"/>
            <a:ext cx="5402520" cy="3603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2613600" y="314172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2403360" y="2201760"/>
            <a:ext cx="369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2649240" y="446724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1"/>
          <p:cNvSpPr/>
          <p:nvPr/>
        </p:nvSpPr>
        <p:spPr>
          <a:xfrm>
            <a:off x="2305080" y="4844880"/>
            <a:ext cx="36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7323480" y="4343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7061040" y="4813200"/>
            <a:ext cx="35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3"/>
          <p:cNvSpPr/>
          <p:nvPr/>
        </p:nvSpPr>
        <p:spPr>
          <a:xfrm>
            <a:off x="2320920" y="1969920"/>
            <a:ext cx="3733920" cy="19130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4"/>
          <p:cNvSpPr/>
          <p:nvPr/>
        </p:nvSpPr>
        <p:spPr>
          <a:xfrm>
            <a:off x="7027920" y="1849320"/>
            <a:ext cx="3641760" cy="20336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7"/>
          <p:cNvSpPr/>
          <p:nvPr/>
        </p:nvSpPr>
        <p:spPr>
          <a:xfrm>
            <a:off x="7031160" y="4245120"/>
            <a:ext cx="3643200" cy="176688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2230560" y="4368960"/>
            <a:ext cx="3824280" cy="16430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3"/>
          <p:cNvSpPr/>
          <p:nvPr/>
        </p:nvSpPr>
        <p:spPr>
          <a:xfrm>
            <a:off x="7418880" y="3173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4"/>
          <p:cNvSpPr/>
          <p:nvPr/>
        </p:nvSpPr>
        <p:spPr>
          <a:xfrm>
            <a:off x="7121520" y="2016000"/>
            <a:ext cx="35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等腰三角形 38"/>
          <p:cNvSpPr/>
          <p:nvPr/>
        </p:nvSpPr>
        <p:spPr>
          <a:xfrm rot="7070400">
            <a:off x="3988440" y="371556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21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等腰三角形 22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5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等腰三角形 26"/>
          <p:cNvSpPr/>
          <p:nvPr/>
        </p:nvSpPr>
        <p:spPr>
          <a:xfrm rot="7070400">
            <a:off x="8685720" y="377424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等腰三角形 29"/>
          <p:cNvSpPr/>
          <p:nvPr/>
        </p:nvSpPr>
        <p:spPr>
          <a:xfrm rot="7070400">
            <a:off x="8694720" y="5869440"/>
            <a:ext cx="522360" cy="4510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30"/>
          <p:cNvSpPr/>
          <p:nvPr/>
        </p:nvSpPr>
        <p:spPr>
          <a:xfrm rot="7070400">
            <a:off x="3981960" y="586980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5"/>
          <p:cNvSpPr/>
          <p:nvPr/>
        </p:nvSpPr>
        <p:spPr>
          <a:xfrm>
            <a:off x="685800" y="5877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空心弧 35"/>
          <p:cNvSpPr/>
          <p:nvPr/>
        </p:nvSpPr>
        <p:spPr>
          <a:xfrm flipV="1" rot="16200000">
            <a:off x="2417400" y="213588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50216" y="667947"/>
                </a:moveTo>
                <a:cubicBezTo>
                  <a:pt x="1451782" y="687161"/>
                  <a:pt x="1452562" y="706630"/>
                  <a:pt x="1452562" y="726281"/>
                </a:cubicBezTo>
                <a:cubicBezTo>
                  <a:pt x="1452562" y="1127395"/>
                  <a:pt x="1127395" y="1452562"/>
                  <a:pt x="726281" y="1452562"/>
                </a:cubicBezTo>
                <a:cubicBezTo>
                  <a:pt x="325167" y="1452562"/>
                  <a:pt x="0" y="1127395"/>
                  <a:pt x="0" y="726281"/>
                </a:cubicBezTo>
                <a:cubicBezTo>
                  <a:pt x="0" y="325167"/>
                  <a:pt x="325167" y="0"/>
                  <a:pt x="726281" y="0"/>
                </a:cubicBezTo>
                <a:cubicBezTo>
                  <a:pt x="1107321" y="0"/>
                  <a:pt x="1419826" y="293436"/>
                  <a:pt x="1450134" y="666467"/>
                </a:cubicBezTo>
                <a:lnTo>
                  <a:pt x="1381669" y="672341"/>
                </a:lnTo>
                <a:cubicBezTo>
                  <a:pt x="1354146" y="334273"/>
                  <a:pt x="1071230" y="68677"/>
                  <a:pt x="726281" y="68677"/>
                </a:cubicBezTo>
                <a:cubicBezTo>
                  <a:pt x="363096" y="68677"/>
                  <a:pt x="68677" y="363096"/>
                  <a:pt x="68677" y="726281"/>
                </a:cubicBezTo>
                <a:cubicBezTo>
                  <a:pt x="68677" y="1089466"/>
                  <a:pt x="363096" y="1383885"/>
                  <a:pt x="726281" y="1383885"/>
                </a:cubicBezTo>
                <a:cubicBezTo>
                  <a:pt x="1089466" y="1383885"/>
                  <a:pt x="1383885" y="1089466"/>
                  <a:pt x="1383885" y="726281"/>
                </a:cubicBezTo>
                <a:cubicBezTo>
                  <a:pt x="1383885" y="708428"/>
                  <a:pt x="1383174" y="690742"/>
                  <a:pt x="1381778" y="673249"/>
                </a:cubicBez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空心弧 36"/>
          <p:cNvSpPr/>
          <p:nvPr/>
        </p:nvSpPr>
        <p:spPr>
          <a:xfrm flipV="1" rot="16200000">
            <a:off x="2417400" y="213588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356" y="703519"/>
                </a:moveTo>
                <a:cubicBezTo>
                  <a:pt x="12434" y="312878"/>
                  <a:pt x="332819" y="0"/>
                  <a:pt x="726280" y="0"/>
                </a:cubicBezTo>
                <a:cubicBezTo>
                  <a:pt x="1127394" y="0"/>
                  <a:pt x="1452561" y="325167"/>
                  <a:pt x="1452561" y="726281"/>
                </a:cubicBezTo>
                <a:cubicBezTo>
                  <a:pt x="1452561" y="727231"/>
                  <a:pt x="1452559" y="728180"/>
                  <a:pt x="1452556" y="729114"/>
                </a:cubicBezTo>
                <a:lnTo>
                  <a:pt x="1381672" y="728838"/>
                </a:lnTo>
                <a:cubicBezTo>
                  <a:pt x="1381675" y="727986"/>
                  <a:pt x="1381677" y="727134"/>
                  <a:pt x="1381677" y="726281"/>
                </a:cubicBezTo>
                <a:cubicBezTo>
                  <a:pt x="1381677" y="364316"/>
                  <a:pt x="1088246" y="70885"/>
                  <a:pt x="726281" y="70885"/>
                </a:cubicBezTo>
                <a:cubicBezTo>
                  <a:pt x="371190" y="70885"/>
                  <a:pt x="82056" y="353276"/>
                  <a:pt x="71201" y="705733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7"/>
          <p:cNvSpPr/>
          <p:nvPr/>
        </p:nvSpPr>
        <p:spPr>
          <a:xfrm>
            <a:off x="2544840" y="2325600"/>
            <a:ext cx="138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空心弧 44"/>
          <p:cNvSpPr/>
          <p:nvPr/>
        </p:nvSpPr>
        <p:spPr>
          <a:xfrm flipV="1" rot="16200000">
            <a:off x="5369400" y="2243160"/>
            <a:ext cx="1452600" cy="1451160"/>
          </a:xfrm>
          <a:custGeom>
            <a:avLst/>
            <a:gdLst/>
            <a:ahLst/>
            <a:rect l="l" t="t" r="r" b="b"/>
            <a:pathLst>
              <a:path w="1452562" h="1450975">
                <a:moveTo>
                  <a:pt x="1450210" y="667154"/>
                </a:moveTo>
                <a:cubicBezTo>
                  <a:pt x="1451780" y="686367"/>
                  <a:pt x="1452562" y="705836"/>
                  <a:pt x="1452562" y="725487"/>
                </a:cubicBezTo>
                <a:cubicBezTo>
                  <a:pt x="1452562" y="1126162"/>
                  <a:pt x="1127395" y="1450974"/>
                  <a:pt x="726281" y="1450974"/>
                </a:cubicBezTo>
                <a:cubicBezTo>
                  <a:pt x="325167" y="1450974"/>
                  <a:pt x="0" y="1126162"/>
                  <a:pt x="0" y="725487"/>
                </a:cubicBezTo>
                <a:cubicBezTo>
                  <a:pt x="0" y="324812"/>
                  <a:pt x="325167" y="0"/>
                  <a:pt x="726281" y="0"/>
                </a:cubicBezTo>
                <a:cubicBezTo>
                  <a:pt x="1107299" y="0"/>
                  <a:pt x="1419790" y="293081"/>
                  <a:pt x="1450129" y="665674"/>
                </a:cubicBezTo>
                <a:lnTo>
                  <a:pt x="1381738" y="671542"/>
                </a:lnTo>
                <a:cubicBezTo>
                  <a:pt x="1354181" y="333874"/>
                  <a:pt x="1071247" y="68602"/>
                  <a:pt x="726281" y="68602"/>
                </a:cubicBezTo>
                <a:cubicBezTo>
                  <a:pt x="363055" y="68602"/>
                  <a:pt x="68602" y="362699"/>
                  <a:pt x="68602" y="725487"/>
                </a:cubicBezTo>
                <a:cubicBezTo>
                  <a:pt x="68602" y="1088275"/>
                  <a:pt x="363055" y="1382372"/>
                  <a:pt x="726281" y="1382372"/>
                </a:cubicBezTo>
                <a:cubicBezTo>
                  <a:pt x="1089507" y="1382372"/>
                  <a:pt x="1383960" y="1088275"/>
                  <a:pt x="1383960" y="725487"/>
                </a:cubicBezTo>
                <a:cubicBezTo>
                  <a:pt x="1383960" y="707632"/>
                  <a:pt x="1383247" y="689944"/>
                  <a:pt x="1381847" y="672449"/>
                </a:cubicBez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空心弧 45"/>
          <p:cNvSpPr/>
          <p:nvPr/>
        </p:nvSpPr>
        <p:spPr>
          <a:xfrm flipV="1" rot="16200000">
            <a:off x="5369400" y="2243160"/>
            <a:ext cx="1452600" cy="1451160"/>
          </a:xfrm>
          <a:custGeom>
            <a:avLst/>
            <a:gdLst/>
            <a:ahLst/>
            <a:rect l="l" t="t" r="r" b="b"/>
            <a:pathLst>
              <a:path w="1452562" h="1450975">
                <a:moveTo>
                  <a:pt x="699946" y="1450497"/>
                </a:moveTo>
                <a:cubicBezTo>
                  <a:pt x="310963" y="1436590"/>
                  <a:pt x="0" y="1117314"/>
                  <a:pt x="0" y="725487"/>
                </a:cubicBezTo>
                <a:cubicBezTo>
                  <a:pt x="0" y="324812"/>
                  <a:pt x="325167" y="0"/>
                  <a:pt x="726281" y="0"/>
                </a:cubicBezTo>
                <a:cubicBezTo>
                  <a:pt x="1127395" y="0"/>
                  <a:pt x="1452562" y="324812"/>
                  <a:pt x="1452562" y="725487"/>
                </a:cubicBezTo>
                <a:cubicBezTo>
                  <a:pt x="1452562" y="726437"/>
                  <a:pt x="1452560" y="727386"/>
                  <a:pt x="1452557" y="728320"/>
                </a:cubicBezTo>
                <a:lnTo>
                  <a:pt x="1381749" y="728044"/>
                </a:lnTo>
                <a:cubicBezTo>
                  <a:pt x="1381752" y="727192"/>
                  <a:pt x="1381754" y="726340"/>
                  <a:pt x="1381754" y="725487"/>
                </a:cubicBezTo>
                <a:cubicBezTo>
                  <a:pt x="1381754" y="363918"/>
                  <a:pt x="1088289" y="70808"/>
                  <a:pt x="726281" y="70808"/>
                </a:cubicBezTo>
                <a:cubicBezTo>
                  <a:pt x="364273" y="70808"/>
                  <a:pt x="70808" y="363918"/>
                  <a:pt x="70808" y="725487"/>
                </a:cubicBezTo>
                <a:cubicBezTo>
                  <a:pt x="70808" y="1079107"/>
                  <a:pt x="351511" y="1367245"/>
                  <a:pt x="702506" y="1379743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6"/>
          <p:cNvSpPr/>
          <p:nvPr/>
        </p:nvSpPr>
        <p:spPr>
          <a:xfrm>
            <a:off x="5497560" y="2432160"/>
            <a:ext cx="138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75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空心弧 47"/>
          <p:cNvSpPr/>
          <p:nvPr/>
        </p:nvSpPr>
        <p:spPr>
          <a:xfrm flipV="1" rot="16200000">
            <a:off x="8183160" y="225504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50216" y="667947"/>
                </a:moveTo>
                <a:cubicBezTo>
                  <a:pt x="1451782" y="687161"/>
                  <a:pt x="1452562" y="706630"/>
                  <a:pt x="1452562" y="726281"/>
                </a:cubicBezTo>
                <a:cubicBezTo>
                  <a:pt x="1452562" y="1127395"/>
                  <a:pt x="1127395" y="1452562"/>
                  <a:pt x="726281" y="1452562"/>
                </a:cubicBezTo>
                <a:cubicBezTo>
                  <a:pt x="325167" y="1452562"/>
                  <a:pt x="0" y="1127395"/>
                  <a:pt x="0" y="726281"/>
                </a:cubicBezTo>
                <a:cubicBezTo>
                  <a:pt x="0" y="325167"/>
                  <a:pt x="325167" y="0"/>
                  <a:pt x="726281" y="0"/>
                </a:cubicBezTo>
                <a:cubicBezTo>
                  <a:pt x="1107321" y="0"/>
                  <a:pt x="1419826" y="293436"/>
                  <a:pt x="1450134" y="666467"/>
                </a:cubicBezTo>
                <a:lnTo>
                  <a:pt x="1381669" y="672341"/>
                </a:lnTo>
                <a:cubicBezTo>
                  <a:pt x="1354146" y="334273"/>
                  <a:pt x="1071230" y="68677"/>
                  <a:pt x="726281" y="68677"/>
                </a:cubicBezTo>
                <a:cubicBezTo>
                  <a:pt x="363096" y="68677"/>
                  <a:pt x="68677" y="363096"/>
                  <a:pt x="68677" y="726281"/>
                </a:cubicBezTo>
                <a:cubicBezTo>
                  <a:pt x="68677" y="1089466"/>
                  <a:pt x="363096" y="1383885"/>
                  <a:pt x="726281" y="1383885"/>
                </a:cubicBezTo>
                <a:cubicBezTo>
                  <a:pt x="1089466" y="1383885"/>
                  <a:pt x="1383885" y="1089466"/>
                  <a:pt x="1383885" y="726281"/>
                </a:cubicBezTo>
                <a:cubicBezTo>
                  <a:pt x="1383885" y="708428"/>
                  <a:pt x="1383174" y="690742"/>
                  <a:pt x="1381778" y="673249"/>
                </a:cubicBez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空心弧 48"/>
          <p:cNvSpPr/>
          <p:nvPr/>
        </p:nvSpPr>
        <p:spPr>
          <a:xfrm flipV="1" rot="16200000">
            <a:off x="8183160" y="225504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44443" y="834575"/>
                </a:moveTo>
                <a:cubicBezTo>
                  <a:pt x="1392063" y="1184495"/>
                  <a:pt x="1090477" y="1452561"/>
                  <a:pt x="726281" y="1452561"/>
                </a:cubicBezTo>
                <a:cubicBezTo>
                  <a:pt x="325167" y="1452561"/>
                  <a:pt x="0" y="1127394"/>
                  <a:pt x="0" y="726280"/>
                </a:cubicBezTo>
                <a:cubicBezTo>
                  <a:pt x="0" y="325166"/>
                  <a:pt x="325167" y="-1"/>
                  <a:pt x="726281" y="-1"/>
                </a:cubicBezTo>
                <a:cubicBezTo>
                  <a:pt x="1127395" y="-1"/>
                  <a:pt x="1452562" y="325166"/>
                  <a:pt x="1452562" y="726280"/>
                </a:cubicBezTo>
                <a:cubicBezTo>
                  <a:pt x="1452562" y="727230"/>
                  <a:pt x="1452560" y="728179"/>
                  <a:pt x="1452557" y="729113"/>
                </a:cubicBezTo>
                <a:lnTo>
                  <a:pt x="1381672" y="728838"/>
                </a:lnTo>
                <a:cubicBezTo>
                  <a:pt x="1381675" y="727986"/>
                  <a:pt x="1381677" y="727134"/>
                  <a:pt x="1381677" y="726281"/>
                </a:cubicBezTo>
                <a:cubicBezTo>
                  <a:pt x="1381677" y="364316"/>
                  <a:pt x="1088246" y="70885"/>
                  <a:pt x="726281" y="70885"/>
                </a:cubicBezTo>
                <a:cubicBezTo>
                  <a:pt x="364316" y="70885"/>
                  <a:pt x="70885" y="364316"/>
                  <a:pt x="70885" y="726281"/>
                </a:cubicBezTo>
                <a:cubicBezTo>
                  <a:pt x="70885" y="1088246"/>
                  <a:pt x="364316" y="1381677"/>
                  <a:pt x="726281" y="1381677"/>
                </a:cubicBezTo>
                <a:cubicBezTo>
                  <a:pt x="1055003" y="1381677"/>
                  <a:pt x="1327201" y="1139669"/>
                  <a:pt x="1374426" y="824101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9"/>
          <p:cNvSpPr/>
          <p:nvPr/>
        </p:nvSpPr>
        <p:spPr>
          <a:xfrm>
            <a:off x="8312040" y="2444760"/>
            <a:ext cx="1389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96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2017800" y="372276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2084400" y="4137120"/>
            <a:ext cx="24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>
            <a:off x="4973760" y="3759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5049720" y="4210200"/>
            <a:ext cx="2498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7824240" y="3736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8055000" y="4210200"/>
            <a:ext cx="242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星空5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5159520" y="425772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5"/>
          <p:cNvSpPr/>
          <p:nvPr/>
        </p:nvSpPr>
        <p:spPr>
          <a:xfrm>
            <a:off x="4424400" y="5265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椭圆 33"/>
          <p:cNvSpPr/>
          <p:nvPr/>
        </p:nvSpPr>
        <p:spPr>
          <a:xfrm>
            <a:off x="5514840" y="2492280"/>
            <a:ext cx="1162080" cy="11638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0646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4"/>
          <p:cNvSpPr/>
          <p:nvPr/>
        </p:nvSpPr>
        <p:spPr>
          <a:xfrm>
            <a:off x="3340080" y="2460600"/>
            <a:ext cx="1163520" cy="11620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3287880" y="52293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7"/>
          <p:cNvSpPr/>
          <p:nvPr/>
        </p:nvSpPr>
        <p:spPr>
          <a:xfrm>
            <a:off x="2233440" y="4108320"/>
            <a:ext cx="83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3"/>
          <p:cNvSpPr/>
          <p:nvPr/>
        </p:nvSpPr>
        <p:spPr>
          <a:xfrm>
            <a:off x="7680240" y="2482920"/>
            <a:ext cx="1162080" cy="11620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组 4" descr=""/>
          <p:cNvPicPr/>
          <p:nvPr/>
        </p:nvPicPr>
        <p:blipFill>
          <a:blip r:embed="rId1"/>
          <a:stretch/>
        </p:blipFill>
        <p:spPr>
          <a:xfrm>
            <a:off x="3514680" y="2530440"/>
            <a:ext cx="870120" cy="124452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28" descr=""/>
          <p:cNvPicPr/>
          <p:nvPr/>
        </p:nvPicPr>
        <p:blipFill>
          <a:blip r:embed="rId2"/>
          <a:stretch/>
        </p:blipFill>
        <p:spPr>
          <a:xfrm>
            <a:off x="5683320" y="2664000"/>
            <a:ext cx="822240" cy="796680"/>
          </a:xfrm>
          <a:prstGeom prst="rect">
            <a:avLst/>
          </a:prstGeom>
          <a:ln w="0">
            <a:noFill/>
          </a:ln>
        </p:spPr>
      </p:pic>
      <p:sp>
        <p:nvSpPr>
          <p:cNvPr id="136" name="Freeform 183"/>
          <p:cNvSpPr/>
          <p:nvPr/>
        </p:nvSpPr>
        <p:spPr>
          <a:xfrm>
            <a:off x="8001000" y="2685960"/>
            <a:ext cx="746280" cy="743040"/>
          </a:xfrm>
          <a:custGeom>
            <a:avLst/>
            <a:gdLst/>
            <a:ahLst/>
            <a:rect l="l" t="t" r="r" b="b"/>
            <a:pathLst>
              <a:path w="470" h="468">
                <a:moveTo>
                  <a:pt x="0" y="0"/>
                </a:moveTo>
                <a:lnTo>
                  <a:pt x="20" y="468"/>
                </a:lnTo>
                <a:lnTo>
                  <a:pt x="192" y="374"/>
                </a:lnTo>
                <a:lnTo>
                  <a:pt x="232" y="442"/>
                </a:lnTo>
                <a:lnTo>
                  <a:pt x="294" y="330"/>
                </a:lnTo>
                <a:lnTo>
                  <a:pt x="470" y="284"/>
                </a:lnTo>
                <a:lnTo>
                  <a:pt x="0" y="0"/>
                </a:lnTo>
                <a:close/>
                <a:moveTo>
                  <a:pt x="232" y="396"/>
                </a:moveTo>
                <a:lnTo>
                  <a:pt x="54" y="80"/>
                </a:lnTo>
                <a:lnTo>
                  <a:pt x="272" y="324"/>
                </a:lnTo>
                <a:lnTo>
                  <a:pt x="232" y="3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8:38:43Z</dcterms:created>
  <dc:creator>Administrator</dc:creator>
  <dc:description/>
  <dc:language>en-US</dc:language>
  <cp:lastModifiedBy>Administrator</cp:lastModifiedBy>
  <dcterms:modified xsi:type="dcterms:W3CDTF">2016-11-17T06:26:2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