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D0AF-B670-4229-B866-16C16C91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4BDC-FD6D-419C-AF14-24A157D1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A9D-D01E-409D-9634-7D3B53B3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5FC-3293-4480-B2C5-9205FCE6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9B0-A4FB-4385-A005-71A84596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5A1-BE2B-417C-9B18-84FCA75E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0A9-A91D-4FC7-B7F2-4405A527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F0E-65B5-4B43-A19B-60563C67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877C-C79C-401E-8F38-0EE8D695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2947-DEEB-4466-9225-C572194C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E19B-2353-4DC1-ABAA-B91484A2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A58-5CCD-4AA3-822A-CE29BC27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A1E6-108A-4EF3-979F-92092C0AB37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0B1D-BBFF-4365-87ED-14157E8E06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20"/>
          <p:cNvSpPr/>
          <p:nvPr/>
        </p:nvSpPr>
        <p:spPr>
          <a:xfrm>
            <a:off x="2238480" y="328788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>
              <a:gd name="textAreaLeft" fmla="*/ 0 w 6156360"/>
              <a:gd name="textAreaRight" fmla="*/ 6156720 w 6156360"/>
              <a:gd name="textAreaTop" fmla="*/ 0 h 2416320"/>
              <a:gd name="textAreaBottom" fmla="*/ 2416680 h 241632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>
              <a:gd name="textAreaLeft" fmla="*/ 0 w 4240440"/>
              <a:gd name="textAreaRight" fmla="*/ 4240800 w 424044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46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>
                <a:gd name="textAreaLeft" fmla="*/ 0 w 2735640"/>
                <a:gd name="textAreaRight" fmla="*/ 2736000 w 27356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56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1AFF-E077-4684-A2EB-78C7F02289C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24"/>
          <p:cNvGrpSpPr/>
          <p:nvPr/>
        </p:nvGrpSpPr>
        <p:grpSpPr>
          <a:xfrm>
            <a:off x="901800" y="1519200"/>
            <a:ext cx="7416360" cy="4068720"/>
            <a:chOff x="901800" y="1519200"/>
            <a:chExt cx="7416360" cy="4068720"/>
          </a:xfrm>
        </p:grpSpPr>
        <p:sp>
          <p:nvSpPr>
            <p:cNvPr id="237" name="Oval 4"/>
            <p:cNvSpPr/>
            <p:nvPr/>
          </p:nvSpPr>
          <p:spPr>
            <a:xfrm>
              <a:off x="901800" y="3510000"/>
              <a:ext cx="1361880" cy="1282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5"/>
            <p:cNvSpPr/>
            <p:nvPr/>
          </p:nvSpPr>
          <p:spPr>
            <a:xfrm>
              <a:off x="993600" y="3597840"/>
              <a:ext cx="1179360" cy="111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6"/>
            <p:cNvSpPr/>
            <p:nvPr/>
          </p:nvSpPr>
          <p:spPr>
            <a:xfrm>
              <a:off x="3690720" y="3799080"/>
              <a:ext cx="1899720" cy="178884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7"/>
            <p:cNvSpPr/>
            <p:nvPr/>
          </p:nvSpPr>
          <p:spPr>
            <a:xfrm>
              <a:off x="3818880" y="3922560"/>
              <a:ext cx="1645560" cy="154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8"/>
            <p:cNvSpPr/>
            <p:nvPr/>
          </p:nvSpPr>
          <p:spPr>
            <a:xfrm>
              <a:off x="3840480" y="2844720"/>
              <a:ext cx="799920" cy="7542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9"/>
            <p:cNvSpPr/>
            <p:nvPr/>
          </p:nvSpPr>
          <p:spPr>
            <a:xfrm>
              <a:off x="3894840" y="2896920"/>
              <a:ext cx="693000" cy="65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" name="AutoShape 10"/>
            <p:cNvCxnSpPr>
              <a:stCxn id="237" idx="0"/>
              <a:endCxn id="244" idx="0"/>
            </p:cNvCxnSpPr>
            <p:nvPr/>
          </p:nvCxnSpPr>
          <p:spPr>
            <a:xfrm flipV="1">
              <a:off x="1582560" y="1583640"/>
              <a:ext cx="1127160" cy="1926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45" name="AutoShape 11"/>
            <p:cNvCxnSpPr>
              <a:stCxn id="237" idx="7"/>
              <a:endCxn id="241" idx="2"/>
            </p:cNvCxnSpPr>
            <p:nvPr/>
          </p:nvCxnSpPr>
          <p:spPr>
            <a:xfrm flipV="1">
              <a:off x="2063160" y="3220560"/>
              <a:ext cx="1777320" cy="477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46" name="AutoShape 12"/>
            <p:cNvCxnSpPr>
              <a:stCxn id="237" idx="5"/>
              <a:endCxn id="239" idx="2"/>
            </p:cNvCxnSpPr>
            <p:nvPr/>
          </p:nvCxnSpPr>
          <p:spPr>
            <a:xfrm>
              <a:off x="2063160" y="4604400"/>
              <a:ext cx="1627560" cy="892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47" name="AutoShape 13"/>
            <p:cNvCxnSpPr>
              <a:stCxn id="241" idx="6"/>
              <a:endCxn id="248" idx="2"/>
            </p:cNvCxnSpPr>
            <p:nvPr/>
          </p:nvCxnSpPr>
          <p:spPr>
            <a:xfrm>
              <a:off x="4640400" y="3220920"/>
              <a:ext cx="2727000" cy="18900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49" name="AutoShape 14"/>
            <p:cNvCxnSpPr>
              <a:stCxn id="239" idx="6"/>
              <a:endCxn id="248" idx="3"/>
            </p:cNvCxnSpPr>
            <p:nvPr/>
          </p:nvCxnSpPr>
          <p:spPr>
            <a:xfrm flipV="1">
              <a:off x="5590440" y="3725640"/>
              <a:ext cx="1916640" cy="9673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50" name="AutoShape 15"/>
            <p:cNvCxnSpPr>
              <a:stCxn id="239" idx="1"/>
              <a:endCxn id="244" idx="3"/>
            </p:cNvCxnSpPr>
            <p:nvPr/>
          </p:nvCxnSpPr>
          <p:spPr>
            <a:xfrm flipH="1" flipV="1">
              <a:off x="3282120" y="2903040"/>
              <a:ext cx="686880" cy="1158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51" name="AutoShape 16"/>
            <p:cNvCxnSpPr>
              <a:stCxn id="241" idx="1"/>
              <a:endCxn id="244" idx="7"/>
            </p:cNvCxnSpPr>
            <p:nvPr/>
          </p:nvCxnSpPr>
          <p:spPr>
            <a:xfrm flipH="1" flipV="1">
              <a:off x="2134440" y="1807920"/>
              <a:ext cx="1823400" cy="114804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52" name="AutoShape 17"/>
            <p:cNvCxnSpPr>
              <a:stCxn id="253" idx="1"/>
              <a:endCxn id="244" idx="2"/>
            </p:cNvCxnSpPr>
            <p:nvPr/>
          </p:nvCxnSpPr>
          <p:spPr>
            <a:xfrm flipH="1" flipV="1">
              <a:off x="3529080" y="2355840"/>
              <a:ext cx="4023000" cy="780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grpSp>
          <p:nvGrpSpPr>
            <p:cNvPr id="254" name="Group 18"/>
            <p:cNvGrpSpPr/>
            <p:nvPr/>
          </p:nvGrpSpPr>
          <p:grpSpPr>
            <a:xfrm>
              <a:off x="1820160" y="1519200"/>
              <a:ext cx="1778040" cy="1674000"/>
              <a:chOff x="1820160" y="1519200"/>
              <a:chExt cx="1778040" cy="1674000"/>
            </a:xfrm>
          </p:grpSpPr>
          <p:pic>
            <p:nvPicPr>
              <p:cNvPr id="255" name="Picture 19" descr="ball"/>
              <p:cNvPicPr/>
              <p:nvPr/>
            </p:nvPicPr>
            <p:blipFill>
              <a:blip r:embed="rId1"/>
              <a:stretch/>
            </p:blipFill>
            <p:spPr>
              <a:xfrm flipH="1">
                <a:off x="1820160" y="1519200"/>
                <a:ext cx="1778040" cy="16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Oval 20"/>
              <p:cNvSpPr/>
              <p:nvPr/>
            </p:nvSpPr>
            <p:spPr>
              <a:xfrm flipH="1">
                <a:off x="1897920" y="1591920"/>
                <a:ext cx="1622880" cy="152820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Gulim"/>
                  </a:rPr>
                  <a:t>Subtit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Oval 22"/>
            <p:cNvSpPr/>
            <p:nvPr/>
          </p:nvSpPr>
          <p:spPr>
            <a:xfrm>
              <a:off x="7367400" y="2962080"/>
              <a:ext cx="950760" cy="895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431840" y="3022920"/>
              <a:ext cx="822960" cy="77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文本框 111"/>
          <p:cNvSpPr/>
          <p:nvPr/>
        </p:nvSpPr>
        <p:spPr>
          <a:xfrm>
            <a:off x="7893000" y="4995720"/>
            <a:ext cx="425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13"/>
          <p:cNvSpPr/>
          <p:nvPr/>
        </p:nvSpPr>
        <p:spPr>
          <a:xfrm>
            <a:off x="7878240" y="4395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7B06-EE0A-455A-A6E4-8E3EDBFEB7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268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278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FE9F-D01D-46C6-8AF5-FB9281BF32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7"/>
          <p:cNvSpPr/>
          <p:nvPr/>
        </p:nvSpPr>
        <p:spPr>
          <a:xfrm flipV="1">
            <a:off x="0" y="4797000"/>
            <a:ext cx="1830240" cy="148932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8"/>
          <p:cNvSpPr/>
          <p:nvPr/>
        </p:nvSpPr>
        <p:spPr>
          <a:xfrm flipH="1" flipV="1">
            <a:off x="1941120" y="4887720"/>
            <a:ext cx="1157400" cy="6238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12"/>
          <p:cNvSpPr/>
          <p:nvPr/>
        </p:nvSpPr>
        <p:spPr>
          <a:xfrm flipH="1">
            <a:off x="3207960" y="3705120"/>
            <a:ext cx="2259000" cy="180684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13"/>
          <p:cNvSpPr/>
          <p:nvPr/>
        </p:nvSpPr>
        <p:spPr>
          <a:xfrm flipH="1" flipV="1">
            <a:off x="5578200" y="3705120"/>
            <a:ext cx="1517400" cy="10000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14"/>
          <p:cNvSpPr/>
          <p:nvPr/>
        </p:nvSpPr>
        <p:spPr>
          <a:xfrm flipH="1">
            <a:off x="7207200" y="2454120"/>
            <a:ext cx="1790640" cy="22510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15"/>
          <p:cNvSpPr/>
          <p:nvPr/>
        </p:nvSpPr>
        <p:spPr>
          <a:xfrm flipH="1">
            <a:off x="9069480" y="1476360"/>
            <a:ext cx="3122640" cy="93996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28"/>
          <p:cNvGrpSpPr/>
          <p:nvPr/>
        </p:nvGrpSpPr>
        <p:grpSpPr>
          <a:xfrm>
            <a:off x="1030320" y="3274920"/>
            <a:ext cx="1881000" cy="1094040"/>
            <a:chOff x="1030320" y="3274920"/>
            <a:chExt cx="1881000" cy="1094040"/>
          </a:xfrm>
        </p:grpSpPr>
        <p:sp>
          <p:nvSpPr>
            <p:cNvPr id="296" name="文本框 29"/>
            <p:cNvSpPr/>
            <p:nvPr/>
          </p:nvSpPr>
          <p:spPr>
            <a:xfrm>
              <a:off x="1030320" y="3274920"/>
              <a:ext cx="1881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文本框 30"/>
            <p:cNvSpPr/>
            <p:nvPr/>
          </p:nvSpPr>
          <p:spPr>
            <a:xfrm>
              <a:off x="1030320" y="4031640"/>
              <a:ext cx="162540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组合 5"/>
          <p:cNvGrpSpPr/>
          <p:nvPr/>
        </p:nvGrpSpPr>
        <p:grpSpPr>
          <a:xfrm>
            <a:off x="4670280" y="2171880"/>
            <a:ext cx="1881360" cy="1141560"/>
            <a:chOff x="4670280" y="2171880"/>
            <a:chExt cx="1881360" cy="1141560"/>
          </a:xfrm>
        </p:grpSpPr>
        <p:sp>
          <p:nvSpPr>
            <p:cNvPr id="299" name="文本框 31"/>
            <p:cNvSpPr/>
            <p:nvPr/>
          </p:nvSpPr>
          <p:spPr>
            <a:xfrm>
              <a:off x="4670280" y="2171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35"/>
            <p:cNvSpPr/>
            <p:nvPr/>
          </p:nvSpPr>
          <p:spPr>
            <a:xfrm>
              <a:off x="4670280" y="297612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9"/>
          <p:cNvGrpSpPr/>
          <p:nvPr/>
        </p:nvGrpSpPr>
        <p:grpSpPr>
          <a:xfrm>
            <a:off x="8118360" y="1028880"/>
            <a:ext cx="1908360" cy="1065240"/>
            <a:chOff x="8118360" y="1028880"/>
            <a:chExt cx="1908360" cy="1065240"/>
          </a:xfrm>
        </p:grpSpPr>
        <p:sp>
          <p:nvSpPr>
            <p:cNvPr id="302" name="文本框 32"/>
            <p:cNvSpPr/>
            <p:nvPr/>
          </p:nvSpPr>
          <p:spPr>
            <a:xfrm>
              <a:off x="8145360" y="1028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文本框 36"/>
            <p:cNvSpPr/>
            <p:nvPr/>
          </p:nvSpPr>
          <p:spPr>
            <a:xfrm>
              <a:off x="8118360" y="175680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4"/>
          <p:cNvGrpSpPr/>
          <p:nvPr/>
        </p:nvGrpSpPr>
        <p:grpSpPr>
          <a:xfrm>
            <a:off x="7350120" y="4484520"/>
            <a:ext cx="1881360" cy="1124280"/>
            <a:chOff x="7350120" y="4484520"/>
            <a:chExt cx="1881360" cy="1124280"/>
          </a:xfrm>
        </p:grpSpPr>
        <p:sp>
          <p:nvSpPr>
            <p:cNvPr id="305" name="文本框 33"/>
            <p:cNvSpPr/>
            <p:nvPr/>
          </p:nvSpPr>
          <p:spPr>
            <a:xfrm>
              <a:off x="7350120" y="448452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文本框 37"/>
            <p:cNvSpPr/>
            <p:nvPr/>
          </p:nvSpPr>
          <p:spPr>
            <a:xfrm>
              <a:off x="7404120" y="527148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1"/>
          <p:cNvGrpSpPr/>
          <p:nvPr/>
        </p:nvGrpSpPr>
        <p:grpSpPr>
          <a:xfrm>
            <a:off x="3425760" y="5043600"/>
            <a:ext cx="1879560" cy="1119600"/>
            <a:chOff x="3425760" y="5043600"/>
            <a:chExt cx="1879560" cy="1119600"/>
          </a:xfrm>
        </p:grpSpPr>
        <p:sp>
          <p:nvSpPr>
            <p:cNvPr id="308" name="文本框 34"/>
            <p:cNvSpPr/>
            <p:nvPr/>
          </p:nvSpPr>
          <p:spPr>
            <a:xfrm>
              <a:off x="3425760" y="5043600"/>
              <a:ext cx="18795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38"/>
            <p:cNvSpPr/>
            <p:nvPr/>
          </p:nvSpPr>
          <p:spPr>
            <a:xfrm>
              <a:off x="3425760" y="5825880"/>
              <a:ext cx="162432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3"/>
          <p:cNvGrpSpPr/>
          <p:nvPr/>
        </p:nvGrpSpPr>
        <p:grpSpPr>
          <a:xfrm>
            <a:off x="1596960" y="4608360"/>
            <a:ext cx="531720" cy="532080"/>
            <a:chOff x="1596960" y="4608360"/>
            <a:chExt cx="531720" cy="532080"/>
          </a:xfrm>
        </p:grpSpPr>
        <p:sp>
          <p:nvSpPr>
            <p:cNvPr id="311" name="椭圆 2"/>
            <p:cNvSpPr/>
            <p:nvPr/>
          </p:nvSpPr>
          <p:spPr>
            <a:xfrm>
              <a:off x="1596960" y="4608360"/>
              <a:ext cx="5317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椭圆 40"/>
            <p:cNvSpPr/>
            <p:nvPr/>
          </p:nvSpPr>
          <p:spPr>
            <a:xfrm>
              <a:off x="1726920" y="4738680"/>
              <a:ext cx="27324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43"/>
          <p:cNvGrpSpPr/>
          <p:nvPr/>
        </p:nvGrpSpPr>
        <p:grpSpPr>
          <a:xfrm>
            <a:off x="2894040" y="5186520"/>
            <a:ext cx="531720" cy="529920"/>
            <a:chOff x="2894040" y="5186520"/>
            <a:chExt cx="531720" cy="529920"/>
          </a:xfrm>
        </p:grpSpPr>
        <p:sp>
          <p:nvSpPr>
            <p:cNvPr id="314" name="椭圆 44"/>
            <p:cNvSpPr/>
            <p:nvPr/>
          </p:nvSpPr>
          <p:spPr>
            <a:xfrm>
              <a:off x="2894040" y="5186520"/>
              <a:ext cx="531720" cy="5299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 45"/>
            <p:cNvSpPr/>
            <p:nvPr/>
          </p:nvSpPr>
          <p:spPr>
            <a:xfrm>
              <a:off x="3024000" y="5316480"/>
              <a:ext cx="27324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46"/>
          <p:cNvGrpSpPr/>
          <p:nvPr/>
        </p:nvGrpSpPr>
        <p:grpSpPr>
          <a:xfrm>
            <a:off x="5275440" y="3500280"/>
            <a:ext cx="529920" cy="532080"/>
            <a:chOff x="5275440" y="3500280"/>
            <a:chExt cx="529920" cy="532080"/>
          </a:xfrm>
        </p:grpSpPr>
        <p:sp>
          <p:nvSpPr>
            <p:cNvPr id="317" name="椭圆 47"/>
            <p:cNvSpPr/>
            <p:nvPr/>
          </p:nvSpPr>
          <p:spPr>
            <a:xfrm>
              <a:off x="5275440" y="3500280"/>
              <a:ext cx="5299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 48"/>
            <p:cNvSpPr/>
            <p:nvPr/>
          </p:nvSpPr>
          <p:spPr>
            <a:xfrm>
              <a:off x="5405040" y="363060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49"/>
          <p:cNvGrpSpPr/>
          <p:nvPr/>
        </p:nvGrpSpPr>
        <p:grpSpPr>
          <a:xfrm>
            <a:off x="6900840" y="4330800"/>
            <a:ext cx="530280" cy="530280"/>
            <a:chOff x="6900840" y="4330800"/>
            <a:chExt cx="530280" cy="530280"/>
          </a:xfrm>
        </p:grpSpPr>
        <p:sp>
          <p:nvSpPr>
            <p:cNvPr id="320" name="椭圆 50"/>
            <p:cNvSpPr/>
            <p:nvPr/>
          </p:nvSpPr>
          <p:spPr>
            <a:xfrm>
              <a:off x="6900840" y="4330800"/>
              <a:ext cx="530280" cy="5302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椭圆 51"/>
            <p:cNvSpPr/>
            <p:nvPr/>
          </p:nvSpPr>
          <p:spPr>
            <a:xfrm>
              <a:off x="7030440" y="4460760"/>
              <a:ext cx="27216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组合 52"/>
          <p:cNvGrpSpPr/>
          <p:nvPr/>
        </p:nvGrpSpPr>
        <p:grpSpPr>
          <a:xfrm>
            <a:off x="8804160" y="2151000"/>
            <a:ext cx="530280" cy="531720"/>
            <a:chOff x="8804160" y="2151000"/>
            <a:chExt cx="530280" cy="531720"/>
          </a:xfrm>
        </p:grpSpPr>
        <p:sp>
          <p:nvSpPr>
            <p:cNvPr id="323" name="椭圆 53"/>
            <p:cNvSpPr/>
            <p:nvPr/>
          </p:nvSpPr>
          <p:spPr>
            <a:xfrm>
              <a:off x="8804160" y="2151000"/>
              <a:ext cx="530280" cy="5317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 54"/>
            <p:cNvSpPr/>
            <p:nvPr/>
          </p:nvSpPr>
          <p:spPr>
            <a:xfrm>
              <a:off x="8933760" y="228132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7AB2-6CBF-44AA-8378-BB7E3C95A9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2251080" y="1636560"/>
            <a:ext cx="7866000" cy="3146400"/>
            <a:chOff x="2251080" y="1636560"/>
            <a:chExt cx="7866000" cy="3146400"/>
          </a:xfrm>
        </p:grpSpPr>
        <p:sp>
          <p:nvSpPr>
            <p:cNvPr id="332" name="Freeform 4"/>
            <p:cNvSpPr/>
            <p:nvPr/>
          </p:nvSpPr>
          <p:spPr>
            <a:xfrm>
              <a:off x="2395440" y="1776240"/>
              <a:ext cx="2313000" cy="2876400"/>
            </a:xfrm>
            <a:custGeom>
              <a:avLst/>
              <a:gdLst>
                <a:gd name="textAreaLeft" fmla="*/ 0 w 2313000"/>
                <a:gd name="textAreaRight" fmla="*/ 2313360 w 2313000"/>
                <a:gd name="textAreaTop" fmla="*/ 0 h 2876400"/>
                <a:gd name="textAreaBottom" fmla="*/ 2876760 h 287640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5"/>
            <p:cNvSpPr/>
            <p:nvPr/>
          </p:nvSpPr>
          <p:spPr>
            <a:xfrm>
              <a:off x="2322360" y="2050920"/>
              <a:ext cx="61920" cy="41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6"/>
            <p:cNvSpPr/>
            <p:nvPr/>
          </p:nvSpPr>
          <p:spPr>
            <a:xfrm>
              <a:off x="2882880" y="2233440"/>
              <a:ext cx="71640" cy="475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"/>
            <p:cNvSpPr/>
            <p:nvPr/>
          </p:nvSpPr>
          <p:spPr>
            <a:xfrm>
              <a:off x="4309920" y="2315880"/>
              <a:ext cx="179640" cy="109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8"/>
            <p:cNvSpPr/>
            <p:nvPr/>
          </p:nvSpPr>
          <p:spPr>
            <a:xfrm>
              <a:off x="3444840" y="2885760"/>
              <a:ext cx="289080" cy="1256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9"/>
            <p:cNvSpPr/>
            <p:nvPr/>
          </p:nvSpPr>
          <p:spPr>
            <a:xfrm>
              <a:off x="3683160" y="2981160"/>
              <a:ext cx="180720" cy="60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0"/>
            <p:cNvSpPr/>
            <p:nvPr/>
          </p:nvSpPr>
          <p:spPr>
            <a:xfrm>
              <a:off x="3875040" y="3019320"/>
              <a:ext cx="68400" cy="27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1"/>
            <p:cNvSpPr/>
            <p:nvPr/>
          </p:nvSpPr>
          <p:spPr>
            <a:xfrm>
              <a:off x="3976560" y="3024000"/>
              <a:ext cx="22320" cy="38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2"/>
            <p:cNvSpPr/>
            <p:nvPr/>
          </p:nvSpPr>
          <p:spPr>
            <a:xfrm>
              <a:off x="3641760" y="1768320"/>
              <a:ext cx="328680" cy="13032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3"/>
            <p:cNvSpPr/>
            <p:nvPr/>
          </p:nvSpPr>
          <p:spPr>
            <a:xfrm>
              <a:off x="3787920" y="1707840"/>
              <a:ext cx="266400" cy="88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4"/>
            <p:cNvSpPr/>
            <p:nvPr/>
          </p:nvSpPr>
          <p:spPr>
            <a:xfrm>
              <a:off x="4162320" y="1811160"/>
              <a:ext cx="425520" cy="2826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5"/>
            <p:cNvSpPr/>
            <p:nvPr/>
          </p:nvSpPr>
          <p:spPr>
            <a:xfrm>
              <a:off x="4159080" y="1690560"/>
              <a:ext cx="81000" cy="540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6"/>
            <p:cNvSpPr/>
            <p:nvPr/>
          </p:nvSpPr>
          <p:spPr>
            <a:xfrm>
              <a:off x="4005360" y="1793880"/>
              <a:ext cx="118800" cy="619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7"/>
            <p:cNvSpPr/>
            <p:nvPr/>
          </p:nvSpPr>
          <p:spPr>
            <a:xfrm>
              <a:off x="4130640" y="1806480"/>
              <a:ext cx="98640" cy="3636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8"/>
            <p:cNvSpPr/>
            <p:nvPr/>
          </p:nvSpPr>
          <p:spPr>
            <a:xfrm>
              <a:off x="4076640" y="1752480"/>
              <a:ext cx="117720" cy="507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9"/>
            <p:cNvSpPr/>
            <p:nvPr/>
          </p:nvSpPr>
          <p:spPr>
            <a:xfrm>
              <a:off x="4027320" y="1704960"/>
              <a:ext cx="81000" cy="34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0"/>
            <p:cNvSpPr/>
            <p:nvPr/>
          </p:nvSpPr>
          <p:spPr>
            <a:xfrm>
              <a:off x="4235400" y="1709640"/>
              <a:ext cx="208080" cy="1141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1"/>
            <p:cNvSpPr/>
            <p:nvPr/>
          </p:nvSpPr>
          <p:spPr>
            <a:xfrm>
              <a:off x="2251080" y="2073240"/>
              <a:ext cx="46080" cy="219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2"/>
            <p:cNvSpPr/>
            <p:nvPr/>
          </p:nvSpPr>
          <p:spPr>
            <a:xfrm>
              <a:off x="3633840" y="2832120"/>
              <a:ext cx="28440" cy="17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3"/>
            <p:cNvSpPr/>
            <p:nvPr/>
          </p:nvSpPr>
          <p:spPr>
            <a:xfrm>
              <a:off x="3638520" y="2868480"/>
              <a:ext cx="30240" cy="172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4"/>
            <p:cNvSpPr/>
            <p:nvPr/>
          </p:nvSpPr>
          <p:spPr>
            <a:xfrm>
              <a:off x="4011480" y="3063600"/>
              <a:ext cx="27000" cy="19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5"/>
            <p:cNvSpPr/>
            <p:nvPr/>
          </p:nvSpPr>
          <p:spPr>
            <a:xfrm>
              <a:off x="4237200" y="2346120"/>
              <a:ext cx="69840" cy="27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6"/>
            <p:cNvSpPr/>
            <p:nvPr/>
          </p:nvSpPr>
          <p:spPr>
            <a:xfrm>
              <a:off x="4054320" y="2041200"/>
              <a:ext cx="69840" cy="27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7"/>
            <p:cNvSpPr/>
            <p:nvPr/>
          </p:nvSpPr>
          <p:spPr>
            <a:xfrm>
              <a:off x="4173480" y="1776240"/>
              <a:ext cx="71640" cy="27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8"/>
            <p:cNvSpPr/>
            <p:nvPr/>
          </p:nvSpPr>
          <p:spPr>
            <a:xfrm>
              <a:off x="4289400" y="1936440"/>
              <a:ext cx="68400" cy="27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9"/>
            <p:cNvSpPr/>
            <p:nvPr/>
          </p:nvSpPr>
          <p:spPr>
            <a:xfrm>
              <a:off x="4317840" y="1636560"/>
              <a:ext cx="1271880" cy="512640"/>
            </a:xfrm>
            <a:custGeom>
              <a:avLst/>
              <a:gdLst>
                <a:gd name="textAreaLeft" fmla="*/ 0 w 1271880"/>
                <a:gd name="textAreaRight" fmla="*/ 1272240 w 127188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0"/>
            <p:cNvSpPr/>
            <p:nvPr/>
          </p:nvSpPr>
          <p:spPr>
            <a:xfrm>
              <a:off x="4707000" y="1909440"/>
              <a:ext cx="71280" cy="34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1"/>
            <p:cNvSpPr/>
            <p:nvPr/>
          </p:nvSpPr>
          <p:spPr>
            <a:xfrm>
              <a:off x="5224320" y="2008080"/>
              <a:ext cx="233640" cy="7920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2"/>
            <p:cNvSpPr/>
            <p:nvPr/>
          </p:nvSpPr>
          <p:spPr>
            <a:xfrm>
              <a:off x="5408640" y="1765080"/>
              <a:ext cx="71280" cy="367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3"/>
            <p:cNvSpPr/>
            <p:nvPr/>
          </p:nvSpPr>
          <p:spPr>
            <a:xfrm>
              <a:off x="5899320" y="1717560"/>
              <a:ext cx="282240" cy="936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4"/>
            <p:cNvSpPr/>
            <p:nvPr/>
          </p:nvSpPr>
          <p:spPr>
            <a:xfrm>
              <a:off x="6076800" y="1766880"/>
              <a:ext cx="87480" cy="316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5"/>
            <p:cNvSpPr/>
            <p:nvPr/>
          </p:nvSpPr>
          <p:spPr>
            <a:xfrm>
              <a:off x="5543640" y="2171520"/>
              <a:ext cx="198360" cy="1951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6"/>
            <p:cNvSpPr/>
            <p:nvPr/>
          </p:nvSpPr>
          <p:spPr>
            <a:xfrm>
              <a:off x="5445000" y="2241360"/>
              <a:ext cx="125640" cy="1015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7"/>
            <p:cNvSpPr/>
            <p:nvPr/>
          </p:nvSpPr>
          <p:spPr>
            <a:xfrm>
              <a:off x="8523360" y="3938400"/>
              <a:ext cx="865080" cy="73512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735120"/>
                <a:gd name="textAreaBottom" fmla="*/ 735120 h 7351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8"/>
            <p:cNvSpPr/>
            <p:nvPr/>
          </p:nvSpPr>
          <p:spPr>
            <a:xfrm>
              <a:off x="8791560" y="3551040"/>
              <a:ext cx="582480" cy="31104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9"/>
            <p:cNvSpPr/>
            <p:nvPr/>
          </p:nvSpPr>
          <p:spPr>
            <a:xfrm>
              <a:off x="9228240" y="469728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40"/>
            <p:cNvSpPr/>
            <p:nvPr/>
          </p:nvSpPr>
          <p:spPr>
            <a:xfrm>
              <a:off x="9475920" y="4564080"/>
              <a:ext cx="299880" cy="12528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1"/>
            <p:cNvSpPr/>
            <p:nvPr/>
          </p:nvSpPr>
          <p:spPr>
            <a:xfrm>
              <a:off x="9786960" y="4489200"/>
              <a:ext cx="189000" cy="1368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2"/>
            <p:cNvSpPr/>
            <p:nvPr/>
          </p:nvSpPr>
          <p:spPr>
            <a:xfrm>
              <a:off x="9887040" y="4429080"/>
              <a:ext cx="68040" cy="381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3"/>
            <p:cNvSpPr/>
            <p:nvPr/>
          </p:nvSpPr>
          <p:spPr>
            <a:xfrm>
              <a:off x="6740640" y="3706560"/>
              <a:ext cx="225360" cy="29844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4"/>
            <p:cNvSpPr/>
            <p:nvPr/>
          </p:nvSpPr>
          <p:spPr>
            <a:xfrm>
              <a:off x="7711920" y="3244680"/>
              <a:ext cx="90720" cy="903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5"/>
            <p:cNvSpPr/>
            <p:nvPr/>
          </p:nvSpPr>
          <p:spPr>
            <a:xfrm>
              <a:off x="8319960" y="3341520"/>
              <a:ext cx="203400" cy="2714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6"/>
            <p:cNvSpPr/>
            <p:nvPr/>
          </p:nvSpPr>
          <p:spPr>
            <a:xfrm>
              <a:off x="8148600" y="3257280"/>
              <a:ext cx="131760" cy="2034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7"/>
            <p:cNvSpPr/>
            <p:nvPr/>
          </p:nvSpPr>
          <p:spPr>
            <a:xfrm>
              <a:off x="8237520" y="3421080"/>
              <a:ext cx="73080" cy="193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8"/>
            <p:cNvSpPr/>
            <p:nvPr/>
          </p:nvSpPr>
          <p:spPr>
            <a:xfrm>
              <a:off x="8319960" y="362412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9"/>
            <p:cNvSpPr/>
            <p:nvPr/>
          </p:nvSpPr>
          <p:spPr>
            <a:xfrm>
              <a:off x="8510760" y="3483000"/>
              <a:ext cx="150480" cy="1728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0"/>
            <p:cNvSpPr/>
            <p:nvPr/>
          </p:nvSpPr>
          <p:spPr>
            <a:xfrm>
              <a:off x="8459640" y="2862000"/>
              <a:ext cx="39960" cy="106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51"/>
            <p:cNvSpPr/>
            <p:nvPr/>
          </p:nvSpPr>
          <p:spPr>
            <a:xfrm>
              <a:off x="8485200" y="3038400"/>
              <a:ext cx="111240" cy="1760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52"/>
            <p:cNvSpPr/>
            <p:nvPr/>
          </p:nvSpPr>
          <p:spPr>
            <a:xfrm>
              <a:off x="8562960" y="327024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53"/>
            <p:cNvSpPr/>
            <p:nvPr/>
          </p:nvSpPr>
          <p:spPr>
            <a:xfrm>
              <a:off x="8702640" y="3479760"/>
              <a:ext cx="52560" cy="73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4"/>
            <p:cNvSpPr/>
            <p:nvPr/>
          </p:nvSpPr>
          <p:spPr>
            <a:xfrm>
              <a:off x="8672400" y="3601800"/>
              <a:ext cx="33480" cy="255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5"/>
            <p:cNvSpPr/>
            <p:nvPr/>
          </p:nvSpPr>
          <p:spPr>
            <a:xfrm>
              <a:off x="8721720" y="3585960"/>
              <a:ext cx="82440" cy="55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6"/>
            <p:cNvSpPr/>
            <p:nvPr/>
          </p:nvSpPr>
          <p:spPr>
            <a:xfrm>
              <a:off x="8848800" y="369072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7"/>
            <p:cNvSpPr/>
            <p:nvPr/>
          </p:nvSpPr>
          <p:spPr>
            <a:xfrm>
              <a:off x="9336240" y="3628800"/>
              <a:ext cx="83880" cy="69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58"/>
            <p:cNvSpPr/>
            <p:nvPr/>
          </p:nvSpPr>
          <p:spPr>
            <a:xfrm>
              <a:off x="8610480" y="3716280"/>
              <a:ext cx="84240" cy="74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59"/>
            <p:cNvSpPr/>
            <p:nvPr/>
          </p:nvSpPr>
          <p:spPr>
            <a:xfrm>
              <a:off x="8521560" y="3744720"/>
              <a:ext cx="59040" cy="396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0"/>
            <p:cNvSpPr/>
            <p:nvPr/>
          </p:nvSpPr>
          <p:spPr>
            <a:xfrm>
              <a:off x="8483760" y="3700440"/>
              <a:ext cx="42840" cy="46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1"/>
            <p:cNvSpPr/>
            <p:nvPr/>
          </p:nvSpPr>
          <p:spPr>
            <a:xfrm>
              <a:off x="8545680" y="3717720"/>
              <a:ext cx="61920" cy="34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2"/>
            <p:cNvSpPr/>
            <p:nvPr/>
          </p:nvSpPr>
          <p:spPr>
            <a:xfrm>
              <a:off x="8454960" y="3224160"/>
              <a:ext cx="49320" cy="82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63"/>
            <p:cNvSpPr/>
            <p:nvPr/>
          </p:nvSpPr>
          <p:spPr>
            <a:xfrm>
              <a:off x="8548560" y="3211200"/>
              <a:ext cx="34920" cy="81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4"/>
            <p:cNvSpPr/>
            <p:nvPr/>
          </p:nvSpPr>
          <p:spPr>
            <a:xfrm>
              <a:off x="8588520" y="3186000"/>
              <a:ext cx="19080" cy="36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5"/>
            <p:cNvSpPr/>
            <p:nvPr/>
          </p:nvSpPr>
          <p:spPr>
            <a:xfrm>
              <a:off x="8607600" y="3203280"/>
              <a:ext cx="37800" cy="716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6"/>
            <p:cNvSpPr/>
            <p:nvPr/>
          </p:nvSpPr>
          <p:spPr>
            <a:xfrm>
              <a:off x="8115480" y="3306600"/>
              <a:ext cx="21960" cy="39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7"/>
            <p:cNvSpPr/>
            <p:nvPr/>
          </p:nvSpPr>
          <p:spPr>
            <a:xfrm>
              <a:off x="8097840" y="3271680"/>
              <a:ext cx="17640" cy="223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68"/>
            <p:cNvSpPr/>
            <p:nvPr/>
          </p:nvSpPr>
          <p:spPr>
            <a:xfrm>
              <a:off x="8089920" y="324468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69"/>
            <p:cNvSpPr/>
            <p:nvPr/>
          </p:nvSpPr>
          <p:spPr>
            <a:xfrm>
              <a:off x="8067600" y="3186000"/>
              <a:ext cx="20880" cy="28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70"/>
            <p:cNvSpPr/>
            <p:nvPr/>
          </p:nvSpPr>
          <p:spPr>
            <a:xfrm>
              <a:off x="8072280" y="3222360"/>
              <a:ext cx="28800" cy="20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71"/>
            <p:cNvSpPr/>
            <p:nvPr/>
          </p:nvSpPr>
          <p:spPr>
            <a:xfrm>
              <a:off x="9597960" y="4147920"/>
              <a:ext cx="82800" cy="889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72"/>
            <p:cNvSpPr/>
            <p:nvPr/>
          </p:nvSpPr>
          <p:spPr>
            <a:xfrm>
              <a:off x="10020240" y="4074840"/>
              <a:ext cx="96840" cy="684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73"/>
            <p:cNvSpPr/>
            <p:nvPr/>
          </p:nvSpPr>
          <p:spPr>
            <a:xfrm>
              <a:off x="9728280" y="4038480"/>
              <a:ext cx="31680" cy="33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74"/>
            <p:cNvSpPr/>
            <p:nvPr/>
          </p:nvSpPr>
          <p:spPr>
            <a:xfrm>
              <a:off x="9713880" y="4005000"/>
              <a:ext cx="36720" cy="255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75"/>
            <p:cNvSpPr/>
            <p:nvPr/>
          </p:nvSpPr>
          <p:spPr>
            <a:xfrm>
              <a:off x="9434520" y="371772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76"/>
            <p:cNvSpPr/>
            <p:nvPr/>
          </p:nvSpPr>
          <p:spPr>
            <a:xfrm>
              <a:off x="9496440" y="3781440"/>
              <a:ext cx="47520" cy="48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77"/>
            <p:cNvSpPr/>
            <p:nvPr/>
          </p:nvSpPr>
          <p:spPr>
            <a:xfrm>
              <a:off x="9545760" y="3875040"/>
              <a:ext cx="50760" cy="41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78"/>
            <p:cNvSpPr/>
            <p:nvPr/>
          </p:nvSpPr>
          <p:spPr>
            <a:xfrm>
              <a:off x="9607680" y="3859200"/>
              <a:ext cx="50760" cy="39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79"/>
            <p:cNvSpPr/>
            <p:nvPr/>
          </p:nvSpPr>
          <p:spPr>
            <a:xfrm>
              <a:off x="9590040" y="3806640"/>
              <a:ext cx="47520" cy="302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0"/>
            <p:cNvSpPr/>
            <p:nvPr/>
          </p:nvSpPr>
          <p:spPr>
            <a:xfrm>
              <a:off x="9542520" y="3768480"/>
              <a:ext cx="47520" cy="5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81"/>
            <p:cNvSpPr/>
            <p:nvPr/>
          </p:nvSpPr>
          <p:spPr>
            <a:xfrm>
              <a:off x="9483840" y="374652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2"/>
            <p:cNvSpPr/>
            <p:nvPr/>
          </p:nvSpPr>
          <p:spPr>
            <a:xfrm>
              <a:off x="9556920" y="382428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83"/>
            <p:cNvSpPr/>
            <p:nvPr/>
          </p:nvSpPr>
          <p:spPr>
            <a:xfrm>
              <a:off x="6616800" y="1784160"/>
              <a:ext cx="257040" cy="16020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4"/>
            <p:cNvSpPr/>
            <p:nvPr/>
          </p:nvSpPr>
          <p:spPr>
            <a:xfrm>
              <a:off x="6770520" y="1939680"/>
              <a:ext cx="73080" cy="176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85"/>
            <p:cNvSpPr/>
            <p:nvPr/>
          </p:nvSpPr>
          <p:spPr>
            <a:xfrm>
              <a:off x="7143840" y="1707840"/>
              <a:ext cx="77760" cy="414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86"/>
            <p:cNvSpPr/>
            <p:nvPr/>
          </p:nvSpPr>
          <p:spPr>
            <a:xfrm>
              <a:off x="7199280" y="1726920"/>
              <a:ext cx="92160" cy="302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87"/>
            <p:cNvSpPr/>
            <p:nvPr/>
          </p:nvSpPr>
          <p:spPr>
            <a:xfrm>
              <a:off x="7297920" y="1731960"/>
              <a:ext cx="91800" cy="47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88"/>
            <p:cNvSpPr/>
            <p:nvPr/>
          </p:nvSpPr>
          <p:spPr>
            <a:xfrm>
              <a:off x="7935840" y="1771560"/>
              <a:ext cx="160560" cy="460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89"/>
            <p:cNvSpPr/>
            <p:nvPr/>
          </p:nvSpPr>
          <p:spPr>
            <a:xfrm>
              <a:off x="8099280" y="1769760"/>
              <a:ext cx="84240" cy="36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90"/>
            <p:cNvSpPr/>
            <p:nvPr/>
          </p:nvSpPr>
          <p:spPr>
            <a:xfrm>
              <a:off x="8061480" y="1812600"/>
              <a:ext cx="66600" cy="25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91"/>
            <p:cNvSpPr/>
            <p:nvPr/>
          </p:nvSpPr>
          <p:spPr>
            <a:xfrm>
              <a:off x="8521560" y="2146320"/>
              <a:ext cx="138240" cy="16812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2"/>
            <p:cNvSpPr/>
            <p:nvPr/>
          </p:nvSpPr>
          <p:spPr>
            <a:xfrm>
              <a:off x="8632800" y="2320920"/>
              <a:ext cx="100080" cy="1159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93"/>
            <p:cNvSpPr/>
            <p:nvPr/>
          </p:nvSpPr>
          <p:spPr>
            <a:xfrm>
              <a:off x="8566200" y="2439720"/>
              <a:ext cx="200160" cy="27936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94"/>
            <p:cNvSpPr/>
            <p:nvPr/>
          </p:nvSpPr>
          <p:spPr>
            <a:xfrm>
              <a:off x="6629400" y="1692000"/>
              <a:ext cx="95400" cy="446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5"/>
            <p:cNvSpPr/>
            <p:nvPr/>
          </p:nvSpPr>
          <p:spPr>
            <a:xfrm>
              <a:off x="6434280" y="1704960"/>
              <a:ext cx="34920" cy="33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96"/>
            <p:cNvSpPr/>
            <p:nvPr/>
          </p:nvSpPr>
          <p:spPr>
            <a:xfrm>
              <a:off x="6478560" y="1703160"/>
              <a:ext cx="66600" cy="39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97"/>
            <p:cNvSpPr/>
            <p:nvPr/>
          </p:nvSpPr>
          <p:spPr>
            <a:xfrm>
              <a:off x="6589800" y="1690560"/>
              <a:ext cx="36360" cy="23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8"/>
            <p:cNvSpPr/>
            <p:nvPr/>
          </p:nvSpPr>
          <p:spPr>
            <a:xfrm>
              <a:off x="6556320" y="1715760"/>
              <a:ext cx="27000" cy="20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99"/>
            <p:cNvSpPr/>
            <p:nvPr/>
          </p:nvSpPr>
          <p:spPr>
            <a:xfrm>
              <a:off x="8637480" y="1739880"/>
              <a:ext cx="33480" cy="48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00"/>
            <p:cNvSpPr/>
            <p:nvPr/>
          </p:nvSpPr>
          <p:spPr>
            <a:xfrm>
              <a:off x="7024680" y="3895560"/>
              <a:ext cx="55440" cy="27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1"/>
            <p:cNvSpPr/>
            <p:nvPr/>
          </p:nvSpPr>
          <p:spPr>
            <a:xfrm>
              <a:off x="7097760" y="3884400"/>
              <a:ext cx="17280" cy="223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02"/>
            <p:cNvSpPr/>
            <p:nvPr/>
          </p:nvSpPr>
          <p:spPr>
            <a:xfrm>
              <a:off x="6975360" y="3655800"/>
              <a:ext cx="15840" cy="223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03"/>
            <p:cNvSpPr/>
            <p:nvPr/>
          </p:nvSpPr>
          <p:spPr>
            <a:xfrm>
              <a:off x="7085160" y="3547800"/>
              <a:ext cx="19080" cy="288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04"/>
            <p:cNvSpPr/>
            <p:nvPr/>
          </p:nvSpPr>
          <p:spPr>
            <a:xfrm>
              <a:off x="7040520" y="3546360"/>
              <a:ext cx="20520" cy="28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05"/>
            <p:cNvSpPr/>
            <p:nvPr/>
          </p:nvSpPr>
          <p:spPr>
            <a:xfrm>
              <a:off x="7020000" y="357984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6"/>
            <p:cNvSpPr/>
            <p:nvPr/>
          </p:nvSpPr>
          <p:spPr>
            <a:xfrm>
              <a:off x="6975360" y="363060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07"/>
            <p:cNvSpPr/>
            <p:nvPr/>
          </p:nvSpPr>
          <p:spPr>
            <a:xfrm>
              <a:off x="7008840" y="3609720"/>
              <a:ext cx="19080" cy="22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08"/>
            <p:cNvSpPr/>
            <p:nvPr/>
          </p:nvSpPr>
          <p:spPr>
            <a:xfrm>
              <a:off x="5670720" y="2144520"/>
              <a:ext cx="18720" cy="223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9"/>
            <p:cNvSpPr/>
            <p:nvPr/>
          </p:nvSpPr>
          <p:spPr>
            <a:xfrm>
              <a:off x="5559480" y="2093760"/>
              <a:ext cx="19080" cy="22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0"/>
            <p:cNvSpPr/>
            <p:nvPr/>
          </p:nvSpPr>
          <p:spPr>
            <a:xfrm>
              <a:off x="5124600" y="1771560"/>
              <a:ext cx="3762360" cy="2440080"/>
            </a:xfrm>
            <a:custGeom>
              <a:avLst/>
              <a:gdLst>
                <a:gd name="textAreaLeft" fmla="*/ 0 w 3762360"/>
                <a:gd name="textAreaRight" fmla="*/ 3762720 w 3762360"/>
                <a:gd name="textAreaTop" fmla="*/ 0 h 2440080"/>
                <a:gd name="textAreaBottom" fmla="*/ 2440080 h 24400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AutoShape 111"/>
          <p:cNvSpPr/>
          <p:nvPr/>
        </p:nvSpPr>
        <p:spPr>
          <a:xfrm>
            <a:off x="4962600" y="3768840"/>
            <a:ext cx="2247840" cy="1292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464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12"/>
          <p:cNvSpPr/>
          <p:nvPr/>
        </p:nvSpPr>
        <p:spPr>
          <a:xfrm>
            <a:off x="2467080" y="3751200"/>
            <a:ext cx="2276280" cy="131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13"/>
          <p:cNvSpPr/>
          <p:nvPr/>
        </p:nvSpPr>
        <p:spPr>
          <a:xfrm>
            <a:off x="7439040" y="3722760"/>
            <a:ext cx="2276640" cy="135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44a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92"/>
          <p:cNvSpPr/>
          <p:nvPr/>
        </p:nvSpPr>
        <p:spPr>
          <a:xfrm>
            <a:off x="2035080" y="2084400"/>
            <a:ext cx="812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任意多边形 204"/>
          <p:cNvSpPr/>
          <p:nvPr/>
        </p:nvSpPr>
        <p:spPr>
          <a:xfrm>
            <a:off x="2552760" y="4645080"/>
            <a:ext cx="1805040" cy="139536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1395360"/>
              <a:gd name="textAreaBottom" fmla="*/ 1395720 h 13953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任意多边形 205"/>
          <p:cNvSpPr/>
          <p:nvPr/>
        </p:nvSpPr>
        <p:spPr>
          <a:xfrm>
            <a:off x="5051520" y="4626000"/>
            <a:ext cx="1803240" cy="1396800"/>
          </a:xfrm>
          <a:custGeom>
            <a:avLst/>
            <a:gdLst>
              <a:gd name="textAreaLeft" fmla="*/ 0 w 1803240"/>
              <a:gd name="textAreaRight" fmla="*/ 1803600 w 180324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任意多边形 206"/>
          <p:cNvSpPr/>
          <p:nvPr/>
        </p:nvSpPr>
        <p:spPr>
          <a:xfrm>
            <a:off x="7556400" y="4626000"/>
            <a:ext cx="1803600" cy="1396800"/>
          </a:xfrm>
          <a:custGeom>
            <a:avLst/>
            <a:gdLst>
              <a:gd name="textAreaLeft" fmla="*/ 0 w 1803600"/>
              <a:gd name="textAreaRight" fmla="*/ 1803960 w 180360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44a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组合 208"/>
          <p:cNvGrpSpPr/>
          <p:nvPr/>
        </p:nvGrpSpPr>
        <p:grpSpPr>
          <a:xfrm>
            <a:off x="3051000" y="4975200"/>
            <a:ext cx="1495440" cy="691920"/>
            <a:chOff x="3051000" y="4975200"/>
            <a:chExt cx="1495440" cy="691920"/>
          </a:xfrm>
        </p:grpSpPr>
        <p:sp>
          <p:nvSpPr>
            <p:cNvPr id="447" name="文本框 209"/>
            <p:cNvSpPr/>
            <p:nvPr/>
          </p:nvSpPr>
          <p:spPr>
            <a:xfrm>
              <a:off x="3051000" y="536004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文本框 20"/>
            <p:cNvSpPr/>
            <p:nvPr/>
          </p:nvSpPr>
          <p:spPr>
            <a:xfrm>
              <a:off x="3051000" y="497520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组合 211"/>
          <p:cNvGrpSpPr/>
          <p:nvPr/>
        </p:nvGrpSpPr>
        <p:grpSpPr>
          <a:xfrm>
            <a:off x="5554800" y="4971960"/>
            <a:ext cx="1495440" cy="692640"/>
            <a:chOff x="5554800" y="4971960"/>
            <a:chExt cx="1495440" cy="692640"/>
          </a:xfrm>
        </p:grpSpPr>
        <p:sp>
          <p:nvSpPr>
            <p:cNvPr id="450" name="文本框 212"/>
            <p:cNvSpPr/>
            <p:nvPr/>
          </p:nvSpPr>
          <p:spPr>
            <a:xfrm>
              <a:off x="5554800" y="5357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文本框 20"/>
            <p:cNvSpPr/>
            <p:nvPr/>
          </p:nvSpPr>
          <p:spPr>
            <a:xfrm>
              <a:off x="5554800" y="49719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214"/>
          <p:cNvGrpSpPr/>
          <p:nvPr/>
        </p:nvGrpSpPr>
        <p:grpSpPr>
          <a:xfrm>
            <a:off x="8058240" y="4968720"/>
            <a:ext cx="1495440" cy="692640"/>
            <a:chOff x="8058240" y="4968720"/>
            <a:chExt cx="1495440" cy="692640"/>
          </a:xfrm>
        </p:grpSpPr>
        <p:sp>
          <p:nvSpPr>
            <p:cNvPr id="453" name="文本框 215"/>
            <p:cNvSpPr/>
            <p:nvPr/>
          </p:nvSpPr>
          <p:spPr>
            <a:xfrm>
              <a:off x="8058240" y="535428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20"/>
            <p:cNvSpPr/>
            <p:nvPr/>
          </p:nvSpPr>
          <p:spPr>
            <a:xfrm>
              <a:off x="8058240" y="496872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4E21-9E6A-4714-B64D-B1DCF3FF6B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任意多边形 34"/>
          <p:cNvSpPr/>
          <p:nvPr/>
        </p:nvSpPr>
        <p:spPr>
          <a:xfrm rot="1233600">
            <a:off x="3946320" y="3477960"/>
            <a:ext cx="2020680" cy="2395440"/>
          </a:xfrm>
          <a:custGeom>
            <a:avLst/>
            <a:gdLst>
              <a:gd name="textAreaLeft" fmla="*/ 0 w 2020680"/>
              <a:gd name="textAreaRight" fmla="*/ 2021040 w 2020680"/>
              <a:gd name="textAreaTop" fmla="*/ 0 h 2395440"/>
              <a:gd name="textAreaBottom" fmla="*/ 2395800 h 239544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椭圆 35"/>
          <p:cNvSpPr/>
          <p:nvPr/>
        </p:nvSpPr>
        <p:spPr>
          <a:xfrm>
            <a:off x="3757680" y="1992240"/>
            <a:ext cx="129708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等腰三角形 36"/>
          <p:cNvSpPr/>
          <p:nvPr/>
        </p:nvSpPr>
        <p:spPr>
          <a:xfrm>
            <a:off x="4229280" y="3181320"/>
            <a:ext cx="35532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68"/>
          <p:cNvSpPr/>
          <p:nvPr/>
        </p:nvSpPr>
        <p:spPr>
          <a:xfrm>
            <a:off x="3757680" y="2386080"/>
            <a:ext cx="129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任意多边形 38"/>
          <p:cNvSpPr/>
          <p:nvPr/>
        </p:nvSpPr>
        <p:spPr>
          <a:xfrm flipH="1" rot="21353400">
            <a:off x="5857560" y="3425400"/>
            <a:ext cx="1898640" cy="1433520"/>
          </a:xfrm>
          <a:custGeom>
            <a:avLst/>
            <a:gdLst>
              <a:gd name="textAreaLeft" fmla="*/ 360 w 1898640"/>
              <a:gd name="textAreaRight" fmla="*/ 1899360 w 189864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1945835" h="1717589">
                <a:moveTo>
                  <a:pt x="15012" y="0"/>
                </a:moveTo>
                <a:cubicBezTo>
                  <a:pt x="23250" y="41189"/>
                  <a:pt x="-7630" y="85824"/>
                  <a:pt x="1815" y="126753"/>
                </a:cubicBezTo>
                <a:cubicBezTo>
                  <a:pt x="12662" y="173757"/>
                  <a:pt x="56061" y="175584"/>
                  <a:pt x="76796" y="210064"/>
                </a:cubicBezTo>
                <a:cubicBezTo>
                  <a:pt x="97531" y="244544"/>
                  <a:pt x="68267" y="217717"/>
                  <a:pt x="126223" y="333632"/>
                </a:cubicBezTo>
                <a:cubicBezTo>
                  <a:pt x="130777" y="365510"/>
                  <a:pt x="133683" y="422692"/>
                  <a:pt x="150937" y="457200"/>
                </a:cubicBezTo>
                <a:cubicBezTo>
                  <a:pt x="157578" y="470483"/>
                  <a:pt x="167412" y="481913"/>
                  <a:pt x="175650" y="494270"/>
                </a:cubicBezTo>
                <a:cubicBezTo>
                  <a:pt x="179769" y="518983"/>
                  <a:pt x="180084" y="544641"/>
                  <a:pt x="188007" y="568410"/>
                </a:cubicBezTo>
                <a:cubicBezTo>
                  <a:pt x="192703" y="582499"/>
                  <a:pt x="207505" y="591575"/>
                  <a:pt x="212720" y="605481"/>
                </a:cubicBezTo>
                <a:cubicBezTo>
                  <a:pt x="219647" y="623954"/>
                  <a:pt x="233964" y="727523"/>
                  <a:pt x="237434" y="741405"/>
                </a:cubicBezTo>
                <a:cubicBezTo>
                  <a:pt x="251860" y="799110"/>
                  <a:pt x="267203" y="823271"/>
                  <a:pt x="286861" y="877329"/>
                </a:cubicBezTo>
                <a:cubicBezTo>
                  <a:pt x="323599" y="978356"/>
                  <a:pt x="291588" y="924820"/>
                  <a:pt x="348645" y="1000897"/>
                </a:cubicBezTo>
                <a:cubicBezTo>
                  <a:pt x="352764" y="1025610"/>
                  <a:pt x="354410" y="1050866"/>
                  <a:pt x="361002" y="1075037"/>
                </a:cubicBezTo>
                <a:cubicBezTo>
                  <a:pt x="374955" y="1126197"/>
                  <a:pt x="384308" y="1134711"/>
                  <a:pt x="410429" y="1173891"/>
                </a:cubicBezTo>
                <a:cubicBezTo>
                  <a:pt x="414548" y="1186248"/>
                  <a:pt x="416323" y="1199653"/>
                  <a:pt x="422785" y="1210962"/>
                </a:cubicBezTo>
                <a:cubicBezTo>
                  <a:pt x="433003" y="1228843"/>
                  <a:pt x="448432" y="1243253"/>
                  <a:pt x="459856" y="1260389"/>
                </a:cubicBezTo>
                <a:cubicBezTo>
                  <a:pt x="473178" y="1280373"/>
                  <a:pt x="484569" y="1301578"/>
                  <a:pt x="496926" y="1322173"/>
                </a:cubicBezTo>
                <a:cubicBezTo>
                  <a:pt x="519484" y="1412402"/>
                  <a:pt x="491139" y="1335051"/>
                  <a:pt x="546353" y="1408670"/>
                </a:cubicBezTo>
                <a:cubicBezTo>
                  <a:pt x="604051" y="1485601"/>
                  <a:pt x="564130" y="1449470"/>
                  <a:pt x="608137" y="1519881"/>
                </a:cubicBezTo>
                <a:cubicBezTo>
                  <a:pt x="630927" y="1556345"/>
                  <a:pt x="690465" y="1624193"/>
                  <a:pt x="719347" y="1643448"/>
                </a:cubicBezTo>
                <a:cubicBezTo>
                  <a:pt x="731704" y="1651686"/>
                  <a:pt x="742768" y="1662312"/>
                  <a:pt x="756418" y="1668162"/>
                </a:cubicBezTo>
                <a:cubicBezTo>
                  <a:pt x="772028" y="1674852"/>
                  <a:pt x="789516" y="1675854"/>
                  <a:pt x="805845" y="1680519"/>
                </a:cubicBezTo>
                <a:cubicBezTo>
                  <a:pt x="818369" y="1684097"/>
                  <a:pt x="830279" y="1689716"/>
                  <a:pt x="842915" y="1692875"/>
                </a:cubicBezTo>
                <a:lnTo>
                  <a:pt x="941769" y="1717589"/>
                </a:lnTo>
                <a:cubicBezTo>
                  <a:pt x="1061218" y="1709351"/>
                  <a:pt x="1181307" y="1707726"/>
                  <a:pt x="1300115" y="1692875"/>
                </a:cubicBezTo>
                <a:cubicBezTo>
                  <a:pt x="1314851" y="1691033"/>
                  <a:pt x="1323902" y="1674803"/>
                  <a:pt x="1337185" y="1668162"/>
                </a:cubicBezTo>
                <a:cubicBezTo>
                  <a:pt x="1380908" y="1646301"/>
                  <a:pt x="1465939" y="1625905"/>
                  <a:pt x="1497823" y="1594021"/>
                </a:cubicBezTo>
                <a:cubicBezTo>
                  <a:pt x="1571062" y="1520782"/>
                  <a:pt x="1502682" y="1596977"/>
                  <a:pt x="1559607" y="1507524"/>
                </a:cubicBezTo>
                <a:cubicBezTo>
                  <a:pt x="1578630" y="1477631"/>
                  <a:pt x="1600796" y="1449859"/>
                  <a:pt x="1621391" y="1421027"/>
                </a:cubicBezTo>
                <a:cubicBezTo>
                  <a:pt x="1625510" y="1408670"/>
                  <a:pt x="1785040" y="1493466"/>
                  <a:pt x="1816118" y="1457747"/>
                </a:cubicBezTo>
                <a:cubicBezTo>
                  <a:pt x="1847196" y="1422028"/>
                  <a:pt x="1813544" y="1254022"/>
                  <a:pt x="1807862" y="1206713"/>
                </a:cubicBezTo>
                <a:cubicBezTo>
                  <a:pt x="1802181" y="1159404"/>
                  <a:pt x="1773791" y="1186248"/>
                  <a:pt x="1782029" y="1173891"/>
                </a:cubicBezTo>
                <a:cubicBezTo>
                  <a:pt x="1786148" y="1161534"/>
                  <a:pt x="1796772" y="1160295"/>
                  <a:pt x="1794385" y="1136821"/>
                </a:cubicBezTo>
                <a:cubicBezTo>
                  <a:pt x="1791998" y="1113347"/>
                  <a:pt x="1768234" y="1060867"/>
                  <a:pt x="1767709" y="1033047"/>
                </a:cubicBezTo>
                <a:cubicBezTo>
                  <a:pt x="1767184" y="1005227"/>
                  <a:pt x="1778877" y="986379"/>
                  <a:pt x="1791234" y="969903"/>
                </a:cubicBezTo>
                <a:cubicBezTo>
                  <a:pt x="1795353" y="949309"/>
                  <a:pt x="1809458" y="952458"/>
                  <a:pt x="1817137" y="921835"/>
                </a:cubicBezTo>
                <a:cubicBezTo>
                  <a:pt x="1824816" y="891212"/>
                  <a:pt x="1816056" y="863846"/>
                  <a:pt x="1837307" y="786165"/>
                </a:cubicBezTo>
                <a:cubicBezTo>
                  <a:pt x="1858558" y="708484"/>
                  <a:pt x="1935322" y="518812"/>
                  <a:pt x="1944644" y="455747"/>
                </a:cubicBezTo>
                <a:cubicBezTo>
                  <a:pt x="1953966" y="392682"/>
                  <a:pt x="1905925" y="426066"/>
                  <a:pt x="1893239" y="407773"/>
                </a:cubicBezTo>
                <a:cubicBezTo>
                  <a:pt x="1880553" y="389480"/>
                  <a:pt x="1874900" y="367235"/>
                  <a:pt x="1868526" y="345989"/>
                </a:cubicBezTo>
                <a:cubicBezTo>
                  <a:pt x="1862491" y="325872"/>
                  <a:pt x="1862811" y="304130"/>
                  <a:pt x="1856169" y="284205"/>
                </a:cubicBezTo>
                <a:cubicBezTo>
                  <a:pt x="1841207" y="239319"/>
                  <a:pt x="1835019" y="238341"/>
                  <a:pt x="1806742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任意多边形 39"/>
          <p:cNvSpPr/>
          <p:nvPr/>
        </p:nvSpPr>
        <p:spPr>
          <a:xfrm rot="1233600">
            <a:off x="7327440" y="3688920"/>
            <a:ext cx="1516320" cy="1717920"/>
          </a:xfrm>
          <a:custGeom>
            <a:avLst/>
            <a:gdLst>
              <a:gd name="textAreaLeft" fmla="*/ 0 w 1516320"/>
              <a:gd name="textAreaRight" fmla="*/ 1516680 w 1516320"/>
              <a:gd name="textAreaTop" fmla="*/ 0 h 1717920"/>
              <a:gd name="textAreaBottom" fmla="*/ 1718280 h 171792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椭圆 40"/>
          <p:cNvSpPr/>
          <p:nvPr/>
        </p:nvSpPr>
        <p:spPr>
          <a:xfrm>
            <a:off x="6896160" y="1776240"/>
            <a:ext cx="1584360" cy="15195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等腰三角形 41"/>
          <p:cNvSpPr/>
          <p:nvPr/>
        </p:nvSpPr>
        <p:spPr>
          <a:xfrm>
            <a:off x="7508880" y="3116160"/>
            <a:ext cx="3556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77"/>
          <p:cNvSpPr/>
          <p:nvPr/>
        </p:nvSpPr>
        <p:spPr>
          <a:xfrm>
            <a:off x="7039080" y="22399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任意多边形 43"/>
          <p:cNvSpPr/>
          <p:nvPr/>
        </p:nvSpPr>
        <p:spPr>
          <a:xfrm flipH="1">
            <a:off x="8911440" y="3587760"/>
            <a:ext cx="1660680" cy="2381400"/>
          </a:xfrm>
          <a:custGeom>
            <a:avLst/>
            <a:gdLst>
              <a:gd name="textAreaLeft" fmla="*/ -360 w 1660680"/>
              <a:gd name="textAreaRight" fmla="*/ 1660680 w 1660680"/>
              <a:gd name="textAreaTop" fmla="*/ 0 h 2381400"/>
              <a:gd name="textAreaBottom" fmla="*/ 2381760 h 238140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椭圆 44"/>
          <p:cNvSpPr/>
          <p:nvPr/>
        </p:nvSpPr>
        <p:spPr>
          <a:xfrm>
            <a:off x="9807480" y="2154240"/>
            <a:ext cx="1413000" cy="15238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等腰三角形 45"/>
          <p:cNvSpPr/>
          <p:nvPr/>
        </p:nvSpPr>
        <p:spPr>
          <a:xfrm>
            <a:off x="10318680" y="3478320"/>
            <a:ext cx="387360" cy="40140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81"/>
          <p:cNvSpPr/>
          <p:nvPr/>
        </p:nvSpPr>
        <p:spPr>
          <a:xfrm>
            <a:off x="9807480" y="2629080"/>
            <a:ext cx="141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椭圆 47"/>
          <p:cNvSpPr/>
          <p:nvPr/>
        </p:nvSpPr>
        <p:spPr>
          <a:xfrm>
            <a:off x="8334360" y="3048120"/>
            <a:ext cx="115272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等腰三角形 48"/>
          <p:cNvSpPr/>
          <p:nvPr/>
        </p:nvSpPr>
        <p:spPr>
          <a:xfrm>
            <a:off x="8753400" y="4235400"/>
            <a:ext cx="3160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椭圆 64"/>
          <p:cNvSpPr/>
          <p:nvPr/>
        </p:nvSpPr>
        <p:spPr>
          <a:xfrm>
            <a:off x="5383080" y="3181320"/>
            <a:ext cx="1224000" cy="10540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等腰三角形 65"/>
          <p:cNvSpPr/>
          <p:nvPr/>
        </p:nvSpPr>
        <p:spPr>
          <a:xfrm>
            <a:off x="5853240" y="4138560"/>
            <a:ext cx="336600" cy="27792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73"/>
          <p:cNvSpPr/>
          <p:nvPr/>
        </p:nvSpPr>
        <p:spPr>
          <a:xfrm>
            <a:off x="5383080" y="338292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8"/>
          <p:cNvSpPr/>
          <p:nvPr/>
        </p:nvSpPr>
        <p:spPr>
          <a:xfrm>
            <a:off x="8296200" y="34354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70"/>
          <p:cNvSpPr/>
          <p:nvPr/>
        </p:nvSpPr>
        <p:spPr>
          <a:xfrm>
            <a:off x="439560" y="4397400"/>
            <a:ext cx="331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71"/>
          <p:cNvSpPr/>
          <p:nvPr/>
        </p:nvSpPr>
        <p:spPr>
          <a:xfrm>
            <a:off x="424440" y="37972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6FAF-00BD-42F3-B1CA-3BFC9C6C89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492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502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0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756E-B399-43F8-BD91-C09739182B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7"/>
          <p:cNvSpPr/>
          <p:nvPr/>
        </p:nvSpPr>
        <p:spPr>
          <a:xfrm>
            <a:off x="2454120" y="20606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8"/>
          <p:cNvSpPr/>
          <p:nvPr/>
        </p:nvSpPr>
        <p:spPr>
          <a:xfrm>
            <a:off x="245412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9"/>
          <p:cNvSpPr/>
          <p:nvPr/>
        </p:nvSpPr>
        <p:spPr>
          <a:xfrm>
            <a:off x="245412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0"/>
          <p:cNvSpPr/>
          <p:nvPr/>
        </p:nvSpPr>
        <p:spPr>
          <a:xfrm>
            <a:off x="8024760" y="203832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1"/>
          <p:cNvSpPr/>
          <p:nvPr/>
        </p:nvSpPr>
        <p:spPr>
          <a:xfrm>
            <a:off x="802476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12"/>
          <p:cNvSpPr/>
          <p:nvPr/>
        </p:nvSpPr>
        <p:spPr>
          <a:xfrm>
            <a:off x="802476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组合 31"/>
          <p:cNvGrpSpPr/>
          <p:nvPr/>
        </p:nvGrpSpPr>
        <p:grpSpPr>
          <a:xfrm>
            <a:off x="831960" y="1685880"/>
            <a:ext cx="1233360" cy="2981520"/>
            <a:chOff x="831960" y="1685880"/>
            <a:chExt cx="1233360" cy="2981520"/>
          </a:xfrm>
        </p:grpSpPr>
        <p:sp>
          <p:nvSpPr>
            <p:cNvPr id="520" name="Oval 109"/>
            <p:cNvSpPr/>
            <p:nvPr/>
          </p:nvSpPr>
          <p:spPr>
            <a:xfrm>
              <a:off x="1189440" y="1685880"/>
              <a:ext cx="518400" cy="530640"/>
            </a:xfrm>
            <a:prstGeom prst="ellipse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10"/>
            <p:cNvSpPr/>
            <p:nvPr/>
          </p:nvSpPr>
          <p:spPr>
            <a:xfrm>
              <a:off x="831960" y="2270160"/>
              <a:ext cx="1233360" cy="2397240"/>
            </a:xfrm>
            <a:custGeom>
              <a:avLst/>
              <a:gdLst>
                <a:gd name="textAreaLeft" fmla="*/ 0 w 1233360"/>
                <a:gd name="textAreaRight" fmla="*/ 1233720 w 1233360"/>
                <a:gd name="textAreaTop" fmla="*/ 0 h 2397240"/>
                <a:gd name="textAreaBottom" fmla="*/ 2397600 h 2397240"/>
              </a:gdLst>
              <a:ahLst/>
              <a:rect l="textAreaLeft" t="textAreaTop" r="textAreaRight" b="textAreaBottom"/>
              <a:pathLst>
                <a:path w="87" h="168">
                  <a:moveTo>
                    <a:pt x="87" y="25"/>
                  </a:moveTo>
                  <a:cubicBezTo>
                    <a:pt x="87" y="11"/>
                    <a:pt x="75" y="0"/>
                    <a:pt x="6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2" y="0"/>
                    <a:pt x="0" y="11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8"/>
                    <a:pt x="4" y="81"/>
                    <a:pt x="8" y="81"/>
                  </a:cubicBezTo>
                  <a:cubicBezTo>
                    <a:pt x="13" y="81"/>
                    <a:pt x="16" y="78"/>
                    <a:pt x="16" y="73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20" y="77"/>
                    <a:pt x="20" y="77"/>
                    <a:pt x="20" y="77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157"/>
                    <a:pt x="20" y="157"/>
                    <a:pt x="20" y="157"/>
                  </a:cubicBezTo>
                  <a:cubicBezTo>
                    <a:pt x="20" y="163"/>
                    <a:pt x="25" y="168"/>
                    <a:pt x="31" y="168"/>
                  </a:cubicBezTo>
                  <a:cubicBezTo>
                    <a:pt x="37" y="168"/>
                    <a:pt x="41" y="163"/>
                    <a:pt x="41" y="157"/>
                  </a:cubicBezTo>
                  <a:cubicBezTo>
                    <a:pt x="41" y="81"/>
                    <a:pt x="41" y="81"/>
                    <a:pt x="41" y="81"/>
                  </a:cubicBezTo>
                  <a:cubicBezTo>
                    <a:pt x="46" y="81"/>
                    <a:pt x="46" y="81"/>
                    <a:pt x="46" y="81"/>
                  </a:cubicBezTo>
                  <a:cubicBezTo>
                    <a:pt x="46" y="157"/>
                    <a:pt x="46" y="157"/>
                    <a:pt x="46" y="157"/>
                  </a:cubicBezTo>
                  <a:cubicBezTo>
                    <a:pt x="46" y="163"/>
                    <a:pt x="50" y="168"/>
                    <a:pt x="56" y="168"/>
                  </a:cubicBezTo>
                  <a:cubicBezTo>
                    <a:pt x="62" y="168"/>
                    <a:pt x="67" y="163"/>
                    <a:pt x="67" y="157"/>
                  </a:cubicBezTo>
                  <a:cubicBezTo>
                    <a:pt x="67" y="81"/>
                    <a:pt x="67" y="81"/>
                    <a:pt x="67" y="81"/>
                  </a:cubicBezTo>
                  <a:cubicBezTo>
                    <a:pt x="67" y="77"/>
                    <a:pt x="67" y="77"/>
                    <a:pt x="67" y="77"/>
                  </a:cubicBezTo>
                  <a:cubicBezTo>
                    <a:pt x="67" y="46"/>
                    <a:pt x="67" y="46"/>
                    <a:pt x="67" y="4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71" y="28"/>
                    <a:pt x="71" y="28"/>
                    <a:pt x="71" y="28"/>
                  </a:cubicBezTo>
                  <a:cubicBezTo>
                    <a:pt x="71" y="45"/>
                    <a:pt x="71" y="45"/>
                    <a:pt x="71" y="45"/>
                  </a:cubicBezTo>
                  <a:cubicBezTo>
                    <a:pt x="71" y="73"/>
                    <a:pt x="71" y="73"/>
                    <a:pt x="71" y="73"/>
                  </a:cubicBezTo>
                  <a:cubicBezTo>
                    <a:pt x="71" y="78"/>
                    <a:pt x="74" y="81"/>
                    <a:pt x="79" y="81"/>
                  </a:cubicBezTo>
                  <a:cubicBezTo>
                    <a:pt x="83" y="81"/>
                    <a:pt x="87" y="78"/>
                    <a:pt x="87" y="73"/>
                  </a:cubicBezTo>
                  <a:cubicBezTo>
                    <a:pt x="87" y="25"/>
                    <a:pt x="87" y="25"/>
                    <a:pt x="87" y="25"/>
                  </a:cubicBezTo>
                  <a:cubicBezTo>
                    <a:pt x="87" y="25"/>
                    <a:pt x="87" y="25"/>
                    <a:pt x="87" y="25"/>
                  </a:cubicBez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组合 34"/>
          <p:cNvGrpSpPr/>
          <p:nvPr/>
        </p:nvGrpSpPr>
        <p:grpSpPr>
          <a:xfrm>
            <a:off x="6707160" y="1685880"/>
            <a:ext cx="1317600" cy="2948040"/>
            <a:chOff x="6707160" y="1685880"/>
            <a:chExt cx="1317600" cy="2948040"/>
          </a:xfrm>
        </p:grpSpPr>
        <p:sp>
          <p:nvSpPr>
            <p:cNvPr id="523" name="Oval 5"/>
            <p:cNvSpPr/>
            <p:nvPr/>
          </p:nvSpPr>
          <p:spPr>
            <a:xfrm>
              <a:off x="7112880" y="1685880"/>
              <a:ext cx="511560" cy="5148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"/>
            <p:cNvSpPr/>
            <p:nvPr/>
          </p:nvSpPr>
          <p:spPr>
            <a:xfrm>
              <a:off x="6707160" y="2259000"/>
              <a:ext cx="1317600" cy="2374920"/>
            </a:xfrm>
            <a:custGeom>
              <a:avLst/>
              <a:gdLst>
                <a:gd name="textAreaLeft" fmla="*/ 0 w 1317600"/>
                <a:gd name="textAreaRight" fmla="*/ 1317600 w 1317600"/>
                <a:gd name="textAreaTop" fmla="*/ 0 h 2374920"/>
                <a:gd name="textAreaBottom" fmla="*/ 2375280 h 2374920"/>
              </a:gdLst>
              <a:ahLst/>
              <a:rect l="textAreaLeft" t="textAreaTop" r="textAreaRight" b="textAreaBottom"/>
              <a:pathLst>
                <a:path w="95" h="166">
                  <a:moveTo>
                    <a:pt x="94" y="63"/>
                  </a:moveTo>
                  <a:cubicBezTo>
                    <a:pt x="80" y="18"/>
                    <a:pt x="80" y="18"/>
                    <a:pt x="80" y="18"/>
                  </a:cubicBezTo>
                  <a:cubicBezTo>
                    <a:pt x="80" y="18"/>
                    <a:pt x="79" y="18"/>
                    <a:pt x="79" y="18"/>
                  </a:cubicBezTo>
                  <a:cubicBezTo>
                    <a:pt x="74" y="3"/>
                    <a:pt x="61" y="0"/>
                    <a:pt x="56" y="0"/>
                  </a:cubicBezTo>
                  <a:cubicBezTo>
                    <a:pt x="52" y="0"/>
                    <a:pt x="53" y="0"/>
                    <a:pt x="49" y="0"/>
                  </a:cubicBezTo>
                  <a:cubicBezTo>
                    <a:pt x="48" y="0"/>
                    <a:pt x="47" y="0"/>
                    <a:pt x="46" y="0"/>
                  </a:cubicBezTo>
                  <a:cubicBezTo>
                    <a:pt x="42" y="0"/>
                    <a:pt x="43" y="0"/>
                    <a:pt x="39" y="0"/>
                  </a:cubicBezTo>
                  <a:cubicBezTo>
                    <a:pt x="34" y="0"/>
                    <a:pt x="21" y="3"/>
                    <a:pt x="16" y="18"/>
                  </a:cubicBezTo>
                  <a:cubicBezTo>
                    <a:pt x="16" y="18"/>
                    <a:pt x="15" y="18"/>
                    <a:pt x="15" y="18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0" y="67"/>
                    <a:pt x="2" y="71"/>
                    <a:pt x="5" y="73"/>
                  </a:cubicBezTo>
                  <a:cubicBezTo>
                    <a:pt x="9" y="74"/>
                    <a:pt x="13" y="72"/>
                    <a:pt x="15" y="68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7" y="158"/>
                    <a:pt x="27" y="158"/>
                    <a:pt x="27" y="158"/>
                  </a:cubicBezTo>
                  <a:cubicBezTo>
                    <a:pt x="27" y="163"/>
                    <a:pt x="31" y="166"/>
                    <a:pt x="36" y="166"/>
                  </a:cubicBezTo>
                  <a:cubicBezTo>
                    <a:pt x="41" y="166"/>
                    <a:pt x="44" y="163"/>
                    <a:pt x="44" y="158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51" y="99"/>
                    <a:pt x="51" y="99"/>
                    <a:pt x="51" y="99"/>
                  </a:cubicBezTo>
                  <a:cubicBezTo>
                    <a:pt x="51" y="158"/>
                    <a:pt x="51" y="158"/>
                    <a:pt x="51" y="158"/>
                  </a:cubicBezTo>
                  <a:cubicBezTo>
                    <a:pt x="51" y="163"/>
                    <a:pt x="54" y="166"/>
                    <a:pt x="59" y="166"/>
                  </a:cubicBezTo>
                  <a:cubicBezTo>
                    <a:pt x="64" y="166"/>
                    <a:pt x="68" y="163"/>
                    <a:pt x="68" y="158"/>
                  </a:cubicBezTo>
                  <a:cubicBezTo>
                    <a:pt x="68" y="99"/>
                    <a:pt x="68" y="99"/>
                    <a:pt x="68" y="99"/>
                  </a:cubicBezTo>
                  <a:cubicBezTo>
                    <a:pt x="87" y="99"/>
                    <a:pt x="87" y="99"/>
                    <a:pt x="87" y="99"/>
                  </a:cubicBezTo>
                  <a:cubicBezTo>
                    <a:pt x="63" y="25"/>
                    <a:pt x="63" y="25"/>
                    <a:pt x="63" y="25"/>
                  </a:cubicBezTo>
                  <a:cubicBezTo>
                    <a:pt x="67" y="25"/>
                    <a:pt x="67" y="25"/>
                    <a:pt x="67" y="25"/>
                  </a:cubicBezTo>
                  <a:cubicBezTo>
                    <a:pt x="80" y="68"/>
                    <a:pt x="80" y="68"/>
                    <a:pt x="80" y="68"/>
                  </a:cubicBezTo>
                  <a:cubicBezTo>
                    <a:pt x="82" y="72"/>
                    <a:pt x="86" y="74"/>
                    <a:pt x="90" y="73"/>
                  </a:cubicBezTo>
                  <a:cubicBezTo>
                    <a:pt x="93" y="71"/>
                    <a:pt x="95" y="67"/>
                    <a:pt x="94" y="63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1C9D-251D-4776-B7EA-E1D93769BD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椭圆 9"/>
          <p:cNvSpPr/>
          <p:nvPr/>
        </p:nvSpPr>
        <p:spPr>
          <a:xfrm>
            <a:off x="4341960" y="2581200"/>
            <a:ext cx="3644640" cy="364500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椭圆 10"/>
          <p:cNvSpPr/>
          <p:nvPr/>
        </p:nvSpPr>
        <p:spPr>
          <a:xfrm>
            <a:off x="7497720" y="1596960"/>
            <a:ext cx="1263600" cy="126360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椭圆 11"/>
          <p:cNvSpPr/>
          <p:nvPr/>
        </p:nvSpPr>
        <p:spPr>
          <a:xfrm>
            <a:off x="8427960" y="2975040"/>
            <a:ext cx="1892520" cy="189216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"/>
          <p:cNvSpPr/>
          <p:nvPr/>
        </p:nvSpPr>
        <p:spPr>
          <a:xfrm>
            <a:off x="9476280" y="5079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14"/>
          <p:cNvSpPr/>
          <p:nvPr/>
        </p:nvSpPr>
        <p:spPr>
          <a:xfrm>
            <a:off x="6129360" y="1406520"/>
            <a:ext cx="816120" cy="816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椭圆 15"/>
          <p:cNvSpPr/>
          <p:nvPr/>
        </p:nvSpPr>
        <p:spPr>
          <a:xfrm>
            <a:off x="4761000" y="1814400"/>
            <a:ext cx="652320" cy="654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6"/>
          <p:cNvSpPr/>
          <p:nvPr/>
        </p:nvSpPr>
        <p:spPr>
          <a:xfrm>
            <a:off x="8802360" y="366696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17"/>
          <p:cNvSpPr/>
          <p:nvPr/>
        </p:nvSpPr>
        <p:spPr>
          <a:xfrm>
            <a:off x="7674840" y="20066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8"/>
          <p:cNvSpPr/>
          <p:nvPr/>
        </p:nvSpPr>
        <p:spPr>
          <a:xfrm>
            <a:off x="6193800" y="16430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19"/>
          <p:cNvSpPr/>
          <p:nvPr/>
        </p:nvSpPr>
        <p:spPr>
          <a:xfrm>
            <a:off x="4770000" y="200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5"/>
          <p:cNvSpPr/>
          <p:nvPr/>
        </p:nvSpPr>
        <p:spPr>
          <a:xfrm>
            <a:off x="4518000" y="377208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27"/>
          <p:cNvSpPr/>
          <p:nvPr/>
        </p:nvSpPr>
        <p:spPr>
          <a:xfrm>
            <a:off x="222120" y="5003640"/>
            <a:ext cx="3903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28"/>
          <p:cNvSpPr/>
          <p:nvPr/>
        </p:nvSpPr>
        <p:spPr>
          <a:xfrm>
            <a:off x="206640" y="44038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0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521C-20FD-4E0F-B5D9-04ACC893AD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1"/>
          <p:cNvGrpSpPr/>
          <p:nvPr/>
        </p:nvGrpSpPr>
        <p:grpSpPr>
          <a:xfrm>
            <a:off x="5133960" y="3763800"/>
            <a:ext cx="2479680" cy="2462400"/>
            <a:chOff x="5133960" y="3763800"/>
            <a:chExt cx="2479680" cy="2462400"/>
          </a:xfrm>
        </p:grpSpPr>
        <p:sp>
          <p:nvSpPr>
            <p:cNvPr id="551" name="Rectangle 240"/>
            <p:cNvSpPr/>
            <p:nvPr/>
          </p:nvSpPr>
          <p:spPr>
            <a:xfrm>
              <a:off x="5133960" y="3763800"/>
              <a:ext cx="2479680" cy="365760"/>
            </a:xfrm>
            <a:prstGeom prst="rect">
              <a:avLst/>
            </a:prstGeom>
            <a:solidFill>
              <a:srgbClr val="7f7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241"/>
            <p:cNvSpPr/>
            <p:nvPr/>
          </p:nvSpPr>
          <p:spPr>
            <a:xfrm>
              <a:off x="513396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9"/>
          <p:cNvGrpSpPr/>
          <p:nvPr/>
        </p:nvGrpSpPr>
        <p:grpSpPr>
          <a:xfrm>
            <a:off x="2111400" y="3763800"/>
            <a:ext cx="2479680" cy="2462400"/>
            <a:chOff x="2111400" y="3763800"/>
            <a:chExt cx="2479680" cy="2462400"/>
          </a:xfrm>
        </p:grpSpPr>
        <p:sp>
          <p:nvSpPr>
            <p:cNvPr id="554" name="Rectangle 249"/>
            <p:cNvSpPr/>
            <p:nvPr/>
          </p:nvSpPr>
          <p:spPr>
            <a:xfrm>
              <a:off x="2111400" y="3763800"/>
              <a:ext cx="2479680" cy="36576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250"/>
            <p:cNvSpPr/>
            <p:nvPr/>
          </p:nvSpPr>
          <p:spPr>
            <a:xfrm>
              <a:off x="211140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8"/>
          <p:cNvGrpSpPr/>
          <p:nvPr/>
        </p:nvGrpSpPr>
        <p:grpSpPr>
          <a:xfrm>
            <a:off x="8180280" y="3763800"/>
            <a:ext cx="2479680" cy="2462400"/>
            <a:chOff x="8180280" y="3763800"/>
            <a:chExt cx="2479680" cy="2462400"/>
          </a:xfrm>
        </p:grpSpPr>
        <p:sp>
          <p:nvSpPr>
            <p:cNvPr id="557" name="Rectangle 252"/>
            <p:cNvSpPr/>
            <p:nvPr/>
          </p:nvSpPr>
          <p:spPr>
            <a:xfrm>
              <a:off x="8180280" y="3763800"/>
              <a:ext cx="2479680" cy="365760"/>
            </a:xfrm>
            <a:prstGeom prst="rect">
              <a:avLst/>
            </a:prstGeom>
            <a:gradFill rotWithShape="0">
              <a:gsLst>
                <a:gs pos="0">
                  <a:srgbClr val="ef95e4"/>
                </a:gs>
                <a:gs pos="100000">
                  <a:srgbClr val="f44a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253"/>
            <p:cNvSpPr/>
            <p:nvPr/>
          </p:nvSpPr>
          <p:spPr>
            <a:xfrm>
              <a:off x="818028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椭圆 200"/>
          <p:cNvSpPr/>
          <p:nvPr/>
        </p:nvSpPr>
        <p:spPr>
          <a:xfrm>
            <a:off x="2413080" y="1674720"/>
            <a:ext cx="1724040" cy="172404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"/>
          <p:cNvSpPr/>
          <p:nvPr/>
        </p:nvSpPr>
        <p:spPr>
          <a:xfrm>
            <a:off x="2543040" y="2273400"/>
            <a:ext cx="1517760" cy="59688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椭圆 202"/>
          <p:cNvSpPr/>
          <p:nvPr/>
        </p:nvSpPr>
        <p:spPr>
          <a:xfrm>
            <a:off x="5438880" y="1684440"/>
            <a:ext cx="1724040" cy="1724040"/>
          </a:xfrm>
          <a:prstGeom prst="ellipse">
            <a:avLst/>
          </a:prstGeom>
          <a:solidFill>
            <a:srgbClr val="7f7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5"/>
          <p:cNvSpPr/>
          <p:nvPr/>
        </p:nvSpPr>
        <p:spPr>
          <a:xfrm>
            <a:off x="5568840" y="2282760"/>
            <a:ext cx="1517760" cy="59688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椭圆 204"/>
          <p:cNvSpPr/>
          <p:nvPr/>
        </p:nvSpPr>
        <p:spPr>
          <a:xfrm>
            <a:off x="8466120" y="1695600"/>
            <a:ext cx="1724040" cy="1724040"/>
          </a:xfrm>
          <a:prstGeom prst="ellipse">
            <a:avLst/>
          </a:prstGeom>
          <a:solidFill>
            <a:srgbClr val="f44ab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5"/>
          <p:cNvSpPr/>
          <p:nvPr/>
        </p:nvSpPr>
        <p:spPr>
          <a:xfrm>
            <a:off x="8594640" y="2292480"/>
            <a:ext cx="1517760" cy="59688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6F16-5665-4FED-B165-D0E65CC4A9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20"/>
          <p:cNvSpPr/>
          <p:nvPr/>
        </p:nvSpPr>
        <p:spPr>
          <a:xfrm>
            <a:off x="1550880" y="3287880"/>
            <a:ext cx="946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Thank you for liste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>
              <a:gd name="textAreaLeft" fmla="*/ 0 w 6156360"/>
              <a:gd name="textAreaRight" fmla="*/ 6156720 w 6156360"/>
              <a:gd name="textAreaTop" fmla="*/ 0 h 2416320"/>
              <a:gd name="textAreaBottom" fmla="*/ 2416680 h 241632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>
              <a:gd name="textAreaLeft" fmla="*/ 0 w 4240440"/>
              <a:gd name="textAreaRight" fmla="*/ 4240800 w 424044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571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>
                <a:gd name="textAreaLeft" fmla="*/ 0 w 2735640"/>
                <a:gd name="textAreaRight" fmla="*/ 2736000 w 27356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581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BE55-C4EC-47D9-BF03-8FCFBC1935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"/>
          <p:cNvSpPr/>
          <p:nvPr/>
        </p:nvSpPr>
        <p:spPr>
          <a:xfrm>
            <a:off x="0" y="69696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16"/>
          <p:cNvSpPr/>
          <p:nvPr/>
        </p:nvSpPr>
        <p:spPr>
          <a:xfrm>
            <a:off x="4282920" y="3129120"/>
            <a:ext cx="3097440" cy="3095640"/>
          </a:xfrm>
          <a:prstGeom prst="ellipse">
            <a:avLst/>
          </a:prstGeom>
          <a:solidFill>
            <a:srgbClr val="ee0f6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8"/>
          <p:cNvSpPr/>
          <p:nvPr/>
        </p:nvSpPr>
        <p:spPr>
          <a:xfrm>
            <a:off x="7870680" y="3900600"/>
            <a:ext cx="1295640" cy="1295280"/>
          </a:xfrm>
          <a:prstGeom prst="ellipse">
            <a:avLst/>
          </a:prstGeom>
          <a:solidFill>
            <a:srgbClr val="ee0f6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9"/>
          <p:cNvSpPr/>
          <p:nvPr/>
        </p:nvSpPr>
        <p:spPr>
          <a:xfrm>
            <a:off x="9339120" y="2152800"/>
            <a:ext cx="1944720" cy="1944360"/>
          </a:xfrm>
          <a:prstGeom prst="ellipse">
            <a:avLst/>
          </a:prstGeom>
          <a:solidFill>
            <a:srgbClr val="ee0f6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4"/>
          <p:cNvSpPr/>
          <p:nvPr/>
        </p:nvSpPr>
        <p:spPr>
          <a:xfrm>
            <a:off x="4257720" y="4575240"/>
            <a:ext cx="3211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5"/>
          <p:cNvSpPr/>
          <p:nvPr/>
        </p:nvSpPr>
        <p:spPr>
          <a:xfrm>
            <a:off x="8737560" y="3078000"/>
            <a:ext cx="3211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7"/>
          <p:cNvSpPr/>
          <p:nvPr/>
        </p:nvSpPr>
        <p:spPr>
          <a:xfrm>
            <a:off x="7746840" y="4540320"/>
            <a:ext cx="1606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9"/>
          <p:cNvSpPr/>
          <p:nvPr/>
        </p:nvSpPr>
        <p:spPr>
          <a:xfrm>
            <a:off x="5542200" y="344160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0"/>
          <p:cNvSpPr/>
          <p:nvPr/>
        </p:nvSpPr>
        <p:spPr>
          <a:xfrm>
            <a:off x="8293680" y="40068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1"/>
          <p:cNvSpPr/>
          <p:nvPr/>
        </p:nvSpPr>
        <p:spPr>
          <a:xfrm>
            <a:off x="10088640" y="2398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4"/>
          <p:cNvSpPr/>
          <p:nvPr/>
        </p:nvSpPr>
        <p:spPr>
          <a:xfrm flipV="1">
            <a:off x="2502000" y="1545840"/>
            <a:ext cx="1440" cy="1157400"/>
          </a:xfrm>
          <a:prstGeom prst="line">
            <a:avLst/>
          </a:prstGeom>
          <a:ln w="648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32"/>
          <p:cNvSpPr/>
          <p:nvPr/>
        </p:nvSpPr>
        <p:spPr>
          <a:xfrm flipV="1">
            <a:off x="5854680" y="1568520"/>
            <a:ext cx="1440" cy="1574640"/>
          </a:xfrm>
          <a:prstGeom prst="line">
            <a:avLst/>
          </a:prstGeom>
          <a:ln w="648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34"/>
          <p:cNvSpPr/>
          <p:nvPr/>
        </p:nvSpPr>
        <p:spPr>
          <a:xfrm flipV="1">
            <a:off x="8507520" y="1440000"/>
            <a:ext cx="1440" cy="2487600"/>
          </a:xfrm>
          <a:prstGeom prst="line">
            <a:avLst/>
          </a:prstGeom>
          <a:ln w="648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35"/>
          <p:cNvSpPr/>
          <p:nvPr/>
        </p:nvSpPr>
        <p:spPr>
          <a:xfrm flipV="1">
            <a:off x="10283760" y="1525320"/>
            <a:ext cx="1800" cy="633240"/>
          </a:xfrm>
          <a:prstGeom prst="line">
            <a:avLst/>
          </a:prstGeom>
          <a:ln w="648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7"/>
          <p:cNvSpPr/>
          <p:nvPr/>
        </p:nvSpPr>
        <p:spPr>
          <a:xfrm>
            <a:off x="1374840" y="2703600"/>
            <a:ext cx="2254320" cy="2254320"/>
          </a:xfrm>
          <a:prstGeom prst="ellipse">
            <a:avLst/>
          </a:prstGeom>
          <a:solidFill>
            <a:srgbClr val="ee0f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3"/>
          <p:cNvSpPr/>
          <p:nvPr/>
        </p:nvSpPr>
        <p:spPr>
          <a:xfrm>
            <a:off x="1230480" y="3745080"/>
            <a:ext cx="26650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8"/>
          <p:cNvSpPr/>
          <p:nvPr/>
        </p:nvSpPr>
        <p:spPr>
          <a:xfrm>
            <a:off x="2260800" y="290196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9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等腰三角形 50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1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等腰三角形 52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C1F9-6E8B-4BC1-AA8F-3D4E92CCBF5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90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00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FC1A-883C-47B7-9F72-DF934177C27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29"/>
          <p:cNvSpPr/>
          <p:nvPr/>
        </p:nvSpPr>
        <p:spPr>
          <a:xfrm>
            <a:off x="1387440" y="1174680"/>
            <a:ext cx="54864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Test Tubes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0"/>
          <p:cNvGrpSpPr/>
          <p:nvPr/>
        </p:nvGrpSpPr>
        <p:grpSpPr>
          <a:xfrm>
            <a:off x="1415880" y="2425680"/>
            <a:ext cx="3476880" cy="1308240"/>
            <a:chOff x="1415880" y="2425680"/>
            <a:chExt cx="3476880" cy="1308240"/>
          </a:xfrm>
        </p:grpSpPr>
        <p:sp>
          <p:nvSpPr>
            <p:cNvPr id="113" name="Rectangle 41"/>
            <p:cNvSpPr/>
            <p:nvPr/>
          </p:nvSpPr>
          <p:spPr>
            <a:xfrm>
              <a:off x="1415880" y="2425680"/>
              <a:ext cx="27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2"/>
            <p:cNvSpPr/>
            <p:nvPr/>
          </p:nvSpPr>
          <p:spPr>
            <a:xfrm>
              <a:off x="1415880" y="2758680"/>
              <a:ext cx="34768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43"/>
          <p:cNvGrpSpPr/>
          <p:nvPr/>
        </p:nvGrpSpPr>
        <p:grpSpPr>
          <a:xfrm>
            <a:off x="7346880" y="4699080"/>
            <a:ext cx="3475080" cy="1306440"/>
            <a:chOff x="7346880" y="4699080"/>
            <a:chExt cx="3475080" cy="1306440"/>
          </a:xfrm>
        </p:grpSpPr>
        <p:sp>
          <p:nvSpPr>
            <p:cNvPr id="116" name="Rectangle 44"/>
            <p:cNvSpPr/>
            <p:nvPr/>
          </p:nvSpPr>
          <p:spPr>
            <a:xfrm>
              <a:off x="7346880" y="469908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5"/>
            <p:cNvSpPr/>
            <p:nvPr/>
          </p:nvSpPr>
          <p:spPr>
            <a:xfrm>
              <a:off x="7346880" y="50313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Freeform 5"/>
          <p:cNvSpPr/>
          <p:nvPr/>
        </p:nvSpPr>
        <p:spPr>
          <a:xfrm>
            <a:off x="4525920" y="3375000"/>
            <a:ext cx="3222720" cy="126540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400"/>
              <a:gd name="textAreaBottom" fmla="*/ 1265760 h 126540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0A87-1C86-470F-AD20-24FD1F4836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3706920" y="1486080"/>
            <a:ext cx="4774680" cy="4635000"/>
            <a:chOff x="3706920" y="1486080"/>
            <a:chExt cx="4774680" cy="4635000"/>
          </a:xfrm>
        </p:grpSpPr>
        <p:sp>
          <p:nvSpPr>
            <p:cNvPr id="126" name="Freeform 4"/>
            <p:cNvSpPr/>
            <p:nvPr/>
          </p:nvSpPr>
          <p:spPr>
            <a:xfrm>
              <a:off x="3993840" y="1486080"/>
              <a:ext cx="2487240" cy="2055960"/>
            </a:xfrm>
            <a:custGeom>
              <a:avLst/>
              <a:gdLst>
                <a:gd name="textAreaLeft" fmla="*/ 0 w 2487240"/>
                <a:gd name="textAreaRight" fmla="*/ 2487600 w 2487240"/>
                <a:gd name="textAreaTop" fmla="*/ 0 h 2055960"/>
                <a:gd name="textAreaBottom" fmla="*/ 2056320 h 2055960"/>
              </a:gdLst>
              <a:ahLst/>
              <a:rect l="textAreaLeft" t="textAreaTop" r="textAreaRight" b="textAreaBottom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5657760" y="4056120"/>
              <a:ext cx="2430720" cy="2064960"/>
            </a:xfrm>
            <a:custGeom>
              <a:avLst/>
              <a:gdLst>
                <a:gd name="textAreaLeft" fmla="*/ 0 w 2430720"/>
                <a:gd name="textAreaRight" fmla="*/ 2431080 w 2430720"/>
                <a:gd name="textAreaTop" fmla="*/ 0 h 2064960"/>
                <a:gd name="textAreaBottom" fmla="*/ 2065320 h 2064960"/>
              </a:gdLst>
              <a:ahLst/>
              <a:rect l="textAreaLeft" t="textAreaTop" r="textAreaRight" b="textAreaBottom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>
              <a:off x="3706920" y="3304440"/>
              <a:ext cx="2188440" cy="2455920"/>
            </a:xfrm>
            <a:custGeom>
              <a:avLst/>
              <a:gdLst>
                <a:gd name="textAreaLeft" fmla="*/ 0 w 2188440"/>
                <a:gd name="textAreaRight" fmla="*/ 2188800 w 2188440"/>
                <a:gd name="textAreaTop" fmla="*/ 0 h 2455920"/>
                <a:gd name="textAreaBottom" fmla="*/ 2456280 h 2455920"/>
              </a:gdLst>
              <a:ahLst/>
              <a:rect l="textAreaLeft" t="textAreaTop" r="textAreaRight" b="textAreaBottom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7"/>
            <p:cNvSpPr/>
            <p:nvPr/>
          </p:nvSpPr>
          <p:spPr>
            <a:xfrm>
              <a:off x="6262560" y="1810080"/>
              <a:ext cx="2219040" cy="2433240"/>
            </a:xfrm>
            <a:custGeom>
              <a:avLst/>
              <a:gdLst>
                <a:gd name="textAreaLeft" fmla="*/ 0 w 2219040"/>
                <a:gd name="textAreaRight" fmla="*/ 2219400 w 2219040"/>
                <a:gd name="textAreaTop" fmla="*/ 0 h 2433240"/>
                <a:gd name="textAreaBottom" fmla="*/ 2433600 h 2433240"/>
              </a:gdLst>
              <a:ahLst/>
              <a:rect l="textAreaLeft" t="textAreaTop" r="textAreaRight" b="textAreaBottom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20"/>
          <p:cNvSpPr/>
          <p:nvPr/>
        </p:nvSpPr>
        <p:spPr>
          <a:xfrm>
            <a:off x="2116080" y="180972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1"/>
          <p:cNvSpPr/>
          <p:nvPr/>
        </p:nvSpPr>
        <p:spPr>
          <a:xfrm>
            <a:off x="211608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22"/>
          <p:cNvSpPr/>
          <p:nvPr/>
        </p:nvSpPr>
        <p:spPr>
          <a:xfrm>
            <a:off x="8143920" y="180972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3"/>
          <p:cNvSpPr/>
          <p:nvPr/>
        </p:nvSpPr>
        <p:spPr>
          <a:xfrm>
            <a:off x="814392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24"/>
          <p:cNvSpPr/>
          <p:nvPr/>
        </p:nvSpPr>
        <p:spPr>
          <a:xfrm>
            <a:off x="8143920" y="538488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5"/>
          <p:cNvSpPr/>
          <p:nvPr/>
        </p:nvSpPr>
        <p:spPr>
          <a:xfrm>
            <a:off x="814392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26"/>
          <p:cNvSpPr/>
          <p:nvPr/>
        </p:nvSpPr>
        <p:spPr>
          <a:xfrm>
            <a:off x="2116080" y="538488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7"/>
          <p:cNvSpPr/>
          <p:nvPr/>
        </p:nvSpPr>
        <p:spPr>
          <a:xfrm>
            <a:off x="211608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14E4-D951-48AB-A50E-CD98A7D2D9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表 78" descr=""/>
          <p:cNvPicPr/>
          <p:nvPr/>
        </p:nvPicPr>
        <p:blipFill>
          <a:blip r:embed="rId1"/>
          <a:stretch/>
        </p:blipFill>
        <p:spPr>
          <a:xfrm>
            <a:off x="3254400" y="158112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42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0"/>
          <p:cNvGrpSpPr/>
          <p:nvPr/>
        </p:nvGrpSpPr>
        <p:grpSpPr>
          <a:xfrm>
            <a:off x="358920" y="3197160"/>
            <a:ext cx="3476520" cy="1306440"/>
            <a:chOff x="358920" y="3197160"/>
            <a:chExt cx="3476520" cy="1306440"/>
          </a:xfrm>
        </p:grpSpPr>
        <p:sp>
          <p:nvSpPr>
            <p:cNvPr id="146" name="Rectangle 41"/>
            <p:cNvSpPr/>
            <p:nvPr/>
          </p:nvSpPr>
          <p:spPr>
            <a:xfrm>
              <a:off x="358920" y="3197160"/>
              <a:ext cx="2743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2"/>
            <p:cNvSpPr/>
            <p:nvPr/>
          </p:nvSpPr>
          <p:spPr>
            <a:xfrm>
              <a:off x="358920" y="3529440"/>
              <a:ext cx="34765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43"/>
          <p:cNvGrpSpPr/>
          <p:nvPr/>
        </p:nvGrpSpPr>
        <p:grpSpPr>
          <a:xfrm>
            <a:off x="8248680" y="4767120"/>
            <a:ext cx="3475080" cy="1306800"/>
            <a:chOff x="8248680" y="4767120"/>
            <a:chExt cx="3475080" cy="1306800"/>
          </a:xfrm>
        </p:grpSpPr>
        <p:sp>
          <p:nvSpPr>
            <p:cNvPr id="149" name="Rectangle 44"/>
            <p:cNvSpPr/>
            <p:nvPr/>
          </p:nvSpPr>
          <p:spPr>
            <a:xfrm>
              <a:off x="8248680" y="476712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5"/>
            <p:cNvSpPr/>
            <p:nvPr/>
          </p:nvSpPr>
          <p:spPr>
            <a:xfrm>
              <a:off x="8248680" y="50997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Freeform 5"/>
          <p:cNvSpPr/>
          <p:nvPr/>
        </p:nvSpPr>
        <p:spPr>
          <a:xfrm>
            <a:off x="747720" y="1986120"/>
            <a:ext cx="2054160" cy="80640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5"/>
          <p:cNvSpPr/>
          <p:nvPr/>
        </p:nvSpPr>
        <p:spPr>
          <a:xfrm>
            <a:off x="8593200" y="3697200"/>
            <a:ext cx="2054160" cy="80640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le 29"/>
          <p:cNvSpPr/>
          <p:nvPr/>
        </p:nvSpPr>
        <p:spPr>
          <a:xfrm>
            <a:off x="5160960" y="3227400"/>
            <a:ext cx="23828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e0f68"/>
                </a:solidFill>
                <a:latin typeface="Calibri Light"/>
              </a:rPr>
              <a:t>88</a:t>
            </a:r>
            <a:r>
              <a:rPr b="1" lang="en-US" sz="5400" spc="-1" strike="noStrike">
                <a:solidFill>
                  <a:srgbClr val="ee0f68"/>
                </a:solidFill>
                <a:latin typeface="Calibri Light"/>
              </a:rPr>
              <a:t>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1009-6199-4372-BDAE-1B1CEDF29E4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164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74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269F-EB9D-4713-94B1-ABA1F6DDB6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任意多边形 69"/>
          <p:cNvSpPr/>
          <p:nvPr/>
        </p:nvSpPr>
        <p:spPr>
          <a:xfrm>
            <a:off x="6340320" y="2484360"/>
            <a:ext cx="2465640" cy="2125800"/>
          </a:xfrm>
          <a:custGeom>
            <a:avLst/>
            <a:gdLst>
              <a:gd name="textAreaLeft" fmla="*/ 0 w 2465640"/>
              <a:gd name="textAreaRight" fmla="*/ 2466000 w 2465640"/>
              <a:gd name="textAreaTop" fmla="*/ 0 h 2125800"/>
              <a:gd name="textAreaBottom" fmla="*/ 2126160 h 2125800"/>
            </a:gdLst>
            <a:ahLst/>
            <a:rect l="textAreaLeft" t="textAreaTop" r="textAreaRight" b="textAreaBottom"/>
            <a:pathLst>
              <a:path w="2465294" h="2125612">
                <a:moveTo>
                  <a:pt x="2126117" y="643820"/>
                </a:moveTo>
                <a:lnTo>
                  <a:pt x="2203492" y="667839"/>
                </a:lnTo>
                <a:cubicBezTo>
                  <a:pt x="2357342" y="732912"/>
                  <a:pt x="2465294" y="885252"/>
                  <a:pt x="2465294" y="1062806"/>
                </a:cubicBezTo>
                <a:cubicBezTo>
                  <a:pt x="2465294" y="1240360"/>
                  <a:pt x="2357342" y="1392701"/>
                  <a:pt x="2203492" y="1457774"/>
                </a:cubicBezTo>
                <a:lnTo>
                  <a:pt x="2126117" y="1481792"/>
                </a:lnTo>
                <a:lnTo>
                  <a:pt x="2126117" y="643820"/>
                </a:lnTo>
                <a:close/>
                <a:moveTo>
                  <a:pt x="0" y="0"/>
                </a:moveTo>
                <a:lnTo>
                  <a:pt x="2126117" y="0"/>
                </a:lnTo>
                <a:lnTo>
                  <a:pt x="2126117" y="643820"/>
                </a:lnTo>
                <a:lnTo>
                  <a:pt x="2123030" y="642862"/>
                </a:lnTo>
                <a:cubicBezTo>
                  <a:pt x="2095125" y="637152"/>
                  <a:pt x="2066233" y="634153"/>
                  <a:pt x="2036641" y="634153"/>
                </a:cubicBezTo>
                <a:cubicBezTo>
                  <a:pt x="1799902" y="634153"/>
                  <a:pt x="1607988" y="826067"/>
                  <a:pt x="1607988" y="1062806"/>
                </a:cubicBezTo>
                <a:cubicBezTo>
                  <a:pt x="1607988" y="1299545"/>
                  <a:pt x="1799902" y="1491459"/>
                  <a:pt x="2036641" y="1491459"/>
                </a:cubicBezTo>
                <a:cubicBezTo>
                  <a:pt x="2066233" y="1491459"/>
                  <a:pt x="2095125" y="1488460"/>
                  <a:pt x="2123030" y="1482750"/>
                </a:cubicBezTo>
                <a:lnTo>
                  <a:pt x="2126117" y="1481792"/>
                </a:lnTo>
                <a:lnTo>
                  <a:pt x="2126117" y="2125612"/>
                </a:lnTo>
                <a:lnTo>
                  <a:pt x="0" y="2125612"/>
                </a:lnTo>
                <a:lnTo>
                  <a:pt x="0" y="0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任意多边形 68"/>
          <p:cNvSpPr/>
          <p:nvPr/>
        </p:nvSpPr>
        <p:spPr>
          <a:xfrm>
            <a:off x="3003480" y="2484360"/>
            <a:ext cx="2482920" cy="2125800"/>
          </a:xfrm>
          <a:custGeom>
            <a:avLst/>
            <a:gdLst>
              <a:gd name="textAreaLeft" fmla="*/ 0 w 2482920"/>
              <a:gd name="textAreaRight" fmla="*/ 2483280 w 2482920"/>
              <a:gd name="textAreaTop" fmla="*/ 0 h 2125800"/>
              <a:gd name="textAreaBottom" fmla="*/ 2126160 h 2125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38"/>
          <p:cNvGrpSpPr/>
          <p:nvPr/>
        </p:nvGrpSpPr>
        <p:grpSpPr>
          <a:xfrm>
            <a:off x="1295280" y="2116080"/>
            <a:ext cx="1533600" cy="2737800"/>
            <a:chOff x="1295280" y="2116080"/>
            <a:chExt cx="1533600" cy="2737800"/>
          </a:xfrm>
        </p:grpSpPr>
        <p:sp>
          <p:nvSpPr>
            <p:cNvPr id="188" name="文本框 20"/>
            <p:cNvSpPr/>
            <p:nvPr/>
          </p:nvSpPr>
          <p:spPr>
            <a:xfrm>
              <a:off x="133308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40"/>
            <p:cNvSpPr/>
            <p:nvPr/>
          </p:nvSpPr>
          <p:spPr>
            <a:xfrm>
              <a:off x="1295280" y="2116080"/>
              <a:ext cx="1457640" cy="45972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20"/>
            <p:cNvSpPr/>
            <p:nvPr/>
          </p:nvSpPr>
          <p:spPr>
            <a:xfrm>
              <a:off x="133308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20"/>
            <p:cNvSpPr/>
            <p:nvPr/>
          </p:nvSpPr>
          <p:spPr>
            <a:xfrm>
              <a:off x="133308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20"/>
            <p:cNvSpPr/>
            <p:nvPr/>
          </p:nvSpPr>
          <p:spPr>
            <a:xfrm>
              <a:off x="133308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本框 44"/>
            <p:cNvSpPr/>
            <p:nvPr/>
          </p:nvSpPr>
          <p:spPr>
            <a:xfrm>
              <a:off x="133308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20"/>
            <p:cNvSpPr/>
            <p:nvPr/>
          </p:nvSpPr>
          <p:spPr>
            <a:xfrm>
              <a:off x="133308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20"/>
            <p:cNvSpPr/>
            <p:nvPr/>
          </p:nvSpPr>
          <p:spPr>
            <a:xfrm>
              <a:off x="133308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49"/>
          <p:cNvGrpSpPr/>
          <p:nvPr/>
        </p:nvGrpSpPr>
        <p:grpSpPr>
          <a:xfrm>
            <a:off x="9213840" y="2116080"/>
            <a:ext cx="1533600" cy="2737800"/>
            <a:chOff x="9213840" y="2116080"/>
            <a:chExt cx="1533600" cy="2737800"/>
          </a:xfrm>
        </p:grpSpPr>
        <p:sp>
          <p:nvSpPr>
            <p:cNvPr id="197" name="文本框 20"/>
            <p:cNvSpPr/>
            <p:nvPr/>
          </p:nvSpPr>
          <p:spPr>
            <a:xfrm>
              <a:off x="925164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51"/>
            <p:cNvSpPr/>
            <p:nvPr/>
          </p:nvSpPr>
          <p:spPr>
            <a:xfrm>
              <a:off x="9213840" y="2116080"/>
              <a:ext cx="1457640" cy="4597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20"/>
            <p:cNvSpPr/>
            <p:nvPr/>
          </p:nvSpPr>
          <p:spPr>
            <a:xfrm>
              <a:off x="925164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20"/>
            <p:cNvSpPr/>
            <p:nvPr/>
          </p:nvSpPr>
          <p:spPr>
            <a:xfrm>
              <a:off x="925164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20"/>
            <p:cNvSpPr/>
            <p:nvPr/>
          </p:nvSpPr>
          <p:spPr>
            <a:xfrm>
              <a:off x="925164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55"/>
            <p:cNvSpPr/>
            <p:nvPr/>
          </p:nvSpPr>
          <p:spPr>
            <a:xfrm>
              <a:off x="925164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20"/>
            <p:cNvSpPr/>
            <p:nvPr/>
          </p:nvSpPr>
          <p:spPr>
            <a:xfrm>
              <a:off x="925164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20"/>
            <p:cNvSpPr/>
            <p:nvPr/>
          </p:nvSpPr>
          <p:spPr>
            <a:xfrm>
              <a:off x="925164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8"/>
          <p:cNvSpPr/>
          <p:nvPr/>
        </p:nvSpPr>
        <p:spPr>
          <a:xfrm>
            <a:off x="3567240" y="3071880"/>
            <a:ext cx="20476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6211800" y="3022560"/>
            <a:ext cx="20480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0390-385A-4E9C-B027-849474B49E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7"/>
          <p:cNvSpPr/>
          <p:nvPr/>
        </p:nvSpPr>
        <p:spPr>
          <a:xfrm>
            <a:off x="3021120" y="1325520"/>
            <a:ext cx="2889000" cy="2324160"/>
          </a:xfrm>
          <a:custGeom>
            <a:avLst/>
            <a:gdLst>
              <a:gd name="textAreaLeft" fmla="*/ 0 w 2889000"/>
              <a:gd name="textAreaRight" fmla="*/ 2889360 w 2889000"/>
              <a:gd name="textAreaTop" fmla="*/ 0 h 2324160"/>
              <a:gd name="textAreaBottom" fmla="*/ 2324520 h 23241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8"/>
          <p:cNvSpPr/>
          <p:nvPr/>
        </p:nvSpPr>
        <p:spPr>
          <a:xfrm>
            <a:off x="3021120" y="3895560"/>
            <a:ext cx="2889000" cy="2325960"/>
          </a:xfrm>
          <a:custGeom>
            <a:avLst/>
            <a:gdLst>
              <a:gd name="textAreaLeft" fmla="*/ 0 w 2889000"/>
              <a:gd name="textAreaRight" fmla="*/ 2889360 w 2889000"/>
              <a:gd name="textAreaTop" fmla="*/ 0 h 2325960"/>
              <a:gd name="textAreaBottom" fmla="*/ 2326320 h 23259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9"/>
          <p:cNvSpPr/>
          <p:nvPr/>
        </p:nvSpPr>
        <p:spPr>
          <a:xfrm rot="10800000">
            <a:off x="6225840" y="1325160"/>
            <a:ext cx="2917800" cy="232416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2324160"/>
              <a:gd name="textAreaBottom" fmla="*/ 2324520 h 23241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10"/>
          <p:cNvSpPr/>
          <p:nvPr/>
        </p:nvSpPr>
        <p:spPr>
          <a:xfrm rot="10800000">
            <a:off x="6225840" y="3895200"/>
            <a:ext cx="2917800" cy="232596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2325960"/>
              <a:gd name="textAreaBottom" fmla="*/ 2326320 h 23259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11"/>
          <p:cNvGrpSpPr/>
          <p:nvPr/>
        </p:nvGrpSpPr>
        <p:grpSpPr>
          <a:xfrm>
            <a:off x="4416480" y="2041560"/>
            <a:ext cx="1495440" cy="691920"/>
            <a:chOff x="4416480" y="2041560"/>
            <a:chExt cx="1495440" cy="691920"/>
          </a:xfrm>
        </p:grpSpPr>
        <p:sp>
          <p:nvSpPr>
            <p:cNvPr id="218" name="文本框 12"/>
            <p:cNvSpPr/>
            <p:nvPr/>
          </p:nvSpPr>
          <p:spPr>
            <a:xfrm>
              <a:off x="4416480" y="242640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文本框 20"/>
            <p:cNvSpPr/>
            <p:nvPr/>
          </p:nvSpPr>
          <p:spPr>
            <a:xfrm>
              <a:off x="4416480" y="20415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4"/>
          <p:cNvGrpSpPr/>
          <p:nvPr/>
        </p:nvGrpSpPr>
        <p:grpSpPr>
          <a:xfrm>
            <a:off x="6527880" y="2041560"/>
            <a:ext cx="1757160" cy="729000"/>
            <a:chOff x="6527880" y="2041560"/>
            <a:chExt cx="1757160" cy="729000"/>
          </a:xfrm>
        </p:grpSpPr>
        <p:sp>
          <p:nvSpPr>
            <p:cNvPr id="221" name="文本框 15"/>
            <p:cNvSpPr/>
            <p:nvPr/>
          </p:nvSpPr>
          <p:spPr>
            <a:xfrm>
              <a:off x="6527880" y="24634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文本框 20"/>
            <p:cNvSpPr/>
            <p:nvPr/>
          </p:nvSpPr>
          <p:spPr>
            <a:xfrm>
              <a:off x="6527880" y="204156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17"/>
          <p:cNvGrpSpPr/>
          <p:nvPr/>
        </p:nvGrpSpPr>
        <p:grpSpPr>
          <a:xfrm>
            <a:off x="4321080" y="4630680"/>
            <a:ext cx="1495440" cy="691920"/>
            <a:chOff x="4321080" y="4630680"/>
            <a:chExt cx="1495440" cy="691920"/>
          </a:xfrm>
        </p:grpSpPr>
        <p:sp>
          <p:nvSpPr>
            <p:cNvPr id="224" name="文本框 18"/>
            <p:cNvSpPr/>
            <p:nvPr/>
          </p:nvSpPr>
          <p:spPr>
            <a:xfrm>
              <a:off x="4321080" y="5015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20"/>
            <p:cNvSpPr/>
            <p:nvPr/>
          </p:nvSpPr>
          <p:spPr>
            <a:xfrm>
              <a:off x="4321080" y="463068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20"/>
          <p:cNvGrpSpPr/>
          <p:nvPr/>
        </p:nvGrpSpPr>
        <p:grpSpPr>
          <a:xfrm>
            <a:off x="6434280" y="4630680"/>
            <a:ext cx="1757160" cy="728280"/>
            <a:chOff x="6434280" y="4630680"/>
            <a:chExt cx="1757160" cy="728280"/>
          </a:xfrm>
        </p:grpSpPr>
        <p:sp>
          <p:nvSpPr>
            <p:cNvPr id="227" name="文本框 21"/>
            <p:cNvSpPr/>
            <p:nvPr/>
          </p:nvSpPr>
          <p:spPr>
            <a:xfrm>
              <a:off x="6434280" y="50518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20"/>
            <p:cNvSpPr/>
            <p:nvPr/>
          </p:nvSpPr>
          <p:spPr>
            <a:xfrm>
              <a:off x="6434280" y="463068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菱形 1"/>
          <p:cNvSpPr/>
          <p:nvPr/>
        </p:nvSpPr>
        <p:spPr>
          <a:xfrm>
            <a:off x="5524560" y="3308400"/>
            <a:ext cx="1066680" cy="106524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2:47:00Z</dcterms:created>
  <dc:creator>Sky123.Org</dc:creator>
  <dc:description/>
  <cp:keywords/>
  <dc:language>en-US</dc:language>
  <cp:lastModifiedBy>Administrator</cp:lastModifiedBy>
  <dcterms:modified xsi:type="dcterms:W3CDTF">2016-07-25T10:57:46Z</dcterms:modified>
  <cp:revision>56</cp:revision>
  <dc:subject/>
  <dc:title>深蓝极简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