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图片 2" descr=""/>
          <p:cNvPicPr/>
          <p:nvPr/>
        </p:nvPicPr>
        <p:blipFill>
          <a:blip r:embed="rId1"/>
          <a:srcRect l="0" t="0" r="0" b="-33"/>
          <a:stretch/>
        </p:blipFill>
        <p:spPr>
          <a:xfrm>
            <a:off x="0" y="0"/>
            <a:ext cx="12192120" cy="6858000"/>
          </a:xfrm>
          <a:prstGeom prst="rect">
            <a:avLst/>
          </a:prstGeom>
          <a:ln w="0">
            <a:noFill/>
          </a:ln>
        </p:spPr>
      </p:pic>
      <p:sp>
        <p:nvSpPr>
          <p:cNvPr id="37" name="矩形 5"/>
          <p:cNvSpPr/>
          <p:nvPr/>
        </p:nvSpPr>
        <p:spPr>
          <a:xfrm rot="20347800">
            <a:off x="2526840" y="1305360"/>
            <a:ext cx="713124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5400" spc="-1" strike="noStrike">
                <a:solidFill>
                  <a:srgbClr val="22f2cc"/>
                </a:solidFill>
                <a:latin typeface="微软雅黑"/>
                <a:ea typeface="微软雅黑"/>
              </a:rPr>
              <a:t>POWERPOINT</a:t>
            </a:r>
            <a:r>
              <a:rPr b="1" lang="en-US" sz="5400" spc="-1" strike="noStrike">
                <a:solidFill>
                  <a:srgbClr val="ffffff"/>
                </a:solidFill>
                <a:latin typeface="微软雅黑"/>
                <a:ea typeface="微软雅黑"/>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8800" spc="-1" strike="noStrike">
                <a:solidFill>
                  <a:srgbClr val="ffa146"/>
                </a:solidFill>
                <a:latin typeface="微软雅黑"/>
                <a:ea typeface="微软雅黑"/>
              </a:rPr>
              <a:t>TEMPLATES</a:t>
            </a:r>
            <a:endParaRPr b="0" lang="en-US" sz="8800" spc="-1" strike="noStrike">
              <a:solidFill>
                <a:srgbClr val="000000"/>
              </a:solidFill>
              <a:latin typeface="Arial"/>
            </a:endParaRPr>
          </a:p>
        </p:txBody>
      </p:sp>
      <p:sp>
        <p:nvSpPr>
          <p:cNvPr id="38" name="文本框 7"/>
          <p:cNvSpPr/>
          <p:nvPr/>
        </p:nvSpPr>
        <p:spPr>
          <a:xfrm rot="20347800">
            <a:off x="5597280" y="3565080"/>
            <a:ext cx="2290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汇报人： </a:t>
            </a:r>
            <a:r>
              <a:rPr b="0" lang="en-US" sz="1600" spc="-1" strike="noStrike">
                <a:solidFill>
                  <a:srgbClr val="ffffff"/>
                </a:solidFill>
                <a:latin typeface="微软雅黑"/>
                <a:ea typeface="微软雅黑"/>
              </a:rPr>
              <a:t>yu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汇报时间： </a:t>
            </a:r>
            <a:r>
              <a:rPr b="0" lang="en-US" sz="1600" spc="-1" strike="noStrike">
                <a:solidFill>
                  <a:srgbClr val="ffffff"/>
                </a:solidFill>
                <a:latin typeface="微软雅黑"/>
                <a:ea typeface="微软雅黑"/>
              </a:rPr>
              <a:t>2016.07</a:t>
            </a:r>
            <a:endParaRPr b="0" lang="en-US" sz="1600" spc="-1" strike="noStrike">
              <a:solidFill>
                <a:srgbClr val="000000"/>
              </a:solidFill>
              <a:latin typeface="Arial"/>
            </a:endParaRPr>
          </a:p>
        </p:txBody>
      </p:sp>
      <p:sp>
        <p:nvSpPr>
          <p:cNvPr id="39" name="KSO_Shape"/>
          <p:cNvSpPr/>
          <p:nvPr/>
        </p:nvSpPr>
        <p:spPr>
          <a:xfrm>
            <a:off x="6832440" y="5048280"/>
            <a:ext cx="1524240" cy="1612800"/>
          </a:xfrm>
          <a:custGeom>
            <a:avLst/>
            <a:gdLst>
              <a:gd name="textAreaLeft" fmla="*/ 0 w 1524240"/>
              <a:gd name="textAreaRight" fmla="*/ 1524600 w 1524240"/>
              <a:gd name="textAreaTop" fmla="*/ 0 h 1612800"/>
              <a:gd name="textAreaBottom" fmla="*/ 1613160 h 1612800"/>
            </a:gdLst>
            <a:ahLst/>
            <a:rect l="textAreaLeft" t="textAreaTop" r="textAreaRight" b="textAreaBottom"/>
            <a:pathLst>
              <a:path w="3476" h="3680">
                <a:moveTo>
                  <a:pt x="1280" y="921"/>
                </a:moveTo>
                <a:cubicBezTo>
                  <a:pt x="1329" y="985"/>
                  <a:pt x="1340" y="1066"/>
                  <a:pt x="1318" y="1137"/>
                </a:cubicBezTo>
                <a:cubicBezTo>
                  <a:pt x="1477" y="1346"/>
                  <a:pt x="1477" y="1346"/>
                  <a:pt x="1477" y="1346"/>
                </a:cubicBezTo>
                <a:cubicBezTo>
                  <a:pt x="2227" y="777"/>
                  <a:pt x="2227" y="777"/>
                  <a:pt x="2227" y="777"/>
                </a:cubicBezTo>
                <a:cubicBezTo>
                  <a:pt x="2522" y="1184"/>
                  <a:pt x="2497" y="1730"/>
                  <a:pt x="2195" y="2107"/>
                </a:cubicBezTo>
                <a:cubicBezTo>
                  <a:pt x="3077" y="3044"/>
                  <a:pt x="3077" y="3044"/>
                  <a:pt x="3077" y="3044"/>
                </a:cubicBezTo>
                <a:cubicBezTo>
                  <a:pt x="3476" y="3044"/>
                  <a:pt x="3476" y="3044"/>
                  <a:pt x="3476" y="3044"/>
                </a:cubicBezTo>
                <a:cubicBezTo>
                  <a:pt x="3476" y="3680"/>
                  <a:pt x="3476" y="3680"/>
                  <a:pt x="3476" y="3680"/>
                </a:cubicBezTo>
                <a:cubicBezTo>
                  <a:pt x="1431" y="3680"/>
                  <a:pt x="1431" y="3680"/>
                  <a:pt x="1431" y="3680"/>
                </a:cubicBezTo>
                <a:cubicBezTo>
                  <a:pt x="1431" y="3044"/>
                  <a:pt x="1431" y="3044"/>
                  <a:pt x="1431" y="3044"/>
                </a:cubicBezTo>
                <a:cubicBezTo>
                  <a:pt x="1566" y="3044"/>
                  <a:pt x="1566" y="3044"/>
                  <a:pt x="1566" y="3044"/>
                </a:cubicBezTo>
                <a:cubicBezTo>
                  <a:pt x="1566" y="2494"/>
                  <a:pt x="1566" y="2494"/>
                  <a:pt x="1566" y="2494"/>
                </a:cubicBezTo>
                <a:cubicBezTo>
                  <a:pt x="1171" y="2577"/>
                  <a:pt x="746" y="2438"/>
                  <a:pt x="480" y="2102"/>
                </a:cubicBezTo>
                <a:cubicBezTo>
                  <a:pt x="1251" y="1517"/>
                  <a:pt x="1251" y="1517"/>
                  <a:pt x="1251" y="1517"/>
                </a:cubicBezTo>
                <a:cubicBezTo>
                  <a:pt x="1090" y="1304"/>
                  <a:pt x="1090" y="1304"/>
                  <a:pt x="1090" y="1304"/>
                </a:cubicBezTo>
                <a:cubicBezTo>
                  <a:pt x="1018" y="1304"/>
                  <a:pt x="947" y="1272"/>
                  <a:pt x="900" y="1210"/>
                </a:cubicBezTo>
                <a:cubicBezTo>
                  <a:pt x="820" y="1105"/>
                  <a:pt x="841" y="955"/>
                  <a:pt x="946" y="875"/>
                </a:cubicBezTo>
                <a:cubicBezTo>
                  <a:pt x="1051" y="796"/>
                  <a:pt x="1201" y="816"/>
                  <a:pt x="1280" y="921"/>
                </a:cubicBezTo>
                <a:close/>
                <a:moveTo>
                  <a:pt x="0" y="851"/>
                </a:moveTo>
                <a:cubicBezTo>
                  <a:pt x="217" y="914"/>
                  <a:pt x="217" y="914"/>
                  <a:pt x="217" y="914"/>
                </a:cubicBezTo>
                <a:cubicBezTo>
                  <a:pt x="286" y="678"/>
                  <a:pt x="401" y="506"/>
                  <a:pt x="562" y="394"/>
                </a:cubicBezTo>
                <a:cubicBezTo>
                  <a:pt x="726" y="281"/>
                  <a:pt x="940" y="227"/>
                  <a:pt x="1202" y="230"/>
                </a:cubicBezTo>
                <a:cubicBezTo>
                  <a:pt x="1204" y="4"/>
                  <a:pt x="1204" y="4"/>
                  <a:pt x="1204" y="4"/>
                </a:cubicBezTo>
                <a:cubicBezTo>
                  <a:pt x="894" y="0"/>
                  <a:pt x="636" y="68"/>
                  <a:pt x="434" y="208"/>
                </a:cubicBezTo>
                <a:cubicBezTo>
                  <a:pt x="229" y="350"/>
                  <a:pt x="84" y="564"/>
                  <a:pt x="0" y="851"/>
                </a:cubicBezTo>
                <a:close/>
                <a:moveTo>
                  <a:pt x="447" y="899"/>
                </a:moveTo>
                <a:cubicBezTo>
                  <a:pt x="665" y="962"/>
                  <a:pt x="665" y="962"/>
                  <a:pt x="665" y="962"/>
                </a:cubicBezTo>
                <a:cubicBezTo>
                  <a:pt x="698" y="848"/>
                  <a:pt x="753" y="765"/>
                  <a:pt x="830" y="712"/>
                </a:cubicBezTo>
                <a:cubicBezTo>
                  <a:pt x="908" y="657"/>
                  <a:pt x="1013" y="631"/>
                  <a:pt x="1143" y="633"/>
                </a:cubicBezTo>
                <a:cubicBezTo>
                  <a:pt x="1145" y="406"/>
                  <a:pt x="1145" y="406"/>
                  <a:pt x="1145" y="406"/>
                </a:cubicBezTo>
                <a:cubicBezTo>
                  <a:pt x="967" y="405"/>
                  <a:pt x="819" y="444"/>
                  <a:pt x="701" y="526"/>
                </a:cubicBezTo>
                <a:cubicBezTo>
                  <a:pt x="581" y="609"/>
                  <a:pt x="496" y="733"/>
                  <a:pt x="447" y="899"/>
                </a:cubicBezTo>
                <a:close/>
                <a:moveTo>
                  <a:pt x="2527" y="3044"/>
                </a:moveTo>
                <a:cubicBezTo>
                  <a:pt x="1970" y="2452"/>
                  <a:pt x="1970" y="2452"/>
                  <a:pt x="1970" y="2452"/>
                </a:cubicBezTo>
                <a:cubicBezTo>
                  <a:pt x="1967" y="2453"/>
                  <a:pt x="1967" y="2453"/>
                  <a:pt x="1967" y="2453"/>
                </a:cubicBezTo>
                <a:cubicBezTo>
                  <a:pt x="1967" y="3044"/>
                  <a:pt x="1967" y="3044"/>
                  <a:pt x="1967" y="3044"/>
                </a:cubicBezTo>
                <a:lnTo>
                  <a:pt x="2527" y="3044"/>
                </a:ln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0" name="KSO_Shape"/>
          <p:cNvSpPr/>
          <p:nvPr/>
        </p:nvSpPr>
        <p:spPr>
          <a:xfrm rot="402000">
            <a:off x="1146240" y="5064120"/>
            <a:ext cx="1114200" cy="1425600"/>
          </a:xfrm>
          <a:custGeom>
            <a:avLst/>
            <a:gdLst>
              <a:gd name="textAreaLeft" fmla="*/ 0 w 1114200"/>
              <a:gd name="textAreaRight" fmla="*/ 1114560 w 1114200"/>
              <a:gd name="textAreaTop" fmla="*/ 0 h 1425600"/>
              <a:gd name="textAreaBottom" fmla="*/ 1425960 h 1425600"/>
            </a:gdLst>
            <a:ahLst/>
            <a:rect l="textAreaLeft" t="textAreaTop" r="textAreaRight" b="textAreaBottom"/>
            <a:pathLst>
              <a:path w="10771844" h="13782676">
                <a:moveTo>
                  <a:pt x="945340" y="7802257"/>
                </a:moveTo>
                <a:cubicBezTo>
                  <a:pt x="1823502" y="7815886"/>
                  <a:pt x="1942449" y="8088467"/>
                  <a:pt x="1942449" y="8088467"/>
                </a:cubicBezTo>
                <a:cubicBezTo>
                  <a:pt x="1942449" y="8088467"/>
                  <a:pt x="1942449" y="8088467"/>
                  <a:pt x="1961218" y="8339963"/>
                </a:cubicBezTo>
                <a:cubicBezTo>
                  <a:pt x="1799807" y="8839201"/>
                  <a:pt x="181941" y="8606474"/>
                  <a:pt x="181941" y="8606474"/>
                </a:cubicBezTo>
                <a:cubicBezTo>
                  <a:pt x="-242232" y="8197323"/>
                  <a:pt x="208218" y="7840725"/>
                  <a:pt x="208218" y="7840725"/>
                </a:cubicBezTo>
                <a:cubicBezTo>
                  <a:pt x="499602" y="7809757"/>
                  <a:pt x="742687" y="7799112"/>
                  <a:pt x="945340" y="7802257"/>
                </a:cubicBezTo>
                <a:close/>
                <a:moveTo>
                  <a:pt x="1499256" y="3670300"/>
                </a:moveTo>
                <a:cubicBezTo>
                  <a:pt x="1499256" y="3670300"/>
                  <a:pt x="1499256" y="3670300"/>
                  <a:pt x="4922981" y="3670300"/>
                </a:cubicBezTo>
                <a:cubicBezTo>
                  <a:pt x="4757801" y="4011884"/>
                  <a:pt x="4660195" y="4394758"/>
                  <a:pt x="4660195" y="4800154"/>
                </a:cubicBezTo>
                <a:cubicBezTo>
                  <a:pt x="4660195" y="6234054"/>
                  <a:pt x="5823961" y="7397690"/>
                  <a:pt x="7258021" y="7397690"/>
                </a:cubicBezTo>
                <a:cubicBezTo>
                  <a:pt x="8692082" y="7397690"/>
                  <a:pt x="9855847" y="6234054"/>
                  <a:pt x="9855847" y="4800154"/>
                </a:cubicBezTo>
                <a:cubicBezTo>
                  <a:pt x="9855847" y="4394758"/>
                  <a:pt x="9761995" y="4011884"/>
                  <a:pt x="9596815" y="3670300"/>
                </a:cubicBezTo>
                <a:cubicBezTo>
                  <a:pt x="9596815" y="3670300"/>
                  <a:pt x="9596815" y="3670300"/>
                  <a:pt x="10771844" y="3670300"/>
                </a:cubicBezTo>
                <a:cubicBezTo>
                  <a:pt x="10771844" y="3670300"/>
                  <a:pt x="10771844" y="3670300"/>
                  <a:pt x="10771844" y="7667954"/>
                </a:cubicBezTo>
                <a:cubicBezTo>
                  <a:pt x="10771844" y="7667954"/>
                  <a:pt x="10771844" y="7667954"/>
                  <a:pt x="8962376" y="7667954"/>
                </a:cubicBezTo>
                <a:cubicBezTo>
                  <a:pt x="8962376" y="7667954"/>
                  <a:pt x="8962376" y="7667954"/>
                  <a:pt x="9183867" y="7686723"/>
                </a:cubicBezTo>
                <a:cubicBezTo>
                  <a:pt x="9183867" y="7686723"/>
                  <a:pt x="9183867" y="7686723"/>
                  <a:pt x="7701003" y="8628893"/>
                </a:cubicBezTo>
                <a:cubicBezTo>
                  <a:pt x="7701003" y="8628893"/>
                  <a:pt x="7701003" y="8628893"/>
                  <a:pt x="7701003" y="10989949"/>
                </a:cubicBezTo>
                <a:cubicBezTo>
                  <a:pt x="7701003" y="11046254"/>
                  <a:pt x="7689741" y="11095051"/>
                  <a:pt x="7667217" y="11143849"/>
                </a:cubicBezTo>
                <a:cubicBezTo>
                  <a:pt x="7667217" y="11143849"/>
                  <a:pt x="7667217" y="11143849"/>
                  <a:pt x="9330275" y="13493644"/>
                </a:cubicBezTo>
                <a:cubicBezTo>
                  <a:pt x="9371571" y="13549949"/>
                  <a:pt x="9480439" y="13763908"/>
                  <a:pt x="9457915" y="13782676"/>
                </a:cubicBezTo>
                <a:cubicBezTo>
                  <a:pt x="9457915" y="13782676"/>
                  <a:pt x="9457915" y="13782676"/>
                  <a:pt x="9142572" y="13778922"/>
                </a:cubicBezTo>
                <a:cubicBezTo>
                  <a:pt x="9097523" y="13771415"/>
                  <a:pt x="9067490" y="13763908"/>
                  <a:pt x="9029949" y="13707603"/>
                </a:cubicBezTo>
                <a:cubicBezTo>
                  <a:pt x="9029949" y="13707603"/>
                  <a:pt x="9029949" y="13707603"/>
                  <a:pt x="7490775" y="11534230"/>
                </a:cubicBezTo>
                <a:cubicBezTo>
                  <a:pt x="7490775" y="11534230"/>
                  <a:pt x="7490775" y="11534230"/>
                  <a:pt x="7490775" y="13643790"/>
                </a:cubicBezTo>
                <a:cubicBezTo>
                  <a:pt x="7490775" y="13711356"/>
                  <a:pt x="7456988" y="13767661"/>
                  <a:pt x="7408185" y="13767661"/>
                </a:cubicBezTo>
                <a:cubicBezTo>
                  <a:pt x="7408185" y="13767661"/>
                  <a:pt x="7408185" y="13767661"/>
                  <a:pt x="6968957" y="13767661"/>
                </a:cubicBezTo>
                <a:cubicBezTo>
                  <a:pt x="6923908" y="13767661"/>
                  <a:pt x="6886367" y="13711356"/>
                  <a:pt x="6886367" y="13643790"/>
                </a:cubicBezTo>
                <a:cubicBezTo>
                  <a:pt x="6886367" y="13643790"/>
                  <a:pt x="6886367" y="13643790"/>
                  <a:pt x="6886367" y="11564259"/>
                </a:cubicBezTo>
                <a:cubicBezTo>
                  <a:pt x="6886367" y="11564259"/>
                  <a:pt x="6886367" y="11564259"/>
                  <a:pt x="5166996" y="13685081"/>
                </a:cubicBezTo>
                <a:cubicBezTo>
                  <a:pt x="5121947" y="13745139"/>
                  <a:pt x="5088160" y="13737632"/>
                  <a:pt x="5020587" y="13737632"/>
                </a:cubicBezTo>
                <a:cubicBezTo>
                  <a:pt x="5020587" y="13737632"/>
                  <a:pt x="5020587" y="13737632"/>
                  <a:pt x="4333590" y="13737632"/>
                </a:cubicBezTo>
                <a:cubicBezTo>
                  <a:pt x="4296049" y="13707603"/>
                  <a:pt x="4648933" y="13362265"/>
                  <a:pt x="4697736" y="13302207"/>
                </a:cubicBezTo>
                <a:cubicBezTo>
                  <a:pt x="4697736" y="13302207"/>
                  <a:pt x="4697736" y="13302207"/>
                  <a:pt x="6754974" y="10768483"/>
                </a:cubicBezTo>
                <a:cubicBezTo>
                  <a:pt x="6754974" y="10768483"/>
                  <a:pt x="6754974" y="10768483"/>
                  <a:pt x="6781253" y="10738453"/>
                </a:cubicBezTo>
                <a:cubicBezTo>
                  <a:pt x="6781253" y="10738453"/>
                  <a:pt x="6781253" y="10738453"/>
                  <a:pt x="6781253" y="8632647"/>
                </a:cubicBezTo>
                <a:cubicBezTo>
                  <a:pt x="6781253" y="8632647"/>
                  <a:pt x="6781253" y="8632647"/>
                  <a:pt x="6762482" y="8628893"/>
                </a:cubicBezTo>
                <a:cubicBezTo>
                  <a:pt x="6728696" y="8621386"/>
                  <a:pt x="6480926" y="8467485"/>
                  <a:pt x="6191862" y="8291063"/>
                </a:cubicBezTo>
                <a:cubicBezTo>
                  <a:pt x="6191862" y="8291063"/>
                  <a:pt x="6191862" y="8291063"/>
                  <a:pt x="1964763" y="8336107"/>
                </a:cubicBezTo>
                <a:cubicBezTo>
                  <a:pt x="1964763" y="8336107"/>
                  <a:pt x="1964763" y="8336107"/>
                  <a:pt x="1964763" y="8084611"/>
                </a:cubicBezTo>
                <a:cubicBezTo>
                  <a:pt x="1964763" y="8084611"/>
                  <a:pt x="1964763" y="8084611"/>
                  <a:pt x="5940338" y="8133409"/>
                </a:cubicBezTo>
                <a:cubicBezTo>
                  <a:pt x="5579946" y="7908189"/>
                  <a:pt x="5234570" y="7686723"/>
                  <a:pt x="5234570" y="7686723"/>
                </a:cubicBezTo>
                <a:cubicBezTo>
                  <a:pt x="5234570" y="7686723"/>
                  <a:pt x="5234570" y="7686723"/>
                  <a:pt x="5426028" y="7667954"/>
                </a:cubicBezTo>
                <a:cubicBezTo>
                  <a:pt x="5426028" y="7667954"/>
                  <a:pt x="5426028" y="7667954"/>
                  <a:pt x="1499256" y="7667954"/>
                </a:cubicBezTo>
                <a:cubicBezTo>
                  <a:pt x="1499256" y="7667954"/>
                  <a:pt x="1499256" y="7667954"/>
                  <a:pt x="1499256" y="3670300"/>
                </a:cubicBezTo>
                <a:close/>
                <a:moveTo>
                  <a:pt x="7241243" y="2735264"/>
                </a:moveTo>
                <a:cubicBezTo>
                  <a:pt x="8382774" y="2735264"/>
                  <a:pt x="9308168" y="3659591"/>
                  <a:pt x="9308168" y="4799808"/>
                </a:cubicBezTo>
                <a:cubicBezTo>
                  <a:pt x="9308168" y="5940024"/>
                  <a:pt x="8382774" y="6864351"/>
                  <a:pt x="7241243" y="6864351"/>
                </a:cubicBezTo>
                <a:cubicBezTo>
                  <a:pt x="6099712" y="6864351"/>
                  <a:pt x="5174318" y="5940024"/>
                  <a:pt x="5174318" y="4799808"/>
                </a:cubicBezTo>
                <a:cubicBezTo>
                  <a:pt x="5174318" y="3659591"/>
                  <a:pt x="6099712" y="2735264"/>
                  <a:pt x="7241243" y="2735264"/>
                </a:cubicBezTo>
                <a:close/>
                <a:moveTo>
                  <a:pt x="7202054" y="0"/>
                </a:moveTo>
                <a:cubicBezTo>
                  <a:pt x="7202054" y="0"/>
                  <a:pt x="7202054" y="0"/>
                  <a:pt x="8707297" y="2131477"/>
                </a:cubicBezTo>
                <a:cubicBezTo>
                  <a:pt x="8707297" y="2131477"/>
                  <a:pt x="8707297" y="2131477"/>
                  <a:pt x="10771844" y="2131477"/>
                </a:cubicBezTo>
                <a:cubicBezTo>
                  <a:pt x="10771844" y="2131477"/>
                  <a:pt x="10771844" y="2131477"/>
                  <a:pt x="10771844" y="3321050"/>
                </a:cubicBezTo>
                <a:cubicBezTo>
                  <a:pt x="10771844" y="3321050"/>
                  <a:pt x="10771844" y="3321050"/>
                  <a:pt x="9349183" y="3321050"/>
                </a:cubicBezTo>
                <a:cubicBezTo>
                  <a:pt x="8879968" y="2698119"/>
                  <a:pt x="8132977" y="2292839"/>
                  <a:pt x="7292143" y="2292839"/>
                </a:cubicBezTo>
                <a:cubicBezTo>
                  <a:pt x="6447555" y="2292839"/>
                  <a:pt x="5704318" y="2698119"/>
                  <a:pt x="5235103" y="3321050"/>
                </a:cubicBezTo>
                <a:cubicBezTo>
                  <a:pt x="5235103" y="3321050"/>
                  <a:pt x="5235103" y="3321050"/>
                  <a:pt x="1432581" y="3321050"/>
                </a:cubicBezTo>
                <a:cubicBezTo>
                  <a:pt x="1432581" y="3321050"/>
                  <a:pt x="1432581" y="3321050"/>
                  <a:pt x="1432581" y="2296591"/>
                </a:cubicBezTo>
                <a:cubicBezTo>
                  <a:pt x="1432581" y="2296591"/>
                  <a:pt x="1432581" y="2296591"/>
                  <a:pt x="1432581" y="2131477"/>
                </a:cubicBezTo>
                <a:cubicBezTo>
                  <a:pt x="1432581" y="2131477"/>
                  <a:pt x="1432581" y="2131477"/>
                  <a:pt x="1432581" y="983181"/>
                </a:cubicBezTo>
                <a:cubicBezTo>
                  <a:pt x="1432581" y="983181"/>
                  <a:pt x="1432581" y="983181"/>
                  <a:pt x="2750138" y="983181"/>
                </a:cubicBezTo>
                <a:cubicBezTo>
                  <a:pt x="2750138" y="983181"/>
                  <a:pt x="2750138" y="983181"/>
                  <a:pt x="2750138" y="2131477"/>
                </a:cubicBezTo>
                <a:cubicBezTo>
                  <a:pt x="2750138" y="2131477"/>
                  <a:pt x="2750138" y="2131477"/>
                  <a:pt x="5606721" y="2131477"/>
                </a:cubicBezTo>
                <a:cubicBezTo>
                  <a:pt x="5606721" y="2131477"/>
                  <a:pt x="5606721" y="2131477"/>
                  <a:pt x="7202054" y="0"/>
                </a:cubicBez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1" name="KSO_Shape"/>
          <p:cNvSpPr/>
          <p:nvPr/>
        </p:nvSpPr>
        <p:spPr>
          <a:xfrm rot="20664600">
            <a:off x="10645560" y="3352320"/>
            <a:ext cx="1083960" cy="1069920"/>
          </a:xfrm>
          <a:custGeom>
            <a:avLst/>
            <a:gdLst>
              <a:gd name="textAreaLeft" fmla="*/ 0 w 1083960"/>
              <a:gd name="textAreaRight" fmla="*/ 1084320 w 1083960"/>
              <a:gd name="textAreaTop" fmla="*/ 0 h 1069920"/>
              <a:gd name="textAreaBottom" fmla="*/ 1070280 h 1069920"/>
            </a:gdLst>
            <a:ahLst/>
            <a:rect l="textAreaLeft" t="textAreaTop" r="textAreaRight" b="textAreaBottom"/>
            <a:pathLst>
              <a:path w="1622425" h="1601788">
                <a:moveTo>
                  <a:pt x="1477962" y="927100"/>
                </a:moveTo>
                <a:lnTo>
                  <a:pt x="1622425" y="927100"/>
                </a:lnTo>
                <a:lnTo>
                  <a:pt x="1622425" y="1293813"/>
                </a:lnTo>
                <a:lnTo>
                  <a:pt x="1477962" y="1293813"/>
                </a:lnTo>
                <a:lnTo>
                  <a:pt x="1477962" y="927100"/>
                </a:lnTo>
                <a:close/>
                <a:moveTo>
                  <a:pt x="1477962" y="463550"/>
                </a:moveTo>
                <a:lnTo>
                  <a:pt x="1622425" y="463550"/>
                </a:lnTo>
                <a:lnTo>
                  <a:pt x="1622425" y="830263"/>
                </a:lnTo>
                <a:lnTo>
                  <a:pt x="1477962" y="830263"/>
                </a:lnTo>
                <a:lnTo>
                  <a:pt x="1477962" y="463550"/>
                </a:lnTo>
                <a:close/>
                <a:moveTo>
                  <a:pt x="871932" y="418865"/>
                </a:moveTo>
                <a:lnTo>
                  <a:pt x="866214" y="419183"/>
                </a:lnTo>
                <a:lnTo>
                  <a:pt x="859861" y="419183"/>
                </a:lnTo>
                <a:lnTo>
                  <a:pt x="848426" y="420453"/>
                </a:lnTo>
                <a:lnTo>
                  <a:pt x="837309" y="422359"/>
                </a:lnTo>
                <a:lnTo>
                  <a:pt x="826509" y="424582"/>
                </a:lnTo>
                <a:lnTo>
                  <a:pt x="815709" y="427440"/>
                </a:lnTo>
                <a:lnTo>
                  <a:pt x="805862" y="430298"/>
                </a:lnTo>
                <a:lnTo>
                  <a:pt x="796650" y="433473"/>
                </a:lnTo>
                <a:lnTo>
                  <a:pt x="787439" y="436649"/>
                </a:lnTo>
                <a:lnTo>
                  <a:pt x="771874" y="443000"/>
                </a:lnTo>
                <a:lnTo>
                  <a:pt x="766792" y="444906"/>
                </a:lnTo>
                <a:lnTo>
                  <a:pt x="762027" y="446811"/>
                </a:lnTo>
                <a:lnTo>
                  <a:pt x="757262" y="449034"/>
                </a:lnTo>
                <a:lnTo>
                  <a:pt x="752498" y="451257"/>
                </a:lnTo>
                <a:lnTo>
                  <a:pt x="748051" y="454115"/>
                </a:lnTo>
                <a:lnTo>
                  <a:pt x="743921" y="456655"/>
                </a:lnTo>
                <a:lnTo>
                  <a:pt x="739792" y="459831"/>
                </a:lnTo>
                <a:lnTo>
                  <a:pt x="735345" y="463324"/>
                </a:lnTo>
                <a:lnTo>
                  <a:pt x="731533" y="466817"/>
                </a:lnTo>
                <a:lnTo>
                  <a:pt x="728039" y="470628"/>
                </a:lnTo>
                <a:lnTo>
                  <a:pt x="724545" y="474757"/>
                </a:lnTo>
                <a:lnTo>
                  <a:pt x="721051" y="479202"/>
                </a:lnTo>
                <a:lnTo>
                  <a:pt x="718192" y="483966"/>
                </a:lnTo>
                <a:lnTo>
                  <a:pt x="715333" y="488729"/>
                </a:lnTo>
                <a:lnTo>
                  <a:pt x="712792" y="493810"/>
                </a:lnTo>
                <a:lnTo>
                  <a:pt x="710251" y="499526"/>
                </a:lnTo>
                <a:lnTo>
                  <a:pt x="708028" y="504925"/>
                </a:lnTo>
                <a:lnTo>
                  <a:pt x="706122" y="510959"/>
                </a:lnTo>
                <a:lnTo>
                  <a:pt x="704216" y="517310"/>
                </a:lnTo>
                <a:lnTo>
                  <a:pt x="702628" y="523979"/>
                </a:lnTo>
                <a:lnTo>
                  <a:pt x="701357" y="530648"/>
                </a:lnTo>
                <a:lnTo>
                  <a:pt x="700404" y="537952"/>
                </a:lnTo>
                <a:lnTo>
                  <a:pt x="699769" y="545256"/>
                </a:lnTo>
                <a:lnTo>
                  <a:pt x="699451" y="553512"/>
                </a:lnTo>
                <a:lnTo>
                  <a:pt x="699451" y="561451"/>
                </a:lnTo>
                <a:lnTo>
                  <a:pt x="699451" y="570025"/>
                </a:lnTo>
                <a:lnTo>
                  <a:pt x="700087" y="578600"/>
                </a:lnTo>
                <a:lnTo>
                  <a:pt x="700722" y="587809"/>
                </a:lnTo>
                <a:lnTo>
                  <a:pt x="701992" y="597018"/>
                </a:lnTo>
                <a:lnTo>
                  <a:pt x="703263" y="607180"/>
                </a:lnTo>
                <a:lnTo>
                  <a:pt x="705169" y="617025"/>
                </a:lnTo>
                <a:lnTo>
                  <a:pt x="707392" y="627504"/>
                </a:lnTo>
                <a:lnTo>
                  <a:pt x="708028" y="630998"/>
                </a:lnTo>
                <a:lnTo>
                  <a:pt x="708028" y="634173"/>
                </a:lnTo>
                <a:lnTo>
                  <a:pt x="707710" y="637666"/>
                </a:lnTo>
                <a:lnTo>
                  <a:pt x="707392" y="640524"/>
                </a:lnTo>
                <a:lnTo>
                  <a:pt x="706757" y="643065"/>
                </a:lnTo>
                <a:lnTo>
                  <a:pt x="705804" y="645605"/>
                </a:lnTo>
                <a:lnTo>
                  <a:pt x="703263" y="650051"/>
                </a:lnTo>
                <a:lnTo>
                  <a:pt x="701039" y="654815"/>
                </a:lnTo>
                <a:lnTo>
                  <a:pt x="699134" y="658626"/>
                </a:lnTo>
                <a:lnTo>
                  <a:pt x="698498" y="660531"/>
                </a:lnTo>
                <a:lnTo>
                  <a:pt x="697863" y="662436"/>
                </a:lnTo>
                <a:lnTo>
                  <a:pt x="697545" y="664342"/>
                </a:lnTo>
                <a:lnTo>
                  <a:pt x="697545" y="666247"/>
                </a:lnTo>
                <a:lnTo>
                  <a:pt x="699134" y="688794"/>
                </a:lnTo>
                <a:lnTo>
                  <a:pt x="700404" y="702132"/>
                </a:lnTo>
                <a:lnTo>
                  <a:pt x="701039" y="709436"/>
                </a:lnTo>
                <a:lnTo>
                  <a:pt x="702310" y="716104"/>
                </a:lnTo>
                <a:lnTo>
                  <a:pt x="703581" y="723408"/>
                </a:lnTo>
                <a:lnTo>
                  <a:pt x="705487" y="729760"/>
                </a:lnTo>
                <a:lnTo>
                  <a:pt x="707075" y="736111"/>
                </a:lnTo>
                <a:lnTo>
                  <a:pt x="709298" y="742145"/>
                </a:lnTo>
                <a:lnTo>
                  <a:pt x="711839" y="747226"/>
                </a:lnTo>
                <a:lnTo>
                  <a:pt x="714698" y="751989"/>
                </a:lnTo>
                <a:lnTo>
                  <a:pt x="716286" y="753894"/>
                </a:lnTo>
                <a:lnTo>
                  <a:pt x="718192" y="755800"/>
                </a:lnTo>
                <a:lnTo>
                  <a:pt x="719780" y="757705"/>
                </a:lnTo>
                <a:lnTo>
                  <a:pt x="722322" y="759293"/>
                </a:lnTo>
                <a:lnTo>
                  <a:pt x="725816" y="760563"/>
                </a:lnTo>
                <a:lnTo>
                  <a:pt x="731533" y="762151"/>
                </a:lnTo>
                <a:lnTo>
                  <a:pt x="736933" y="763104"/>
                </a:lnTo>
                <a:lnTo>
                  <a:pt x="738839" y="763421"/>
                </a:lnTo>
                <a:lnTo>
                  <a:pt x="739792" y="763104"/>
                </a:lnTo>
                <a:lnTo>
                  <a:pt x="745827" y="831062"/>
                </a:lnTo>
                <a:lnTo>
                  <a:pt x="747098" y="833603"/>
                </a:lnTo>
                <a:lnTo>
                  <a:pt x="748368" y="835826"/>
                </a:lnTo>
                <a:lnTo>
                  <a:pt x="749639" y="838049"/>
                </a:lnTo>
                <a:lnTo>
                  <a:pt x="751227" y="839954"/>
                </a:lnTo>
                <a:lnTo>
                  <a:pt x="754404" y="843765"/>
                </a:lnTo>
                <a:lnTo>
                  <a:pt x="757898" y="847576"/>
                </a:lnTo>
                <a:lnTo>
                  <a:pt x="761074" y="851386"/>
                </a:lnTo>
                <a:lnTo>
                  <a:pt x="762662" y="853609"/>
                </a:lnTo>
                <a:lnTo>
                  <a:pt x="763933" y="855832"/>
                </a:lnTo>
                <a:lnTo>
                  <a:pt x="765204" y="858373"/>
                </a:lnTo>
                <a:lnTo>
                  <a:pt x="766474" y="861548"/>
                </a:lnTo>
                <a:lnTo>
                  <a:pt x="767427" y="865042"/>
                </a:lnTo>
                <a:lnTo>
                  <a:pt x="768380" y="868852"/>
                </a:lnTo>
                <a:lnTo>
                  <a:pt x="751545" y="872663"/>
                </a:lnTo>
                <a:lnTo>
                  <a:pt x="744874" y="887271"/>
                </a:lnTo>
                <a:lnTo>
                  <a:pt x="740745" y="895528"/>
                </a:lnTo>
                <a:lnTo>
                  <a:pt x="736298" y="904102"/>
                </a:lnTo>
                <a:lnTo>
                  <a:pt x="731533" y="912358"/>
                </a:lnTo>
                <a:lnTo>
                  <a:pt x="726451" y="919980"/>
                </a:lnTo>
                <a:lnTo>
                  <a:pt x="723910" y="923156"/>
                </a:lnTo>
                <a:lnTo>
                  <a:pt x="721051" y="926014"/>
                </a:lnTo>
                <a:lnTo>
                  <a:pt x="718510" y="928555"/>
                </a:lnTo>
                <a:lnTo>
                  <a:pt x="715969" y="930778"/>
                </a:lnTo>
                <a:lnTo>
                  <a:pt x="680393" y="940622"/>
                </a:lnTo>
                <a:lnTo>
                  <a:pt x="648628" y="953960"/>
                </a:lnTo>
                <a:lnTo>
                  <a:pt x="615911" y="967932"/>
                </a:lnTo>
                <a:lnTo>
                  <a:pt x="551747" y="995243"/>
                </a:lnTo>
                <a:lnTo>
                  <a:pt x="544123" y="998101"/>
                </a:lnTo>
                <a:lnTo>
                  <a:pt x="537135" y="1000641"/>
                </a:lnTo>
                <a:lnTo>
                  <a:pt x="522524" y="1006040"/>
                </a:lnTo>
                <a:lnTo>
                  <a:pt x="507912" y="1011121"/>
                </a:lnTo>
                <a:lnTo>
                  <a:pt x="500924" y="1013979"/>
                </a:lnTo>
                <a:lnTo>
                  <a:pt x="493936" y="1016837"/>
                </a:lnTo>
                <a:lnTo>
                  <a:pt x="487583" y="1020648"/>
                </a:lnTo>
                <a:lnTo>
                  <a:pt x="481548" y="1024141"/>
                </a:lnTo>
                <a:lnTo>
                  <a:pt x="475512" y="1027952"/>
                </a:lnTo>
                <a:lnTo>
                  <a:pt x="470430" y="1032398"/>
                </a:lnTo>
                <a:lnTo>
                  <a:pt x="467889" y="1034938"/>
                </a:lnTo>
                <a:lnTo>
                  <a:pt x="465665" y="1037796"/>
                </a:lnTo>
                <a:lnTo>
                  <a:pt x="463442" y="1040337"/>
                </a:lnTo>
                <a:lnTo>
                  <a:pt x="461218" y="1043195"/>
                </a:lnTo>
                <a:lnTo>
                  <a:pt x="459313" y="1046370"/>
                </a:lnTo>
                <a:lnTo>
                  <a:pt x="457407" y="1049546"/>
                </a:lnTo>
                <a:lnTo>
                  <a:pt x="456136" y="1052722"/>
                </a:lnTo>
                <a:lnTo>
                  <a:pt x="454548" y="1056850"/>
                </a:lnTo>
                <a:lnTo>
                  <a:pt x="454230" y="1082573"/>
                </a:lnTo>
                <a:lnTo>
                  <a:pt x="453595" y="1116234"/>
                </a:lnTo>
                <a:lnTo>
                  <a:pt x="452960" y="1151484"/>
                </a:lnTo>
                <a:lnTo>
                  <a:pt x="452642" y="1167997"/>
                </a:lnTo>
                <a:lnTo>
                  <a:pt x="452960" y="1182605"/>
                </a:lnTo>
                <a:lnTo>
                  <a:pt x="1276928" y="1182605"/>
                </a:lnTo>
                <a:lnTo>
                  <a:pt x="1277245" y="1167997"/>
                </a:lnTo>
                <a:lnTo>
                  <a:pt x="1276928" y="1151484"/>
                </a:lnTo>
                <a:lnTo>
                  <a:pt x="1276292" y="1116234"/>
                </a:lnTo>
                <a:lnTo>
                  <a:pt x="1275339" y="1082573"/>
                </a:lnTo>
                <a:lnTo>
                  <a:pt x="1275022" y="1056850"/>
                </a:lnTo>
                <a:lnTo>
                  <a:pt x="1273751" y="1052722"/>
                </a:lnTo>
                <a:lnTo>
                  <a:pt x="1272163" y="1049546"/>
                </a:lnTo>
                <a:lnTo>
                  <a:pt x="1270257" y="1046370"/>
                </a:lnTo>
                <a:lnTo>
                  <a:pt x="1268669" y="1043195"/>
                </a:lnTo>
                <a:lnTo>
                  <a:pt x="1266445" y="1040337"/>
                </a:lnTo>
                <a:lnTo>
                  <a:pt x="1264222" y="1037796"/>
                </a:lnTo>
                <a:lnTo>
                  <a:pt x="1261998" y="1034938"/>
                </a:lnTo>
                <a:lnTo>
                  <a:pt x="1259775" y="1032398"/>
                </a:lnTo>
                <a:lnTo>
                  <a:pt x="1254057" y="1027952"/>
                </a:lnTo>
                <a:lnTo>
                  <a:pt x="1248340" y="1024141"/>
                </a:lnTo>
                <a:lnTo>
                  <a:pt x="1242304" y="1020648"/>
                </a:lnTo>
                <a:lnTo>
                  <a:pt x="1235634" y="1016837"/>
                </a:lnTo>
                <a:lnTo>
                  <a:pt x="1228963" y="1013979"/>
                </a:lnTo>
                <a:lnTo>
                  <a:pt x="1221658" y="1011121"/>
                </a:lnTo>
                <a:lnTo>
                  <a:pt x="1207681" y="1006040"/>
                </a:lnTo>
                <a:lnTo>
                  <a:pt x="1192752" y="1000641"/>
                </a:lnTo>
                <a:lnTo>
                  <a:pt x="1185446" y="998101"/>
                </a:lnTo>
                <a:lnTo>
                  <a:pt x="1178458" y="995243"/>
                </a:lnTo>
                <a:lnTo>
                  <a:pt x="1113659" y="967932"/>
                </a:lnTo>
                <a:lnTo>
                  <a:pt x="1080941" y="953960"/>
                </a:lnTo>
                <a:lnTo>
                  <a:pt x="1049177" y="940622"/>
                </a:lnTo>
                <a:lnTo>
                  <a:pt x="1013601" y="930778"/>
                </a:lnTo>
                <a:lnTo>
                  <a:pt x="1011060" y="928555"/>
                </a:lnTo>
                <a:lnTo>
                  <a:pt x="1008519" y="926014"/>
                </a:lnTo>
                <a:lnTo>
                  <a:pt x="1005977" y="923156"/>
                </a:lnTo>
                <a:lnTo>
                  <a:pt x="1003436" y="919980"/>
                </a:lnTo>
                <a:lnTo>
                  <a:pt x="998036" y="912358"/>
                </a:lnTo>
                <a:lnTo>
                  <a:pt x="993589" y="904102"/>
                </a:lnTo>
                <a:lnTo>
                  <a:pt x="989142" y="895528"/>
                </a:lnTo>
                <a:lnTo>
                  <a:pt x="985013" y="887271"/>
                </a:lnTo>
                <a:lnTo>
                  <a:pt x="978025" y="872663"/>
                </a:lnTo>
                <a:lnTo>
                  <a:pt x="955790" y="869487"/>
                </a:lnTo>
                <a:lnTo>
                  <a:pt x="956107" y="865359"/>
                </a:lnTo>
                <a:lnTo>
                  <a:pt x="956743" y="861231"/>
                </a:lnTo>
                <a:lnTo>
                  <a:pt x="957696" y="857738"/>
                </a:lnTo>
                <a:lnTo>
                  <a:pt x="958649" y="854562"/>
                </a:lnTo>
                <a:lnTo>
                  <a:pt x="960237" y="852021"/>
                </a:lnTo>
                <a:lnTo>
                  <a:pt x="961507" y="849481"/>
                </a:lnTo>
                <a:lnTo>
                  <a:pt x="965319" y="845035"/>
                </a:lnTo>
                <a:lnTo>
                  <a:pt x="968813" y="840272"/>
                </a:lnTo>
                <a:lnTo>
                  <a:pt x="972307" y="835826"/>
                </a:lnTo>
                <a:lnTo>
                  <a:pt x="973895" y="833603"/>
                </a:lnTo>
                <a:lnTo>
                  <a:pt x="975484" y="830745"/>
                </a:lnTo>
                <a:lnTo>
                  <a:pt x="977072" y="827887"/>
                </a:lnTo>
                <a:lnTo>
                  <a:pt x="978025" y="824393"/>
                </a:lnTo>
                <a:lnTo>
                  <a:pt x="978978" y="821218"/>
                </a:lnTo>
                <a:lnTo>
                  <a:pt x="979613" y="818042"/>
                </a:lnTo>
                <a:lnTo>
                  <a:pt x="980566" y="811373"/>
                </a:lnTo>
                <a:lnTo>
                  <a:pt x="981201" y="804069"/>
                </a:lnTo>
                <a:lnTo>
                  <a:pt x="981837" y="797083"/>
                </a:lnTo>
                <a:lnTo>
                  <a:pt x="982154" y="789779"/>
                </a:lnTo>
                <a:lnTo>
                  <a:pt x="983107" y="783110"/>
                </a:lnTo>
                <a:lnTo>
                  <a:pt x="983742" y="779935"/>
                </a:lnTo>
                <a:lnTo>
                  <a:pt x="984695" y="776759"/>
                </a:lnTo>
                <a:lnTo>
                  <a:pt x="985966" y="773266"/>
                </a:lnTo>
                <a:lnTo>
                  <a:pt x="987236" y="770408"/>
                </a:lnTo>
                <a:lnTo>
                  <a:pt x="988507" y="768502"/>
                </a:lnTo>
                <a:lnTo>
                  <a:pt x="989778" y="766915"/>
                </a:lnTo>
                <a:lnTo>
                  <a:pt x="991366" y="765327"/>
                </a:lnTo>
                <a:lnTo>
                  <a:pt x="992636" y="764056"/>
                </a:lnTo>
                <a:lnTo>
                  <a:pt x="996131" y="761834"/>
                </a:lnTo>
                <a:lnTo>
                  <a:pt x="999942" y="759928"/>
                </a:lnTo>
                <a:lnTo>
                  <a:pt x="1003436" y="758023"/>
                </a:lnTo>
                <a:lnTo>
                  <a:pt x="1006930" y="755800"/>
                </a:lnTo>
                <a:lnTo>
                  <a:pt x="1010107" y="753259"/>
                </a:lnTo>
                <a:lnTo>
                  <a:pt x="1011695" y="751989"/>
                </a:lnTo>
                <a:lnTo>
                  <a:pt x="1012966" y="750401"/>
                </a:lnTo>
                <a:lnTo>
                  <a:pt x="1014871" y="746908"/>
                </a:lnTo>
                <a:lnTo>
                  <a:pt x="1017095" y="743097"/>
                </a:lnTo>
                <a:lnTo>
                  <a:pt x="1019001" y="738651"/>
                </a:lnTo>
                <a:lnTo>
                  <a:pt x="1020589" y="734523"/>
                </a:lnTo>
                <a:lnTo>
                  <a:pt x="1023130" y="725631"/>
                </a:lnTo>
                <a:lnTo>
                  <a:pt x="1024718" y="717057"/>
                </a:lnTo>
                <a:lnTo>
                  <a:pt x="1025989" y="709753"/>
                </a:lnTo>
                <a:lnTo>
                  <a:pt x="1026942" y="701814"/>
                </a:lnTo>
                <a:lnTo>
                  <a:pt x="1027895" y="693875"/>
                </a:lnTo>
                <a:lnTo>
                  <a:pt x="1028213" y="685618"/>
                </a:lnTo>
                <a:lnTo>
                  <a:pt x="1027895" y="677362"/>
                </a:lnTo>
                <a:lnTo>
                  <a:pt x="1027577" y="673233"/>
                </a:lnTo>
                <a:lnTo>
                  <a:pt x="1026942" y="669105"/>
                </a:lnTo>
                <a:lnTo>
                  <a:pt x="1025989" y="665294"/>
                </a:lnTo>
                <a:lnTo>
                  <a:pt x="1025036" y="661484"/>
                </a:lnTo>
                <a:lnTo>
                  <a:pt x="1023766" y="657673"/>
                </a:lnTo>
                <a:lnTo>
                  <a:pt x="1022177" y="654180"/>
                </a:lnTo>
                <a:lnTo>
                  <a:pt x="1019001" y="647511"/>
                </a:lnTo>
                <a:lnTo>
                  <a:pt x="1015824" y="642747"/>
                </a:lnTo>
                <a:lnTo>
                  <a:pt x="1014871" y="640207"/>
                </a:lnTo>
                <a:lnTo>
                  <a:pt x="1013919" y="637349"/>
                </a:lnTo>
                <a:lnTo>
                  <a:pt x="1012966" y="633856"/>
                </a:lnTo>
                <a:lnTo>
                  <a:pt x="1012330" y="629410"/>
                </a:lnTo>
                <a:lnTo>
                  <a:pt x="1012013" y="626234"/>
                </a:lnTo>
                <a:lnTo>
                  <a:pt x="1012013" y="622106"/>
                </a:lnTo>
                <a:lnTo>
                  <a:pt x="1012330" y="612261"/>
                </a:lnTo>
                <a:lnTo>
                  <a:pt x="1012966" y="601147"/>
                </a:lnTo>
                <a:lnTo>
                  <a:pt x="1013919" y="588762"/>
                </a:lnTo>
                <a:lnTo>
                  <a:pt x="1016460" y="566215"/>
                </a:lnTo>
                <a:lnTo>
                  <a:pt x="1017095" y="557323"/>
                </a:lnTo>
                <a:lnTo>
                  <a:pt x="1017413" y="551607"/>
                </a:lnTo>
                <a:lnTo>
                  <a:pt x="1017730" y="534141"/>
                </a:lnTo>
                <a:lnTo>
                  <a:pt x="1017413" y="527472"/>
                </a:lnTo>
                <a:lnTo>
                  <a:pt x="1016777" y="521756"/>
                </a:lnTo>
                <a:lnTo>
                  <a:pt x="1015824" y="516040"/>
                </a:lnTo>
                <a:lnTo>
                  <a:pt x="1014236" y="509371"/>
                </a:lnTo>
                <a:lnTo>
                  <a:pt x="1010424" y="492222"/>
                </a:lnTo>
                <a:lnTo>
                  <a:pt x="1008836" y="488412"/>
                </a:lnTo>
                <a:lnTo>
                  <a:pt x="1006930" y="483966"/>
                </a:lnTo>
                <a:lnTo>
                  <a:pt x="1004707" y="478567"/>
                </a:lnTo>
                <a:lnTo>
                  <a:pt x="1001530" y="473169"/>
                </a:lnTo>
                <a:lnTo>
                  <a:pt x="997401" y="467770"/>
                </a:lnTo>
                <a:lnTo>
                  <a:pt x="995495" y="465547"/>
                </a:lnTo>
                <a:lnTo>
                  <a:pt x="993272" y="463324"/>
                </a:lnTo>
                <a:lnTo>
                  <a:pt x="991048" y="460784"/>
                </a:lnTo>
                <a:lnTo>
                  <a:pt x="988825" y="459196"/>
                </a:lnTo>
                <a:lnTo>
                  <a:pt x="962143" y="454750"/>
                </a:lnTo>
                <a:lnTo>
                  <a:pt x="945943" y="439825"/>
                </a:lnTo>
                <a:lnTo>
                  <a:pt x="939908" y="436331"/>
                </a:lnTo>
                <a:lnTo>
                  <a:pt x="933555" y="433156"/>
                </a:lnTo>
                <a:lnTo>
                  <a:pt x="927202" y="430298"/>
                </a:lnTo>
                <a:lnTo>
                  <a:pt x="921167" y="427757"/>
                </a:lnTo>
                <a:lnTo>
                  <a:pt x="915131" y="425534"/>
                </a:lnTo>
                <a:lnTo>
                  <a:pt x="908778" y="423629"/>
                </a:lnTo>
                <a:lnTo>
                  <a:pt x="902426" y="422041"/>
                </a:lnTo>
                <a:lnTo>
                  <a:pt x="896390" y="421088"/>
                </a:lnTo>
                <a:lnTo>
                  <a:pt x="890038" y="420136"/>
                </a:lnTo>
                <a:lnTo>
                  <a:pt x="884002" y="419501"/>
                </a:lnTo>
                <a:lnTo>
                  <a:pt x="878285" y="419183"/>
                </a:lnTo>
                <a:lnTo>
                  <a:pt x="871932" y="418865"/>
                </a:lnTo>
                <a:close/>
                <a:moveTo>
                  <a:pt x="1477962" y="0"/>
                </a:moveTo>
                <a:lnTo>
                  <a:pt x="1622425" y="0"/>
                </a:lnTo>
                <a:lnTo>
                  <a:pt x="1622425" y="366713"/>
                </a:lnTo>
                <a:lnTo>
                  <a:pt x="1477962" y="366713"/>
                </a:lnTo>
                <a:lnTo>
                  <a:pt x="1477962" y="0"/>
                </a:lnTo>
                <a:close/>
                <a:moveTo>
                  <a:pt x="326855" y="0"/>
                </a:moveTo>
                <a:lnTo>
                  <a:pt x="1403350" y="0"/>
                </a:lnTo>
                <a:lnTo>
                  <a:pt x="1403350" y="1601788"/>
                </a:lnTo>
                <a:lnTo>
                  <a:pt x="326855" y="1601788"/>
                </a:lnTo>
                <a:lnTo>
                  <a:pt x="326855" y="0"/>
                </a:lnTo>
                <a:close/>
                <a:moveTo>
                  <a:pt x="90211" y="0"/>
                </a:moveTo>
                <a:lnTo>
                  <a:pt x="94975" y="0"/>
                </a:lnTo>
                <a:lnTo>
                  <a:pt x="212503" y="0"/>
                </a:lnTo>
                <a:lnTo>
                  <a:pt x="212503" y="1601788"/>
                </a:lnTo>
                <a:lnTo>
                  <a:pt x="94975" y="1601788"/>
                </a:lnTo>
                <a:lnTo>
                  <a:pt x="90211" y="1601788"/>
                </a:lnTo>
                <a:lnTo>
                  <a:pt x="85446" y="1601471"/>
                </a:lnTo>
                <a:lnTo>
                  <a:pt x="80681" y="1600835"/>
                </a:lnTo>
                <a:lnTo>
                  <a:pt x="75917" y="1599883"/>
                </a:lnTo>
                <a:lnTo>
                  <a:pt x="71470" y="1598930"/>
                </a:lnTo>
                <a:lnTo>
                  <a:pt x="67023" y="1597660"/>
                </a:lnTo>
                <a:lnTo>
                  <a:pt x="62258" y="1596072"/>
                </a:lnTo>
                <a:lnTo>
                  <a:pt x="58129" y="1594484"/>
                </a:lnTo>
                <a:lnTo>
                  <a:pt x="53999" y="1592261"/>
                </a:lnTo>
                <a:lnTo>
                  <a:pt x="49870" y="1590356"/>
                </a:lnTo>
                <a:lnTo>
                  <a:pt x="45740" y="1587815"/>
                </a:lnTo>
                <a:lnTo>
                  <a:pt x="41929" y="1585592"/>
                </a:lnTo>
                <a:lnTo>
                  <a:pt x="38117" y="1583052"/>
                </a:lnTo>
                <a:lnTo>
                  <a:pt x="34623" y="1580194"/>
                </a:lnTo>
                <a:lnTo>
                  <a:pt x="31446" y="1577336"/>
                </a:lnTo>
                <a:lnTo>
                  <a:pt x="27635" y="1573843"/>
                </a:lnTo>
                <a:lnTo>
                  <a:pt x="24776" y="1570667"/>
                </a:lnTo>
                <a:lnTo>
                  <a:pt x="21917" y="1567174"/>
                </a:lnTo>
                <a:lnTo>
                  <a:pt x="19058" y="1563681"/>
                </a:lnTo>
                <a:lnTo>
                  <a:pt x="16517" y="1559870"/>
                </a:lnTo>
                <a:lnTo>
                  <a:pt x="13976" y="1556059"/>
                </a:lnTo>
                <a:lnTo>
                  <a:pt x="11435" y="1551931"/>
                </a:lnTo>
                <a:lnTo>
                  <a:pt x="9211" y="1548120"/>
                </a:lnTo>
                <a:lnTo>
                  <a:pt x="7306" y="1543992"/>
                </a:lnTo>
                <a:lnTo>
                  <a:pt x="5717" y="1539228"/>
                </a:lnTo>
                <a:lnTo>
                  <a:pt x="4447" y="1535100"/>
                </a:lnTo>
                <a:lnTo>
                  <a:pt x="3176" y="1530654"/>
                </a:lnTo>
                <a:lnTo>
                  <a:pt x="1906" y="1525891"/>
                </a:lnTo>
                <a:lnTo>
                  <a:pt x="1270" y="1521127"/>
                </a:lnTo>
                <a:lnTo>
                  <a:pt x="635" y="1516364"/>
                </a:lnTo>
                <a:lnTo>
                  <a:pt x="317" y="1511600"/>
                </a:lnTo>
                <a:lnTo>
                  <a:pt x="0" y="1506837"/>
                </a:lnTo>
                <a:lnTo>
                  <a:pt x="0" y="94951"/>
                </a:lnTo>
                <a:lnTo>
                  <a:pt x="317" y="90188"/>
                </a:lnTo>
                <a:lnTo>
                  <a:pt x="635" y="85424"/>
                </a:lnTo>
                <a:lnTo>
                  <a:pt x="1270" y="80661"/>
                </a:lnTo>
                <a:lnTo>
                  <a:pt x="1906" y="75580"/>
                </a:lnTo>
                <a:lnTo>
                  <a:pt x="3176" y="71134"/>
                </a:lnTo>
                <a:lnTo>
                  <a:pt x="4447" y="66688"/>
                </a:lnTo>
                <a:lnTo>
                  <a:pt x="5717" y="62560"/>
                </a:lnTo>
                <a:lnTo>
                  <a:pt x="7306" y="57796"/>
                </a:lnTo>
                <a:lnTo>
                  <a:pt x="9211" y="53668"/>
                </a:lnTo>
                <a:lnTo>
                  <a:pt x="11435" y="49857"/>
                </a:lnTo>
                <a:lnTo>
                  <a:pt x="13976" y="45729"/>
                </a:lnTo>
                <a:lnTo>
                  <a:pt x="16517" y="41601"/>
                </a:lnTo>
                <a:lnTo>
                  <a:pt x="19058" y="38107"/>
                </a:lnTo>
                <a:lnTo>
                  <a:pt x="21917" y="34614"/>
                </a:lnTo>
                <a:lnTo>
                  <a:pt x="24776" y="31121"/>
                </a:lnTo>
                <a:lnTo>
                  <a:pt x="27635" y="27945"/>
                </a:lnTo>
                <a:lnTo>
                  <a:pt x="31446" y="24452"/>
                </a:lnTo>
                <a:lnTo>
                  <a:pt x="34623" y="21594"/>
                </a:lnTo>
                <a:lnTo>
                  <a:pt x="38117" y="18736"/>
                </a:lnTo>
                <a:lnTo>
                  <a:pt x="41929" y="16195"/>
                </a:lnTo>
                <a:lnTo>
                  <a:pt x="45740" y="13655"/>
                </a:lnTo>
                <a:lnTo>
                  <a:pt x="49870" y="11432"/>
                </a:lnTo>
                <a:lnTo>
                  <a:pt x="53999" y="9527"/>
                </a:lnTo>
                <a:lnTo>
                  <a:pt x="58129" y="7304"/>
                </a:lnTo>
                <a:lnTo>
                  <a:pt x="62258" y="5716"/>
                </a:lnTo>
                <a:lnTo>
                  <a:pt x="67023" y="4128"/>
                </a:lnTo>
                <a:lnTo>
                  <a:pt x="71470" y="2858"/>
                </a:lnTo>
                <a:lnTo>
                  <a:pt x="75917" y="1905"/>
                </a:lnTo>
                <a:lnTo>
                  <a:pt x="80681" y="952"/>
                </a:lnTo>
                <a:lnTo>
                  <a:pt x="85446" y="317"/>
                </a:lnTo>
                <a:lnTo>
                  <a:pt x="90211"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文本框 2"/>
          <p:cNvSpPr/>
          <p:nvPr/>
        </p:nvSpPr>
        <p:spPr>
          <a:xfrm>
            <a:off x="0" y="0"/>
            <a:ext cx="2057400" cy="812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664"/>
                </a:solidFill>
                <a:latin typeface="Broadway"/>
                <a:ea typeface="华文隶书"/>
              </a:rPr>
              <a:t>LOGO</a:t>
            </a:r>
            <a:endParaRPr b="0" lang="en-US" sz="4400" spc="-1" strike="noStrike">
              <a:solidFill>
                <a:srgbClr val="000000"/>
              </a:solidFill>
              <a:latin typeface="Arial"/>
            </a:endParaRPr>
          </a:p>
        </p:txBody>
      </p:sp>
      <p:pic>
        <p:nvPicPr>
          <p:cNvPr id="43" name="图片 1" descr=""/>
          <p:cNvPicPr/>
          <p:nvPr/>
        </p:nvPicPr>
        <p:blipFill>
          <a:blip r:embed="rId2"/>
          <a:stretch/>
        </p:blipFill>
        <p:spPr>
          <a:xfrm>
            <a:off x="10363320" y="79200"/>
            <a:ext cx="164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任意多边形 1"/>
          <p:cNvSpPr/>
          <p:nvPr/>
        </p:nvSpPr>
        <p:spPr>
          <a:xfrm>
            <a:off x="885960" y="1027080"/>
            <a:ext cx="5153040" cy="2289240"/>
          </a:xfrm>
          <a:custGeom>
            <a:avLst/>
            <a:gdLst>
              <a:gd name="textAreaLeft" fmla="*/ 0 w 5153040"/>
              <a:gd name="textAreaRight" fmla="*/ 5153400 w 5153040"/>
              <a:gd name="textAreaTop" fmla="*/ 0 h 2289240"/>
              <a:gd name="textAreaBottom" fmla="*/ 2289600 h 2289240"/>
            </a:gdLst>
            <a:ahLst/>
            <a:rect l="textAreaLeft" t="textAreaTop" r="textAreaRight" b="textAreaBottom"/>
            <a:pathLst>
              <a:path w="5151600" h="2289600">
                <a:moveTo>
                  <a:pt x="0" y="0"/>
                </a:moveTo>
                <a:lnTo>
                  <a:pt x="5151600" y="0"/>
                </a:lnTo>
                <a:lnTo>
                  <a:pt x="5151600" y="1713600"/>
                </a:lnTo>
                <a:lnTo>
                  <a:pt x="3286422" y="1713600"/>
                </a:lnTo>
                <a:lnTo>
                  <a:pt x="3286422" y="2289600"/>
                </a:lnTo>
                <a:lnTo>
                  <a:pt x="0" y="2289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任意多边形 2"/>
          <p:cNvSpPr/>
          <p:nvPr/>
        </p:nvSpPr>
        <p:spPr>
          <a:xfrm>
            <a:off x="6149880" y="1027080"/>
            <a:ext cx="5151600" cy="2289240"/>
          </a:xfrm>
          <a:custGeom>
            <a:avLst/>
            <a:gdLst>
              <a:gd name="textAreaLeft" fmla="*/ 0 w 5151600"/>
              <a:gd name="textAreaRight" fmla="*/ 5151960 w 5151600"/>
              <a:gd name="textAreaTop" fmla="*/ 0 h 2289240"/>
              <a:gd name="textAreaBottom" fmla="*/ 2289600 h 2289240"/>
            </a:gdLst>
            <a:ahLst/>
            <a:rect l="textAreaLeft" t="textAreaTop" r="textAreaRight" b="textAreaBottom"/>
            <a:pathLst>
              <a:path w="5151600" h="2289600">
                <a:moveTo>
                  <a:pt x="0" y="0"/>
                </a:moveTo>
                <a:lnTo>
                  <a:pt x="5151600" y="0"/>
                </a:lnTo>
                <a:lnTo>
                  <a:pt x="5151600" y="2289600"/>
                </a:lnTo>
                <a:lnTo>
                  <a:pt x="1865180" y="2289600"/>
                </a:lnTo>
                <a:lnTo>
                  <a:pt x="1865180" y="1713600"/>
                </a:lnTo>
                <a:lnTo>
                  <a:pt x="0" y="1713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任意多边形 3"/>
          <p:cNvSpPr/>
          <p:nvPr/>
        </p:nvSpPr>
        <p:spPr>
          <a:xfrm>
            <a:off x="885960" y="3432240"/>
            <a:ext cx="5153040" cy="2289240"/>
          </a:xfrm>
          <a:custGeom>
            <a:avLst/>
            <a:gdLst>
              <a:gd name="textAreaLeft" fmla="*/ 0 w 5153040"/>
              <a:gd name="textAreaRight" fmla="*/ 5153400 w 5153040"/>
              <a:gd name="textAreaTop" fmla="*/ 0 h 2289240"/>
              <a:gd name="textAreaBottom" fmla="*/ 2289600 h 2289240"/>
            </a:gdLst>
            <a:ahLst/>
            <a:rect l="textAreaLeft" t="textAreaTop" r="textAreaRight" b="textAreaBottom"/>
            <a:pathLst>
              <a:path w="5151600" h="2289600">
                <a:moveTo>
                  <a:pt x="0" y="0"/>
                </a:moveTo>
                <a:lnTo>
                  <a:pt x="3286423" y="0"/>
                </a:lnTo>
                <a:lnTo>
                  <a:pt x="3286423" y="576000"/>
                </a:lnTo>
                <a:lnTo>
                  <a:pt x="5151600" y="576000"/>
                </a:lnTo>
                <a:lnTo>
                  <a:pt x="5151600" y="2289600"/>
                </a:lnTo>
                <a:lnTo>
                  <a:pt x="0" y="2289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任意多边形 4"/>
          <p:cNvSpPr/>
          <p:nvPr/>
        </p:nvSpPr>
        <p:spPr>
          <a:xfrm>
            <a:off x="6149880" y="3432240"/>
            <a:ext cx="5151600" cy="2289240"/>
          </a:xfrm>
          <a:custGeom>
            <a:avLst/>
            <a:gdLst>
              <a:gd name="textAreaLeft" fmla="*/ 0 w 5151600"/>
              <a:gd name="textAreaRight" fmla="*/ 5151960 w 5151600"/>
              <a:gd name="textAreaTop" fmla="*/ 0 h 2289240"/>
              <a:gd name="textAreaBottom" fmla="*/ 2289600 h 2289240"/>
            </a:gdLst>
            <a:ahLst/>
            <a:rect l="textAreaLeft" t="textAreaTop" r="textAreaRight" b="textAreaBottom"/>
            <a:pathLst>
              <a:path w="5151600" h="2289600">
                <a:moveTo>
                  <a:pt x="1865180" y="0"/>
                </a:moveTo>
                <a:lnTo>
                  <a:pt x="5151600" y="0"/>
                </a:lnTo>
                <a:lnTo>
                  <a:pt x="5151600" y="2289600"/>
                </a:lnTo>
                <a:lnTo>
                  <a:pt x="0" y="2289600"/>
                </a:lnTo>
                <a:lnTo>
                  <a:pt x="0" y="576000"/>
                </a:lnTo>
                <a:lnTo>
                  <a:pt x="1865180" y="576000"/>
                </a:lnTo>
                <a:lnTo>
                  <a:pt x="186518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矩形 5"/>
          <p:cNvSpPr/>
          <p:nvPr/>
        </p:nvSpPr>
        <p:spPr>
          <a:xfrm>
            <a:off x="4257720" y="2813040"/>
            <a:ext cx="3673440" cy="112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d6869"/>
                </a:solidFill>
                <a:latin typeface="微软雅黑"/>
                <a:ea typeface="微软雅黑"/>
              </a:rPr>
              <a:t>SWOT</a:t>
            </a:r>
            <a:r>
              <a:rPr b="1" lang="zh-CN" sz="4400" spc="-1" strike="noStrike">
                <a:solidFill>
                  <a:srgbClr val="3d6869"/>
                </a:solidFill>
                <a:latin typeface="微软雅黑"/>
                <a:ea typeface="微软雅黑"/>
              </a:rPr>
              <a:t>分析</a:t>
            </a:r>
            <a:endParaRPr b="0" lang="en-US" sz="4400" spc="-1" strike="noStrike">
              <a:solidFill>
                <a:srgbClr val="000000"/>
              </a:solidFill>
              <a:latin typeface="Arial"/>
            </a:endParaRPr>
          </a:p>
        </p:txBody>
      </p:sp>
      <p:sp>
        <p:nvSpPr>
          <p:cNvPr id="243" name="矩形 6"/>
          <p:cNvSpPr/>
          <p:nvPr/>
        </p:nvSpPr>
        <p:spPr>
          <a:xfrm>
            <a:off x="882720" y="1035000"/>
            <a:ext cx="735120" cy="73332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S</a:t>
            </a:r>
            <a:endParaRPr b="0" lang="en-US" sz="6000" spc="-1" strike="noStrike">
              <a:solidFill>
                <a:srgbClr val="000000"/>
              </a:solidFill>
              <a:latin typeface="Arial"/>
            </a:endParaRPr>
          </a:p>
        </p:txBody>
      </p:sp>
      <p:sp>
        <p:nvSpPr>
          <p:cNvPr id="244" name="矩形 7"/>
          <p:cNvSpPr/>
          <p:nvPr/>
        </p:nvSpPr>
        <p:spPr>
          <a:xfrm>
            <a:off x="10569600" y="4987800"/>
            <a:ext cx="735120" cy="733680"/>
          </a:xfrm>
          <a:prstGeom prst="rect">
            <a:avLst/>
          </a:prstGeom>
          <a:solidFill>
            <a:srgbClr val="3d68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O</a:t>
            </a:r>
            <a:endParaRPr b="0" lang="en-US" sz="6000" spc="-1" strike="noStrike">
              <a:solidFill>
                <a:srgbClr val="000000"/>
              </a:solidFill>
              <a:latin typeface="Arial"/>
            </a:endParaRPr>
          </a:p>
        </p:txBody>
      </p:sp>
      <p:sp>
        <p:nvSpPr>
          <p:cNvPr id="245" name="矩形 8"/>
          <p:cNvSpPr/>
          <p:nvPr/>
        </p:nvSpPr>
        <p:spPr>
          <a:xfrm>
            <a:off x="10569600" y="1025640"/>
            <a:ext cx="735120" cy="7347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W</a:t>
            </a:r>
            <a:endParaRPr b="0" lang="en-US" sz="4800" spc="-1" strike="noStrike">
              <a:solidFill>
                <a:srgbClr val="000000"/>
              </a:solidFill>
              <a:latin typeface="Arial"/>
            </a:endParaRPr>
          </a:p>
        </p:txBody>
      </p:sp>
      <p:sp>
        <p:nvSpPr>
          <p:cNvPr id="246" name="矩形 9"/>
          <p:cNvSpPr/>
          <p:nvPr/>
        </p:nvSpPr>
        <p:spPr>
          <a:xfrm>
            <a:off x="882720" y="4987800"/>
            <a:ext cx="735120" cy="73368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T</a:t>
            </a:r>
            <a:endParaRPr b="0" lang="en-US" sz="4800" spc="-1" strike="noStrike">
              <a:solidFill>
                <a:srgbClr val="000000"/>
              </a:solidFill>
              <a:latin typeface="Arial"/>
            </a:endParaRPr>
          </a:p>
        </p:txBody>
      </p:sp>
      <p:sp>
        <p:nvSpPr>
          <p:cNvPr id="247" name="矩形 10"/>
          <p:cNvSpPr/>
          <p:nvPr/>
        </p:nvSpPr>
        <p:spPr>
          <a:xfrm>
            <a:off x="1617840" y="1104840"/>
            <a:ext cx="122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146"/>
                </a:solidFill>
                <a:latin typeface="微软雅黑"/>
                <a:ea typeface="微软雅黑"/>
              </a:rPr>
              <a:t>优势</a:t>
            </a:r>
            <a:endParaRPr b="0" lang="en-US" sz="2000" spc="-1" strike="noStrike">
              <a:solidFill>
                <a:srgbClr val="000000"/>
              </a:solidFill>
              <a:latin typeface="Arial"/>
            </a:endParaRPr>
          </a:p>
        </p:txBody>
      </p:sp>
      <p:sp>
        <p:nvSpPr>
          <p:cNvPr id="248" name="矩形 11"/>
          <p:cNvSpPr/>
          <p:nvPr/>
        </p:nvSpPr>
        <p:spPr>
          <a:xfrm>
            <a:off x="1617840" y="142092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a146"/>
                </a:solidFill>
                <a:latin typeface="微软雅黑"/>
                <a:ea typeface="微软雅黑"/>
              </a:rPr>
              <a:t>strengths</a:t>
            </a:r>
            <a:endParaRPr b="0" lang="en-US" sz="1400" spc="-1" strike="noStrike">
              <a:solidFill>
                <a:srgbClr val="000000"/>
              </a:solidFill>
              <a:latin typeface="Arial"/>
            </a:endParaRPr>
          </a:p>
        </p:txBody>
      </p:sp>
      <p:sp>
        <p:nvSpPr>
          <p:cNvPr id="249" name="矩形 12"/>
          <p:cNvSpPr/>
          <p:nvPr/>
        </p:nvSpPr>
        <p:spPr>
          <a:xfrm>
            <a:off x="9340920" y="1152360"/>
            <a:ext cx="123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4664"/>
                </a:solidFill>
                <a:latin typeface="微软雅黑"/>
                <a:ea typeface="微软雅黑"/>
              </a:rPr>
              <a:t>劣势</a:t>
            </a:r>
            <a:endParaRPr b="0" lang="en-US" sz="2000" spc="-1" strike="noStrike">
              <a:solidFill>
                <a:srgbClr val="000000"/>
              </a:solidFill>
              <a:latin typeface="Arial"/>
            </a:endParaRPr>
          </a:p>
        </p:txBody>
      </p:sp>
      <p:sp>
        <p:nvSpPr>
          <p:cNvPr id="250" name="矩形 13"/>
          <p:cNvSpPr/>
          <p:nvPr/>
        </p:nvSpPr>
        <p:spPr>
          <a:xfrm>
            <a:off x="9340920" y="1468440"/>
            <a:ext cx="1230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664"/>
                </a:solidFill>
                <a:latin typeface="微软雅黑"/>
                <a:ea typeface="微软雅黑"/>
              </a:rPr>
              <a:t>Weakness</a:t>
            </a:r>
            <a:endParaRPr b="0" lang="en-US" sz="1400" spc="-1" strike="noStrike">
              <a:solidFill>
                <a:srgbClr val="000000"/>
              </a:solidFill>
              <a:latin typeface="Arial"/>
            </a:endParaRPr>
          </a:p>
        </p:txBody>
      </p:sp>
      <p:sp>
        <p:nvSpPr>
          <p:cNvPr id="251" name="矩形 14"/>
          <p:cNvSpPr/>
          <p:nvPr/>
        </p:nvSpPr>
        <p:spPr>
          <a:xfrm>
            <a:off x="9340920" y="4994280"/>
            <a:ext cx="123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微软雅黑"/>
                <a:ea typeface="微软雅黑"/>
              </a:rPr>
              <a:t>机会</a:t>
            </a:r>
            <a:endParaRPr b="0" lang="en-US" sz="2000" spc="-1" strike="noStrike">
              <a:solidFill>
                <a:srgbClr val="000000"/>
              </a:solidFill>
              <a:latin typeface="Arial"/>
            </a:endParaRPr>
          </a:p>
        </p:txBody>
      </p:sp>
      <p:sp>
        <p:nvSpPr>
          <p:cNvPr id="252" name="矩形 15"/>
          <p:cNvSpPr/>
          <p:nvPr/>
        </p:nvSpPr>
        <p:spPr>
          <a:xfrm>
            <a:off x="9166320" y="5308560"/>
            <a:ext cx="1403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6869"/>
                </a:solidFill>
                <a:latin typeface="微软雅黑"/>
                <a:ea typeface="微软雅黑"/>
              </a:rPr>
              <a:t>Opportunity</a:t>
            </a:r>
            <a:endParaRPr b="0" lang="en-US" sz="1400" spc="-1" strike="noStrike">
              <a:solidFill>
                <a:srgbClr val="000000"/>
              </a:solidFill>
              <a:latin typeface="Arial"/>
            </a:endParaRPr>
          </a:p>
        </p:txBody>
      </p:sp>
      <p:sp>
        <p:nvSpPr>
          <p:cNvPr id="253" name="矩形 16"/>
          <p:cNvSpPr/>
          <p:nvPr/>
        </p:nvSpPr>
        <p:spPr>
          <a:xfrm>
            <a:off x="1617840" y="5005440"/>
            <a:ext cx="122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f2cc"/>
                </a:solidFill>
                <a:latin typeface="微软雅黑"/>
                <a:ea typeface="微软雅黑"/>
              </a:rPr>
              <a:t>威胁</a:t>
            </a:r>
            <a:endParaRPr b="0" lang="en-US" sz="2000" spc="-1" strike="noStrike">
              <a:solidFill>
                <a:srgbClr val="000000"/>
              </a:solidFill>
              <a:latin typeface="Arial"/>
            </a:endParaRPr>
          </a:p>
        </p:txBody>
      </p:sp>
      <p:sp>
        <p:nvSpPr>
          <p:cNvPr id="254" name="矩形 17"/>
          <p:cNvSpPr/>
          <p:nvPr/>
        </p:nvSpPr>
        <p:spPr>
          <a:xfrm>
            <a:off x="1617840" y="5321160"/>
            <a:ext cx="155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f2cc"/>
                </a:solidFill>
                <a:latin typeface="微软雅黑"/>
                <a:ea typeface="微软雅黑"/>
              </a:rPr>
              <a:t>Threat</a:t>
            </a:r>
            <a:endParaRPr b="0" lang="en-US" sz="1400" spc="-1" strike="noStrike">
              <a:solidFill>
                <a:srgbClr val="000000"/>
              </a:solidFill>
              <a:latin typeface="Arial"/>
            </a:endParaRPr>
          </a:p>
        </p:txBody>
      </p:sp>
      <p:sp>
        <p:nvSpPr>
          <p:cNvPr id="255" name="矩形 18"/>
          <p:cNvSpPr/>
          <p:nvPr/>
        </p:nvSpPr>
        <p:spPr>
          <a:xfrm>
            <a:off x="1319040" y="18176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56" name="矩形 19"/>
          <p:cNvSpPr/>
          <p:nvPr/>
        </p:nvSpPr>
        <p:spPr>
          <a:xfrm>
            <a:off x="8142120" y="18176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57" name="矩形 20"/>
          <p:cNvSpPr/>
          <p:nvPr/>
        </p:nvSpPr>
        <p:spPr>
          <a:xfrm>
            <a:off x="8142120" y="35402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58" name="矩形 21"/>
          <p:cNvSpPr/>
          <p:nvPr/>
        </p:nvSpPr>
        <p:spPr>
          <a:xfrm>
            <a:off x="1319040" y="351468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59" name="灯片编号占位符 25"/>
          <p:cNvSpPr/>
          <p:nvPr/>
        </p:nvSpPr>
        <p:spPr>
          <a:xfrm>
            <a:off x="11756880" y="5805360"/>
            <a:ext cx="435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0A39-A04B-4110-8FB0-B17A8F61EB4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100"/>
                                  </p:stCondLst>
                                  <p:childTnLst>
                                    <p:set>
                                      <p:cBhvr>
                                        <p:cTn id="83" dur="1" fill="hold">
                                          <p:stCondLst>
                                            <p:cond delay="0"/>
                                          </p:stCondLst>
                                        </p:cTn>
                                        <p:tgtEl>
                                          <p:spTgt spid="247"/>
                                        </p:tgtEl>
                                        <p:attrNameLst>
                                          <p:attrName>style.visibility</p:attrName>
                                        </p:attrNameLst>
                                      </p:cBhvr>
                                      <p:to>
                                        <p:strVal val="visible"/>
                                      </p:to>
                                    </p:set>
                                    <p:animEffect filter="wipe(up)" transition="in">
                                      <p:cBhvr additive="repl">
                                        <p:cTn id="84" dur="500"/>
                                        <p:tgtEl>
                                          <p:spTgt spid="247"/>
                                        </p:tgtEl>
                                      </p:cBhvr>
                                    </p:animEffect>
                                  </p:childTnLst>
                                </p:cTn>
                              </p:par>
                              <p:par>
                                <p:cTn id="85" nodeType="withEffect" fill="hold" presetClass="entr" presetID="10">
                                  <p:stCondLst>
                                    <p:cond delay="100"/>
                                  </p:stCondLst>
                                  <p:childTnLst>
                                    <p:set>
                                      <p:cBhvr>
                                        <p:cTn id="86" dur="1" fill="hold">
                                          <p:stCondLst>
                                            <p:cond delay="0"/>
                                          </p:stCondLst>
                                        </p:cTn>
                                        <p:tgtEl>
                                          <p:spTgt spid="248"/>
                                        </p:tgtEl>
                                        <p:attrNameLst>
                                          <p:attrName>style.visibility</p:attrName>
                                        </p:attrNameLst>
                                      </p:cBhvr>
                                      <p:to>
                                        <p:strVal val="visible"/>
                                      </p:to>
                                    </p:set>
                                    <p:animEffect filter="wipe(up)" transition="in">
                                      <p:cBhvr additive="repl">
                                        <p:cTn id="87" dur="500"/>
                                        <p:tgtEl>
                                          <p:spTgt spid="248"/>
                                        </p:tgtEl>
                                      </p:cBhvr>
                                    </p:animEffect>
                                  </p:childTnLst>
                                </p:cTn>
                              </p:par>
                              <p:par>
                                <p:cTn id="88" nodeType="withEffect" fill="hold" presetClass="entr" presetID="10">
                                  <p:stCondLst>
                                    <p:cond delay="100"/>
                                  </p:stCondLst>
                                  <p:childTnLst>
                                    <p:set>
                                      <p:cBhvr>
                                        <p:cTn id="89" dur="1" fill="hold">
                                          <p:stCondLst>
                                            <p:cond delay="0"/>
                                          </p:stCondLst>
                                        </p:cTn>
                                        <p:tgtEl>
                                          <p:spTgt spid="249"/>
                                        </p:tgtEl>
                                        <p:attrNameLst>
                                          <p:attrName>style.visibility</p:attrName>
                                        </p:attrNameLst>
                                      </p:cBhvr>
                                      <p:to>
                                        <p:strVal val="visible"/>
                                      </p:to>
                                    </p:set>
                                    <p:animEffect filter="wipe(up)" transition="in">
                                      <p:cBhvr additive="repl">
                                        <p:cTn id="90" dur="500"/>
                                        <p:tgtEl>
                                          <p:spTgt spid="249"/>
                                        </p:tgtEl>
                                      </p:cBhvr>
                                    </p:animEffect>
                                  </p:childTnLst>
                                </p:cTn>
                              </p:par>
                              <p:par>
                                <p:cTn id="91" nodeType="withEffect" fill="hold" presetClass="entr" presetID="10">
                                  <p:stCondLst>
                                    <p:cond delay="100"/>
                                  </p:stCondLst>
                                  <p:childTnLst>
                                    <p:set>
                                      <p:cBhvr>
                                        <p:cTn id="92" dur="1" fill="hold">
                                          <p:stCondLst>
                                            <p:cond delay="0"/>
                                          </p:stCondLst>
                                        </p:cTn>
                                        <p:tgtEl>
                                          <p:spTgt spid="250"/>
                                        </p:tgtEl>
                                        <p:attrNameLst>
                                          <p:attrName>style.visibility</p:attrName>
                                        </p:attrNameLst>
                                      </p:cBhvr>
                                      <p:to>
                                        <p:strVal val="visible"/>
                                      </p:to>
                                    </p:set>
                                    <p:animEffect filter="wipe(up)" transition="in">
                                      <p:cBhvr additive="repl">
                                        <p:cTn id="93" dur="500"/>
                                        <p:tgtEl>
                                          <p:spTgt spid="250"/>
                                        </p:tgtEl>
                                      </p:cBhvr>
                                    </p:animEffect>
                                  </p:childTnLst>
                                </p:cTn>
                              </p:par>
                              <p:par>
                                <p:cTn id="94" nodeType="withEffect" fill="hold" presetClass="entr" presetID="10">
                                  <p:stCondLst>
                                    <p:cond delay="100"/>
                                  </p:stCondLst>
                                  <p:childTnLst>
                                    <p:set>
                                      <p:cBhvr>
                                        <p:cTn id="95" dur="1" fill="hold">
                                          <p:stCondLst>
                                            <p:cond delay="0"/>
                                          </p:stCondLst>
                                        </p:cTn>
                                        <p:tgtEl>
                                          <p:spTgt spid="251"/>
                                        </p:tgtEl>
                                        <p:attrNameLst>
                                          <p:attrName>style.visibility</p:attrName>
                                        </p:attrNameLst>
                                      </p:cBhvr>
                                      <p:to>
                                        <p:strVal val="visible"/>
                                      </p:to>
                                    </p:set>
                                    <p:animEffect filter="wipe(up)" transition="in">
                                      <p:cBhvr additive="repl">
                                        <p:cTn id="96" dur="500"/>
                                        <p:tgtEl>
                                          <p:spTgt spid="251"/>
                                        </p:tgtEl>
                                      </p:cBhvr>
                                    </p:animEffect>
                                  </p:childTnLst>
                                </p:cTn>
                              </p:par>
                              <p:par>
                                <p:cTn id="97" nodeType="withEffect" fill="hold" presetClass="entr" presetID="10">
                                  <p:stCondLst>
                                    <p:cond delay="100"/>
                                  </p:stCondLst>
                                  <p:childTnLst>
                                    <p:set>
                                      <p:cBhvr>
                                        <p:cTn id="98" dur="1" fill="hold">
                                          <p:stCondLst>
                                            <p:cond delay="0"/>
                                          </p:stCondLst>
                                        </p:cTn>
                                        <p:tgtEl>
                                          <p:spTgt spid="252"/>
                                        </p:tgtEl>
                                        <p:attrNameLst>
                                          <p:attrName>style.visibility</p:attrName>
                                        </p:attrNameLst>
                                      </p:cBhvr>
                                      <p:to>
                                        <p:strVal val="visible"/>
                                      </p:to>
                                    </p:set>
                                    <p:animEffect filter="wipe(up)" transition="in">
                                      <p:cBhvr additive="repl">
                                        <p:cTn id="99" dur="500"/>
                                        <p:tgtEl>
                                          <p:spTgt spid="252"/>
                                        </p:tgtEl>
                                      </p:cBhvr>
                                    </p:animEffect>
                                  </p:childTnLst>
                                </p:cTn>
                              </p:par>
                              <p:par>
                                <p:cTn id="100" nodeType="withEffect" fill="hold" presetClass="entr" presetID="10">
                                  <p:stCondLst>
                                    <p:cond delay="100"/>
                                  </p:stCondLst>
                                  <p:childTnLst>
                                    <p:set>
                                      <p:cBhvr>
                                        <p:cTn id="101" dur="1" fill="hold">
                                          <p:stCondLst>
                                            <p:cond delay="0"/>
                                          </p:stCondLst>
                                        </p:cTn>
                                        <p:tgtEl>
                                          <p:spTgt spid="253"/>
                                        </p:tgtEl>
                                        <p:attrNameLst>
                                          <p:attrName>style.visibility</p:attrName>
                                        </p:attrNameLst>
                                      </p:cBhvr>
                                      <p:to>
                                        <p:strVal val="visible"/>
                                      </p:to>
                                    </p:set>
                                    <p:animEffect filter="wipe(up)" transition="in">
                                      <p:cBhvr additive="repl">
                                        <p:cTn id="102" dur="500"/>
                                        <p:tgtEl>
                                          <p:spTgt spid="253"/>
                                        </p:tgtEl>
                                      </p:cBhvr>
                                    </p:animEffect>
                                  </p:childTnLst>
                                </p:cTn>
                              </p:par>
                              <p:par>
                                <p:cTn id="103" nodeType="withEffect" fill="hold" presetClass="entr" presetID="10">
                                  <p:stCondLst>
                                    <p:cond delay="100"/>
                                  </p:stCondLst>
                                  <p:childTnLst>
                                    <p:set>
                                      <p:cBhvr>
                                        <p:cTn id="104" dur="1" fill="hold">
                                          <p:stCondLst>
                                            <p:cond delay="0"/>
                                          </p:stCondLst>
                                        </p:cTn>
                                        <p:tgtEl>
                                          <p:spTgt spid="254"/>
                                        </p:tgtEl>
                                        <p:attrNameLst>
                                          <p:attrName>style.visibility</p:attrName>
                                        </p:attrNameLst>
                                      </p:cBhvr>
                                      <p:to>
                                        <p:strVal val="visible"/>
                                      </p:to>
                                    </p:set>
                                    <p:animEffect filter="wipe(up)" transition="in">
                                      <p:cBhvr additive="repl">
                                        <p:cTn id="10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15"/>
          <p:cNvSpPr/>
          <p:nvPr/>
        </p:nvSpPr>
        <p:spPr>
          <a:xfrm>
            <a:off x="4959360" y="173664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269" name="TextBox 15"/>
          <p:cNvSpPr/>
          <p:nvPr/>
        </p:nvSpPr>
        <p:spPr>
          <a:xfrm>
            <a:off x="1954080" y="450540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270" name="矩形 33"/>
          <p:cNvSpPr/>
          <p:nvPr/>
        </p:nvSpPr>
        <p:spPr>
          <a:xfrm>
            <a:off x="5951880" y="1138320"/>
            <a:ext cx="2863080" cy="581400"/>
          </a:xfrm>
          <a:prstGeom prst="rect">
            <a:avLst/>
          </a:prstGeom>
          <a:solidFill>
            <a:srgbClr val="ffa14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271" name="矩形 34"/>
          <p:cNvSpPr/>
          <p:nvPr/>
        </p:nvSpPr>
        <p:spPr>
          <a:xfrm>
            <a:off x="3416040" y="3984480"/>
            <a:ext cx="2192400" cy="459720"/>
          </a:xfrm>
          <a:prstGeom prst="rect">
            <a:avLst/>
          </a:prstGeom>
          <a:solidFill>
            <a:srgbClr val="22f2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pic>
        <p:nvPicPr>
          <p:cNvPr id="272" name="图片 13" descr=""/>
          <p:cNvPicPr/>
          <p:nvPr/>
        </p:nvPicPr>
        <p:blipFill>
          <a:blip r:embed="rId1"/>
          <a:srcRect l="0" t="0" r="0" b="-20"/>
          <a:stretch/>
        </p:blipFill>
        <p:spPr>
          <a:xfrm>
            <a:off x="790560" y="905040"/>
            <a:ext cx="3505320" cy="2209680"/>
          </a:xfrm>
          <a:prstGeom prst="rect">
            <a:avLst/>
          </a:prstGeom>
          <a:ln w="9360">
            <a:solidFill>
              <a:srgbClr val="ffffff"/>
            </a:solidFill>
            <a:bevel/>
          </a:ln>
        </p:spPr>
      </p:pic>
      <p:pic>
        <p:nvPicPr>
          <p:cNvPr id="273" name="图片 14" descr=""/>
          <p:cNvPicPr/>
          <p:nvPr/>
        </p:nvPicPr>
        <p:blipFill>
          <a:blip r:embed="rId2"/>
          <a:srcRect l="0" t="0" r="-63" b="121"/>
          <a:stretch/>
        </p:blipFill>
        <p:spPr>
          <a:xfrm>
            <a:off x="7050240" y="3622680"/>
            <a:ext cx="3573360" cy="2241720"/>
          </a:xfrm>
          <a:prstGeom prst="rect">
            <a:avLst/>
          </a:prstGeom>
          <a:ln w="9360">
            <a:solidFill>
              <a:srgbClr val="ffffff"/>
            </a:solidFill>
            <a:beve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圆角矩形 6"/>
          <p:cNvSpPr/>
          <p:nvPr/>
        </p:nvSpPr>
        <p:spPr>
          <a:xfrm>
            <a:off x="1681200" y="1155600"/>
            <a:ext cx="8724960" cy="1365480"/>
          </a:xfrm>
          <a:prstGeom prst="roundRect">
            <a:avLst>
              <a:gd name="adj" fmla="val 16667"/>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圆角矩形 25"/>
          <p:cNvSpPr/>
          <p:nvPr/>
        </p:nvSpPr>
        <p:spPr>
          <a:xfrm>
            <a:off x="1681200" y="2746440"/>
            <a:ext cx="8724960" cy="1365120"/>
          </a:xfrm>
          <a:prstGeom prst="roundRect">
            <a:avLst>
              <a:gd name="adj" fmla="val 16667"/>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圆角矩形 26"/>
          <p:cNvSpPr/>
          <p:nvPr/>
        </p:nvSpPr>
        <p:spPr>
          <a:xfrm>
            <a:off x="1681200" y="4336920"/>
            <a:ext cx="8724960" cy="1365480"/>
          </a:xfrm>
          <a:prstGeom prst="roundRect">
            <a:avLst>
              <a:gd name="adj" fmla="val 16667"/>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27"/>
          <p:cNvSpPr/>
          <p:nvPr/>
        </p:nvSpPr>
        <p:spPr>
          <a:xfrm>
            <a:off x="3181320" y="2746440"/>
            <a:ext cx="6937560" cy="1365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28"/>
          <p:cNvSpPr/>
          <p:nvPr/>
        </p:nvSpPr>
        <p:spPr>
          <a:xfrm>
            <a:off x="3181320" y="1163520"/>
            <a:ext cx="6937560" cy="13654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29"/>
          <p:cNvSpPr/>
          <p:nvPr/>
        </p:nvSpPr>
        <p:spPr>
          <a:xfrm>
            <a:off x="3181320" y="4341960"/>
            <a:ext cx="6937560" cy="1365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2149560" y="1335240"/>
            <a:ext cx="563400" cy="979200"/>
          </a:xfrm>
          <a:custGeom>
            <a:avLst/>
            <a:gdLst>
              <a:gd name="textAreaLeft" fmla="*/ 0 w 563400"/>
              <a:gd name="textAreaRight" fmla="*/ 563760 w 563400"/>
              <a:gd name="textAreaTop" fmla="*/ 0 h 979200"/>
              <a:gd name="textAreaBottom" fmla="*/ 979560 h 979200"/>
            </a:gdLst>
            <a:ahLst/>
            <a:rect l="textAreaLeft" t="textAreaTop" r="textAreaRight" b="textAreaBottom"/>
            <a:pathLst>
              <a:path w="3238500" h="5638341">
                <a:moveTo>
                  <a:pt x="703180" y="4435548"/>
                </a:moveTo>
                <a:lnTo>
                  <a:pt x="2535317" y="4435548"/>
                </a:lnTo>
                <a:lnTo>
                  <a:pt x="2535317" y="4838393"/>
                </a:lnTo>
                <a:lnTo>
                  <a:pt x="703180" y="4838393"/>
                </a:lnTo>
                <a:lnTo>
                  <a:pt x="703180" y="4435548"/>
                </a:lnTo>
                <a:close/>
                <a:moveTo>
                  <a:pt x="703181" y="3675025"/>
                </a:moveTo>
                <a:lnTo>
                  <a:pt x="2535318" y="3675025"/>
                </a:lnTo>
                <a:lnTo>
                  <a:pt x="2535318" y="4077870"/>
                </a:lnTo>
                <a:lnTo>
                  <a:pt x="703181" y="4077870"/>
                </a:lnTo>
                <a:lnTo>
                  <a:pt x="703181" y="3675025"/>
                </a:lnTo>
                <a:close/>
                <a:moveTo>
                  <a:pt x="703181" y="2914502"/>
                </a:moveTo>
                <a:lnTo>
                  <a:pt x="2535318" y="2914502"/>
                </a:lnTo>
                <a:lnTo>
                  <a:pt x="2535318" y="3317347"/>
                </a:lnTo>
                <a:lnTo>
                  <a:pt x="703181" y="3317347"/>
                </a:lnTo>
                <a:lnTo>
                  <a:pt x="703181" y="2914502"/>
                </a:lnTo>
                <a:close/>
                <a:moveTo>
                  <a:pt x="703181" y="2153979"/>
                </a:moveTo>
                <a:lnTo>
                  <a:pt x="2535318" y="2153979"/>
                </a:lnTo>
                <a:lnTo>
                  <a:pt x="2535318" y="2556824"/>
                </a:lnTo>
                <a:lnTo>
                  <a:pt x="703181" y="2556824"/>
                </a:lnTo>
                <a:lnTo>
                  <a:pt x="703181" y="2153979"/>
                </a:lnTo>
                <a:close/>
                <a:moveTo>
                  <a:pt x="703181" y="1393456"/>
                </a:moveTo>
                <a:lnTo>
                  <a:pt x="2535318" y="1393456"/>
                </a:lnTo>
                <a:lnTo>
                  <a:pt x="2535318" y="1796301"/>
                </a:lnTo>
                <a:lnTo>
                  <a:pt x="703181" y="1796301"/>
                </a:lnTo>
                <a:lnTo>
                  <a:pt x="703181" y="1393456"/>
                </a:lnTo>
                <a:close/>
                <a:moveTo>
                  <a:pt x="545879" y="854765"/>
                </a:moveTo>
                <a:cubicBezTo>
                  <a:pt x="440576" y="854765"/>
                  <a:pt x="355211" y="940130"/>
                  <a:pt x="355211" y="1045433"/>
                </a:cubicBezTo>
                <a:lnTo>
                  <a:pt x="355211" y="5115447"/>
                </a:lnTo>
                <a:cubicBezTo>
                  <a:pt x="355211" y="5220750"/>
                  <a:pt x="440576" y="5306115"/>
                  <a:pt x="545879" y="5306115"/>
                </a:cubicBezTo>
                <a:lnTo>
                  <a:pt x="2692622" y="5306115"/>
                </a:lnTo>
                <a:cubicBezTo>
                  <a:pt x="2797925" y="5306115"/>
                  <a:pt x="2883290" y="5220750"/>
                  <a:pt x="2883290" y="5115447"/>
                </a:cubicBezTo>
                <a:lnTo>
                  <a:pt x="2883290" y="1045433"/>
                </a:lnTo>
                <a:cubicBezTo>
                  <a:pt x="2883290" y="940130"/>
                  <a:pt x="2797925" y="854765"/>
                  <a:pt x="2692622" y="854765"/>
                </a:cubicBezTo>
                <a:lnTo>
                  <a:pt x="545879" y="854765"/>
                </a:lnTo>
                <a:close/>
                <a:moveTo>
                  <a:pt x="1055257" y="0"/>
                </a:moveTo>
                <a:lnTo>
                  <a:pt x="2197532" y="0"/>
                </a:lnTo>
                <a:cubicBezTo>
                  <a:pt x="2271379" y="0"/>
                  <a:pt x="2331244" y="59865"/>
                  <a:pt x="2331244" y="133712"/>
                </a:cubicBezTo>
                <a:lnTo>
                  <a:pt x="2331244" y="522540"/>
                </a:lnTo>
                <a:lnTo>
                  <a:pt x="2718105" y="522540"/>
                </a:lnTo>
                <a:cubicBezTo>
                  <a:pt x="3005511" y="522540"/>
                  <a:pt x="3238500" y="755529"/>
                  <a:pt x="3238500" y="1042935"/>
                </a:cubicBezTo>
                <a:lnTo>
                  <a:pt x="3238500" y="5117946"/>
                </a:lnTo>
                <a:cubicBezTo>
                  <a:pt x="3238500" y="5405352"/>
                  <a:pt x="3005511" y="5638341"/>
                  <a:pt x="2718105" y="5638341"/>
                </a:cubicBezTo>
                <a:lnTo>
                  <a:pt x="520395" y="5638341"/>
                </a:lnTo>
                <a:cubicBezTo>
                  <a:pt x="232989" y="5638341"/>
                  <a:pt x="0" y="5405352"/>
                  <a:pt x="0" y="5117946"/>
                </a:cubicBezTo>
                <a:lnTo>
                  <a:pt x="0" y="1042935"/>
                </a:lnTo>
                <a:cubicBezTo>
                  <a:pt x="0" y="755529"/>
                  <a:pt x="232989" y="522540"/>
                  <a:pt x="520395" y="522540"/>
                </a:cubicBezTo>
                <a:lnTo>
                  <a:pt x="921545" y="522540"/>
                </a:lnTo>
                <a:lnTo>
                  <a:pt x="921545" y="133712"/>
                </a:lnTo>
                <a:cubicBezTo>
                  <a:pt x="921545" y="59865"/>
                  <a:pt x="981410" y="0"/>
                  <a:pt x="1055257"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KSO_Shape"/>
          <p:cNvSpPr/>
          <p:nvPr/>
        </p:nvSpPr>
        <p:spPr>
          <a:xfrm>
            <a:off x="2100240" y="2987640"/>
            <a:ext cx="795240" cy="779400"/>
          </a:xfrm>
          <a:custGeom>
            <a:avLst/>
            <a:gdLst>
              <a:gd name="textAreaLeft" fmla="*/ 0 w 795240"/>
              <a:gd name="textAreaRight" fmla="*/ 795600 w 795240"/>
              <a:gd name="textAreaTop" fmla="*/ 0 h 779400"/>
              <a:gd name="textAreaBottom" fmla="*/ 779760 h 779400"/>
            </a:gdLst>
            <a:ahLst/>
            <a:rect l="textAreaLeft" t="textAreaTop" r="textAreaRight" b="textAreaBottom"/>
            <a:pathLst>
              <a:path w="2787650" h="2727325">
                <a:moveTo>
                  <a:pt x="1725430" y="1438200"/>
                </a:moveTo>
                <a:lnTo>
                  <a:pt x="1723068" y="1448633"/>
                </a:lnTo>
                <a:lnTo>
                  <a:pt x="1718621" y="1464515"/>
                </a:lnTo>
                <a:lnTo>
                  <a:pt x="1712903" y="1480398"/>
                </a:lnTo>
                <a:lnTo>
                  <a:pt x="1706868" y="1495963"/>
                </a:lnTo>
                <a:lnTo>
                  <a:pt x="1700197" y="1510892"/>
                </a:lnTo>
                <a:lnTo>
                  <a:pt x="1692574" y="1525504"/>
                </a:lnTo>
                <a:lnTo>
                  <a:pt x="1684632" y="1539480"/>
                </a:lnTo>
                <a:lnTo>
                  <a:pt x="1675738" y="1553457"/>
                </a:lnTo>
                <a:lnTo>
                  <a:pt x="1666209" y="1566798"/>
                </a:lnTo>
                <a:lnTo>
                  <a:pt x="1656044" y="1579504"/>
                </a:lnTo>
                <a:lnTo>
                  <a:pt x="1645562" y="1591892"/>
                </a:lnTo>
                <a:lnTo>
                  <a:pt x="1634126" y="1603963"/>
                </a:lnTo>
                <a:lnTo>
                  <a:pt x="1622691" y="1614763"/>
                </a:lnTo>
                <a:lnTo>
                  <a:pt x="1610303" y="1625881"/>
                </a:lnTo>
                <a:lnTo>
                  <a:pt x="1597279" y="1636046"/>
                </a:lnTo>
                <a:lnTo>
                  <a:pt x="1583938" y="1645257"/>
                </a:lnTo>
                <a:lnTo>
                  <a:pt x="1570279" y="1654152"/>
                </a:lnTo>
                <a:lnTo>
                  <a:pt x="1555985" y="1662410"/>
                </a:lnTo>
                <a:lnTo>
                  <a:pt x="1541373" y="1669716"/>
                </a:lnTo>
                <a:lnTo>
                  <a:pt x="1526126" y="1676705"/>
                </a:lnTo>
                <a:lnTo>
                  <a:pt x="1510879" y="1682740"/>
                </a:lnTo>
                <a:lnTo>
                  <a:pt x="1494996" y="1687822"/>
                </a:lnTo>
                <a:lnTo>
                  <a:pt x="1478796" y="1692905"/>
                </a:lnTo>
                <a:lnTo>
                  <a:pt x="1468641" y="1695248"/>
                </a:lnTo>
                <a:lnTo>
                  <a:pt x="1521201" y="2237276"/>
                </a:lnTo>
                <a:lnTo>
                  <a:pt x="1539306" y="2234102"/>
                </a:lnTo>
                <a:lnTo>
                  <a:pt x="1557095" y="2231246"/>
                </a:lnTo>
                <a:lnTo>
                  <a:pt x="1574883" y="2227437"/>
                </a:lnTo>
                <a:lnTo>
                  <a:pt x="1592671" y="2223629"/>
                </a:lnTo>
                <a:lnTo>
                  <a:pt x="1610141" y="2219502"/>
                </a:lnTo>
                <a:lnTo>
                  <a:pt x="1627294" y="2215059"/>
                </a:lnTo>
                <a:lnTo>
                  <a:pt x="1644765" y="2209981"/>
                </a:lnTo>
                <a:lnTo>
                  <a:pt x="1661600" y="2204903"/>
                </a:lnTo>
                <a:lnTo>
                  <a:pt x="1678435" y="2199190"/>
                </a:lnTo>
                <a:lnTo>
                  <a:pt x="1695588" y="2193159"/>
                </a:lnTo>
                <a:lnTo>
                  <a:pt x="1712105" y="2187129"/>
                </a:lnTo>
                <a:lnTo>
                  <a:pt x="1728623" y="2180464"/>
                </a:lnTo>
                <a:lnTo>
                  <a:pt x="1744823" y="2173481"/>
                </a:lnTo>
                <a:lnTo>
                  <a:pt x="1761022" y="2166498"/>
                </a:lnTo>
                <a:lnTo>
                  <a:pt x="1776905" y="2158881"/>
                </a:lnTo>
                <a:lnTo>
                  <a:pt x="1792469" y="2150946"/>
                </a:lnTo>
                <a:lnTo>
                  <a:pt x="1808352" y="2142694"/>
                </a:lnTo>
                <a:lnTo>
                  <a:pt x="1823916" y="2134442"/>
                </a:lnTo>
                <a:lnTo>
                  <a:pt x="1838845" y="2125873"/>
                </a:lnTo>
                <a:lnTo>
                  <a:pt x="1854092" y="2116668"/>
                </a:lnTo>
                <a:lnTo>
                  <a:pt x="1869022" y="2107464"/>
                </a:lnTo>
                <a:lnTo>
                  <a:pt x="1883633" y="2097942"/>
                </a:lnTo>
                <a:lnTo>
                  <a:pt x="1897927" y="2088103"/>
                </a:lnTo>
                <a:lnTo>
                  <a:pt x="1912221" y="2077947"/>
                </a:lnTo>
                <a:lnTo>
                  <a:pt x="1926198" y="2067473"/>
                </a:lnTo>
                <a:lnTo>
                  <a:pt x="1940174" y="2056999"/>
                </a:lnTo>
                <a:lnTo>
                  <a:pt x="1953833" y="2046208"/>
                </a:lnTo>
                <a:lnTo>
                  <a:pt x="1966856" y="2034782"/>
                </a:lnTo>
                <a:lnTo>
                  <a:pt x="1980197" y="2023673"/>
                </a:lnTo>
                <a:lnTo>
                  <a:pt x="1993221" y="2011613"/>
                </a:lnTo>
                <a:lnTo>
                  <a:pt x="2005609" y="1999869"/>
                </a:lnTo>
                <a:lnTo>
                  <a:pt x="2017997" y="1987491"/>
                </a:lnTo>
                <a:lnTo>
                  <a:pt x="2030385" y="1975113"/>
                </a:lnTo>
                <a:lnTo>
                  <a:pt x="2042138" y="1962735"/>
                </a:lnTo>
                <a:lnTo>
                  <a:pt x="2054209" y="1949404"/>
                </a:lnTo>
                <a:lnTo>
                  <a:pt x="2065644" y="1936391"/>
                </a:lnTo>
                <a:lnTo>
                  <a:pt x="2076761" y="1923061"/>
                </a:lnTo>
                <a:lnTo>
                  <a:pt x="2087561" y="1909413"/>
                </a:lnTo>
                <a:lnTo>
                  <a:pt x="2098361" y="1895765"/>
                </a:lnTo>
                <a:lnTo>
                  <a:pt x="2108843" y="1881800"/>
                </a:lnTo>
                <a:lnTo>
                  <a:pt x="2119008" y="1867518"/>
                </a:lnTo>
                <a:lnTo>
                  <a:pt x="2128855" y="1852918"/>
                </a:lnTo>
                <a:lnTo>
                  <a:pt x="2138067" y="1838635"/>
                </a:lnTo>
                <a:lnTo>
                  <a:pt x="2147596" y="1823401"/>
                </a:lnTo>
                <a:lnTo>
                  <a:pt x="2156490" y="1808483"/>
                </a:lnTo>
                <a:lnTo>
                  <a:pt x="2165384" y="1793249"/>
                </a:lnTo>
                <a:lnTo>
                  <a:pt x="2173643" y="1778014"/>
                </a:lnTo>
                <a:lnTo>
                  <a:pt x="2181902" y="1762145"/>
                </a:lnTo>
                <a:lnTo>
                  <a:pt x="2189843" y="1746275"/>
                </a:lnTo>
                <a:lnTo>
                  <a:pt x="2197149" y="1730406"/>
                </a:lnTo>
                <a:lnTo>
                  <a:pt x="2204454" y="1714219"/>
                </a:lnTo>
                <a:lnTo>
                  <a:pt x="2211125" y="1698032"/>
                </a:lnTo>
                <a:lnTo>
                  <a:pt x="2217478" y="1681528"/>
                </a:lnTo>
                <a:lnTo>
                  <a:pt x="2223831" y="1665024"/>
                </a:lnTo>
                <a:lnTo>
                  <a:pt x="2229866" y="1648202"/>
                </a:lnTo>
                <a:lnTo>
                  <a:pt x="2235584" y="1631380"/>
                </a:lnTo>
                <a:lnTo>
                  <a:pt x="2240666" y="1614241"/>
                </a:lnTo>
                <a:lnTo>
                  <a:pt x="2245748" y="1597102"/>
                </a:lnTo>
                <a:lnTo>
                  <a:pt x="2250195" y="1579646"/>
                </a:lnTo>
                <a:lnTo>
                  <a:pt x="2254325" y="1561872"/>
                </a:lnTo>
                <a:lnTo>
                  <a:pt x="2258136" y="1544733"/>
                </a:lnTo>
                <a:lnTo>
                  <a:pt x="2261630" y="1526642"/>
                </a:lnTo>
                <a:lnTo>
                  <a:pt x="2265125" y="1508868"/>
                </a:lnTo>
                <a:lnTo>
                  <a:pt x="2267666" y="1490777"/>
                </a:lnTo>
                <a:lnTo>
                  <a:pt x="1725430" y="1438200"/>
                </a:lnTo>
                <a:close/>
                <a:moveTo>
                  <a:pt x="1062655" y="1438185"/>
                </a:moveTo>
                <a:lnTo>
                  <a:pt x="519984" y="1490777"/>
                </a:lnTo>
                <a:lnTo>
                  <a:pt x="522843" y="1508868"/>
                </a:lnTo>
                <a:lnTo>
                  <a:pt x="526019" y="1526642"/>
                </a:lnTo>
                <a:lnTo>
                  <a:pt x="529196" y="1544733"/>
                </a:lnTo>
                <a:lnTo>
                  <a:pt x="533325" y="1561872"/>
                </a:lnTo>
                <a:lnTo>
                  <a:pt x="537455" y="1579646"/>
                </a:lnTo>
                <a:lnTo>
                  <a:pt x="541902" y="1597102"/>
                </a:lnTo>
                <a:lnTo>
                  <a:pt x="546984" y="1614241"/>
                </a:lnTo>
                <a:lnTo>
                  <a:pt x="552066" y="1631380"/>
                </a:lnTo>
                <a:lnTo>
                  <a:pt x="557784" y="1648202"/>
                </a:lnTo>
                <a:lnTo>
                  <a:pt x="563502" y="1665024"/>
                </a:lnTo>
                <a:lnTo>
                  <a:pt x="569854" y="1681528"/>
                </a:lnTo>
                <a:lnTo>
                  <a:pt x="576207" y="1698032"/>
                </a:lnTo>
                <a:lnTo>
                  <a:pt x="583195" y="1714219"/>
                </a:lnTo>
                <a:lnTo>
                  <a:pt x="590501" y="1730406"/>
                </a:lnTo>
                <a:lnTo>
                  <a:pt x="597807" y="1746275"/>
                </a:lnTo>
                <a:lnTo>
                  <a:pt x="605748" y="1762145"/>
                </a:lnTo>
                <a:lnTo>
                  <a:pt x="614007" y="1778014"/>
                </a:lnTo>
                <a:lnTo>
                  <a:pt x="622266" y="1793249"/>
                </a:lnTo>
                <a:lnTo>
                  <a:pt x="630842" y="1808483"/>
                </a:lnTo>
                <a:lnTo>
                  <a:pt x="640054" y="1823401"/>
                </a:lnTo>
                <a:lnTo>
                  <a:pt x="649266" y="1838635"/>
                </a:lnTo>
                <a:lnTo>
                  <a:pt x="658795" y="1852918"/>
                </a:lnTo>
                <a:lnTo>
                  <a:pt x="668642" y="1867518"/>
                </a:lnTo>
                <a:lnTo>
                  <a:pt x="678807" y="1881800"/>
                </a:lnTo>
                <a:lnTo>
                  <a:pt x="689289" y="1895765"/>
                </a:lnTo>
                <a:lnTo>
                  <a:pt x="699771" y="1909413"/>
                </a:lnTo>
                <a:lnTo>
                  <a:pt x="710571" y="1923061"/>
                </a:lnTo>
                <a:lnTo>
                  <a:pt x="722006" y="1936391"/>
                </a:lnTo>
                <a:lnTo>
                  <a:pt x="733441" y="1949404"/>
                </a:lnTo>
                <a:lnTo>
                  <a:pt x="745194" y="1962735"/>
                </a:lnTo>
                <a:lnTo>
                  <a:pt x="756947" y="1975113"/>
                </a:lnTo>
                <a:lnTo>
                  <a:pt x="769335" y="1987491"/>
                </a:lnTo>
                <a:lnTo>
                  <a:pt x="781723" y="1999869"/>
                </a:lnTo>
                <a:lnTo>
                  <a:pt x="794429" y="2011613"/>
                </a:lnTo>
                <a:lnTo>
                  <a:pt x="807453" y="2023673"/>
                </a:lnTo>
                <a:lnTo>
                  <a:pt x="820476" y="2034782"/>
                </a:lnTo>
                <a:lnTo>
                  <a:pt x="833817" y="2046208"/>
                </a:lnTo>
                <a:lnTo>
                  <a:pt x="847476" y="2056999"/>
                </a:lnTo>
                <a:lnTo>
                  <a:pt x="861135" y="2067473"/>
                </a:lnTo>
                <a:lnTo>
                  <a:pt x="875111" y="2077947"/>
                </a:lnTo>
                <a:lnTo>
                  <a:pt x="889405" y="2088103"/>
                </a:lnTo>
                <a:lnTo>
                  <a:pt x="903699" y="2097942"/>
                </a:lnTo>
                <a:lnTo>
                  <a:pt x="918628" y="2107464"/>
                </a:lnTo>
                <a:lnTo>
                  <a:pt x="933558" y="2116668"/>
                </a:lnTo>
                <a:lnTo>
                  <a:pt x="948487" y="2125873"/>
                </a:lnTo>
                <a:lnTo>
                  <a:pt x="963734" y="2134442"/>
                </a:lnTo>
                <a:lnTo>
                  <a:pt x="978981" y="2142694"/>
                </a:lnTo>
                <a:lnTo>
                  <a:pt x="994863" y="2150946"/>
                </a:lnTo>
                <a:lnTo>
                  <a:pt x="1010745" y="2158881"/>
                </a:lnTo>
                <a:lnTo>
                  <a:pt x="1026627" y="2166498"/>
                </a:lnTo>
                <a:lnTo>
                  <a:pt x="1042827" y="2173481"/>
                </a:lnTo>
                <a:lnTo>
                  <a:pt x="1059028" y="2180464"/>
                </a:lnTo>
                <a:lnTo>
                  <a:pt x="1075545" y="2187129"/>
                </a:lnTo>
                <a:lnTo>
                  <a:pt x="1092063" y="2193159"/>
                </a:lnTo>
                <a:lnTo>
                  <a:pt x="1108898" y="2199190"/>
                </a:lnTo>
                <a:lnTo>
                  <a:pt x="1126051" y="2204903"/>
                </a:lnTo>
                <a:lnTo>
                  <a:pt x="1142886" y="2209981"/>
                </a:lnTo>
                <a:lnTo>
                  <a:pt x="1160039" y="2215059"/>
                </a:lnTo>
                <a:lnTo>
                  <a:pt x="1177509" y="2219502"/>
                </a:lnTo>
                <a:lnTo>
                  <a:pt x="1195297" y="2223629"/>
                </a:lnTo>
                <a:lnTo>
                  <a:pt x="1212768" y="2227437"/>
                </a:lnTo>
                <a:lnTo>
                  <a:pt x="1230556" y="2231246"/>
                </a:lnTo>
                <a:lnTo>
                  <a:pt x="1248662" y="2234102"/>
                </a:lnTo>
                <a:lnTo>
                  <a:pt x="1266450" y="2237276"/>
                </a:lnTo>
                <a:lnTo>
                  <a:pt x="1319017" y="1695177"/>
                </a:lnTo>
                <a:lnTo>
                  <a:pt x="1309172" y="1692905"/>
                </a:lnTo>
                <a:lnTo>
                  <a:pt x="1292972" y="1687822"/>
                </a:lnTo>
                <a:lnTo>
                  <a:pt x="1277089" y="1682740"/>
                </a:lnTo>
                <a:lnTo>
                  <a:pt x="1261525" y="1676705"/>
                </a:lnTo>
                <a:lnTo>
                  <a:pt x="1246595" y="1669716"/>
                </a:lnTo>
                <a:lnTo>
                  <a:pt x="1232301" y="1662410"/>
                </a:lnTo>
                <a:lnTo>
                  <a:pt x="1218007" y="1654152"/>
                </a:lnTo>
                <a:lnTo>
                  <a:pt x="1204030" y="1645257"/>
                </a:lnTo>
                <a:lnTo>
                  <a:pt x="1190689" y="1636046"/>
                </a:lnTo>
                <a:lnTo>
                  <a:pt x="1177983" y="1625881"/>
                </a:lnTo>
                <a:lnTo>
                  <a:pt x="1165595" y="1615398"/>
                </a:lnTo>
                <a:lnTo>
                  <a:pt x="1153842" y="1603963"/>
                </a:lnTo>
                <a:lnTo>
                  <a:pt x="1142724" y="1591892"/>
                </a:lnTo>
                <a:lnTo>
                  <a:pt x="1131606" y="1579822"/>
                </a:lnTo>
                <a:lnTo>
                  <a:pt x="1122077" y="1567116"/>
                </a:lnTo>
                <a:lnTo>
                  <a:pt x="1112230" y="1553457"/>
                </a:lnTo>
                <a:lnTo>
                  <a:pt x="1103336" y="1540116"/>
                </a:lnTo>
                <a:lnTo>
                  <a:pt x="1095077" y="1525504"/>
                </a:lnTo>
                <a:lnTo>
                  <a:pt x="1087771" y="1510892"/>
                </a:lnTo>
                <a:lnTo>
                  <a:pt x="1080783" y="1495963"/>
                </a:lnTo>
                <a:lnTo>
                  <a:pt x="1074747" y="1480398"/>
                </a:lnTo>
                <a:lnTo>
                  <a:pt x="1069665" y="1464515"/>
                </a:lnTo>
                <a:lnTo>
                  <a:pt x="1065218" y="1448633"/>
                </a:lnTo>
                <a:lnTo>
                  <a:pt x="1062655" y="1438185"/>
                </a:lnTo>
                <a:close/>
                <a:moveTo>
                  <a:pt x="1383502" y="1159891"/>
                </a:moveTo>
                <a:lnTo>
                  <a:pt x="1373019" y="1160844"/>
                </a:lnTo>
                <a:lnTo>
                  <a:pt x="1362855" y="1162114"/>
                </a:lnTo>
                <a:lnTo>
                  <a:pt x="1353007" y="1164020"/>
                </a:lnTo>
                <a:lnTo>
                  <a:pt x="1342843" y="1166244"/>
                </a:lnTo>
                <a:lnTo>
                  <a:pt x="1333631" y="1168785"/>
                </a:lnTo>
                <a:lnTo>
                  <a:pt x="1324101" y="1172279"/>
                </a:lnTo>
                <a:lnTo>
                  <a:pt x="1314572" y="1175455"/>
                </a:lnTo>
                <a:lnTo>
                  <a:pt x="1305678" y="1179585"/>
                </a:lnTo>
                <a:lnTo>
                  <a:pt x="1297101" y="1184350"/>
                </a:lnTo>
                <a:lnTo>
                  <a:pt x="1288207" y="1189114"/>
                </a:lnTo>
                <a:lnTo>
                  <a:pt x="1279948" y="1194514"/>
                </a:lnTo>
                <a:lnTo>
                  <a:pt x="1272007" y="1199914"/>
                </a:lnTo>
                <a:lnTo>
                  <a:pt x="1264384" y="1206585"/>
                </a:lnTo>
                <a:lnTo>
                  <a:pt x="1257078" y="1212938"/>
                </a:lnTo>
                <a:lnTo>
                  <a:pt x="1249772" y="1219609"/>
                </a:lnTo>
                <a:lnTo>
                  <a:pt x="1243101" y="1226279"/>
                </a:lnTo>
                <a:lnTo>
                  <a:pt x="1236748" y="1233903"/>
                </a:lnTo>
                <a:lnTo>
                  <a:pt x="1230713" y="1241526"/>
                </a:lnTo>
                <a:lnTo>
                  <a:pt x="1224995" y="1249785"/>
                </a:lnTo>
                <a:lnTo>
                  <a:pt x="1219913" y="1258044"/>
                </a:lnTo>
                <a:lnTo>
                  <a:pt x="1214830" y="1266303"/>
                </a:lnTo>
                <a:lnTo>
                  <a:pt x="1210383" y="1275197"/>
                </a:lnTo>
                <a:lnTo>
                  <a:pt x="1206254" y="1284409"/>
                </a:lnTo>
                <a:lnTo>
                  <a:pt x="1202442" y="1293303"/>
                </a:lnTo>
                <a:lnTo>
                  <a:pt x="1199583" y="1302832"/>
                </a:lnTo>
                <a:lnTo>
                  <a:pt x="1196407" y="1312680"/>
                </a:lnTo>
                <a:lnTo>
                  <a:pt x="1194183" y="1322527"/>
                </a:lnTo>
                <a:lnTo>
                  <a:pt x="1192595" y="1332691"/>
                </a:lnTo>
                <a:lnTo>
                  <a:pt x="1191324" y="1342856"/>
                </a:lnTo>
                <a:lnTo>
                  <a:pt x="1190371" y="1353339"/>
                </a:lnTo>
                <a:lnTo>
                  <a:pt x="1190054" y="1363503"/>
                </a:lnTo>
                <a:lnTo>
                  <a:pt x="1190371" y="1373986"/>
                </a:lnTo>
                <a:lnTo>
                  <a:pt x="1191324" y="1384468"/>
                </a:lnTo>
                <a:lnTo>
                  <a:pt x="1192595" y="1394633"/>
                </a:lnTo>
                <a:lnTo>
                  <a:pt x="1194183" y="1404798"/>
                </a:lnTo>
                <a:lnTo>
                  <a:pt x="1196407" y="1414645"/>
                </a:lnTo>
                <a:lnTo>
                  <a:pt x="1199583" y="1424174"/>
                </a:lnTo>
                <a:lnTo>
                  <a:pt x="1202442" y="1433704"/>
                </a:lnTo>
                <a:lnTo>
                  <a:pt x="1206254" y="1442915"/>
                </a:lnTo>
                <a:lnTo>
                  <a:pt x="1210383" y="1451810"/>
                </a:lnTo>
                <a:lnTo>
                  <a:pt x="1214830" y="1460386"/>
                </a:lnTo>
                <a:lnTo>
                  <a:pt x="1219913" y="1469280"/>
                </a:lnTo>
                <a:lnTo>
                  <a:pt x="1224995" y="1477539"/>
                </a:lnTo>
                <a:lnTo>
                  <a:pt x="1230713" y="1485480"/>
                </a:lnTo>
                <a:lnTo>
                  <a:pt x="1236748" y="1493421"/>
                </a:lnTo>
                <a:lnTo>
                  <a:pt x="1243101" y="1500410"/>
                </a:lnTo>
                <a:lnTo>
                  <a:pt x="1249772" y="1507716"/>
                </a:lnTo>
                <a:lnTo>
                  <a:pt x="1257078" y="1514386"/>
                </a:lnTo>
                <a:lnTo>
                  <a:pt x="1264384" y="1520739"/>
                </a:lnTo>
                <a:lnTo>
                  <a:pt x="1272007" y="1526775"/>
                </a:lnTo>
                <a:lnTo>
                  <a:pt x="1279948" y="1532492"/>
                </a:lnTo>
                <a:lnTo>
                  <a:pt x="1288207" y="1537575"/>
                </a:lnTo>
                <a:lnTo>
                  <a:pt x="1297101" y="1542657"/>
                </a:lnTo>
                <a:lnTo>
                  <a:pt x="1305678" y="1547104"/>
                </a:lnTo>
                <a:lnTo>
                  <a:pt x="1314572" y="1551233"/>
                </a:lnTo>
                <a:lnTo>
                  <a:pt x="1323784" y="1555045"/>
                </a:lnTo>
                <a:lnTo>
                  <a:pt x="1333631" y="1557904"/>
                </a:lnTo>
                <a:lnTo>
                  <a:pt x="1342843" y="1561081"/>
                </a:lnTo>
                <a:lnTo>
                  <a:pt x="1352690" y="1563304"/>
                </a:lnTo>
                <a:lnTo>
                  <a:pt x="1362855" y="1564892"/>
                </a:lnTo>
                <a:lnTo>
                  <a:pt x="1373019" y="1566163"/>
                </a:lnTo>
                <a:lnTo>
                  <a:pt x="1383502" y="1567116"/>
                </a:lnTo>
                <a:lnTo>
                  <a:pt x="1393984" y="1567434"/>
                </a:lnTo>
                <a:lnTo>
                  <a:pt x="1404149" y="1567116"/>
                </a:lnTo>
                <a:lnTo>
                  <a:pt x="1414949" y="1566163"/>
                </a:lnTo>
                <a:lnTo>
                  <a:pt x="1425114" y="1564892"/>
                </a:lnTo>
                <a:lnTo>
                  <a:pt x="1435278" y="1563304"/>
                </a:lnTo>
                <a:lnTo>
                  <a:pt x="1444808" y="1561081"/>
                </a:lnTo>
                <a:lnTo>
                  <a:pt x="1454655" y="1557904"/>
                </a:lnTo>
                <a:lnTo>
                  <a:pt x="1464184" y="1555045"/>
                </a:lnTo>
                <a:lnTo>
                  <a:pt x="1473079" y="1551233"/>
                </a:lnTo>
                <a:lnTo>
                  <a:pt x="1482290" y="1547104"/>
                </a:lnTo>
                <a:lnTo>
                  <a:pt x="1491184" y="1542657"/>
                </a:lnTo>
                <a:lnTo>
                  <a:pt x="1499443" y="1537575"/>
                </a:lnTo>
                <a:lnTo>
                  <a:pt x="1507702" y="1532492"/>
                </a:lnTo>
                <a:lnTo>
                  <a:pt x="1515643" y="1526775"/>
                </a:lnTo>
                <a:lnTo>
                  <a:pt x="1523585" y="1520739"/>
                </a:lnTo>
                <a:lnTo>
                  <a:pt x="1531208" y="1514386"/>
                </a:lnTo>
                <a:lnTo>
                  <a:pt x="1537879" y="1507716"/>
                </a:lnTo>
                <a:lnTo>
                  <a:pt x="1544549" y="1500410"/>
                </a:lnTo>
                <a:lnTo>
                  <a:pt x="1551220" y="1493421"/>
                </a:lnTo>
                <a:lnTo>
                  <a:pt x="1557255" y="1485480"/>
                </a:lnTo>
                <a:lnTo>
                  <a:pt x="1562655" y="1477539"/>
                </a:lnTo>
                <a:lnTo>
                  <a:pt x="1568055" y="1469280"/>
                </a:lnTo>
                <a:lnTo>
                  <a:pt x="1572820" y="1460386"/>
                </a:lnTo>
                <a:lnTo>
                  <a:pt x="1577585" y="1451810"/>
                </a:lnTo>
                <a:lnTo>
                  <a:pt x="1581714" y="1442915"/>
                </a:lnTo>
                <a:lnTo>
                  <a:pt x="1585208" y="1433704"/>
                </a:lnTo>
                <a:lnTo>
                  <a:pt x="1588385" y="1424174"/>
                </a:lnTo>
                <a:lnTo>
                  <a:pt x="1591244" y="1414645"/>
                </a:lnTo>
                <a:lnTo>
                  <a:pt x="1593467" y="1404798"/>
                </a:lnTo>
                <a:lnTo>
                  <a:pt x="1595373" y="1394633"/>
                </a:lnTo>
                <a:lnTo>
                  <a:pt x="1596644" y="1384468"/>
                </a:lnTo>
                <a:lnTo>
                  <a:pt x="1597279" y="1373986"/>
                </a:lnTo>
                <a:lnTo>
                  <a:pt x="1597597" y="1363503"/>
                </a:lnTo>
                <a:lnTo>
                  <a:pt x="1597279" y="1353339"/>
                </a:lnTo>
                <a:lnTo>
                  <a:pt x="1596644" y="1342856"/>
                </a:lnTo>
                <a:lnTo>
                  <a:pt x="1595373" y="1332691"/>
                </a:lnTo>
                <a:lnTo>
                  <a:pt x="1593467" y="1322527"/>
                </a:lnTo>
                <a:lnTo>
                  <a:pt x="1591244" y="1312680"/>
                </a:lnTo>
                <a:lnTo>
                  <a:pt x="1588385" y="1302832"/>
                </a:lnTo>
                <a:lnTo>
                  <a:pt x="1585208" y="1293303"/>
                </a:lnTo>
                <a:lnTo>
                  <a:pt x="1581714" y="1284409"/>
                </a:lnTo>
                <a:lnTo>
                  <a:pt x="1577585" y="1275197"/>
                </a:lnTo>
                <a:lnTo>
                  <a:pt x="1572820" y="1266303"/>
                </a:lnTo>
                <a:lnTo>
                  <a:pt x="1568055" y="1258044"/>
                </a:lnTo>
                <a:lnTo>
                  <a:pt x="1562655" y="1249785"/>
                </a:lnTo>
                <a:lnTo>
                  <a:pt x="1557255" y="1241526"/>
                </a:lnTo>
                <a:lnTo>
                  <a:pt x="1551220" y="1233903"/>
                </a:lnTo>
                <a:lnTo>
                  <a:pt x="1544549" y="1226279"/>
                </a:lnTo>
                <a:lnTo>
                  <a:pt x="1537879" y="1219609"/>
                </a:lnTo>
                <a:lnTo>
                  <a:pt x="1531208" y="1212938"/>
                </a:lnTo>
                <a:lnTo>
                  <a:pt x="1523585" y="1206585"/>
                </a:lnTo>
                <a:lnTo>
                  <a:pt x="1515643" y="1199914"/>
                </a:lnTo>
                <a:lnTo>
                  <a:pt x="1507702" y="1194514"/>
                </a:lnTo>
                <a:lnTo>
                  <a:pt x="1499443" y="1189114"/>
                </a:lnTo>
                <a:lnTo>
                  <a:pt x="1491184" y="1184350"/>
                </a:lnTo>
                <a:lnTo>
                  <a:pt x="1482290" y="1179585"/>
                </a:lnTo>
                <a:lnTo>
                  <a:pt x="1473079" y="1175455"/>
                </a:lnTo>
                <a:lnTo>
                  <a:pt x="1464184" y="1172279"/>
                </a:lnTo>
                <a:lnTo>
                  <a:pt x="1454655" y="1168785"/>
                </a:lnTo>
                <a:lnTo>
                  <a:pt x="1444808" y="1166244"/>
                </a:lnTo>
                <a:lnTo>
                  <a:pt x="1435278" y="1164020"/>
                </a:lnTo>
                <a:lnTo>
                  <a:pt x="1425114" y="1162114"/>
                </a:lnTo>
                <a:lnTo>
                  <a:pt x="1414949" y="1160844"/>
                </a:lnTo>
                <a:lnTo>
                  <a:pt x="1404149" y="1159891"/>
                </a:lnTo>
                <a:lnTo>
                  <a:pt x="1393984" y="1159891"/>
                </a:lnTo>
                <a:lnTo>
                  <a:pt x="1383502" y="1159891"/>
                </a:lnTo>
                <a:close/>
                <a:moveTo>
                  <a:pt x="1521201" y="490366"/>
                </a:moveTo>
                <a:lnTo>
                  <a:pt x="1468588" y="1032381"/>
                </a:lnTo>
                <a:lnTo>
                  <a:pt x="1478796" y="1034737"/>
                </a:lnTo>
                <a:lnTo>
                  <a:pt x="1494996" y="1039184"/>
                </a:lnTo>
                <a:lnTo>
                  <a:pt x="1510879" y="1044584"/>
                </a:lnTo>
                <a:lnTo>
                  <a:pt x="1526126" y="1050620"/>
                </a:lnTo>
                <a:lnTo>
                  <a:pt x="1541373" y="1057290"/>
                </a:lnTo>
                <a:lnTo>
                  <a:pt x="1555985" y="1064914"/>
                </a:lnTo>
                <a:lnTo>
                  <a:pt x="1570279" y="1073173"/>
                </a:lnTo>
                <a:lnTo>
                  <a:pt x="1583938" y="1081749"/>
                </a:lnTo>
                <a:lnTo>
                  <a:pt x="1597279" y="1091596"/>
                </a:lnTo>
                <a:lnTo>
                  <a:pt x="1610303" y="1101443"/>
                </a:lnTo>
                <a:lnTo>
                  <a:pt x="1622691" y="1112243"/>
                </a:lnTo>
                <a:lnTo>
                  <a:pt x="1634126" y="1123679"/>
                </a:lnTo>
                <a:lnTo>
                  <a:pt x="1645562" y="1135432"/>
                </a:lnTo>
                <a:lnTo>
                  <a:pt x="1656044" y="1147820"/>
                </a:lnTo>
                <a:lnTo>
                  <a:pt x="1666209" y="1160526"/>
                </a:lnTo>
                <a:lnTo>
                  <a:pt x="1675738" y="1173549"/>
                </a:lnTo>
                <a:lnTo>
                  <a:pt x="1684632" y="1187526"/>
                </a:lnTo>
                <a:lnTo>
                  <a:pt x="1692574" y="1201503"/>
                </a:lnTo>
                <a:lnTo>
                  <a:pt x="1700197" y="1216114"/>
                </a:lnTo>
                <a:lnTo>
                  <a:pt x="1706868" y="1231361"/>
                </a:lnTo>
                <a:lnTo>
                  <a:pt x="1712903" y="1246609"/>
                </a:lnTo>
                <a:lnTo>
                  <a:pt x="1718621" y="1262491"/>
                </a:lnTo>
                <a:lnTo>
                  <a:pt x="1723068" y="1278691"/>
                </a:lnTo>
                <a:lnTo>
                  <a:pt x="1725403" y="1288811"/>
                </a:lnTo>
                <a:lnTo>
                  <a:pt x="2267666" y="1236231"/>
                </a:lnTo>
                <a:lnTo>
                  <a:pt x="2265125" y="1218140"/>
                </a:lnTo>
                <a:lnTo>
                  <a:pt x="2261630" y="1200683"/>
                </a:lnTo>
                <a:lnTo>
                  <a:pt x="2258136" y="1182909"/>
                </a:lnTo>
                <a:lnTo>
                  <a:pt x="2254325" y="1165136"/>
                </a:lnTo>
                <a:lnTo>
                  <a:pt x="2250195" y="1147362"/>
                </a:lnTo>
                <a:lnTo>
                  <a:pt x="2245748" y="1130223"/>
                </a:lnTo>
                <a:lnTo>
                  <a:pt x="2240666" y="1112766"/>
                </a:lnTo>
                <a:lnTo>
                  <a:pt x="2235584" y="1095945"/>
                </a:lnTo>
                <a:lnTo>
                  <a:pt x="2229866" y="1079123"/>
                </a:lnTo>
                <a:lnTo>
                  <a:pt x="2223831" y="1061984"/>
                </a:lnTo>
                <a:lnTo>
                  <a:pt x="2217478" y="1045480"/>
                </a:lnTo>
                <a:lnTo>
                  <a:pt x="2211125" y="1028976"/>
                </a:lnTo>
                <a:lnTo>
                  <a:pt x="2204454" y="1012789"/>
                </a:lnTo>
                <a:lnTo>
                  <a:pt x="2197149" y="996602"/>
                </a:lnTo>
                <a:lnTo>
                  <a:pt x="2189843" y="980732"/>
                </a:lnTo>
                <a:lnTo>
                  <a:pt x="2181902" y="965180"/>
                </a:lnTo>
                <a:lnTo>
                  <a:pt x="2173643" y="949311"/>
                </a:lnTo>
                <a:lnTo>
                  <a:pt x="2165384" y="933759"/>
                </a:lnTo>
                <a:lnTo>
                  <a:pt x="2156490" y="918842"/>
                </a:lnTo>
                <a:lnTo>
                  <a:pt x="2147596" y="903607"/>
                </a:lnTo>
                <a:lnTo>
                  <a:pt x="2138067" y="888690"/>
                </a:lnTo>
                <a:lnTo>
                  <a:pt x="2128855" y="874090"/>
                </a:lnTo>
                <a:lnTo>
                  <a:pt x="2119008" y="859807"/>
                </a:lnTo>
                <a:lnTo>
                  <a:pt x="2108843" y="845525"/>
                </a:lnTo>
                <a:lnTo>
                  <a:pt x="2098361" y="831560"/>
                </a:lnTo>
                <a:lnTo>
                  <a:pt x="2087561" y="817594"/>
                </a:lnTo>
                <a:lnTo>
                  <a:pt x="2076761" y="803947"/>
                </a:lnTo>
                <a:lnTo>
                  <a:pt x="2065644" y="790934"/>
                </a:lnTo>
                <a:lnTo>
                  <a:pt x="2054209" y="777603"/>
                </a:lnTo>
                <a:lnTo>
                  <a:pt x="2042138" y="764591"/>
                </a:lnTo>
                <a:lnTo>
                  <a:pt x="2030385" y="752212"/>
                </a:lnTo>
                <a:lnTo>
                  <a:pt x="2017997" y="739834"/>
                </a:lnTo>
                <a:lnTo>
                  <a:pt x="2005609" y="727456"/>
                </a:lnTo>
                <a:lnTo>
                  <a:pt x="1993221" y="715395"/>
                </a:lnTo>
                <a:lnTo>
                  <a:pt x="1980197" y="703652"/>
                </a:lnTo>
                <a:lnTo>
                  <a:pt x="1966856" y="692226"/>
                </a:lnTo>
                <a:lnTo>
                  <a:pt x="1953833" y="681117"/>
                </a:lnTo>
                <a:lnTo>
                  <a:pt x="1940174" y="670326"/>
                </a:lnTo>
                <a:lnTo>
                  <a:pt x="1926198" y="659535"/>
                </a:lnTo>
                <a:lnTo>
                  <a:pt x="1912221" y="649061"/>
                </a:lnTo>
                <a:lnTo>
                  <a:pt x="1897927" y="638904"/>
                </a:lnTo>
                <a:lnTo>
                  <a:pt x="1883633" y="629065"/>
                </a:lnTo>
                <a:lnTo>
                  <a:pt x="1869022" y="619861"/>
                </a:lnTo>
                <a:lnTo>
                  <a:pt x="1854092" y="610339"/>
                </a:lnTo>
                <a:lnTo>
                  <a:pt x="1838845" y="601452"/>
                </a:lnTo>
                <a:lnTo>
                  <a:pt x="1823916" y="592566"/>
                </a:lnTo>
                <a:lnTo>
                  <a:pt x="1808352" y="584313"/>
                </a:lnTo>
                <a:lnTo>
                  <a:pt x="1792469" y="576061"/>
                </a:lnTo>
                <a:lnTo>
                  <a:pt x="1776905" y="568127"/>
                </a:lnTo>
                <a:lnTo>
                  <a:pt x="1761022" y="560827"/>
                </a:lnTo>
                <a:lnTo>
                  <a:pt x="1744823" y="553527"/>
                </a:lnTo>
                <a:lnTo>
                  <a:pt x="1728623" y="546862"/>
                </a:lnTo>
                <a:lnTo>
                  <a:pt x="1712105" y="540514"/>
                </a:lnTo>
                <a:lnTo>
                  <a:pt x="1695588" y="534166"/>
                </a:lnTo>
                <a:lnTo>
                  <a:pt x="1678435" y="528136"/>
                </a:lnTo>
                <a:lnTo>
                  <a:pt x="1661600" y="522740"/>
                </a:lnTo>
                <a:lnTo>
                  <a:pt x="1644765" y="517344"/>
                </a:lnTo>
                <a:lnTo>
                  <a:pt x="1627294" y="512584"/>
                </a:lnTo>
                <a:lnTo>
                  <a:pt x="1610141" y="507823"/>
                </a:lnTo>
                <a:lnTo>
                  <a:pt x="1592671" y="503697"/>
                </a:lnTo>
                <a:lnTo>
                  <a:pt x="1574883" y="499888"/>
                </a:lnTo>
                <a:lnTo>
                  <a:pt x="1557095" y="496397"/>
                </a:lnTo>
                <a:lnTo>
                  <a:pt x="1539306" y="492905"/>
                </a:lnTo>
                <a:lnTo>
                  <a:pt x="1521201" y="490366"/>
                </a:lnTo>
                <a:close/>
                <a:moveTo>
                  <a:pt x="1266450" y="490366"/>
                </a:moveTo>
                <a:lnTo>
                  <a:pt x="1248344" y="492905"/>
                </a:lnTo>
                <a:lnTo>
                  <a:pt x="1230556" y="496397"/>
                </a:lnTo>
                <a:lnTo>
                  <a:pt x="1212768" y="499888"/>
                </a:lnTo>
                <a:lnTo>
                  <a:pt x="1195297" y="503697"/>
                </a:lnTo>
                <a:lnTo>
                  <a:pt x="1177509" y="507823"/>
                </a:lnTo>
                <a:lnTo>
                  <a:pt x="1160039" y="512584"/>
                </a:lnTo>
                <a:lnTo>
                  <a:pt x="1142886" y="517344"/>
                </a:lnTo>
                <a:lnTo>
                  <a:pt x="1126051" y="522740"/>
                </a:lnTo>
                <a:lnTo>
                  <a:pt x="1108898" y="528136"/>
                </a:lnTo>
                <a:lnTo>
                  <a:pt x="1092063" y="534166"/>
                </a:lnTo>
                <a:lnTo>
                  <a:pt x="1075545" y="540514"/>
                </a:lnTo>
                <a:lnTo>
                  <a:pt x="1059028" y="546862"/>
                </a:lnTo>
                <a:lnTo>
                  <a:pt x="1042827" y="553527"/>
                </a:lnTo>
                <a:lnTo>
                  <a:pt x="1026627" y="560827"/>
                </a:lnTo>
                <a:lnTo>
                  <a:pt x="1010745" y="568127"/>
                </a:lnTo>
                <a:lnTo>
                  <a:pt x="994863" y="576061"/>
                </a:lnTo>
                <a:lnTo>
                  <a:pt x="978981" y="584313"/>
                </a:lnTo>
                <a:lnTo>
                  <a:pt x="963734" y="592566"/>
                </a:lnTo>
                <a:lnTo>
                  <a:pt x="948487" y="601452"/>
                </a:lnTo>
                <a:lnTo>
                  <a:pt x="933558" y="610339"/>
                </a:lnTo>
                <a:lnTo>
                  <a:pt x="918946" y="619861"/>
                </a:lnTo>
                <a:lnTo>
                  <a:pt x="904334" y="629065"/>
                </a:lnTo>
                <a:lnTo>
                  <a:pt x="889405" y="638904"/>
                </a:lnTo>
                <a:lnTo>
                  <a:pt x="875429" y="649061"/>
                </a:lnTo>
                <a:lnTo>
                  <a:pt x="861135" y="659535"/>
                </a:lnTo>
                <a:lnTo>
                  <a:pt x="847794" y="670326"/>
                </a:lnTo>
                <a:lnTo>
                  <a:pt x="833817" y="681117"/>
                </a:lnTo>
                <a:lnTo>
                  <a:pt x="820476" y="692226"/>
                </a:lnTo>
                <a:lnTo>
                  <a:pt x="807453" y="703652"/>
                </a:lnTo>
                <a:lnTo>
                  <a:pt x="794747" y="715395"/>
                </a:lnTo>
                <a:lnTo>
                  <a:pt x="781723" y="727456"/>
                </a:lnTo>
                <a:lnTo>
                  <a:pt x="769335" y="739834"/>
                </a:lnTo>
                <a:lnTo>
                  <a:pt x="757265" y="752212"/>
                </a:lnTo>
                <a:lnTo>
                  <a:pt x="745194" y="764591"/>
                </a:lnTo>
                <a:lnTo>
                  <a:pt x="733759" y="777603"/>
                </a:lnTo>
                <a:lnTo>
                  <a:pt x="722006" y="790934"/>
                </a:lnTo>
                <a:lnTo>
                  <a:pt x="710571" y="803947"/>
                </a:lnTo>
                <a:lnTo>
                  <a:pt x="699771" y="817594"/>
                </a:lnTo>
                <a:lnTo>
                  <a:pt x="689289" y="831560"/>
                </a:lnTo>
                <a:lnTo>
                  <a:pt x="678807" y="845525"/>
                </a:lnTo>
                <a:lnTo>
                  <a:pt x="668960" y="859807"/>
                </a:lnTo>
                <a:lnTo>
                  <a:pt x="658795" y="874090"/>
                </a:lnTo>
                <a:lnTo>
                  <a:pt x="649266" y="888690"/>
                </a:lnTo>
                <a:lnTo>
                  <a:pt x="640054" y="903607"/>
                </a:lnTo>
                <a:lnTo>
                  <a:pt x="630842" y="918842"/>
                </a:lnTo>
                <a:lnTo>
                  <a:pt x="622266" y="933759"/>
                </a:lnTo>
                <a:lnTo>
                  <a:pt x="614007" y="949311"/>
                </a:lnTo>
                <a:lnTo>
                  <a:pt x="605748" y="965180"/>
                </a:lnTo>
                <a:lnTo>
                  <a:pt x="598125" y="980732"/>
                </a:lnTo>
                <a:lnTo>
                  <a:pt x="590501" y="996602"/>
                </a:lnTo>
                <a:lnTo>
                  <a:pt x="583513" y="1012789"/>
                </a:lnTo>
                <a:lnTo>
                  <a:pt x="576207" y="1028976"/>
                </a:lnTo>
                <a:lnTo>
                  <a:pt x="569854" y="1045480"/>
                </a:lnTo>
                <a:lnTo>
                  <a:pt x="563502" y="1061984"/>
                </a:lnTo>
                <a:lnTo>
                  <a:pt x="557784" y="1079123"/>
                </a:lnTo>
                <a:lnTo>
                  <a:pt x="552066" y="1095945"/>
                </a:lnTo>
                <a:lnTo>
                  <a:pt x="546984" y="1112766"/>
                </a:lnTo>
                <a:lnTo>
                  <a:pt x="541902" y="1130223"/>
                </a:lnTo>
                <a:lnTo>
                  <a:pt x="537455" y="1147362"/>
                </a:lnTo>
                <a:lnTo>
                  <a:pt x="533325" y="1165136"/>
                </a:lnTo>
                <a:lnTo>
                  <a:pt x="529196" y="1182909"/>
                </a:lnTo>
                <a:lnTo>
                  <a:pt x="526019" y="1200683"/>
                </a:lnTo>
                <a:lnTo>
                  <a:pt x="522843" y="1218140"/>
                </a:lnTo>
                <a:lnTo>
                  <a:pt x="519984" y="1236231"/>
                </a:lnTo>
                <a:lnTo>
                  <a:pt x="1062444" y="1288803"/>
                </a:lnTo>
                <a:lnTo>
                  <a:pt x="1064583" y="1278691"/>
                </a:lnTo>
                <a:lnTo>
                  <a:pt x="1069347" y="1262491"/>
                </a:lnTo>
                <a:lnTo>
                  <a:pt x="1074747" y="1246609"/>
                </a:lnTo>
                <a:lnTo>
                  <a:pt x="1080783" y="1231361"/>
                </a:lnTo>
                <a:lnTo>
                  <a:pt x="1087771" y="1216114"/>
                </a:lnTo>
                <a:lnTo>
                  <a:pt x="1095077" y="1201503"/>
                </a:lnTo>
                <a:lnTo>
                  <a:pt x="1103336" y="1187526"/>
                </a:lnTo>
                <a:lnTo>
                  <a:pt x="1112230" y="1173549"/>
                </a:lnTo>
                <a:lnTo>
                  <a:pt x="1121442" y="1160526"/>
                </a:lnTo>
                <a:lnTo>
                  <a:pt x="1131606" y="1147185"/>
                </a:lnTo>
                <a:lnTo>
                  <a:pt x="1142407" y="1135432"/>
                </a:lnTo>
                <a:lnTo>
                  <a:pt x="1153524" y="1123361"/>
                </a:lnTo>
                <a:lnTo>
                  <a:pt x="1165595" y="1112243"/>
                </a:lnTo>
                <a:lnTo>
                  <a:pt x="1177665" y="1101443"/>
                </a:lnTo>
                <a:lnTo>
                  <a:pt x="1190689" y="1091279"/>
                </a:lnTo>
                <a:lnTo>
                  <a:pt x="1204030" y="1081749"/>
                </a:lnTo>
                <a:lnTo>
                  <a:pt x="1218007" y="1073173"/>
                </a:lnTo>
                <a:lnTo>
                  <a:pt x="1231983" y="1064914"/>
                </a:lnTo>
                <a:lnTo>
                  <a:pt x="1246595" y="1057290"/>
                </a:lnTo>
                <a:lnTo>
                  <a:pt x="1261525" y="1050620"/>
                </a:lnTo>
                <a:lnTo>
                  <a:pt x="1277089" y="1044584"/>
                </a:lnTo>
                <a:lnTo>
                  <a:pt x="1292972" y="1039184"/>
                </a:lnTo>
                <a:lnTo>
                  <a:pt x="1309172" y="1034737"/>
                </a:lnTo>
                <a:lnTo>
                  <a:pt x="1319052" y="1032267"/>
                </a:lnTo>
                <a:lnTo>
                  <a:pt x="1266450" y="490366"/>
                </a:lnTo>
                <a:close/>
                <a:moveTo>
                  <a:pt x="1094286" y="0"/>
                </a:moveTo>
                <a:lnTo>
                  <a:pt x="1100957" y="0"/>
                </a:lnTo>
                <a:lnTo>
                  <a:pt x="1107627" y="952"/>
                </a:lnTo>
                <a:lnTo>
                  <a:pt x="1113980" y="2539"/>
                </a:lnTo>
                <a:lnTo>
                  <a:pt x="1120333" y="4761"/>
                </a:lnTo>
                <a:lnTo>
                  <a:pt x="1126368" y="7300"/>
                </a:lnTo>
                <a:lnTo>
                  <a:pt x="1132086" y="10791"/>
                </a:lnTo>
                <a:lnTo>
                  <a:pt x="1137168" y="14600"/>
                </a:lnTo>
                <a:lnTo>
                  <a:pt x="1142568" y="18726"/>
                </a:lnTo>
                <a:lnTo>
                  <a:pt x="1147015" y="23487"/>
                </a:lnTo>
                <a:lnTo>
                  <a:pt x="1151145" y="28882"/>
                </a:lnTo>
                <a:lnTo>
                  <a:pt x="1154956" y="34595"/>
                </a:lnTo>
                <a:lnTo>
                  <a:pt x="1157815" y="40943"/>
                </a:lnTo>
                <a:lnTo>
                  <a:pt x="1160674" y="47291"/>
                </a:lnTo>
                <a:lnTo>
                  <a:pt x="1231191" y="266290"/>
                </a:lnTo>
                <a:lnTo>
                  <a:pt x="1251203" y="263433"/>
                </a:lnTo>
                <a:lnTo>
                  <a:pt x="1271532" y="261211"/>
                </a:lnTo>
                <a:lnTo>
                  <a:pt x="1291544" y="258990"/>
                </a:lnTo>
                <a:lnTo>
                  <a:pt x="1311873" y="257403"/>
                </a:lnTo>
                <a:lnTo>
                  <a:pt x="1332202" y="256133"/>
                </a:lnTo>
                <a:lnTo>
                  <a:pt x="1352531" y="255181"/>
                </a:lnTo>
                <a:lnTo>
                  <a:pt x="1373178" y="254546"/>
                </a:lnTo>
                <a:lnTo>
                  <a:pt x="1393825" y="254546"/>
                </a:lnTo>
                <a:lnTo>
                  <a:pt x="1414154" y="254546"/>
                </a:lnTo>
                <a:lnTo>
                  <a:pt x="1435119" y="255181"/>
                </a:lnTo>
                <a:lnTo>
                  <a:pt x="1455448" y="256133"/>
                </a:lnTo>
                <a:lnTo>
                  <a:pt x="1475778" y="257403"/>
                </a:lnTo>
                <a:lnTo>
                  <a:pt x="1496107" y="258990"/>
                </a:lnTo>
                <a:lnTo>
                  <a:pt x="1515801" y="261211"/>
                </a:lnTo>
                <a:lnTo>
                  <a:pt x="1536130" y="263433"/>
                </a:lnTo>
                <a:lnTo>
                  <a:pt x="1556142" y="266290"/>
                </a:lnTo>
                <a:lnTo>
                  <a:pt x="1627294" y="47291"/>
                </a:lnTo>
                <a:lnTo>
                  <a:pt x="1629835" y="40626"/>
                </a:lnTo>
                <a:lnTo>
                  <a:pt x="1633012" y="34595"/>
                </a:lnTo>
                <a:lnTo>
                  <a:pt x="1636823" y="28882"/>
                </a:lnTo>
                <a:lnTo>
                  <a:pt x="1640953" y="23487"/>
                </a:lnTo>
                <a:lnTo>
                  <a:pt x="1645400" y="18726"/>
                </a:lnTo>
                <a:lnTo>
                  <a:pt x="1650164" y="14600"/>
                </a:lnTo>
                <a:lnTo>
                  <a:pt x="1655882" y="10474"/>
                </a:lnTo>
                <a:lnTo>
                  <a:pt x="1661600" y="7300"/>
                </a:lnTo>
                <a:lnTo>
                  <a:pt x="1667635" y="4761"/>
                </a:lnTo>
                <a:lnTo>
                  <a:pt x="1673670" y="2539"/>
                </a:lnTo>
                <a:lnTo>
                  <a:pt x="1680023" y="952"/>
                </a:lnTo>
                <a:lnTo>
                  <a:pt x="1686694" y="0"/>
                </a:lnTo>
                <a:lnTo>
                  <a:pt x="1693682" y="0"/>
                </a:lnTo>
                <a:lnTo>
                  <a:pt x="1700352" y="317"/>
                </a:lnTo>
                <a:lnTo>
                  <a:pt x="1707023" y="1270"/>
                </a:lnTo>
                <a:lnTo>
                  <a:pt x="1714011" y="2857"/>
                </a:lnTo>
                <a:lnTo>
                  <a:pt x="1934774" y="75221"/>
                </a:lnTo>
                <a:lnTo>
                  <a:pt x="1941762" y="77443"/>
                </a:lnTo>
                <a:lnTo>
                  <a:pt x="1947798" y="80617"/>
                </a:lnTo>
                <a:lnTo>
                  <a:pt x="1953833" y="84108"/>
                </a:lnTo>
                <a:lnTo>
                  <a:pt x="1958915" y="88234"/>
                </a:lnTo>
                <a:lnTo>
                  <a:pt x="1963997" y="93312"/>
                </a:lnTo>
                <a:lnTo>
                  <a:pt x="1968127" y="98073"/>
                </a:lnTo>
                <a:lnTo>
                  <a:pt x="1971621" y="103469"/>
                </a:lnTo>
                <a:lnTo>
                  <a:pt x="1975115" y="108864"/>
                </a:lnTo>
                <a:lnTo>
                  <a:pt x="1977656" y="114895"/>
                </a:lnTo>
                <a:lnTo>
                  <a:pt x="1980197" y="121243"/>
                </a:lnTo>
                <a:lnTo>
                  <a:pt x="1981468" y="127908"/>
                </a:lnTo>
                <a:lnTo>
                  <a:pt x="1982421" y="134573"/>
                </a:lnTo>
                <a:lnTo>
                  <a:pt x="1982738" y="141238"/>
                </a:lnTo>
                <a:lnTo>
                  <a:pt x="1981786" y="148221"/>
                </a:lnTo>
                <a:lnTo>
                  <a:pt x="1980833" y="154886"/>
                </a:lnTo>
                <a:lnTo>
                  <a:pt x="1979244" y="161551"/>
                </a:lnTo>
                <a:lnTo>
                  <a:pt x="1907774" y="380550"/>
                </a:lnTo>
                <a:lnTo>
                  <a:pt x="1925880" y="390389"/>
                </a:lnTo>
                <a:lnTo>
                  <a:pt x="1943986" y="400228"/>
                </a:lnTo>
                <a:lnTo>
                  <a:pt x="1961456" y="410702"/>
                </a:lnTo>
                <a:lnTo>
                  <a:pt x="1978927" y="421175"/>
                </a:lnTo>
                <a:lnTo>
                  <a:pt x="1996397" y="431967"/>
                </a:lnTo>
                <a:lnTo>
                  <a:pt x="2013232" y="443393"/>
                </a:lnTo>
                <a:lnTo>
                  <a:pt x="2029750" y="454501"/>
                </a:lnTo>
                <a:lnTo>
                  <a:pt x="2046585" y="466562"/>
                </a:lnTo>
                <a:lnTo>
                  <a:pt x="2062785" y="478623"/>
                </a:lnTo>
                <a:lnTo>
                  <a:pt x="2078985" y="491001"/>
                </a:lnTo>
                <a:lnTo>
                  <a:pt x="2094867" y="503697"/>
                </a:lnTo>
                <a:lnTo>
                  <a:pt x="2110432" y="516709"/>
                </a:lnTo>
                <a:lnTo>
                  <a:pt x="2125679" y="529723"/>
                </a:lnTo>
                <a:lnTo>
                  <a:pt x="2140925" y="543370"/>
                </a:lnTo>
                <a:lnTo>
                  <a:pt x="2155855" y="557335"/>
                </a:lnTo>
                <a:lnTo>
                  <a:pt x="2170466" y="571301"/>
                </a:lnTo>
                <a:lnTo>
                  <a:pt x="2357242" y="435775"/>
                </a:lnTo>
                <a:lnTo>
                  <a:pt x="2362959" y="431967"/>
                </a:lnTo>
                <a:lnTo>
                  <a:pt x="2369312" y="428793"/>
                </a:lnTo>
                <a:lnTo>
                  <a:pt x="2375347" y="426571"/>
                </a:lnTo>
                <a:lnTo>
                  <a:pt x="2382018" y="424667"/>
                </a:lnTo>
                <a:lnTo>
                  <a:pt x="2388371" y="423397"/>
                </a:lnTo>
                <a:lnTo>
                  <a:pt x="2395041" y="422762"/>
                </a:lnTo>
                <a:lnTo>
                  <a:pt x="2401712" y="422762"/>
                </a:lnTo>
                <a:lnTo>
                  <a:pt x="2408065" y="423397"/>
                </a:lnTo>
                <a:lnTo>
                  <a:pt x="2414418" y="424984"/>
                </a:lnTo>
                <a:lnTo>
                  <a:pt x="2420770" y="426888"/>
                </a:lnTo>
                <a:lnTo>
                  <a:pt x="2426806" y="429428"/>
                </a:lnTo>
                <a:lnTo>
                  <a:pt x="2432841" y="432601"/>
                </a:lnTo>
                <a:lnTo>
                  <a:pt x="2438559" y="436093"/>
                </a:lnTo>
                <a:lnTo>
                  <a:pt x="2443959" y="440854"/>
                </a:lnTo>
                <a:lnTo>
                  <a:pt x="2448406" y="445614"/>
                </a:lnTo>
                <a:lnTo>
                  <a:pt x="2452853" y="451327"/>
                </a:lnTo>
                <a:lnTo>
                  <a:pt x="2589757" y="638904"/>
                </a:lnTo>
                <a:lnTo>
                  <a:pt x="2593569" y="644935"/>
                </a:lnTo>
                <a:lnTo>
                  <a:pt x="2596746" y="650965"/>
                </a:lnTo>
                <a:lnTo>
                  <a:pt x="2599287" y="657313"/>
                </a:lnTo>
                <a:lnTo>
                  <a:pt x="2601193" y="663661"/>
                </a:lnTo>
                <a:lnTo>
                  <a:pt x="2602463" y="670326"/>
                </a:lnTo>
                <a:lnTo>
                  <a:pt x="2602781" y="676991"/>
                </a:lnTo>
                <a:lnTo>
                  <a:pt x="2602781" y="683656"/>
                </a:lnTo>
                <a:lnTo>
                  <a:pt x="2601828" y="690004"/>
                </a:lnTo>
                <a:lnTo>
                  <a:pt x="2600557" y="696352"/>
                </a:lnTo>
                <a:lnTo>
                  <a:pt x="2598652" y="703017"/>
                </a:lnTo>
                <a:lnTo>
                  <a:pt x="2596428" y="709047"/>
                </a:lnTo>
                <a:lnTo>
                  <a:pt x="2592934" y="715078"/>
                </a:lnTo>
                <a:lnTo>
                  <a:pt x="2589122" y="720473"/>
                </a:lnTo>
                <a:lnTo>
                  <a:pt x="2584993" y="725869"/>
                </a:lnTo>
                <a:lnTo>
                  <a:pt x="2580228" y="730630"/>
                </a:lnTo>
                <a:lnTo>
                  <a:pt x="2574828" y="734756"/>
                </a:lnTo>
                <a:lnTo>
                  <a:pt x="2388053" y="870281"/>
                </a:lnTo>
                <a:lnTo>
                  <a:pt x="2396629" y="888372"/>
                </a:lnTo>
                <a:lnTo>
                  <a:pt x="2405524" y="906781"/>
                </a:lnTo>
                <a:lnTo>
                  <a:pt x="2413465" y="925189"/>
                </a:lnTo>
                <a:lnTo>
                  <a:pt x="2421088" y="943598"/>
                </a:lnTo>
                <a:lnTo>
                  <a:pt x="2428712" y="962324"/>
                </a:lnTo>
                <a:lnTo>
                  <a:pt x="2436017" y="981367"/>
                </a:lnTo>
                <a:lnTo>
                  <a:pt x="2442688" y="1000411"/>
                </a:lnTo>
                <a:lnTo>
                  <a:pt x="2449041" y="1019454"/>
                </a:lnTo>
                <a:lnTo>
                  <a:pt x="2455394" y="1039132"/>
                </a:lnTo>
                <a:lnTo>
                  <a:pt x="2461111" y="1058810"/>
                </a:lnTo>
                <a:lnTo>
                  <a:pt x="2466829" y="1078171"/>
                </a:lnTo>
                <a:lnTo>
                  <a:pt x="2471594" y="1098167"/>
                </a:lnTo>
                <a:lnTo>
                  <a:pt x="2476676" y="1118162"/>
                </a:lnTo>
                <a:lnTo>
                  <a:pt x="2480805" y="1138158"/>
                </a:lnTo>
                <a:lnTo>
                  <a:pt x="2484935" y="1158470"/>
                </a:lnTo>
                <a:lnTo>
                  <a:pt x="2488746" y="1178783"/>
                </a:lnTo>
                <a:lnTo>
                  <a:pt x="2718721" y="1178783"/>
                </a:lnTo>
                <a:lnTo>
                  <a:pt x="2725709" y="1179101"/>
                </a:lnTo>
                <a:lnTo>
                  <a:pt x="2732698" y="1180370"/>
                </a:lnTo>
                <a:lnTo>
                  <a:pt x="2739368" y="1181640"/>
                </a:lnTo>
                <a:lnTo>
                  <a:pt x="2745403" y="1184496"/>
                </a:lnTo>
                <a:lnTo>
                  <a:pt x="2751439" y="1187035"/>
                </a:lnTo>
                <a:lnTo>
                  <a:pt x="2757156" y="1190527"/>
                </a:lnTo>
                <a:lnTo>
                  <a:pt x="2762239" y="1194653"/>
                </a:lnTo>
                <a:lnTo>
                  <a:pt x="2767321" y="1199096"/>
                </a:lnTo>
                <a:lnTo>
                  <a:pt x="2771768" y="1203857"/>
                </a:lnTo>
                <a:lnTo>
                  <a:pt x="2775897" y="1209253"/>
                </a:lnTo>
                <a:lnTo>
                  <a:pt x="2779391" y="1214966"/>
                </a:lnTo>
                <a:lnTo>
                  <a:pt x="2782250" y="1220361"/>
                </a:lnTo>
                <a:lnTo>
                  <a:pt x="2784474" y="1226709"/>
                </a:lnTo>
                <a:lnTo>
                  <a:pt x="2786062" y="1233692"/>
                </a:lnTo>
                <a:lnTo>
                  <a:pt x="2787015" y="1240357"/>
                </a:lnTo>
                <a:lnTo>
                  <a:pt x="2787650" y="1247022"/>
                </a:lnTo>
                <a:lnTo>
                  <a:pt x="2787650" y="1479986"/>
                </a:lnTo>
                <a:lnTo>
                  <a:pt x="2787015" y="1486651"/>
                </a:lnTo>
                <a:lnTo>
                  <a:pt x="2786380" y="1493951"/>
                </a:lnTo>
                <a:lnTo>
                  <a:pt x="2784474" y="1500299"/>
                </a:lnTo>
                <a:lnTo>
                  <a:pt x="2782250" y="1506646"/>
                </a:lnTo>
                <a:lnTo>
                  <a:pt x="2779391" y="1512677"/>
                </a:lnTo>
                <a:lnTo>
                  <a:pt x="2775897" y="1518390"/>
                </a:lnTo>
                <a:lnTo>
                  <a:pt x="2771768" y="1523785"/>
                </a:lnTo>
                <a:lnTo>
                  <a:pt x="2767639" y="1528546"/>
                </a:lnTo>
                <a:lnTo>
                  <a:pt x="2762556" y="1532672"/>
                </a:lnTo>
                <a:lnTo>
                  <a:pt x="2757156" y="1536798"/>
                </a:lnTo>
                <a:lnTo>
                  <a:pt x="2751439" y="1540290"/>
                </a:lnTo>
                <a:lnTo>
                  <a:pt x="2745403" y="1543146"/>
                </a:lnTo>
                <a:lnTo>
                  <a:pt x="2739368" y="1545368"/>
                </a:lnTo>
                <a:lnTo>
                  <a:pt x="2732698" y="1546955"/>
                </a:lnTo>
                <a:lnTo>
                  <a:pt x="2725709" y="1548224"/>
                </a:lnTo>
                <a:lnTo>
                  <a:pt x="2719039" y="1548542"/>
                </a:lnTo>
                <a:lnTo>
                  <a:pt x="2488746" y="1548542"/>
                </a:lnTo>
                <a:lnTo>
                  <a:pt x="2484935" y="1568855"/>
                </a:lnTo>
                <a:lnTo>
                  <a:pt x="2480805" y="1589168"/>
                </a:lnTo>
                <a:lnTo>
                  <a:pt x="2476676" y="1609163"/>
                </a:lnTo>
                <a:lnTo>
                  <a:pt x="2471594" y="1629476"/>
                </a:lnTo>
                <a:lnTo>
                  <a:pt x="2466829" y="1648837"/>
                </a:lnTo>
                <a:lnTo>
                  <a:pt x="2461111" y="1668832"/>
                </a:lnTo>
                <a:lnTo>
                  <a:pt x="2455394" y="1688510"/>
                </a:lnTo>
                <a:lnTo>
                  <a:pt x="2449041" y="1707554"/>
                </a:lnTo>
                <a:lnTo>
                  <a:pt x="2442688" y="1726914"/>
                </a:lnTo>
                <a:lnTo>
                  <a:pt x="2436017" y="1745958"/>
                </a:lnTo>
                <a:lnTo>
                  <a:pt x="2428712" y="1764684"/>
                </a:lnTo>
                <a:lnTo>
                  <a:pt x="2421088" y="1783410"/>
                </a:lnTo>
                <a:lnTo>
                  <a:pt x="2413465" y="1802453"/>
                </a:lnTo>
                <a:lnTo>
                  <a:pt x="2405524" y="1820862"/>
                </a:lnTo>
                <a:lnTo>
                  <a:pt x="2396629" y="1838953"/>
                </a:lnTo>
                <a:lnTo>
                  <a:pt x="2388053" y="1857044"/>
                </a:lnTo>
                <a:lnTo>
                  <a:pt x="2574828" y="1992252"/>
                </a:lnTo>
                <a:lnTo>
                  <a:pt x="2580228" y="1996378"/>
                </a:lnTo>
                <a:lnTo>
                  <a:pt x="2584993" y="2001456"/>
                </a:lnTo>
                <a:lnTo>
                  <a:pt x="2589122" y="2006534"/>
                </a:lnTo>
                <a:lnTo>
                  <a:pt x="2592934" y="2012247"/>
                </a:lnTo>
                <a:lnTo>
                  <a:pt x="2596428" y="2018278"/>
                </a:lnTo>
                <a:lnTo>
                  <a:pt x="2598652" y="2024308"/>
                </a:lnTo>
                <a:lnTo>
                  <a:pt x="2600557" y="2030656"/>
                </a:lnTo>
                <a:lnTo>
                  <a:pt x="2601828" y="2037004"/>
                </a:lnTo>
                <a:lnTo>
                  <a:pt x="2602781" y="2043352"/>
                </a:lnTo>
                <a:lnTo>
                  <a:pt x="2602781" y="2050334"/>
                </a:lnTo>
                <a:lnTo>
                  <a:pt x="2602463" y="2056682"/>
                </a:lnTo>
                <a:lnTo>
                  <a:pt x="2601193" y="2063347"/>
                </a:lnTo>
                <a:lnTo>
                  <a:pt x="2599287" y="2069695"/>
                </a:lnTo>
                <a:lnTo>
                  <a:pt x="2596746" y="2076360"/>
                </a:lnTo>
                <a:lnTo>
                  <a:pt x="2593569" y="2082073"/>
                </a:lnTo>
                <a:lnTo>
                  <a:pt x="2589757" y="2087786"/>
                </a:lnTo>
                <a:lnTo>
                  <a:pt x="2452853" y="2276315"/>
                </a:lnTo>
                <a:lnTo>
                  <a:pt x="2448406" y="2281711"/>
                </a:lnTo>
                <a:lnTo>
                  <a:pt x="2443959" y="2286472"/>
                </a:lnTo>
                <a:lnTo>
                  <a:pt x="2438559" y="2290915"/>
                </a:lnTo>
                <a:lnTo>
                  <a:pt x="2432841" y="2294406"/>
                </a:lnTo>
                <a:lnTo>
                  <a:pt x="2426806" y="2297898"/>
                </a:lnTo>
                <a:lnTo>
                  <a:pt x="2420770" y="2300437"/>
                </a:lnTo>
                <a:lnTo>
                  <a:pt x="2414418" y="2302341"/>
                </a:lnTo>
                <a:lnTo>
                  <a:pt x="2408065" y="2303293"/>
                </a:lnTo>
                <a:lnTo>
                  <a:pt x="2401712" y="2304245"/>
                </a:lnTo>
                <a:lnTo>
                  <a:pt x="2395041" y="2304563"/>
                </a:lnTo>
                <a:lnTo>
                  <a:pt x="2388371" y="2303611"/>
                </a:lnTo>
                <a:lnTo>
                  <a:pt x="2381700" y="2302658"/>
                </a:lnTo>
                <a:lnTo>
                  <a:pt x="2375347" y="2300754"/>
                </a:lnTo>
                <a:lnTo>
                  <a:pt x="2368994" y="2298532"/>
                </a:lnTo>
                <a:lnTo>
                  <a:pt x="2362959" y="2295041"/>
                </a:lnTo>
                <a:lnTo>
                  <a:pt x="2357242" y="2291232"/>
                </a:lnTo>
                <a:lnTo>
                  <a:pt x="2170466" y="2156025"/>
                </a:lnTo>
                <a:lnTo>
                  <a:pt x="2155855" y="2170307"/>
                </a:lnTo>
                <a:lnTo>
                  <a:pt x="2140925" y="2183638"/>
                </a:lnTo>
                <a:lnTo>
                  <a:pt x="2125679" y="2197285"/>
                </a:lnTo>
                <a:lnTo>
                  <a:pt x="2110432" y="2210616"/>
                </a:lnTo>
                <a:lnTo>
                  <a:pt x="2094867" y="2223629"/>
                </a:lnTo>
                <a:lnTo>
                  <a:pt x="2078985" y="2236007"/>
                </a:lnTo>
                <a:lnTo>
                  <a:pt x="2062785" y="2248385"/>
                </a:lnTo>
                <a:lnTo>
                  <a:pt x="2046585" y="2260446"/>
                </a:lnTo>
                <a:lnTo>
                  <a:pt x="2030068" y="2272506"/>
                </a:lnTo>
                <a:lnTo>
                  <a:pt x="2013232" y="2283932"/>
                </a:lnTo>
                <a:lnTo>
                  <a:pt x="1996397" y="2295041"/>
                </a:lnTo>
                <a:lnTo>
                  <a:pt x="1978927" y="2306150"/>
                </a:lnTo>
                <a:lnTo>
                  <a:pt x="1961456" y="2316624"/>
                </a:lnTo>
                <a:lnTo>
                  <a:pt x="1943986" y="2327097"/>
                </a:lnTo>
                <a:lnTo>
                  <a:pt x="1925880" y="2336936"/>
                </a:lnTo>
                <a:lnTo>
                  <a:pt x="1907774" y="2346776"/>
                </a:lnTo>
                <a:lnTo>
                  <a:pt x="1979244" y="2565457"/>
                </a:lnTo>
                <a:lnTo>
                  <a:pt x="1980833" y="2572439"/>
                </a:lnTo>
                <a:lnTo>
                  <a:pt x="1981786" y="2579422"/>
                </a:lnTo>
                <a:lnTo>
                  <a:pt x="1982738" y="2586404"/>
                </a:lnTo>
                <a:lnTo>
                  <a:pt x="1982421" y="2592752"/>
                </a:lnTo>
                <a:lnTo>
                  <a:pt x="1981468" y="2599417"/>
                </a:lnTo>
                <a:lnTo>
                  <a:pt x="1980197" y="2605765"/>
                </a:lnTo>
                <a:lnTo>
                  <a:pt x="1977656" y="2612113"/>
                </a:lnTo>
                <a:lnTo>
                  <a:pt x="1975115" y="2618143"/>
                </a:lnTo>
                <a:lnTo>
                  <a:pt x="1971621" y="2623856"/>
                </a:lnTo>
                <a:lnTo>
                  <a:pt x="1968127" y="2629252"/>
                </a:lnTo>
                <a:lnTo>
                  <a:pt x="1963997" y="2634013"/>
                </a:lnTo>
                <a:lnTo>
                  <a:pt x="1958915" y="2638774"/>
                </a:lnTo>
                <a:lnTo>
                  <a:pt x="1953833" y="2642900"/>
                </a:lnTo>
                <a:lnTo>
                  <a:pt x="1948115" y="2646391"/>
                </a:lnTo>
                <a:lnTo>
                  <a:pt x="1941762" y="2649565"/>
                </a:lnTo>
                <a:lnTo>
                  <a:pt x="1935409" y="2652104"/>
                </a:lnTo>
                <a:lnTo>
                  <a:pt x="1714011" y="2724151"/>
                </a:lnTo>
                <a:lnTo>
                  <a:pt x="1707023" y="2725738"/>
                </a:lnTo>
                <a:lnTo>
                  <a:pt x="1700352" y="2727008"/>
                </a:lnTo>
                <a:lnTo>
                  <a:pt x="1693682" y="2727325"/>
                </a:lnTo>
                <a:lnTo>
                  <a:pt x="1686694" y="2727325"/>
                </a:lnTo>
                <a:lnTo>
                  <a:pt x="1680023" y="2726056"/>
                </a:lnTo>
                <a:lnTo>
                  <a:pt x="1673670" y="2724786"/>
                </a:lnTo>
                <a:lnTo>
                  <a:pt x="1667635" y="2722564"/>
                </a:lnTo>
                <a:lnTo>
                  <a:pt x="1661600" y="2719708"/>
                </a:lnTo>
                <a:lnTo>
                  <a:pt x="1655564" y="2716851"/>
                </a:lnTo>
                <a:lnTo>
                  <a:pt x="1650164" y="2712725"/>
                </a:lnTo>
                <a:lnTo>
                  <a:pt x="1645400" y="2708599"/>
                </a:lnTo>
                <a:lnTo>
                  <a:pt x="1640953" y="2703521"/>
                </a:lnTo>
                <a:lnTo>
                  <a:pt x="1636823" y="2698443"/>
                </a:lnTo>
                <a:lnTo>
                  <a:pt x="1633012" y="2692730"/>
                </a:lnTo>
                <a:lnTo>
                  <a:pt x="1629835" y="2686382"/>
                </a:lnTo>
                <a:lnTo>
                  <a:pt x="1627294" y="2680034"/>
                </a:lnTo>
                <a:lnTo>
                  <a:pt x="1556142" y="2460718"/>
                </a:lnTo>
                <a:lnTo>
                  <a:pt x="1536130" y="2463575"/>
                </a:lnTo>
                <a:lnTo>
                  <a:pt x="1516436" y="2465796"/>
                </a:lnTo>
                <a:lnTo>
                  <a:pt x="1496107" y="2467701"/>
                </a:lnTo>
                <a:lnTo>
                  <a:pt x="1475778" y="2469605"/>
                </a:lnTo>
                <a:lnTo>
                  <a:pt x="1455448" y="2470875"/>
                </a:lnTo>
                <a:lnTo>
                  <a:pt x="1435119" y="2471827"/>
                </a:lnTo>
                <a:lnTo>
                  <a:pt x="1414154" y="2472144"/>
                </a:lnTo>
                <a:lnTo>
                  <a:pt x="1393825" y="2472779"/>
                </a:lnTo>
                <a:lnTo>
                  <a:pt x="1373178" y="2472144"/>
                </a:lnTo>
                <a:lnTo>
                  <a:pt x="1352531" y="2471827"/>
                </a:lnTo>
                <a:lnTo>
                  <a:pt x="1332202" y="2470875"/>
                </a:lnTo>
                <a:lnTo>
                  <a:pt x="1311873" y="2469605"/>
                </a:lnTo>
                <a:lnTo>
                  <a:pt x="1291544" y="2467701"/>
                </a:lnTo>
                <a:lnTo>
                  <a:pt x="1271532" y="2465796"/>
                </a:lnTo>
                <a:lnTo>
                  <a:pt x="1251203" y="2463575"/>
                </a:lnTo>
                <a:lnTo>
                  <a:pt x="1231191" y="2460718"/>
                </a:lnTo>
                <a:lnTo>
                  <a:pt x="1160674" y="2680034"/>
                </a:lnTo>
                <a:lnTo>
                  <a:pt x="1157815" y="2686699"/>
                </a:lnTo>
                <a:lnTo>
                  <a:pt x="1154956" y="2692730"/>
                </a:lnTo>
                <a:lnTo>
                  <a:pt x="1151145" y="2698443"/>
                </a:lnTo>
                <a:lnTo>
                  <a:pt x="1147015" y="2703521"/>
                </a:lnTo>
                <a:lnTo>
                  <a:pt x="1142568" y="2708599"/>
                </a:lnTo>
                <a:lnTo>
                  <a:pt x="1137168" y="2712725"/>
                </a:lnTo>
                <a:lnTo>
                  <a:pt x="1132086" y="2716851"/>
                </a:lnTo>
                <a:lnTo>
                  <a:pt x="1126368" y="2719708"/>
                </a:lnTo>
                <a:lnTo>
                  <a:pt x="1120333" y="2722564"/>
                </a:lnTo>
                <a:lnTo>
                  <a:pt x="1113980" y="2724786"/>
                </a:lnTo>
                <a:lnTo>
                  <a:pt x="1107627" y="2726056"/>
                </a:lnTo>
                <a:lnTo>
                  <a:pt x="1100639" y="2727325"/>
                </a:lnTo>
                <a:lnTo>
                  <a:pt x="1094286" y="2727325"/>
                </a:lnTo>
                <a:lnTo>
                  <a:pt x="1087616" y="2727008"/>
                </a:lnTo>
                <a:lnTo>
                  <a:pt x="1080628" y="2725738"/>
                </a:lnTo>
                <a:lnTo>
                  <a:pt x="1073639" y="2723834"/>
                </a:lnTo>
                <a:lnTo>
                  <a:pt x="852558" y="2652104"/>
                </a:lnTo>
                <a:lnTo>
                  <a:pt x="845888" y="2649565"/>
                </a:lnTo>
                <a:lnTo>
                  <a:pt x="839852" y="2646391"/>
                </a:lnTo>
                <a:lnTo>
                  <a:pt x="834135" y="2642900"/>
                </a:lnTo>
                <a:lnTo>
                  <a:pt x="829052" y="2638774"/>
                </a:lnTo>
                <a:lnTo>
                  <a:pt x="823970" y="2634013"/>
                </a:lnTo>
                <a:lnTo>
                  <a:pt x="819523" y="2629252"/>
                </a:lnTo>
                <a:lnTo>
                  <a:pt x="815711" y="2623856"/>
                </a:lnTo>
                <a:lnTo>
                  <a:pt x="812853" y="2618143"/>
                </a:lnTo>
                <a:lnTo>
                  <a:pt x="809676" y="2612113"/>
                </a:lnTo>
                <a:lnTo>
                  <a:pt x="807770" y="2605765"/>
                </a:lnTo>
                <a:lnTo>
                  <a:pt x="806182" y="2599417"/>
                </a:lnTo>
                <a:lnTo>
                  <a:pt x="805229" y="2592752"/>
                </a:lnTo>
                <a:lnTo>
                  <a:pt x="805229" y="2586404"/>
                </a:lnTo>
                <a:lnTo>
                  <a:pt x="805547" y="2579422"/>
                </a:lnTo>
                <a:lnTo>
                  <a:pt x="806817" y="2572439"/>
                </a:lnTo>
                <a:lnTo>
                  <a:pt x="808088" y="2565457"/>
                </a:lnTo>
                <a:lnTo>
                  <a:pt x="879876" y="2346776"/>
                </a:lnTo>
                <a:lnTo>
                  <a:pt x="861770" y="2336936"/>
                </a:lnTo>
                <a:lnTo>
                  <a:pt x="843982" y="2327097"/>
                </a:lnTo>
                <a:lnTo>
                  <a:pt x="826194" y="2316624"/>
                </a:lnTo>
                <a:lnTo>
                  <a:pt x="808723" y="2306150"/>
                </a:lnTo>
                <a:lnTo>
                  <a:pt x="791570" y="2295041"/>
                </a:lnTo>
                <a:lnTo>
                  <a:pt x="774418" y="2283932"/>
                </a:lnTo>
                <a:lnTo>
                  <a:pt x="757900" y="2272506"/>
                </a:lnTo>
                <a:lnTo>
                  <a:pt x="741065" y="2260446"/>
                </a:lnTo>
                <a:lnTo>
                  <a:pt x="724547" y="2248385"/>
                </a:lnTo>
                <a:lnTo>
                  <a:pt x="708665" y="2236007"/>
                </a:lnTo>
                <a:lnTo>
                  <a:pt x="692783" y="2223311"/>
                </a:lnTo>
                <a:lnTo>
                  <a:pt x="677218" y="2210616"/>
                </a:lnTo>
                <a:lnTo>
                  <a:pt x="661654" y="2197285"/>
                </a:lnTo>
                <a:lnTo>
                  <a:pt x="646724" y="2183638"/>
                </a:lnTo>
                <a:lnTo>
                  <a:pt x="631795" y="2169990"/>
                </a:lnTo>
                <a:lnTo>
                  <a:pt x="616866" y="2155707"/>
                </a:lnTo>
                <a:lnTo>
                  <a:pt x="430726" y="2291232"/>
                </a:lnTo>
                <a:lnTo>
                  <a:pt x="424691" y="2295041"/>
                </a:lnTo>
                <a:lnTo>
                  <a:pt x="418655" y="2298532"/>
                </a:lnTo>
                <a:lnTo>
                  <a:pt x="412303" y="2300754"/>
                </a:lnTo>
                <a:lnTo>
                  <a:pt x="405632" y="2302658"/>
                </a:lnTo>
                <a:lnTo>
                  <a:pt x="399279" y="2303611"/>
                </a:lnTo>
                <a:lnTo>
                  <a:pt x="392609" y="2304563"/>
                </a:lnTo>
                <a:lnTo>
                  <a:pt x="385938" y="2304563"/>
                </a:lnTo>
                <a:lnTo>
                  <a:pt x="379585" y="2303611"/>
                </a:lnTo>
                <a:lnTo>
                  <a:pt x="372915" y="2302341"/>
                </a:lnTo>
                <a:lnTo>
                  <a:pt x="366562" y="2300437"/>
                </a:lnTo>
                <a:lnTo>
                  <a:pt x="360527" y="2297898"/>
                </a:lnTo>
                <a:lnTo>
                  <a:pt x="354491" y="2294724"/>
                </a:lnTo>
                <a:lnTo>
                  <a:pt x="349409" y="2290915"/>
                </a:lnTo>
                <a:lnTo>
                  <a:pt x="344009" y="2286472"/>
                </a:lnTo>
                <a:lnTo>
                  <a:pt x="339244" y="2281711"/>
                </a:lnTo>
                <a:lnTo>
                  <a:pt x="334797" y="2276315"/>
                </a:lnTo>
                <a:lnTo>
                  <a:pt x="197575" y="2087786"/>
                </a:lnTo>
                <a:lnTo>
                  <a:pt x="193763" y="2082073"/>
                </a:lnTo>
                <a:lnTo>
                  <a:pt x="190904" y="2076360"/>
                </a:lnTo>
                <a:lnTo>
                  <a:pt x="188363" y="2069695"/>
                </a:lnTo>
                <a:lnTo>
                  <a:pt x="186457" y="2063347"/>
                </a:lnTo>
                <a:lnTo>
                  <a:pt x="185187" y="2056682"/>
                </a:lnTo>
                <a:lnTo>
                  <a:pt x="184869" y="2050334"/>
                </a:lnTo>
                <a:lnTo>
                  <a:pt x="184869" y="2043352"/>
                </a:lnTo>
                <a:lnTo>
                  <a:pt x="185504" y="2037004"/>
                </a:lnTo>
                <a:lnTo>
                  <a:pt x="187092" y="2030656"/>
                </a:lnTo>
                <a:lnTo>
                  <a:pt x="188998" y="2024308"/>
                </a:lnTo>
                <a:lnTo>
                  <a:pt x="191540" y="2018278"/>
                </a:lnTo>
                <a:lnTo>
                  <a:pt x="194716" y="2012247"/>
                </a:lnTo>
                <a:lnTo>
                  <a:pt x="198528" y="2006534"/>
                </a:lnTo>
                <a:lnTo>
                  <a:pt x="202657" y="2001456"/>
                </a:lnTo>
                <a:lnTo>
                  <a:pt x="207422" y="1996695"/>
                </a:lnTo>
                <a:lnTo>
                  <a:pt x="213139" y="1992252"/>
                </a:lnTo>
                <a:lnTo>
                  <a:pt x="399279" y="1857044"/>
                </a:lnTo>
                <a:lnTo>
                  <a:pt x="390703" y="1838953"/>
                </a:lnTo>
                <a:lnTo>
                  <a:pt x="382444" y="1820544"/>
                </a:lnTo>
                <a:lnTo>
                  <a:pt x="374185" y="1802453"/>
                </a:lnTo>
                <a:lnTo>
                  <a:pt x="366244" y="1783410"/>
                </a:lnTo>
                <a:lnTo>
                  <a:pt x="358621" y="1764684"/>
                </a:lnTo>
                <a:lnTo>
                  <a:pt x="351632" y="1745958"/>
                </a:lnTo>
                <a:lnTo>
                  <a:pt x="344962" y="1726914"/>
                </a:lnTo>
                <a:lnTo>
                  <a:pt x="338291" y="1707554"/>
                </a:lnTo>
                <a:lnTo>
                  <a:pt x="332256" y="1688510"/>
                </a:lnTo>
                <a:lnTo>
                  <a:pt x="326221" y="1668832"/>
                </a:lnTo>
                <a:lnTo>
                  <a:pt x="321139" y="1648837"/>
                </a:lnTo>
                <a:lnTo>
                  <a:pt x="315739" y="1629476"/>
                </a:lnTo>
                <a:lnTo>
                  <a:pt x="311292" y="1609163"/>
                </a:lnTo>
                <a:lnTo>
                  <a:pt x="306845" y="1589168"/>
                </a:lnTo>
                <a:lnTo>
                  <a:pt x="303033" y="1568855"/>
                </a:lnTo>
                <a:lnTo>
                  <a:pt x="299221" y="1548542"/>
                </a:lnTo>
                <a:lnTo>
                  <a:pt x="68929" y="1548542"/>
                </a:lnTo>
                <a:lnTo>
                  <a:pt x="61623" y="1548224"/>
                </a:lnTo>
                <a:lnTo>
                  <a:pt x="54952" y="1546955"/>
                </a:lnTo>
                <a:lnTo>
                  <a:pt x="48282" y="1545368"/>
                </a:lnTo>
                <a:lnTo>
                  <a:pt x="41929" y="1543146"/>
                </a:lnTo>
                <a:lnTo>
                  <a:pt x="36211" y="1540290"/>
                </a:lnTo>
                <a:lnTo>
                  <a:pt x="30494" y="1536798"/>
                </a:lnTo>
                <a:lnTo>
                  <a:pt x="24776" y="1532672"/>
                </a:lnTo>
                <a:lnTo>
                  <a:pt x="20329" y="1528546"/>
                </a:lnTo>
                <a:lnTo>
                  <a:pt x="15882" y="1523785"/>
                </a:lnTo>
                <a:lnTo>
                  <a:pt x="11753" y="1518390"/>
                </a:lnTo>
                <a:lnTo>
                  <a:pt x="8259" y="1512677"/>
                </a:lnTo>
                <a:lnTo>
                  <a:pt x="5400" y="1506646"/>
                </a:lnTo>
                <a:lnTo>
                  <a:pt x="2859" y="1500299"/>
                </a:lnTo>
                <a:lnTo>
                  <a:pt x="1588" y="1493951"/>
                </a:lnTo>
                <a:lnTo>
                  <a:pt x="317" y="1486651"/>
                </a:lnTo>
                <a:lnTo>
                  <a:pt x="0" y="1479986"/>
                </a:lnTo>
                <a:lnTo>
                  <a:pt x="0" y="1247022"/>
                </a:lnTo>
                <a:lnTo>
                  <a:pt x="317" y="1240357"/>
                </a:lnTo>
                <a:lnTo>
                  <a:pt x="1588" y="1233692"/>
                </a:lnTo>
                <a:lnTo>
                  <a:pt x="2859" y="1226709"/>
                </a:lnTo>
                <a:lnTo>
                  <a:pt x="5400" y="1220361"/>
                </a:lnTo>
                <a:lnTo>
                  <a:pt x="8259" y="1214966"/>
                </a:lnTo>
                <a:lnTo>
                  <a:pt x="11753" y="1209253"/>
                </a:lnTo>
                <a:lnTo>
                  <a:pt x="15882" y="1203857"/>
                </a:lnTo>
                <a:lnTo>
                  <a:pt x="20329" y="1199096"/>
                </a:lnTo>
                <a:lnTo>
                  <a:pt x="24776" y="1194653"/>
                </a:lnTo>
                <a:lnTo>
                  <a:pt x="30494" y="1190527"/>
                </a:lnTo>
                <a:lnTo>
                  <a:pt x="36211" y="1187035"/>
                </a:lnTo>
                <a:lnTo>
                  <a:pt x="41929" y="1184496"/>
                </a:lnTo>
                <a:lnTo>
                  <a:pt x="48282" y="1181640"/>
                </a:lnTo>
                <a:lnTo>
                  <a:pt x="54952" y="1180370"/>
                </a:lnTo>
                <a:lnTo>
                  <a:pt x="61623" y="1179101"/>
                </a:lnTo>
                <a:lnTo>
                  <a:pt x="68929" y="1178783"/>
                </a:lnTo>
                <a:lnTo>
                  <a:pt x="299221" y="1178783"/>
                </a:lnTo>
                <a:lnTo>
                  <a:pt x="303033" y="1158470"/>
                </a:lnTo>
                <a:lnTo>
                  <a:pt x="306845" y="1138158"/>
                </a:lnTo>
                <a:lnTo>
                  <a:pt x="311292" y="1118162"/>
                </a:lnTo>
                <a:lnTo>
                  <a:pt x="315739" y="1098167"/>
                </a:lnTo>
                <a:lnTo>
                  <a:pt x="321139" y="1078171"/>
                </a:lnTo>
                <a:lnTo>
                  <a:pt x="326221" y="1058493"/>
                </a:lnTo>
                <a:lnTo>
                  <a:pt x="332256" y="1038815"/>
                </a:lnTo>
                <a:lnTo>
                  <a:pt x="338291" y="1019454"/>
                </a:lnTo>
                <a:lnTo>
                  <a:pt x="344962" y="1000411"/>
                </a:lnTo>
                <a:lnTo>
                  <a:pt x="351632" y="981367"/>
                </a:lnTo>
                <a:lnTo>
                  <a:pt x="358621" y="962324"/>
                </a:lnTo>
                <a:lnTo>
                  <a:pt x="366244" y="943598"/>
                </a:lnTo>
                <a:lnTo>
                  <a:pt x="374185" y="924872"/>
                </a:lnTo>
                <a:lnTo>
                  <a:pt x="382444" y="906463"/>
                </a:lnTo>
                <a:lnTo>
                  <a:pt x="390703" y="888372"/>
                </a:lnTo>
                <a:lnTo>
                  <a:pt x="399279" y="870281"/>
                </a:lnTo>
                <a:lnTo>
                  <a:pt x="213139" y="734756"/>
                </a:lnTo>
                <a:lnTo>
                  <a:pt x="207422" y="730312"/>
                </a:lnTo>
                <a:lnTo>
                  <a:pt x="202657" y="725552"/>
                </a:lnTo>
                <a:lnTo>
                  <a:pt x="198528" y="720473"/>
                </a:lnTo>
                <a:lnTo>
                  <a:pt x="194716" y="715078"/>
                </a:lnTo>
                <a:lnTo>
                  <a:pt x="191540" y="709047"/>
                </a:lnTo>
                <a:lnTo>
                  <a:pt x="188998" y="703017"/>
                </a:lnTo>
                <a:lnTo>
                  <a:pt x="187092" y="696352"/>
                </a:lnTo>
                <a:lnTo>
                  <a:pt x="185504" y="690004"/>
                </a:lnTo>
                <a:lnTo>
                  <a:pt x="184869" y="683656"/>
                </a:lnTo>
                <a:lnTo>
                  <a:pt x="184869" y="676991"/>
                </a:lnTo>
                <a:lnTo>
                  <a:pt x="185187" y="670326"/>
                </a:lnTo>
                <a:lnTo>
                  <a:pt x="186457" y="663661"/>
                </a:lnTo>
                <a:lnTo>
                  <a:pt x="188363" y="657313"/>
                </a:lnTo>
                <a:lnTo>
                  <a:pt x="190904" y="650965"/>
                </a:lnTo>
                <a:lnTo>
                  <a:pt x="193763" y="644935"/>
                </a:lnTo>
                <a:lnTo>
                  <a:pt x="197575" y="638904"/>
                </a:lnTo>
                <a:lnTo>
                  <a:pt x="334797" y="451327"/>
                </a:lnTo>
                <a:lnTo>
                  <a:pt x="339244" y="445614"/>
                </a:lnTo>
                <a:lnTo>
                  <a:pt x="344009" y="440854"/>
                </a:lnTo>
                <a:lnTo>
                  <a:pt x="349409" y="436093"/>
                </a:lnTo>
                <a:lnTo>
                  <a:pt x="354491" y="432601"/>
                </a:lnTo>
                <a:lnTo>
                  <a:pt x="360527" y="429428"/>
                </a:lnTo>
                <a:lnTo>
                  <a:pt x="366562" y="426888"/>
                </a:lnTo>
                <a:lnTo>
                  <a:pt x="372915" y="424984"/>
                </a:lnTo>
                <a:lnTo>
                  <a:pt x="379585" y="423397"/>
                </a:lnTo>
                <a:lnTo>
                  <a:pt x="385938" y="422762"/>
                </a:lnTo>
                <a:lnTo>
                  <a:pt x="392609" y="422762"/>
                </a:lnTo>
                <a:lnTo>
                  <a:pt x="399279" y="423397"/>
                </a:lnTo>
                <a:lnTo>
                  <a:pt x="405632" y="424667"/>
                </a:lnTo>
                <a:lnTo>
                  <a:pt x="412303" y="426571"/>
                </a:lnTo>
                <a:lnTo>
                  <a:pt x="418655" y="428793"/>
                </a:lnTo>
                <a:lnTo>
                  <a:pt x="424691" y="431967"/>
                </a:lnTo>
                <a:lnTo>
                  <a:pt x="430726" y="435775"/>
                </a:lnTo>
                <a:lnTo>
                  <a:pt x="616866" y="571301"/>
                </a:lnTo>
                <a:lnTo>
                  <a:pt x="631795" y="557335"/>
                </a:lnTo>
                <a:lnTo>
                  <a:pt x="646724" y="543370"/>
                </a:lnTo>
                <a:lnTo>
                  <a:pt x="661654" y="529723"/>
                </a:lnTo>
                <a:lnTo>
                  <a:pt x="677218" y="516709"/>
                </a:lnTo>
                <a:lnTo>
                  <a:pt x="693101" y="503697"/>
                </a:lnTo>
                <a:lnTo>
                  <a:pt x="708665" y="491001"/>
                </a:lnTo>
                <a:lnTo>
                  <a:pt x="724547" y="478623"/>
                </a:lnTo>
                <a:lnTo>
                  <a:pt x="741065" y="466562"/>
                </a:lnTo>
                <a:lnTo>
                  <a:pt x="757900" y="454501"/>
                </a:lnTo>
                <a:lnTo>
                  <a:pt x="774418" y="443393"/>
                </a:lnTo>
                <a:lnTo>
                  <a:pt x="791570" y="431967"/>
                </a:lnTo>
                <a:lnTo>
                  <a:pt x="808723" y="421175"/>
                </a:lnTo>
                <a:lnTo>
                  <a:pt x="826194" y="410702"/>
                </a:lnTo>
                <a:lnTo>
                  <a:pt x="843982" y="400228"/>
                </a:lnTo>
                <a:lnTo>
                  <a:pt x="861770" y="390389"/>
                </a:lnTo>
                <a:lnTo>
                  <a:pt x="879876" y="380550"/>
                </a:lnTo>
                <a:lnTo>
                  <a:pt x="808088" y="161551"/>
                </a:lnTo>
                <a:lnTo>
                  <a:pt x="806182" y="154886"/>
                </a:lnTo>
                <a:lnTo>
                  <a:pt x="805547" y="147586"/>
                </a:lnTo>
                <a:lnTo>
                  <a:pt x="804911" y="140921"/>
                </a:lnTo>
                <a:lnTo>
                  <a:pt x="805229" y="134573"/>
                </a:lnTo>
                <a:lnTo>
                  <a:pt x="805864" y="127908"/>
                </a:lnTo>
                <a:lnTo>
                  <a:pt x="807770" y="121243"/>
                </a:lnTo>
                <a:lnTo>
                  <a:pt x="809676" y="114895"/>
                </a:lnTo>
                <a:lnTo>
                  <a:pt x="812217" y="109499"/>
                </a:lnTo>
                <a:lnTo>
                  <a:pt x="815711" y="103469"/>
                </a:lnTo>
                <a:lnTo>
                  <a:pt x="819523" y="98073"/>
                </a:lnTo>
                <a:lnTo>
                  <a:pt x="823970" y="93312"/>
                </a:lnTo>
                <a:lnTo>
                  <a:pt x="829052" y="88552"/>
                </a:lnTo>
                <a:lnTo>
                  <a:pt x="834135" y="84426"/>
                </a:lnTo>
                <a:lnTo>
                  <a:pt x="839852" y="80617"/>
                </a:lnTo>
                <a:lnTo>
                  <a:pt x="845888" y="77760"/>
                </a:lnTo>
                <a:lnTo>
                  <a:pt x="852558" y="75221"/>
                </a:lnTo>
                <a:lnTo>
                  <a:pt x="1073957" y="2857"/>
                </a:lnTo>
                <a:lnTo>
                  <a:pt x="1080628" y="1270"/>
                </a:lnTo>
                <a:lnTo>
                  <a:pt x="1087616" y="317"/>
                </a:lnTo>
                <a:lnTo>
                  <a:pt x="1094286"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KSO_Shape"/>
          <p:cNvSpPr/>
          <p:nvPr/>
        </p:nvSpPr>
        <p:spPr>
          <a:xfrm>
            <a:off x="2100240" y="4505400"/>
            <a:ext cx="816120" cy="1030320"/>
          </a:xfrm>
          <a:custGeom>
            <a:avLst/>
            <a:gdLst>
              <a:gd name="textAreaLeft" fmla="*/ 0 w 816120"/>
              <a:gd name="textAreaRight" fmla="*/ 816480 w 816120"/>
              <a:gd name="textAreaTop" fmla="*/ 0 h 1030320"/>
              <a:gd name="textAreaBottom" fmla="*/ 1030680 h 1030320"/>
            </a:gdLst>
            <a:ahLst/>
            <a:rect l="textAreaLeft" t="textAreaTop" r="textAreaRight" b="textAreaBottom"/>
            <a:pathLst>
              <a:path w="3132350" h="3959240">
                <a:moveTo>
                  <a:pt x="1005872" y="679617"/>
                </a:moveTo>
                <a:lnTo>
                  <a:pt x="1142879" y="679617"/>
                </a:lnTo>
                <a:lnTo>
                  <a:pt x="1142879" y="1011617"/>
                </a:lnTo>
                <a:lnTo>
                  <a:pt x="1474879" y="1011617"/>
                </a:lnTo>
                <a:lnTo>
                  <a:pt x="1474879" y="1148624"/>
                </a:lnTo>
                <a:lnTo>
                  <a:pt x="1142879" y="1148624"/>
                </a:lnTo>
                <a:lnTo>
                  <a:pt x="1142879" y="1480624"/>
                </a:lnTo>
                <a:lnTo>
                  <a:pt x="1005872" y="1480624"/>
                </a:lnTo>
                <a:lnTo>
                  <a:pt x="1005872" y="1148624"/>
                </a:lnTo>
                <a:lnTo>
                  <a:pt x="673872" y="1148624"/>
                </a:lnTo>
                <a:lnTo>
                  <a:pt x="673872" y="1011617"/>
                </a:lnTo>
                <a:lnTo>
                  <a:pt x="1005872" y="1011617"/>
                </a:lnTo>
                <a:lnTo>
                  <a:pt x="1005872" y="679617"/>
                </a:lnTo>
                <a:close/>
                <a:moveTo>
                  <a:pt x="1080120" y="151325"/>
                </a:moveTo>
                <a:cubicBezTo>
                  <a:pt x="567161" y="151325"/>
                  <a:pt x="151325" y="567161"/>
                  <a:pt x="151325" y="1080120"/>
                </a:cubicBezTo>
                <a:cubicBezTo>
                  <a:pt x="151325" y="1593079"/>
                  <a:pt x="567161" y="2008915"/>
                  <a:pt x="1080120" y="2008915"/>
                </a:cubicBezTo>
                <a:cubicBezTo>
                  <a:pt x="1593079" y="2008915"/>
                  <a:pt x="2008915" y="1593079"/>
                  <a:pt x="2008915" y="1080120"/>
                </a:cubicBezTo>
                <a:cubicBezTo>
                  <a:pt x="2008915" y="567161"/>
                  <a:pt x="1593079" y="151325"/>
                  <a:pt x="1080120" y="151325"/>
                </a:cubicBezTo>
                <a:close/>
                <a:moveTo>
                  <a:pt x="1080120" y="0"/>
                </a:moveTo>
                <a:cubicBezTo>
                  <a:pt x="1676654" y="0"/>
                  <a:pt x="2160240" y="483586"/>
                  <a:pt x="2160240" y="1080120"/>
                </a:cubicBezTo>
                <a:cubicBezTo>
                  <a:pt x="2160240" y="1427165"/>
                  <a:pt x="1996568" y="1735982"/>
                  <a:pt x="1741553" y="1932755"/>
                </a:cubicBezTo>
                <a:lnTo>
                  <a:pt x="1967917" y="2284217"/>
                </a:lnTo>
                <a:lnTo>
                  <a:pt x="2037145" y="2234618"/>
                </a:lnTo>
                <a:cubicBezTo>
                  <a:pt x="2913254" y="2995439"/>
                  <a:pt x="3181132" y="3578954"/>
                  <a:pt x="3125302" y="3789029"/>
                </a:cubicBezTo>
                <a:cubicBezTo>
                  <a:pt x="3106500" y="3931371"/>
                  <a:pt x="2976322" y="3969409"/>
                  <a:pt x="2895645" y="3957062"/>
                </a:cubicBezTo>
                <a:cubicBezTo>
                  <a:pt x="2363446" y="3830214"/>
                  <a:pt x="1961795" y="2830323"/>
                  <a:pt x="1784689" y="2415489"/>
                </a:cubicBezTo>
                <a:lnTo>
                  <a:pt x="1850702" y="2368194"/>
                </a:lnTo>
                <a:lnTo>
                  <a:pt x="1622163" y="2013355"/>
                </a:lnTo>
                <a:cubicBezTo>
                  <a:pt x="1463260" y="2107083"/>
                  <a:pt x="1277898" y="2160240"/>
                  <a:pt x="1080120" y="2160240"/>
                </a:cubicBezTo>
                <a:cubicBezTo>
                  <a:pt x="483586" y="2160240"/>
                  <a:pt x="0" y="1676654"/>
                  <a:pt x="0" y="1080120"/>
                </a:cubicBezTo>
                <a:cubicBezTo>
                  <a:pt x="0" y="483586"/>
                  <a:pt x="483586" y="0"/>
                  <a:pt x="1080120"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矩形 33"/>
          <p:cNvSpPr/>
          <p:nvPr/>
        </p:nvSpPr>
        <p:spPr>
          <a:xfrm>
            <a:off x="4491000" y="1665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2" name="TextBox 4"/>
          <p:cNvSpPr/>
          <p:nvPr/>
        </p:nvSpPr>
        <p:spPr>
          <a:xfrm>
            <a:off x="4429080" y="11556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
        <p:nvSpPr>
          <p:cNvPr id="293" name="矩形 35"/>
          <p:cNvSpPr/>
          <p:nvPr/>
        </p:nvSpPr>
        <p:spPr>
          <a:xfrm>
            <a:off x="4491000" y="32432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4" name="TextBox 4"/>
          <p:cNvSpPr/>
          <p:nvPr/>
        </p:nvSpPr>
        <p:spPr>
          <a:xfrm>
            <a:off x="4429080" y="2733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
        <p:nvSpPr>
          <p:cNvPr id="295" name="矩形 37"/>
          <p:cNvSpPr/>
          <p:nvPr/>
        </p:nvSpPr>
        <p:spPr>
          <a:xfrm>
            <a:off x="4552920" y="4829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6" name="TextBox 4"/>
          <p:cNvSpPr/>
          <p:nvPr/>
        </p:nvSpPr>
        <p:spPr>
          <a:xfrm>
            <a:off x="4491000" y="4319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图片 1" descr=""/>
          <p:cNvPicPr/>
          <p:nvPr/>
        </p:nvPicPr>
        <p:blipFill>
          <a:blip r:embed="rId1"/>
          <a:srcRect l="0" t="0" r="0" b="-28"/>
          <a:stretch/>
        </p:blipFill>
        <p:spPr>
          <a:xfrm>
            <a:off x="2160720" y="1600200"/>
            <a:ext cx="2552400" cy="1609560"/>
          </a:xfrm>
          <a:prstGeom prst="rect">
            <a:avLst/>
          </a:prstGeom>
          <a:ln w="0">
            <a:noFill/>
          </a:ln>
        </p:spPr>
      </p:pic>
      <p:pic>
        <p:nvPicPr>
          <p:cNvPr id="306" name="图片 2" descr=""/>
          <p:cNvPicPr/>
          <p:nvPr/>
        </p:nvPicPr>
        <p:blipFill>
          <a:blip r:embed="rId2"/>
          <a:srcRect l="0" t="0" r="-53" b="84"/>
          <a:stretch/>
        </p:blipFill>
        <p:spPr>
          <a:xfrm>
            <a:off x="7478640" y="1600200"/>
            <a:ext cx="2552760" cy="1609560"/>
          </a:xfrm>
          <a:prstGeom prst="rect">
            <a:avLst/>
          </a:prstGeom>
          <a:ln w="0">
            <a:noFill/>
          </a:ln>
        </p:spPr>
      </p:pic>
      <p:pic>
        <p:nvPicPr>
          <p:cNvPr id="307" name="图片 3" descr=""/>
          <p:cNvPicPr/>
          <p:nvPr/>
        </p:nvPicPr>
        <p:blipFill>
          <a:blip r:embed="rId3"/>
          <a:srcRect l="0" t="0" r="0" b="-84"/>
          <a:stretch/>
        </p:blipFill>
        <p:spPr>
          <a:xfrm>
            <a:off x="4827600" y="1600200"/>
            <a:ext cx="2536920" cy="1609560"/>
          </a:xfrm>
          <a:prstGeom prst="rect">
            <a:avLst/>
          </a:prstGeom>
          <a:ln w="0">
            <a:noFill/>
          </a:ln>
        </p:spPr>
      </p:pic>
      <p:sp>
        <p:nvSpPr>
          <p:cNvPr id="308" name="矩形 4"/>
          <p:cNvSpPr/>
          <p:nvPr/>
        </p:nvSpPr>
        <p:spPr>
          <a:xfrm>
            <a:off x="2160720" y="3209760"/>
            <a:ext cx="2552400" cy="2937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6"/>
          <p:cNvSpPr/>
          <p:nvPr/>
        </p:nvSpPr>
        <p:spPr>
          <a:xfrm>
            <a:off x="4827600" y="3209760"/>
            <a:ext cx="2536920" cy="29376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矩形 7"/>
          <p:cNvSpPr/>
          <p:nvPr/>
        </p:nvSpPr>
        <p:spPr>
          <a:xfrm>
            <a:off x="7478640" y="3209760"/>
            <a:ext cx="2552760" cy="2937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15"/>
          <p:cNvSpPr/>
          <p:nvPr/>
        </p:nvSpPr>
        <p:spPr>
          <a:xfrm>
            <a:off x="24750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312" name="矩形 9"/>
          <p:cNvSpPr/>
          <p:nvPr/>
        </p:nvSpPr>
        <p:spPr>
          <a:xfrm>
            <a:off x="2919600" y="31971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3" name="矩形 14"/>
          <p:cNvSpPr/>
          <p:nvPr/>
        </p:nvSpPr>
        <p:spPr>
          <a:xfrm>
            <a:off x="5586840" y="319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4" name="矩形 15"/>
          <p:cNvSpPr/>
          <p:nvPr/>
        </p:nvSpPr>
        <p:spPr>
          <a:xfrm>
            <a:off x="8240040" y="31878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5" name="TextBox 15"/>
          <p:cNvSpPr/>
          <p:nvPr/>
        </p:nvSpPr>
        <p:spPr>
          <a:xfrm>
            <a:off x="51498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316" name="TextBox 15"/>
          <p:cNvSpPr/>
          <p:nvPr/>
        </p:nvSpPr>
        <p:spPr>
          <a:xfrm>
            <a:off x="782496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组合 1"/>
          <p:cNvGrpSpPr/>
          <p:nvPr/>
        </p:nvGrpSpPr>
        <p:grpSpPr>
          <a:xfrm>
            <a:off x="2253960" y="1787400"/>
            <a:ext cx="7555320" cy="1443240"/>
            <a:chOff x="2253960" y="1787400"/>
            <a:chExt cx="7555320" cy="1443240"/>
          </a:xfrm>
        </p:grpSpPr>
        <p:sp>
          <p:nvSpPr>
            <p:cNvPr id="326" name="直接连接符 2"/>
            <p:cNvSpPr/>
            <p:nvPr/>
          </p:nvSpPr>
          <p:spPr>
            <a:xfrm>
              <a:off x="2254320" y="241884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7" name="直接箭头连接符 3"/>
            <p:cNvCxnSpPr/>
            <p:nvPr/>
          </p:nvCxnSpPr>
          <p:spPr>
            <a:xfrm>
              <a:off x="2253960" y="2418480"/>
              <a:ext cx="1080" cy="812520"/>
            </a:xfrm>
            <a:prstGeom prst="straightConnector1">
              <a:avLst/>
            </a:prstGeom>
            <a:ln w="6480">
              <a:solidFill>
                <a:srgbClr val="7f7f7f"/>
              </a:solidFill>
              <a:bevel/>
              <a:tailEnd len="med" type="arrow" w="med"/>
            </a:ln>
          </p:spPr>
        </p:cxnSp>
        <p:cxnSp>
          <p:nvCxnSpPr>
            <p:cNvPr id="328" name="直接箭头连接符 4"/>
            <p:cNvCxnSpPr/>
            <p:nvPr/>
          </p:nvCxnSpPr>
          <p:spPr>
            <a:xfrm>
              <a:off x="4798080" y="2418480"/>
              <a:ext cx="1080" cy="812520"/>
            </a:xfrm>
            <a:prstGeom prst="straightConnector1">
              <a:avLst/>
            </a:prstGeom>
            <a:ln w="6480">
              <a:solidFill>
                <a:srgbClr val="7f7f7f"/>
              </a:solidFill>
              <a:bevel/>
              <a:tailEnd len="med" type="arrow" w="med"/>
            </a:ln>
          </p:spPr>
        </p:cxnSp>
        <p:cxnSp>
          <p:nvCxnSpPr>
            <p:cNvPr id="329" name="直接箭头连接符 5"/>
            <p:cNvCxnSpPr/>
            <p:nvPr/>
          </p:nvCxnSpPr>
          <p:spPr>
            <a:xfrm>
              <a:off x="7444440" y="2418480"/>
              <a:ext cx="1080" cy="812520"/>
            </a:xfrm>
            <a:prstGeom prst="straightConnector1">
              <a:avLst/>
            </a:prstGeom>
            <a:ln w="6480">
              <a:solidFill>
                <a:srgbClr val="7f7f7f"/>
              </a:solidFill>
              <a:bevel/>
              <a:tailEnd len="med" type="arrow" w="med"/>
            </a:ln>
          </p:spPr>
        </p:cxnSp>
        <p:cxnSp>
          <p:nvCxnSpPr>
            <p:cNvPr id="330" name="直接箭头连接符 6"/>
            <p:cNvCxnSpPr/>
            <p:nvPr/>
          </p:nvCxnSpPr>
          <p:spPr>
            <a:xfrm>
              <a:off x="9806760" y="2418480"/>
              <a:ext cx="1080" cy="812520"/>
            </a:xfrm>
            <a:prstGeom prst="straightConnector1">
              <a:avLst/>
            </a:prstGeom>
            <a:ln w="6480">
              <a:solidFill>
                <a:srgbClr val="7f7f7f"/>
              </a:solidFill>
              <a:bevel/>
              <a:tailEnd len="med" type="arrow" w="med"/>
            </a:ln>
          </p:spPr>
        </p:cxnSp>
        <p:sp>
          <p:nvSpPr>
            <p:cNvPr id="331" name="直接连接符 7"/>
            <p:cNvSpPr/>
            <p:nvPr/>
          </p:nvSpPr>
          <p:spPr>
            <a:xfrm>
              <a:off x="6112080" y="178740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TextBox 29"/>
          <p:cNvSpPr/>
          <p:nvPr/>
        </p:nvSpPr>
        <p:spPr>
          <a:xfrm>
            <a:off x="911160" y="4027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33" name="TextBox 30"/>
          <p:cNvSpPr/>
          <p:nvPr/>
        </p:nvSpPr>
        <p:spPr>
          <a:xfrm>
            <a:off x="3435480" y="4027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1"/>
          <p:cNvSpPr/>
          <p:nvPr/>
        </p:nvSpPr>
        <p:spPr>
          <a:xfrm>
            <a:off x="6051600" y="4027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2"/>
          <p:cNvSpPr/>
          <p:nvPr/>
        </p:nvSpPr>
        <p:spPr>
          <a:xfrm>
            <a:off x="8756640" y="4027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36" name="等腰三角形 12"/>
          <p:cNvSpPr/>
          <p:nvPr/>
        </p:nvSpPr>
        <p:spPr>
          <a:xfrm rot="5400000">
            <a:off x="1878480" y="5329800"/>
            <a:ext cx="360360" cy="311400"/>
          </a:xfrm>
          <a:prstGeom prst="triangle">
            <a:avLst>
              <a:gd name="adj" fmla="val 50000"/>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34"/>
          <p:cNvSpPr/>
          <p:nvPr/>
        </p:nvSpPr>
        <p:spPr>
          <a:xfrm>
            <a:off x="2254320" y="524988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8" name="组合 14"/>
          <p:cNvGrpSpPr/>
          <p:nvPr/>
        </p:nvGrpSpPr>
        <p:grpSpPr>
          <a:xfrm>
            <a:off x="4643280" y="1066680"/>
            <a:ext cx="2905200" cy="720720"/>
            <a:chOff x="4643280" y="1066680"/>
            <a:chExt cx="2905200" cy="720720"/>
          </a:xfrm>
        </p:grpSpPr>
        <p:sp>
          <p:nvSpPr>
            <p:cNvPr id="339" name="矩形 15"/>
            <p:cNvSpPr/>
            <p:nvPr/>
          </p:nvSpPr>
          <p:spPr>
            <a:xfrm>
              <a:off x="4643280" y="1066680"/>
              <a:ext cx="2905200" cy="720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35"/>
            <p:cNvSpPr/>
            <p:nvPr/>
          </p:nvSpPr>
          <p:spPr>
            <a:xfrm>
              <a:off x="5536080" y="1227240"/>
              <a:ext cx="1095120" cy="39888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1" name="组合 17"/>
          <p:cNvGrpSpPr/>
          <p:nvPr/>
        </p:nvGrpSpPr>
        <p:grpSpPr>
          <a:xfrm>
            <a:off x="1001880" y="3230640"/>
            <a:ext cx="2384280" cy="722160"/>
            <a:chOff x="1001880" y="3230640"/>
            <a:chExt cx="2384280" cy="722160"/>
          </a:xfrm>
        </p:grpSpPr>
        <p:sp>
          <p:nvSpPr>
            <p:cNvPr id="342" name="矩形 18"/>
            <p:cNvSpPr/>
            <p:nvPr/>
          </p:nvSpPr>
          <p:spPr>
            <a:xfrm>
              <a:off x="1001880" y="3230640"/>
              <a:ext cx="2384280" cy="722160"/>
            </a:xfrm>
            <a:prstGeom prst="rect">
              <a:avLst/>
            </a:prstGeom>
            <a:solidFill>
              <a:srgbClr val="3d68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Box 36"/>
            <p:cNvSpPr/>
            <p:nvPr/>
          </p:nvSpPr>
          <p:spPr>
            <a:xfrm>
              <a:off x="1692000" y="3406680"/>
              <a:ext cx="1003680" cy="368280"/>
            </a:xfrm>
            <a:prstGeom prst="rect">
              <a:avLst/>
            </a:prstGeom>
            <a:solidFill>
              <a:srgbClr val="3d686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44" name="组合 20"/>
          <p:cNvGrpSpPr/>
          <p:nvPr/>
        </p:nvGrpSpPr>
        <p:grpSpPr>
          <a:xfrm>
            <a:off x="3576600" y="3230640"/>
            <a:ext cx="2384640" cy="722160"/>
            <a:chOff x="3576600" y="3230640"/>
            <a:chExt cx="2384640" cy="722160"/>
          </a:xfrm>
        </p:grpSpPr>
        <p:sp>
          <p:nvSpPr>
            <p:cNvPr id="345" name="矩形 21"/>
            <p:cNvSpPr/>
            <p:nvPr/>
          </p:nvSpPr>
          <p:spPr>
            <a:xfrm>
              <a:off x="3576600" y="3230640"/>
              <a:ext cx="2384640" cy="722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37"/>
            <p:cNvSpPr/>
            <p:nvPr/>
          </p:nvSpPr>
          <p:spPr>
            <a:xfrm>
              <a:off x="4266720" y="3406680"/>
              <a:ext cx="1003680" cy="368280"/>
            </a:xfrm>
            <a:prstGeom prst="rect">
              <a:avLst/>
            </a:prstGeom>
            <a:solidFill>
              <a:srgbClr val="ff466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47" name="组合 23"/>
          <p:cNvGrpSpPr/>
          <p:nvPr/>
        </p:nvGrpSpPr>
        <p:grpSpPr>
          <a:xfrm>
            <a:off x="6191280" y="3230640"/>
            <a:ext cx="2384280" cy="722160"/>
            <a:chOff x="6191280" y="3230640"/>
            <a:chExt cx="2384280" cy="722160"/>
          </a:xfrm>
        </p:grpSpPr>
        <p:sp>
          <p:nvSpPr>
            <p:cNvPr id="348" name="矩形 24"/>
            <p:cNvSpPr/>
            <p:nvPr/>
          </p:nvSpPr>
          <p:spPr>
            <a:xfrm>
              <a:off x="6191280" y="3230640"/>
              <a:ext cx="2384280" cy="72216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38"/>
            <p:cNvSpPr/>
            <p:nvPr/>
          </p:nvSpPr>
          <p:spPr>
            <a:xfrm>
              <a:off x="6881400" y="3406680"/>
              <a:ext cx="1003680" cy="368280"/>
            </a:xfrm>
            <a:prstGeom prst="rect">
              <a:avLst/>
            </a:prstGeom>
            <a:solidFill>
              <a:srgbClr val="22f2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50" name="组合 26"/>
          <p:cNvGrpSpPr/>
          <p:nvPr/>
        </p:nvGrpSpPr>
        <p:grpSpPr>
          <a:xfrm>
            <a:off x="8805960" y="3230640"/>
            <a:ext cx="2384280" cy="722160"/>
            <a:chOff x="8805960" y="3230640"/>
            <a:chExt cx="2384280" cy="722160"/>
          </a:xfrm>
        </p:grpSpPr>
        <p:sp>
          <p:nvSpPr>
            <p:cNvPr id="351" name="矩形 27"/>
            <p:cNvSpPr/>
            <p:nvPr/>
          </p:nvSpPr>
          <p:spPr>
            <a:xfrm>
              <a:off x="8805960" y="3230640"/>
              <a:ext cx="2384280" cy="722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39"/>
            <p:cNvSpPr/>
            <p:nvPr/>
          </p:nvSpPr>
          <p:spPr>
            <a:xfrm>
              <a:off x="9496080" y="3406680"/>
              <a:ext cx="1003680" cy="368280"/>
            </a:xfrm>
            <a:prstGeom prst="rect">
              <a:avLst/>
            </a:prstGeom>
            <a:solidFill>
              <a:srgbClr val="ffa14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文本框 7"/>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3</a:t>
            </a:r>
            <a:endParaRPr b="0" lang="en-US" sz="13800" spc="-1" strike="noStrike">
              <a:solidFill>
                <a:srgbClr val="000000"/>
              </a:solidFill>
              <a:latin typeface="Arial"/>
            </a:endParaRPr>
          </a:p>
        </p:txBody>
      </p:sp>
      <p:sp>
        <p:nvSpPr>
          <p:cNvPr id="356" name="矩形 8"/>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357" name="矩形 9"/>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1"/>
          <p:cNvSpPr/>
          <p:nvPr/>
        </p:nvSpPr>
        <p:spPr>
          <a:xfrm>
            <a:off x="981000" y="220500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椭圆 2"/>
          <p:cNvSpPr/>
          <p:nvPr/>
        </p:nvSpPr>
        <p:spPr>
          <a:xfrm>
            <a:off x="8423280" y="2225520"/>
            <a:ext cx="2651040" cy="2651400"/>
          </a:xfrm>
          <a:prstGeom prst="ellipse">
            <a:avLst/>
          </a:prstGeom>
          <a:solidFill>
            <a:srgbClr val="3d6869"/>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椭圆 1"/>
          <p:cNvSpPr/>
          <p:nvPr/>
        </p:nvSpPr>
        <p:spPr>
          <a:xfrm>
            <a:off x="3460680" y="2225520"/>
            <a:ext cx="2479680" cy="2651400"/>
          </a:xfrm>
          <a:custGeom>
            <a:avLst/>
            <a:gdLst>
              <a:gd name="textAreaLeft" fmla="*/ 0 w 2479680"/>
              <a:gd name="textAreaRight" fmla="*/ 2480040 w 2479680"/>
              <a:gd name="textAreaTop" fmla="*/ 0 h 2651400"/>
              <a:gd name="textAreaBottom" fmla="*/ 2651760 h 265140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椭圆 1"/>
          <p:cNvSpPr/>
          <p:nvPr/>
        </p:nvSpPr>
        <p:spPr>
          <a:xfrm>
            <a:off x="5940360" y="2225520"/>
            <a:ext cx="2479680" cy="2651400"/>
          </a:xfrm>
          <a:custGeom>
            <a:avLst/>
            <a:gdLst>
              <a:gd name="textAreaLeft" fmla="*/ 0 w 2479680"/>
              <a:gd name="textAreaRight" fmla="*/ 2480040 w 2479680"/>
              <a:gd name="textAreaTop" fmla="*/ 0 h 2651400"/>
              <a:gd name="textAreaBottom" fmla="*/ 2651760 h 265140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TextBox 14"/>
          <p:cNvSpPr/>
          <p:nvPr/>
        </p:nvSpPr>
        <p:spPr>
          <a:xfrm>
            <a:off x="197568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371" name="TextBox 15"/>
          <p:cNvSpPr/>
          <p:nvPr/>
        </p:nvSpPr>
        <p:spPr>
          <a:xfrm>
            <a:off x="449568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372" name="TextBox 16"/>
          <p:cNvSpPr/>
          <p:nvPr/>
        </p:nvSpPr>
        <p:spPr>
          <a:xfrm>
            <a:off x="691920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373" name="TextBox 17"/>
          <p:cNvSpPr/>
          <p:nvPr/>
        </p:nvSpPr>
        <p:spPr>
          <a:xfrm>
            <a:off x="948852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374" name="直接连接符 9"/>
          <p:cNvSpPr/>
          <p:nvPr/>
        </p:nvSpPr>
        <p:spPr>
          <a:xfrm>
            <a:off x="1285920" y="3048120"/>
            <a:ext cx="181908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10"/>
          <p:cNvSpPr/>
          <p:nvPr/>
        </p:nvSpPr>
        <p:spPr>
          <a:xfrm>
            <a:off x="3790800" y="3048120"/>
            <a:ext cx="181944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11"/>
          <p:cNvSpPr/>
          <p:nvPr/>
        </p:nvSpPr>
        <p:spPr>
          <a:xfrm>
            <a:off x="6270480" y="3048120"/>
            <a:ext cx="181944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直接连接符 12"/>
          <p:cNvSpPr/>
          <p:nvPr/>
        </p:nvSpPr>
        <p:spPr>
          <a:xfrm>
            <a:off x="8761320" y="3048120"/>
            <a:ext cx="203220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Box 22"/>
          <p:cNvSpPr/>
          <p:nvPr/>
        </p:nvSpPr>
        <p:spPr>
          <a:xfrm>
            <a:off x="1025640" y="3214800"/>
            <a:ext cx="24732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79" name="TextBox 23"/>
          <p:cNvSpPr/>
          <p:nvPr/>
        </p:nvSpPr>
        <p:spPr>
          <a:xfrm>
            <a:off x="1025640" y="370512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80" name="TextBox 24"/>
          <p:cNvSpPr/>
          <p:nvPr/>
        </p:nvSpPr>
        <p:spPr>
          <a:xfrm>
            <a:off x="3584520" y="321480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81" name="TextBox 25"/>
          <p:cNvSpPr/>
          <p:nvPr/>
        </p:nvSpPr>
        <p:spPr>
          <a:xfrm>
            <a:off x="3616200" y="3705120"/>
            <a:ext cx="2473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82" name="TextBox 26"/>
          <p:cNvSpPr/>
          <p:nvPr/>
        </p:nvSpPr>
        <p:spPr>
          <a:xfrm>
            <a:off x="5985000" y="321480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83" name="TextBox 27"/>
          <p:cNvSpPr/>
          <p:nvPr/>
        </p:nvSpPr>
        <p:spPr>
          <a:xfrm>
            <a:off x="5985000" y="3705120"/>
            <a:ext cx="24746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84" name="TextBox 28"/>
          <p:cNvSpPr/>
          <p:nvPr/>
        </p:nvSpPr>
        <p:spPr>
          <a:xfrm>
            <a:off x="8624880" y="3254400"/>
            <a:ext cx="24732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85" name="TextBox 29"/>
          <p:cNvSpPr/>
          <p:nvPr/>
        </p:nvSpPr>
        <p:spPr>
          <a:xfrm>
            <a:off x="8655120" y="374508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86" name="KSO_Shape"/>
          <p:cNvSpPr/>
          <p:nvPr/>
        </p:nvSpPr>
        <p:spPr>
          <a:xfrm>
            <a:off x="1766880" y="1146240"/>
            <a:ext cx="473040" cy="474480"/>
          </a:xfrm>
          <a:custGeom>
            <a:avLst/>
            <a:gdLst>
              <a:gd name="textAreaLeft" fmla="*/ 0 w 473040"/>
              <a:gd name="textAreaRight" fmla="*/ 473400 w 473040"/>
              <a:gd name="textAreaTop" fmla="*/ 0 h 474480"/>
              <a:gd name="textAreaBottom" fmla="*/ 474840 h 47448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KSO_Shape"/>
          <p:cNvSpPr/>
          <p:nvPr/>
        </p:nvSpPr>
        <p:spPr>
          <a:xfrm>
            <a:off x="1733400" y="5294160"/>
            <a:ext cx="473400" cy="473400"/>
          </a:xfrm>
          <a:custGeom>
            <a:avLst/>
            <a:gdLst>
              <a:gd name="textAreaLeft" fmla="*/ 0 w 473400"/>
              <a:gd name="textAreaRight" fmla="*/ 473760 w 473400"/>
              <a:gd name="textAreaTop" fmla="*/ 0 h 473400"/>
              <a:gd name="textAreaBottom" fmla="*/ 473760 h 47340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KSO_Shape"/>
          <p:cNvSpPr/>
          <p:nvPr/>
        </p:nvSpPr>
        <p:spPr>
          <a:xfrm flipH="1">
            <a:off x="10425240" y="1146240"/>
            <a:ext cx="473040" cy="474480"/>
          </a:xfrm>
          <a:custGeom>
            <a:avLst/>
            <a:gdLst>
              <a:gd name="textAreaLeft" fmla="*/ 360 w 473040"/>
              <a:gd name="textAreaRight" fmla="*/ 473760 w 473040"/>
              <a:gd name="textAreaTop" fmla="*/ 0 h 474480"/>
              <a:gd name="textAreaBottom" fmla="*/ 474840 h 47448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KSO_Shape"/>
          <p:cNvSpPr/>
          <p:nvPr/>
        </p:nvSpPr>
        <p:spPr>
          <a:xfrm flipH="1">
            <a:off x="10737720" y="5329080"/>
            <a:ext cx="473040" cy="473400"/>
          </a:xfrm>
          <a:custGeom>
            <a:avLst/>
            <a:gdLst>
              <a:gd name="textAreaLeft" fmla="*/ 360 w 473040"/>
              <a:gd name="textAreaRight" fmla="*/ 473760 w 473040"/>
              <a:gd name="textAreaTop" fmla="*/ 0 h 473400"/>
              <a:gd name="textAreaBottom" fmla="*/ 473760 h 47340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文本框 25"/>
          <p:cNvSpPr/>
          <p:nvPr/>
        </p:nvSpPr>
        <p:spPr>
          <a:xfrm>
            <a:off x="2418840" y="9018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4664"/>
                </a:solidFill>
                <a:latin typeface="微软雅黑"/>
                <a:ea typeface="微软雅黑"/>
              </a:rPr>
              <a:t>KEYWORD</a:t>
            </a:r>
            <a:endParaRPr b="0" lang="en-US" sz="1800" spc="-1" strike="noStrike">
              <a:solidFill>
                <a:srgbClr val="000000"/>
              </a:solidFill>
              <a:latin typeface="Arial"/>
            </a:endParaRPr>
          </a:p>
        </p:txBody>
      </p:sp>
      <p:sp>
        <p:nvSpPr>
          <p:cNvPr id="391" name="TextBox 15"/>
          <p:cNvSpPr/>
          <p:nvPr/>
        </p:nvSpPr>
        <p:spPr>
          <a:xfrm>
            <a:off x="2378160" y="117468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392" name="文本框 27"/>
          <p:cNvSpPr/>
          <p:nvPr/>
        </p:nvSpPr>
        <p:spPr>
          <a:xfrm>
            <a:off x="235512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f2cc"/>
                </a:solidFill>
                <a:latin typeface="微软雅黑"/>
                <a:ea typeface="微软雅黑"/>
              </a:rPr>
              <a:t>KEYWORD</a:t>
            </a:r>
            <a:endParaRPr b="0" lang="en-US" sz="1800" spc="-1" strike="noStrike">
              <a:solidFill>
                <a:srgbClr val="000000"/>
              </a:solidFill>
              <a:latin typeface="Arial"/>
            </a:endParaRPr>
          </a:p>
        </p:txBody>
      </p:sp>
      <p:sp>
        <p:nvSpPr>
          <p:cNvPr id="393" name="TextBox 15"/>
          <p:cNvSpPr/>
          <p:nvPr/>
        </p:nvSpPr>
        <p:spPr>
          <a:xfrm>
            <a:off x="2314440" y="5289480"/>
            <a:ext cx="329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394" name="文本框 29"/>
          <p:cNvSpPr/>
          <p:nvPr/>
        </p:nvSpPr>
        <p:spPr>
          <a:xfrm>
            <a:off x="8781480" y="9018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146"/>
                </a:solidFill>
                <a:latin typeface="微软雅黑"/>
                <a:ea typeface="微软雅黑"/>
              </a:rPr>
              <a:t>KEYWORD</a:t>
            </a:r>
            <a:endParaRPr b="0" lang="en-US" sz="1800" spc="-1" strike="noStrike">
              <a:solidFill>
                <a:srgbClr val="000000"/>
              </a:solidFill>
              <a:latin typeface="Arial"/>
            </a:endParaRPr>
          </a:p>
        </p:txBody>
      </p:sp>
      <p:sp>
        <p:nvSpPr>
          <p:cNvPr id="395" name="TextBox 15"/>
          <p:cNvSpPr/>
          <p:nvPr/>
        </p:nvSpPr>
        <p:spPr>
          <a:xfrm>
            <a:off x="6915240" y="117468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396" name="文本框 31"/>
          <p:cNvSpPr/>
          <p:nvPr/>
        </p:nvSpPr>
        <p:spPr>
          <a:xfrm>
            <a:off x="9127440" y="503712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6869"/>
                </a:solidFill>
                <a:latin typeface="微软雅黑"/>
                <a:ea typeface="微软雅黑"/>
              </a:rPr>
              <a:t>KEYWORD</a:t>
            </a:r>
            <a:endParaRPr b="0" lang="en-US" sz="1800" spc="-1" strike="noStrike">
              <a:solidFill>
                <a:srgbClr val="000000"/>
              </a:solidFill>
              <a:latin typeface="Arial"/>
            </a:endParaRPr>
          </a:p>
        </p:txBody>
      </p:sp>
      <p:sp>
        <p:nvSpPr>
          <p:cNvPr id="397" name="TextBox 15"/>
          <p:cNvSpPr/>
          <p:nvPr/>
        </p:nvSpPr>
        <p:spPr>
          <a:xfrm>
            <a:off x="7261200" y="5308560"/>
            <a:ext cx="32353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2"/>
          <p:cNvSpPr/>
          <p:nvPr/>
        </p:nvSpPr>
        <p:spPr>
          <a:xfrm>
            <a:off x="2516040" y="3209760"/>
            <a:ext cx="465120" cy="498600"/>
          </a:xfrm>
          <a:custGeom>
            <a:avLst/>
            <a:gdLst>
              <a:gd name="textAreaLeft" fmla="*/ 0 w 465120"/>
              <a:gd name="textAreaRight" fmla="*/ 465480 w 465120"/>
              <a:gd name="textAreaTop" fmla="*/ 0 h 498600"/>
              <a:gd name="textAreaBottom" fmla="*/ 498960 h 498600"/>
            </a:gdLst>
            <a:ahLst/>
            <a:rect l="textAreaLeft" t="textAreaTop" r="textAreaRight" b="textAreaBottom"/>
            <a:pathLst>
              <a:path w="67" h="72">
                <a:moveTo>
                  <a:pt x="67" y="67"/>
                </a:moveTo>
                <a:cubicBezTo>
                  <a:pt x="67" y="70"/>
                  <a:pt x="64" y="72"/>
                  <a:pt x="61" y="72"/>
                </a:cubicBezTo>
                <a:cubicBezTo>
                  <a:pt x="5" y="72"/>
                  <a:pt x="5" y="72"/>
                  <a:pt x="5" y="72"/>
                </a:cubicBezTo>
                <a:cubicBezTo>
                  <a:pt x="2" y="72"/>
                  <a:pt x="0" y="70"/>
                  <a:pt x="0" y="67"/>
                </a:cubicBezTo>
                <a:cubicBezTo>
                  <a:pt x="0" y="16"/>
                  <a:pt x="0" y="16"/>
                  <a:pt x="0" y="16"/>
                </a:cubicBezTo>
                <a:cubicBezTo>
                  <a:pt x="0" y="13"/>
                  <a:pt x="2" y="11"/>
                  <a:pt x="5" y="11"/>
                </a:cubicBezTo>
                <a:cubicBezTo>
                  <a:pt x="10" y="11"/>
                  <a:pt x="10" y="11"/>
                  <a:pt x="10" y="11"/>
                </a:cubicBezTo>
                <a:cubicBezTo>
                  <a:pt x="10" y="7"/>
                  <a:pt x="10" y="7"/>
                  <a:pt x="10" y="7"/>
                </a:cubicBezTo>
                <a:cubicBezTo>
                  <a:pt x="10" y="3"/>
                  <a:pt x="13" y="0"/>
                  <a:pt x="16" y="0"/>
                </a:cubicBezTo>
                <a:cubicBezTo>
                  <a:pt x="19" y="0"/>
                  <a:pt x="19" y="0"/>
                  <a:pt x="19" y="0"/>
                </a:cubicBezTo>
                <a:cubicBezTo>
                  <a:pt x="23" y="0"/>
                  <a:pt x="25" y="3"/>
                  <a:pt x="25" y="7"/>
                </a:cubicBezTo>
                <a:cubicBezTo>
                  <a:pt x="25" y="11"/>
                  <a:pt x="25" y="11"/>
                  <a:pt x="25" y="11"/>
                </a:cubicBezTo>
                <a:cubicBezTo>
                  <a:pt x="41" y="11"/>
                  <a:pt x="41" y="11"/>
                  <a:pt x="41" y="11"/>
                </a:cubicBezTo>
                <a:cubicBezTo>
                  <a:pt x="41" y="7"/>
                  <a:pt x="41" y="7"/>
                  <a:pt x="41" y="7"/>
                </a:cubicBezTo>
                <a:cubicBezTo>
                  <a:pt x="41" y="3"/>
                  <a:pt x="44" y="0"/>
                  <a:pt x="47" y="0"/>
                </a:cubicBezTo>
                <a:cubicBezTo>
                  <a:pt x="50" y="0"/>
                  <a:pt x="50" y="0"/>
                  <a:pt x="50" y="0"/>
                </a:cubicBezTo>
                <a:cubicBezTo>
                  <a:pt x="53" y="0"/>
                  <a:pt x="56" y="3"/>
                  <a:pt x="56" y="7"/>
                </a:cubicBezTo>
                <a:cubicBezTo>
                  <a:pt x="56" y="11"/>
                  <a:pt x="56" y="11"/>
                  <a:pt x="56" y="11"/>
                </a:cubicBezTo>
                <a:cubicBezTo>
                  <a:pt x="61" y="11"/>
                  <a:pt x="61" y="11"/>
                  <a:pt x="61" y="11"/>
                </a:cubicBezTo>
                <a:cubicBezTo>
                  <a:pt x="64" y="11"/>
                  <a:pt x="67" y="13"/>
                  <a:pt x="67" y="16"/>
                </a:cubicBezTo>
                <a:lnTo>
                  <a:pt x="67" y="67"/>
                </a:lnTo>
                <a:close/>
                <a:moveTo>
                  <a:pt x="61" y="67"/>
                </a:moveTo>
                <a:cubicBezTo>
                  <a:pt x="61" y="26"/>
                  <a:pt x="61" y="26"/>
                  <a:pt x="61" y="26"/>
                </a:cubicBezTo>
                <a:cubicBezTo>
                  <a:pt x="5" y="26"/>
                  <a:pt x="5" y="26"/>
                  <a:pt x="5" y="26"/>
                </a:cubicBezTo>
                <a:cubicBezTo>
                  <a:pt x="5" y="67"/>
                  <a:pt x="5" y="67"/>
                  <a:pt x="5" y="67"/>
                </a:cubicBezTo>
                <a:lnTo>
                  <a:pt x="61" y="67"/>
                </a:lnTo>
                <a:close/>
                <a:moveTo>
                  <a:pt x="20" y="7"/>
                </a:moveTo>
                <a:cubicBezTo>
                  <a:pt x="20" y="6"/>
                  <a:pt x="20" y="5"/>
                  <a:pt x="19" y="5"/>
                </a:cubicBezTo>
                <a:cubicBezTo>
                  <a:pt x="16" y="5"/>
                  <a:pt x="16" y="5"/>
                  <a:pt x="16" y="5"/>
                </a:cubicBezTo>
                <a:cubicBezTo>
                  <a:pt x="16" y="5"/>
                  <a:pt x="15" y="6"/>
                  <a:pt x="15" y="7"/>
                </a:cubicBezTo>
                <a:cubicBezTo>
                  <a:pt x="15" y="18"/>
                  <a:pt x="15" y="18"/>
                  <a:pt x="15" y="18"/>
                </a:cubicBezTo>
                <a:cubicBezTo>
                  <a:pt x="15" y="19"/>
                  <a:pt x="16" y="20"/>
                  <a:pt x="16" y="20"/>
                </a:cubicBezTo>
                <a:cubicBezTo>
                  <a:pt x="19" y="20"/>
                  <a:pt x="19" y="20"/>
                  <a:pt x="19" y="20"/>
                </a:cubicBezTo>
                <a:cubicBezTo>
                  <a:pt x="20" y="20"/>
                  <a:pt x="20" y="19"/>
                  <a:pt x="20" y="18"/>
                </a:cubicBezTo>
                <a:lnTo>
                  <a:pt x="20" y="7"/>
                </a:lnTo>
                <a:close/>
                <a:moveTo>
                  <a:pt x="51" y="7"/>
                </a:moveTo>
                <a:cubicBezTo>
                  <a:pt x="51" y="6"/>
                  <a:pt x="51" y="5"/>
                  <a:pt x="50" y="5"/>
                </a:cubicBezTo>
                <a:cubicBezTo>
                  <a:pt x="47" y="5"/>
                  <a:pt x="47" y="5"/>
                  <a:pt x="47" y="5"/>
                </a:cubicBezTo>
                <a:cubicBezTo>
                  <a:pt x="47" y="5"/>
                  <a:pt x="46" y="6"/>
                  <a:pt x="46" y="7"/>
                </a:cubicBezTo>
                <a:cubicBezTo>
                  <a:pt x="46" y="18"/>
                  <a:pt x="46" y="18"/>
                  <a:pt x="46" y="18"/>
                </a:cubicBezTo>
                <a:cubicBezTo>
                  <a:pt x="46" y="19"/>
                  <a:pt x="47" y="20"/>
                  <a:pt x="47" y="20"/>
                </a:cubicBezTo>
                <a:cubicBezTo>
                  <a:pt x="50" y="20"/>
                  <a:pt x="50" y="20"/>
                  <a:pt x="50" y="20"/>
                </a:cubicBezTo>
                <a:cubicBezTo>
                  <a:pt x="51" y="20"/>
                  <a:pt x="51" y="19"/>
                  <a:pt x="51" y="18"/>
                </a:cubicBezTo>
                <a:lnTo>
                  <a:pt x="5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2"/>
          <p:cNvSpPr/>
          <p:nvPr/>
        </p:nvSpPr>
        <p:spPr>
          <a:xfrm>
            <a:off x="3909960" y="3460680"/>
            <a:ext cx="504720" cy="434880"/>
          </a:xfrm>
          <a:custGeom>
            <a:avLst/>
            <a:gdLst>
              <a:gd name="textAreaLeft" fmla="*/ 0 w 504720"/>
              <a:gd name="textAreaRight" fmla="*/ 505080 w 504720"/>
              <a:gd name="textAreaTop" fmla="*/ 0 h 434880"/>
              <a:gd name="textAreaBottom" fmla="*/ 435240 h 434880"/>
            </a:gdLst>
            <a:ahLst/>
            <a:rect l="textAreaLeft" t="textAreaTop" r="textAreaRight" b="textAreaBottom"/>
            <a:pathLst>
              <a:path w="73" h="63">
                <a:moveTo>
                  <a:pt x="73" y="47"/>
                </a:moveTo>
                <a:cubicBezTo>
                  <a:pt x="73" y="50"/>
                  <a:pt x="70" y="53"/>
                  <a:pt x="67" y="53"/>
                </a:cubicBezTo>
                <a:cubicBezTo>
                  <a:pt x="46" y="53"/>
                  <a:pt x="46" y="53"/>
                  <a:pt x="46" y="53"/>
                </a:cubicBezTo>
                <a:cubicBezTo>
                  <a:pt x="46" y="56"/>
                  <a:pt x="48" y="59"/>
                  <a:pt x="48" y="60"/>
                </a:cubicBezTo>
                <a:cubicBezTo>
                  <a:pt x="48" y="62"/>
                  <a:pt x="47" y="63"/>
                  <a:pt x="46" y="63"/>
                </a:cubicBezTo>
                <a:cubicBezTo>
                  <a:pt x="26" y="63"/>
                  <a:pt x="26" y="63"/>
                  <a:pt x="26" y="63"/>
                </a:cubicBezTo>
                <a:cubicBezTo>
                  <a:pt x="25" y="63"/>
                  <a:pt x="24" y="62"/>
                  <a:pt x="24" y="60"/>
                </a:cubicBezTo>
                <a:cubicBezTo>
                  <a:pt x="24" y="59"/>
                  <a:pt x="26" y="56"/>
                  <a:pt x="26" y="53"/>
                </a:cubicBezTo>
                <a:cubicBezTo>
                  <a:pt x="6" y="53"/>
                  <a:pt x="6" y="53"/>
                  <a:pt x="6" y="53"/>
                </a:cubicBezTo>
                <a:cubicBezTo>
                  <a:pt x="2" y="53"/>
                  <a:pt x="0" y="50"/>
                  <a:pt x="0" y="47"/>
                </a:cubicBezTo>
                <a:cubicBezTo>
                  <a:pt x="0" y="6"/>
                  <a:pt x="0" y="6"/>
                  <a:pt x="0" y="6"/>
                </a:cubicBezTo>
                <a:cubicBezTo>
                  <a:pt x="0" y="2"/>
                  <a:pt x="2" y="0"/>
                  <a:pt x="6" y="0"/>
                </a:cubicBezTo>
                <a:cubicBezTo>
                  <a:pt x="67" y="0"/>
                  <a:pt x="67" y="0"/>
                  <a:pt x="67" y="0"/>
                </a:cubicBezTo>
                <a:cubicBezTo>
                  <a:pt x="70" y="0"/>
                  <a:pt x="73" y="2"/>
                  <a:pt x="73" y="6"/>
                </a:cubicBezTo>
                <a:lnTo>
                  <a:pt x="73" y="47"/>
                </a:lnTo>
                <a:close/>
                <a:moveTo>
                  <a:pt x="68" y="6"/>
                </a:moveTo>
                <a:cubicBezTo>
                  <a:pt x="68" y="5"/>
                  <a:pt x="67" y="5"/>
                  <a:pt x="67" y="5"/>
                </a:cubicBezTo>
                <a:cubicBezTo>
                  <a:pt x="6" y="5"/>
                  <a:pt x="6" y="5"/>
                  <a:pt x="6" y="5"/>
                </a:cubicBezTo>
                <a:cubicBezTo>
                  <a:pt x="5" y="5"/>
                  <a:pt x="5" y="5"/>
                  <a:pt x="5" y="6"/>
                </a:cubicBezTo>
                <a:cubicBezTo>
                  <a:pt x="5" y="37"/>
                  <a:pt x="5" y="37"/>
                  <a:pt x="5" y="37"/>
                </a:cubicBezTo>
                <a:cubicBezTo>
                  <a:pt x="5" y="38"/>
                  <a:pt x="5" y="39"/>
                  <a:pt x="6" y="39"/>
                </a:cubicBezTo>
                <a:cubicBezTo>
                  <a:pt x="67" y="39"/>
                  <a:pt x="67" y="39"/>
                  <a:pt x="67" y="39"/>
                </a:cubicBezTo>
                <a:cubicBezTo>
                  <a:pt x="67" y="39"/>
                  <a:pt x="68" y="38"/>
                  <a:pt x="68" y="37"/>
                </a:cubicBezTo>
                <a:lnTo>
                  <a:pt x="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78"/>
          <p:cNvSpPr/>
          <p:nvPr/>
        </p:nvSpPr>
        <p:spPr>
          <a:xfrm>
            <a:off x="3681360" y="2124000"/>
            <a:ext cx="504720" cy="381240"/>
          </a:xfrm>
          <a:custGeom>
            <a:avLst/>
            <a:gdLst>
              <a:gd name="textAreaLeft" fmla="*/ 0 w 504720"/>
              <a:gd name="textAreaRight" fmla="*/ 505080 w 504720"/>
              <a:gd name="textAreaTop" fmla="*/ 0 h 381240"/>
              <a:gd name="textAreaBottom" fmla="*/ 381600 h 381240"/>
            </a:gdLst>
            <a:ahLst/>
            <a:rect l="textAreaLeft" t="textAreaTop" r="textAreaRight" b="textAreaBottom"/>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86"/>
          <p:cNvSpPr/>
          <p:nvPr/>
        </p:nvSpPr>
        <p:spPr>
          <a:xfrm>
            <a:off x="2576520" y="2048040"/>
            <a:ext cx="345960" cy="581040"/>
          </a:xfrm>
          <a:custGeom>
            <a:avLst/>
            <a:gdLst>
              <a:gd name="textAreaLeft" fmla="*/ 0 w 345960"/>
              <a:gd name="textAreaRight" fmla="*/ 345960 w 345960"/>
              <a:gd name="textAreaTop" fmla="*/ 0 h 581040"/>
              <a:gd name="textAreaBottom" fmla="*/ 581400 h 581040"/>
            </a:gdLst>
            <a:ahLst/>
            <a:rect l="textAreaLeft" t="textAreaTop" r="textAreaRight" b="textAreaBottom"/>
            <a:pathLst>
              <a:path w="29" h="49">
                <a:moveTo>
                  <a:pt x="29" y="44"/>
                </a:moveTo>
                <a:cubicBezTo>
                  <a:pt x="29" y="47"/>
                  <a:pt x="27" y="49"/>
                  <a:pt x="24" y="49"/>
                </a:cubicBezTo>
                <a:cubicBezTo>
                  <a:pt x="5" y="49"/>
                  <a:pt x="5" y="49"/>
                  <a:pt x="5" y="49"/>
                </a:cubicBezTo>
                <a:cubicBezTo>
                  <a:pt x="2" y="49"/>
                  <a:pt x="0" y="47"/>
                  <a:pt x="0" y="44"/>
                </a:cubicBezTo>
                <a:cubicBezTo>
                  <a:pt x="0" y="5"/>
                  <a:pt x="0" y="5"/>
                  <a:pt x="0" y="5"/>
                </a:cubicBezTo>
                <a:cubicBezTo>
                  <a:pt x="0" y="3"/>
                  <a:pt x="2" y="0"/>
                  <a:pt x="5" y="0"/>
                </a:cubicBezTo>
                <a:cubicBezTo>
                  <a:pt x="24" y="0"/>
                  <a:pt x="24" y="0"/>
                  <a:pt x="24" y="0"/>
                </a:cubicBezTo>
                <a:cubicBezTo>
                  <a:pt x="27" y="0"/>
                  <a:pt x="29" y="3"/>
                  <a:pt x="29" y="5"/>
                </a:cubicBezTo>
                <a:lnTo>
                  <a:pt x="29" y="44"/>
                </a:lnTo>
                <a:close/>
                <a:moveTo>
                  <a:pt x="25" y="11"/>
                </a:moveTo>
                <a:cubicBezTo>
                  <a:pt x="25" y="11"/>
                  <a:pt x="25" y="10"/>
                  <a:pt x="24" y="10"/>
                </a:cubicBezTo>
                <a:cubicBezTo>
                  <a:pt x="5" y="10"/>
                  <a:pt x="5" y="10"/>
                  <a:pt x="5" y="10"/>
                </a:cubicBezTo>
                <a:cubicBezTo>
                  <a:pt x="4" y="10"/>
                  <a:pt x="3" y="11"/>
                  <a:pt x="3" y="11"/>
                </a:cubicBezTo>
                <a:cubicBezTo>
                  <a:pt x="3" y="38"/>
                  <a:pt x="3" y="38"/>
                  <a:pt x="3" y="38"/>
                </a:cubicBezTo>
                <a:cubicBezTo>
                  <a:pt x="3" y="39"/>
                  <a:pt x="4" y="39"/>
                  <a:pt x="5" y="39"/>
                </a:cubicBezTo>
                <a:cubicBezTo>
                  <a:pt x="24" y="39"/>
                  <a:pt x="24" y="39"/>
                  <a:pt x="24" y="39"/>
                </a:cubicBezTo>
                <a:cubicBezTo>
                  <a:pt x="25" y="39"/>
                  <a:pt x="25" y="39"/>
                  <a:pt x="25" y="38"/>
                </a:cubicBezTo>
                <a:lnTo>
                  <a:pt x="25" y="11"/>
                </a:lnTo>
                <a:close/>
                <a:moveTo>
                  <a:pt x="17" y="5"/>
                </a:moveTo>
                <a:cubicBezTo>
                  <a:pt x="11" y="5"/>
                  <a:pt x="11" y="5"/>
                  <a:pt x="11" y="5"/>
                </a:cubicBezTo>
                <a:cubicBezTo>
                  <a:pt x="11" y="5"/>
                  <a:pt x="11" y="6"/>
                  <a:pt x="11" y="6"/>
                </a:cubicBezTo>
                <a:cubicBezTo>
                  <a:pt x="11" y="6"/>
                  <a:pt x="11" y="6"/>
                  <a:pt x="11" y="6"/>
                </a:cubicBezTo>
                <a:cubicBezTo>
                  <a:pt x="17" y="6"/>
                  <a:pt x="17" y="6"/>
                  <a:pt x="17" y="6"/>
                </a:cubicBezTo>
                <a:cubicBezTo>
                  <a:pt x="18" y="6"/>
                  <a:pt x="18" y="6"/>
                  <a:pt x="18" y="6"/>
                </a:cubicBezTo>
                <a:cubicBezTo>
                  <a:pt x="18" y="6"/>
                  <a:pt x="18" y="5"/>
                  <a:pt x="17" y="5"/>
                </a:cubicBezTo>
                <a:close/>
                <a:moveTo>
                  <a:pt x="14" y="41"/>
                </a:moveTo>
                <a:cubicBezTo>
                  <a:pt x="13" y="41"/>
                  <a:pt x="11" y="42"/>
                  <a:pt x="11" y="44"/>
                </a:cubicBezTo>
                <a:cubicBezTo>
                  <a:pt x="11" y="46"/>
                  <a:pt x="13" y="47"/>
                  <a:pt x="14" y="47"/>
                </a:cubicBezTo>
                <a:cubicBezTo>
                  <a:pt x="16" y="47"/>
                  <a:pt x="17" y="46"/>
                  <a:pt x="17" y="44"/>
                </a:cubicBezTo>
                <a:cubicBezTo>
                  <a:pt x="17" y="42"/>
                  <a:pt x="16" y="41"/>
                  <a:pt x="14"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ounded Rectangle 72"/>
          <p:cNvSpPr/>
          <p:nvPr/>
        </p:nvSpPr>
        <p:spPr>
          <a:xfrm>
            <a:off x="6256440" y="1754280"/>
            <a:ext cx="1388880" cy="377640"/>
          </a:xfrm>
          <a:prstGeom prst="roundRect">
            <a:avLst>
              <a:gd name="adj" fmla="val 21106"/>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11" name="文本框 12"/>
          <p:cNvSpPr/>
          <p:nvPr/>
        </p:nvSpPr>
        <p:spPr>
          <a:xfrm>
            <a:off x="6256440" y="2138400"/>
            <a:ext cx="1614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12" name="Rounded Rectangle 72"/>
          <p:cNvSpPr/>
          <p:nvPr/>
        </p:nvSpPr>
        <p:spPr>
          <a:xfrm>
            <a:off x="8381880" y="1754280"/>
            <a:ext cx="1390680" cy="377640"/>
          </a:xfrm>
          <a:prstGeom prst="roundRect">
            <a:avLst>
              <a:gd name="adj" fmla="val 21106"/>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13" name="文本框 16"/>
          <p:cNvSpPr/>
          <p:nvPr/>
        </p:nvSpPr>
        <p:spPr>
          <a:xfrm>
            <a:off x="8327880" y="2138400"/>
            <a:ext cx="1686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14" name="Rounded Rectangle 72"/>
          <p:cNvSpPr/>
          <p:nvPr/>
        </p:nvSpPr>
        <p:spPr>
          <a:xfrm>
            <a:off x="6256440" y="3316320"/>
            <a:ext cx="1388880" cy="377640"/>
          </a:xfrm>
          <a:prstGeom prst="roundRect">
            <a:avLst>
              <a:gd name="adj" fmla="val 21106"/>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15" name="文本框 20"/>
          <p:cNvSpPr/>
          <p:nvPr/>
        </p:nvSpPr>
        <p:spPr>
          <a:xfrm>
            <a:off x="6256440" y="3701880"/>
            <a:ext cx="168588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16" name="Rounded Rectangle 72"/>
          <p:cNvSpPr/>
          <p:nvPr/>
        </p:nvSpPr>
        <p:spPr>
          <a:xfrm>
            <a:off x="8381880" y="3316320"/>
            <a:ext cx="1390680" cy="377640"/>
          </a:xfrm>
          <a:prstGeom prst="roundRect">
            <a:avLst>
              <a:gd name="adj" fmla="val 21106"/>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17" name="文本框 24"/>
          <p:cNvSpPr/>
          <p:nvPr/>
        </p:nvSpPr>
        <p:spPr>
          <a:xfrm>
            <a:off x="8327880" y="3701880"/>
            <a:ext cx="1686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18" name="TextBox 15"/>
          <p:cNvSpPr/>
          <p:nvPr/>
        </p:nvSpPr>
        <p:spPr>
          <a:xfrm>
            <a:off x="2073240" y="5154480"/>
            <a:ext cx="80438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5"/>
          <p:cNvSpPr/>
          <p:nvPr/>
        </p:nvSpPr>
        <p:spPr>
          <a:xfrm>
            <a:off x="2548080" y="1060560"/>
            <a:ext cx="2660400" cy="641160"/>
          </a:xfrm>
          <a:prstGeom prst="rect">
            <a:avLst/>
          </a:prstGeom>
          <a:noFill/>
          <a:ln w="0">
            <a:noFill/>
          </a:ln>
        </p:spPr>
        <p:style>
          <a:lnRef idx="0"/>
          <a:fillRef idx="0"/>
          <a:effectRef idx="0"/>
          <a:fontRef idx="minor"/>
        </p:style>
        <p:txBody>
          <a:bodyPr lIns="90000" rIns="108000" tIns="46800" bIns="1080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27172"/>
                </a:solidFill>
                <a:latin typeface="微软雅黑"/>
                <a:ea typeface="微软雅黑"/>
              </a:rPr>
              <a:t>点击此处添加标题</a:t>
            </a:r>
            <a:endParaRPr b="0" lang="en-US" sz="2400" spc="-1" strike="noStrike">
              <a:solidFill>
                <a:srgbClr val="000000"/>
              </a:solidFill>
              <a:latin typeface="Arial"/>
            </a:endParaRPr>
          </a:p>
        </p:txBody>
      </p:sp>
      <p:sp>
        <p:nvSpPr>
          <p:cNvPr id="428" name="矩形 7"/>
          <p:cNvSpPr/>
          <p:nvPr/>
        </p:nvSpPr>
        <p:spPr>
          <a:xfrm>
            <a:off x="2548080" y="2301840"/>
            <a:ext cx="6987960" cy="1687680"/>
          </a:xfrm>
          <a:prstGeom prst="pie">
            <a:avLst/>
          </a:prstGeom>
          <a:solidFill>
            <a:srgbClr val="ffffff"/>
          </a:solidFill>
          <a:ln cap="sq" w="12600">
            <a:solidFill>
              <a:srgbClr val="22f2cc"/>
            </a:solidFill>
            <a:miter/>
          </a:ln>
        </p:spPr>
        <p:style>
          <a:lnRef idx="0"/>
          <a:fillRef idx="0"/>
          <a:effectRef idx="0"/>
          <a:fontRef idx="minor"/>
        </p:style>
        <p:txBody>
          <a:bodyPr lIns="36000" rIns="0" tIns="10800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a:t>
            </a: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TextBox 15"/>
          <p:cNvSpPr/>
          <p:nvPr/>
        </p:nvSpPr>
        <p:spPr>
          <a:xfrm>
            <a:off x="2489040" y="1785960"/>
            <a:ext cx="35528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a146"/>
                </a:solidFill>
                <a:latin typeface="微软雅黑"/>
                <a:ea typeface="微软雅黑"/>
              </a:rPr>
              <a:t>这里输入简单的文字概述这里输入简单的文字概述</a:t>
            </a:r>
            <a:endParaRPr b="0" lang="en-US" sz="1200" spc="-1" strike="noStrike">
              <a:solidFill>
                <a:srgbClr val="000000"/>
              </a:solidFill>
              <a:latin typeface="Arial"/>
            </a:endParaRPr>
          </a:p>
        </p:txBody>
      </p:sp>
      <p:pic>
        <p:nvPicPr>
          <p:cNvPr id="430" name="图片 66" descr=""/>
          <p:cNvPicPr/>
          <p:nvPr/>
        </p:nvPicPr>
        <p:blipFill>
          <a:blip r:embed="rId1">
            <a:grayscl/>
          </a:blip>
          <a:srcRect l="0" t="0" r="42" b="0"/>
          <a:stretch/>
        </p:blipFill>
        <p:spPr>
          <a:xfrm>
            <a:off x="2349360" y="4425840"/>
            <a:ext cx="2175120" cy="1371600"/>
          </a:xfrm>
          <a:prstGeom prst="rect">
            <a:avLst/>
          </a:prstGeom>
          <a:ln w="0">
            <a:noFill/>
          </a:ln>
        </p:spPr>
      </p:pic>
      <p:pic>
        <p:nvPicPr>
          <p:cNvPr id="431" name="图片 67" descr=""/>
          <p:cNvPicPr/>
          <p:nvPr/>
        </p:nvPicPr>
        <p:blipFill>
          <a:blip r:embed="rId2">
            <a:grayscl/>
          </a:blip>
          <a:srcRect l="0" t="0" r="0" b="-66"/>
          <a:stretch/>
        </p:blipFill>
        <p:spPr>
          <a:xfrm>
            <a:off x="7667640" y="4425840"/>
            <a:ext cx="2174760" cy="1371600"/>
          </a:xfrm>
          <a:prstGeom prst="rect">
            <a:avLst/>
          </a:prstGeom>
          <a:ln w="0">
            <a:noFill/>
          </a:ln>
        </p:spPr>
      </p:pic>
      <p:pic>
        <p:nvPicPr>
          <p:cNvPr id="432" name="图片 68" descr=""/>
          <p:cNvPicPr/>
          <p:nvPr/>
        </p:nvPicPr>
        <p:blipFill>
          <a:blip r:embed="rId3">
            <a:grayscl/>
          </a:blip>
          <a:srcRect l="0" t="0" r="84" b="66"/>
          <a:stretch/>
        </p:blipFill>
        <p:spPr>
          <a:xfrm>
            <a:off x="5016600" y="442584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4883040" y="893880"/>
            <a:ext cx="2425680" cy="5059080"/>
            <a:chOff x="4883040" y="893880"/>
            <a:chExt cx="2425680" cy="5059080"/>
          </a:xfrm>
        </p:grpSpPr>
        <p:sp>
          <p:nvSpPr>
            <p:cNvPr id="442" name="Freeform 5"/>
            <p:cNvSpPr/>
            <p:nvPr/>
          </p:nvSpPr>
          <p:spPr>
            <a:xfrm>
              <a:off x="4883040" y="893880"/>
              <a:ext cx="2425680" cy="5059080"/>
            </a:xfrm>
            <a:custGeom>
              <a:avLst/>
              <a:gdLst>
                <a:gd name="textAreaLeft" fmla="*/ 0 w 2425680"/>
                <a:gd name="textAreaRight" fmla="*/ 2426040 w 2425680"/>
                <a:gd name="textAreaTop" fmla="*/ 0 h 5059080"/>
                <a:gd name="textAreaBottom" fmla="*/ 5059080 h 5059080"/>
              </a:gdLst>
              <a:ahLst/>
              <a:rect l="textAreaLeft" t="textAreaTop" r="textAreaRight" b="textAreaBottom"/>
              <a:pathLst>
                <a:path w="1546" h="3226">
                  <a:moveTo>
                    <a:pt x="1478" y="94"/>
                  </a:moveTo>
                  <a:cubicBezTo>
                    <a:pt x="1434" y="50"/>
                    <a:pt x="1375" y="26"/>
                    <a:pt x="1313" y="26"/>
                  </a:cubicBezTo>
                  <a:cubicBezTo>
                    <a:pt x="1294" y="26"/>
                    <a:pt x="1294" y="26"/>
                    <a:pt x="1294" y="26"/>
                  </a:cubicBezTo>
                  <a:cubicBezTo>
                    <a:pt x="1294" y="18"/>
                    <a:pt x="1294" y="18"/>
                    <a:pt x="1294" y="18"/>
                  </a:cubicBezTo>
                  <a:cubicBezTo>
                    <a:pt x="1294" y="12"/>
                    <a:pt x="1294" y="12"/>
                    <a:pt x="1294" y="12"/>
                  </a:cubicBezTo>
                  <a:cubicBezTo>
                    <a:pt x="1289" y="8"/>
                    <a:pt x="1289" y="8"/>
                    <a:pt x="1289" y="8"/>
                  </a:cubicBezTo>
                  <a:cubicBezTo>
                    <a:pt x="1281" y="2"/>
                    <a:pt x="1281" y="2"/>
                    <a:pt x="1281" y="2"/>
                  </a:cubicBezTo>
                  <a:cubicBezTo>
                    <a:pt x="1278" y="0"/>
                    <a:pt x="1278" y="0"/>
                    <a:pt x="1278" y="0"/>
                  </a:cubicBezTo>
                  <a:cubicBezTo>
                    <a:pt x="1274" y="0"/>
                    <a:pt x="1274" y="0"/>
                    <a:pt x="1274" y="0"/>
                  </a:cubicBezTo>
                  <a:cubicBezTo>
                    <a:pt x="1048" y="0"/>
                    <a:pt x="1048" y="0"/>
                    <a:pt x="1048" y="0"/>
                  </a:cubicBezTo>
                  <a:cubicBezTo>
                    <a:pt x="1045" y="0"/>
                    <a:pt x="1045" y="0"/>
                    <a:pt x="1045" y="0"/>
                  </a:cubicBezTo>
                  <a:cubicBezTo>
                    <a:pt x="1042" y="1"/>
                    <a:pt x="1042" y="1"/>
                    <a:pt x="1042" y="1"/>
                  </a:cubicBezTo>
                  <a:cubicBezTo>
                    <a:pt x="1032" y="7"/>
                    <a:pt x="1032" y="7"/>
                    <a:pt x="1032" y="7"/>
                  </a:cubicBezTo>
                  <a:cubicBezTo>
                    <a:pt x="1026" y="11"/>
                    <a:pt x="1026" y="11"/>
                    <a:pt x="1026" y="11"/>
                  </a:cubicBezTo>
                  <a:cubicBezTo>
                    <a:pt x="1026" y="18"/>
                    <a:pt x="1026" y="18"/>
                    <a:pt x="1026" y="18"/>
                  </a:cubicBezTo>
                  <a:cubicBezTo>
                    <a:pt x="1026" y="26"/>
                    <a:pt x="1026" y="26"/>
                    <a:pt x="1026" y="26"/>
                  </a:cubicBezTo>
                  <a:cubicBezTo>
                    <a:pt x="254" y="26"/>
                    <a:pt x="254" y="26"/>
                    <a:pt x="254" y="26"/>
                  </a:cubicBezTo>
                  <a:cubicBezTo>
                    <a:pt x="192" y="26"/>
                    <a:pt x="134" y="50"/>
                    <a:pt x="90" y="94"/>
                  </a:cubicBezTo>
                  <a:cubicBezTo>
                    <a:pt x="46" y="138"/>
                    <a:pt x="22" y="196"/>
                    <a:pt x="22" y="258"/>
                  </a:cubicBezTo>
                  <a:cubicBezTo>
                    <a:pt x="22" y="460"/>
                    <a:pt x="22" y="460"/>
                    <a:pt x="22" y="460"/>
                  </a:cubicBezTo>
                  <a:cubicBezTo>
                    <a:pt x="18" y="460"/>
                    <a:pt x="18" y="460"/>
                    <a:pt x="18" y="460"/>
                  </a:cubicBezTo>
                  <a:cubicBezTo>
                    <a:pt x="13" y="460"/>
                    <a:pt x="13" y="460"/>
                    <a:pt x="13" y="460"/>
                  </a:cubicBezTo>
                  <a:cubicBezTo>
                    <a:pt x="9" y="463"/>
                    <a:pt x="9" y="463"/>
                    <a:pt x="9" y="463"/>
                  </a:cubicBezTo>
                  <a:cubicBezTo>
                    <a:pt x="3" y="469"/>
                    <a:pt x="3" y="469"/>
                    <a:pt x="3" y="469"/>
                  </a:cubicBezTo>
                  <a:cubicBezTo>
                    <a:pt x="0" y="473"/>
                    <a:pt x="0" y="473"/>
                    <a:pt x="0" y="473"/>
                  </a:cubicBezTo>
                  <a:cubicBezTo>
                    <a:pt x="0" y="478"/>
                    <a:pt x="0" y="478"/>
                    <a:pt x="0" y="478"/>
                  </a:cubicBezTo>
                  <a:cubicBezTo>
                    <a:pt x="0" y="612"/>
                    <a:pt x="0" y="612"/>
                    <a:pt x="0" y="612"/>
                  </a:cubicBezTo>
                  <a:cubicBezTo>
                    <a:pt x="0" y="617"/>
                    <a:pt x="0" y="617"/>
                    <a:pt x="0" y="617"/>
                  </a:cubicBezTo>
                  <a:cubicBezTo>
                    <a:pt x="3" y="620"/>
                    <a:pt x="3" y="620"/>
                    <a:pt x="3" y="620"/>
                  </a:cubicBezTo>
                  <a:cubicBezTo>
                    <a:pt x="9" y="626"/>
                    <a:pt x="9" y="626"/>
                    <a:pt x="9" y="626"/>
                  </a:cubicBezTo>
                  <a:cubicBezTo>
                    <a:pt x="13" y="630"/>
                    <a:pt x="13" y="630"/>
                    <a:pt x="13" y="630"/>
                  </a:cubicBezTo>
                  <a:cubicBezTo>
                    <a:pt x="18" y="630"/>
                    <a:pt x="18" y="630"/>
                    <a:pt x="18" y="630"/>
                  </a:cubicBezTo>
                  <a:cubicBezTo>
                    <a:pt x="22" y="630"/>
                    <a:pt x="22" y="630"/>
                    <a:pt x="22" y="630"/>
                  </a:cubicBezTo>
                  <a:cubicBezTo>
                    <a:pt x="22" y="762"/>
                    <a:pt x="22" y="762"/>
                    <a:pt x="22" y="762"/>
                  </a:cubicBezTo>
                  <a:cubicBezTo>
                    <a:pt x="18" y="762"/>
                    <a:pt x="18" y="762"/>
                    <a:pt x="18" y="762"/>
                  </a:cubicBezTo>
                  <a:cubicBezTo>
                    <a:pt x="13" y="762"/>
                    <a:pt x="13" y="762"/>
                    <a:pt x="13" y="762"/>
                  </a:cubicBezTo>
                  <a:cubicBezTo>
                    <a:pt x="9" y="765"/>
                    <a:pt x="9" y="765"/>
                    <a:pt x="9" y="765"/>
                  </a:cubicBezTo>
                  <a:cubicBezTo>
                    <a:pt x="3" y="771"/>
                    <a:pt x="3" y="771"/>
                    <a:pt x="3" y="771"/>
                  </a:cubicBezTo>
                  <a:cubicBezTo>
                    <a:pt x="0" y="775"/>
                    <a:pt x="0" y="775"/>
                    <a:pt x="0" y="775"/>
                  </a:cubicBezTo>
                  <a:cubicBezTo>
                    <a:pt x="0" y="780"/>
                    <a:pt x="0" y="780"/>
                    <a:pt x="0" y="780"/>
                  </a:cubicBezTo>
                  <a:cubicBezTo>
                    <a:pt x="0" y="880"/>
                    <a:pt x="0" y="880"/>
                    <a:pt x="0" y="880"/>
                  </a:cubicBezTo>
                  <a:cubicBezTo>
                    <a:pt x="0" y="885"/>
                    <a:pt x="0" y="885"/>
                    <a:pt x="0" y="885"/>
                  </a:cubicBezTo>
                  <a:cubicBezTo>
                    <a:pt x="3" y="888"/>
                    <a:pt x="3" y="888"/>
                    <a:pt x="3" y="888"/>
                  </a:cubicBezTo>
                  <a:cubicBezTo>
                    <a:pt x="9" y="894"/>
                    <a:pt x="9" y="894"/>
                    <a:pt x="9" y="894"/>
                  </a:cubicBezTo>
                  <a:cubicBezTo>
                    <a:pt x="13" y="898"/>
                    <a:pt x="13" y="898"/>
                    <a:pt x="13" y="898"/>
                  </a:cubicBezTo>
                  <a:cubicBezTo>
                    <a:pt x="18" y="898"/>
                    <a:pt x="18" y="898"/>
                    <a:pt x="18" y="898"/>
                  </a:cubicBezTo>
                  <a:cubicBezTo>
                    <a:pt x="22" y="898"/>
                    <a:pt x="22" y="898"/>
                    <a:pt x="22" y="898"/>
                  </a:cubicBezTo>
                  <a:cubicBezTo>
                    <a:pt x="22" y="1028"/>
                    <a:pt x="22" y="1028"/>
                    <a:pt x="22" y="1028"/>
                  </a:cubicBezTo>
                  <a:cubicBezTo>
                    <a:pt x="18" y="1028"/>
                    <a:pt x="18" y="1028"/>
                    <a:pt x="18" y="1028"/>
                  </a:cubicBezTo>
                  <a:cubicBezTo>
                    <a:pt x="13" y="1028"/>
                    <a:pt x="13" y="1028"/>
                    <a:pt x="13" y="1028"/>
                  </a:cubicBezTo>
                  <a:cubicBezTo>
                    <a:pt x="9" y="1031"/>
                    <a:pt x="9" y="1031"/>
                    <a:pt x="9" y="1031"/>
                  </a:cubicBezTo>
                  <a:cubicBezTo>
                    <a:pt x="3" y="1037"/>
                    <a:pt x="3" y="1037"/>
                    <a:pt x="3" y="1037"/>
                  </a:cubicBezTo>
                  <a:cubicBezTo>
                    <a:pt x="0" y="1041"/>
                    <a:pt x="0" y="1041"/>
                    <a:pt x="0" y="1041"/>
                  </a:cubicBezTo>
                  <a:cubicBezTo>
                    <a:pt x="0" y="1046"/>
                    <a:pt x="0" y="1046"/>
                    <a:pt x="0" y="1046"/>
                  </a:cubicBezTo>
                  <a:cubicBezTo>
                    <a:pt x="0" y="1146"/>
                    <a:pt x="0" y="1146"/>
                    <a:pt x="0" y="1146"/>
                  </a:cubicBezTo>
                  <a:cubicBezTo>
                    <a:pt x="0" y="1151"/>
                    <a:pt x="0" y="1151"/>
                    <a:pt x="0" y="1151"/>
                  </a:cubicBezTo>
                  <a:cubicBezTo>
                    <a:pt x="3" y="1154"/>
                    <a:pt x="3" y="1154"/>
                    <a:pt x="3" y="1154"/>
                  </a:cubicBezTo>
                  <a:cubicBezTo>
                    <a:pt x="9" y="1160"/>
                    <a:pt x="9" y="1160"/>
                    <a:pt x="9" y="1160"/>
                  </a:cubicBezTo>
                  <a:cubicBezTo>
                    <a:pt x="13" y="1164"/>
                    <a:pt x="13" y="1164"/>
                    <a:pt x="13" y="1164"/>
                  </a:cubicBezTo>
                  <a:cubicBezTo>
                    <a:pt x="18" y="1164"/>
                    <a:pt x="18" y="1164"/>
                    <a:pt x="18" y="1164"/>
                  </a:cubicBezTo>
                  <a:cubicBezTo>
                    <a:pt x="22" y="1164"/>
                    <a:pt x="22" y="1164"/>
                    <a:pt x="22" y="1164"/>
                  </a:cubicBezTo>
                  <a:cubicBezTo>
                    <a:pt x="22" y="2994"/>
                    <a:pt x="22" y="2994"/>
                    <a:pt x="22" y="2994"/>
                  </a:cubicBezTo>
                  <a:cubicBezTo>
                    <a:pt x="22" y="3056"/>
                    <a:pt x="46" y="3114"/>
                    <a:pt x="90" y="3158"/>
                  </a:cubicBezTo>
                  <a:cubicBezTo>
                    <a:pt x="134" y="3202"/>
                    <a:pt x="192" y="3226"/>
                    <a:pt x="254" y="3226"/>
                  </a:cubicBezTo>
                  <a:cubicBezTo>
                    <a:pt x="1313" y="3226"/>
                    <a:pt x="1313" y="3226"/>
                    <a:pt x="1313" y="3226"/>
                  </a:cubicBezTo>
                  <a:cubicBezTo>
                    <a:pt x="1375" y="3226"/>
                    <a:pt x="1434" y="3202"/>
                    <a:pt x="1478" y="3158"/>
                  </a:cubicBezTo>
                  <a:cubicBezTo>
                    <a:pt x="1521" y="3114"/>
                    <a:pt x="1546" y="3056"/>
                    <a:pt x="1546" y="2994"/>
                  </a:cubicBezTo>
                  <a:cubicBezTo>
                    <a:pt x="1546" y="258"/>
                    <a:pt x="1546" y="258"/>
                    <a:pt x="1546" y="258"/>
                  </a:cubicBezTo>
                  <a:cubicBezTo>
                    <a:pt x="1546" y="196"/>
                    <a:pt x="1521" y="138"/>
                    <a:pt x="1478" y="94"/>
                  </a:cubicBezTo>
                  <a:close/>
                  <a:moveTo>
                    <a:pt x="1038" y="18"/>
                  </a:moveTo>
                  <a:cubicBezTo>
                    <a:pt x="1048" y="12"/>
                    <a:pt x="1048" y="12"/>
                    <a:pt x="1048" y="12"/>
                  </a:cubicBezTo>
                  <a:cubicBezTo>
                    <a:pt x="1274" y="12"/>
                    <a:pt x="1274" y="12"/>
                    <a:pt x="1274" y="12"/>
                  </a:cubicBezTo>
                  <a:cubicBezTo>
                    <a:pt x="1282" y="18"/>
                    <a:pt x="1282" y="18"/>
                    <a:pt x="1282" y="18"/>
                  </a:cubicBezTo>
                  <a:cubicBezTo>
                    <a:pt x="1282" y="26"/>
                    <a:pt x="1282" y="26"/>
                    <a:pt x="1282" y="26"/>
                  </a:cubicBezTo>
                  <a:cubicBezTo>
                    <a:pt x="1038" y="26"/>
                    <a:pt x="1038" y="26"/>
                    <a:pt x="1038" y="26"/>
                  </a:cubicBezTo>
                  <a:lnTo>
                    <a:pt x="1038" y="18"/>
                  </a:lnTo>
                  <a:close/>
                  <a:moveTo>
                    <a:pt x="101" y="105"/>
                  </a:moveTo>
                  <a:cubicBezTo>
                    <a:pt x="142" y="64"/>
                    <a:pt x="196" y="42"/>
                    <a:pt x="254" y="42"/>
                  </a:cubicBezTo>
                  <a:cubicBezTo>
                    <a:pt x="1313" y="42"/>
                    <a:pt x="1313" y="42"/>
                    <a:pt x="1313" y="42"/>
                  </a:cubicBezTo>
                  <a:cubicBezTo>
                    <a:pt x="1371" y="42"/>
                    <a:pt x="1425" y="64"/>
                    <a:pt x="1466" y="105"/>
                  </a:cubicBezTo>
                  <a:cubicBezTo>
                    <a:pt x="1507" y="146"/>
                    <a:pt x="1530" y="200"/>
                    <a:pt x="1530" y="258"/>
                  </a:cubicBezTo>
                  <a:cubicBezTo>
                    <a:pt x="1530" y="308"/>
                    <a:pt x="1530" y="308"/>
                    <a:pt x="1530" y="308"/>
                  </a:cubicBezTo>
                  <a:cubicBezTo>
                    <a:pt x="1514" y="308"/>
                    <a:pt x="1514" y="308"/>
                    <a:pt x="1514" y="308"/>
                  </a:cubicBezTo>
                  <a:cubicBezTo>
                    <a:pt x="1514" y="258"/>
                    <a:pt x="1514" y="258"/>
                    <a:pt x="1514" y="258"/>
                  </a:cubicBezTo>
                  <a:cubicBezTo>
                    <a:pt x="1514" y="147"/>
                    <a:pt x="1424" y="58"/>
                    <a:pt x="1313" y="58"/>
                  </a:cubicBezTo>
                  <a:cubicBezTo>
                    <a:pt x="254" y="58"/>
                    <a:pt x="254" y="58"/>
                    <a:pt x="254" y="58"/>
                  </a:cubicBezTo>
                  <a:cubicBezTo>
                    <a:pt x="143" y="58"/>
                    <a:pt x="54" y="147"/>
                    <a:pt x="54" y="258"/>
                  </a:cubicBezTo>
                  <a:cubicBezTo>
                    <a:pt x="54" y="308"/>
                    <a:pt x="54" y="308"/>
                    <a:pt x="54" y="308"/>
                  </a:cubicBezTo>
                  <a:cubicBezTo>
                    <a:pt x="38" y="308"/>
                    <a:pt x="38" y="308"/>
                    <a:pt x="38" y="308"/>
                  </a:cubicBezTo>
                  <a:cubicBezTo>
                    <a:pt x="38" y="258"/>
                    <a:pt x="38" y="258"/>
                    <a:pt x="38" y="258"/>
                  </a:cubicBezTo>
                  <a:cubicBezTo>
                    <a:pt x="38" y="200"/>
                    <a:pt x="60" y="146"/>
                    <a:pt x="101" y="105"/>
                  </a:cubicBezTo>
                  <a:close/>
                  <a:moveTo>
                    <a:pt x="1530" y="332"/>
                  </a:moveTo>
                  <a:cubicBezTo>
                    <a:pt x="1530" y="2922"/>
                    <a:pt x="1530" y="2922"/>
                    <a:pt x="1530" y="2922"/>
                  </a:cubicBezTo>
                  <a:cubicBezTo>
                    <a:pt x="1514" y="2922"/>
                    <a:pt x="1514" y="2922"/>
                    <a:pt x="1514" y="2922"/>
                  </a:cubicBezTo>
                  <a:cubicBezTo>
                    <a:pt x="1514" y="332"/>
                    <a:pt x="1514" y="332"/>
                    <a:pt x="1514" y="332"/>
                  </a:cubicBezTo>
                  <a:lnTo>
                    <a:pt x="1530" y="332"/>
                  </a:lnTo>
                  <a:close/>
                  <a:moveTo>
                    <a:pt x="1498" y="258"/>
                  </a:moveTo>
                  <a:cubicBezTo>
                    <a:pt x="1498" y="2994"/>
                    <a:pt x="1498" y="2994"/>
                    <a:pt x="1498" y="2994"/>
                  </a:cubicBezTo>
                  <a:cubicBezTo>
                    <a:pt x="1498" y="3095"/>
                    <a:pt x="1415" y="3178"/>
                    <a:pt x="1313" y="3178"/>
                  </a:cubicBezTo>
                  <a:cubicBezTo>
                    <a:pt x="254" y="3178"/>
                    <a:pt x="254" y="3178"/>
                    <a:pt x="254" y="3178"/>
                  </a:cubicBezTo>
                  <a:cubicBezTo>
                    <a:pt x="152" y="3178"/>
                    <a:pt x="70" y="3095"/>
                    <a:pt x="70" y="2994"/>
                  </a:cubicBezTo>
                  <a:cubicBezTo>
                    <a:pt x="70" y="258"/>
                    <a:pt x="70" y="258"/>
                    <a:pt x="70" y="258"/>
                  </a:cubicBezTo>
                  <a:cubicBezTo>
                    <a:pt x="70" y="156"/>
                    <a:pt x="152" y="74"/>
                    <a:pt x="254" y="74"/>
                  </a:cubicBezTo>
                  <a:cubicBezTo>
                    <a:pt x="1313" y="74"/>
                    <a:pt x="1313" y="74"/>
                    <a:pt x="1313" y="74"/>
                  </a:cubicBezTo>
                  <a:cubicBezTo>
                    <a:pt x="1415" y="74"/>
                    <a:pt x="1498" y="156"/>
                    <a:pt x="1498" y="258"/>
                  </a:cubicBezTo>
                  <a:close/>
                  <a:moveTo>
                    <a:pt x="38" y="1164"/>
                  </a:moveTo>
                  <a:cubicBezTo>
                    <a:pt x="38" y="1152"/>
                    <a:pt x="38" y="1152"/>
                    <a:pt x="38" y="1152"/>
                  </a:cubicBezTo>
                  <a:cubicBezTo>
                    <a:pt x="38" y="1040"/>
                    <a:pt x="38" y="1040"/>
                    <a:pt x="38" y="1040"/>
                  </a:cubicBezTo>
                  <a:cubicBezTo>
                    <a:pt x="38" y="1028"/>
                    <a:pt x="38" y="1028"/>
                    <a:pt x="38" y="1028"/>
                  </a:cubicBezTo>
                  <a:cubicBezTo>
                    <a:pt x="38" y="898"/>
                    <a:pt x="38" y="898"/>
                    <a:pt x="38" y="898"/>
                  </a:cubicBezTo>
                  <a:cubicBezTo>
                    <a:pt x="38" y="886"/>
                    <a:pt x="38" y="886"/>
                    <a:pt x="38" y="886"/>
                  </a:cubicBezTo>
                  <a:cubicBezTo>
                    <a:pt x="38" y="774"/>
                    <a:pt x="38" y="774"/>
                    <a:pt x="38" y="774"/>
                  </a:cubicBezTo>
                  <a:cubicBezTo>
                    <a:pt x="38" y="762"/>
                    <a:pt x="38" y="762"/>
                    <a:pt x="38" y="762"/>
                  </a:cubicBezTo>
                  <a:cubicBezTo>
                    <a:pt x="38" y="630"/>
                    <a:pt x="38" y="630"/>
                    <a:pt x="38" y="630"/>
                  </a:cubicBezTo>
                  <a:cubicBezTo>
                    <a:pt x="38" y="618"/>
                    <a:pt x="38" y="618"/>
                    <a:pt x="38" y="618"/>
                  </a:cubicBezTo>
                  <a:cubicBezTo>
                    <a:pt x="38" y="472"/>
                    <a:pt x="38" y="472"/>
                    <a:pt x="38" y="472"/>
                  </a:cubicBezTo>
                  <a:cubicBezTo>
                    <a:pt x="38" y="460"/>
                    <a:pt x="38" y="460"/>
                    <a:pt x="38" y="460"/>
                  </a:cubicBezTo>
                  <a:cubicBezTo>
                    <a:pt x="38" y="332"/>
                    <a:pt x="38" y="332"/>
                    <a:pt x="38" y="332"/>
                  </a:cubicBezTo>
                  <a:cubicBezTo>
                    <a:pt x="54" y="332"/>
                    <a:pt x="54" y="332"/>
                    <a:pt x="54" y="332"/>
                  </a:cubicBezTo>
                  <a:cubicBezTo>
                    <a:pt x="54" y="2922"/>
                    <a:pt x="54" y="2922"/>
                    <a:pt x="54" y="2922"/>
                  </a:cubicBezTo>
                  <a:cubicBezTo>
                    <a:pt x="38" y="2922"/>
                    <a:pt x="38" y="2922"/>
                    <a:pt x="38" y="2922"/>
                  </a:cubicBezTo>
                  <a:lnTo>
                    <a:pt x="38" y="1164"/>
                  </a:lnTo>
                  <a:close/>
                  <a:moveTo>
                    <a:pt x="18" y="618"/>
                  </a:moveTo>
                  <a:cubicBezTo>
                    <a:pt x="12" y="612"/>
                    <a:pt x="12" y="612"/>
                    <a:pt x="12" y="612"/>
                  </a:cubicBezTo>
                  <a:cubicBezTo>
                    <a:pt x="12" y="478"/>
                    <a:pt x="12" y="478"/>
                    <a:pt x="12" y="478"/>
                  </a:cubicBezTo>
                  <a:cubicBezTo>
                    <a:pt x="13" y="476"/>
                    <a:pt x="15" y="474"/>
                    <a:pt x="18" y="472"/>
                  </a:cubicBezTo>
                  <a:cubicBezTo>
                    <a:pt x="22" y="472"/>
                    <a:pt x="22" y="472"/>
                    <a:pt x="22" y="472"/>
                  </a:cubicBezTo>
                  <a:cubicBezTo>
                    <a:pt x="22" y="618"/>
                    <a:pt x="22" y="618"/>
                    <a:pt x="22" y="618"/>
                  </a:cubicBezTo>
                  <a:lnTo>
                    <a:pt x="18" y="618"/>
                  </a:lnTo>
                  <a:close/>
                  <a:moveTo>
                    <a:pt x="18" y="886"/>
                  </a:moveTo>
                  <a:cubicBezTo>
                    <a:pt x="12" y="880"/>
                    <a:pt x="12" y="880"/>
                    <a:pt x="12" y="880"/>
                  </a:cubicBezTo>
                  <a:cubicBezTo>
                    <a:pt x="12" y="780"/>
                    <a:pt x="12" y="780"/>
                    <a:pt x="12" y="780"/>
                  </a:cubicBezTo>
                  <a:cubicBezTo>
                    <a:pt x="13" y="778"/>
                    <a:pt x="15" y="776"/>
                    <a:pt x="18" y="774"/>
                  </a:cubicBezTo>
                  <a:cubicBezTo>
                    <a:pt x="22" y="774"/>
                    <a:pt x="22" y="774"/>
                    <a:pt x="22" y="774"/>
                  </a:cubicBezTo>
                  <a:cubicBezTo>
                    <a:pt x="22" y="886"/>
                    <a:pt x="22" y="886"/>
                    <a:pt x="22" y="886"/>
                  </a:cubicBezTo>
                  <a:lnTo>
                    <a:pt x="18" y="886"/>
                  </a:lnTo>
                  <a:close/>
                  <a:moveTo>
                    <a:pt x="18" y="1152"/>
                  </a:moveTo>
                  <a:cubicBezTo>
                    <a:pt x="12" y="1146"/>
                    <a:pt x="12" y="1146"/>
                    <a:pt x="12" y="1146"/>
                  </a:cubicBezTo>
                  <a:cubicBezTo>
                    <a:pt x="12" y="1046"/>
                    <a:pt x="12" y="1046"/>
                    <a:pt x="12" y="1046"/>
                  </a:cubicBezTo>
                  <a:cubicBezTo>
                    <a:pt x="13" y="1044"/>
                    <a:pt x="15" y="1042"/>
                    <a:pt x="18" y="1040"/>
                  </a:cubicBezTo>
                  <a:cubicBezTo>
                    <a:pt x="22" y="1040"/>
                    <a:pt x="22" y="1040"/>
                    <a:pt x="22" y="1040"/>
                  </a:cubicBezTo>
                  <a:cubicBezTo>
                    <a:pt x="22" y="1152"/>
                    <a:pt x="22" y="1152"/>
                    <a:pt x="22" y="1152"/>
                  </a:cubicBezTo>
                  <a:lnTo>
                    <a:pt x="18" y="1152"/>
                  </a:lnTo>
                  <a:close/>
                  <a:moveTo>
                    <a:pt x="1466" y="3147"/>
                  </a:moveTo>
                  <a:cubicBezTo>
                    <a:pt x="1425" y="3187"/>
                    <a:pt x="1371" y="3210"/>
                    <a:pt x="1313" y="3210"/>
                  </a:cubicBezTo>
                  <a:cubicBezTo>
                    <a:pt x="254" y="3210"/>
                    <a:pt x="254" y="3210"/>
                    <a:pt x="254" y="3210"/>
                  </a:cubicBezTo>
                  <a:cubicBezTo>
                    <a:pt x="196" y="3210"/>
                    <a:pt x="142" y="3187"/>
                    <a:pt x="101" y="3147"/>
                  </a:cubicBezTo>
                  <a:cubicBezTo>
                    <a:pt x="60" y="3106"/>
                    <a:pt x="38" y="3051"/>
                    <a:pt x="38" y="2994"/>
                  </a:cubicBezTo>
                  <a:cubicBezTo>
                    <a:pt x="38" y="2946"/>
                    <a:pt x="38" y="2946"/>
                    <a:pt x="38" y="2946"/>
                  </a:cubicBezTo>
                  <a:cubicBezTo>
                    <a:pt x="54" y="2946"/>
                    <a:pt x="54" y="2946"/>
                    <a:pt x="54" y="2946"/>
                  </a:cubicBezTo>
                  <a:cubicBezTo>
                    <a:pt x="54" y="2994"/>
                    <a:pt x="54" y="2994"/>
                    <a:pt x="54" y="2994"/>
                  </a:cubicBezTo>
                  <a:cubicBezTo>
                    <a:pt x="54" y="3104"/>
                    <a:pt x="143" y="3194"/>
                    <a:pt x="254" y="3194"/>
                  </a:cubicBezTo>
                  <a:cubicBezTo>
                    <a:pt x="1313" y="3194"/>
                    <a:pt x="1313" y="3194"/>
                    <a:pt x="1313" y="3194"/>
                  </a:cubicBezTo>
                  <a:cubicBezTo>
                    <a:pt x="1424" y="3194"/>
                    <a:pt x="1514" y="3104"/>
                    <a:pt x="1514" y="2994"/>
                  </a:cubicBezTo>
                  <a:cubicBezTo>
                    <a:pt x="1514" y="2946"/>
                    <a:pt x="1514" y="2946"/>
                    <a:pt x="1514" y="2946"/>
                  </a:cubicBezTo>
                  <a:cubicBezTo>
                    <a:pt x="1530" y="2946"/>
                    <a:pt x="1530" y="2946"/>
                    <a:pt x="1530" y="2946"/>
                  </a:cubicBezTo>
                  <a:cubicBezTo>
                    <a:pt x="1530" y="2994"/>
                    <a:pt x="1530" y="2994"/>
                    <a:pt x="1530" y="2994"/>
                  </a:cubicBezTo>
                  <a:cubicBezTo>
                    <a:pt x="1530" y="3051"/>
                    <a:pt x="1507" y="3106"/>
                    <a:pt x="1466" y="3147"/>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6"/>
            <p:cNvSpPr/>
            <p:nvPr/>
          </p:nvSpPr>
          <p:spPr>
            <a:xfrm>
              <a:off x="5887800" y="1333080"/>
              <a:ext cx="438120" cy="93600"/>
            </a:xfrm>
            <a:custGeom>
              <a:avLst/>
              <a:gdLst>
                <a:gd name="textAreaLeft" fmla="*/ 0 w 438120"/>
                <a:gd name="textAreaRight" fmla="*/ 438480 w 438120"/>
                <a:gd name="textAreaTop" fmla="*/ 0 h 93600"/>
                <a:gd name="textAreaBottom" fmla="*/ 93960 h 93600"/>
              </a:gdLst>
              <a:ahLst/>
              <a:rect l="textAreaLeft" t="textAreaTop" r="textAreaRight" b="textAreaBottom"/>
              <a:pathLst>
                <a:path w="280" h="60">
                  <a:moveTo>
                    <a:pt x="30" y="60"/>
                  </a:moveTo>
                  <a:cubicBezTo>
                    <a:pt x="250" y="60"/>
                    <a:pt x="250" y="60"/>
                    <a:pt x="250" y="60"/>
                  </a:cubicBezTo>
                  <a:cubicBezTo>
                    <a:pt x="266" y="60"/>
                    <a:pt x="280" y="46"/>
                    <a:pt x="280" y="30"/>
                  </a:cubicBezTo>
                  <a:cubicBezTo>
                    <a:pt x="280" y="13"/>
                    <a:pt x="266" y="0"/>
                    <a:pt x="250" y="0"/>
                  </a:cubicBezTo>
                  <a:cubicBezTo>
                    <a:pt x="30" y="0"/>
                    <a:pt x="30" y="0"/>
                    <a:pt x="30" y="0"/>
                  </a:cubicBezTo>
                  <a:cubicBezTo>
                    <a:pt x="13" y="0"/>
                    <a:pt x="0" y="13"/>
                    <a:pt x="0" y="30"/>
                  </a:cubicBezTo>
                  <a:cubicBezTo>
                    <a:pt x="0" y="46"/>
                    <a:pt x="13" y="60"/>
                    <a:pt x="30" y="60"/>
                  </a:cubicBezTo>
                  <a:close/>
                  <a:moveTo>
                    <a:pt x="30" y="16"/>
                  </a:moveTo>
                  <a:cubicBezTo>
                    <a:pt x="250" y="16"/>
                    <a:pt x="250" y="16"/>
                    <a:pt x="250" y="16"/>
                  </a:cubicBezTo>
                  <a:cubicBezTo>
                    <a:pt x="257" y="16"/>
                    <a:pt x="264" y="22"/>
                    <a:pt x="264" y="30"/>
                  </a:cubicBezTo>
                  <a:cubicBezTo>
                    <a:pt x="264" y="38"/>
                    <a:pt x="257" y="44"/>
                    <a:pt x="250" y="44"/>
                  </a:cubicBezTo>
                  <a:cubicBezTo>
                    <a:pt x="30" y="44"/>
                    <a:pt x="30" y="44"/>
                    <a:pt x="30" y="44"/>
                  </a:cubicBezTo>
                  <a:cubicBezTo>
                    <a:pt x="22" y="44"/>
                    <a:pt x="16" y="38"/>
                    <a:pt x="16" y="30"/>
                  </a:cubicBezTo>
                  <a:cubicBezTo>
                    <a:pt x="16" y="22"/>
                    <a:pt x="22" y="16"/>
                    <a:pt x="30" y="16"/>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7"/>
            <p:cNvSpPr/>
            <p:nvPr/>
          </p:nvSpPr>
          <p:spPr>
            <a:xfrm>
              <a:off x="5081400" y="1636560"/>
              <a:ext cx="2057400" cy="3612600"/>
            </a:xfrm>
            <a:custGeom>
              <a:avLst/>
              <a:gdLst>
                <a:gd name="textAreaLeft" fmla="*/ 0 w 2057400"/>
                <a:gd name="textAreaRight" fmla="*/ 2057760 w 2057400"/>
                <a:gd name="textAreaTop" fmla="*/ 0 h 3612600"/>
                <a:gd name="textAreaBottom" fmla="*/ 3612960 h 3612600"/>
              </a:gdLst>
              <a:ahLst/>
              <a:rect l="textAreaLeft" t="textAreaTop" r="textAreaRight" b="textAreaBottom"/>
              <a:pathLst>
                <a:path w="1312" h="2304">
                  <a:moveTo>
                    <a:pt x="1296" y="0"/>
                  </a:moveTo>
                  <a:cubicBezTo>
                    <a:pt x="16" y="0"/>
                    <a:pt x="16" y="0"/>
                    <a:pt x="16" y="0"/>
                  </a:cubicBezTo>
                  <a:cubicBezTo>
                    <a:pt x="7" y="0"/>
                    <a:pt x="0" y="7"/>
                    <a:pt x="0" y="16"/>
                  </a:cubicBezTo>
                  <a:cubicBezTo>
                    <a:pt x="0" y="2288"/>
                    <a:pt x="0" y="2288"/>
                    <a:pt x="0" y="2288"/>
                  </a:cubicBezTo>
                  <a:cubicBezTo>
                    <a:pt x="0" y="2297"/>
                    <a:pt x="7" y="2304"/>
                    <a:pt x="16" y="2304"/>
                  </a:cubicBezTo>
                  <a:cubicBezTo>
                    <a:pt x="1296" y="2304"/>
                    <a:pt x="1296" y="2304"/>
                    <a:pt x="1296" y="2304"/>
                  </a:cubicBezTo>
                  <a:cubicBezTo>
                    <a:pt x="1304" y="2304"/>
                    <a:pt x="1312" y="2297"/>
                    <a:pt x="1312" y="2288"/>
                  </a:cubicBezTo>
                  <a:cubicBezTo>
                    <a:pt x="1312" y="16"/>
                    <a:pt x="1312" y="16"/>
                    <a:pt x="1312" y="16"/>
                  </a:cubicBezTo>
                  <a:cubicBezTo>
                    <a:pt x="1312" y="7"/>
                    <a:pt x="1304" y="0"/>
                    <a:pt x="1296" y="0"/>
                  </a:cubicBezTo>
                  <a:moveTo>
                    <a:pt x="1296" y="2288"/>
                  </a:moveTo>
                  <a:cubicBezTo>
                    <a:pt x="16" y="2288"/>
                    <a:pt x="16" y="2288"/>
                    <a:pt x="16" y="2288"/>
                  </a:cubicBezTo>
                  <a:cubicBezTo>
                    <a:pt x="16" y="16"/>
                    <a:pt x="16" y="16"/>
                    <a:pt x="16" y="16"/>
                  </a:cubicBezTo>
                  <a:cubicBezTo>
                    <a:pt x="1296" y="16"/>
                    <a:pt x="1296" y="16"/>
                    <a:pt x="1296" y="16"/>
                  </a:cubicBezTo>
                  <a:cubicBezTo>
                    <a:pt x="1296" y="2288"/>
                    <a:pt x="1296" y="2288"/>
                    <a:pt x="1296" y="2288"/>
                  </a:cubicBez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8"/>
            <p:cNvSpPr/>
            <p:nvPr/>
          </p:nvSpPr>
          <p:spPr>
            <a:xfrm>
              <a:off x="5900760" y="5364000"/>
              <a:ext cx="422280" cy="421920"/>
            </a:xfrm>
            <a:custGeom>
              <a:avLst/>
              <a:gdLst>
                <a:gd name="textAreaLeft" fmla="*/ 0 w 422280"/>
                <a:gd name="textAreaRight" fmla="*/ 422640 w 422280"/>
                <a:gd name="textAreaTop" fmla="*/ 0 h 421920"/>
                <a:gd name="textAreaBottom" fmla="*/ 422280 h 421920"/>
              </a:gdLst>
              <a:ahLst/>
              <a:rect l="textAreaLeft" t="textAreaTop" r="textAreaRight" b="textAreaBottom"/>
              <a:pathLst>
                <a:path w="270" h="270">
                  <a:moveTo>
                    <a:pt x="135" y="0"/>
                  </a:moveTo>
                  <a:cubicBezTo>
                    <a:pt x="60" y="0"/>
                    <a:pt x="0" y="60"/>
                    <a:pt x="0" y="135"/>
                  </a:cubicBezTo>
                  <a:cubicBezTo>
                    <a:pt x="0" y="209"/>
                    <a:pt x="60" y="270"/>
                    <a:pt x="135" y="270"/>
                  </a:cubicBezTo>
                  <a:cubicBezTo>
                    <a:pt x="209" y="270"/>
                    <a:pt x="270" y="209"/>
                    <a:pt x="270" y="135"/>
                  </a:cubicBezTo>
                  <a:cubicBezTo>
                    <a:pt x="270" y="60"/>
                    <a:pt x="209" y="0"/>
                    <a:pt x="135" y="0"/>
                  </a:cubicBezTo>
                  <a:close/>
                  <a:moveTo>
                    <a:pt x="135" y="254"/>
                  </a:moveTo>
                  <a:cubicBezTo>
                    <a:pt x="69" y="254"/>
                    <a:pt x="16" y="200"/>
                    <a:pt x="16" y="135"/>
                  </a:cubicBezTo>
                  <a:cubicBezTo>
                    <a:pt x="16" y="69"/>
                    <a:pt x="69" y="16"/>
                    <a:pt x="135" y="16"/>
                  </a:cubicBezTo>
                  <a:cubicBezTo>
                    <a:pt x="200" y="16"/>
                    <a:pt x="254" y="69"/>
                    <a:pt x="254" y="135"/>
                  </a:cubicBezTo>
                  <a:cubicBezTo>
                    <a:pt x="254" y="200"/>
                    <a:pt x="200" y="254"/>
                    <a:pt x="135" y="25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9"/>
            <p:cNvSpPr/>
            <p:nvPr/>
          </p:nvSpPr>
          <p:spPr>
            <a:xfrm>
              <a:off x="6056280" y="1136520"/>
              <a:ext cx="108000" cy="105840"/>
            </a:xfrm>
            <a:custGeom>
              <a:avLst/>
              <a:gdLst>
                <a:gd name="textAreaLeft" fmla="*/ 0 w 108000"/>
                <a:gd name="textAreaRight" fmla="*/ 108360 w 108000"/>
                <a:gd name="textAreaTop" fmla="*/ 0 h 105840"/>
                <a:gd name="textAreaBottom" fmla="*/ 106200 h 105840"/>
              </a:gdLst>
              <a:ahLst/>
              <a:rect l="textAreaLeft" t="textAreaTop" r="textAreaRight" b="textAreaBottom"/>
              <a:pathLst>
                <a:path w="68" h="68">
                  <a:moveTo>
                    <a:pt x="34" y="68"/>
                  </a:moveTo>
                  <a:cubicBezTo>
                    <a:pt x="52" y="68"/>
                    <a:pt x="68" y="53"/>
                    <a:pt x="68" y="34"/>
                  </a:cubicBezTo>
                  <a:cubicBezTo>
                    <a:pt x="68" y="15"/>
                    <a:pt x="52" y="0"/>
                    <a:pt x="34" y="0"/>
                  </a:cubicBezTo>
                  <a:cubicBezTo>
                    <a:pt x="15" y="0"/>
                    <a:pt x="0" y="15"/>
                    <a:pt x="0" y="34"/>
                  </a:cubicBezTo>
                  <a:cubicBezTo>
                    <a:pt x="0" y="53"/>
                    <a:pt x="15" y="68"/>
                    <a:pt x="34" y="68"/>
                  </a:cubicBezTo>
                  <a:close/>
                  <a:moveTo>
                    <a:pt x="34" y="12"/>
                  </a:moveTo>
                  <a:cubicBezTo>
                    <a:pt x="46" y="12"/>
                    <a:pt x="56" y="22"/>
                    <a:pt x="56" y="34"/>
                  </a:cubicBezTo>
                  <a:cubicBezTo>
                    <a:pt x="56" y="46"/>
                    <a:pt x="46" y="56"/>
                    <a:pt x="34" y="56"/>
                  </a:cubicBezTo>
                  <a:cubicBezTo>
                    <a:pt x="22" y="56"/>
                    <a:pt x="12" y="46"/>
                    <a:pt x="12" y="34"/>
                  </a:cubicBezTo>
                  <a:cubicBezTo>
                    <a:pt x="12" y="22"/>
                    <a:pt x="22" y="12"/>
                    <a:pt x="34" y="12"/>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Oval 10"/>
            <p:cNvSpPr/>
            <p:nvPr/>
          </p:nvSpPr>
          <p:spPr>
            <a:xfrm>
              <a:off x="6091200" y="1171440"/>
              <a:ext cx="38160" cy="37800"/>
            </a:xfrm>
            <a:prstGeom prst="ellipse">
              <a:avLst/>
            </a:prstGeom>
            <a:solidFill>
              <a:srgbClr val="bfbfbf"/>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1"/>
            <p:cNvSpPr/>
            <p:nvPr/>
          </p:nvSpPr>
          <p:spPr>
            <a:xfrm>
              <a:off x="5105160" y="1661760"/>
              <a:ext cx="2009880" cy="3563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2"/>
            <p:cNvSpPr/>
            <p:nvPr/>
          </p:nvSpPr>
          <p:spPr>
            <a:xfrm>
              <a:off x="5105160" y="1661760"/>
              <a:ext cx="2009880" cy="356364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3"/>
            <p:cNvSpPr/>
            <p:nvPr/>
          </p:nvSpPr>
          <p:spPr>
            <a:xfrm>
              <a:off x="5105160" y="1661760"/>
              <a:ext cx="2009880" cy="3563640"/>
            </a:xfrm>
            <a:custGeom>
              <a:avLst/>
              <a:gdLst>
                <a:gd name="textAreaLeft" fmla="*/ 0 w 2009880"/>
                <a:gd name="textAreaRight" fmla="*/ 2010240 w 2009880"/>
                <a:gd name="textAreaTop" fmla="*/ 0 h 3563640"/>
                <a:gd name="textAreaBottom" fmla="*/ 3564000 h 3563640"/>
              </a:gdLst>
              <a:ahLst/>
              <a:rect l="textAreaLeft" t="textAreaTop" r="textAreaRight" b="textAreaBottom"/>
              <a:pathLst>
                <a:path w="1266" h="2245">
                  <a:moveTo>
                    <a:pt x="1266" y="0"/>
                  </a:moveTo>
                  <a:lnTo>
                    <a:pt x="1266" y="0"/>
                  </a:lnTo>
                  <a:lnTo>
                    <a:pt x="1266" y="2245"/>
                  </a:lnTo>
                  <a:lnTo>
                    <a:pt x="0" y="2245"/>
                  </a:lnTo>
                  <a:lnTo>
                    <a:pt x="1266" y="2245"/>
                  </a:lnTo>
                  <a:lnTo>
                    <a:pt x="1266"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4"/>
            <p:cNvSpPr/>
            <p:nvPr/>
          </p:nvSpPr>
          <p:spPr>
            <a:xfrm>
              <a:off x="5105160" y="1661760"/>
              <a:ext cx="2009880" cy="3563640"/>
            </a:xfrm>
            <a:custGeom>
              <a:avLst/>
              <a:gdLst>
                <a:gd name="textAreaLeft" fmla="*/ 0 w 2009880"/>
                <a:gd name="textAreaRight" fmla="*/ 2010240 w 2009880"/>
                <a:gd name="textAreaTop" fmla="*/ 0 h 3563640"/>
                <a:gd name="textAreaBottom" fmla="*/ 3564000 h 3563640"/>
              </a:gdLst>
              <a:ahLst/>
              <a:rect l="textAreaLeft" t="textAreaTop" r="textAreaRight" b="textAreaBottom"/>
              <a:pathLst>
                <a:path w="1266" h="2245">
                  <a:moveTo>
                    <a:pt x="1266" y="0"/>
                  </a:moveTo>
                  <a:lnTo>
                    <a:pt x="1266" y="0"/>
                  </a:lnTo>
                  <a:lnTo>
                    <a:pt x="1266" y="2245"/>
                  </a:lnTo>
                  <a:lnTo>
                    <a:pt x="0" y="2245"/>
                  </a:lnTo>
                  <a:lnTo>
                    <a:pt x="1266" y="2245"/>
                  </a:lnTo>
                  <a:lnTo>
                    <a:pt x="126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任意多边形 73"/>
          <p:cNvSpPr/>
          <p:nvPr/>
        </p:nvSpPr>
        <p:spPr>
          <a:xfrm>
            <a:off x="1181160" y="2048040"/>
            <a:ext cx="3794040" cy="936360"/>
          </a:xfrm>
          <a:custGeom>
            <a:avLst/>
            <a:gdLst>
              <a:gd name="textAreaLeft" fmla="*/ 0 w 3794040"/>
              <a:gd name="textAreaRight" fmla="*/ 3794400 w 3794040"/>
              <a:gd name="textAreaTop" fmla="*/ 0 h 936360"/>
              <a:gd name="textAreaBottom" fmla="*/ 936720 h 93636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等腰三角形 3"/>
          <p:cNvSpPr/>
          <p:nvPr/>
        </p:nvSpPr>
        <p:spPr>
          <a:xfrm rot="5400000">
            <a:off x="4800240" y="2222640"/>
            <a:ext cx="1469880" cy="1120680"/>
          </a:xfrm>
          <a:custGeom>
            <a:avLst/>
            <a:gdLst>
              <a:gd name="textAreaLeft" fmla="*/ 0 w 1469880"/>
              <a:gd name="textAreaRight" fmla="*/ 1470240 w 1469880"/>
              <a:gd name="textAreaTop" fmla="*/ 0 h 1120680"/>
              <a:gd name="textAreaBottom" fmla="*/ 1121040 h 112068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22f2cc">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等腰三角形 3"/>
          <p:cNvSpPr/>
          <p:nvPr/>
        </p:nvSpPr>
        <p:spPr>
          <a:xfrm flipV="1" rot="16200000">
            <a:off x="4800240" y="3729960"/>
            <a:ext cx="1469880" cy="1120680"/>
          </a:xfrm>
          <a:custGeom>
            <a:avLst/>
            <a:gdLst>
              <a:gd name="textAreaLeft" fmla="*/ 0 w 1469880"/>
              <a:gd name="textAreaRight" fmla="*/ 1470240 w 1469880"/>
              <a:gd name="textAreaTop" fmla="*/ -360 h 1120680"/>
              <a:gd name="textAreaBottom" fmla="*/ 1120680 h 112068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ff4664">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任意多边形 76"/>
          <p:cNvSpPr/>
          <p:nvPr/>
        </p:nvSpPr>
        <p:spPr>
          <a:xfrm>
            <a:off x="1181160" y="4091040"/>
            <a:ext cx="3794040" cy="934920"/>
          </a:xfrm>
          <a:custGeom>
            <a:avLst/>
            <a:gdLst>
              <a:gd name="textAreaLeft" fmla="*/ 0 w 3794040"/>
              <a:gd name="textAreaRight" fmla="*/ 3794400 w 3794040"/>
              <a:gd name="textAreaTop" fmla="*/ 0 h 934920"/>
              <a:gd name="textAreaBottom" fmla="*/ 935280 h 93492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等腰三角形 3"/>
          <p:cNvSpPr/>
          <p:nvPr/>
        </p:nvSpPr>
        <p:spPr>
          <a:xfrm flipH="1" rot="16200000">
            <a:off x="5921280" y="2222280"/>
            <a:ext cx="1469880" cy="1121040"/>
          </a:xfrm>
          <a:custGeom>
            <a:avLst/>
            <a:gdLst>
              <a:gd name="textAreaLeft" fmla="*/ -360 w 1469880"/>
              <a:gd name="textAreaRight" fmla="*/ 1469880 w 1469880"/>
              <a:gd name="textAreaTop" fmla="*/ 0 h 1121040"/>
              <a:gd name="textAreaBottom" fmla="*/ 1121400 h 112104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ffa146">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等腰三角形 3"/>
          <p:cNvSpPr/>
          <p:nvPr/>
        </p:nvSpPr>
        <p:spPr>
          <a:xfrm flipH="1" flipV="1" rot="5400000">
            <a:off x="5921280" y="3729600"/>
            <a:ext cx="1469880" cy="1121040"/>
          </a:xfrm>
          <a:custGeom>
            <a:avLst/>
            <a:gdLst>
              <a:gd name="textAreaLeft" fmla="*/ -360 w 1469880"/>
              <a:gd name="textAreaRight" fmla="*/ 1469880 w 1469880"/>
              <a:gd name="textAreaTop" fmla="*/ 360 h 1121040"/>
              <a:gd name="textAreaBottom" fmla="*/ 1121760 h 112104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3d6869">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任意多边形 79"/>
          <p:cNvSpPr/>
          <p:nvPr/>
        </p:nvSpPr>
        <p:spPr>
          <a:xfrm flipH="1">
            <a:off x="7216200" y="2048040"/>
            <a:ext cx="3794040" cy="936360"/>
          </a:xfrm>
          <a:custGeom>
            <a:avLst/>
            <a:gdLst>
              <a:gd name="textAreaLeft" fmla="*/ -360 w 3794040"/>
              <a:gd name="textAreaRight" fmla="*/ 3794040 w 3794040"/>
              <a:gd name="textAreaTop" fmla="*/ 0 h 936360"/>
              <a:gd name="textAreaBottom" fmla="*/ 936720 h 93636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任意多边形 80"/>
          <p:cNvSpPr/>
          <p:nvPr/>
        </p:nvSpPr>
        <p:spPr>
          <a:xfrm flipH="1">
            <a:off x="7216200" y="4091040"/>
            <a:ext cx="3794040" cy="934920"/>
          </a:xfrm>
          <a:custGeom>
            <a:avLst/>
            <a:gdLst>
              <a:gd name="textAreaLeft" fmla="*/ -360 w 3794040"/>
              <a:gd name="textAreaRight" fmla="*/ 3794040 w 3794040"/>
              <a:gd name="textAreaTop" fmla="*/ 0 h 934920"/>
              <a:gd name="textAreaBottom" fmla="*/ 935280 h 93492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Freeform 5"/>
          <p:cNvSpPr/>
          <p:nvPr/>
        </p:nvSpPr>
        <p:spPr>
          <a:xfrm>
            <a:off x="1447920" y="2208240"/>
            <a:ext cx="647640" cy="682560"/>
          </a:xfrm>
          <a:custGeom>
            <a:avLst/>
            <a:gdLst>
              <a:gd name="textAreaLeft" fmla="*/ 0 w 647640"/>
              <a:gd name="textAreaRight" fmla="*/ 647640 w 647640"/>
              <a:gd name="textAreaTop" fmla="*/ 0 h 682560"/>
              <a:gd name="textAreaBottom" fmla="*/ 682920 h 682560"/>
            </a:gdLst>
            <a:ahLst/>
            <a:rect l="textAreaLeft" t="textAreaTop" r="textAreaRight" b="textAreaBottom"/>
            <a:pathLst>
              <a:path w="195" h="200">
                <a:moveTo>
                  <a:pt x="161" y="101"/>
                </a:moveTo>
                <a:cubicBezTo>
                  <a:pt x="158" y="101"/>
                  <a:pt x="155" y="100"/>
                  <a:pt x="152" y="99"/>
                </a:cubicBezTo>
                <a:cubicBezTo>
                  <a:pt x="155" y="96"/>
                  <a:pt x="157" y="92"/>
                  <a:pt x="159" y="87"/>
                </a:cubicBezTo>
                <a:cubicBezTo>
                  <a:pt x="159" y="87"/>
                  <a:pt x="160" y="87"/>
                  <a:pt x="161" y="87"/>
                </a:cubicBezTo>
                <a:cubicBezTo>
                  <a:pt x="176" y="87"/>
                  <a:pt x="184" y="64"/>
                  <a:pt x="184" y="46"/>
                </a:cubicBezTo>
                <a:cubicBezTo>
                  <a:pt x="184" y="31"/>
                  <a:pt x="175" y="23"/>
                  <a:pt x="164" y="23"/>
                </a:cubicBezTo>
                <a:cubicBezTo>
                  <a:pt x="164" y="18"/>
                  <a:pt x="164" y="13"/>
                  <a:pt x="164" y="9"/>
                </a:cubicBezTo>
                <a:cubicBezTo>
                  <a:pt x="181" y="9"/>
                  <a:pt x="195" y="23"/>
                  <a:pt x="195" y="46"/>
                </a:cubicBezTo>
                <a:cubicBezTo>
                  <a:pt x="195" y="71"/>
                  <a:pt x="182" y="101"/>
                  <a:pt x="161" y="101"/>
                </a:cubicBezTo>
                <a:close/>
                <a:moveTo>
                  <a:pt x="98" y="130"/>
                </a:moveTo>
                <a:cubicBezTo>
                  <a:pt x="65" y="130"/>
                  <a:pt x="36" y="90"/>
                  <a:pt x="36" y="40"/>
                </a:cubicBezTo>
                <a:cubicBezTo>
                  <a:pt x="36" y="37"/>
                  <a:pt x="36" y="3"/>
                  <a:pt x="36" y="0"/>
                </a:cubicBezTo>
                <a:cubicBezTo>
                  <a:pt x="160" y="0"/>
                  <a:pt x="160" y="0"/>
                  <a:pt x="160" y="0"/>
                </a:cubicBezTo>
                <a:cubicBezTo>
                  <a:pt x="160" y="3"/>
                  <a:pt x="160" y="37"/>
                  <a:pt x="160" y="40"/>
                </a:cubicBezTo>
                <a:cubicBezTo>
                  <a:pt x="160" y="90"/>
                  <a:pt x="131" y="130"/>
                  <a:pt x="98" y="130"/>
                </a:cubicBezTo>
                <a:close/>
                <a:moveTo>
                  <a:pt x="67" y="12"/>
                </a:moveTo>
                <a:cubicBezTo>
                  <a:pt x="52" y="12"/>
                  <a:pt x="52" y="12"/>
                  <a:pt x="52" y="12"/>
                </a:cubicBezTo>
                <a:cubicBezTo>
                  <a:pt x="52" y="12"/>
                  <a:pt x="50" y="116"/>
                  <a:pt x="99" y="119"/>
                </a:cubicBezTo>
                <a:cubicBezTo>
                  <a:pt x="62" y="92"/>
                  <a:pt x="67" y="12"/>
                  <a:pt x="67" y="12"/>
                </a:cubicBezTo>
                <a:close/>
                <a:moveTo>
                  <a:pt x="34" y="87"/>
                </a:moveTo>
                <a:cubicBezTo>
                  <a:pt x="35" y="87"/>
                  <a:pt x="36" y="87"/>
                  <a:pt x="36" y="87"/>
                </a:cubicBezTo>
                <a:cubicBezTo>
                  <a:pt x="38" y="92"/>
                  <a:pt x="40" y="96"/>
                  <a:pt x="43" y="99"/>
                </a:cubicBezTo>
                <a:cubicBezTo>
                  <a:pt x="40" y="100"/>
                  <a:pt x="37" y="101"/>
                  <a:pt x="34" y="101"/>
                </a:cubicBezTo>
                <a:cubicBezTo>
                  <a:pt x="13" y="101"/>
                  <a:pt x="0" y="71"/>
                  <a:pt x="0" y="46"/>
                </a:cubicBezTo>
                <a:cubicBezTo>
                  <a:pt x="0" y="23"/>
                  <a:pt x="14" y="9"/>
                  <a:pt x="31" y="9"/>
                </a:cubicBezTo>
                <a:cubicBezTo>
                  <a:pt x="31" y="13"/>
                  <a:pt x="31" y="18"/>
                  <a:pt x="31" y="23"/>
                </a:cubicBezTo>
                <a:cubicBezTo>
                  <a:pt x="20" y="23"/>
                  <a:pt x="11" y="31"/>
                  <a:pt x="11" y="46"/>
                </a:cubicBezTo>
                <a:cubicBezTo>
                  <a:pt x="11" y="64"/>
                  <a:pt x="19" y="87"/>
                  <a:pt x="34" y="87"/>
                </a:cubicBezTo>
                <a:close/>
                <a:moveTo>
                  <a:pt x="87" y="147"/>
                </a:moveTo>
                <a:cubicBezTo>
                  <a:pt x="87" y="141"/>
                  <a:pt x="91" y="136"/>
                  <a:pt x="97" y="136"/>
                </a:cubicBezTo>
                <a:cubicBezTo>
                  <a:pt x="103" y="136"/>
                  <a:pt x="108" y="141"/>
                  <a:pt x="108" y="147"/>
                </a:cubicBezTo>
                <a:cubicBezTo>
                  <a:pt x="108" y="153"/>
                  <a:pt x="103" y="157"/>
                  <a:pt x="97" y="157"/>
                </a:cubicBezTo>
                <a:cubicBezTo>
                  <a:pt x="91" y="157"/>
                  <a:pt x="87" y="153"/>
                  <a:pt x="87" y="147"/>
                </a:cubicBezTo>
                <a:close/>
                <a:moveTo>
                  <a:pt x="128" y="170"/>
                </a:moveTo>
                <a:cubicBezTo>
                  <a:pt x="128" y="176"/>
                  <a:pt x="123" y="180"/>
                  <a:pt x="118" y="180"/>
                </a:cubicBezTo>
                <a:cubicBezTo>
                  <a:pt x="78" y="180"/>
                  <a:pt x="78" y="180"/>
                  <a:pt x="78" y="180"/>
                </a:cubicBezTo>
                <a:cubicBezTo>
                  <a:pt x="72" y="180"/>
                  <a:pt x="68" y="176"/>
                  <a:pt x="68" y="170"/>
                </a:cubicBezTo>
                <a:cubicBezTo>
                  <a:pt x="68" y="165"/>
                  <a:pt x="72" y="160"/>
                  <a:pt x="78" y="160"/>
                </a:cubicBezTo>
                <a:cubicBezTo>
                  <a:pt x="118" y="160"/>
                  <a:pt x="118" y="160"/>
                  <a:pt x="118" y="160"/>
                </a:cubicBezTo>
                <a:cubicBezTo>
                  <a:pt x="123" y="160"/>
                  <a:pt x="128" y="165"/>
                  <a:pt x="128" y="170"/>
                </a:cubicBezTo>
                <a:close/>
                <a:moveTo>
                  <a:pt x="58" y="184"/>
                </a:moveTo>
                <a:cubicBezTo>
                  <a:pt x="134" y="184"/>
                  <a:pt x="134" y="184"/>
                  <a:pt x="134" y="184"/>
                </a:cubicBezTo>
                <a:cubicBezTo>
                  <a:pt x="143" y="184"/>
                  <a:pt x="144" y="195"/>
                  <a:pt x="144" y="200"/>
                </a:cubicBezTo>
                <a:cubicBezTo>
                  <a:pt x="102" y="200"/>
                  <a:pt x="88" y="200"/>
                  <a:pt x="48" y="200"/>
                </a:cubicBezTo>
                <a:cubicBezTo>
                  <a:pt x="48" y="195"/>
                  <a:pt x="48" y="184"/>
                  <a:pt x="58" y="1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9"/>
          <p:cNvSpPr/>
          <p:nvPr/>
        </p:nvSpPr>
        <p:spPr>
          <a:xfrm>
            <a:off x="10194840" y="4151160"/>
            <a:ext cx="584280" cy="675000"/>
          </a:xfrm>
          <a:custGeom>
            <a:avLst/>
            <a:gdLst>
              <a:gd name="textAreaLeft" fmla="*/ 0 w 584280"/>
              <a:gd name="textAreaRight" fmla="*/ 584640 w 584280"/>
              <a:gd name="textAreaTop" fmla="*/ 0 h 675000"/>
              <a:gd name="textAreaBottom" fmla="*/ 675360 h 675000"/>
            </a:gdLst>
            <a:ahLst/>
            <a:rect l="textAreaLeft" t="textAreaTop" r="textAreaRight" b="textAreaBottom"/>
            <a:pathLst>
              <a:path w="172" h="199">
                <a:moveTo>
                  <a:pt x="55" y="149"/>
                </a:moveTo>
                <a:cubicBezTo>
                  <a:pt x="58" y="149"/>
                  <a:pt x="64" y="146"/>
                  <a:pt x="64" y="142"/>
                </a:cubicBezTo>
                <a:cubicBezTo>
                  <a:pt x="64" y="93"/>
                  <a:pt x="64" y="93"/>
                  <a:pt x="64" y="93"/>
                </a:cubicBezTo>
                <a:cubicBezTo>
                  <a:pt x="64" y="89"/>
                  <a:pt x="58" y="86"/>
                  <a:pt x="55" y="86"/>
                </a:cubicBezTo>
                <a:cubicBezTo>
                  <a:pt x="51" y="86"/>
                  <a:pt x="47" y="89"/>
                  <a:pt x="47" y="93"/>
                </a:cubicBezTo>
                <a:cubicBezTo>
                  <a:pt x="47" y="142"/>
                  <a:pt x="47" y="142"/>
                  <a:pt x="47" y="142"/>
                </a:cubicBezTo>
                <a:cubicBezTo>
                  <a:pt x="47" y="146"/>
                  <a:pt x="51" y="149"/>
                  <a:pt x="55" y="149"/>
                </a:cubicBezTo>
                <a:close/>
                <a:moveTo>
                  <a:pt x="159" y="36"/>
                </a:moveTo>
                <a:cubicBezTo>
                  <a:pt x="124" y="36"/>
                  <a:pt x="124" y="36"/>
                  <a:pt x="124" y="36"/>
                </a:cubicBezTo>
                <a:cubicBezTo>
                  <a:pt x="124" y="15"/>
                  <a:pt x="107" y="0"/>
                  <a:pt x="86" y="0"/>
                </a:cubicBezTo>
                <a:cubicBezTo>
                  <a:pt x="66" y="0"/>
                  <a:pt x="49" y="15"/>
                  <a:pt x="49" y="36"/>
                </a:cubicBezTo>
                <a:cubicBezTo>
                  <a:pt x="12" y="36"/>
                  <a:pt x="12" y="36"/>
                  <a:pt x="12" y="36"/>
                </a:cubicBezTo>
                <a:cubicBezTo>
                  <a:pt x="5" y="36"/>
                  <a:pt x="0" y="42"/>
                  <a:pt x="0" y="49"/>
                </a:cubicBezTo>
                <a:cubicBezTo>
                  <a:pt x="0" y="56"/>
                  <a:pt x="4" y="62"/>
                  <a:pt x="11" y="62"/>
                </a:cubicBezTo>
                <a:cubicBezTo>
                  <a:pt x="11" y="162"/>
                  <a:pt x="11" y="162"/>
                  <a:pt x="11" y="162"/>
                </a:cubicBezTo>
                <a:cubicBezTo>
                  <a:pt x="11" y="183"/>
                  <a:pt x="29" y="199"/>
                  <a:pt x="49" y="199"/>
                </a:cubicBezTo>
                <a:cubicBezTo>
                  <a:pt x="124" y="199"/>
                  <a:pt x="124" y="199"/>
                  <a:pt x="124" y="199"/>
                </a:cubicBezTo>
                <a:cubicBezTo>
                  <a:pt x="144" y="199"/>
                  <a:pt x="159" y="183"/>
                  <a:pt x="159" y="162"/>
                </a:cubicBezTo>
                <a:cubicBezTo>
                  <a:pt x="159" y="62"/>
                  <a:pt x="159" y="62"/>
                  <a:pt x="159" y="62"/>
                </a:cubicBezTo>
                <a:cubicBezTo>
                  <a:pt x="166" y="62"/>
                  <a:pt x="172" y="56"/>
                  <a:pt x="172" y="49"/>
                </a:cubicBezTo>
                <a:cubicBezTo>
                  <a:pt x="172" y="42"/>
                  <a:pt x="166" y="36"/>
                  <a:pt x="159" y="36"/>
                </a:cubicBezTo>
                <a:close/>
                <a:moveTo>
                  <a:pt x="86" y="22"/>
                </a:moveTo>
                <a:cubicBezTo>
                  <a:pt x="93" y="22"/>
                  <a:pt x="99" y="29"/>
                  <a:pt x="99" y="36"/>
                </a:cubicBezTo>
                <a:cubicBezTo>
                  <a:pt x="74" y="36"/>
                  <a:pt x="74" y="36"/>
                  <a:pt x="74" y="36"/>
                </a:cubicBezTo>
                <a:cubicBezTo>
                  <a:pt x="74" y="29"/>
                  <a:pt x="80" y="22"/>
                  <a:pt x="86" y="22"/>
                </a:cubicBezTo>
                <a:close/>
                <a:moveTo>
                  <a:pt x="136" y="163"/>
                </a:moveTo>
                <a:cubicBezTo>
                  <a:pt x="136" y="170"/>
                  <a:pt x="130" y="176"/>
                  <a:pt x="123" y="176"/>
                </a:cubicBezTo>
                <a:cubicBezTo>
                  <a:pt x="48" y="176"/>
                  <a:pt x="48" y="176"/>
                  <a:pt x="48" y="176"/>
                </a:cubicBezTo>
                <a:cubicBezTo>
                  <a:pt x="41" y="176"/>
                  <a:pt x="36" y="170"/>
                  <a:pt x="36" y="163"/>
                </a:cubicBezTo>
                <a:cubicBezTo>
                  <a:pt x="36" y="63"/>
                  <a:pt x="36" y="63"/>
                  <a:pt x="36" y="63"/>
                </a:cubicBezTo>
                <a:cubicBezTo>
                  <a:pt x="136" y="63"/>
                  <a:pt x="136" y="63"/>
                  <a:pt x="136" y="63"/>
                </a:cubicBezTo>
                <a:lnTo>
                  <a:pt x="136" y="163"/>
                </a:lnTo>
                <a:close/>
                <a:moveTo>
                  <a:pt x="115" y="149"/>
                </a:moveTo>
                <a:cubicBezTo>
                  <a:pt x="118" y="149"/>
                  <a:pt x="124" y="146"/>
                  <a:pt x="124" y="142"/>
                </a:cubicBezTo>
                <a:cubicBezTo>
                  <a:pt x="124" y="93"/>
                  <a:pt x="124" y="93"/>
                  <a:pt x="124" y="93"/>
                </a:cubicBezTo>
                <a:cubicBezTo>
                  <a:pt x="124" y="89"/>
                  <a:pt x="118" y="86"/>
                  <a:pt x="115" y="86"/>
                </a:cubicBezTo>
                <a:cubicBezTo>
                  <a:pt x="111" y="86"/>
                  <a:pt x="107" y="89"/>
                  <a:pt x="107" y="93"/>
                </a:cubicBezTo>
                <a:cubicBezTo>
                  <a:pt x="107" y="142"/>
                  <a:pt x="107" y="142"/>
                  <a:pt x="107" y="142"/>
                </a:cubicBezTo>
                <a:cubicBezTo>
                  <a:pt x="107" y="146"/>
                  <a:pt x="111" y="149"/>
                  <a:pt x="115" y="149"/>
                </a:cubicBezTo>
                <a:close/>
                <a:moveTo>
                  <a:pt x="84" y="149"/>
                </a:moveTo>
                <a:cubicBezTo>
                  <a:pt x="87" y="149"/>
                  <a:pt x="93" y="146"/>
                  <a:pt x="93" y="142"/>
                </a:cubicBezTo>
                <a:cubicBezTo>
                  <a:pt x="93" y="93"/>
                  <a:pt x="93" y="93"/>
                  <a:pt x="93" y="93"/>
                </a:cubicBezTo>
                <a:cubicBezTo>
                  <a:pt x="93" y="89"/>
                  <a:pt x="87" y="86"/>
                  <a:pt x="84" y="86"/>
                </a:cubicBezTo>
                <a:cubicBezTo>
                  <a:pt x="80" y="86"/>
                  <a:pt x="76" y="89"/>
                  <a:pt x="76" y="93"/>
                </a:cubicBezTo>
                <a:cubicBezTo>
                  <a:pt x="76" y="142"/>
                  <a:pt x="76" y="142"/>
                  <a:pt x="76" y="142"/>
                </a:cubicBezTo>
                <a:cubicBezTo>
                  <a:pt x="76" y="146"/>
                  <a:pt x="80" y="149"/>
                  <a:pt x="84" y="1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3"/>
          <p:cNvSpPr/>
          <p:nvPr/>
        </p:nvSpPr>
        <p:spPr>
          <a:xfrm>
            <a:off x="1428840" y="4205160"/>
            <a:ext cx="666720" cy="665280"/>
          </a:xfrm>
          <a:custGeom>
            <a:avLst/>
            <a:gdLst>
              <a:gd name="textAreaLeft" fmla="*/ 0 w 666720"/>
              <a:gd name="textAreaRight" fmla="*/ 667080 w 666720"/>
              <a:gd name="textAreaTop" fmla="*/ 0 h 665280"/>
              <a:gd name="textAreaBottom" fmla="*/ 665640 h 665280"/>
            </a:gdLst>
            <a:ahLst/>
            <a:rect l="textAreaLeft" t="textAreaTop" r="textAreaRight" b="textAreaBottom"/>
            <a:pathLst>
              <a:path w="197" h="196">
                <a:moveTo>
                  <a:pt x="196" y="56"/>
                </a:moveTo>
                <a:cubicBezTo>
                  <a:pt x="195" y="100"/>
                  <a:pt x="147" y="129"/>
                  <a:pt x="147" y="129"/>
                </a:cubicBezTo>
                <a:cubicBezTo>
                  <a:pt x="147" y="129"/>
                  <a:pt x="106" y="104"/>
                  <a:pt x="99" y="66"/>
                </a:cubicBezTo>
                <a:cubicBezTo>
                  <a:pt x="97" y="61"/>
                  <a:pt x="96" y="56"/>
                  <a:pt x="96" y="50"/>
                </a:cubicBezTo>
                <a:cubicBezTo>
                  <a:pt x="96" y="22"/>
                  <a:pt x="119" y="0"/>
                  <a:pt x="146" y="0"/>
                </a:cubicBezTo>
                <a:cubicBezTo>
                  <a:pt x="174" y="0"/>
                  <a:pt x="197" y="22"/>
                  <a:pt x="197" y="50"/>
                </a:cubicBezTo>
                <a:cubicBezTo>
                  <a:pt x="197" y="52"/>
                  <a:pt x="197" y="54"/>
                  <a:pt x="196" y="56"/>
                </a:cubicBezTo>
                <a:close/>
                <a:moveTo>
                  <a:pt x="146" y="10"/>
                </a:moveTo>
                <a:cubicBezTo>
                  <a:pt x="127" y="10"/>
                  <a:pt x="111" y="26"/>
                  <a:pt x="111" y="46"/>
                </a:cubicBezTo>
                <a:cubicBezTo>
                  <a:pt x="111" y="66"/>
                  <a:pt x="127" y="82"/>
                  <a:pt x="146" y="82"/>
                </a:cubicBezTo>
                <a:cubicBezTo>
                  <a:pt x="166" y="82"/>
                  <a:pt x="182" y="66"/>
                  <a:pt x="182" y="46"/>
                </a:cubicBezTo>
                <a:cubicBezTo>
                  <a:pt x="182" y="26"/>
                  <a:pt x="166" y="10"/>
                  <a:pt x="146" y="10"/>
                </a:cubicBezTo>
                <a:close/>
                <a:moveTo>
                  <a:pt x="160" y="43"/>
                </a:moveTo>
                <a:cubicBezTo>
                  <a:pt x="160" y="60"/>
                  <a:pt x="160" y="60"/>
                  <a:pt x="160" y="60"/>
                </a:cubicBezTo>
                <a:cubicBezTo>
                  <a:pt x="160" y="62"/>
                  <a:pt x="159" y="64"/>
                  <a:pt x="157" y="64"/>
                </a:cubicBezTo>
                <a:cubicBezTo>
                  <a:pt x="157" y="64"/>
                  <a:pt x="154" y="64"/>
                  <a:pt x="149" y="64"/>
                </a:cubicBezTo>
                <a:cubicBezTo>
                  <a:pt x="149" y="60"/>
                  <a:pt x="149" y="54"/>
                  <a:pt x="149" y="54"/>
                </a:cubicBezTo>
                <a:cubicBezTo>
                  <a:pt x="149" y="53"/>
                  <a:pt x="148" y="51"/>
                  <a:pt x="147" y="51"/>
                </a:cubicBezTo>
                <a:cubicBezTo>
                  <a:pt x="145" y="51"/>
                  <a:pt x="145" y="51"/>
                  <a:pt x="142" y="51"/>
                </a:cubicBezTo>
                <a:cubicBezTo>
                  <a:pt x="141" y="51"/>
                  <a:pt x="140" y="53"/>
                  <a:pt x="140" y="54"/>
                </a:cubicBezTo>
                <a:cubicBezTo>
                  <a:pt x="140" y="56"/>
                  <a:pt x="140" y="59"/>
                  <a:pt x="140" y="64"/>
                </a:cubicBezTo>
                <a:cubicBezTo>
                  <a:pt x="136" y="64"/>
                  <a:pt x="133" y="64"/>
                  <a:pt x="133" y="64"/>
                </a:cubicBezTo>
                <a:cubicBezTo>
                  <a:pt x="131" y="64"/>
                  <a:pt x="129" y="62"/>
                  <a:pt x="129" y="60"/>
                </a:cubicBezTo>
                <a:cubicBezTo>
                  <a:pt x="129" y="43"/>
                  <a:pt x="129" y="43"/>
                  <a:pt x="129" y="43"/>
                </a:cubicBezTo>
                <a:cubicBezTo>
                  <a:pt x="123" y="43"/>
                  <a:pt x="123" y="43"/>
                  <a:pt x="123" y="43"/>
                </a:cubicBezTo>
                <a:cubicBezTo>
                  <a:pt x="145" y="22"/>
                  <a:pt x="145" y="22"/>
                  <a:pt x="145" y="22"/>
                </a:cubicBezTo>
                <a:cubicBezTo>
                  <a:pt x="156" y="33"/>
                  <a:pt x="156" y="33"/>
                  <a:pt x="156" y="33"/>
                </a:cubicBezTo>
                <a:cubicBezTo>
                  <a:pt x="156" y="28"/>
                  <a:pt x="156" y="28"/>
                  <a:pt x="156" y="28"/>
                </a:cubicBezTo>
                <a:cubicBezTo>
                  <a:pt x="161" y="28"/>
                  <a:pt x="161" y="28"/>
                  <a:pt x="161" y="28"/>
                </a:cubicBezTo>
                <a:cubicBezTo>
                  <a:pt x="161" y="38"/>
                  <a:pt x="161" y="38"/>
                  <a:pt x="161" y="38"/>
                </a:cubicBezTo>
                <a:cubicBezTo>
                  <a:pt x="161" y="38"/>
                  <a:pt x="161" y="38"/>
                  <a:pt x="161" y="38"/>
                </a:cubicBezTo>
                <a:cubicBezTo>
                  <a:pt x="166" y="43"/>
                  <a:pt x="166" y="43"/>
                  <a:pt x="166" y="43"/>
                </a:cubicBezTo>
                <a:lnTo>
                  <a:pt x="160" y="43"/>
                </a:lnTo>
                <a:close/>
                <a:moveTo>
                  <a:pt x="88" y="108"/>
                </a:moveTo>
                <a:cubicBezTo>
                  <a:pt x="105" y="108"/>
                  <a:pt x="105" y="108"/>
                  <a:pt x="105" y="108"/>
                </a:cubicBezTo>
                <a:cubicBezTo>
                  <a:pt x="107" y="110"/>
                  <a:pt x="109" y="113"/>
                  <a:pt x="111" y="116"/>
                </a:cubicBezTo>
                <a:cubicBezTo>
                  <a:pt x="88" y="116"/>
                  <a:pt x="88" y="116"/>
                  <a:pt x="88" y="116"/>
                </a:cubicBezTo>
                <a:cubicBezTo>
                  <a:pt x="88" y="143"/>
                  <a:pt x="88" y="143"/>
                  <a:pt x="88" y="143"/>
                </a:cubicBezTo>
                <a:cubicBezTo>
                  <a:pt x="96" y="144"/>
                  <a:pt x="106" y="146"/>
                  <a:pt x="116" y="150"/>
                </a:cubicBezTo>
                <a:cubicBezTo>
                  <a:pt x="119" y="143"/>
                  <a:pt x="121" y="135"/>
                  <a:pt x="122" y="127"/>
                </a:cubicBezTo>
                <a:cubicBezTo>
                  <a:pt x="124" y="129"/>
                  <a:pt x="126" y="131"/>
                  <a:pt x="129" y="133"/>
                </a:cubicBezTo>
                <a:cubicBezTo>
                  <a:pt x="127" y="139"/>
                  <a:pt x="125" y="146"/>
                  <a:pt x="122" y="153"/>
                </a:cubicBezTo>
                <a:cubicBezTo>
                  <a:pt x="130" y="156"/>
                  <a:pt x="137" y="160"/>
                  <a:pt x="142" y="163"/>
                </a:cubicBezTo>
                <a:cubicBezTo>
                  <a:pt x="148" y="157"/>
                  <a:pt x="152" y="149"/>
                  <a:pt x="155" y="141"/>
                </a:cubicBezTo>
                <a:cubicBezTo>
                  <a:pt x="158" y="139"/>
                  <a:pt x="162" y="136"/>
                  <a:pt x="166" y="133"/>
                </a:cubicBezTo>
                <a:cubicBezTo>
                  <a:pt x="157" y="169"/>
                  <a:pt x="124" y="196"/>
                  <a:pt x="85" y="196"/>
                </a:cubicBezTo>
                <a:cubicBezTo>
                  <a:pt x="37" y="196"/>
                  <a:pt x="0" y="159"/>
                  <a:pt x="0" y="112"/>
                </a:cubicBezTo>
                <a:cubicBezTo>
                  <a:pt x="0" y="65"/>
                  <a:pt x="37" y="28"/>
                  <a:pt x="85" y="28"/>
                </a:cubicBezTo>
                <a:cubicBezTo>
                  <a:pt x="85" y="28"/>
                  <a:pt x="85" y="28"/>
                  <a:pt x="85" y="28"/>
                </a:cubicBezTo>
                <a:cubicBezTo>
                  <a:pt x="83" y="33"/>
                  <a:pt x="82" y="40"/>
                  <a:pt x="82" y="46"/>
                </a:cubicBezTo>
                <a:cubicBezTo>
                  <a:pt x="82" y="53"/>
                  <a:pt x="83" y="60"/>
                  <a:pt x="85" y="66"/>
                </a:cubicBezTo>
                <a:cubicBezTo>
                  <a:pt x="86" y="71"/>
                  <a:pt x="88" y="76"/>
                  <a:pt x="89" y="80"/>
                </a:cubicBezTo>
                <a:cubicBezTo>
                  <a:pt x="89" y="80"/>
                  <a:pt x="88" y="80"/>
                  <a:pt x="88" y="80"/>
                </a:cubicBezTo>
                <a:lnTo>
                  <a:pt x="88" y="108"/>
                </a:lnTo>
                <a:close/>
                <a:moveTo>
                  <a:pt x="137" y="169"/>
                </a:moveTo>
                <a:cubicBezTo>
                  <a:pt x="132" y="165"/>
                  <a:pt x="126" y="162"/>
                  <a:pt x="120" y="159"/>
                </a:cubicBezTo>
                <a:cubicBezTo>
                  <a:pt x="116" y="169"/>
                  <a:pt x="112" y="177"/>
                  <a:pt x="106" y="185"/>
                </a:cubicBezTo>
                <a:cubicBezTo>
                  <a:pt x="117" y="182"/>
                  <a:pt x="128" y="176"/>
                  <a:pt x="137" y="169"/>
                </a:cubicBezTo>
                <a:close/>
                <a:moveTo>
                  <a:pt x="88" y="188"/>
                </a:moveTo>
                <a:cubicBezTo>
                  <a:pt x="90" y="188"/>
                  <a:pt x="93" y="188"/>
                  <a:pt x="96" y="188"/>
                </a:cubicBezTo>
                <a:cubicBezTo>
                  <a:pt x="103" y="178"/>
                  <a:pt x="109" y="168"/>
                  <a:pt x="113" y="156"/>
                </a:cubicBezTo>
                <a:cubicBezTo>
                  <a:pt x="105" y="153"/>
                  <a:pt x="96" y="152"/>
                  <a:pt x="88" y="151"/>
                </a:cubicBezTo>
                <a:lnTo>
                  <a:pt x="88" y="188"/>
                </a:lnTo>
                <a:close/>
                <a:moveTo>
                  <a:pt x="63" y="185"/>
                </a:moveTo>
                <a:cubicBezTo>
                  <a:pt x="58" y="177"/>
                  <a:pt x="53" y="169"/>
                  <a:pt x="49" y="159"/>
                </a:cubicBezTo>
                <a:cubicBezTo>
                  <a:pt x="43" y="162"/>
                  <a:pt x="37" y="165"/>
                  <a:pt x="33" y="169"/>
                </a:cubicBezTo>
                <a:cubicBezTo>
                  <a:pt x="41" y="176"/>
                  <a:pt x="52" y="182"/>
                  <a:pt x="63" y="185"/>
                </a:cubicBezTo>
                <a:close/>
                <a:moveTo>
                  <a:pt x="27" y="163"/>
                </a:moveTo>
                <a:cubicBezTo>
                  <a:pt x="33" y="160"/>
                  <a:pt x="39" y="156"/>
                  <a:pt x="47" y="153"/>
                </a:cubicBezTo>
                <a:cubicBezTo>
                  <a:pt x="41" y="140"/>
                  <a:pt x="38" y="126"/>
                  <a:pt x="38" y="116"/>
                </a:cubicBezTo>
                <a:cubicBezTo>
                  <a:pt x="8" y="116"/>
                  <a:pt x="8" y="116"/>
                  <a:pt x="8" y="116"/>
                </a:cubicBezTo>
                <a:cubicBezTo>
                  <a:pt x="9" y="134"/>
                  <a:pt x="16" y="151"/>
                  <a:pt x="27" y="163"/>
                </a:cubicBezTo>
                <a:close/>
                <a:moveTo>
                  <a:pt x="8" y="108"/>
                </a:moveTo>
                <a:cubicBezTo>
                  <a:pt x="38" y="108"/>
                  <a:pt x="38" y="108"/>
                  <a:pt x="38" y="108"/>
                </a:cubicBezTo>
                <a:cubicBezTo>
                  <a:pt x="39" y="97"/>
                  <a:pt x="42" y="84"/>
                  <a:pt x="47" y="71"/>
                </a:cubicBezTo>
                <a:cubicBezTo>
                  <a:pt x="39" y="67"/>
                  <a:pt x="33" y="64"/>
                  <a:pt x="27" y="60"/>
                </a:cubicBezTo>
                <a:cubicBezTo>
                  <a:pt x="16" y="73"/>
                  <a:pt x="9" y="89"/>
                  <a:pt x="8" y="108"/>
                </a:cubicBezTo>
                <a:close/>
                <a:moveTo>
                  <a:pt x="33" y="55"/>
                </a:moveTo>
                <a:cubicBezTo>
                  <a:pt x="37" y="58"/>
                  <a:pt x="43" y="62"/>
                  <a:pt x="49" y="64"/>
                </a:cubicBezTo>
                <a:cubicBezTo>
                  <a:pt x="53" y="55"/>
                  <a:pt x="58" y="46"/>
                  <a:pt x="63" y="38"/>
                </a:cubicBezTo>
                <a:cubicBezTo>
                  <a:pt x="52" y="41"/>
                  <a:pt x="41" y="47"/>
                  <a:pt x="33" y="55"/>
                </a:cubicBezTo>
                <a:close/>
                <a:moveTo>
                  <a:pt x="80" y="35"/>
                </a:moveTo>
                <a:cubicBezTo>
                  <a:pt x="77" y="35"/>
                  <a:pt x="76" y="36"/>
                  <a:pt x="73" y="36"/>
                </a:cubicBezTo>
                <a:cubicBezTo>
                  <a:pt x="66" y="45"/>
                  <a:pt x="60" y="56"/>
                  <a:pt x="56" y="67"/>
                </a:cubicBezTo>
                <a:cubicBezTo>
                  <a:pt x="64" y="70"/>
                  <a:pt x="72" y="72"/>
                  <a:pt x="80" y="72"/>
                </a:cubicBezTo>
                <a:lnTo>
                  <a:pt x="80" y="35"/>
                </a:lnTo>
                <a:close/>
                <a:moveTo>
                  <a:pt x="80" y="80"/>
                </a:moveTo>
                <a:cubicBezTo>
                  <a:pt x="71" y="80"/>
                  <a:pt x="63" y="77"/>
                  <a:pt x="53" y="73"/>
                </a:cubicBezTo>
                <a:cubicBezTo>
                  <a:pt x="49" y="85"/>
                  <a:pt x="46" y="96"/>
                  <a:pt x="46" y="108"/>
                </a:cubicBezTo>
                <a:cubicBezTo>
                  <a:pt x="80" y="108"/>
                  <a:pt x="80" y="108"/>
                  <a:pt x="80" y="108"/>
                </a:cubicBezTo>
                <a:lnTo>
                  <a:pt x="80" y="80"/>
                </a:lnTo>
                <a:close/>
                <a:moveTo>
                  <a:pt x="80" y="116"/>
                </a:moveTo>
                <a:cubicBezTo>
                  <a:pt x="46" y="116"/>
                  <a:pt x="46" y="116"/>
                  <a:pt x="46" y="116"/>
                </a:cubicBezTo>
                <a:cubicBezTo>
                  <a:pt x="46" y="127"/>
                  <a:pt x="49" y="139"/>
                  <a:pt x="53" y="150"/>
                </a:cubicBezTo>
                <a:cubicBezTo>
                  <a:pt x="63" y="146"/>
                  <a:pt x="71" y="144"/>
                  <a:pt x="80" y="143"/>
                </a:cubicBezTo>
                <a:lnTo>
                  <a:pt x="80" y="116"/>
                </a:lnTo>
                <a:close/>
                <a:moveTo>
                  <a:pt x="80" y="151"/>
                </a:moveTo>
                <a:cubicBezTo>
                  <a:pt x="72" y="152"/>
                  <a:pt x="64" y="153"/>
                  <a:pt x="56" y="156"/>
                </a:cubicBezTo>
                <a:cubicBezTo>
                  <a:pt x="60" y="168"/>
                  <a:pt x="66" y="178"/>
                  <a:pt x="73" y="188"/>
                </a:cubicBezTo>
                <a:cubicBezTo>
                  <a:pt x="76" y="188"/>
                  <a:pt x="77" y="188"/>
                  <a:pt x="80" y="188"/>
                </a:cubicBezTo>
                <a:lnTo>
                  <a:pt x="8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7"/>
          <p:cNvSpPr/>
          <p:nvPr/>
        </p:nvSpPr>
        <p:spPr>
          <a:xfrm>
            <a:off x="9988560" y="2111400"/>
            <a:ext cx="676440" cy="671400"/>
          </a:xfrm>
          <a:custGeom>
            <a:avLst/>
            <a:gdLst>
              <a:gd name="textAreaLeft" fmla="*/ 0 w 676440"/>
              <a:gd name="textAreaRight" fmla="*/ 676800 w 676440"/>
              <a:gd name="textAreaTop" fmla="*/ 0 h 671400"/>
              <a:gd name="textAreaBottom" fmla="*/ 671760 h 671400"/>
            </a:gdLst>
            <a:ahLst/>
            <a:rect l="textAreaLeft" t="textAreaTop" r="textAreaRight" b="textAreaBottom"/>
            <a:pathLst>
              <a:path w="200" h="198">
                <a:moveTo>
                  <a:pt x="179" y="160"/>
                </a:moveTo>
                <a:cubicBezTo>
                  <a:pt x="181" y="198"/>
                  <a:pt x="181" y="198"/>
                  <a:pt x="181" y="198"/>
                </a:cubicBezTo>
                <a:cubicBezTo>
                  <a:pt x="147" y="174"/>
                  <a:pt x="147" y="174"/>
                  <a:pt x="147" y="174"/>
                </a:cubicBezTo>
                <a:cubicBezTo>
                  <a:pt x="145" y="174"/>
                  <a:pt x="143" y="175"/>
                  <a:pt x="140" y="175"/>
                </a:cubicBezTo>
                <a:cubicBezTo>
                  <a:pt x="107" y="175"/>
                  <a:pt x="81" y="148"/>
                  <a:pt x="81" y="115"/>
                </a:cubicBezTo>
                <a:cubicBezTo>
                  <a:pt x="81" y="82"/>
                  <a:pt x="107" y="55"/>
                  <a:pt x="140" y="55"/>
                </a:cubicBezTo>
                <a:cubicBezTo>
                  <a:pt x="173" y="55"/>
                  <a:pt x="200" y="82"/>
                  <a:pt x="200" y="115"/>
                </a:cubicBezTo>
                <a:cubicBezTo>
                  <a:pt x="200" y="133"/>
                  <a:pt x="192" y="149"/>
                  <a:pt x="179" y="160"/>
                </a:cubicBezTo>
                <a:close/>
                <a:moveTo>
                  <a:pt x="140" y="70"/>
                </a:moveTo>
                <a:cubicBezTo>
                  <a:pt x="116" y="70"/>
                  <a:pt x="96" y="90"/>
                  <a:pt x="96" y="114"/>
                </a:cubicBezTo>
                <a:cubicBezTo>
                  <a:pt x="96" y="138"/>
                  <a:pt x="116" y="158"/>
                  <a:pt x="140" y="158"/>
                </a:cubicBezTo>
                <a:cubicBezTo>
                  <a:pt x="142" y="158"/>
                  <a:pt x="144" y="158"/>
                  <a:pt x="146" y="158"/>
                </a:cubicBezTo>
                <a:cubicBezTo>
                  <a:pt x="168" y="173"/>
                  <a:pt x="168" y="173"/>
                  <a:pt x="168" y="173"/>
                </a:cubicBezTo>
                <a:cubicBezTo>
                  <a:pt x="169" y="147"/>
                  <a:pt x="169" y="147"/>
                  <a:pt x="169" y="147"/>
                </a:cubicBezTo>
                <a:cubicBezTo>
                  <a:pt x="178" y="139"/>
                  <a:pt x="184" y="127"/>
                  <a:pt x="184" y="114"/>
                </a:cubicBezTo>
                <a:cubicBezTo>
                  <a:pt x="184" y="90"/>
                  <a:pt x="164" y="70"/>
                  <a:pt x="140" y="70"/>
                </a:cubicBezTo>
                <a:close/>
                <a:moveTo>
                  <a:pt x="69" y="119"/>
                </a:moveTo>
                <a:cubicBezTo>
                  <a:pt x="69" y="133"/>
                  <a:pt x="72" y="146"/>
                  <a:pt x="79" y="157"/>
                </a:cubicBezTo>
                <a:cubicBezTo>
                  <a:pt x="79" y="157"/>
                  <a:pt x="79" y="157"/>
                  <a:pt x="79" y="157"/>
                </a:cubicBezTo>
                <a:cubicBezTo>
                  <a:pt x="75" y="157"/>
                  <a:pt x="72" y="156"/>
                  <a:pt x="69" y="156"/>
                </a:cubicBezTo>
                <a:cubicBezTo>
                  <a:pt x="24" y="187"/>
                  <a:pt x="24" y="187"/>
                  <a:pt x="24" y="187"/>
                </a:cubicBezTo>
                <a:cubicBezTo>
                  <a:pt x="27" y="138"/>
                  <a:pt x="27" y="138"/>
                  <a:pt x="27" y="138"/>
                </a:cubicBezTo>
                <a:cubicBezTo>
                  <a:pt x="11" y="123"/>
                  <a:pt x="0" y="102"/>
                  <a:pt x="0" y="78"/>
                </a:cubicBezTo>
                <a:cubicBezTo>
                  <a:pt x="0" y="35"/>
                  <a:pt x="35" y="0"/>
                  <a:pt x="79" y="0"/>
                </a:cubicBezTo>
                <a:cubicBezTo>
                  <a:pt x="110" y="0"/>
                  <a:pt x="138" y="19"/>
                  <a:pt x="150" y="46"/>
                </a:cubicBezTo>
                <a:cubicBezTo>
                  <a:pt x="147" y="45"/>
                  <a:pt x="145" y="45"/>
                  <a:pt x="142" y="45"/>
                </a:cubicBezTo>
                <a:cubicBezTo>
                  <a:pt x="101" y="45"/>
                  <a:pt x="69" y="78"/>
                  <a:pt x="6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4" name="组合 93"/>
          <p:cNvGrpSpPr/>
          <p:nvPr/>
        </p:nvGrpSpPr>
        <p:grpSpPr>
          <a:xfrm>
            <a:off x="5514840" y="2943360"/>
            <a:ext cx="1160640" cy="1160280"/>
            <a:chOff x="5514840" y="2943360"/>
            <a:chExt cx="1160640" cy="1160280"/>
          </a:xfrm>
        </p:grpSpPr>
        <p:sp>
          <p:nvSpPr>
            <p:cNvPr id="465" name="椭圆 94"/>
            <p:cNvSpPr/>
            <p:nvPr/>
          </p:nvSpPr>
          <p:spPr>
            <a:xfrm>
              <a:off x="5514840" y="2943360"/>
              <a:ext cx="1160640" cy="1160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9"/>
            <p:cNvSpPr/>
            <p:nvPr/>
          </p:nvSpPr>
          <p:spPr>
            <a:xfrm>
              <a:off x="5726880" y="3153600"/>
              <a:ext cx="736200" cy="739440"/>
            </a:xfrm>
            <a:custGeom>
              <a:avLst/>
              <a:gdLst>
                <a:gd name="textAreaLeft" fmla="*/ 0 w 736200"/>
                <a:gd name="textAreaRight" fmla="*/ 736560 w 736200"/>
                <a:gd name="textAreaTop" fmla="*/ 0 h 739440"/>
                <a:gd name="textAreaBottom" fmla="*/ 739800 h 73944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3d68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灯片编号占位符 4"/>
          <p:cNvSpPr/>
          <p:nvPr/>
        </p:nvSpPr>
        <p:spPr>
          <a:xfrm>
            <a:off x="11756880" y="5892840"/>
            <a:ext cx="435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02BD-758C-46ED-AD3B-6A7C7B9744C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468" name="矩形 2"/>
          <p:cNvSpPr/>
          <p:nvPr/>
        </p:nvSpPr>
        <p:spPr>
          <a:xfrm>
            <a:off x="2525760" y="2338560"/>
            <a:ext cx="19270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69" name="矩形 97"/>
          <p:cNvSpPr/>
          <p:nvPr/>
        </p:nvSpPr>
        <p:spPr>
          <a:xfrm>
            <a:off x="3011040" y="2104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70" name="矩形 98"/>
          <p:cNvSpPr/>
          <p:nvPr/>
        </p:nvSpPr>
        <p:spPr>
          <a:xfrm>
            <a:off x="7661160" y="2311560"/>
            <a:ext cx="192744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71" name="矩形 99"/>
          <p:cNvSpPr/>
          <p:nvPr/>
        </p:nvSpPr>
        <p:spPr>
          <a:xfrm>
            <a:off x="8146440" y="2079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72" name="矩形 100"/>
          <p:cNvSpPr/>
          <p:nvPr/>
        </p:nvSpPr>
        <p:spPr>
          <a:xfrm>
            <a:off x="2525760" y="4375080"/>
            <a:ext cx="19270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73" name="矩形 101"/>
          <p:cNvSpPr/>
          <p:nvPr/>
        </p:nvSpPr>
        <p:spPr>
          <a:xfrm>
            <a:off x="3011040" y="41418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74" name="矩形 102"/>
          <p:cNvSpPr/>
          <p:nvPr/>
        </p:nvSpPr>
        <p:spPr>
          <a:xfrm>
            <a:off x="7851600" y="4373640"/>
            <a:ext cx="192744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75" name="矩形 103"/>
          <p:cNvSpPr/>
          <p:nvPr/>
        </p:nvSpPr>
        <p:spPr>
          <a:xfrm>
            <a:off x="8336880" y="41403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0">
                                  <p:stCondLst>
                                    <p:cond delay="0"/>
                                  </p:stCondLst>
                                  <p:childTnLst>
                                    <p:set>
                                      <p:cBhvr>
                                        <p:cTn id="111" dur="1" fill="hold">
                                          <p:stCondLst>
                                            <p:cond delay="0"/>
                                          </p:stCondLst>
                                        </p:cTn>
                                        <p:tgtEl>
                                          <p:spTgt spid="441"/>
                                        </p:tgtEl>
                                        <p:attrNameLst>
                                          <p:attrName>style.visibility</p:attrName>
                                        </p:attrNameLst>
                                      </p:cBhvr>
                                      <p:to>
                                        <p:strVal val="visible"/>
                                      </p:to>
                                    </p:set>
                                    <p:anim calcmode="lin" valueType="num">
                                      <p:cBhvr additive="repl">
                                        <p:cTn id="112" dur="500" fill="hold"/>
                                        <p:tgtEl>
                                          <p:spTgt spid="441"/>
                                        </p:tgtEl>
                                        <p:attrNameLst>
                                          <p:attrName>ppt_w</p:attrName>
                                        </p:attrNameLst>
                                      </p:cBhvr>
                                      <p:tavLst>
                                        <p:tav tm="0">
                                          <p:val>
                                            <p:fltVal val="0"/>
                                          </p:val>
                                        </p:tav>
                                        <p:tav tm="100000">
                                          <p:val>
                                            <p:strVal val="#ppt_w"/>
                                          </p:val>
                                        </p:tav>
                                      </p:tavLst>
                                    </p:anim>
                                    <p:anim calcmode="lin" valueType="num">
                                      <p:cBhvr additive="repl">
                                        <p:cTn id="113" dur="500" fill="hold"/>
                                        <p:tgtEl>
                                          <p:spTgt spid="441"/>
                                        </p:tgtEl>
                                        <p:attrNameLst>
                                          <p:attrName>ppt_h</p:attrName>
                                        </p:attrNameLst>
                                      </p:cBhvr>
                                      <p:tavLst>
                                        <p:tav tm="0">
                                          <p:val>
                                            <p:fltVal val="0"/>
                                          </p:val>
                                        </p:tav>
                                        <p:tav tm="100000">
                                          <p:val>
                                            <p:strVal val="#ppt_h"/>
                                          </p:val>
                                        </p:tav>
                                      </p:tavLst>
                                    </p:anim>
                                    <p:animEffect filter="wipe(up)" transition="in">
                                      <p:cBhvr additive="repl">
                                        <p:cTn id="114" dur="500"/>
                                        <p:tgtEl>
                                          <p:spTgt spid="441"/>
                                        </p:tgtEl>
                                      </p:cBhvr>
                                    </p:animEffect>
                                  </p:childTnLst>
                                </p:cTn>
                              </p:par>
                            </p:childTnLst>
                          </p:cTn>
                        </p:par>
                        <p:par>
                          <p:cTn id="115" nodeType="afterEffect" fill="hold">
                            <p:stCondLst>
                              <p:cond delay="500"/>
                            </p:stCondLst>
                            <p:childTnLst>
                              <p:par>
                                <p:cTn id="116" nodeType="afterEffect" fill="hold" presetClass="entr" presetID="10">
                                  <p:stCondLst>
                                    <p:cond delay="0"/>
                                  </p:stCondLst>
                                  <p:childTnLst>
                                    <p:set>
                                      <p:cBhvr>
                                        <p:cTn id="117" dur="1" fill="hold">
                                          <p:stCondLst>
                                            <p:cond delay="0"/>
                                          </p:stCondLst>
                                        </p:cTn>
                                        <p:tgtEl>
                                          <p:spTgt spid="464"/>
                                        </p:tgtEl>
                                        <p:attrNameLst>
                                          <p:attrName>style.visibility</p:attrName>
                                        </p:attrNameLst>
                                      </p:cBhvr>
                                      <p:to>
                                        <p:strVal val="visible"/>
                                      </p:to>
                                    </p:set>
                                    <p:animEffect filter="wipe(up)" transition="in">
                                      <p:cBhvr additive="repl">
                                        <p:cTn id="118" dur="500"/>
                                        <p:tgtEl>
                                          <p:spTgt spid="464"/>
                                        </p:tgtEl>
                                      </p:cBhvr>
                                    </p:animEffect>
                                  </p:childTnLst>
                                </p:cTn>
                              </p:par>
                            </p:childTnLst>
                          </p:cTn>
                        </p:par>
                        <p:par>
                          <p:cTn id="119" nodeType="afterEffect" fill="hold">
                            <p:stCondLst>
                              <p:cond delay="1000"/>
                            </p:stCondLst>
                            <p:childTnLst>
                              <p:par>
                                <p:cTn id="120" nodeType="afterEffect" fill="hold" presetClass="entr" presetID="22" presetSubtype="2">
                                  <p:stCondLst>
                                    <p:cond delay="0"/>
                                  </p:stCondLst>
                                  <p:childTnLst>
                                    <p:set>
                                      <p:cBhvr>
                                        <p:cTn id="121" dur="1" fill="hold">
                                          <p:stCondLst>
                                            <p:cond delay="0"/>
                                          </p:stCondLst>
                                        </p:cTn>
                                        <p:tgtEl>
                                          <p:spTgt spid="453"/>
                                        </p:tgtEl>
                                        <p:attrNameLst>
                                          <p:attrName>style.visibility</p:attrName>
                                        </p:attrNameLst>
                                      </p:cBhvr>
                                      <p:to>
                                        <p:strVal val="visible"/>
                                      </p:to>
                                    </p:set>
                                    <p:animEffect filter="wipe(up)" transition="in">
                                      <p:cBhvr additive="repl">
                                        <p:cTn id="122" dur="500"/>
                                        <p:tgtEl>
                                          <p:spTgt spid="453"/>
                                        </p:tgtEl>
                                      </p:cBhvr>
                                    </p:animEffect>
                                  </p:childTnLst>
                                </p:cTn>
                              </p:par>
                              <p:par>
                                <p:cTn id="123" nodeType="withEffect" fill="hold" presetClass="entr" presetID="22" presetSubtype="2">
                                  <p:stCondLst>
                                    <p:cond delay="0"/>
                                  </p:stCondLst>
                                  <p:childTnLst>
                                    <p:set>
                                      <p:cBhvr>
                                        <p:cTn id="124" dur="1" fill="hold">
                                          <p:stCondLst>
                                            <p:cond delay="0"/>
                                          </p:stCondLst>
                                        </p:cTn>
                                        <p:tgtEl>
                                          <p:spTgt spid="454"/>
                                        </p:tgtEl>
                                        <p:attrNameLst>
                                          <p:attrName>style.visibility</p:attrName>
                                        </p:attrNameLst>
                                      </p:cBhvr>
                                      <p:to>
                                        <p:strVal val="visible"/>
                                      </p:to>
                                    </p:set>
                                    <p:animEffect filter="wipe(up)" transition="in">
                                      <p:cBhvr additive="repl">
                                        <p:cTn id="125" dur="500"/>
                                        <p:tgtEl>
                                          <p:spTgt spid="454"/>
                                        </p:tgtEl>
                                      </p:cBhvr>
                                    </p:animEffect>
                                  </p:childTnLst>
                                </p:cTn>
                              </p:par>
                              <p:par>
                                <p:cTn id="126" nodeType="withEffect" fill="hold" presetClass="entr" presetID="22" presetSubtype="8">
                                  <p:stCondLst>
                                    <p:cond delay="0"/>
                                  </p:stCondLst>
                                  <p:childTnLst>
                                    <p:set>
                                      <p:cBhvr>
                                        <p:cTn id="127" dur="1" fill="hold">
                                          <p:stCondLst>
                                            <p:cond delay="0"/>
                                          </p:stCondLst>
                                        </p:cTn>
                                        <p:tgtEl>
                                          <p:spTgt spid="456"/>
                                        </p:tgtEl>
                                        <p:attrNameLst>
                                          <p:attrName>style.visibility</p:attrName>
                                        </p:attrNameLst>
                                      </p:cBhvr>
                                      <p:to>
                                        <p:strVal val="visible"/>
                                      </p:to>
                                    </p:set>
                                    <p:animEffect filter="wipe(up)" transition="in">
                                      <p:cBhvr additive="repl">
                                        <p:cTn id="128" dur="500"/>
                                        <p:tgtEl>
                                          <p:spTgt spid="456"/>
                                        </p:tgtEl>
                                      </p:cBhvr>
                                    </p:animEffect>
                                  </p:childTnLst>
                                </p:cTn>
                              </p:par>
                              <p:par>
                                <p:cTn id="129" nodeType="withEffect" fill="hold" presetClass="entr" presetID="22" presetSubtype="8">
                                  <p:stCondLst>
                                    <p:cond delay="0"/>
                                  </p:stCondLst>
                                  <p:childTnLst>
                                    <p:set>
                                      <p:cBhvr>
                                        <p:cTn id="130" dur="1" fill="hold">
                                          <p:stCondLst>
                                            <p:cond delay="0"/>
                                          </p:stCondLst>
                                        </p:cTn>
                                        <p:tgtEl>
                                          <p:spTgt spid="457"/>
                                        </p:tgtEl>
                                        <p:attrNameLst>
                                          <p:attrName>style.visibility</p:attrName>
                                        </p:attrNameLst>
                                      </p:cBhvr>
                                      <p:to>
                                        <p:strVal val="visible"/>
                                      </p:to>
                                    </p:set>
                                    <p:animEffect filter="wipe(up)" transition="in">
                                      <p:cBhvr additive="repl">
                                        <p:cTn id="131" dur="500"/>
                                        <p:tgtEl>
                                          <p:spTgt spid="457"/>
                                        </p:tgtEl>
                                      </p:cBhvr>
                                    </p:animEffect>
                                  </p:childTnLst>
                                </p:cTn>
                              </p:par>
                            </p:childTnLst>
                          </p:cTn>
                        </p:par>
                        <p:par>
                          <p:cTn id="132" nodeType="afterEffect" fill="hold">
                            <p:stCondLst>
                              <p:cond delay="1500"/>
                            </p:stCondLst>
                            <p:childTnLst>
                              <p:par>
                                <p:cTn id="133" nodeType="afterEffect" fill="hold" presetClass="entr" presetID="22" presetSubtype="8">
                                  <p:stCondLst>
                                    <p:cond delay="0"/>
                                  </p:stCondLst>
                                  <p:childTnLst>
                                    <p:set>
                                      <p:cBhvr>
                                        <p:cTn id="134" dur="1" fill="hold">
                                          <p:stCondLst>
                                            <p:cond delay="0"/>
                                          </p:stCondLst>
                                        </p:cTn>
                                        <p:tgtEl>
                                          <p:spTgt spid="458"/>
                                        </p:tgtEl>
                                        <p:attrNameLst>
                                          <p:attrName>style.visibility</p:attrName>
                                        </p:attrNameLst>
                                      </p:cBhvr>
                                      <p:to>
                                        <p:strVal val="visible"/>
                                      </p:to>
                                    </p:set>
                                    <p:animEffect filter="wipe(up)" transition="in">
                                      <p:cBhvr additive="repl">
                                        <p:cTn id="135" dur="500"/>
                                        <p:tgtEl>
                                          <p:spTgt spid="458"/>
                                        </p:tgtEl>
                                      </p:cBhvr>
                                    </p:animEffect>
                                  </p:childTnLst>
                                </p:cTn>
                              </p:par>
                              <p:par>
                                <p:cTn id="136" nodeType="withEffect" fill="hold" presetClass="entr" presetID="22" presetSubtype="8">
                                  <p:stCondLst>
                                    <p:cond delay="0"/>
                                  </p:stCondLst>
                                  <p:childTnLst>
                                    <p:set>
                                      <p:cBhvr>
                                        <p:cTn id="137" dur="1" fill="hold">
                                          <p:stCondLst>
                                            <p:cond delay="0"/>
                                          </p:stCondLst>
                                        </p:cTn>
                                        <p:tgtEl>
                                          <p:spTgt spid="459"/>
                                        </p:tgtEl>
                                        <p:attrNameLst>
                                          <p:attrName>style.visibility</p:attrName>
                                        </p:attrNameLst>
                                      </p:cBhvr>
                                      <p:to>
                                        <p:strVal val="visible"/>
                                      </p:to>
                                    </p:set>
                                    <p:animEffect filter="wipe(up)" transition="in">
                                      <p:cBhvr additive="repl">
                                        <p:cTn id="138" dur="500"/>
                                        <p:tgtEl>
                                          <p:spTgt spid="459"/>
                                        </p:tgtEl>
                                      </p:cBhvr>
                                    </p:animEffect>
                                  </p:childTnLst>
                                </p:cTn>
                              </p:par>
                              <p:par>
                                <p:cTn id="139" nodeType="withEffect" fill="hold" presetClass="entr" presetID="22" presetSubtype="2">
                                  <p:stCondLst>
                                    <p:cond delay="0"/>
                                  </p:stCondLst>
                                  <p:childTnLst>
                                    <p:set>
                                      <p:cBhvr>
                                        <p:cTn id="140" dur="1" fill="hold">
                                          <p:stCondLst>
                                            <p:cond delay="0"/>
                                          </p:stCondLst>
                                        </p:cTn>
                                        <p:tgtEl>
                                          <p:spTgt spid="455"/>
                                        </p:tgtEl>
                                        <p:attrNameLst>
                                          <p:attrName>style.visibility</p:attrName>
                                        </p:attrNameLst>
                                      </p:cBhvr>
                                      <p:to>
                                        <p:strVal val="visible"/>
                                      </p:to>
                                    </p:set>
                                    <p:animEffect filter="wipe(up)" transition="in">
                                      <p:cBhvr additive="repl">
                                        <p:cTn id="141" dur="500"/>
                                        <p:tgtEl>
                                          <p:spTgt spid="455"/>
                                        </p:tgtEl>
                                      </p:cBhvr>
                                    </p:animEffect>
                                  </p:childTnLst>
                                </p:cTn>
                              </p:par>
                              <p:par>
                                <p:cTn id="142" nodeType="withEffect" fill="hold" presetClass="entr" presetID="22" presetSubtype="2">
                                  <p:stCondLst>
                                    <p:cond delay="0"/>
                                  </p:stCondLst>
                                  <p:childTnLst>
                                    <p:set>
                                      <p:cBhvr>
                                        <p:cTn id="143" dur="1" fill="hold">
                                          <p:stCondLst>
                                            <p:cond delay="0"/>
                                          </p:stCondLst>
                                        </p:cTn>
                                        <p:tgtEl>
                                          <p:spTgt spid="452"/>
                                        </p:tgtEl>
                                        <p:attrNameLst>
                                          <p:attrName>style.visibility</p:attrName>
                                        </p:attrNameLst>
                                      </p:cBhvr>
                                      <p:to>
                                        <p:strVal val="visible"/>
                                      </p:to>
                                    </p:set>
                                    <p:animEffect filter="wipe(up)" transition="in">
                                      <p:cBhvr additive="repl">
                                        <p:cTn id="144" dur="500"/>
                                        <p:tgtEl>
                                          <p:spTgt spid="452"/>
                                        </p:tgtEl>
                                      </p:cBhvr>
                                    </p:animEffect>
                                  </p:childTnLst>
                                </p:cTn>
                              </p:par>
                            </p:childTnLst>
                          </p:cTn>
                        </p:par>
                        <p:par>
                          <p:cTn id="145" nodeType="afterEffect" fill="hold">
                            <p:stCondLst>
                              <p:cond delay="2000"/>
                            </p:stCondLst>
                            <p:childTnLst>
                              <p:par>
                                <p:cTn id="146" nodeType="afterEffect" fill="hold" presetClass="entr" presetID="10">
                                  <p:stCondLst>
                                    <p:cond delay="0"/>
                                  </p:stCondLst>
                                  <p:childTnLst>
                                    <p:set>
                                      <p:cBhvr>
                                        <p:cTn id="147" dur="1" fill="hold">
                                          <p:stCondLst>
                                            <p:cond delay="0"/>
                                          </p:stCondLst>
                                        </p:cTn>
                                        <p:tgtEl>
                                          <p:spTgt spid="462"/>
                                        </p:tgtEl>
                                        <p:attrNameLst>
                                          <p:attrName>style.visibility</p:attrName>
                                        </p:attrNameLst>
                                      </p:cBhvr>
                                      <p:to>
                                        <p:strVal val="visible"/>
                                      </p:to>
                                    </p:set>
                                    <p:animEffect filter="wipe(up)" transition="in">
                                      <p:cBhvr additive="repl">
                                        <p:cTn id="148" dur="500"/>
                                        <p:tgtEl>
                                          <p:spTgt spid="462"/>
                                        </p:tgtEl>
                                      </p:cBhvr>
                                    </p:animEffect>
                                  </p:childTnLst>
                                </p:cTn>
                              </p:par>
                              <p:par>
                                <p:cTn id="149" nodeType="withEffect" fill="hold" presetClass="entr" presetID="10">
                                  <p:stCondLst>
                                    <p:cond delay="0"/>
                                  </p:stCondLst>
                                  <p:childTnLst>
                                    <p:set>
                                      <p:cBhvr>
                                        <p:cTn id="150" dur="1" fill="hold">
                                          <p:stCondLst>
                                            <p:cond delay="0"/>
                                          </p:stCondLst>
                                        </p:cTn>
                                        <p:tgtEl>
                                          <p:spTgt spid="460"/>
                                        </p:tgtEl>
                                        <p:attrNameLst>
                                          <p:attrName>style.visibility</p:attrName>
                                        </p:attrNameLst>
                                      </p:cBhvr>
                                      <p:to>
                                        <p:strVal val="visible"/>
                                      </p:to>
                                    </p:set>
                                    <p:animEffect filter="wipe(up)" transition="in">
                                      <p:cBhvr additive="repl">
                                        <p:cTn id="151" dur="500"/>
                                        <p:tgtEl>
                                          <p:spTgt spid="460"/>
                                        </p:tgtEl>
                                      </p:cBhvr>
                                    </p:animEffect>
                                  </p:childTnLst>
                                </p:cTn>
                              </p:par>
                              <p:par>
                                <p:cTn id="152" nodeType="withEffect" fill="hold" presetClass="entr" presetID="10">
                                  <p:stCondLst>
                                    <p:cond delay="0"/>
                                  </p:stCondLst>
                                  <p:childTnLst>
                                    <p:set>
                                      <p:cBhvr>
                                        <p:cTn id="153" dur="1" fill="hold">
                                          <p:stCondLst>
                                            <p:cond delay="0"/>
                                          </p:stCondLst>
                                        </p:cTn>
                                        <p:tgtEl>
                                          <p:spTgt spid="463"/>
                                        </p:tgtEl>
                                        <p:attrNameLst>
                                          <p:attrName>style.visibility</p:attrName>
                                        </p:attrNameLst>
                                      </p:cBhvr>
                                      <p:to>
                                        <p:strVal val="visible"/>
                                      </p:to>
                                    </p:set>
                                    <p:animEffect filter="wipe(up)" transition="in">
                                      <p:cBhvr additive="repl">
                                        <p:cTn id="154" dur="500"/>
                                        <p:tgtEl>
                                          <p:spTgt spid="463"/>
                                        </p:tgtEl>
                                      </p:cBhvr>
                                    </p:animEffect>
                                  </p:childTnLst>
                                </p:cTn>
                              </p:par>
                              <p:par>
                                <p:cTn id="155" nodeType="withEffect" fill="hold" presetClass="entr" presetID="10">
                                  <p:stCondLst>
                                    <p:cond delay="0"/>
                                  </p:stCondLst>
                                  <p:childTnLst>
                                    <p:set>
                                      <p:cBhvr>
                                        <p:cTn id="156" dur="1" fill="hold">
                                          <p:stCondLst>
                                            <p:cond delay="0"/>
                                          </p:stCondLst>
                                        </p:cTn>
                                        <p:tgtEl>
                                          <p:spTgt spid="461"/>
                                        </p:tgtEl>
                                        <p:attrNameLst>
                                          <p:attrName>style.visibility</p:attrName>
                                        </p:attrNameLst>
                                      </p:cBhvr>
                                      <p:to>
                                        <p:strVal val="visible"/>
                                      </p:to>
                                    </p:set>
                                    <p:animEffect filter="wipe(up)" transition="in">
                                      <p:cBhvr additive="repl">
                                        <p:cTn id="157"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3"/>
          <p:cNvSpPr/>
          <p:nvPr/>
        </p:nvSpPr>
        <p:spPr>
          <a:xfrm>
            <a:off x="0" y="0"/>
            <a:ext cx="12192120" cy="211788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4"/>
          <p:cNvSpPr/>
          <p:nvPr/>
        </p:nvSpPr>
        <p:spPr>
          <a:xfrm>
            <a:off x="0" y="4740120"/>
            <a:ext cx="12192120" cy="211788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0"/>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文本框 1"/>
          <p:cNvSpPr/>
          <p:nvPr/>
        </p:nvSpPr>
        <p:spPr>
          <a:xfrm>
            <a:off x="404640" y="318960"/>
            <a:ext cx="4561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d6869"/>
                </a:solidFill>
                <a:latin typeface="Broadway"/>
              </a:rPr>
              <a:t>Content</a:t>
            </a:r>
            <a:endParaRPr b="0" lang="en-US" sz="8000" spc="-1" strike="noStrike">
              <a:solidFill>
                <a:srgbClr val="000000"/>
              </a:solidFill>
              <a:latin typeface="Arial"/>
            </a:endParaRPr>
          </a:p>
        </p:txBody>
      </p:sp>
      <p:grpSp>
        <p:nvGrpSpPr>
          <p:cNvPr id="50" name="组合 6"/>
          <p:cNvGrpSpPr/>
          <p:nvPr/>
        </p:nvGrpSpPr>
        <p:grpSpPr>
          <a:xfrm>
            <a:off x="1811160" y="2641680"/>
            <a:ext cx="1533600" cy="1533600"/>
            <a:chOff x="1811160" y="2641680"/>
            <a:chExt cx="1533600" cy="1533600"/>
          </a:xfrm>
        </p:grpSpPr>
        <p:sp>
          <p:nvSpPr>
            <p:cNvPr id="51" name="椭圆 7"/>
            <p:cNvSpPr/>
            <p:nvPr/>
          </p:nvSpPr>
          <p:spPr>
            <a:xfrm>
              <a:off x="1811160" y="2641680"/>
              <a:ext cx="1533600" cy="1533600"/>
            </a:xfrm>
            <a:prstGeom prst="ellipse">
              <a:avLst/>
            </a:prstGeom>
            <a:solidFill>
              <a:srgbClr val="ff466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5"/>
            <p:cNvSpPr/>
            <p:nvPr/>
          </p:nvSpPr>
          <p:spPr>
            <a:xfrm>
              <a:off x="2182320" y="3012840"/>
              <a:ext cx="791280" cy="791280"/>
            </a:xfrm>
            <a:custGeom>
              <a:avLst/>
              <a:gdLst>
                <a:gd name="textAreaLeft" fmla="*/ 0 w 791280"/>
                <a:gd name="textAreaRight" fmla="*/ 791640 w 791280"/>
                <a:gd name="textAreaTop" fmla="*/ 0 h 791280"/>
                <a:gd name="textAreaBottom" fmla="*/ 791640 h 79128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组合 9"/>
          <p:cNvGrpSpPr/>
          <p:nvPr/>
        </p:nvGrpSpPr>
        <p:grpSpPr>
          <a:xfrm>
            <a:off x="6397560" y="2655720"/>
            <a:ext cx="1533600" cy="1533600"/>
            <a:chOff x="6397560" y="2655720"/>
            <a:chExt cx="1533600" cy="1533600"/>
          </a:xfrm>
        </p:grpSpPr>
        <p:sp>
          <p:nvSpPr>
            <p:cNvPr id="54" name="椭圆 10"/>
            <p:cNvSpPr/>
            <p:nvPr/>
          </p:nvSpPr>
          <p:spPr>
            <a:xfrm>
              <a:off x="6397560" y="2655720"/>
              <a:ext cx="1533600" cy="1533600"/>
            </a:xfrm>
            <a:prstGeom prst="ellipse">
              <a:avLst/>
            </a:prstGeom>
            <a:solidFill>
              <a:srgbClr val="ffa146"/>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9"/>
            <p:cNvSpPr/>
            <p:nvPr/>
          </p:nvSpPr>
          <p:spPr>
            <a:xfrm>
              <a:off x="6744600" y="3000960"/>
              <a:ext cx="839520" cy="843120"/>
            </a:xfrm>
            <a:custGeom>
              <a:avLst/>
              <a:gdLst>
                <a:gd name="textAreaLeft" fmla="*/ 0 w 839520"/>
                <a:gd name="textAreaRight" fmla="*/ 839880 w 839520"/>
                <a:gd name="textAreaTop" fmla="*/ 0 h 843120"/>
                <a:gd name="textAreaBottom" fmla="*/ 843480 h 8431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组合 12"/>
          <p:cNvGrpSpPr/>
          <p:nvPr/>
        </p:nvGrpSpPr>
        <p:grpSpPr>
          <a:xfrm>
            <a:off x="4140360" y="2616120"/>
            <a:ext cx="1533240" cy="1533600"/>
            <a:chOff x="4140360" y="2616120"/>
            <a:chExt cx="1533240" cy="1533600"/>
          </a:xfrm>
        </p:grpSpPr>
        <p:sp>
          <p:nvSpPr>
            <p:cNvPr id="57" name="椭圆 13"/>
            <p:cNvSpPr/>
            <p:nvPr/>
          </p:nvSpPr>
          <p:spPr>
            <a:xfrm>
              <a:off x="4140360" y="2616120"/>
              <a:ext cx="1533240" cy="15336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3"/>
            <p:cNvSpPr/>
            <p:nvPr/>
          </p:nvSpPr>
          <p:spPr>
            <a:xfrm>
              <a:off x="4554000" y="3030480"/>
              <a:ext cx="705960" cy="704520"/>
            </a:xfrm>
            <a:custGeom>
              <a:avLst/>
              <a:gdLst>
                <a:gd name="textAreaLeft" fmla="*/ 0 w 705960"/>
                <a:gd name="textAreaRight" fmla="*/ 706320 w 705960"/>
                <a:gd name="textAreaTop" fmla="*/ 0 h 704520"/>
                <a:gd name="textAreaBottom" fmla="*/ 704880 h 70452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组合 2"/>
          <p:cNvGrpSpPr/>
          <p:nvPr/>
        </p:nvGrpSpPr>
        <p:grpSpPr>
          <a:xfrm>
            <a:off x="8651880" y="2629080"/>
            <a:ext cx="1533600" cy="1533240"/>
            <a:chOff x="8651880" y="2629080"/>
            <a:chExt cx="1533600" cy="1533240"/>
          </a:xfrm>
        </p:grpSpPr>
        <p:sp>
          <p:nvSpPr>
            <p:cNvPr id="60" name="椭圆 23"/>
            <p:cNvSpPr/>
            <p:nvPr/>
          </p:nvSpPr>
          <p:spPr>
            <a:xfrm>
              <a:off x="8651880" y="2629080"/>
              <a:ext cx="1533600" cy="1533240"/>
            </a:xfrm>
            <a:prstGeom prst="ellipse">
              <a:avLst/>
            </a:prstGeom>
            <a:solidFill>
              <a:srgbClr val="3d6869"/>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4"/>
            <p:cNvGrpSpPr/>
            <p:nvPr/>
          </p:nvGrpSpPr>
          <p:grpSpPr>
            <a:xfrm>
              <a:off x="9065520" y="3024720"/>
              <a:ext cx="706320" cy="741960"/>
              <a:chOff x="9065520" y="3024720"/>
              <a:chExt cx="706320" cy="741960"/>
            </a:xfrm>
          </p:grpSpPr>
          <p:sp>
            <p:nvSpPr>
              <p:cNvPr id="62" name="Freeform 5"/>
              <p:cNvSpPr/>
              <p:nvPr/>
            </p:nvSpPr>
            <p:spPr>
              <a:xfrm>
                <a:off x="9065520" y="3024720"/>
                <a:ext cx="706320" cy="439560"/>
              </a:xfrm>
              <a:custGeom>
                <a:avLst/>
                <a:gdLst>
                  <a:gd name="textAreaLeft" fmla="*/ 0 w 706320"/>
                  <a:gd name="textAreaRight" fmla="*/ 706680 w 706320"/>
                  <a:gd name="textAreaTop" fmla="*/ 0 h 439560"/>
                  <a:gd name="textAreaBottom" fmla="*/ 439920 h 43956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6"/>
              <p:cNvSpPr/>
              <p:nvPr/>
            </p:nvSpPr>
            <p:spPr>
              <a:xfrm>
                <a:off x="9108720" y="3590280"/>
                <a:ext cx="127080" cy="176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9292680" y="3432960"/>
                <a:ext cx="119520" cy="333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8"/>
              <p:cNvSpPr/>
              <p:nvPr/>
            </p:nvSpPr>
            <p:spPr>
              <a:xfrm>
                <a:off x="9469440" y="3515040"/>
                <a:ext cx="125280" cy="251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9"/>
              <p:cNvSpPr/>
              <p:nvPr/>
            </p:nvSpPr>
            <p:spPr>
              <a:xfrm>
                <a:off x="9646200" y="3358080"/>
                <a:ext cx="119520" cy="40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TextBox 4"/>
          <p:cNvSpPr/>
          <p:nvPr/>
        </p:nvSpPr>
        <p:spPr>
          <a:xfrm>
            <a:off x="1490760" y="448956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68" name="TextBox 4"/>
          <p:cNvSpPr/>
          <p:nvPr/>
        </p:nvSpPr>
        <p:spPr>
          <a:xfrm>
            <a:off x="3768840" y="448956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69" name="TextBox 4"/>
          <p:cNvSpPr/>
          <p:nvPr/>
        </p:nvSpPr>
        <p:spPr>
          <a:xfrm>
            <a:off x="6048360" y="4483080"/>
            <a:ext cx="217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0" name="TextBox 4"/>
          <p:cNvSpPr/>
          <p:nvPr/>
        </p:nvSpPr>
        <p:spPr>
          <a:xfrm>
            <a:off x="8326440" y="448308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1" name="文本框 3"/>
          <p:cNvSpPr/>
          <p:nvPr/>
        </p:nvSpPr>
        <p:spPr>
          <a:xfrm>
            <a:off x="5205240" y="5144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d6869"/>
                </a:solidFill>
                <a:latin typeface="微软雅黑"/>
                <a:ea typeface="微软雅黑"/>
              </a:rPr>
              <a:t>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par>
                                <p:cTn id="8" nodeType="withEffect" fill="hold" presetClass="entr" presetID="6" presetSubtype="32">
                                  <p:stCondLst>
                                    <p:cond delay="0"/>
                                  </p:stCondLst>
                                  <p:childTnLst>
                                    <p:set>
                                      <p:cBhvr>
                                        <p:cTn id="9" dur="1" fill="hold">
                                          <p:stCondLst>
                                            <p:cond delay="0"/>
                                          </p:stCondLst>
                                        </p:cTn>
                                        <p:tgtEl>
                                          <p:spTgt spid="53"/>
                                        </p:tgtEl>
                                        <p:attrNameLst>
                                          <p:attrName>style.visibility</p:attrName>
                                        </p:attrNameLst>
                                      </p:cBhvr>
                                      <p:to>
                                        <p:strVal val="visible"/>
                                      </p:to>
                                    </p:set>
                                    <p:animEffect filter="wipe(up)" transition="in">
                                      <p:cBhvr additive="repl">
                                        <p:cTn id="10" dur="500"/>
                                        <p:tgtEl>
                                          <p:spTgt spid="53"/>
                                        </p:tgtEl>
                                      </p:cBhvr>
                                    </p:animEffect>
                                  </p:childTnLst>
                                </p:cTn>
                              </p:par>
                              <p:par>
                                <p:cTn id="11" nodeType="withEffect" fill="hold" presetClass="entr" presetID="6" presetSubtype="32">
                                  <p:stCondLst>
                                    <p:cond delay="0"/>
                                  </p:stCondLst>
                                  <p:childTnLst>
                                    <p:set>
                                      <p:cBhvr>
                                        <p:cTn id="12" dur="1" fill="hold">
                                          <p:stCondLst>
                                            <p:cond delay="0"/>
                                          </p:stCondLst>
                                        </p:cTn>
                                        <p:tgtEl>
                                          <p:spTgt spid="50"/>
                                        </p:tgtEl>
                                        <p:attrNameLst>
                                          <p:attrName>style.visibility</p:attrName>
                                        </p:attrNameLst>
                                      </p:cBhvr>
                                      <p:to>
                                        <p:strVal val="visible"/>
                                      </p:to>
                                    </p:set>
                                    <p:animEffect filter="wipe(up)" transition="in">
                                      <p:cBhvr additive="repl">
                                        <p:cTn id="1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图表 16" descr=""/>
          <p:cNvPicPr/>
          <p:nvPr/>
        </p:nvPicPr>
        <p:blipFill>
          <a:blip r:embed="rId1"/>
          <a:stretch/>
        </p:blipFill>
        <p:spPr>
          <a:xfrm>
            <a:off x="1071720" y="981000"/>
            <a:ext cx="2881080" cy="3030480"/>
          </a:xfrm>
          <a:prstGeom prst="rect">
            <a:avLst/>
          </a:prstGeom>
          <a:ln w="0">
            <a:noFill/>
          </a:ln>
        </p:spPr>
      </p:pic>
      <p:pic>
        <p:nvPicPr>
          <p:cNvPr id="485" name="图表 17" descr=""/>
          <p:cNvPicPr/>
          <p:nvPr/>
        </p:nvPicPr>
        <p:blipFill>
          <a:blip r:embed="rId2"/>
          <a:stretch/>
        </p:blipFill>
        <p:spPr>
          <a:xfrm>
            <a:off x="4749840" y="925560"/>
            <a:ext cx="2881440" cy="3030480"/>
          </a:xfrm>
          <a:prstGeom prst="rect">
            <a:avLst/>
          </a:prstGeom>
          <a:ln w="0">
            <a:noFill/>
          </a:ln>
        </p:spPr>
      </p:pic>
      <p:pic>
        <p:nvPicPr>
          <p:cNvPr id="486" name="图表 18" descr=""/>
          <p:cNvPicPr/>
          <p:nvPr/>
        </p:nvPicPr>
        <p:blipFill>
          <a:blip r:embed="rId3"/>
          <a:stretch/>
        </p:blipFill>
        <p:spPr>
          <a:xfrm>
            <a:off x="8429760" y="870120"/>
            <a:ext cx="2881080" cy="3030480"/>
          </a:xfrm>
          <a:prstGeom prst="rect">
            <a:avLst/>
          </a:prstGeom>
          <a:ln w="0">
            <a:noFill/>
          </a:ln>
        </p:spPr>
      </p:pic>
      <p:sp>
        <p:nvSpPr>
          <p:cNvPr id="487" name="TextBox 15"/>
          <p:cNvSpPr/>
          <p:nvPr/>
        </p:nvSpPr>
        <p:spPr>
          <a:xfrm>
            <a:off x="2117880" y="49467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488" name="矩形 20"/>
          <p:cNvSpPr/>
          <p:nvPr/>
        </p:nvSpPr>
        <p:spPr>
          <a:xfrm>
            <a:off x="4672440" y="42829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文本框 5"/>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4</a:t>
            </a:r>
            <a:endParaRPr b="0" lang="en-US" sz="13800" spc="-1" strike="noStrike">
              <a:solidFill>
                <a:srgbClr val="000000"/>
              </a:solidFill>
              <a:latin typeface="Arial"/>
            </a:endParaRPr>
          </a:p>
        </p:txBody>
      </p:sp>
      <p:sp>
        <p:nvSpPr>
          <p:cNvPr id="492" name="矩形 6"/>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493" name="矩形 7"/>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76"/>
          <p:cNvSpPr/>
          <p:nvPr/>
        </p:nvSpPr>
        <p:spPr>
          <a:xfrm>
            <a:off x="1574640" y="3486240"/>
            <a:ext cx="9151920" cy="2466720"/>
          </a:xfrm>
          <a:prstGeom prst="rect">
            <a:avLst/>
          </a:prstGeom>
          <a:solidFill>
            <a:srgbClr val="3d6869">
              <a:alpha val="30000"/>
            </a:srgbClr>
          </a:solidFill>
          <a:ln w="0">
            <a:noFill/>
          </a:ln>
        </p:spPr>
        <p:style>
          <a:lnRef idx="0"/>
          <a:fillRef idx="0"/>
          <a:effectRef idx="0"/>
          <a:fontRef idx="minor"/>
        </p:style>
        <p:txBody>
          <a:bodyPr lIns="1080000" rIns="1080000" tIns="720000" bIns="3600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任意多边形 49"/>
          <p:cNvSpPr/>
          <p:nvPr/>
        </p:nvSpPr>
        <p:spPr>
          <a:xfrm>
            <a:off x="3083040" y="2479680"/>
            <a:ext cx="841320" cy="1317600"/>
          </a:xfrm>
          <a:prstGeom prst="pie">
            <a:avLst/>
          </a:prstGeom>
          <a:solidFill>
            <a:srgbClr val="ffffff"/>
          </a:solidFill>
          <a:ln w="101520">
            <a:solidFill>
              <a:srgbClr val="3d6869"/>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04" name="任意多边形 50"/>
          <p:cNvSpPr/>
          <p:nvPr/>
        </p:nvSpPr>
        <p:spPr>
          <a:xfrm>
            <a:off x="4861080" y="2479680"/>
            <a:ext cx="841320" cy="1317600"/>
          </a:xfrm>
          <a:prstGeom prst="pie">
            <a:avLst/>
          </a:prstGeom>
          <a:solidFill>
            <a:srgbClr val="ffffff"/>
          </a:solidFill>
          <a:ln w="101520">
            <a:solidFill>
              <a:srgbClr val="22f2cc"/>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05" name="任意多边形 51"/>
          <p:cNvSpPr/>
          <p:nvPr/>
        </p:nvSpPr>
        <p:spPr>
          <a:xfrm>
            <a:off x="6638760" y="2479680"/>
            <a:ext cx="841680" cy="1317600"/>
          </a:xfrm>
          <a:prstGeom prst="pie">
            <a:avLst/>
          </a:prstGeom>
          <a:solidFill>
            <a:srgbClr val="ffffff"/>
          </a:solidFill>
          <a:ln w="101520">
            <a:solidFill>
              <a:srgbClr val="ff4664"/>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06" name="任意多边形 52"/>
          <p:cNvSpPr/>
          <p:nvPr/>
        </p:nvSpPr>
        <p:spPr>
          <a:xfrm>
            <a:off x="8416800" y="2479680"/>
            <a:ext cx="841680" cy="1317600"/>
          </a:xfrm>
          <a:prstGeom prst="pie">
            <a:avLst/>
          </a:prstGeom>
          <a:solidFill>
            <a:srgbClr val="ffffff"/>
          </a:solidFill>
          <a:ln w="101520">
            <a:solidFill>
              <a:srgbClr val="ffa146"/>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07" name="矩形 7"/>
          <p:cNvSpPr/>
          <p:nvPr/>
        </p:nvSpPr>
        <p:spPr>
          <a:xfrm>
            <a:off x="4718520" y="12128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这里输入简单的文字概述</a:t>
            </a:r>
            <a:endParaRPr b="0" lang="en-US" sz="3200" spc="-1" strike="noStrike">
              <a:solidFill>
                <a:srgbClr val="000000"/>
              </a:solidFill>
              <a:latin typeface="Arial"/>
            </a:endParaRPr>
          </a:p>
        </p:txBody>
      </p:sp>
      <p:sp>
        <p:nvSpPr>
          <p:cNvPr id="508" name="矩形 7"/>
          <p:cNvSpPr/>
          <p:nvPr/>
        </p:nvSpPr>
        <p:spPr>
          <a:xfrm>
            <a:off x="2252520" y="3956040"/>
            <a:ext cx="7794720" cy="1427040"/>
          </a:xfrm>
          <a:prstGeom prst="pie">
            <a:avLst/>
          </a:prstGeom>
          <a:noFill/>
          <a:ln w="0">
            <a:noFill/>
          </a:ln>
        </p:spPr>
        <p:style>
          <a:lnRef idx="0"/>
          <a:fillRef idx="0"/>
          <a:effectRef idx="0"/>
          <a:fontRef idx="minor"/>
        </p:style>
        <p:txBody>
          <a:bodyPr lIns="36000" rIns="0" tIns="10800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7" name="图表 36" descr=""/>
          <p:cNvPicPr/>
          <p:nvPr/>
        </p:nvPicPr>
        <p:blipFill>
          <a:blip r:embed="rId1"/>
          <a:stretch/>
        </p:blipFill>
        <p:spPr>
          <a:xfrm>
            <a:off x="3065400" y="1236600"/>
            <a:ext cx="7385040" cy="3211560"/>
          </a:xfrm>
          <a:prstGeom prst="rect">
            <a:avLst/>
          </a:prstGeom>
          <a:ln w="0">
            <a:noFill/>
          </a:ln>
        </p:spPr>
      </p:pic>
      <p:sp>
        <p:nvSpPr>
          <p:cNvPr id="518" name="直接连接符 37"/>
          <p:cNvSpPr/>
          <p:nvPr/>
        </p:nvSpPr>
        <p:spPr>
          <a:xfrm>
            <a:off x="3065400" y="1552680"/>
            <a:ext cx="0" cy="245592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组合 38"/>
          <p:cNvGrpSpPr/>
          <p:nvPr/>
        </p:nvGrpSpPr>
        <p:grpSpPr>
          <a:xfrm>
            <a:off x="1509840" y="1552680"/>
            <a:ext cx="1033200" cy="2219400"/>
            <a:chOff x="1509840" y="1552680"/>
            <a:chExt cx="1033200" cy="2219400"/>
          </a:xfrm>
        </p:grpSpPr>
        <p:grpSp>
          <p:nvGrpSpPr>
            <p:cNvPr id="520" name="Group 4"/>
            <p:cNvGrpSpPr/>
            <p:nvPr/>
          </p:nvGrpSpPr>
          <p:grpSpPr>
            <a:xfrm>
              <a:off x="1578600" y="1552680"/>
              <a:ext cx="894960" cy="2218680"/>
              <a:chOff x="1578600" y="1552680"/>
              <a:chExt cx="894960" cy="2218680"/>
            </a:xfrm>
          </p:grpSpPr>
          <p:sp>
            <p:nvSpPr>
              <p:cNvPr id="521" name="Oval 5"/>
              <p:cNvSpPr/>
              <p:nvPr/>
            </p:nvSpPr>
            <p:spPr>
              <a:xfrm>
                <a:off x="1847520" y="1552680"/>
                <a:ext cx="375840" cy="381960"/>
              </a:xfrm>
              <a:prstGeom prst="ellipse">
                <a:avLst/>
              </a:prstGeom>
              <a:solidFill>
                <a:srgbClr val="3d68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6"/>
              <p:cNvSpPr/>
              <p:nvPr/>
            </p:nvSpPr>
            <p:spPr>
              <a:xfrm>
                <a:off x="1578600" y="1991520"/>
                <a:ext cx="894960" cy="1779840"/>
              </a:xfrm>
              <a:custGeom>
                <a:avLst/>
                <a:gdLst>
                  <a:gd name="textAreaLeft" fmla="*/ 0 w 894960"/>
                  <a:gd name="textAreaRight" fmla="*/ 895320 w 894960"/>
                  <a:gd name="textAreaTop" fmla="*/ 0 h 1779840"/>
                  <a:gd name="textAreaBottom" fmla="*/ 1780200 h 1779840"/>
                </a:gdLst>
                <a:ahLst/>
                <a:rect l="textAreaLeft" t="textAreaTop" r="textAreaRight" b="textAreaBottom"/>
                <a:pathLst>
                  <a:path w="50" h="93">
                    <a:moveTo>
                      <a:pt x="50" y="12"/>
                    </a:moveTo>
                    <a:cubicBezTo>
                      <a:pt x="49" y="0"/>
                      <a:pt x="36" y="1"/>
                      <a:pt x="36" y="1"/>
                    </a:cubicBezTo>
                    <a:cubicBezTo>
                      <a:pt x="15" y="1"/>
                      <a:pt x="15" y="1"/>
                      <a:pt x="15" y="1"/>
                    </a:cubicBezTo>
                    <a:cubicBezTo>
                      <a:pt x="0" y="1"/>
                      <a:pt x="1" y="12"/>
                      <a:pt x="1" y="12"/>
                    </a:cubicBezTo>
                    <a:cubicBezTo>
                      <a:pt x="1" y="37"/>
                      <a:pt x="1" y="37"/>
                      <a:pt x="1" y="37"/>
                    </a:cubicBezTo>
                    <a:cubicBezTo>
                      <a:pt x="1" y="37"/>
                      <a:pt x="1" y="37"/>
                      <a:pt x="1" y="37"/>
                    </a:cubicBezTo>
                    <a:cubicBezTo>
                      <a:pt x="1" y="37"/>
                      <a:pt x="1" y="37"/>
                      <a:pt x="1" y="37"/>
                    </a:cubicBezTo>
                    <a:cubicBezTo>
                      <a:pt x="1" y="40"/>
                      <a:pt x="3" y="41"/>
                      <a:pt x="5" y="41"/>
                    </a:cubicBezTo>
                    <a:cubicBezTo>
                      <a:pt x="7" y="41"/>
                      <a:pt x="9" y="40"/>
                      <a:pt x="9" y="37"/>
                    </a:cubicBezTo>
                    <a:cubicBezTo>
                      <a:pt x="9" y="37"/>
                      <a:pt x="9" y="37"/>
                      <a:pt x="9" y="37"/>
                    </a:cubicBezTo>
                    <a:cubicBezTo>
                      <a:pt x="9" y="37"/>
                      <a:pt x="9" y="37"/>
                      <a:pt x="9" y="37"/>
                    </a:cubicBezTo>
                    <a:cubicBezTo>
                      <a:pt x="9" y="14"/>
                      <a:pt x="9" y="14"/>
                      <a:pt x="9" y="14"/>
                    </a:cubicBezTo>
                    <a:cubicBezTo>
                      <a:pt x="12" y="14"/>
                      <a:pt x="12" y="14"/>
                      <a:pt x="12" y="14"/>
                    </a:cubicBezTo>
                    <a:cubicBezTo>
                      <a:pt x="12" y="87"/>
                      <a:pt x="12" y="87"/>
                      <a:pt x="12" y="87"/>
                    </a:cubicBezTo>
                    <a:cubicBezTo>
                      <a:pt x="12" y="91"/>
                      <a:pt x="15" y="93"/>
                      <a:pt x="18" y="93"/>
                    </a:cubicBezTo>
                    <a:cubicBezTo>
                      <a:pt x="21" y="93"/>
                      <a:pt x="24" y="91"/>
                      <a:pt x="24" y="87"/>
                    </a:cubicBezTo>
                    <a:cubicBezTo>
                      <a:pt x="24" y="40"/>
                      <a:pt x="24" y="40"/>
                      <a:pt x="24" y="40"/>
                    </a:cubicBezTo>
                    <a:cubicBezTo>
                      <a:pt x="26" y="40"/>
                      <a:pt x="26" y="40"/>
                      <a:pt x="26" y="40"/>
                    </a:cubicBezTo>
                    <a:cubicBezTo>
                      <a:pt x="26" y="87"/>
                      <a:pt x="26" y="87"/>
                      <a:pt x="26" y="87"/>
                    </a:cubicBezTo>
                    <a:cubicBezTo>
                      <a:pt x="26" y="87"/>
                      <a:pt x="26" y="87"/>
                      <a:pt x="26" y="87"/>
                    </a:cubicBezTo>
                    <a:cubicBezTo>
                      <a:pt x="27" y="91"/>
                      <a:pt x="29" y="93"/>
                      <a:pt x="32" y="93"/>
                    </a:cubicBezTo>
                    <a:cubicBezTo>
                      <a:pt x="36" y="93"/>
                      <a:pt x="38" y="91"/>
                      <a:pt x="38" y="87"/>
                    </a:cubicBezTo>
                    <a:cubicBezTo>
                      <a:pt x="38" y="13"/>
                      <a:pt x="38" y="13"/>
                      <a:pt x="38" y="13"/>
                    </a:cubicBezTo>
                    <a:cubicBezTo>
                      <a:pt x="41" y="13"/>
                      <a:pt x="41" y="13"/>
                      <a:pt x="41" y="13"/>
                    </a:cubicBezTo>
                    <a:cubicBezTo>
                      <a:pt x="41" y="37"/>
                      <a:pt x="41" y="37"/>
                      <a:pt x="41" y="37"/>
                    </a:cubicBezTo>
                    <a:cubicBezTo>
                      <a:pt x="41" y="37"/>
                      <a:pt x="41" y="37"/>
                      <a:pt x="41" y="37"/>
                    </a:cubicBezTo>
                    <a:cubicBezTo>
                      <a:pt x="41" y="37"/>
                      <a:pt x="41" y="37"/>
                      <a:pt x="41" y="37"/>
                    </a:cubicBezTo>
                    <a:cubicBezTo>
                      <a:pt x="41" y="39"/>
                      <a:pt x="43" y="41"/>
                      <a:pt x="45" y="41"/>
                    </a:cubicBezTo>
                    <a:cubicBezTo>
                      <a:pt x="48" y="41"/>
                      <a:pt x="50" y="39"/>
                      <a:pt x="50" y="37"/>
                    </a:cubicBezTo>
                    <a:cubicBezTo>
                      <a:pt x="50" y="37"/>
                      <a:pt x="50" y="37"/>
                      <a:pt x="50" y="37"/>
                    </a:cubicBezTo>
                    <a:lnTo>
                      <a:pt x="50" y="12"/>
                    </a:lnTo>
                    <a:close/>
                  </a:path>
                </a:pathLst>
              </a:custGeom>
              <a:solidFill>
                <a:srgbClr val="3d68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3" name="流程图: 过程 40"/>
            <p:cNvSpPr/>
            <p:nvPr/>
          </p:nvSpPr>
          <p:spPr>
            <a:xfrm>
              <a:off x="1509840" y="1552680"/>
              <a:ext cx="80280" cy="2219400"/>
            </a:xfrm>
            <a:prstGeom prst="flowChartProcess">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流程图: 过程 41"/>
            <p:cNvSpPr/>
            <p:nvPr/>
          </p:nvSpPr>
          <p:spPr>
            <a:xfrm>
              <a:off x="2474280" y="1552680"/>
              <a:ext cx="68760" cy="2219400"/>
            </a:xfrm>
            <a:prstGeom prst="flowChartProcess">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矩形 44"/>
          <p:cNvSpPr/>
          <p:nvPr/>
        </p:nvSpPr>
        <p:spPr>
          <a:xfrm>
            <a:off x="1577520" y="4589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点击添加标题</a:t>
            </a:r>
            <a:endParaRPr b="0" lang="en-US" sz="3200" spc="-1" strike="noStrike">
              <a:solidFill>
                <a:srgbClr val="000000"/>
              </a:solidFill>
              <a:latin typeface="Arial"/>
            </a:endParaRPr>
          </a:p>
        </p:txBody>
      </p:sp>
      <p:sp>
        <p:nvSpPr>
          <p:cNvPr id="526" name="矩形 45"/>
          <p:cNvSpPr/>
          <p:nvPr/>
        </p:nvSpPr>
        <p:spPr>
          <a:xfrm>
            <a:off x="1424880" y="5173560"/>
            <a:ext cx="1140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请输入简单文字概述</a:t>
            </a:r>
            <a:endParaRPr b="0" lang="en-US" sz="1400" spc="-1" strike="noStrike">
              <a:solidFill>
                <a:srgbClr val="000000"/>
              </a:solidFill>
              <a:latin typeface="Arial"/>
            </a:endParaRPr>
          </a:p>
        </p:txBody>
      </p:sp>
      <p:sp>
        <p:nvSpPr>
          <p:cNvPr id="527" name="矩形 46"/>
          <p:cNvSpPr/>
          <p:nvPr/>
        </p:nvSpPr>
        <p:spPr>
          <a:xfrm>
            <a:off x="5581440" y="4448160"/>
            <a:ext cx="1278000" cy="106740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p:txBody>
      </p:sp>
      <p:sp>
        <p:nvSpPr>
          <p:cNvPr id="528" name="矩形 47"/>
          <p:cNvSpPr/>
          <p:nvPr/>
        </p:nvSpPr>
        <p:spPr>
          <a:xfrm>
            <a:off x="7758720" y="4448160"/>
            <a:ext cx="1278000" cy="106740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p:txBody>
      </p:sp>
      <p:sp>
        <p:nvSpPr>
          <p:cNvPr id="529" name="灯片编号占位符 1"/>
          <p:cNvSpPr/>
          <p:nvPr/>
        </p:nvSpPr>
        <p:spPr>
          <a:xfrm>
            <a:off x="11756880" y="5867280"/>
            <a:ext cx="435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297B-67D2-498A-B6E2-9F11BDA5D3E1}"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10">
                                  <p:stCondLst>
                                    <p:cond delay="0"/>
                                  </p:stCondLst>
                                  <p:childTnLst>
                                    <p:set>
                                      <p:cBhvr>
                                        <p:cTn id="163" dur="1" fill="hold">
                                          <p:stCondLst>
                                            <p:cond delay="0"/>
                                          </p:stCondLst>
                                        </p:cTn>
                                        <p:tgtEl>
                                          <p:spTgt spid="525"/>
                                        </p:tgtEl>
                                        <p:attrNameLst>
                                          <p:attrName>style.visibility</p:attrName>
                                        </p:attrNameLst>
                                      </p:cBhvr>
                                      <p:to>
                                        <p:strVal val="visible"/>
                                      </p:to>
                                    </p:set>
                                    <p:animEffect filter="wipe(up)" transition="in">
                                      <p:cBhvr additive="repl">
                                        <p:cTn id="164" dur="1000"/>
                                        <p:tgtEl>
                                          <p:spTgt spid="525"/>
                                        </p:tgtEl>
                                      </p:cBhvr>
                                    </p:animEffect>
                                  </p:childTnLst>
                                </p:cTn>
                              </p:par>
                              <p:par>
                                <p:cTn id="165" nodeType="withEffect" fill="hold" presetClass="entr" presetID="10">
                                  <p:stCondLst>
                                    <p:cond delay="0"/>
                                  </p:stCondLst>
                                  <p:childTnLst>
                                    <p:set>
                                      <p:cBhvr>
                                        <p:cTn id="166" dur="1" fill="hold">
                                          <p:stCondLst>
                                            <p:cond delay="0"/>
                                          </p:stCondLst>
                                        </p:cTn>
                                        <p:tgtEl>
                                          <p:spTgt spid="526"/>
                                        </p:tgtEl>
                                        <p:attrNameLst>
                                          <p:attrName>style.visibility</p:attrName>
                                        </p:attrNameLst>
                                      </p:cBhvr>
                                      <p:to>
                                        <p:strVal val="visible"/>
                                      </p:to>
                                    </p:set>
                                    <p:animEffect filter="wipe(up)" transition="in">
                                      <p:cBhvr additive="repl">
                                        <p:cTn id="167" dur="500"/>
                                        <p:tgtEl>
                                          <p:spTgt spid="526"/>
                                        </p:tgtEl>
                                      </p:cBhvr>
                                    </p:animEffect>
                                  </p:childTnLst>
                                </p:cTn>
                              </p:par>
                              <p:par>
                                <p:cTn id="168" nodeType="withEffect" fill="hold" presetClass="entr" presetID="10">
                                  <p:stCondLst>
                                    <p:cond delay="0"/>
                                  </p:stCondLst>
                                  <p:childTnLst>
                                    <p:set>
                                      <p:cBhvr>
                                        <p:cTn id="169" dur="1" fill="hold">
                                          <p:stCondLst>
                                            <p:cond delay="0"/>
                                          </p:stCondLst>
                                        </p:cTn>
                                        <p:tgtEl>
                                          <p:spTgt spid="527"/>
                                        </p:tgtEl>
                                        <p:attrNameLst>
                                          <p:attrName>style.visibility</p:attrName>
                                        </p:attrNameLst>
                                      </p:cBhvr>
                                      <p:to>
                                        <p:strVal val="visible"/>
                                      </p:to>
                                    </p:set>
                                    <p:animEffect filter="wipe(up)" transition="in">
                                      <p:cBhvr additive="repl">
                                        <p:cTn id="170" dur="500"/>
                                        <p:tgtEl>
                                          <p:spTgt spid="527"/>
                                        </p:tgtEl>
                                      </p:cBhvr>
                                    </p:animEffect>
                                  </p:childTnLst>
                                </p:cTn>
                              </p:par>
                              <p:par>
                                <p:cTn id="171" nodeType="withEffect" fill="hold" presetClass="entr" presetID="10">
                                  <p:stCondLst>
                                    <p:cond delay="0"/>
                                  </p:stCondLst>
                                  <p:childTnLst>
                                    <p:set>
                                      <p:cBhvr>
                                        <p:cTn id="172" dur="1" fill="hold">
                                          <p:stCondLst>
                                            <p:cond delay="0"/>
                                          </p:stCondLst>
                                        </p:cTn>
                                        <p:tgtEl>
                                          <p:spTgt spid="528"/>
                                        </p:tgtEl>
                                        <p:attrNameLst>
                                          <p:attrName>style.visibility</p:attrName>
                                        </p:attrNameLst>
                                      </p:cBhvr>
                                      <p:to>
                                        <p:strVal val="visible"/>
                                      </p:to>
                                    </p:set>
                                    <p:animEffect filter="wipe(up)" transition="in">
                                      <p:cBhvr additive="repl">
                                        <p:cTn id="17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5"/>
          <p:cNvSpPr/>
          <p:nvPr/>
        </p:nvSpPr>
        <p:spPr>
          <a:xfrm>
            <a:off x="2030400" y="3251160"/>
            <a:ext cx="8131320" cy="987480"/>
          </a:xfrm>
          <a:custGeom>
            <a:avLst/>
            <a:gdLst>
              <a:gd name="textAreaLeft" fmla="*/ 0 w 8131320"/>
              <a:gd name="textAreaRight" fmla="*/ 8131680 w 8131320"/>
              <a:gd name="textAreaTop" fmla="*/ 0 h 987480"/>
              <a:gd name="textAreaBottom" fmla="*/ 987840 h 987480"/>
            </a:gdLst>
            <a:ahLst/>
            <a:rect l="textAreaLeft" t="textAreaTop" r="textAreaRight" b="textAreaBottom"/>
            <a:pathLst>
              <a:path w="5760" h="700">
                <a:moveTo>
                  <a:pt x="0" y="0"/>
                </a:moveTo>
                <a:lnTo>
                  <a:pt x="0" y="0"/>
                </a:lnTo>
                <a:lnTo>
                  <a:pt x="32" y="17"/>
                </a:lnTo>
                <a:lnTo>
                  <a:pt x="72" y="38"/>
                </a:lnTo>
                <a:lnTo>
                  <a:pt x="128" y="64"/>
                </a:lnTo>
                <a:lnTo>
                  <a:pt x="197" y="96"/>
                </a:lnTo>
                <a:lnTo>
                  <a:pt x="281" y="134"/>
                </a:lnTo>
                <a:lnTo>
                  <a:pt x="378" y="175"/>
                </a:lnTo>
                <a:lnTo>
                  <a:pt x="490" y="219"/>
                </a:lnTo>
                <a:lnTo>
                  <a:pt x="613" y="266"/>
                </a:lnTo>
                <a:lnTo>
                  <a:pt x="679" y="290"/>
                </a:lnTo>
                <a:lnTo>
                  <a:pt x="748" y="314"/>
                </a:lnTo>
                <a:lnTo>
                  <a:pt x="820" y="339"/>
                </a:lnTo>
                <a:lnTo>
                  <a:pt x="895" y="363"/>
                </a:lnTo>
                <a:lnTo>
                  <a:pt x="973" y="387"/>
                </a:lnTo>
                <a:lnTo>
                  <a:pt x="1053" y="412"/>
                </a:lnTo>
                <a:lnTo>
                  <a:pt x="1136" y="436"/>
                </a:lnTo>
                <a:lnTo>
                  <a:pt x="1221" y="458"/>
                </a:lnTo>
                <a:lnTo>
                  <a:pt x="1310" y="482"/>
                </a:lnTo>
                <a:lnTo>
                  <a:pt x="1400" y="504"/>
                </a:lnTo>
                <a:lnTo>
                  <a:pt x="1494" y="526"/>
                </a:lnTo>
                <a:lnTo>
                  <a:pt x="1588" y="547"/>
                </a:lnTo>
                <a:lnTo>
                  <a:pt x="1686" y="568"/>
                </a:lnTo>
                <a:lnTo>
                  <a:pt x="1786" y="586"/>
                </a:lnTo>
                <a:lnTo>
                  <a:pt x="1888" y="604"/>
                </a:lnTo>
                <a:lnTo>
                  <a:pt x="1991" y="621"/>
                </a:lnTo>
                <a:lnTo>
                  <a:pt x="2097" y="636"/>
                </a:lnTo>
                <a:lnTo>
                  <a:pt x="2206" y="651"/>
                </a:lnTo>
                <a:lnTo>
                  <a:pt x="2315" y="664"/>
                </a:lnTo>
                <a:lnTo>
                  <a:pt x="2427" y="674"/>
                </a:lnTo>
                <a:lnTo>
                  <a:pt x="2541" y="683"/>
                </a:lnTo>
                <a:lnTo>
                  <a:pt x="2656" y="691"/>
                </a:lnTo>
                <a:lnTo>
                  <a:pt x="2772" y="695"/>
                </a:lnTo>
                <a:lnTo>
                  <a:pt x="2890" y="699"/>
                </a:lnTo>
                <a:lnTo>
                  <a:pt x="3010" y="700"/>
                </a:lnTo>
                <a:lnTo>
                  <a:pt x="3132" y="699"/>
                </a:lnTo>
                <a:lnTo>
                  <a:pt x="3254" y="695"/>
                </a:lnTo>
                <a:lnTo>
                  <a:pt x="3378" y="690"/>
                </a:lnTo>
                <a:lnTo>
                  <a:pt x="3503" y="681"/>
                </a:lnTo>
                <a:lnTo>
                  <a:pt x="3630" y="670"/>
                </a:lnTo>
                <a:lnTo>
                  <a:pt x="3756" y="656"/>
                </a:lnTo>
                <a:lnTo>
                  <a:pt x="3821" y="648"/>
                </a:lnTo>
                <a:lnTo>
                  <a:pt x="3885" y="638"/>
                </a:lnTo>
                <a:lnTo>
                  <a:pt x="3950" y="629"/>
                </a:lnTo>
                <a:lnTo>
                  <a:pt x="4015" y="619"/>
                </a:lnTo>
                <a:lnTo>
                  <a:pt x="4080" y="608"/>
                </a:lnTo>
                <a:lnTo>
                  <a:pt x="4145" y="596"/>
                </a:lnTo>
                <a:lnTo>
                  <a:pt x="4211" y="583"/>
                </a:lnTo>
                <a:lnTo>
                  <a:pt x="4277" y="569"/>
                </a:lnTo>
                <a:lnTo>
                  <a:pt x="4343" y="555"/>
                </a:lnTo>
                <a:lnTo>
                  <a:pt x="4409" y="539"/>
                </a:lnTo>
                <a:lnTo>
                  <a:pt x="4475" y="523"/>
                </a:lnTo>
                <a:lnTo>
                  <a:pt x="4541" y="506"/>
                </a:lnTo>
                <a:lnTo>
                  <a:pt x="4608" y="489"/>
                </a:lnTo>
                <a:lnTo>
                  <a:pt x="4674" y="470"/>
                </a:lnTo>
                <a:lnTo>
                  <a:pt x="4742" y="450"/>
                </a:lnTo>
                <a:lnTo>
                  <a:pt x="4809" y="430"/>
                </a:lnTo>
                <a:lnTo>
                  <a:pt x="4876" y="408"/>
                </a:lnTo>
                <a:lnTo>
                  <a:pt x="4943" y="386"/>
                </a:lnTo>
                <a:lnTo>
                  <a:pt x="5012" y="363"/>
                </a:lnTo>
                <a:lnTo>
                  <a:pt x="5079" y="338"/>
                </a:lnTo>
                <a:lnTo>
                  <a:pt x="5146" y="313"/>
                </a:lnTo>
                <a:lnTo>
                  <a:pt x="5214" y="286"/>
                </a:lnTo>
                <a:lnTo>
                  <a:pt x="5283" y="259"/>
                </a:lnTo>
                <a:lnTo>
                  <a:pt x="5350" y="231"/>
                </a:lnTo>
                <a:lnTo>
                  <a:pt x="5418" y="201"/>
                </a:lnTo>
                <a:lnTo>
                  <a:pt x="5487" y="170"/>
                </a:lnTo>
                <a:lnTo>
                  <a:pt x="5555" y="138"/>
                </a:lnTo>
                <a:lnTo>
                  <a:pt x="5623" y="106"/>
                </a:lnTo>
                <a:lnTo>
                  <a:pt x="5692" y="72"/>
                </a:lnTo>
                <a:lnTo>
                  <a:pt x="5760" y="37"/>
                </a:lnTo>
                <a:lnTo>
                  <a:pt x="5725" y="44"/>
                </a:lnTo>
                <a:lnTo>
                  <a:pt x="5623" y="63"/>
                </a:lnTo>
                <a:lnTo>
                  <a:pt x="5549" y="77"/>
                </a:lnTo>
                <a:lnTo>
                  <a:pt x="5460" y="92"/>
                </a:lnTo>
                <a:lnTo>
                  <a:pt x="5358" y="109"/>
                </a:lnTo>
                <a:lnTo>
                  <a:pt x="5242" y="127"/>
                </a:lnTo>
                <a:lnTo>
                  <a:pt x="5112" y="145"/>
                </a:lnTo>
                <a:lnTo>
                  <a:pt x="4971" y="164"/>
                </a:lnTo>
                <a:lnTo>
                  <a:pt x="4818" y="184"/>
                </a:lnTo>
                <a:lnTo>
                  <a:pt x="4653" y="203"/>
                </a:lnTo>
                <a:lnTo>
                  <a:pt x="4478" y="223"/>
                </a:lnTo>
                <a:lnTo>
                  <a:pt x="4294" y="241"/>
                </a:lnTo>
                <a:lnTo>
                  <a:pt x="4100" y="257"/>
                </a:lnTo>
                <a:lnTo>
                  <a:pt x="3898" y="272"/>
                </a:lnTo>
                <a:lnTo>
                  <a:pt x="3688" y="285"/>
                </a:lnTo>
                <a:lnTo>
                  <a:pt x="3579" y="291"/>
                </a:lnTo>
                <a:lnTo>
                  <a:pt x="3470" y="296"/>
                </a:lnTo>
                <a:lnTo>
                  <a:pt x="3358" y="300"/>
                </a:lnTo>
                <a:lnTo>
                  <a:pt x="3246" y="303"/>
                </a:lnTo>
                <a:lnTo>
                  <a:pt x="3132" y="307"/>
                </a:lnTo>
                <a:lnTo>
                  <a:pt x="3016" y="309"/>
                </a:lnTo>
                <a:lnTo>
                  <a:pt x="2898" y="310"/>
                </a:lnTo>
                <a:lnTo>
                  <a:pt x="2780" y="310"/>
                </a:lnTo>
                <a:lnTo>
                  <a:pt x="2660" y="309"/>
                </a:lnTo>
                <a:lnTo>
                  <a:pt x="2539" y="308"/>
                </a:lnTo>
                <a:lnTo>
                  <a:pt x="2417" y="306"/>
                </a:lnTo>
                <a:lnTo>
                  <a:pt x="2294" y="302"/>
                </a:lnTo>
                <a:lnTo>
                  <a:pt x="2170" y="297"/>
                </a:lnTo>
                <a:lnTo>
                  <a:pt x="2045" y="291"/>
                </a:lnTo>
                <a:lnTo>
                  <a:pt x="1920" y="284"/>
                </a:lnTo>
                <a:lnTo>
                  <a:pt x="1793" y="275"/>
                </a:lnTo>
                <a:lnTo>
                  <a:pt x="1667" y="266"/>
                </a:lnTo>
                <a:lnTo>
                  <a:pt x="1539" y="254"/>
                </a:lnTo>
                <a:lnTo>
                  <a:pt x="1412" y="242"/>
                </a:lnTo>
                <a:lnTo>
                  <a:pt x="1284" y="228"/>
                </a:lnTo>
                <a:lnTo>
                  <a:pt x="1155" y="212"/>
                </a:lnTo>
                <a:lnTo>
                  <a:pt x="1026" y="196"/>
                </a:lnTo>
                <a:lnTo>
                  <a:pt x="898" y="177"/>
                </a:lnTo>
                <a:lnTo>
                  <a:pt x="769" y="158"/>
                </a:lnTo>
                <a:lnTo>
                  <a:pt x="640" y="136"/>
                </a:lnTo>
                <a:lnTo>
                  <a:pt x="512" y="112"/>
                </a:lnTo>
                <a:lnTo>
                  <a:pt x="383" y="87"/>
                </a:lnTo>
                <a:lnTo>
                  <a:pt x="255" y="60"/>
                </a:lnTo>
                <a:lnTo>
                  <a:pt x="128" y="31"/>
                </a:lnTo>
                <a:lnTo>
                  <a:pt x="0" y="0"/>
                </a:lnTo>
                <a:close/>
              </a:path>
            </a:pathLst>
          </a:custGeom>
          <a:solidFill>
            <a:srgbClr val="3d686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11"/>
          <p:cNvSpPr/>
          <p:nvPr/>
        </p:nvSpPr>
        <p:spPr>
          <a:xfrm>
            <a:off x="3232080" y="2682720"/>
            <a:ext cx="1019160" cy="1020960"/>
          </a:xfrm>
          <a:prstGeom prst="pie">
            <a:avLst/>
          </a:prstGeom>
          <a:solidFill>
            <a:srgbClr val="3d686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40" name="Freeform 10"/>
          <p:cNvSpPr/>
          <p:nvPr/>
        </p:nvSpPr>
        <p:spPr>
          <a:xfrm>
            <a:off x="4802040" y="2854440"/>
            <a:ext cx="1019160" cy="1020600"/>
          </a:xfrm>
          <a:prstGeom prst="pie">
            <a:avLst/>
          </a:prstGeom>
          <a:solidFill>
            <a:srgbClr val="ff4664"/>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41" name="Freeform 8"/>
          <p:cNvSpPr/>
          <p:nvPr/>
        </p:nvSpPr>
        <p:spPr>
          <a:xfrm>
            <a:off x="7939080" y="2682720"/>
            <a:ext cx="1020600" cy="1020960"/>
          </a:xfrm>
          <a:prstGeom prst="pie">
            <a:avLst/>
          </a:prstGeom>
          <a:solidFill>
            <a:srgbClr val="ffa146"/>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42" name="Freeform 9"/>
          <p:cNvSpPr/>
          <p:nvPr/>
        </p:nvSpPr>
        <p:spPr>
          <a:xfrm>
            <a:off x="6367320" y="2844720"/>
            <a:ext cx="1020960" cy="1020960"/>
          </a:xfrm>
          <a:prstGeom prst="pie">
            <a:avLst/>
          </a:prstGeom>
          <a:solidFill>
            <a:srgbClr val="22f2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43" name="TextBox 15"/>
          <p:cNvSpPr/>
          <p:nvPr/>
        </p:nvSpPr>
        <p:spPr>
          <a:xfrm>
            <a:off x="3114720" y="1001880"/>
            <a:ext cx="12542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44" name="TextBox 15"/>
          <p:cNvSpPr/>
          <p:nvPr/>
        </p:nvSpPr>
        <p:spPr>
          <a:xfrm>
            <a:off x="468144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45" name="TextBox 15"/>
          <p:cNvSpPr/>
          <p:nvPr/>
        </p:nvSpPr>
        <p:spPr>
          <a:xfrm>
            <a:off x="624996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46" name="TextBox 15"/>
          <p:cNvSpPr/>
          <p:nvPr/>
        </p:nvSpPr>
        <p:spPr>
          <a:xfrm>
            <a:off x="7821720" y="100188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47" name="TextBox 15"/>
          <p:cNvSpPr/>
          <p:nvPr/>
        </p:nvSpPr>
        <p:spPr>
          <a:xfrm>
            <a:off x="2346480" y="480708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图表 8" descr=""/>
          <p:cNvPicPr/>
          <p:nvPr/>
        </p:nvPicPr>
        <p:blipFill>
          <a:blip r:embed="rId1"/>
          <a:stretch/>
        </p:blipFill>
        <p:spPr>
          <a:xfrm>
            <a:off x="1581120" y="409680"/>
            <a:ext cx="9112320" cy="3805200"/>
          </a:xfrm>
          <a:prstGeom prst="rect">
            <a:avLst/>
          </a:prstGeom>
          <a:ln w="0">
            <a:noFill/>
          </a:ln>
        </p:spPr>
      </p:pic>
      <p:sp>
        <p:nvSpPr>
          <p:cNvPr id="557"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558" name="矩形 66"/>
          <p:cNvSpPr/>
          <p:nvPr/>
        </p:nvSpPr>
        <p:spPr>
          <a:xfrm>
            <a:off x="4832280" y="45496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6869"/>
                </a:solidFill>
                <a:latin typeface="微软雅黑"/>
                <a:ea typeface="微软雅黑"/>
              </a:rPr>
              <a:t>这里输入简单的文字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椭圆 36"/>
          <p:cNvSpPr/>
          <p:nvPr/>
        </p:nvSpPr>
        <p:spPr>
          <a:xfrm>
            <a:off x="5481720" y="3067200"/>
            <a:ext cx="1724040" cy="1724040"/>
          </a:xfrm>
          <a:prstGeom prst="ellipse">
            <a:avLst/>
          </a:prstGeom>
          <a:solidFill>
            <a:srgbClr val="ffa146"/>
          </a:solidFill>
          <a:ln w="25560">
            <a:solidFill>
              <a:srgbClr val="ffffff"/>
            </a:solidFill>
            <a:bevel/>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笔记本用户</a:t>
            </a:r>
            <a:endParaRPr b="0" lang="en-US" sz="1800" spc="-1" strike="noStrike">
              <a:solidFill>
                <a:srgbClr val="000000"/>
              </a:solidFill>
              <a:latin typeface="Arial"/>
            </a:endParaRPr>
          </a:p>
        </p:txBody>
      </p:sp>
      <p:sp>
        <p:nvSpPr>
          <p:cNvPr id="568" name="椭圆 37"/>
          <p:cNvSpPr/>
          <p:nvPr/>
        </p:nvSpPr>
        <p:spPr>
          <a:xfrm>
            <a:off x="8091360" y="3552840"/>
            <a:ext cx="749520" cy="750960"/>
          </a:xfrm>
          <a:prstGeom prst="ellipse">
            <a:avLst/>
          </a:prstGeom>
          <a:solidFill>
            <a:srgbClr val="ff4664"/>
          </a:solidFill>
          <a:ln w="2556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0</a:t>
            </a:r>
            <a:r>
              <a:rPr b="0" lang="en-US" sz="900" spc="-1" strike="noStrike">
                <a:solidFill>
                  <a:srgbClr val="ffffff"/>
                </a:solidFill>
                <a:latin typeface="微软雅黑"/>
                <a:ea typeface="微软雅黑"/>
              </a:rPr>
              <a:t>%</a:t>
            </a:r>
            <a:endParaRPr b="0" lang="en-US" sz="900" spc="-1" strike="noStrike">
              <a:solidFill>
                <a:srgbClr val="000000"/>
              </a:solidFill>
              <a:latin typeface="Arial"/>
            </a:endParaRPr>
          </a:p>
        </p:txBody>
      </p:sp>
      <p:sp>
        <p:nvSpPr>
          <p:cNvPr id="569" name="椭圆 38"/>
          <p:cNvSpPr/>
          <p:nvPr/>
        </p:nvSpPr>
        <p:spPr>
          <a:xfrm>
            <a:off x="3486240" y="2708280"/>
            <a:ext cx="515880" cy="514440"/>
          </a:xfrm>
          <a:prstGeom prst="ellipse">
            <a:avLst/>
          </a:prstGeom>
          <a:solidFill>
            <a:srgbClr val="22f2cc"/>
          </a:solidFill>
          <a:ln w="2556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a:t>
            </a:r>
            <a:r>
              <a:rPr b="0" lang="en-US" sz="700" spc="-1" strike="noStrike">
                <a:solidFill>
                  <a:srgbClr val="ffffff"/>
                </a:solidFill>
                <a:latin typeface="微软雅黑"/>
                <a:ea typeface="微软雅黑"/>
              </a:rPr>
              <a:t>%</a:t>
            </a:r>
            <a:endParaRPr b="0" lang="en-US" sz="700" spc="-1" strike="noStrike">
              <a:solidFill>
                <a:srgbClr val="000000"/>
              </a:solidFill>
              <a:latin typeface="Arial"/>
            </a:endParaRPr>
          </a:p>
        </p:txBody>
      </p:sp>
      <p:sp>
        <p:nvSpPr>
          <p:cNvPr id="570" name="直接连接符 39"/>
          <p:cNvSpPr/>
          <p:nvPr/>
        </p:nvSpPr>
        <p:spPr>
          <a:xfrm>
            <a:off x="7205760" y="3930480"/>
            <a:ext cx="885600" cy="0"/>
          </a:xfrm>
          <a:prstGeom prst="line">
            <a:avLst/>
          </a:prstGeom>
          <a:ln w="6480">
            <a:solidFill>
              <a:srgbClr val="ffa1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直接连接符 40"/>
          <p:cNvSpPr/>
          <p:nvPr/>
        </p:nvSpPr>
        <p:spPr>
          <a:xfrm flipH="1">
            <a:off x="4001760" y="2965320"/>
            <a:ext cx="1112760" cy="1800"/>
          </a:xfrm>
          <a:prstGeom prst="line">
            <a:avLst/>
          </a:prstGeom>
          <a:ln w="6480">
            <a:solidFill>
              <a:srgbClr val="3d6869"/>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椭圆 35"/>
          <p:cNvSpPr/>
          <p:nvPr/>
        </p:nvSpPr>
        <p:spPr>
          <a:xfrm>
            <a:off x="5114880" y="2222640"/>
            <a:ext cx="1490760" cy="1488960"/>
          </a:xfrm>
          <a:prstGeom prst="ellipse">
            <a:avLst/>
          </a:prstGeom>
          <a:solidFill>
            <a:srgbClr val="3d6869"/>
          </a:solidFill>
          <a:ln w="25560">
            <a:solidFill>
              <a:srgbClr val="ffffff"/>
            </a:solidFill>
            <a:bevel/>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手机用户</a:t>
            </a:r>
            <a:endParaRPr b="0" lang="en-US" sz="1800" spc="-1" strike="noStrike">
              <a:solidFill>
                <a:srgbClr val="000000"/>
              </a:solidFill>
              <a:latin typeface="Arial"/>
            </a:endParaRPr>
          </a:p>
        </p:txBody>
      </p:sp>
      <p:sp>
        <p:nvSpPr>
          <p:cNvPr id="573" name="KSO_Shape"/>
          <p:cNvSpPr/>
          <p:nvPr/>
        </p:nvSpPr>
        <p:spPr>
          <a:xfrm>
            <a:off x="5769000" y="2454120"/>
            <a:ext cx="220680" cy="416160"/>
          </a:xfrm>
          <a:custGeom>
            <a:avLst/>
            <a:gdLst>
              <a:gd name="textAreaLeft" fmla="*/ 0 w 220680"/>
              <a:gd name="textAreaRight" fmla="*/ 221040 w 220680"/>
              <a:gd name="textAreaTop" fmla="*/ 0 h 416160"/>
              <a:gd name="textAreaBottom" fmla="*/ 416520 h 416160"/>
            </a:gdLst>
            <a:ahLst/>
            <a:rect l="textAreaLeft" t="textAreaTop" r="textAreaRight" b="textAreaBottom"/>
            <a:pathLst>
              <a:path w="2938" h="5511">
                <a:moveTo>
                  <a:pt x="2479" y="0"/>
                </a:moveTo>
                <a:lnTo>
                  <a:pt x="458" y="0"/>
                </a:lnTo>
                <a:lnTo>
                  <a:pt x="435" y="1"/>
                </a:lnTo>
                <a:lnTo>
                  <a:pt x="412" y="3"/>
                </a:lnTo>
                <a:lnTo>
                  <a:pt x="389" y="7"/>
                </a:lnTo>
                <a:lnTo>
                  <a:pt x="366" y="11"/>
                </a:lnTo>
                <a:lnTo>
                  <a:pt x="345" y="16"/>
                </a:lnTo>
                <a:lnTo>
                  <a:pt x="322" y="22"/>
                </a:lnTo>
                <a:lnTo>
                  <a:pt x="301" y="29"/>
                </a:lnTo>
                <a:lnTo>
                  <a:pt x="281" y="37"/>
                </a:lnTo>
                <a:lnTo>
                  <a:pt x="260" y="46"/>
                </a:lnTo>
                <a:lnTo>
                  <a:pt x="240" y="56"/>
                </a:lnTo>
                <a:lnTo>
                  <a:pt x="221" y="67"/>
                </a:lnTo>
                <a:lnTo>
                  <a:pt x="203" y="80"/>
                </a:lnTo>
                <a:lnTo>
                  <a:pt x="184" y="93"/>
                </a:lnTo>
                <a:lnTo>
                  <a:pt x="167" y="106"/>
                </a:lnTo>
                <a:lnTo>
                  <a:pt x="150" y="120"/>
                </a:lnTo>
                <a:lnTo>
                  <a:pt x="135" y="135"/>
                </a:lnTo>
                <a:lnTo>
                  <a:pt x="119" y="152"/>
                </a:lnTo>
                <a:lnTo>
                  <a:pt x="104" y="169"/>
                </a:lnTo>
                <a:lnTo>
                  <a:pt x="91" y="186"/>
                </a:lnTo>
                <a:lnTo>
                  <a:pt x="78" y="203"/>
                </a:lnTo>
                <a:lnTo>
                  <a:pt x="66" y="223"/>
                </a:lnTo>
                <a:lnTo>
                  <a:pt x="55" y="242"/>
                </a:lnTo>
                <a:lnTo>
                  <a:pt x="45" y="261"/>
                </a:lnTo>
                <a:lnTo>
                  <a:pt x="35" y="281"/>
                </a:lnTo>
                <a:lnTo>
                  <a:pt x="27" y="303"/>
                </a:lnTo>
                <a:lnTo>
                  <a:pt x="20" y="324"/>
                </a:lnTo>
                <a:lnTo>
                  <a:pt x="14" y="345"/>
                </a:lnTo>
                <a:lnTo>
                  <a:pt x="9" y="368"/>
                </a:lnTo>
                <a:lnTo>
                  <a:pt x="5" y="390"/>
                </a:lnTo>
                <a:lnTo>
                  <a:pt x="2" y="413"/>
                </a:lnTo>
                <a:lnTo>
                  <a:pt x="0" y="437"/>
                </a:lnTo>
                <a:lnTo>
                  <a:pt x="0" y="460"/>
                </a:lnTo>
                <a:lnTo>
                  <a:pt x="0" y="5052"/>
                </a:lnTo>
                <a:lnTo>
                  <a:pt x="0" y="5076"/>
                </a:lnTo>
                <a:lnTo>
                  <a:pt x="2" y="5099"/>
                </a:lnTo>
                <a:lnTo>
                  <a:pt x="5" y="5122"/>
                </a:lnTo>
                <a:lnTo>
                  <a:pt x="9" y="5144"/>
                </a:lnTo>
                <a:lnTo>
                  <a:pt x="14" y="5167"/>
                </a:lnTo>
                <a:lnTo>
                  <a:pt x="20" y="5189"/>
                </a:lnTo>
                <a:lnTo>
                  <a:pt x="27" y="5210"/>
                </a:lnTo>
                <a:lnTo>
                  <a:pt x="35" y="5230"/>
                </a:lnTo>
                <a:lnTo>
                  <a:pt x="45" y="5251"/>
                </a:lnTo>
                <a:lnTo>
                  <a:pt x="55" y="5271"/>
                </a:lnTo>
                <a:lnTo>
                  <a:pt x="66" y="5290"/>
                </a:lnTo>
                <a:lnTo>
                  <a:pt x="78" y="5309"/>
                </a:lnTo>
                <a:lnTo>
                  <a:pt x="91" y="5327"/>
                </a:lnTo>
                <a:lnTo>
                  <a:pt x="104" y="5344"/>
                </a:lnTo>
                <a:lnTo>
                  <a:pt x="119" y="5360"/>
                </a:lnTo>
                <a:lnTo>
                  <a:pt x="135" y="5377"/>
                </a:lnTo>
                <a:lnTo>
                  <a:pt x="150" y="5392"/>
                </a:lnTo>
                <a:lnTo>
                  <a:pt x="167" y="5406"/>
                </a:lnTo>
                <a:lnTo>
                  <a:pt x="184" y="5420"/>
                </a:lnTo>
                <a:lnTo>
                  <a:pt x="203" y="5433"/>
                </a:lnTo>
                <a:lnTo>
                  <a:pt x="221" y="5445"/>
                </a:lnTo>
                <a:lnTo>
                  <a:pt x="240" y="5456"/>
                </a:lnTo>
                <a:lnTo>
                  <a:pt x="260" y="5466"/>
                </a:lnTo>
                <a:lnTo>
                  <a:pt x="281" y="5475"/>
                </a:lnTo>
                <a:lnTo>
                  <a:pt x="301" y="5484"/>
                </a:lnTo>
                <a:lnTo>
                  <a:pt x="322" y="5491"/>
                </a:lnTo>
                <a:lnTo>
                  <a:pt x="345" y="5497"/>
                </a:lnTo>
                <a:lnTo>
                  <a:pt x="366" y="5502"/>
                </a:lnTo>
                <a:lnTo>
                  <a:pt x="389" y="5506"/>
                </a:lnTo>
                <a:lnTo>
                  <a:pt x="412" y="5509"/>
                </a:lnTo>
                <a:lnTo>
                  <a:pt x="435" y="5511"/>
                </a:lnTo>
                <a:lnTo>
                  <a:pt x="458" y="5511"/>
                </a:lnTo>
                <a:lnTo>
                  <a:pt x="2479" y="5511"/>
                </a:lnTo>
                <a:lnTo>
                  <a:pt x="2502" y="5511"/>
                </a:lnTo>
                <a:lnTo>
                  <a:pt x="2525" y="5509"/>
                </a:lnTo>
                <a:lnTo>
                  <a:pt x="2549" y="5506"/>
                </a:lnTo>
                <a:lnTo>
                  <a:pt x="2571" y="5502"/>
                </a:lnTo>
                <a:lnTo>
                  <a:pt x="2593" y="5497"/>
                </a:lnTo>
                <a:lnTo>
                  <a:pt x="2615" y="5491"/>
                </a:lnTo>
                <a:lnTo>
                  <a:pt x="2636" y="5484"/>
                </a:lnTo>
                <a:lnTo>
                  <a:pt x="2657" y="5475"/>
                </a:lnTo>
                <a:lnTo>
                  <a:pt x="2677" y="5466"/>
                </a:lnTo>
                <a:lnTo>
                  <a:pt x="2698" y="5456"/>
                </a:lnTo>
                <a:lnTo>
                  <a:pt x="2716" y="5445"/>
                </a:lnTo>
                <a:lnTo>
                  <a:pt x="2735" y="5433"/>
                </a:lnTo>
                <a:lnTo>
                  <a:pt x="2754" y="5420"/>
                </a:lnTo>
                <a:lnTo>
                  <a:pt x="2771" y="5406"/>
                </a:lnTo>
                <a:lnTo>
                  <a:pt x="2787" y="5392"/>
                </a:lnTo>
                <a:lnTo>
                  <a:pt x="2803" y="5377"/>
                </a:lnTo>
                <a:lnTo>
                  <a:pt x="2818" y="5360"/>
                </a:lnTo>
                <a:lnTo>
                  <a:pt x="2833" y="5344"/>
                </a:lnTo>
                <a:lnTo>
                  <a:pt x="2847" y="5327"/>
                </a:lnTo>
                <a:lnTo>
                  <a:pt x="2859" y="5309"/>
                </a:lnTo>
                <a:lnTo>
                  <a:pt x="2871" y="5290"/>
                </a:lnTo>
                <a:lnTo>
                  <a:pt x="2882" y="5271"/>
                </a:lnTo>
                <a:lnTo>
                  <a:pt x="2892" y="5251"/>
                </a:lnTo>
                <a:lnTo>
                  <a:pt x="2902" y="5230"/>
                </a:lnTo>
                <a:lnTo>
                  <a:pt x="2910" y="5210"/>
                </a:lnTo>
                <a:lnTo>
                  <a:pt x="2918" y="5189"/>
                </a:lnTo>
                <a:lnTo>
                  <a:pt x="2924" y="5167"/>
                </a:lnTo>
                <a:lnTo>
                  <a:pt x="2929" y="5144"/>
                </a:lnTo>
                <a:lnTo>
                  <a:pt x="2933" y="5122"/>
                </a:lnTo>
                <a:lnTo>
                  <a:pt x="2936" y="5099"/>
                </a:lnTo>
                <a:lnTo>
                  <a:pt x="2937" y="5076"/>
                </a:lnTo>
                <a:lnTo>
                  <a:pt x="2938" y="5052"/>
                </a:lnTo>
                <a:lnTo>
                  <a:pt x="2938" y="460"/>
                </a:lnTo>
                <a:lnTo>
                  <a:pt x="2937" y="437"/>
                </a:lnTo>
                <a:lnTo>
                  <a:pt x="2936" y="413"/>
                </a:lnTo>
                <a:lnTo>
                  <a:pt x="2933" y="390"/>
                </a:lnTo>
                <a:lnTo>
                  <a:pt x="2929" y="368"/>
                </a:lnTo>
                <a:lnTo>
                  <a:pt x="2924" y="345"/>
                </a:lnTo>
                <a:lnTo>
                  <a:pt x="2918" y="324"/>
                </a:lnTo>
                <a:lnTo>
                  <a:pt x="2910" y="303"/>
                </a:lnTo>
                <a:lnTo>
                  <a:pt x="2902" y="281"/>
                </a:lnTo>
                <a:lnTo>
                  <a:pt x="2892" y="261"/>
                </a:lnTo>
                <a:lnTo>
                  <a:pt x="2882" y="242"/>
                </a:lnTo>
                <a:lnTo>
                  <a:pt x="2871" y="223"/>
                </a:lnTo>
                <a:lnTo>
                  <a:pt x="2859" y="203"/>
                </a:lnTo>
                <a:lnTo>
                  <a:pt x="2847" y="186"/>
                </a:lnTo>
                <a:lnTo>
                  <a:pt x="2833" y="169"/>
                </a:lnTo>
                <a:lnTo>
                  <a:pt x="2818" y="152"/>
                </a:lnTo>
                <a:lnTo>
                  <a:pt x="2803" y="135"/>
                </a:lnTo>
                <a:lnTo>
                  <a:pt x="2787" y="120"/>
                </a:lnTo>
                <a:lnTo>
                  <a:pt x="2771" y="106"/>
                </a:lnTo>
                <a:lnTo>
                  <a:pt x="2754" y="93"/>
                </a:lnTo>
                <a:lnTo>
                  <a:pt x="2735" y="80"/>
                </a:lnTo>
                <a:lnTo>
                  <a:pt x="2716" y="67"/>
                </a:lnTo>
                <a:lnTo>
                  <a:pt x="2698" y="56"/>
                </a:lnTo>
                <a:lnTo>
                  <a:pt x="2677" y="46"/>
                </a:lnTo>
                <a:lnTo>
                  <a:pt x="2657" y="37"/>
                </a:lnTo>
                <a:lnTo>
                  <a:pt x="2636" y="29"/>
                </a:lnTo>
                <a:lnTo>
                  <a:pt x="2615" y="22"/>
                </a:lnTo>
                <a:lnTo>
                  <a:pt x="2593" y="16"/>
                </a:lnTo>
                <a:lnTo>
                  <a:pt x="2571" y="11"/>
                </a:lnTo>
                <a:lnTo>
                  <a:pt x="2549" y="7"/>
                </a:lnTo>
                <a:lnTo>
                  <a:pt x="2525" y="3"/>
                </a:lnTo>
                <a:lnTo>
                  <a:pt x="2502" y="1"/>
                </a:lnTo>
                <a:lnTo>
                  <a:pt x="2479" y="0"/>
                </a:lnTo>
                <a:close/>
                <a:moveTo>
                  <a:pt x="1194" y="369"/>
                </a:moveTo>
                <a:lnTo>
                  <a:pt x="1744" y="369"/>
                </a:lnTo>
                <a:lnTo>
                  <a:pt x="1753" y="369"/>
                </a:lnTo>
                <a:lnTo>
                  <a:pt x="1763" y="370"/>
                </a:lnTo>
                <a:lnTo>
                  <a:pt x="1772" y="373"/>
                </a:lnTo>
                <a:lnTo>
                  <a:pt x="1780" y="376"/>
                </a:lnTo>
                <a:lnTo>
                  <a:pt x="1788" y="379"/>
                </a:lnTo>
                <a:lnTo>
                  <a:pt x="1796" y="384"/>
                </a:lnTo>
                <a:lnTo>
                  <a:pt x="1803" y="389"/>
                </a:lnTo>
                <a:lnTo>
                  <a:pt x="1809" y="395"/>
                </a:lnTo>
                <a:lnTo>
                  <a:pt x="1815" y="401"/>
                </a:lnTo>
                <a:lnTo>
                  <a:pt x="1820" y="408"/>
                </a:lnTo>
                <a:lnTo>
                  <a:pt x="1825" y="416"/>
                </a:lnTo>
                <a:lnTo>
                  <a:pt x="1828" y="424"/>
                </a:lnTo>
                <a:lnTo>
                  <a:pt x="1833" y="433"/>
                </a:lnTo>
                <a:lnTo>
                  <a:pt x="1835" y="442"/>
                </a:lnTo>
                <a:lnTo>
                  <a:pt x="1836" y="451"/>
                </a:lnTo>
                <a:lnTo>
                  <a:pt x="1837" y="460"/>
                </a:lnTo>
                <a:lnTo>
                  <a:pt x="1836" y="469"/>
                </a:lnTo>
                <a:lnTo>
                  <a:pt x="1835" y="478"/>
                </a:lnTo>
                <a:lnTo>
                  <a:pt x="1833" y="487"/>
                </a:lnTo>
                <a:lnTo>
                  <a:pt x="1828" y="495"/>
                </a:lnTo>
                <a:lnTo>
                  <a:pt x="1825" y="504"/>
                </a:lnTo>
                <a:lnTo>
                  <a:pt x="1820" y="512"/>
                </a:lnTo>
                <a:lnTo>
                  <a:pt x="1815" y="519"/>
                </a:lnTo>
                <a:lnTo>
                  <a:pt x="1809" y="525"/>
                </a:lnTo>
                <a:lnTo>
                  <a:pt x="1803" y="531"/>
                </a:lnTo>
                <a:lnTo>
                  <a:pt x="1796" y="536"/>
                </a:lnTo>
                <a:lnTo>
                  <a:pt x="1788" y="541"/>
                </a:lnTo>
                <a:lnTo>
                  <a:pt x="1780" y="545"/>
                </a:lnTo>
                <a:lnTo>
                  <a:pt x="1772" y="548"/>
                </a:lnTo>
                <a:lnTo>
                  <a:pt x="1763" y="550"/>
                </a:lnTo>
                <a:lnTo>
                  <a:pt x="1753" y="551"/>
                </a:lnTo>
                <a:lnTo>
                  <a:pt x="1744" y="552"/>
                </a:lnTo>
                <a:lnTo>
                  <a:pt x="1194" y="552"/>
                </a:lnTo>
                <a:lnTo>
                  <a:pt x="1184" y="551"/>
                </a:lnTo>
                <a:lnTo>
                  <a:pt x="1175" y="550"/>
                </a:lnTo>
                <a:lnTo>
                  <a:pt x="1166" y="548"/>
                </a:lnTo>
                <a:lnTo>
                  <a:pt x="1158" y="545"/>
                </a:lnTo>
                <a:lnTo>
                  <a:pt x="1150" y="541"/>
                </a:lnTo>
                <a:lnTo>
                  <a:pt x="1142" y="536"/>
                </a:lnTo>
                <a:lnTo>
                  <a:pt x="1135" y="531"/>
                </a:lnTo>
                <a:lnTo>
                  <a:pt x="1129" y="525"/>
                </a:lnTo>
                <a:lnTo>
                  <a:pt x="1123" y="519"/>
                </a:lnTo>
                <a:lnTo>
                  <a:pt x="1117" y="512"/>
                </a:lnTo>
                <a:lnTo>
                  <a:pt x="1112" y="504"/>
                </a:lnTo>
                <a:lnTo>
                  <a:pt x="1108" y="495"/>
                </a:lnTo>
                <a:lnTo>
                  <a:pt x="1105" y="487"/>
                </a:lnTo>
                <a:lnTo>
                  <a:pt x="1103" y="478"/>
                </a:lnTo>
                <a:lnTo>
                  <a:pt x="1102" y="469"/>
                </a:lnTo>
                <a:lnTo>
                  <a:pt x="1101" y="460"/>
                </a:lnTo>
                <a:lnTo>
                  <a:pt x="1102" y="451"/>
                </a:lnTo>
                <a:lnTo>
                  <a:pt x="1103" y="442"/>
                </a:lnTo>
                <a:lnTo>
                  <a:pt x="1105" y="433"/>
                </a:lnTo>
                <a:lnTo>
                  <a:pt x="1108" y="424"/>
                </a:lnTo>
                <a:lnTo>
                  <a:pt x="1112" y="416"/>
                </a:lnTo>
                <a:lnTo>
                  <a:pt x="1117" y="408"/>
                </a:lnTo>
                <a:lnTo>
                  <a:pt x="1123" y="401"/>
                </a:lnTo>
                <a:lnTo>
                  <a:pt x="1129" y="395"/>
                </a:lnTo>
                <a:lnTo>
                  <a:pt x="1135" y="389"/>
                </a:lnTo>
                <a:lnTo>
                  <a:pt x="1142" y="384"/>
                </a:lnTo>
                <a:lnTo>
                  <a:pt x="1150" y="379"/>
                </a:lnTo>
                <a:lnTo>
                  <a:pt x="1158" y="376"/>
                </a:lnTo>
                <a:lnTo>
                  <a:pt x="1166" y="373"/>
                </a:lnTo>
                <a:lnTo>
                  <a:pt x="1175" y="370"/>
                </a:lnTo>
                <a:lnTo>
                  <a:pt x="1184" y="369"/>
                </a:lnTo>
                <a:lnTo>
                  <a:pt x="1194" y="369"/>
                </a:lnTo>
                <a:close/>
                <a:moveTo>
                  <a:pt x="1468" y="5328"/>
                </a:moveTo>
                <a:lnTo>
                  <a:pt x="1468" y="5328"/>
                </a:lnTo>
                <a:lnTo>
                  <a:pt x="1454" y="5328"/>
                </a:lnTo>
                <a:lnTo>
                  <a:pt x="1441" y="5327"/>
                </a:lnTo>
                <a:lnTo>
                  <a:pt x="1427" y="5325"/>
                </a:lnTo>
                <a:lnTo>
                  <a:pt x="1414" y="5322"/>
                </a:lnTo>
                <a:lnTo>
                  <a:pt x="1399" y="5319"/>
                </a:lnTo>
                <a:lnTo>
                  <a:pt x="1387" y="5316"/>
                </a:lnTo>
                <a:lnTo>
                  <a:pt x="1374" y="5312"/>
                </a:lnTo>
                <a:lnTo>
                  <a:pt x="1362" y="5307"/>
                </a:lnTo>
                <a:lnTo>
                  <a:pt x="1350" y="5300"/>
                </a:lnTo>
                <a:lnTo>
                  <a:pt x="1338" y="5294"/>
                </a:lnTo>
                <a:lnTo>
                  <a:pt x="1325" y="5288"/>
                </a:lnTo>
                <a:lnTo>
                  <a:pt x="1314" y="5281"/>
                </a:lnTo>
                <a:lnTo>
                  <a:pt x="1304" y="5273"/>
                </a:lnTo>
                <a:lnTo>
                  <a:pt x="1294" y="5265"/>
                </a:lnTo>
                <a:lnTo>
                  <a:pt x="1284" y="5257"/>
                </a:lnTo>
                <a:lnTo>
                  <a:pt x="1274" y="5248"/>
                </a:lnTo>
                <a:lnTo>
                  <a:pt x="1265" y="5238"/>
                </a:lnTo>
                <a:lnTo>
                  <a:pt x="1256" y="5227"/>
                </a:lnTo>
                <a:lnTo>
                  <a:pt x="1248" y="5217"/>
                </a:lnTo>
                <a:lnTo>
                  <a:pt x="1240" y="5206"/>
                </a:lnTo>
                <a:lnTo>
                  <a:pt x="1233" y="5195"/>
                </a:lnTo>
                <a:lnTo>
                  <a:pt x="1227" y="5184"/>
                </a:lnTo>
                <a:lnTo>
                  <a:pt x="1221" y="5172"/>
                </a:lnTo>
                <a:lnTo>
                  <a:pt x="1215" y="5159"/>
                </a:lnTo>
                <a:lnTo>
                  <a:pt x="1210" y="5147"/>
                </a:lnTo>
                <a:lnTo>
                  <a:pt x="1206" y="5134"/>
                </a:lnTo>
                <a:lnTo>
                  <a:pt x="1202" y="5121"/>
                </a:lnTo>
                <a:lnTo>
                  <a:pt x="1199" y="5108"/>
                </a:lnTo>
                <a:lnTo>
                  <a:pt x="1197" y="5095"/>
                </a:lnTo>
                <a:lnTo>
                  <a:pt x="1195" y="5080"/>
                </a:lnTo>
                <a:lnTo>
                  <a:pt x="1194" y="5066"/>
                </a:lnTo>
                <a:lnTo>
                  <a:pt x="1194" y="5052"/>
                </a:lnTo>
                <a:lnTo>
                  <a:pt x="1194" y="5038"/>
                </a:lnTo>
                <a:lnTo>
                  <a:pt x="1195" y="5025"/>
                </a:lnTo>
                <a:lnTo>
                  <a:pt x="1197" y="5010"/>
                </a:lnTo>
                <a:lnTo>
                  <a:pt x="1199" y="4997"/>
                </a:lnTo>
                <a:lnTo>
                  <a:pt x="1202" y="4983"/>
                </a:lnTo>
                <a:lnTo>
                  <a:pt x="1206" y="4970"/>
                </a:lnTo>
                <a:lnTo>
                  <a:pt x="1210" y="4958"/>
                </a:lnTo>
                <a:lnTo>
                  <a:pt x="1215" y="4945"/>
                </a:lnTo>
                <a:lnTo>
                  <a:pt x="1221" y="4932"/>
                </a:lnTo>
                <a:lnTo>
                  <a:pt x="1227" y="4921"/>
                </a:lnTo>
                <a:lnTo>
                  <a:pt x="1233" y="4909"/>
                </a:lnTo>
                <a:lnTo>
                  <a:pt x="1240" y="4898"/>
                </a:lnTo>
                <a:lnTo>
                  <a:pt x="1248" y="4888"/>
                </a:lnTo>
                <a:lnTo>
                  <a:pt x="1256" y="4876"/>
                </a:lnTo>
                <a:lnTo>
                  <a:pt x="1265" y="4867"/>
                </a:lnTo>
                <a:lnTo>
                  <a:pt x="1274" y="4857"/>
                </a:lnTo>
                <a:lnTo>
                  <a:pt x="1284" y="4848"/>
                </a:lnTo>
                <a:lnTo>
                  <a:pt x="1294" y="4840"/>
                </a:lnTo>
                <a:lnTo>
                  <a:pt x="1304" y="4832"/>
                </a:lnTo>
                <a:lnTo>
                  <a:pt x="1314" y="4824"/>
                </a:lnTo>
                <a:lnTo>
                  <a:pt x="1325" y="4817"/>
                </a:lnTo>
                <a:lnTo>
                  <a:pt x="1338" y="4810"/>
                </a:lnTo>
                <a:lnTo>
                  <a:pt x="1350" y="4803"/>
                </a:lnTo>
                <a:lnTo>
                  <a:pt x="1362" y="4798"/>
                </a:lnTo>
                <a:lnTo>
                  <a:pt x="1374" y="4793"/>
                </a:lnTo>
                <a:lnTo>
                  <a:pt x="1387" y="4789"/>
                </a:lnTo>
                <a:lnTo>
                  <a:pt x="1399" y="4785"/>
                </a:lnTo>
                <a:lnTo>
                  <a:pt x="1414" y="4782"/>
                </a:lnTo>
                <a:lnTo>
                  <a:pt x="1427" y="4780"/>
                </a:lnTo>
                <a:lnTo>
                  <a:pt x="1441" y="4778"/>
                </a:lnTo>
                <a:lnTo>
                  <a:pt x="1454" y="4777"/>
                </a:lnTo>
                <a:lnTo>
                  <a:pt x="1468" y="4777"/>
                </a:lnTo>
                <a:lnTo>
                  <a:pt x="1483" y="4777"/>
                </a:lnTo>
                <a:lnTo>
                  <a:pt x="1497" y="4778"/>
                </a:lnTo>
                <a:lnTo>
                  <a:pt x="1511" y="4780"/>
                </a:lnTo>
                <a:lnTo>
                  <a:pt x="1524" y="4782"/>
                </a:lnTo>
                <a:lnTo>
                  <a:pt x="1537" y="4785"/>
                </a:lnTo>
                <a:lnTo>
                  <a:pt x="1551" y="4789"/>
                </a:lnTo>
                <a:lnTo>
                  <a:pt x="1564" y="4793"/>
                </a:lnTo>
                <a:lnTo>
                  <a:pt x="1576" y="4798"/>
                </a:lnTo>
                <a:lnTo>
                  <a:pt x="1588" y="4803"/>
                </a:lnTo>
                <a:lnTo>
                  <a:pt x="1600" y="4810"/>
                </a:lnTo>
                <a:lnTo>
                  <a:pt x="1611" y="4817"/>
                </a:lnTo>
                <a:lnTo>
                  <a:pt x="1623" y="4824"/>
                </a:lnTo>
                <a:lnTo>
                  <a:pt x="1634" y="4832"/>
                </a:lnTo>
                <a:lnTo>
                  <a:pt x="1644" y="4840"/>
                </a:lnTo>
                <a:lnTo>
                  <a:pt x="1654" y="4848"/>
                </a:lnTo>
                <a:lnTo>
                  <a:pt x="1664" y="4857"/>
                </a:lnTo>
                <a:lnTo>
                  <a:pt x="1673" y="4867"/>
                </a:lnTo>
                <a:lnTo>
                  <a:pt x="1681" y="4876"/>
                </a:lnTo>
                <a:lnTo>
                  <a:pt x="1690" y="4888"/>
                </a:lnTo>
                <a:lnTo>
                  <a:pt x="1698" y="4898"/>
                </a:lnTo>
                <a:lnTo>
                  <a:pt x="1705" y="4909"/>
                </a:lnTo>
                <a:lnTo>
                  <a:pt x="1711" y="4921"/>
                </a:lnTo>
                <a:lnTo>
                  <a:pt x="1717" y="4932"/>
                </a:lnTo>
                <a:lnTo>
                  <a:pt x="1723" y="4945"/>
                </a:lnTo>
                <a:lnTo>
                  <a:pt x="1728" y="4958"/>
                </a:lnTo>
                <a:lnTo>
                  <a:pt x="1732" y="4970"/>
                </a:lnTo>
                <a:lnTo>
                  <a:pt x="1736" y="4983"/>
                </a:lnTo>
                <a:lnTo>
                  <a:pt x="1739" y="4997"/>
                </a:lnTo>
                <a:lnTo>
                  <a:pt x="1741" y="5010"/>
                </a:lnTo>
                <a:lnTo>
                  <a:pt x="1743" y="5025"/>
                </a:lnTo>
                <a:lnTo>
                  <a:pt x="1744" y="5038"/>
                </a:lnTo>
                <a:lnTo>
                  <a:pt x="1744" y="5052"/>
                </a:lnTo>
                <a:lnTo>
                  <a:pt x="1744" y="5066"/>
                </a:lnTo>
                <a:lnTo>
                  <a:pt x="1743" y="5080"/>
                </a:lnTo>
                <a:lnTo>
                  <a:pt x="1741" y="5095"/>
                </a:lnTo>
                <a:lnTo>
                  <a:pt x="1739" y="5108"/>
                </a:lnTo>
                <a:lnTo>
                  <a:pt x="1736" y="5121"/>
                </a:lnTo>
                <a:lnTo>
                  <a:pt x="1732" y="5134"/>
                </a:lnTo>
                <a:lnTo>
                  <a:pt x="1728" y="5147"/>
                </a:lnTo>
                <a:lnTo>
                  <a:pt x="1723" y="5159"/>
                </a:lnTo>
                <a:lnTo>
                  <a:pt x="1717" y="5172"/>
                </a:lnTo>
                <a:lnTo>
                  <a:pt x="1711" y="5184"/>
                </a:lnTo>
                <a:lnTo>
                  <a:pt x="1705" y="5195"/>
                </a:lnTo>
                <a:lnTo>
                  <a:pt x="1698" y="5206"/>
                </a:lnTo>
                <a:lnTo>
                  <a:pt x="1690" y="5217"/>
                </a:lnTo>
                <a:lnTo>
                  <a:pt x="1681" y="5227"/>
                </a:lnTo>
                <a:lnTo>
                  <a:pt x="1673" y="5238"/>
                </a:lnTo>
                <a:lnTo>
                  <a:pt x="1664" y="5248"/>
                </a:lnTo>
                <a:lnTo>
                  <a:pt x="1654" y="5257"/>
                </a:lnTo>
                <a:lnTo>
                  <a:pt x="1644" y="5265"/>
                </a:lnTo>
                <a:lnTo>
                  <a:pt x="1634" y="5273"/>
                </a:lnTo>
                <a:lnTo>
                  <a:pt x="1623" y="5281"/>
                </a:lnTo>
                <a:lnTo>
                  <a:pt x="1611" y="5288"/>
                </a:lnTo>
                <a:lnTo>
                  <a:pt x="1600" y="5294"/>
                </a:lnTo>
                <a:lnTo>
                  <a:pt x="1588" y="5300"/>
                </a:lnTo>
                <a:lnTo>
                  <a:pt x="1576" y="5307"/>
                </a:lnTo>
                <a:lnTo>
                  <a:pt x="1564" y="5312"/>
                </a:lnTo>
                <a:lnTo>
                  <a:pt x="1551" y="5316"/>
                </a:lnTo>
                <a:lnTo>
                  <a:pt x="1537" y="5319"/>
                </a:lnTo>
                <a:lnTo>
                  <a:pt x="1524" y="5322"/>
                </a:lnTo>
                <a:lnTo>
                  <a:pt x="1511" y="5325"/>
                </a:lnTo>
                <a:lnTo>
                  <a:pt x="1497" y="5327"/>
                </a:lnTo>
                <a:lnTo>
                  <a:pt x="1483" y="5328"/>
                </a:lnTo>
                <a:lnTo>
                  <a:pt x="1468" y="5328"/>
                </a:lnTo>
                <a:close/>
                <a:moveTo>
                  <a:pt x="2755" y="4593"/>
                </a:moveTo>
                <a:lnTo>
                  <a:pt x="183" y="4593"/>
                </a:lnTo>
                <a:lnTo>
                  <a:pt x="183" y="919"/>
                </a:lnTo>
                <a:lnTo>
                  <a:pt x="2755" y="919"/>
                </a:lnTo>
                <a:lnTo>
                  <a:pt x="2755" y="459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KSO_Shape"/>
          <p:cNvSpPr/>
          <p:nvPr/>
        </p:nvSpPr>
        <p:spPr>
          <a:xfrm>
            <a:off x="6135840" y="3730680"/>
            <a:ext cx="414360" cy="307800"/>
          </a:xfrm>
          <a:custGeom>
            <a:avLst/>
            <a:gdLst>
              <a:gd name="textAreaLeft" fmla="*/ 0 w 414360"/>
              <a:gd name="textAreaRight" fmla="*/ 414720 w 414360"/>
              <a:gd name="textAreaTop" fmla="*/ 0 h 307800"/>
              <a:gd name="textAreaBottom" fmla="*/ 308160 h 30780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68400" rIns="68400" tIns="-231840" bIns="273960" anchor="ctr">
            <a:noAutofit/>
          </a:bodyPr>
          <a:p>
            <a:endParaRPr b="0" lang="en-US" sz="1800" spc="-1" strike="noStrike">
              <a:solidFill>
                <a:srgbClr val="000000"/>
              </a:solidFill>
              <a:latin typeface="Arial"/>
            </a:endParaRPr>
          </a:p>
        </p:txBody>
      </p:sp>
      <p:sp>
        <p:nvSpPr>
          <p:cNvPr id="575" name="TextBox 15"/>
          <p:cNvSpPr/>
          <p:nvPr/>
        </p:nvSpPr>
        <p:spPr>
          <a:xfrm>
            <a:off x="8091360" y="127620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576" name="TextBox 4"/>
          <p:cNvSpPr/>
          <p:nvPr/>
        </p:nvSpPr>
        <p:spPr>
          <a:xfrm>
            <a:off x="8182080" y="77616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Franklin Gothic Book"/>
                <a:ea typeface="微软雅黑"/>
              </a:rPr>
              <a:t>点击添加标题</a:t>
            </a:r>
            <a:endParaRPr b="0" lang="en-US" sz="2000" spc="-1" strike="noStrike">
              <a:solidFill>
                <a:srgbClr val="000000"/>
              </a:solidFill>
              <a:latin typeface="Arial"/>
            </a:endParaRPr>
          </a:p>
        </p:txBody>
      </p:sp>
      <p:sp>
        <p:nvSpPr>
          <p:cNvPr id="577" name="TextBox 15"/>
          <p:cNvSpPr/>
          <p:nvPr/>
        </p:nvSpPr>
        <p:spPr>
          <a:xfrm>
            <a:off x="2085840" y="405288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578" name="TextBox 4"/>
          <p:cNvSpPr/>
          <p:nvPr/>
        </p:nvSpPr>
        <p:spPr>
          <a:xfrm>
            <a:off x="2176560" y="355428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Franklin Gothic Book"/>
                <a:ea typeface="微软雅黑"/>
              </a:rPr>
              <a:t>点击添加标题</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矩形 3"/>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5"/>
          <p:cNvSpPr/>
          <p:nvPr/>
        </p:nvSpPr>
        <p:spPr>
          <a:xfrm>
            <a:off x="0" y="2622600"/>
            <a:ext cx="1219212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文本框 4"/>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1</a:t>
            </a:r>
            <a:endParaRPr b="0" lang="en-US" sz="13800" spc="-1" strike="noStrike">
              <a:solidFill>
                <a:srgbClr val="000000"/>
              </a:solidFill>
              <a:latin typeface="Arial"/>
            </a:endParaRPr>
          </a:p>
        </p:txBody>
      </p:sp>
      <p:sp>
        <p:nvSpPr>
          <p:cNvPr id="75" name="矩形 5"/>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76" name="矩形 3"/>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679400" y="1762200"/>
            <a:ext cx="4073760" cy="3168720"/>
          </a:xfrm>
          <a:custGeom>
            <a:avLst/>
            <a:gdLst>
              <a:gd name="textAreaLeft" fmla="*/ 0 w 4073760"/>
              <a:gd name="textAreaRight" fmla="*/ 4074120 w 4073760"/>
              <a:gd name="textAreaTop" fmla="*/ 0 h 3168720"/>
              <a:gd name="textAreaBottom" fmla="*/ 3169080 h 3168720"/>
            </a:gdLst>
            <a:ahLst/>
            <a:rect l="textAreaLeft" t="textAreaTop" r="textAreaRight" b="textAreaBottom"/>
            <a:pathLst>
              <a:path w="200" h="144">
                <a:moveTo>
                  <a:pt x="188" y="144"/>
                </a:moveTo>
                <a:cubicBezTo>
                  <a:pt x="182" y="144"/>
                  <a:pt x="176" y="139"/>
                  <a:pt x="176" y="134"/>
                </a:cubicBezTo>
                <a:cubicBezTo>
                  <a:pt x="176" y="10"/>
                  <a:pt x="176" y="10"/>
                  <a:pt x="176" y="10"/>
                </a:cubicBezTo>
                <a:cubicBezTo>
                  <a:pt x="176" y="5"/>
                  <a:pt x="182" y="0"/>
                  <a:pt x="188" y="0"/>
                </a:cubicBezTo>
                <a:cubicBezTo>
                  <a:pt x="194" y="0"/>
                  <a:pt x="200" y="5"/>
                  <a:pt x="200" y="10"/>
                </a:cubicBezTo>
                <a:cubicBezTo>
                  <a:pt x="200" y="134"/>
                  <a:pt x="200" y="134"/>
                  <a:pt x="200" y="134"/>
                </a:cubicBezTo>
                <a:cubicBezTo>
                  <a:pt x="200" y="139"/>
                  <a:pt x="194" y="144"/>
                  <a:pt x="188" y="144"/>
                </a:cubicBezTo>
                <a:close/>
                <a:moveTo>
                  <a:pt x="137" y="130"/>
                </a:moveTo>
                <a:cubicBezTo>
                  <a:pt x="137" y="138"/>
                  <a:pt x="131" y="144"/>
                  <a:pt x="123" y="144"/>
                </a:cubicBezTo>
                <a:cubicBezTo>
                  <a:pt x="61" y="144"/>
                  <a:pt x="61" y="144"/>
                  <a:pt x="61" y="144"/>
                </a:cubicBezTo>
                <a:cubicBezTo>
                  <a:pt x="54" y="144"/>
                  <a:pt x="48" y="138"/>
                  <a:pt x="48" y="130"/>
                </a:cubicBezTo>
                <a:cubicBezTo>
                  <a:pt x="48" y="103"/>
                  <a:pt x="48" y="103"/>
                  <a:pt x="48" y="103"/>
                </a:cubicBezTo>
                <a:cubicBezTo>
                  <a:pt x="20" y="97"/>
                  <a:pt x="20" y="97"/>
                  <a:pt x="20" y="97"/>
                </a:cubicBezTo>
                <a:cubicBezTo>
                  <a:pt x="20" y="47"/>
                  <a:pt x="20" y="47"/>
                  <a:pt x="20" y="47"/>
                </a:cubicBezTo>
                <a:cubicBezTo>
                  <a:pt x="172" y="14"/>
                  <a:pt x="172" y="14"/>
                  <a:pt x="172" y="14"/>
                </a:cubicBezTo>
                <a:cubicBezTo>
                  <a:pt x="172" y="131"/>
                  <a:pt x="172" y="131"/>
                  <a:pt x="172" y="131"/>
                </a:cubicBezTo>
                <a:cubicBezTo>
                  <a:pt x="137" y="123"/>
                  <a:pt x="137" y="123"/>
                  <a:pt x="137" y="123"/>
                </a:cubicBezTo>
                <a:lnTo>
                  <a:pt x="137" y="130"/>
                </a:lnTo>
                <a:close/>
                <a:moveTo>
                  <a:pt x="128" y="121"/>
                </a:moveTo>
                <a:cubicBezTo>
                  <a:pt x="56" y="105"/>
                  <a:pt x="56" y="105"/>
                  <a:pt x="56" y="105"/>
                </a:cubicBezTo>
                <a:cubicBezTo>
                  <a:pt x="56" y="129"/>
                  <a:pt x="56" y="129"/>
                  <a:pt x="56" y="129"/>
                </a:cubicBezTo>
                <a:cubicBezTo>
                  <a:pt x="56" y="133"/>
                  <a:pt x="61" y="136"/>
                  <a:pt x="64" y="136"/>
                </a:cubicBezTo>
                <a:cubicBezTo>
                  <a:pt x="121" y="136"/>
                  <a:pt x="121" y="136"/>
                  <a:pt x="121" y="136"/>
                </a:cubicBezTo>
                <a:cubicBezTo>
                  <a:pt x="125" y="136"/>
                  <a:pt x="128" y="133"/>
                  <a:pt x="128" y="129"/>
                </a:cubicBezTo>
                <a:lnTo>
                  <a:pt x="128" y="121"/>
                </a:lnTo>
                <a:close/>
                <a:moveTo>
                  <a:pt x="7" y="103"/>
                </a:moveTo>
                <a:cubicBezTo>
                  <a:pt x="3" y="103"/>
                  <a:pt x="0" y="100"/>
                  <a:pt x="0" y="96"/>
                </a:cubicBezTo>
                <a:cubicBezTo>
                  <a:pt x="0" y="48"/>
                  <a:pt x="0" y="48"/>
                  <a:pt x="0" y="48"/>
                </a:cubicBezTo>
                <a:cubicBezTo>
                  <a:pt x="0" y="44"/>
                  <a:pt x="3" y="41"/>
                  <a:pt x="7" y="41"/>
                </a:cubicBezTo>
                <a:cubicBezTo>
                  <a:pt x="10" y="41"/>
                  <a:pt x="15" y="44"/>
                  <a:pt x="15" y="48"/>
                </a:cubicBezTo>
                <a:cubicBezTo>
                  <a:pt x="15" y="96"/>
                  <a:pt x="15" y="96"/>
                  <a:pt x="15" y="96"/>
                </a:cubicBezTo>
                <a:cubicBezTo>
                  <a:pt x="15" y="100"/>
                  <a:pt x="10" y="103"/>
                  <a:pt x="7" y="103"/>
                </a:cubicBezTo>
                <a:close/>
              </a:path>
            </a:pathLst>
          </a:custGeom>
          <a:solidFill>
            <a:srgbClr val="ff4664"/>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2"/>
          <p:cNvSpPr/>
          <p:nvPr/>
        </p:nvSpPr>
        <p:spPr>
          <a:xfrm flipV="1">
            <a:off x="5764320" y="1639440"/>
            <a:ext cx="1109520" cy="1081080"/>
          </a:xfrm>
          <a:prstGeom prst="line">
            <a:avLst/>
          </a:prstGeom>
          <a:ln w="19080">
            <a:solidFill>
              <a:srgbClr val="081d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3"/>
          <p:cNvSpPr/>
          <p:nvPr/>
        </p:nvSpPr>
        <p:spPr>
          <a:xfrm>
            <a:off x="5764320" y="4114800"/>
            <a:ext cx="1109520" cy="939960"/>
          </a:xfrm>
          <a:prstGeom prst="line">
            <a:avLst/>
          </a:prstGeom>
          <a:ln w="19080">
            <a:solidFill>
              <a:srgbClr val="081d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4"/>
          <p:cNvSpPr/>
          <p:nvPr/>
        </p:nvSpPr>
        <p:spPr>
          <a:xfrm>
            <a:off x="5753160" y="3346560"/>
            <a:ext cx="1120680" cy="1440"/>
          </a:xfrm>
          <a:prstGeom prst="line">
            <a:avLst/>
          </a:prstGeom>
          <a:ln w="19080">
            <a:solidFill>
              <a:srgbClr val="081d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89" name="组合 5"/>
          <p:cNvGrpSpPr/>
          <p:nvPr/>
        </p:nvGrpSpPr>
        <p:grpSpPr>
          <a:xfrm>
            <a:off x="6873840" y="4483080"/>
            <a:ext cx="1139760" cy="1141560"/>
            <a:chOff x="6873840" y="4483080"/>
            <a:chExt cx="1139760" cy="1141560"/>
          </a:xfrm>
        </p:grpSpPr>
        <p:sp>
          <p:nvSpPr>
            <p:cNvPr id="90" name="椭圆 6"/>
            <p:cNvSpPr/>
            <p:nvPr/>
          </p:nvSpPr>
          <p:spPr>
            <a:xfrm>
              <a:off x="6873840" y="4483080"/>
              <a:ext cx="1139760" cy="114156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
            <p:cNvSpPr/>
            <p:nvPr/>
          </p:nvSpPr>
          <p:spPr>
            <a:xfrm>
              <a:off x="7084080" y="4693680"/>
              <a:ext cx="719280" cy="720360"/>
            </a:xfrm>
            <a:custGeom>
              <a:avLst/>
              <a:gdLst>
                <a:gd name="textAreaLeft" fmla="*/ 0 w 719280"/>
                <a:gd name="textAreaRight" fmla="*/ 719640 w 719280"/>
                <a:gd name="textAreaTop" fmla="*/ 0 h 720360"/>
                <a:gd name="textAreaBottom" fmla="*/ 720720 h 72036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组合 8"/>
          <p:cNvGrpSpPr/>
          <p:nvPr/>
        </p:nvGrpSpPr>
        <p:grpSpPr>
          <a:xfrm>
            <a:off x="6873840" y="2776680"/>
            <a:ext cx="1139760" cy="1141200"/>
            <a:chOff x="6873840" y="2776680"/>
            <a:chExt cx="1139760" cy="1141200"/>
          </a:xfrm>
        </p:grpSpPr>
        <p:sp>
          <p:nvSpPr>
            <p:cNvPr id="93" name="椭圆 9"/>
            <p:cNvSpPr/>
            <p:nvPr/>
          </p:nvSpPr>
          <p:spPr>
            <a:xfrm>
              <a:off x="6873840" y="2776680"/>
              <a:ext cx="1139760" cy="11412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9"/>
            <p:cNvSpPr/>
            <p:nvPr/>
          </p:nvSpPr>
          <p:spPr>
            <a:xfrm>
              <a:off x="7082280" y="2983680"/>
              <a:ext cx="722880" cy="727200"/>
            </a:xfrm>
            <a:custGeom>
              <a:avLst/>
              <a:gdLst>
                <a:gd name="textAreaLeft" fmla="*/ 0 w 722880"/>
                <a:gd name="textAreaRight" fmla="*/ 723240 w 722880"/>
                <a:gd name="textAreaTop" fmla="*/ 0 h 727200"/>
                <a:gd name="textAreaBottom" fmla="*/ 727560 h 7272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组合 11"/>
          <p:cNvGrpSpPr/>
          <p:nvPr/>
        </p:nvGrpSpPr>
        <p:grpSpPr>
          <a:xfrm>
            <a:off x="6873840" y="1068480"/>
            <a:ext cx="1139760" cy="1141200"/>
            <a:chOff x="6873840" y="1068480"/>
            <a:chExt cx="1139760" cy="1141200"/>
          </a:xfrm>
        </p:grpSpPr>
        <p:sp>
          <p:nvSpPr>
            <p:cNvPr id="96" name="椭圆 12"/>
            <p:cNvSpPr/>
            <p:nvPr/>
          </p:nvSpPr>
          <p:spPr>
            <a:xfrm>
              <a:off x="6873840" y="1068480"/>
              <a:ext cx="1139760" cy="11412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3"/>
            <p:cNvSpPr/>
            <p:nvPr/>
          </p:nvSpPr>
          <p:spPr>
            <a:xfrm>
              <a:off x="7080480" y="1276200"/>
              <a:ext cx="726120" cy="725400"/>
            </a:xfrm>
            <a:custGeom>
              <a:avLst/>
              <a:gdLst>
                <a:gd name="textAreaLeft" fmla="*/ 0 w 726120"/>
                <a:gd name="textAreaRight" fmla="*/ 726480 w 726120"/>
                <a:gd name="textAreaTop" fmla="*/ 0 h 725400"/>
                <a:gd name="textAreaBottom" fmla="*/ 725760 h 72540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标题 1"/>
          <p:cNvSpPr/>
          <p:nvPr/>
        </p:nvSpPr>
        <p:spPr>
          <a:xfrm>
            <a:off x="8221680" y="152712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99" name="矩形 21"/>
          <p:cNvSpPr/>
          <p:nvPr/>
        </p:nvSpPr>
        <p:spPr>
          <a:xfrm>
            <a:off x="8411040" y="108576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100" name="标题 1"/>
          <p:cNvSpPr/>
          <p:nvPr/>
        </p:nvSpPr>
        <p:spPr>
          <a:xfrm>
            <a:off x="8221680" y="326556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1" name="矩形 23"/>
          <p:cNvSpPr/>
          <p:nvPr/>
        </p:nvSpPr>
        <p:spPr>
          <a:xfrm>
            <a:off x="8411040" y="282240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102" name="标题 1"/>
          <p:cNvSpPr/>
          <p:nvPr/>
        </p:nvSpPr>
        <p:spPr>
          <a:xfrm>
            <a:off x="8221680" y="493092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3" name="矩形 25"/>
          <p:cNvSpPr/>
          <p:nvPr/>
        </p:nvSpPr>
        <p:spPr>
          <a:xfrm>
            <a:off x="8411040" y="448956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10">
                                  <p:stCondLst>
                                    <p:cond delay="0"/>
                                  </p:stCondLst>
                                  <p:childTnLst>
                                    <p:set>
                                      <p:cBhvr>
                                        <p:cTn id="19" dur="1" fill="hold">
                                          <p:stCondLst>
                                            <p:cond delay="0"/>
                                          </p:stCondLst>
                                        </p:cTn>
                                        <p:tgtEl>
                                          <p:spTgt spid="85"/>
                                        </p:tgtEl>
                                        <p:attrNameLst>
                                          <p:attrName>style.visibility</p:attrName>
                                        </p:attrNameLst>
                                      </p:cBhvr>
                                      <p:to>
                                        <p:strVal val="visible"/>
                                      </p:to>
                                    </p:set>
                                    <p:animEffect filter="wipe(up)" transition="in">
                                      <p:cBhvr additive="repl">
                                        <p:cTn id="20" dur="500"/>
                                        <p:tgtEl>
                                          <p:spTgt spid="85"/>
                                        </p:tgtEl>
                                      </p:cBhvr>
                                    </p:animEffect>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86"/>
                                        </p:tgtEl>
                                        <p:attrNameLst>
                                          <p:attrName>style.visibility</p:attrName>
                                        </p:attrNameLst>
                                      </p:cBhvr>
                                      <p:to>
                                        <p:strVal val="visible"/>
                                      </p:to>
                                    </p:set>
                                    <p:animEffect filter="wipe(up)" transition="in">
                                      <p:cBhvr additive="repl">
                                        <p:cTn id="24" dur="500"/>
                                        <p:tgtEl>
                                          <p:spTgt spid="86"/>
                                        </p:tgtEl>
                                      </p:cBhvr>
                                    </p:animEffect>
                                  </p:childTnLst>
                                </p:cTn>
                              </p:par>
                              <p:par>
                                <p:cTn id="25" nodeType="withEffect" fill="hold" presetClass="entr" presetID="22" presetSubtype="8">
                                  <p:stCondLst>
                                    <p:cond delay="0"/>
                                  </p:stCondLst>
                                  <p:childTnLst>
                                    <p:set>
                                      <p:cBhvr>
                                        <p:cTn id="26" dur="1" fill="hold">
                                          <p:stCondLst>
                                            <p:cond delay="0"/>
                                          </p:stCondLst>
                                        </p:cTn>
                                        <p:tgtEl>
                                          <p:spTgt spid="88"/>
                                        </p:tgtEl>
                                        <p:attrNameLst>
                                          <p:attrName>style.visibility</p:attrName>
                                        </p:attrNameLst>
                                      </p:cBhvr>
                                      <p:to>
                                        <p:strVal val="visible"/>
                                      </p:to>
                                    </p:set>
                                    <p:animEffect filter="wipe(up)" transition="in">
                                      <p:cBhvr additive="repl">
                                        <p:cTn id="27" dur="500"/>
                                        <p:tgtEl>
                                          <p:spTgt spid="88"/>
                                        </p:tgtEl>
                                      </p:cBhvr>
                                    </p:animEffect>
                                  </p:childTnLst>
                                </p:cTn>
                              </p:par>
                              <p:par>
                                <p:cTn id="28" nodeType="withEffect" fill="hold" presetClass="entr" presetID="22" presetSubtype="8">
                                  <p:stCondLst>
                                    <p:cond delay="0"/>
                                  </p:stCondLst>
                                  <p:childTnLst>
                                    <p:set>
                                      <p:cBhvr>
                                        <p:cTn id="29" dur="1" fill="hold">
                                          <p:stCondLst>
                                            <p:cond delay="0"/>
                                          </p:stCondLst>
                                        </p:cTn>
                                        <p:tgtEl>
                                          <p:spTgt spid="87"/>
                                        </p:tgtEl>
                                        <p:attrNameLst>
                                          <p:attrName>style.visibility</p:attrName>
                                        </p:attrNameLst>
                                      </p:cBhvr>
                                      <p:to>
                                        <p:strVal val="visible"/>
                                      </p:to>
                                    </p:set>
                                    <p:animEffect filter="wipe(up)" transition="in">
                                      <p:cBhvr additive="repl">
                                        <p:cTn id="30" dur="500"/>
                                        <p:tgtEl>
                                          <p:spTgt spid="87"/>
                                        </p:tgtEl>
                                      </p:cBhvr>
                                    </p:animEffect>
                                  </p:childTnLst>
                                </p:cTn>
                              </p:par>
                            </p:childTnLst>
                          </p:cTn>
                        </p:par>
                        <p:par>
                          <p:cTn id="31" nodeType="afterEffect"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95"/>
                                        </p:tgtEl>
                                        <p:attrNameLst>
                                          <p:attrName>style.visibility</p:attrName>
                                        </p:attrNameLst>
                                      </p:cBhvr>
                                      <p:to>
                                        <p:strVal val="visible"/>
                                      </p:to>
                                    </p:set>
                                    <p:animEffect filter="wipe(up)" transition="in">
                                      <p:cBhvr additive="repl">
                                        <p:cTn id="34" dur="500"/>
                                        <p:tgtEl>
                                          <p:spTgt spid="95"/>
                                        </p:tgtEl>
                                      </p:cBhvr>
                                    </p:animEffect>
                                  </p:childTnLst>
                                </p:cTn>
                              </p:par>
                              <p:par>
                                <p:cTn id="35" nodeType="withEffect" fill="hold" presetClass="entr" presetID="6" presetSubtype="32">
                                  <p:stCondLst>
                                    <p:cond delay="0"/>
                                  </p:stCondLst>
                                  <p:childTnLst>
                                    <p:set>
                                      <p:cBhvr>
                                        <p:cTn id="36" dur="1" fill="hold">
                                          <p:stCondLst>
                                            <p:cond delay="0"/>
                                          </p:stCondLst>
                                        </p:cTn>
                                        <p:tgtEl>
                                          <p:spTgt spid="92"/>
                                        </p:tgtEl>
                                        <p:attrNameLst>
                                          <p:attrName>style.visibility</p:attrName>
                                        </p:attrNameLst>
                                      </p:cBhvr>
                                      <p:to>
                                        <p:strVal val="visible"/>
                                      </p:to>
                                    </p:set>
                                    <p:animEffect filter="wipe(up)" transition="in">
                                      <p:cBhvr additive="repl">
                                        <p:cTn id="37" dur="500"/>
                                        <p:tgtEl>
                                          <p:spTgt spid="92"/>
                                        </p:tgtEl>
                                      </p:cBhvr>
                                    </p:animEffect>
                                  </p:childTnLst>
                                </p:cTn>
                              </p:par>
                              <p:par>
                                <p:cTn id="38" nodeType="withEffect" fill="hold" presetClass="entr" presetID="6" presetSubtype="32">
                                  <p:stCondLst>
                                    <p:cond delay="0"/>
                                  </p:stCondLst>
                                  <p:childTnLst>
                                    <p:set>
                                      <p:cBhvr>
                                        <p:cTn id="39" dur="1" fill="hold">
                                          <p:stCondLst>
                                            <p:cond delay="0"/>
                                          </p:stCondLst>
                                        </p:cTn>
                                        <p:tgtEl>
                                          <p:spTgt spid="89"/>
                                        </p:tgtEl>
                                        <p:attrNameLst>
                                          <p:attrName>style.visibility</p:attrName>
                                        </p:attrNameLst>
                                      </p:cBhvr>
                                      <p:to>
                                        <p:strVal val="visible"/>
                                      </p:to>
                                    </p:set>
                                    <p:animEffect filter="wipe(up)" transition="in">
                                      <p:cBhvr additive="repl">
                                        <p:cTn id="4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环形箭头 1"/>
          <p:cNvSpPr/>
          <p:nvPr/>
        </p:nvSpPr>
        <p:spPr>
          <a:xfrm>
            <a:off x="6040440" y="2513160"/>
            <a:ext cx="3814920" cy="3814560"/>
          </a:xfrm>
          <a:custGeom>
            <a:avLst/>
            <a:gdLst>
              <a:gd name="textAreaLeft" fmla="*/ 558360 w 3814920"/>
              <a:gd name="textAreaRight" fmla="*/ 3256560 w 3814920"/>
              <a:gd name="textAreaTop" fmla="*/ 558360 h 3814560"/>
              <a:gd name="textAreaBottom" fmla="*/ 3256200 h 3814560"/>
            </a:gdLst>
            <a:ahLst/>
            <a:rect l="textAreaLeft" t="textAreaTop" r="textAreaRight" b="textAreaBottom"/>
            <a:pathLst>
              <a:path w="21600" h="21600">
                <a:moveTo>
                  <a:pt x="18037" y="17390"/>
                </a:moveTo>
                <a:cubicBezTo>
                  <a:pt x="19678" y="15587"/>
                  <a:pt x="20588" y="13237"/>
                  <a:pt x="20588" y="10800"/>
                </a:cubicBezTo>
                <a:cubicBezTo>
                  <a:pt x="20588" y="5394"/>
                  <a:pt x="16205" y="1012"/>
                  <a:pt x="10800" y="1012"/>
                </a:cubicBezTo>
                <a:cubicBezTo>
                  <a:pt x="10431" y="1011"/>
                  <a:pt x="10064" y="1032"/>
                  <a:pt x="9698" y="1074"/>
                </a:cubicBezTo>
                <a:lnTo>
                  <a:pt x="9584" y="68"/>
                </a:lnTo>
                <a:cubicBezTo>
                  <a:pt x="9988" y="22"/>
                  <a:pt x="10393" y="0"/>
                  <a:pt x="10799" y="0"/>
                </a:cubicBezTo>
                <a:cubicBezTo>
                  <a:pt x="16764" y="0"/>
                  <a:pt x="21600" y="4835"/>
                  <a:pt x="21600" y="10800"/>
                </a:cubicBezTo>
                <a:cubicBezTo>
                  <a:pt x="21600" y="13489"/>
                  <a:pt x="20596" y="16082"/>
                  <a:pt x="18785" y="18071"/>
                </a:cubicBezTo>
                <a:lnTo>
                  <a:pt x="20781" y="19889"/>
                </a:lnTo>
                <a:lnTo>
                  <a:pt x="16253" y="20101"/>
                </a:lnTo>
                <a:lnTo>
                  <a:pt x="16040" y="15572"/>
                </a:lnTo>
                <a:lnTo>
                  <a:pt x="18037" y="17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形状 2"/>
          <p:cNvSpPr/>
          <p:nvPr/>
        </p:nvSpPr>
        <p:spPr>
          <a:xfrm>
            <a:off x="4138560" y="1781280"/>
            <a:ext cx="2772000" cy="2771640"/>
          </a:xfrm>
          <a:custGeom>
            <a:avLst/>
            <a:gdLst>
              <a:gd name="textAreaLeft" fmla="*/ 405720 w 2772000"/>
              <a:gd name="textAreaRight" fmla="*/ 2366280 w 2772000"/>
              <a:gd name="textAreaTop" fmla="*/ 405720 h 2771640"/>
              <a:gd name="textAreaBottom" fmla="*/ 2365920 h 2771640"/>
            </a:gdLst>
            <a:ahLst/>
            <a:rect l="textAreaLeft" t="textAreaTop" r="textAreaRight" b="textAreaBottom"/>
            <a:pathLst>
              <a:path w="21600"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环形箭头 3"/>
          <p:cNvSpPr/>
          <p:nvPr/>
        </p:nvSpPr>
        <p:spPr>
          <a:xfrm>
            <a:off x="5245200" y="301680"/>
            <a:ext cx="2987640" cy="2987640"/>
          </a:xfrm>
          <a:custGeom>
            <a:avLst/>
            <a:gdLst>
              <a:gd name="textAreaLeft" fmla="*/ 437400 w 2987640"/>
              <a:gd name="textAreaRight" fmla="*/ 2550240 w 2987640"/>
              <a:gd name="textAreaTop" fmla="*/ 437400 h 2987640"/>
              <a:gd name="textAreaBottom" fmla="*/ 2550240 h 2987640"/>
            </a:gdLst>
            <a:ahLst/>
            <a:rect l="textAreaLeft" t="textAreaTop" r="textAreaRight" b="textAreaBottom"/>
            <a:pathLst>
              <a:path w="21600" h="21600">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组合 4"/>
          <p:cNvGrpSpPr/>
          <p:nvPr/>
        </p:nvGrpSpPr>
        <p:grpSpPr>
          <a:xfrm>
            <a:off x="5497560" y="533520"/>
            <a:ext cx="2601720" cy="2600280"/>
            <a:chOff x="5497560" y="533520"/>
            <a:chExt cx="2601720" cy="2600280"/>
          </a:xfrm>
        </p:grpSpPr>
        <p:sp>
          <p:nvSpPr>
            <p:cNvPr id="116" name="任意多边形 5"/>
            <p:cNvSpPr/>
            <p:nvPr/>
          </p:nvSpPr>
          <p:spPr>
            <a:xfrm>
              <a:off x="5497560" y="533520"/>
              <a:ext cx="2601720" cy="2600280"/>
            </a:xfrm>
            <a:custGeom>
              <a:avLst/>
              <a:gdLst>
                <a:gd name="textAreaLeft" fmla="*/ 0 w 2601720"/>
                <a:gd name="textAreaRight" fmla="*/ 2602080 w 2601720"/>
                <a:gd name="textAreaTop" fmla="*/ 0 h 2600280"/>
                <a:gd name="textAreaBottom" fmla="*/ 2600640 h 2600280"/>
              </a:gdLst>
              <a:ahLst/>
              <a:rect l="textAreaLeft" t="textAreaTop" r="textAreaRight" b="textAreaBottom"/>
              <a:pathLst>
                <a:path w="2123675" h="2123675">
                  <a:moveTo>
                    <a:pt x="1366897" y="537190"/>
                  </a:moveTo>
                  <a:lnTo>
                    <a:pt x="1594045" y="396507"/>
                  </a:lnTo>
                  <a:lnTo>
                    <a:pt x="1727168" y="529630"/>
                  </a:lnTo>
                  <a:lnTo>
                    <a:pt x="1586485" y="756778"/>
                  </a:lnTo>
                  <a:cubicBezTo>
                    <a:pt x="1640670" y="849967"/>
                    <a:pt x="1669056" y="955907"/>
                    <a:pt x="1668725" y="1063703"/>
                  </a:cubicBezTo>
                  <a:lnTo>
                    <a:pt x="1904134" y="1190078"/>
                  </a:lnTo>
                  <a:lnTo>
                    <a:pt x="1855408" y="1371927"/>
                  </a:lnTo>
                  <a:lnTo>
                    <a:pt x="1588350" y="1363666"/>
                  </a:lnTo>
                  <a:cubicBezTo>
                    <a:pt x="1534739" y="1457186"/>
                    <a:pt x="1457186" y="1534739"/>
                    <a:pt x="1363666" y="1588351"/>
                  </a:cubicBezTo>
                  <a:lnTo>
                    <a:pt x="1371926" y="1855408"/>
                  </a:lnTo>
                  <a:lnTo>
                    <a:pt x="1190078" y="1904134"/>
                  </a:lnTo>
                  <a:lnTo>
                    <a:pt x="1063703" y="1668725"/>
                  </a:lnTo>
                  <a:cubicBezTo>
                    <a:pt x="955907" y="1669057"/>
                    <a:pt x="849967" y="1640670"/>
                    <a:pt x="756778" y="1586485"/>
                  </a:cubicBezTo>
                  <a:lnTo>
                    <a:pt x="529630" y="1727168"/>
                  </a:lnTo>
                  <a:lnTo>
                    <a:pt x="396507" y="1594045"/>
                  </a:lnTo>
                  <a:lnTo>
                    <a:pt x="537190" y="1366897"/>
                  </a:lnTo>
                  <a:cubicBezTo>
                    <a:pt x="483005" y="1273708"/>
                    <a:pt x="454619" y="1167768"/>
                    <a:pt x="454950" y="1059972"/>
                  </a:cubicBezTo>
                  <a:lnTo>
                    <a:pt x="219541" y="933597"/>
                  </a:lnTo>
                  <a:lnTo>
                    <a:pt x="268267" y="751748"/>
                  </a:lnTo>
                  <a:lnTo>
                    <a:pt x="535325" y="760009"/>
                  </a:lnTo>
                  <a:cubicBezTo>
                    <a:pt x="588936" y="666489"/>
                    <a:pt x="666489" y="588936"/>
                    <a:pt x="760009" y="535324"/>
                  </a:cubicBezTo>
                  <a:lnTo>
                    <a:pt x="751749" y="268267"/>
                  </a:lnTo>
                  <a:lnTo>
                    <a:pt x="933597" y="219541"/>
                  </a:lnTo>
                  <a:lnTo>
                    <a:pt x="1059972" y="454950"/>
                  </a:lnTo>
                  <a:cubicBezTo>
                    <a:pt x="1167768" y="454618"/>
                    <a:pt x="1273708" y="483005"/>
                    <a:pt x="1366897" y="537190"/>
                  </a:cubicBezTo>
                  <a:close/>
                </a:path>
              </a:pathLst>
            </a:custGeom>
            <a:solidFill>
              <a:srgbClr val="22f2cc"/>
            </a:solidFill>
            <a:ln w="12600">
              <a:solidFill>
                <a:srgbClr val="ffffff"/>
              </a:solidFill>
              <a:bevel/>
            </a:ln>
          </p:spPr>
          <p:style>
            <a:lnRef idx="0"/>
            <a:fillRef idx="0"/>
            <a:effectRef idx="0"/>
            <a:fontRef idx="minor"/>
          </p:style>
          <p:txBody>
            <a:bodyPr lIns="746280" rIns="746280" tIns="746280" bIns="746280" anchor="ctr">
              <a:noAutofit/>
            </a:bodyPr>
            <a:p>
              <a:endParaRPr b="0" lang="en-US" sz="1800" spc="-1" strike="noStrike">
                <a:solidFill>
                  <a:srgbClr val="000000"/>
                </a:solidFill>
                <a:latin typeface="Arial"/>
              </a:endParaRPr>
            </a:p>
          </p:txBody>
        </p:sp>
        <p:sp>
          <p:nvSpPr>
            <p:cNvPr id="117" name="椭圆 6"/>
            <p:cNvSpPr/>
            <p:nvPr/>
          </p:nvSpPr>
          <p:spPr>
            <a:xfrm>
              <a:off x="6415920" y="1451520"/>
              <a:ext cx="765000" cy="764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组合 7"/>
          <p:cNvGrpSpPr/>
          <p:nvPr/>
        </p:nvGrpSpPr>
        <p:grpSpPr>
          <a:xfrm>
            <a:off x="6256440" y="2971800"/>
            <a:ext cx="2979720" cy="2979720"/>
            <a:chOff x="6256440" y="2971800"/>
            <a:chExt cx="2979720" cy="2979720"/>
          </a:xfrm>
        </p:grpSpPr>
        <p:sp>
          <p:nvSpPr>
            <p:cNvPr id="119" name="任意多边形 8"/>
            <p:cNvSpPr/>
            <p:nvPr/>
          </p:nvSpPr>
          <p:spPr>
            <a:xfrm>
              <a:off x="6256440" y="2971800"/>
              <a:ext cx="2979720" cy="2979720"/>
            </a:xfrm>
            <a:custGeom>
              <a:avLst/>
              <a:gdLst>
                <a:gd name="textAreaLeft" fmla="*/ 0 w 2979720"/>
                <a:gd name="textAreaRight" fmla="*/ 2980080 w 2979720"/>
                <a:gd name="textAreaTop" fmla="*/ 0 h 2979720"/>
                <a:gd name="textAreaBottom" fmla="*/ 2980080 h 2979720"/>
              </a:gdLst>
              <a:ahLst/>
              <a:rect l="textAreaLeft" t="textAreaTop" r="textAreaRight" b="textAreaBottom"/>
              <a:pathLst>
                <a:path w="2980266" h="2980266">
                  <a:moveTo>
                    <a:pt x="2115406" y="475169"/>
                  </a:moveTo>
                  <a:lnTo>
                    <a:pt x="2347223" y="280641"/>
                  </a:lnTo>
                  <a:lnTo>
                    <a:pt x="2532418" y="436038"/>
                  </a:lnTo>
                  <a:lnTo>
                    <a:pt x="2381100" y="698113"/>
                  </a:lnTo>
                  <a:cubicBezTo>
                    <a:pt x="2488696" y="819151"/>
                    <a:pt x="2570502" y="960843"/>
                    <a:pt x="2621526" y="1114543"/>
                  </a:cubicBezTo>
                  <a:lnTo>
                    <a:pt x="2924149" y="1114535"/>
                  </a:lnTo>
                  <a:lnTo>
                    <a:pt x="2966129" y="1352617"/>
                  </a:lnTo>
                  <a:lnTo>
                    <a:pt x="2681754" y="1456113"/>
                  </a:lnTo>
                  <a:cubicBezTo>
                    <a:pt x="2686376" y="1617995"/>
                    <a:pt x="2657965" y="1779121"/>
                    <a:pt x="2598255" y="1929659"/>
                  </a:cubicBezTo>
                  <a:lnTo>
                    <a:pt x="2830082" y="2124176"/>
                  </a:lnTo>
                  <a:lnTo>
                    <a:pt x="2709205" y="2333542"/>
                  </a:lnTo>
                  <a:lnTo>
                    <a:pt x="2424835" y="2230031"/>
                  </a:lnTo>
                  <a:cubicBezTo>
                    <a:pt x="2324320" y="2357010"/>
                    <a:pt x="2198986" y="2462178"/>
                    <a:pt x="2056481" y="2539116"/>
                  </a:cubicBezTo>
                  <a:lnTo>
                    <a:pt x="2109039" y="2837141"/>
                  </a:lnTo>
                  <a:lnTo>
                    <a:pt x="1881863" y="2919826"/>
                  </a:lnTo>
                  <a:lnTo>
                    <a:pt x="1730559" y="2657743"/>
                  </a:lnTo>
                  <a:cubicBezTo>
                    <a:pt x="1571939" y="2690405"/>
                    <a:pt x="1408327" y="2690405"/>
                    <a:pt x="1249707" y="2657743"/>
                  </a:cubicBezTo>
                  <a:lnTo>
                    <a:pt x="1098403" y="2919826"/>
                  </a:lnTo>
                  <a:lnTo>
                    <a:pt x="871227" y="2837141"/>
                  </a:lnTo>
                  <a:lnTo>
                    <a:pt x="923785" y="2539117"/>
                  </a:lnTo>
                  <a:cubicBezTo>
                    <a:pt x="781280" y="2462179"/>
                    <a:pt x="655947" y="2357011"/>
                    <a:pt x="555431" y="2230032"/>
                  </a:cubicBezTo>
                  <a:lnTo>
                    <a:pt x="271061" y="2333542"/>
                  </a:lnTo>
                  <a:lnTo>
                    <a:pt x="150184" y="2124176"/>
                  </a:lnTo>
                  <a:lnTo>
                    <a:pt x="382011" y="1929660"/>
                  </a:lnTo>
                  <a:cubicBezTo>
                    <a:pt x="322301" y="1779122"/>
                    <a:pt x="293890" y="1617995"/>
                    <a:pt x="298512" y="1456114"/>
                  </a:cubicBezTo>
                  <a:lnTo>
                    <a:pt x="14137" y="1352617"/>
                  </a:lnTo>
                  <a:lnTo>
                    <a:pt x="56117" y="1114535"/>
                  </a:lnTo>
                  <a:lnTo>
                    <a:pt x="358740" y="1114543"/>
                  </a:lnTo>
                  <a:cubicBezTo>
                    <a:pt x="409764" y="960843"/>
                    <a:pt x="491570" y="819151"/>
                    <a:pt x="599166" y="698113"/>
                  </a:cubicBezTo>
                  <a:lnTo>
                    <a:pt x="447848" y="436038"/>
                  </a:lnTo>
                  <a:lnTo>
                    <a:pt x="633043" y="280641"/>
                  </a:lnTo>
                  <a:lnTo>
                    <a:pt x="864860" y="475169"/>
                  </a:lnTo>
                  <a:cubicBezTo>
                    <a:pt x="1002743" y="390226"/>
                    <a:pt x="1156488" y="334267"/>
                    <a:pt x="1316713" y="310708"/>
                  </a:cubicBezTo>
                  <a:lnTo>
                    <a:pt x="1369255" y="12681"/>
                  </a:lnTo>
                  <a:lnTo>
                    <a:pt x="1611011" y="12681"/>
                  </a:lnTo>
                  <a:lnTo>
                    <a:pt x="1663553" y="310708"/>
                  </a:lnTo>
                  <a:cubicBezTo>
                    <a:pt x="1823778" y="334267"/>
                    <a:pt x="1977523" y="390226"/>
                    <a:pt x="2115406" y="475169"/>
                  </a:cubicBezTo>
                  <a:close/>
                </a:path>
              </a:pathLst>
            </a:custGeom>
            <a:solidFill>
              <a:srgbClr val="ffa146"/>
            </a:solidFill>
            <a:ln w="12600">
              <a:solidFill>
                <a:srgbClr val="ffffff"/>
              </a:solidFill>
              <a:miter/>
            </a:ln>
          </p:spPr>
          <p:style>
            <a:lnRef idx="0"/>
            <a:fillRef idx="0"/>
            <a:effectRef idx="0"/>
            <a:fontRef idx="minor"/>
          </p:style>
          <p:txBody>
            <a:bodyPr lIns="661320" rIns="661320" tIns="760320" bIns="812160" anchor="ctr">
              <a:noAutofit/>
            </a:bodyPr>
            <a:p>
              <a:endParaRPr b="0" lang="en-US" sz="1800" spc="-1" strike="noStrike">
                <a:solidFill>
                  <a:srgbClr val="000000"/>
                </a:solidFill>
                <a:latin typeface="Arial"/>
              </a:endParaRPr>
            </a:p>
          </p:txBody>
        </p:sp>
        <p:sp>
          <p:nvSpPr>
            <p:cNvPr id="120" name="椭圆 9"/>
            <p:cNvSpPr/>
            <p:nvPr/>
          </p:nvSpPr>
          <p:spPr>
            <a:xfrm>
              <a:off x="6918480" y="3633840"/>
              <a:ext cx="1655640" cy="1655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组合 10"/>
          <p:cNvGrpSpPr/>
          <p:nvPr/>
        </p:nvGrpSpPr>
        <p:grpSpPr>
          <a:xfrm>
            <a:off x="4522680" y="2266920"/>
            <a:ext cx="2167200" cy="2166840"/>
            <a:chOff x="4522680" y="2266920"/>
            <a:chExt cx="2167200" cy="2166840"/>
          </a:xfrm>
        </p:grpSpPr>
        <p:sp>
          <p:nvSpPr>
            <p:cNvPr id="122" name="任意多边形 11"/>
            <p:cNvSpPr/>
            <p:nvPr/>
          </p:nvSpPr>
          <p:spPr>
            <a:xfrm>
              <a:off x="4522680" y="2266920"/>
              <a:ext cx="2167200" cy="2166840"/>
            </a:xfrm>
            <a:custGeom>
              <a:avLst/>
              <a:gdLst>
                <a:gd name="textAreaLeft" fmla="*/ 0 w 2167200"/>
                <a:gd name="textAreaRight" fmla="*/ 2167560 w 2167200"/>
                <a:gd name="textAreaTop" fmla="*/ 0 h 2166840"/>
                <a:gd name="textAreaBottom" fmla="*/ 2167200 h 2166840"/>
              </a:gdLst>
              <a:ahLst/>
              <a:rect l="textAreaLeft" t="textAreaTop" r="textAreaRight" b="textAreaBottom"/>
              <a:pathLst>
                <a:path w="2167466" h="2167466">
                  <a:moveTo>
                    <a:pt x="1621800" y="548964"/>
                  </a:moveTo>
                  <a:lnTo>
                    <a:pt x="1941574" y="452590"/>
                  </a:lnTo>
                  <a:lnTo>
                    <a:pt x="2059240" y="656392"/>
                  </a:lnTo>
                  <a:lnTo>
                    <a:pt x="1815890" y="885138"/>
                  </a:lnTo>
                  <a:cubicBezTo>
                    <a:pt x="1851165" y="1015185"/>
                    <a:pt x="1851165" y="1152281"/>
                    <a:pt x="1815890" y="1282328"/>
                  </a:cubicBezTo>
                  <a:lnTo>
                    <a:pt x="2059240" y="1511074"/>
                  </a:lnTo>
                  <a:lnTo>
                    <a:pt x="1941574" y="1714876"/>
                  </a:lnTo>
                  <a:lnTo>
                    <a:pt x="1621800" y="1618502"/>
                  </a:lnTo>
                  <a:cubicBezTo>
                    <a:pt x="1526813" y="1714075"/>
                    <a:pt x="1408085" y="1782623"/>
                    <a:pt x="1277823" y="1817097"/>
                  </a:cubicBezTo>
                  <a:lnTo>
                    <a:pt x="1201398" y="2142217"/>
                  </a:lnTo>
                  <a:lnTo>
                    <a:pt x="966068" y="2142217"/>
                  </a:lnTo>
                  <a:lnTo>
                    <a:pt x="889643" y="1817097"/>
                  </a:lnTo>
                  <a:cubicBezTo>
                    <a:pt x="759381" y="1782622"/>
                    <a:pt x="640653" y="1714074"/>
                    <a:pt x="545666" y="1618502"/>
                  </a:cubicBezTo>
                  <a:lnTo>
                    <a:pt x="225892" y="1714876"/>
                  </a:lnTo>
                  <a:lnTo>
                    <a:pt x="108226" y="1511074"/>
                  </a:lnTo>
                  <a:lnTo>
                    <a:pt x="351576" y="1282328"/>
                  </a:lnTo>
                  <a:cubicBezTo>
                    <a:pt x="316301" y="1152281"/>
                    <a:pt x="316301" y="1015185"/>
                    <a:pt x="351576" y="885138"/>
                  </a:cubicBezTo>
                  <a:lnTo>
                    <a:pt x="108226" y="656392"/>
                  </a:lnTo>
                  <a:lnTo>
                    <a:pt x="225892" y="452590"/>
                  </a:lnTo>
                  <a:lnTo>
                    <a:pt x="545666" y="548964"/>
                  </a:lnTo>
                  <a:cubicBezTo>
                    <a:pt x="640653" y="453391"/>
                    <a:pt x="759381" y="384843"/>
                    <a:pt x="889643" y="350369"/>
                  </a:cubicBezTo>
                  <a:lnTo>
                    <a:pt x="966068" y="25249"/>
                  </a:lnTo>
                  <a:lnTo>
                    <a:pt x="1201398" y="25249"/>
                  </a:lnTo>
                  <a:lnTo>
                    <a:pt x="1277823" y="350369"/>
                  </a:lnTo>
                  <a:cubicBezTo>
                    <a:pt x="1408085" y="384844"/>
                    <a:pt x="1526813" y="453392"/>
                    <a:pt x="1621800" y="548964"/>
                  </a:cubicBezTo>
                  <a:close/>
                </a:path>
              </a:pathLst>
            </a:custGeom>
            <a:solidFill>
              <a:srgbClr val="ff4664"/>
            </a:solidFill>
            <a:ln w="12600">
              <a:solidFill>
                <a:srgbClr val="ffffff"/>
              </a:solidFill>
              <a:miter/>
            </a:ln>
          </p:spPr>
          <p:style>
            <a:lnRef idx="0"/>
            <a:fillRef idx="0"/>
            <a:effectRef idx="0"/>
            <a:fontRef idx="minor"/>
          </p:style>
          <p:txBody>
            <a:bodyPr lIns="583560" rIns="583560" tIns="586800" bIns="586800" anchor="ctr">
              <a:noAutofit/>
            </a:bodyPr>
            <a:p>
              <a:endParaRPr b="0" lang="en-US" sz="1800" spc="-1" strike="noStrike">
                <a:solidFill>
                  <a:srgbClr val="000000"/>
                </a:solidFill>
                <a:latin typeface="Arial"/>
              </a:endParaRPr>
            </a:p>
          </p:txBody>
        </p:sp>
        <p:sp>
          <p:nvSpPr>
            <p:cNvPr id="123" name="椭圆 12"/>
            <p:cNvSpPr/>
            <p:nvPr/>
          </p:nvSpPr>
          <p:spPr>
            <a:xfrm>
              <a:off x="5066280" y="2810520"/>
              <a:ext cx="1080000" cy="1079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组合 13"/>
          <p:cNvGrpSpPr/>
          <p:nvPr/>
        </p:nvGrpSpPr>
        <p:grpSpPr>
          <a:xfrm>
            <a:off x="8223120" y="1120680"/>
            <a:ext cx="2865600" cy="587520"/>
            <a:chOff x="8223120" y="1120680"/>
            <a:chExt cx="2865600" cy="587520"/>
          </a:xfrm>
        </p:grpSpPr>
        <p:sp>
          <p:nvSpPr>
            <p:cNvPr id="125" name="矩形 14"/>
            <p:cNvSpPr/>
            <p:nvPr/>
          </p:nvSpPr>
          <p:spPr>
            <a:xfrm>
              <a:off x="8223120" y="1120680"/>
              <a:ext cx="2865600" cy="58752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直接连接符 15"/>
            <p:cNvSpPr/>
            <p:nvPr/>
          </p:nvSpPr>
          <p:spPr>
            <a:xfrm>
              <a:off x="8894160" y="1171800"/>
              <a:ext cx="0" cy="48528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矩形 16"/>
            <p:cNvSpPr/>
            <p:nvPr/>
          </p:nvSpPr>
          <p:spPr>
            <a:xfrm>
              <a:off x="8942760" y="1229760"/>
              <a:ext cx="2075400" cy="368280"/>
            </a:xfrm>
            <a:prstGeom prst="rect">
              <a:avLst/>
            </a:prstGeom>
            <a:solidFill>
              <a:srgbClr val="22f2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grpSp>
        <p:nvGrpSpPr>
          <p:cNvPr id="128" name="组合 17"/>
          <p:cNvGrpSpPr/>
          <p:nvPr/>
        </p:nvGrpSpPr>
        <p:grpSpPr>
          <a:xfrm>
            <a:off x="1146240" y="2298600"/>
            <a:ext cx="2865240" cy="588960"/>
            <a:chOff x="1146240" y="2298600"/>
            <a:chExt cx="2865240" cy="588960"/>
          </a:xfrm>
        </p:grpSpPr>
        <p:sp>
          <p:nvSpPr>
            <p:cNvPr id="129" name="矩形 18"/>
            <p:cNvSpPr/>
            <p:nvPr/>
          </p:nvSpPr>
          <p:spPr>
            <a:xfrm>
              <a:off x="1146240" y="2298600"/>
              <a:ext cx="2865240" cy="5889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直接连接符 19"/>
            <p:cNvSpPr/>
            <p:nvPr/>
          </p:nvSpPr>
          <p:spPr>
            <a:xfrm>
              <a:off x="1817280" y="2349720"/>
              <a:ext cx="0" cy="486720"/>
            </a:xfrm>
            <a:prstGeom prst="line">
              <a:avLst/>
            </a:prstGeom>
            <a:ln w="6480">
              <a:solidFill>
                <a:srgbClr val="f5f6f8"/>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矩形 20"/>
            <p:cNvSpPr/>
            <p:nvPr/>
          </p:nvSpPr>
          <p:spPr>
            <a:xfrm>
              <a:off x="1865880" y="2408040"/>
              <a:ext cx="2075040" cy="368280"/>
            </a:xfrm>
            <a:prstGeom prst="rect">
              <a:avLst/>
            </a:prstGeom>
            <a:solidFill>
              <a:srgbClr val="ff4664"/>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grpSp>
        <p:nvGrpSpPr>
          <p:cNvPr id="132" name="组合 21"/>
          <p:cNvGrpSpPr/>
          <p:nvPr/>
        </p:nvGrpSpPr>
        <p:grpSpPr>
          <a:xfrm>
            <a:off x="3105000" y="5043600"/>
            <a:ext cx="2865600" cy="587160"/>
            <a:chOff x="3105000" y="5043600"/>
            <a:chExt cx="2865600" cy="587160"/>
          </a:xfrm>
        </p:grpSpPr>
        <p:sp>
          <p:nvSpPr>
            <p:cNvPr id="133" name="矩形 22"/>
            <p:cNvSpPr/>
            <p:nvPr/>
          </p:nvSpPr>
          <p:spPr>
            <a:xfrm>
              <a:off x="3105000" y="5043600"/>
              <a:ext cx="2865600" cy="58716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直接连接符 23"/>
            <p:cNvSpPr/>
            <p:nvPr/>
          </p:nvSpPr>
          <p:spPr>
            <a:xfrm>
              <a:off x="3776040" y="5094360"/>
              <a:ext cx="0" cy="48528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矩形 24"/>
            <p:cNvSpPr/>
            <p:nvPr/>
          </p:nvSpPr>
          <p:spPr>
            <a:xfrm>
              <a:off x="3824640" y="5152680"/>
              <a:ext cx="2075400" cy="368280"/>
            </a:xfrm>
            <a:prstGeom prst="rect">
              <a:avLst/>
            </a:prstGeom>
            <a:solidFill>
              <a:srgbClr val="427172"/>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sp>
        <p:nvSpPr>
          <p:cNvPr id="136" name="矩形 25"/>
          <p:cNvSpPr/>
          <p:nvPr/>
        </p:nvSpPr>
        <p:spPr>
          <a:xfrm>
            <a:off x="8458200" y="176040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37" name="矩形 26"/>
          <p:cNvSpPr/>
          <p:nvPr/>
        </p:nvSpPr>
        <p:spPr>
          <a:xfrm>
            <a:off x="1379520" y="297180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38" name="矩形 27"/>
          <p:cNvSpPr/>
          <p:nvPr/>
        </p:nvSpPr>
        <p:spPr>
          <a:xfrm>
            <a:off x="3340080" y="568944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39" name="Freeform 13"/>
          <p:cNvSpPr/>
          <p:nvPr/>
        </p:nvSpPr>
        <p:spPr>
          <a:xfrm>
            <a:off x="5284800" y="3021120"/>
            <a:ext cx="644400" cy="642960"/>
          </a:xfrm>
          <a:custGeom>
            <a:avLst/>
            <a:gdLst>
              <a:gd name="textAreaLeft" fmla="*/ 0 w 644400"/>
              <a:gd name="textAreaRight" fmla="*/ 644760 w 644400"/>
              <a:gd name="textAreaTop" fmla="*/ 0 h 642960"/>
              <a:gd name="textAreaBottom" fmla="*/ 643320 h 64296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4271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5"/>
          <p:cNvSpPr/>
          <p:nvPr/>
        </p:nvSpPr>
        <p:spPr>
          <a:xfrm>
            <a:off x="6531120" y="1600200"/>
            <a:ext cx="504720" cy="533520"/>
          </a:xfrm>
          <a:custGeom>
            <a:avLst/>
            <a:gdLst>
              <a:gd name="textAreaLeft" fmla="*/ 0 w 504720"/>
              <a:gd name="textAreaRight" fmla="*/ 505080 w 504720"/>
              <a:gd name="textAreaTop" fmla="*/ 0 h 533520"/>
              <a:gd name="textAreaBottom" fmla="*/ 533880 h 53352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427172"/>
          </a:solidFill>
          <a:ln w="9360">
            <a:solidFill>
              <a:srgbClr val="f5f6f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9"/>
          <p:cNvSpPr/>
          <p:nvPr/>
        </p:nvSpPr>
        <p:spPr>
          <a:xfrm>
            <a:off x="7093080" y="3825720"/>
            <a:ext cx="1269720" cy="1276560"/>
          </a:xfrm>
          <a:custGeom>
            <a:avLst/>
            <a:gdLst>
              <a:gd name="textAreaLeft" fmla="*/ 0 w 1269720"/>
              <a:gd name="textAreaRight" fmla="*/ 1270080 w 1269720"/>
              <a:gd name="textAreaTop" fmla="*/ 0 h 1276560"/>
              <a:gd name="textAreaBottom" fmla="*/ 1276920 h 127656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427172"/>
          </a:solidFill>
          <a:ln w="9360">
            <a:solidFill>
              <a:srgbClr val="f5f6f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3"/>
          <p:cNvSpPr/>
          <p:nvPr/>
        </p:nvSpPr>
        <p:spPr>
          <a:xfrm>
            <a:off x="1258920" y="2368440"/>
            <a:ext cx="446040" cy="466920"/>
          </a:xfrm>
          <a:custGeom>
            <a:avLst/>
            <a:gdLst>
              <a:gd name="textAreaLeft" fmla="*/ 0 w 446040"/>
              <a:gd name="textAreaRight" fmla="*/ 446400 w 446040"/>
              <a:gd name="textAreaTop" fmla="*/ 0 h 466920"/>
              <a:gd name="textAreaBottom" fmla="*/ 467280 h 46692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5"/>
          <p:cNvSpPr/>
          <p:nvPr/>
        </p:nvSpPr>
        <p:spPr>
          <a:xfrm>
            <a:off x="8327880" y="1171440"/>
            <a:ext cx="503280" cy="533520"/>
          </a:xfrm>
          <a:custGeom>
            <a:avLst/>
            <a:gdLst>
              <a:gd name="textAreaLeft" fmla="*/ 0 w 503280"/>
              <a:gd name="textAreaRight" fmla="*/ 503640 w 503280"/>
              <a:gd name="textAreaTop" fmla="*/ 0 h 533520"/>
              <a:gd name="textAreaBottom" fmla="*/ 533880 h 53352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a:off x="3246480" y="5153040"/>
            <a:ext cx="388800" cy="392040"/>
          </a:xfrm>
          <a:custGeom>
            <a:avLst/>
            <a:gdLst>
              <a:gd name="textAreaLeft" fmla="*/ 0 w 388800"/>
              <a:gd name="textAreaRight" fmla="*/ 389160 w 388800"/>
              <a:gd name="textAreaTop" fmla="*/ 0 h 392040"/>
              <a:gd name="textAreaBottom" fmla="*/ 392400 h 39204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灯片编号占位符 8"/>
          <p:cNvSpPr/>
          <p:nvPr/>
        </p:nvSpPr>
        <p:spPr>
          <a:xfrm>
            <a:off x="12387240" y="5805360"/>
            <a:ext cx="4348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52C3-4D1A-4B0D-98F2-7B48BAB8D28E}"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mph" presetID="8" repeatCount="indefinite">
                                  <p:stCondLst>
                                    <p:cond delay="0"/>
                                  </p:stCondLst>
                                  <p:childTnLst>
                                    <p:animRot by="21600000">
                                      <p:cBhvr>
                                        <p:cTn id="46" dur="2000" fill="hold"/>
                                        <p:tgtEl>
                                          <p:spTgt spid="115"/>
                                        </p:tgtEl>
                                        <p:attrNameLst>
                                          <p:attrName>r</p:attrName>
                                        </p:attrNameLst>
                                      </p:cBhvr>
                                    </p:animRot>
                                  </p:childTnLst>
                                </p:cTn>
                              </p:par>
                              <p:par>
                                <p:cTn id="47" nodeType="withEffect" fill="hold" presetClass="emph" presetID="8" repeatCount="indefinite">
                                  <p:stCondLst>
                                    <p:cond delay="0"/>
                                  </p:stCondLst>
                                  <p:childTnLst>
                                    <p:animRot by="21600000">
                                      <p:cBhvr>
                                        <p:cTn id="48" dur="2000" fill="hold"/>
                                        <p:tgtEl>
                                          <p:spTgt spid="118"/>
                                        </p:tgtEl>
                                        <p:attrNameLst>
                                          <p:attrName>r</p:attrName>
                                        </p:attrNameLst>
                                      </p:cBhvr>
                                    </p:animRot>
                                  </p:childTnLst>
                                </p:cTn>
                              </p:par>
                              <p:par>
                                <p:cTn id="49" nodeType="withEffect" fill="hold" presetClass="emph" presetID="8" repeatCount="indefinite">
                                  <p:stCondLst>
                                    <p:cond delay="0"/>
                                  </p:stCondLst>
                                  <p:childTnLst>
                                    <p:animRot by="-21600000">
                                      <p:cBhvr>
                                        <p:cTn id="50" dur="2000" fill="hold"/>
                                        <p:tgtEl>
                                          <p:spTgt spid="121"/>
                                        </p:tgtEl>
                                        <p:attrNameLst>
                                          <p:attrName>r</p:attrName>
                                        </p:attrNameLst>
                                      </p:cBhvr>
                                    </p:animRot>
                                  </p:childTnLst>
                                </p:cTn>
                              </p:par>
                              <p:par>
                                <p:cTn id="51" nodeType="withEffect" fill="hold" presetClass="entr" presetID="10">
                                  <p:stCondLst>
                                    <p:cond delay="0"/>
                                  </p:stCondLst>
                                  <p:childTnLst>
                                    <p:set>
                                      <p:cBhvr>
                                        <p:cTn id="52" dur="1" fill="hold">
                                          <p:stCondLst>
                                            <p:cond delay="0"/>
                                          </p:stCondLst>
                                        </p:cTn>
                                        <p:tgtEl>
                                          <p:spTgt spid="124"/>
                                        </p:tgtEl>
                                        <p:attrNameLst>
                                          <p:attrName>style.visibility</p:attrName>
                                        </p:attrNameLst>
                                      </p:cBhvr>
                                      <p:to>
                                        <p:strVal val="visible"/>
                                      </p:to>
                                    </p:set>
                                    <p:animEffect filter="wipe(up)" transition="in">
                                      <p:cBhvr additive="repl">
                                        <p:cTn id="53" dur="500"/>
                                        <p:tgtEl>
                                          <p:spTgt spid="124"/>
                                        </p:tgtEl>
                                      </p:cBhvr>
                                    </p:animEffect>
                                  </p:childTnLst>
                                </p:cTn>
                              </p:par>
                              <p:par>
                                <p:cTn id="54" nodeType="withEffect" fill="hold" presetClass="entr" presetID="10">
                                  <p:stCondLst>
                                    <p:cond delay="0"/>
                                  </p:stCondLst>
                                  <p:childTnLst>
                                    <p:set>
                                      <p:cBhvr>
                                        <p:cTn id="55" dur="1" fill="hold">
                                          <p:stCondLst>
                                            <p:cond delay="0"/>
                                          </p:stCondLst>
                                        </p:cTn>
                                        <p:tgtEl>
                                          <p:spTgt spid="136"/>
                                        </p:tgtEl>
                                        <p:attrNameLst>
                                          <p:attrName>style.visibility</p:attrName>
                                        </p:attrNameLst>
                                      </p:cBhvr>
                                      <p:to>
                                        <p:strVal val="visible"/>
                                      </p:to>
                                    </p:set>
                                    <p:animEffect filter="wipe(up)" transition="in">
                                      <p:cBhvr additive="repl">
                                        <p:cTn id="56" dur="500"/>
                                        <p:tgtEl>
                                          <p:spTgt spid="136"/>
                                        </p:tgtEl>
                                      </p:cBhvr>
                                    </p:animEffect>
                                  </p:childTnLst>
                                </p:cTn>
                              </p:par>
                              <p:par>
                                <p:cTn id="57" nodeType="withEffect" fill="hold" presetClass="entr" presetID="10">
                                  <p:stCondLst>
                                    <p:cond delay="0"/>
                                  </p:stCondLst>
                                  <p:childTnLst>
                                    <p:set>
                                      <p:cBhvr>
                                        <p:cTn id="58" dur="1" fill="hold">
                                          <p:stCondLst>
                                            <p:cond delay="0"/>
                                          </p:stCondLst>
                                        </p:cTn>
                                        <p:tgtEl>
                                          <p:spTgt spid="143"/>
                                        </p:tgtEl>
                                        <p:attrNameLst>
                                          <p:attrName>style.visibility</p:attrName>
                                        </p:attrNameLst>
                                      </p:cBhvr>
                                      <p:to>
                                        <p:strVal val="visible"/>
                                      </p:to>
                                    </p:set>
                                    <p:animEffect filter="wipe(up)" transition="in">
                                      <p:cBhvr additive="repl">
                                        <p:cTn id="59" dur="500"/>
                                        <p:tgtEl>
                                          <p:spTgt spid="143"/>
                                        </p:tgtEl>
                                      </p:cBhvr>
                                    </p:animEffect>
                                  </p:childTnLst>
                                </p:cTn>
                              </p:par>
                              <p:par>
                                <p:cTn id="60" nodeType="withEffect" fill="hold" presetClass="entr" presetID="10">
                                  <p:stCondLst>
                                    <p:cond delay="0"/>
                                  </p:stCondLst>
                                  <p:childTnLst>
                                    <p:set>
                                      <p:cBhvr>
                                        <p:cTn id="61" dur="1" fill="hold">
                                          <p:stCondLst>
                                            <p:cond delay="0"/>
                                          </p:stCondLst>
                                        </p:cTn>
                                        <p:tgtEl>
                                          <p:spTgt spid="132"/>
                                        </p:tgtEl>
                                        <p:attrNameLst>
                                          <p:attrName>style.visibility</p:attrName>
                                        </p:attrNameLst>
                                      </p:cBhvr>
                                      <p:to>
                                        <p:strVal val="visible"/>
                                      </p:to>
                                    </p:set>
                                    <p:animEffect filter="wipe(up)" transition="in">
                                      <p:cBhvr additive="repl">
                                        <p:cTn id="62" dur="500"/>
                                        <p:tgtEl>
                                          <p:spTgt spid="132"/>
                                        </p:tgtEl>
                                      </p:cBhvr>
                                    </p:animEffect>
                                  </p:childTnLst>
                                </p:cTn>
                              </p:par>
                              <p:par>
                                <p:cTn id="63" nodeType="withEffect" fill="hold" presetClass="entr" presetID="10">
                                  <p:stCondLst>
                                    <p:cond delay="0"/>
                                  </p:stCondLst>
                                  <p:childTnLst>
                                    <p:set>
                                      <p:cBhvr>
                                        <p:cTn id="64" dur="1" fill="hold">
                                          <p:stCondLst>
                                            <p:cond delay="0"/>
                                          </p:stCondLst>
                                        </p:cTn>
                                        <p:tgtEl>
                                          <p:spTgt spid="138"/>
                                        </p:tgtEl>
                                        <p:attrNameLst>
                                          <p:attrName>style.visibility</p:attrName>
                                        </p:attrNameLst>
                                      </p:cBhvr>
                                      <p:to>
                                        <p:strVal val="visible"/>
                                      </p:to>
                                    </p:set>
                                    <p:animEffect filter="wipe(up)" transition="in">
                                      <p:cBhvr additive="repl">
                                        <p:cTn id="65" dur="500"/>
                                        <p:tgtEl>
                                          <p:spTgt spid="138"/>
                                        </p:tgtEl>
                                      </p:cBhvr>
                                    </p:animEffect>
                                  </p:childTnLst>
                                </p:cTn>
                              </p:par>
                              <p:par>
                                <p:cTn id="66" nodeType="withEffect" fill="hold" presetClass="entr" presetID="10">
                                  <p:stCondLst>
                                    <p:cond delay="0"/>
                                  </p:stCondLst>
                                  <p:childTnLst>
                                    <p:set>
                                      <p:cBhvr>
                                        <p:cTn id="67" dur="1" fill="hold">
                                          <p:stCondLst>
                                            <p:cond delay="0"/>
                                          </p:stCondLst>
                                        </p:cTn>
                                        <p:tgtEl>
                                          <p:spTgt spid="144"/>
                                        </p:tgtEl>
                                        <p:attrNameLst>
                                          <p:attrName>style.visibility</p:attrName>
                                        </p:attrNameLst>
                                      </p:cBhvr>
                                      <p:to>
                                        <p:strVal val="visible"/>
                                      </p:to>
                                    </p:set>
                                    <p:animEffect filter="wipe(up)" transition="in">
                                      <p:cBhvr additive="repl">
                                        <p:cTn id="68" dur="500"/>
                                        <p:tgtEl>
                                          <p:spTgt spid="144"/>
                                        </p:tgtEl>
                                      </p:cBhvr>
                                    </p:animEffect>
                                  </p:childTnLst>
                                </p:cTn>
                              </p:par>
                              <p:par>
                                <p:cTn id="69" nodeType="withEffect" fill="hold" presetClass="entr" presetID="10">
                                  <p:stCondLst>
                                    <p:cond delay="0"/>
                                  </p:stCondLst>
                                  <p:childTnLst>
                                    <p:set>
                                      <p:cBhvr>
                                        <p:cTn id="70" dur="1" fill="hold">
                                          <p:stCondLst>
                                            <p:cond delay="0"/>
                                          </p:stCondLst>
                                        </p:cTn>
                                        <p:tgtEl>
                                          <p:spTgt spid="128"/>
                                        </p:tgtEl>
                                        <p:attrNameLst>
                                          <p:attrName>style.visibility</p:attrName>
                                        </p:attrNameLst>
                                      </p:cBhvr>
                                      <p:to>
                                        <p:strVal val="visible"/>
                                      </p:to>
                                    </p:set>
                                    <p:animEffect filter="wipe(up)" transition="in">
                                      <p:cBhvr additive="repl">
                                        <p:cTn id="71" dur="500"/>
                                        <p:tgtEl>
                                          <p:spTgt spid="128"/>
                                        </p:tgtEl>
                                      </p:cBhvr>
                                    </p:animEffect>
                                  </p:childTnLst>
                                </p:cTn>
                              </p:par>
                              <p:par>
                                <p:cTn id="72" nodeType="withEffect" fill="hold" presetClass="entr" presetID="10">
                                  <p:stCondLst>
                                    <p:cond delay="0"/>
                                  </p:stCondLst>
                                  <p:childTnLst>
                                    <p:set>
                                      <p:cBhvr>
                                        <p:cTn id="73" dur="1" fill="hold">
                                          <p:stCondLst>
                                            <p:cond delay="0"/>
                                          </p:stCondLst>
                                        </p:cTn>
                                        <p:tgtEl>
                                          <p:spTgt spid="137"/>
                                        </p:tgtEl>
                                        <p:attrNameLst>
                                          <p:attrName>style.visibility</p:attrName>
                                        </p:attrNameLst>
                                      </p:cBhvr>
                                      <p:to>
                                        <p:strVal val="visible"/>
                                      </p:to>
                                    </p:set>
                                    <p:animEffect filter="wipe(up)" transition="in">
                                      <p:cBhvr additive="repl">
                                        <p:cTn id="74" dur="500"/>
                                        <p:tgtEl>
                                          <p:spTgt spid="137"/>
                                        </p:tgtEl>
                                      </p:cBhvr>
                                    </p:animEffect>
                                  </p:childTnLst>
                                </p:cTn>
                              </p:par>
                              <p:par>
                                <p:cTn id="75" nodeType="withEffect" fill="hold" presetClass="entr" presetID="10">
                                  <p:stCondLst>
                                    <p:cond delay="0"/>
                                  </p:stCondLst>
                                  <p:childTnLst>
                                    <p:set>
                                      <p:cBhvr>
                                        <p:cTn id="76" dur="1" fill="hold">
                                          <p:stCondLst>
                                            <p:cond delay="0"/>
                                          </p:stCondLst>
                                        </p:cTn>
                                        <p:tgtEl>
                                          <p:spTgt spid="142"/>
                                        </p:tgtEl>
                                        <p:attrNameLst>
                                          <p:attrName>style.visibility</p:attrName>
                                        </p:attrNameLst>
                                      </p:cBhvr>
                                      <p:to>
                                        <p:strVal val="visible"/>
                                      </p:to>
                                    </p:set>
                                    <p:animEffect filter="wipe(up)" transition="in">
                                      <p:cBhvr additive="repl">
                                        <p:cTn id="7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
          <p:cNvSpPr/>
          <p:nvPr/>
        </p:nvSpPr>
        <p:spPr>
          <a:xfrm>
            <a:off x="4908600" y="318456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55" name="矩形 2"/>
          <p:cNvSpPr/>
          <p:nvPr/>
        </p:nvSpPr>
        <p:spPr>
          <a:xfrm>
            <a:off x="4908600" y="437040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56" name="矩形 3"/>
          <p:cNvSpPr/>
          <p:nvPr/>
        </p:nvSpPr>
        <p:spPr>
          <a:xfrm>
            <a:off x="4908600" y="200016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57" name="Rectangle 23"/>
          <p:cNvSpPr/>
          <p:nvPr/>
        </p:nvSpPr>
        <p:spPr>
          <a:xfrm>
            <a:off x="1676520" y="2930400"/>
            <a:ext cx="117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单击此处添加标题</a:t>
            </a:r>
            <a:endParaRPr b="0" lang="en-US" sz="2400" spc="-1" strike="noStrike">
              <a:solidFill>
                <a:srgbClr val="000000"/>
              </a:solidFill>
              <a:latin typeface="Arial"/>
            </a:endParaRPr>
          </a:p>
        </p:txBody>
      </p:sp>
      <p:grpSp>
        <p:nvGrpSpPr>
          <p:cNvPr id="158" name="组合 7"/>
          <p:cNvGrpSpPr/>
          <p:nvPr/>
        </p:nvGrpSpPr>
        <p:grpSpPr>
          <a:xfrm>
            <a:off x="-188280" y="1354680"/>
            <a:ext cx="4614120" cy="4548600"/>
            <a:chOff x="-188280" y="1354680"/>
            <a:chExt cx="4614120" cy="4548600"/>
          </a:xfrm>
        </p:grpSpPr>
        <p:sp>
          <p:nvSpPr>
            <p:cNvPr id="159" name="AutoShape 4"/>
            <p:cNvSpPr/>
            <p:nvPr/>
          </p:nvSpPr>
          <p:spPr>
            <a:xfrm rot="19367400">
              <a:off x="398520" y="2079360"/>
              <a:ext cx="3440160" cy="3099240"/>
            </a:xfrm>
            <a:custGeom>
              <a:avLst/>
              <a:gdLst>
                <a:gd name="textAreaLeft" fmla="*/ 0 w 3440160"/>
                <a:gd name="textAreaRight" fmla="*/ 3440520 w 3440160"/>
                <a:gd name="textAreaTop" fmla="*/ 0 h 3099240"/>
                <a:gd name="textAreaBottom" fmla="*/ 3099600 h 30992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22f2cc"/>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160" name="WordArt 7" descr=""/>
            <p:cNvPicPr/>
            <p:nvPr/>
          </p:nvPicPr>
          <p:blipFill>
            <a:blip r:embed="rId1"/>
            <a:stretch/>
          </p:blipFill>
          <p:spPr>
            <a:xfrm>
              <a:off x="1420200" y="2070000"/>
              <a:ext cx="2389680" cy="2461680"/>
            </a:xfrm>
            <a:prstGeom prst="rect">
              <a:avLst/>
            </a:prstGeom>
            <a:ln w="0">
              <a:noFill/>
            </a:ln>
          </p:spPr>
        </p:pic>
      </p:grpSp>
      <p:grpSp>
        <p:nvGrpSpPr>
          <p:cNvPr id="161" name="组合 1"/>
          <p:cNvGrpSpPr/>
          <p:nvPr/>
        </p:nvGrpSpPr>
        <p:grpSpPr>
          <a:xfrm>
            <a:off x="248400" y="1491480"/>
            <a:ext cx="4358160" cy="4182840"/>
            <a:chOff x="248400" y="1491480"/>
            <a:chExt cx="4358160" cy="4182840"/>
          </a:xfrm>
        </p:grpSpPr>
        <p:sp>
          <p:nvSpPr>
            <p:cNvPr id="162" name="AutoShape 6"/>
            <p:cNvSpPr/>
            <p:nvPr/>
          </p:nvSpPr>
          <p:spPr>
            <a:xfrm rot="12146400">
              <a:off x="711360" y="2028600"/>
              <a:ext cx="3431520" cy="3108240"/>
            </a:xfrm>
            <a:custGeom>
              <a:avLst/>
              <a:gdLst>
                <a:gd name="textAreaLeft" fmla="*/ 0 w 3431520"/>
                <a:gd name="textAreaRight" fmla="*/ 3431880 w 3431520"/>
                <a:gd name="textAreaTop" fmla="*/ 0 h 3108240"/>
                <a:gd name="textAreaBottom" fmla="*/ 3108600 h 31082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4664"/>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3" name="WordArt 9" descr=""/>
            <p:cNvPicPr/>
            <p:nvPr/>
          </p:nvPicPr>
          <p:blipFill>
            <a:blip r:embed="rId2"/>
            <a:stretch/>
          </p:blipFill>
          <p:spPr>
            <a:xfrm>
              <a:off x="703440" y="2115360"/>
              <a:ext cx="2334960" cy="2444400"/>
            </a:xfrm>
            <a:prstGeom prst="rect">
              <a:avLst/>
            </a:prstGeom>
            <a:ln w="0">
              <a:noFill/>
            </a:ln>
          </p:spPr>
        </p:pic>
      </p:grpSp>
      <p:grpSp>
        <p:nvGrpSpPr>
          <p:cNvPr id="164" name="组合 3"/>
          <p:cNvGrpSpPr/>
          <p:nvPr/>
        </p:nvGrpSpPr>
        <p:grpSpPr>
          <a:xfrm>
            <a:off x="532080" y="1482480"/>
            <a:ext cx="3478680" cy="3646440"/>
            <a:chOff x="532080" y="1482480"/>
            <a:chExt cx="3478680" cy="3646440"/>
          </a:xfrm>
        </p:grpSpPr>
        <p:sp>
          <p:nvSpPr>
            <p:cNvPr id="165" name="AutoShape 5"/>
            <p:cNvSpPr/>
            <p:nvPr/>
          </p:nvSpPr>
          <p:spPr>
            <a:xfrm rot="5077800">
              <a:off x="589320" y="1716480"/>
              <a:ext cx="3363840" cy="3178080"/>
            </a:xfrm>
            <a:custGeom>
              <a:avLst/>
              <a:gdLst>
                <a:gd name="textAreaLeft" fmla="*/ 0 w 3363840"/>
                <a:gd name="textAreaRight" fmla="*/ 3364200 w 3363840"/>
                <a:gd name="textAreaTop" fmla="*/ 0 h 3178080"/>
                <a:gd name="textAreaBottom" fmla="*/ 3178440 h 317808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a146"/>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166" name="WordArt 8" descr=""/>
            <p:cNvPicPr/>
            <p:nvPr/>
          </p:nvPicPr>
          <p:blipFill>
            <a:blip r:embed="rId3"/>
            <a:stretch/>
          </p:blipFill>
          <p:spPr>
            <a:xfrm>
              <a:off x="1115280" y="3060000"/>
              <a:ext cx="2304360" cy="1700640"/>
            </a:xfrm>
            <a:prstGeom prst="rect">
              <a:avLst/>
            </a:prstGeom>
            <a:ln w="0">
              <a:noFill/>
            </a:ln>
          </p:spPr>
        </p:pic>
      </p:grpSp>
      <p:sp>
        <p:nvSpPr>
          <p:cNvPr id="167" name="流程图: 联系 16"/>
          <p:cNvSpPr/>
          <p:nvPr/>
        </p:nvSpPr>
        <p:spPr>
          <a:xfrm>
            <a:off x="10198080" y="1689120"/>
            <a:ext cx="1003320" cy="1003320"/>
          </a:xfrm>
          <a:prstGeom prst="flowChartConnector">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流程图: 联系 17"/>
          <p:cNvSpPr/>
          <p:nvPr/>
        </p:nvSpPr>
        <p:spPr>
          <a:xfrm>
            <a:off x="10198080" y="2925720"/>
            <a:ext cx="1003320" cy="1003320"/>
          </a:xfrm>
          <a:prstGeom prst="flowChartConnector">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流程图: 联系 18"/>
          <p:cNvSpPr/>
          <p:nvPr/>
        </p:nvSpPr>
        <p:spPr>
          <a:xfrm>
            <a:off x="10198080" y="4160880"/>
            <a:ext cx="1003320" cy="1003320"/>
          </a:xfrm>
          <a:prstGeom prst="flowChartConnector">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KSO_Shape"/>
          <p:cNvSpPr/>
          <p:nvPr/>
        </p:nvSpPr>
        <p:spPr>
          <a:xfrm>
            <a:off x="10410840" y="1797120"/>
            <a:ext cx="577800" cy="787320"/>
          </a:xfrm>
          <a:custGeom>
            <a:avLst/>
            <a:gdLst>
              <a:gd name="textAreaLeft" fmla="*/ 0 w 577800"/>
              <a:gd name="textAreaRight" fmla="*/ 578160 w 577800"/>
              <a:gd name="textAreaTop" fmla="*/ 0 h 787320"/>
              <a:gd name="textAreaBottom" fmla="*/ 787680 h 787320"/>
            </a:gdLst>
            <a:ahLst/>
            <a:rect l="textAreaLeft" t="textAreaTop" r="textAreaRight" b="textAreaBottom"/>
            <a:pathLst>
              <a:path w="1122363" h="1531938">
                <a:moveTo>
                  <a:pt x="600075" y="1019175"/>
                </a:moveTo>
                <a:lnTo>
                  <a:pt x="608240" y="1022344"/>
                </a:lnTo>
                <a:lnTo>
                  <a:pt x="615950" y="1025965"/>
                </a:lnTo>
                <a:lnTo>
                  <a:pt x="622981" y="1029134"/>
                </a:lnTo>
                <a:lnTo>
                  <a:pt x="629331" y="1032303"/>
                </a:lnTo>
                <a:lnTo>
                  <a:pt x="635227" y="1035925"/>
                </a:lnTo>
                <a:lnTo>
                  <a:pt x="640443" y="1039093"/>
                </a:lnTo>
                <a:lnTo>
                  <a:pt x="644979" y="1042488"/>
                </a:lnTo>
                <a:lnTo>
                  <a:pt x="649061" y="1045884"/>
                </a:lnTo>
                <a:lnTo>
                  <a:pt x="652236" y="1049505"/>
                </a:lnTo>
                <a:lnTo>
                  <a:pt x="655411" y="1053127"/>
                </a:lnTo>
                <a:lnTo>
                  <a:pt x="657906" y="1056974"/>
                </a:lnTo>
                <a:lnTo>
                  <a:pt x="659720" y="1061049"/>
                </a:lnTo>
                <a:lnTo>
                  <a:pt x="661534" y="1065576"/>
                </a:lnTo>
                <a:lnTo>
                  <a:pt x="662668" y="1070329"/>
                </a:lnTo>
                <a:lnTo>
                  <a:pt x="663348" y="1074856"/>
                </a:lnTo>
                <a:lnTo>
                  <a:pt x="663575" y="1080062"/>
                </a:lnTo>
                <a:lnTo>
                  <a:pt x="663575" y="1083230"/>
                </a:lnTo>
                <a:lnTo>
                  <a:pt x="663348" y="1086626"/>
                </a:lnTo>
                <a:lnTo>
                  <a:pt x="662895" y="1089568"/>
                </a:lnTo>
                <a:lnTo>
                  <a:pt x="662441" y="1092510"/>
                </a:lnTo>
                <a:lnTo>
                  <a:pt x="661761" y="1095227"/>
                </a:lnTo>
                <a:lnTo>
                  <a:pt x="660854" y="1097716"/>
                </a:lnTo>
                <a:lnTo>
                  <a:pt x="659947" y="1100432"/>
                </a:lnTo>
                <a:lnTo>
                  <a:pt x="659040" y="1102922"/>
                </a:lnTo>
                <a:lnTo>
                  <a:pt x="657679" y="1105186"/>
                </a:lnTo>
                <a:lnTo>
                  <a:pt x="656545" y="1107449"/>
                </a:lnTo>
                <a:lnTo>
                  <a:pt x="654957" y="1109486"/>
                </a:lnTo>
                <a:lnTo>
                  <a:pt x="653143" y="1111523"/>
                </a:lnTo>
                <a:lnTo>
                  <a:pt x="651556" y="1113334"/>
                </a:lnTo>
                <a:lnTo>
                  <a:pt x="649515" y="1115145"/>
                </a:lnTo>
                <a:lnTo>
                  <a:pt x="647473" y="1116729"/>
                </a:lnTo>
                <a:lnTo>
                  <a:pt x="645206" y="1118087"/>
                </a:lnTo>
                <a:lnTo>
                  <a:pt x="640670" y="1120803"/>
                </a:lnTo>
                <a:lnTo>
                  <a:pt x="635681" y="1123520"/>
                </a:lnTo>
                <a:lnTo>
                  <a:pt x="630238" y="1126009"/>
                </a:lnTo>
                <a:lnTo>
                  <a:pt x="625022" y="1128046"/>
                </a:lnTo>
                <a:lnTo>
                  <a:pt x="619125" y="1130310"/>
                </a:lnTo>
                <a:lnTo>
                  <a:pt x="613002" y="1132121"/>
                </a:lnTo>
                <a:lnTo>
                  <a:pt x="606652" y="1133705"/>
                </a:lnTo>
                <a:lnTo>
                  <a:pt x="600075" y="1135063"/>
                </a:lnTo>
                <a:lnTo>
                  <a:pt x="600075" y="1019175"/>
                </a:lnTo>
                <a:close/>
                <a:moveTo>
                  <a:pt x="538162" y="779462"/>
                </a:moveTo>
                <a:lnTo>
                  <a:pt x="538162" y="877887"/>
                </a:lnTo>
                <a:lnTo>
                  <a:pt x="529967" y="875827"/>
                </a:lnTo>
                <a:lnTo>
                  <a:pt x="522227" y="873538"/>
                </a:lnTo>
                <a:lnTo>
                  <a:pt x="515398" y="870791"/>
                </a:lnTo>
                <a:lnTo>
                  <a:pt x="509024" y="868273"/>
                </a:lnTo>
                <a:lnTo>
                  <a:pt x="503333" y="865298"/>
                </a:lnTo>
                <a:lnTo>
                  <a:pt x="500829" y="863467"/>
                </a:lnTo>
                <a:lnTo>
                  <a:pt x="498553" y="861864"/>
                </a:lnTo>
                <a:lnTo>
                  <a:pt x="496276" y="860262"/>
                </a:lnTo>
                <a:lnTo>
                  <a:pt x="494227" y="858431"/>
                </a:lnTo>
                <a:lnTo>
                  <a:pt x="492406" y="856600"/>
                </a:lnTo>
                <a:lnTo>
                  <a:pt x="490813" y="854540"/>
                </a:lnTo>
                <a:lnTo>
                  <a:pt x="487626" y="850877"/>
                </a:lnTo>
                <a:lnTo>
                  <a:pt x="485122" y="846986"/>
                </a:lnTo>
                <a:lnTo>
                  <a:pt x="482618" y="843324"/>
                </a:lnTo>
                <a:lnTo>
                  <a:pt x="481024" y="839662"/>
                </a:lnTo>
                <a:lnTo>
                  <a:pt x="479658" y="835999"/>
                </a:lnTo>
                <a:lnTo>
                  <a:pt x="478520" y="832337"/>
                </a:lnTo>
                <a:lnTo>
                  <a:pt x="478065" y="828903"/>
                </a:lnTo>
                <a:lnTo>
                  <a:pt x="477837" y="825241"/>
                </a:lnTo>
                <a:lnTo>
                  <a:pt x="477837" y="822952"/>
                </a:lnTo>
                <a:lnTo>
                  <a:pt x="478065" y="820434"/>
                </a:lnTo>
                <a:lnTo>
                  <a:pt x="478520" y="817916"/>
                </a:lnTo>
                <a:lnTo>
                  <a:pt x="478975" y="815627"/>
                </a:lnTo>
                <a:lnTo>
                  <a:pt x="479431" y="813339"/>
                </a:lnTo>
                <a:lnTo>
                  <a:pt x="480341" y="810821"/>
                </a:lnTo>
                <a:lnTo>
                  <a:pt x="481252" y="808761"/>
                </a:lnTo>
                <a:lnTo>
                  <a:pt x="482162" y="806701"/>
                </a:lnTo>
                <a:lnTo>
                  <a:pt x="483528" y="804869"/>
                </a:lnTo>
                <a:lnTo>
                  <a:pt x="484894" y="802809"/>
                </a:lnTo>
                <a:lnTo>
                  <a:pt x="486260" y="800978"/>
                </a:lnTo>
                <a:lnTo>
                  <a:pt x="487853" y="799147"/>
                </a:lnTo>
                <a:lnTo>
                  <a:pt x="489447" y="797545"/>
                </a:lnTo>
                <a:lnTo>
                  <a:pt x="491496" y="795714"/>
                </a:lnTo>
                <a:lnTo>
                  <a:pt x="495593" y="792738"/>
                </a:lnTo>
                <a:lnTo>
                  <a:pt x="500146" y="789991"/>
                </a:lnTo>
                <a:lnTo>
                  <a:pt x="504699" y="787244"/>
                </a:lnTo>
                <a:lnTo>
                  <a:pt x="509935" y="785184"/>
                </a:lnTo>
                <a:lnTo>
                  <a:pt x="515170" y="783582"/>
                </a:lnTo>
                <a:lnTo>
                  <a:pt x="520634" y="781980"/>
                </a:lnTo>
                <a:lnTo>
                  <a:pt x="526097" y="780835"/>
                </a:lnTo>
                <a:lnTo>
                  <a:pt x="532016" y="779920"/>
                </a:lnTo>
                <a:lnTo>
                  <a:pt x="538162" y="779462"/>
                </a:lnTo>
                <a:close/>
                <a:moveTo>
                  <a:pt x="538626" y="654332"/>
                </a:moveTo>
                <a:lnTo>
                  <a:pt x="538626" y="688810"/>
                </a:lnTo>
                <a:lnTo>
                  <a:pt x="530011" y="689945"/>
                </a:lnTo>
                <a:lnTo>
                  <a:pt x="521624" y="691079"/>
                </a:lnTo>
                <a:lnTo>
                  <a:pt x="513236" y="692440"/>
                </a:lnTo>
                <a:lnTo>
                  <a:pt x="505302" y="694028"/>
                </a:lnTo>
                <a:lnTo>
                  <a:pt x="497594" y="695842"/>
                </a:lnTo>
                <a:lnTo>
                  <a:pt x="490113" y="697657"/>
                </a:lnTo>
                <a:lnTo>
                  <a:pt x="482859" y="699471"/>
                </a:lnTo>
                <a:lnTo>
                  <a:pt x="475831" y="701740"/>
                </a:lnTo>
                <a:lnTo>
                  <a:pt x="469257" y="704008"/>
                </a:lnTo>
                <a:lnTo>
                  <a:pt x="462683" y="706276"/>
                </a:lnTo>
                <a:lnTo>
                  <a:pt x="456336" y="708998"/>
                </a:lnTo>
                <a:lnTo>
                  <a:pt x="450215" y="711720"/>
                </a:lnTo>
                <a:lnTo>
                  <a:pt x="444321" y="714442"/>
                </a:lnTo>
                <a:lnTo>
                  <a:pt x="438654" y="717618"/>
                </a:lnTo>
                <a:lnTo>
                  <a:pt x="433440" y="720567"/>
                </a:lnTo>
                <a:lnTo>
                  <a:pt x="428226" y="723969"/>
                </a:lnTo>
                <a:lnTo>
                  <a:pt x="423238" y="727372"/>
                </a:lnTo>
                <a:lnTo>
                  <a:pt x="418478" y="731001"/>
                </a:lnTo>
                <a:lnTo>
                  <a:pt x="413944" y="734403"/>
                </a:lnTo>
                <a:lnTo>
                  <a:pt x="409410" y="738033"/>
                </a:lnTo>
                <a:lnTo>
                  <a:pt x="405556" y="741435"/>
                </a:lnTo>
                <a:lnTo>
                  <a:pt x="401476" y="744837"/>
                </a:lnTo>
                <a:lnTo>
                  <a:pt x="397849" y="748694"/>
                </a:lnTo>
                <a:lnTo>
                  <a:pt x="394221" y="752323"/>
                </a:lnTo>
                <a:lnTo>
                  <a:pt x="391048" y="755952"/>
                </a:lnTo>
                <a:lnTo>
                  <a:pt x="387874" y="760035"/>
                </a:lnTo>
                <a:lnTo>
                  <a:pt x="384927" y="763664"/>
                </a:lnTo>
                <a:lnTo>
                  <a:pt x="382207" y="767520"/>
                </a:lnTo>
                <a:lnTo>
                  <a:pt x="379486" y="771377"/>
                </a:lnTo>
                <a:lnTo>
                  <a:pt x="377219" y="775460"/>
                </a:lnTo>
                <a:lnTo>
                  <a:pt x="375179" y="779316"/>
                </a:lnTo>
                <a:lnTo>
                  <a:pt x="373366" y="783399"/>
                </a:lnTo>
                <a:lnTo>
                  <a:pt x="369738" y="791338"/>
                </a:lnTo>
                <a:lnTo>
                  <a:pt x="367018" y="799277"/>
                </a:lnTo>
                <a:lnTo>
                  <a:pt x="364298" y="806989"/>
                </a:lnTo>
                <a:lnTo>
                  <a:pt x="362258" y="814701"/>
                </a:lnTo>
                <a:lnTo>
                  <a:pt x="360671" y="822187"/>
                </a:lnTo>
                <a:lnTo>
                  <a:pt x="359537" y="829672"/>
                </a:lnTo>
                <a:lnTo>
                  <a:pt x="358857" y="836931"/>
                </a:lnTo>
                <a:lnTo>
                  <a:pt x="358630" y="844189"/>
                </a:lnTo>
                <a:lnTo>
                  <a:pt x="358857" y="851901"/>
                </a:lnTo>
                <a:lnTo>
                  <a:pt x="359537" y="859614"/>
                </a:lnTo>
                <a:lnTo>
                  <a:pt x="360444" y="867326"/>
                </a:lnTo>
                <a:lnTo>
                  <a:pt x="362031" y="874811"/>
                </a:lnTo>
                <a:lnTo>
                  <a:pt x="363844" y="882297"/>
                </a:lnTo>
                <a:lnTo>
                  <a:pt x="366111" y="889782"/>
                </a:lnTo>
                <a:lnTo>
                  <a:pt x="368832" y="897267"/>
                </a:lnTo>
                <a:lnTo>
                  <a:pt x="371779" y="904526"/>
                </a:lnTo>
                <a:lnTo>
                  <a:pt x="373592" y="907928"/>
                </a:lnTo>
                <a:lnTo>
                  <a:pt x="375633" y="911558"/>
                </a:lnTo>
                <a:lnTo>
                  <a:pt x="377673" y="915187"/>
                </a:lnTo>
                <a:lnTo>
                  <a:pt x="379940" y="918816"/>
                </a:lnTo>
                <a:lnTo>
                  <a:pt x="382660" y="922219"/>
                </a:lnTo>
                <a:lnTo>
                  <a:pt x="385380" y="925848"/>
                </a:lnTo>
                <a:lnTo>
                  <a:pt x="388554" y="929250"/>
                </a:lnTo>
                <a:lnTo>
                  <a:pt x="391501" y="932880"/>
                </a:lnTo>
                <a:lnTo>
                  <a:pt x="395128" y="936282"/>
                </a:lnTo>
                <a:lnTo>
                  <a:pt x="398529" y="939685"/>
                </a:lnTo>
                <a:lnTo>
                  <a:pt x="402609" y="943087"/>
                </a:lnTo>
                <a:lnTo>
                  <a:pt x="406463" y="946489"/>
                </a:lnTo>
                <a:lnTo>
                  <a:pt x="410770" y="949892"/>
                </a:lnTo>
                <a:lnTo>
                  <a:pt x="415077" y="953294"/>
                </a:lnTo>
                <a:lnTo>
                  <a:pt x="424372" y="959646"/>
                </a:lnTo>
                <a:lnTo>
                  <a:pt x="429586" y="963048"/>
                </a:lnTo>
                <a:lnTo>
                  <a:pt x="434800" y="966224"/>
                </a:lnTo>
                <a:lnTo>
                  <a:pt x="440467" y="969626"/>
                </a:lnTo>
                <a:lnTo>
                  <a:pt x="446361" y="972575"/>
                </a:lnTo>
                <a:lnTo>
                  <a:pt x="452482" y="975751"/>
                </a:lnTo>
                <a:lnTo>
                  <a:pt x="459056" y="978473"/>
                </a:lnTo>
                <a:lnTo>
                  <a:pt x="465630" y="981421"/>
                </a:lnTo>
                <a:lnTo>
                  <a:pt x="472658" y="984370"/>
                </a:lnTo>
                <a:lnTo>
                  <a:pt x="479912" y="987092"/>
                </a:lnTo>
                <a:lnTo>
                  <a:pt x="487619" y="989814"/>
                </a:lnTo>
                <a:lnTo>
                  <a:pt x="495327" y="992309"/>
                </a:lnTo>
                <a:lnTo>
                  <a:pt x="503488" y="994804"/>
                </a:lnTo>
                <a:lnTo>
                  <a:pt x="520490" y="1000021"/>
                </a:lnTo>
                <a:lnTo>
                  <a:pt x="538626" y="1004785"/>
                </a:lnTo>
                <a:lnTo>
                  <a:pt x="538626" y="1135439"/>
                </a:lnTo>
                <a:lnTo>
                  <a:pt x="530918" y="1134305"/>
                </a:lnTo>
                <a:lnTo>
                  <a:pt x="523210" y="1133171"/>
                </a:lnTo>
                <a:lnTo>
                  <a:pt x="515503" y="1131583"/>
                </a:lnTo>
                <a:lnTo>
                  <a:pt x="507795" y="1129768"/>
                </a:lnTo>
                <a:lnTo>
                  <a:pt x="500088" y="1127727"/>
                </a:lnTo>
                <a:lnTo>
                  <a:pt x="492607" y="1125685"/>
                </a:lnTo>
                <a:lnTo>
                  <a:pt x="485126" y="1123417"/>
                </a:lnTo>
                <a:lnTo>
                  <a:pt x="477645" y="1120695"/>
                </a:lnTo>
                <a:lnTo>
                  <a:pt x="470164" y="1117973"/>
                </a:lnTo>
                <a:lnTo>
                  <a:pt x="462683" y="1115024"/>
                </a:lnTo>
                <a:lnTo>
                  <a:pt x="455429" y="1111849"/>
                </a:lnTo>
                <a:lnTo>
                  <a:pt x="448175" y="1108673"/>
                </a:lnTo>
                <a:lnTo>
                  <a:pt x="440920" y="1105044"/>
                </a:lnTo>
                <a:lnTo>
                  <a:pt x="433893" y="1101641"/>
                </a:lnTo>
                <a:lnTo>
                  <a:pt x="426639" y="1097785"/>
                </a:lnTo>
                <a:lnTo>
                  <a:pt x="419611" y="1093929"/>
                </a:lnTo>
                <a:lnTo>
                  <a:pt x="405783" y="1085310"/>
                </a:lnTo>
                <a:lnTo>
                  <a:pt x="392181" y="1076690"/>
                </a:lnTo>
                <a:lnTo>
                  <a:pt x="379033" y="1067617"/>
                </a:lnTo>
                <a:lnTo>
                  <a:pt x="366338" y="1058317"/>
                </a:lnTo>
                <a:lnTo>
                  <a:pt x="366338" y="1169917"/>
                </a:lnTo>
                <a:lnTo>
                  <a:pt x="376313" y="1175588"/>
                </a:lnTo>
                <a:lnTo>
                  <a:pt x="386287" y="1181032"/>
                </a:lnTo>
                <a:lnTo>
                  <a:pt x="396715" y="1186249"/>
                </a:lnTo>
                <a:lnTo>
                  <a:pt x="407370" y="1191466"/>
                </a:lnTo>
                <a:lnTo>
                  <a:pt x="418251" y="1196003"/>
                </a:lnTo>
                <a:lnTo>
                  <a:pt x="429359" y="1200539"/>
                </a:lnTo>
                <a:lnTo>
                  <a:pt x="440694" y="1204849"/>
                </a:lnTo>
                <a:lnTo>
                  <a:pt x="452255" y="1208705"/>
                </a:lnTo>
                <a:lnTo>
                  <a:pt x="464043" y="1212561"/>
                </a:lnTo>
                <a:lnTo>
                  <a:pt x="475151" y="1215964"/>
                </a:lnTo>
                <a:lnTo>
                  <a:pt x="486486" y="1218686"/>
                </a:lnTo>
                <a:lnTo>
                  <a:pt x="497367" y="1221634"/>
                </a:lnTo>
                <a:lnTo>
                  <a:pt x="508022" y="1223903"/>
                </a:lnTo>
                <a:lnTo>
                  <a:pt x="518450" y="1225944"/>
                </a:lnTo>
                <a:lnTo>
                  <a:pt x="528878" y="1227759"/>
                </a:lnTo>
                <a:lnTo>
                  <a:pt x="538626" y="1229120"/>
                </a:lnTo>
                <a:lnTo>
                  <a:pt x="538626" y="1297396"/>
                </a:lnTo>
                <a:lnTo>
                  <a:pt x="600740" y="1297396"/>
                </a:lnTo>
                <a:lnTo>
                  <a:pt x="600740" y="1229120"/>
                </a:lnTo>
                <a:lnTo>
                  <a:pt x="608674" y="1228213"/>
                </a:lnTo>
                <a:lnTo>
                  <a:pt x="616608" y="1227305"/>
                </a:lnTo>
                <a:lnTo>
                  <a:pt x="624089" y="1225944"/>
                </a:lnTo>
                <a:lnTo>
                  <a:pt x="631570" y="1224810"/>
                </a:lnTo>
                <a:lnTo>
                  <a:pt x="638824" y="1223449"/>
                </a:lnTo>
                <a:lnTo>
                  <a:pt x="645852" y="1221861"/>
                </a:lnTo>
                <a:lnTo>
                  <a:pt x="652880" y="1220273"/>
                </a:lnTo>
                <a:lnTo>
                  <a:pt x="659454" y="1218232"/>
                </a:lnTo>
                <a:lnTo>
                  <a:pt x="666028" y="1216191"/>
                </a:lnTo>
                <a:lnTo>
                  <a:pt x="672375" y="1214149"/>
                </a:lnTo>
                <a:lnTo>
                  <a:pt x="678723" y="1211881"/>
                </a:lnTo>
                <a:lnTo>
                  <a:pt x="684617" y="1209386"/>
                </a:lnTo>
                <a:lnTo>
                  <a:pt x="690284" y="1206890"/>
                </a:lnTo>
                <a:lnTo>
                  <a:pt x="695951" y="1203942"/>
                </a:lnTo>
                <a:lnTo>
                  <a:pt x="701392" y="1200993"/>
                </a:lnTo>
                <a:lnTo>
                  <a:pt x="706833" y="1198044"/>
                </a:lnTo>
                <a:lnTo>
                  <a:pt x="711593" y="1194868"/>
                </a:lnTo>
                <a:lnTo>
                  <a:pt x="716581" y="1191693"/>
                </a:lnTo>
                <a:lnTo>
                  <a:pt x="721341" y="1188290"/>
                </a:lnTo>
                <a:lnTo>
                  <a:pt x="725875" y="1184888"/>
                </a:lnTo>
                <a:lnTo>
                  <a:pt x="730182" y="1181486"/>
                </a:lnTo>
                <a:lnTo>
                  <a:pt x="734263" y="1178083"/>
                </a:lnTo>
                <a:lnTo>
                  <a:pt x="738343" y="1174227"/>
                </a:lnTo>
                <a:lnTo>
                  <a:pt x="742197" y="1170825"/>
                </a:lnTo>
                <a:lnTo>
                  <a:pt x="745824" y="1166968"/>
                </a:lnTo>
                <a:lnTo>
                  <a:pt x="749225" y="1163339"/>
                </a:lnTo>
                <a:lnTo>
                  <a:pt x="752625" y="1159256"/>
                </a:lnTo>
                <a:lnTo>
                  <a:pt x="755799" y="1155627"/>
                </a:lnTo>
                <a:lnTo>
                  <a:pt x="758746" y="1151544"/>
                </a:lnTo>
                <a:lnTo>
                  <a:pt x="761466" y="1147461"/>
                </a:lnTo>
                <a:lnTo>
                  <a:pt x="763960" y="1143378"/>
                </a:lnTo>
                <a:lnTo>
                  <a:pt x="766453" y="1139295"/>
                </a:lnTo>
                <a:lnTo>
                  <a:pt x="770760" y="1130676"/>
                </a:lnTo>
                <a:lnTo>
                  <a:pt x="774614" y="1122056"/>
                </a:lnTo>
                <a:lnTo>
                  <a:pt x="777561" y="1113436"/>
                </a:lnTo>
                <a:lnTo>
                  <a:pt x="778921" y="1109354"/>
                </a:lnTo>
                <a:lnTo>
                  <a:pt x="780055" y="1105044"/>
                </a:lnTo>
                <a:lnTo>
                  <a:pt x="781415" y="1100507"/>
                </a:lnTo>
                <a:lnTo>
                  <a:pt x="782322" y="1096424"/>
                </a:lnTo>
                <a:lnTo>
                  <a:pt x="783002" y="1092114"/>
                </a:lnTo>
                <a:lnTo>
                  <a:pt x="783682" y="1087805"/>
                </a:lnTo>
                <a:lnTo>
                  <a:pt x="784135" y="1083495"/>
                </a:lnTo>
                <a:lnTo>
                  <a:pt x="784589" y="1079185"/>
                </a:lnTo>
                <a:lnTo>
                  <a:pt x="784816" y="1074875"/>
                </a:lnTo>
                <a:lnTo>
                  <a:pt x="784816" y="1070339"/>
                </a:lnTo>
                <a:lnTo>
                  <a:pt x="784589" y="1061719"/>
                </a:lnTo>
                <a:lnTo>
                  <a:pt x="784135" y="1053326"/>
                </a:lnTo>
                <a:lnTo>
                  <a:pt x="783229" y="1045161"/>
                </a:lnTo>
                <a:lnTo>
                  <a:pt x="781869" y="1037222"/>
                </a:lnTo>
                <a:lnTo>
                  <a:pt x="779828" y="1029509"/>
                </a:lnTo>
                <a:lnTo>
                  <a:pt x="777788" y="1022251"/>
                </a:lnTo>
                <a:lnTo>
                  <a:pt x="775294" y="1014992"/>
                </a:lnTo>
                <a:lnTo>
                  <a:pt x="772347" y="1007960"/>
                </a:lnTo>
                <a:lnTo>
                  <a:pt x="769174" y="1001156"/>
                </a:lnTo>
                <a:lnTo>
                  <a:pt x="765320" y="994577"/>
                </a:lnTo>
                <a:lnTo>
                  <a:pt x="761466" y="988226"/>
                </a:lnTo>
                <a:lnTo>
                  <a:pt x="756705" y="982329"/>
                </a:lnTo>
                <a:lnTo>
                  <a:pt x="752172" y="976431"/>
                </a:lnTo>
                <a:lnTo>
                  <a:pt x="746731" y="970987"/>
                </a:lnTo>
                <a:lnTo>
                  <a:pt x="741064" y="965543"/>
                </a:lnTo>
                <a:lnTo>
                  <a:pt x="734943" y="960553"/>
                </a:lnTo>
                <a:lnTo>
                  <a:pt x="728822" y="955563"/>
                </a:lnTo>
                <a:lnTo>
                  <a:pt x="722248" y="950572"/>
                </a:lnTo>
                <a:lnTo>
                  <a:pt x="715220" y="946036"/>
                </a:lnTo>
                <a:lnTo>
                  <a:pt x="708193" y="941272"/>
                </a:lnTo>
                <a:lnTo>
                  <a:pt x="700712" y="936509"/>
                </a:lnTo>
                <a:lnTo>
                  <a:pt x="693004" y="932199"/>
                </a:lnTo>
                <a:lnTo>
                  <a:pt x="685070" y="927889"/>
                </a:lnTo>
                <a:lnTo>
                  <a:pt x="676456" y="923806"/>
                </a:lnTo>
                <a:lnTo>
                  <a:pt x="668068" y="919497"/>
                </a:lnTo>
                <a:lnTo>
                  <a:pt x="659227" y="915641"/>
                </a:lnTo>
                <a:lnTo>
                  <a:pt x="650159" y="911558"/>
                </a:lnTo>
                <a:lnTo>
                  <a:pt x="641091" y="907475"/>
                </a:lnTo>
                <a:lnTo>
                  <a:pt x="631117" y="903845"/>
                </a:lnTo>
                <a:lnTo>
                  <a:pt x="621369" y="899989"/>
                </a:lnTo>
                <a:lnTo>
                  <a:pt x="611394" y="896587"/>
                </a:lnTo>
                <a:lnTo>
                  <a:pt x="600740" y="892958"/>
                </a:lnTo>
                <a:lnTo>
                  <a:pt x="600740" y="785894"/>
                </a:lnTo>
                <a:lnTo>
                  <a:pt x="612755" y="788616"/>
                </a:lnTo>
                <a:lnTo>
                  <a:pt x="624543" y="792018"/>
                </a:lnTo>
                <a:lnTo>
                  <a:pt x="636331" y="795421"/>
                </a:lnTo>
                <a:lnTo>
                  <a:pt x="647892" y="799504"/>
                </a:lnTo>
                <a:lnTo>
                  <a:pt x="659227" y="803813"/>
                </a:lnTo>
                <a:lnTo>
                  <a:pt x="670562" y="808577"/>
                </a:lnTo>
                <a:lnTo>
                  <a:pt x="681443" y="813794"/>
                </a:lnTo>
                <a:lnTo>
                  <a:pt x="692324" y="819465"/>
                </a:lnTo>
                <a:lnTo>
                  <a:pt x="702752" y="824909"/>
                </a:lnTo>
                <a:lnTo>
                  <a:pt x="712727" y="830806"/>
                </a:lnTo>
                <a:lnTo>
                  <a:pt x="722475" y="836477"/>
                </a:lnTo>
                <a:lnTo>
                  <a:pt x="731542" y="842148"/>
                </a:lnTo>
                <a:lnTo>
                  <a:pt x="740157" y="847592"/>
                </a:lnTo>
                <a:lnTo>
                  <a:pt x="748318" y="853262"/>
                </a:lnTo>
                <a:lnTo>
                  <a:pt x="756025" y="858933"/>
                </a:lnTo>
                <a:lnTo>
                  <a:pt x="763280" y="864604"/>
                </a:lnTo>
                <a:lnTo>
                  <a:pt x="763280" y="748240"/>
                </a:lnTo>
                <a:lnTo>
                  <a:pt x="752625" y="741889"/>
                </a:lnTo>
                <a:lnTo>
                  <a:pt x="741744" y="735764"/>
                </a:lnTo>
                <a:lnTo>
                  <a:pt x="731316" y="730547"/>
                </a:lnTo>
                <a:lnTo>
                  <a:pt x="720888" y="725103"/>
                </a:lnTo>
                <a:lnTo>
                  <a:pt x="710913" y="720340"/>
                </a:lnTo>
                <a:lnTo>
                  <a:pt x="701165" y="716030"/>
                </a:lnTo>
                <a:lnTo>
                  <a:pt x="691644" y="711720"/>
                </a:lnTo>
                <a:lnTo>
                  <a:pt x="682123" y="708318"/>
                </a:lnTo>
                <a:lnTo>
                  <a:pt x="672602" y="704689"/>
                </a:lnTo>
                <a:lnTo>
                  <a:pt x="663081" y="701740"/>
                </a:lnTo>
                <a:lnTo>
                  <a:pt x="653106" y="698791"/>
                </a:lnTo>
                <a:lnTo>
                  <a:pt x="643132" y="696296"/>
                </a:lnTo>
                <a:lnTo>
                  <a:pt x="632930" y="694254"/>
                </a:lnTo>
                <a:lnTo>
                  <a:pt x="622276" y="691986"/>
                </a:lnTo>
                <a:lnTo>
                  <a:pt x="611848" y="690171"/>
                </a:lnTo>
                <a:lnTo>
                  <a:pt x="600740" y="688810"/>
                </a:lnTo>
                <a:lnTo>
                  <a:pt x="600740" y="654332"/>
                </a:lnTo>
                <a:lnTo>
                  <a:pt x="538626" y="654332"/>
                </a:lnTo>
                <a:close/>
                <a:moveTo>
                  <a:pt x="549280" y="371475"/>
                </a:moveTo>
                <a:lnTo>
                  <a:pt x="564015" y="371475"/>
                </a:lnTo>
                <a:lnTo>
                  <a:pt x="577844" y="371475"/>
                </a:lnTo>
                <a:lnTo>
                  <a:pt x="591219" y="371929"/>
                </a:lnTo>
                <a:lnTo>
                  <a:pt x="604594" y="372609"/>
                </a:lnTo>
                <a:lnTo>
                  <a:pt x="617515" y="373743"/>
                </a:lnTo>
                <a:lnTo>
                  <a:pt x="630210" y="375104"/>
                </a:lnTo>
                <a:lnTo>
                  <a:pt x="642905" y="376692"/>
                </a:lnTo>
                <a:lnTo>
                  <a:pt x="655373" y="378507"/>
                </a:lnTo>
                <a:lnTo>
                  <a:pt x="667388" y="380775"/>
                </a:lnTo>
                <a:lnTo>
                  <a:pt x="679403" y="383497"/>
                </a:lnTo>
                <a:lnTo>
                  <a:pt x="691191" y="386219"/>
                </a:lnTo>
                <a:lnTo>
                  <a:pt x="702752" y="389168"/>
                </a:lnTo>
                <a:lnTo>
                  <a:pt x="714314" y="392797"/>
                </a:lnTo>
                <a:lnTo>
                  <a:pt x="725422" y="396426"/>
                </a:lnTo>
                <a:lnTo>
                  <a:pt x="736530" y="400509"/>
                </a:lnTo>
                <a:lnTo>
                  <a:pt x="747184" y="405046"/>
                </a:lnTo>
                <a:lnTo>
                  <a:pt x="757839" y="409582"/>
                </a:lnTo>
                <a:lnTo>
                  <a:pt x="768267" y="414573"/>
                </a:lnTo>
                <a:lnTo>
                  <a:pt x="778468" y="420017"/>
                </a:lnTo>
                <a:lnTo>
                  <a:pt x="788669" y="425461"/>
                </a:lnTo>
                <a:lnTo>
                  <a:pt x="798644" y="431358"/>
                </a:lnTo>
                <a:lnTo>
                  <a:pt x="808392" y="437709"/>
                </a:lnTo>
                <a:lnTo>
                  <a:pt x="818140" y="444288"/>
                </a:lnTo>
                <a:lnTo>
                  <a:pt x="827434" y="451092"/>
                </a:lnTo>
                <a:lnTo>
                  <a:pt x="836729" y="458351"/>
                </a:lnTo>
                <a:lnTo>
                  <a:pt x="845796" y="466063"/>
                </a:lnTo>
                <a:lnTo>
                  <a:pt x="854864" y="473775"/>
                </a:lnTo>
                <a:lnTo>
                  <a:pt x="863705" y="481941"/>
                </a:lnTo>
                <a:lnTo>
                  <a:pt x="872319" y="490561"/>
                </a:lnTo>
                <a:lnTo>
                  <a:pt x="880934" y="499407"/>
                </a:lnTo>
                <a:lnTo>
                  <a:pt x="889095" y="508707"/>
                </a:lnTo>
                <a:lnTo>
                  <a:pt x="897483" y="518234"/>
                </a:lnTo>
                <a:lnTo>
                  <a:pt x="905417" y="527988"/>
                </a:lnTo>
                <a:lnTo>
                  <a:pt x="913351" y="538422"/>
                </a:lnTo>
                <a:lnTo>
                  <a:pt x="921512" y="548856"/>
                </a:lnTo>
                <a:lnTo>
                  <a:pt x="929220" y="559744"/>
                </a:lnTo>
                <a:lnTo>
                  <a:pt x="936701" y="571086"/>
                </a:lnTo>
                <a:lnTo>
                  <a:pt x="944182" y="582654"/>
                </a:lnTo>
                <a:lnTo>
                  <a:pt x="951436" y="594449"/>
                </a:lnTo>
                <a:lnTo>
                  <a:pt x="958690" y="606925"/>
                </a:lnTo>
                <a:lnTo>
                  <a:pt x="965944" y="619627"/>
                </a:lnTo>
                <a:lnTo>
                  <a:pt x="972745" y="632330"/>
                </a:lnTo>
                <a:lnTo>
                  <a:pt x="979546" y="645713"/>
                </a:lnTo>
                <a:lnTo>
                  <a:pt x="986347" y="659549"/>
                </a:lnTo>
                <a:lnTo>
                  <a:pt x="993148" y="673613"/>
                </a:lnTo>
                <a:lnTo>
                  <a:pt x="999722" y="687903"/>
                </a:lnTo>
                <a:lnTo>
                  <a:pt x="1006069" y="702647"/>
                </a:lnTo>
                <a:lnTo>
                  <a:pt x="1012643" y="717845"/>
                </a:lnTo>
                <a:lnTo>
                  <a:pt x="1018991" y="733269"/>
                </a:lnTo>
                <a:lnTo>
                  <a:pt x="1025111" y="748920"/>
                </a:lnTo>
                <a:lnTo>
                  <a:pt x="1031005" y="765252"/>
                </a:lnTo>
                <a:lnTo>
                  <a:pt x="1037126" y="781584"/>
                </a:lnTo>
                <a:lnTo>
                  <a:pt x="1043247" y="798823"/>
                </a:lnTo>
                <a:lnTo>
                  <a:pt x="1049141" y="816062"/>
                </a:lnTo>
                <a:lnTo>
                  <a:pt x="1054808" y="833528"/>
                </a:lnTo>
                <a:lnTo>
                  <a:pt x="1060476" y="851674"/>
                </a:lnTo>
                <a:lnTo>
                  <a:pt x="1066143" y="870048"/>
                </a:lnTo>
                <a:lnTo>
                  <a:pt x="1071810" y="888875"/>
                </a:lnTo>
                <a:lnTo>
                  <a:pt x="1077478" y="907928"/>
                </a:lnTo>
                <a:lnTo>
                  <a:pt x="1082692" y="927436"/>
                </a:lnTo>
                <a:lnTo>
                  <a:pt x="1088132" y="947624"/>
                </a:lnTo>
                <a:lnTo>
                  <a:pt x="1093573" y="967812"/>
                </a:lnTo>
                <a:lnTo>
                  <a:pt x="1098787" y="988453"/>
                </a:lnTo>
                <a:lnTo>
                  <a:pt x="1109215" y="1030870"/>
                </a:lnTo>
                <a:lnTo>
                  <a:pt x="1112615" y="1046522"/>
                </a:lnTo>
                <a:lnTo>
                  <a:pt x="1115789" y="1061946"/>
                </a:lnTo>
                <a:lnTo>
                  <a:pt x="1118056" y="1076917"/>
                </a:lnTo>
                <a:lnTo>
                  <a:pt x="1119870" y="1091888"/>
                </a:lnTo>
                <a:lnTo>
                  <a:pt x="1121456" y="1106405"/>
                </a:lnTo>
                <a:lnTo>
                  <a:pt x="1122136" y="1120922"/>
                </a:lnTo>
                <a:lnTo>
                  <a:pt x="1122363" y="1134985"/>
                </a:lnTo>
                <a:lnTo>
                  <a:pt x="1122136" y="1148822"/>
                </a:lnTo>
                <a:lnTo>
                  <a:pt x="1121456" y="1162659"/>
                </a:lnTo>
                <a:lnTo>
                  <a:pt x="1120096" y="1176042"/>
                </a:lnTo>
                <a:lnTo>
                  <a:pt x="1118509" y="1188971"/>
                </a:lnTo>
                <a:lnTo>
                  <a:pt x="1116469" y="1201900"/>
                </a:lnTo>
                <a:lnTo>
                  <a:pt x="1113749" y="1214603"/>
                </a:lnTo>
                <a:lnTo>
                  <a:pt x="1110575" y="1227078"/>
                </a:lnTo>
                <a:lnTo>
                  <a:pt x="1107175" y="1239100"/>
                </a:lnTo>
                <a:lnTo>
                  <a:pt x="1103321" y="1250896"/>
                </a:lnTo>
                <a:lnTo>
                  <a:pt x="1098787" y="1262464"/>
                </a:lnTo>
                <a:lnTo>
                  <a:pt x="1094026" y="1274032"/>
                </a:lnTo>
                <a:lnTo>
                  <a:pt x="1088812" y="1284920"/>
                </a:lnTo>
                <a:lnTo>
                  <a:pt x="1083145" y="1296035"/>
                </a:lnTo>
                <a:lnTo>
                  <a:pt x="1077251" y="1306469"/>
                </a:lnTo>
                <a:lnTo>
                  <a:pt x="1070904" y="1317130"/>
                </a:lnTo>
                <a:lnTo>
                  <a:pt x="1064103" y="1327110"/>
                </a:lnTo>
                <a:lnTo>
                  <a:pt x="1056849" y="1336864"/>
                </a:lnTo>
                <a:lnTo>
                  <a:pt x="1049368" y="1346845"/>
                </a:lnTo>
                <a:lnTo>
                  <a:pt x="1041660" y="1356145"/>
                </a:lnTo>
                <a:lnTo>
                  <a:pt x="1033499" y="1365218"/>
                </a:lnTo>
                <a:lnTo>
                  <a:pt x="1024658" y="1374064"/>
                </a:lnTo>
                <a:lnTo>
                  <a:pt x="1015817" y="1382911"/>
                </a:lnTo>
                <a:lnTo>
                  <a:pt x="1006749" y="1391303"/>
                </a:lnTo>
                <a:lnTo>
                  <a:pt x="997228" y="1399469"/>
                </a:lnTo>
                <a:lnTo>
                  <a:pt x="987253" y="1407408"/>
                </a:lnTo>
                <a:lnTo>
                  <a:pt x="977279" y="1415121"/>
                </a:lnTo>
                <a:lnTo>
                  <a:pt x="967078" y="1422606"/>
                </a:lnTo>
                <a:lnTo>
                  <a:pt x="956196" y="1429638"/>
                </a:lnTo>
                <a:lnTo>
                  <a:pt x="945315" y="1436669"/>
                </a:lnTo>
                <a:lnTo>
                  <a:pt x="934207" y="1443474"/>
                </a:lnTo>
                <a:lnTo>
                  <a:pt x="922872" y="1449826"/>
                </a:lnTo>
                <a:lnTo>
                  <a:pt x="911084" y="1455950"/>
                </a:lnTo>
                <a:lnTo>
                  <a:pt x="899296" y="1461848"/>
                </a:lnTo>
                <a:lnTo>
                  <a:pt x="887055" y="1467745"/>
                </a:lnTo>
                <a:lnTo>
                  <a:pt x="874586" y="1473189"/>
                </a:lnTo>
                <a:lnTo>
                  <a:pt x="862118" y="1478179"/>
                </a:lnTo>
                <a:lnTo>
                  <a:pt x="849197" y="1483396"/>
                </a:lnTo>
                <a:lnTo>
                  <a:pt x="836275" y="1488160"/>
                </a:lnTo>
                <a:lnTo>
                  <a:pt x="823127" y="1492470"/>
                </a:lnTo>
                <a:lnTo>
                  <a:pt x="809752" y="1496779"/>
                </a:lnTo>
                <a:lnTo>
                  <a:pt x="796377" y="1500862"/>
                </a:lnTo>
                <a:lnTo>
                  <a:pt x="782549" y="1504492"/>
                </a:lnTo>
                <a:lnTo>
                  <a:pt x="768720" y="1508348"/>
                </a:lnTo>
                <a:lnTo>
                  <a:pt x="754892" y="1511523"/>
                </a:lnTo>
                <a:lnTo>
                  <a:pt x="740610" y="1514472"/>
                </a:lnTo>
                <a:lnTo>
                  <a:pt x="726555" y="1517194"/>
                </a:lnTo>
                <a:lnTo>
                  <a:pt x="712047" y="1519689"/>
                </a:lnTo>
                <a:lnTo>
                  <a:pt x="697538" y="1521958"/>
                </a:lnTo>
                <a:lnTo>
                  <a:pt x="683030" y="1524226"/>
                </a:lnTo>
                <a:lnTo>
                  <a:pt x="668521" y="1526040"/>
                </a:lnTo>
                <a:lnTo>
                  <a:pt x="653786" y="1527401"/>
                </a:lnTo>
                <a:lnTo>
                  <a:pt x="638824" y="1528762"/>
                </a:lnTo>
                <a:lnTo>
                  <a:pt x="624089" y="1529897"/>
                </a:lnTo>
                <a:lnTo>
                  <a:pt x="609128" y="1530804"/>
                </a:lnTo>
                <a:lnTo>
                  <a:pt x="594166" y="1531484"/>
                </a:lnTo>
                <a:lnTo>
                  <a:pt x="579204" y="1531938"/>
                </a:lnTo>
                <a:lnTo>
                  <a:pt x="564015" y="1531938"/>
                </a:lnTo>
                <a:lnTo>
                  <a:pt x="549054" y="1531938"/>
                </a:lnTo>
                <a:lnTo>
                  <a:pt x="533865" y="1531484"/>
                </a:lnTo>
                <a:lnTo>
                  <a:pt x="518903" y="1530804"/>
                </a:lnTo>
                <a:lnTo>
                  <a:pt x="503941" y="1529670"/>
                </a:lnTo>
                <a:lnTo>
                  <a:pt x="488980" y="1528309"/>
                </a:lnTo>
                <a:lnTo>
                  <a:pt x="474018" y="1526948"/>
                </a:lnTo>
                <a:lnTo>
                  <a:pt x="459056" y="1525133"/>
                </a:lnTo>
                <a:lnTo>
                  <a:pt x="444321" y="1523319"/>
                </a:lnTo>
                <a:lnTo>
                  <a:pt x="429359" y="1520823"/>
                </a:lnTo>
                <a:lnTo>
                  <a:pt x="414851" y="1518328"/>
                </a:lnTo>
                <a:lnTo>
                  <a:pt x="400115" y="1515606"/>
                </a:lnTo>
                <a:lnTo>
                  <a:pt x="385607" y="1512204"/>
                </a:lnTo>
                <a:lnTo>
                  <a:pt x="371325" y="1509028"/>
                </a:lnTo>
                <a:lnTo>
                  <a:pt x="357044" y="1505172"/>
                </a:lnTo>
                <a:lnTo>
                  <a:pt x="342989" y="1501543"/>
                </a:lnTo>
                <a:lnTo>
                  <a:pt x="329160" y="1497233"/>
                </a:lnTo>
                <a:lnTo>
                  <a:pt x="315332" y="1492696"/>
                </a:lnTo>
                <a:lnTo>
                  <a:pt x="301730" y="1488160"/>
                </a:lnTo>
                <a:lnTo>
                  <a:pt x="288129" y="1483170"/>
                </a:lnTo>
                <a:lnTo>
                  <a:pt x="274754" y="1477952"/>
                </a:lnTo>
                <a:lnTo>
                  <a:pt x="261832" y="1472735"/>
                </a:lnTo>
                <a:lnTo>
                  <a:pt x="248910" y="1466838"/>
                </a:lnTo>
                <a:lnTo>
                  <a:pt x="235988" y="1460940"/>
                </a:lnTo>
                <a:lnTo>
                  <a:pt x="223520" y="1454816"/>
                </a:lnTo>
                <a:lnTo>
                  <a:pt x="211505" y="1448238"/>
                </a:lnTo>
                <a:lnTo>
                  <a:pt x="199264" y="1441660"/>
                </a:lnTo>
                <a:lnTo>
                  <a:pt x="187703" y="1434855"/>
                </a:lnTo>
                <a:lnTo>
                  <a:pt x="176141" y="1427596"/>
                </a:lnTo>
                <a:lnTo>
                  <a:pt x="164806" y="1420111"/>
                </a:lnTo>
                <a:lnTo>
                  <a:pt x="153925" y="1412399"/>
                </a:lnTo>
                <a:lnTo>
                  <a:pt x="143497" y="1404233"/>
                </a:lnTo>
                <a:lnTo>
                  <a:pt x="132843" y="1396067"/>
                </a:lnTo>
                <a:lnTo>
                  <a:pt x="122868" y="1387674"/>
                </a:lnTo>
                <a:lnTo>
                  <a:pt x="113120" y="1379055"/>
                </a:lnTo>
                <a:lnTo>
                  <a:pt x="103826" y="1370208"/>
                </a:lnTo>
                <a:lnTo>
                  <a:pt x="94758" y="1361135"/>
                </a:lnTo>
                <a:lnTo>
                  <a:pt x="86144" y="1351608"/>
                </a:lnTo>
                <a:lnTo>
                  <a:pt x="77756" y="1342081"/>
                </a:lnTo>
                <a:lnTo>
                  <a:pt x="69822" y="1332328"/>
                </a:lnTo>
                <a:lnTo>
                  <a:pt x="62341" y="1322120"/>
                </a:lnTo>
                <a:lnTo>
                  <a:pt x="55086" y="1311913"/>
                </a:lnTo>
                <a:lnTo>
                  <a:pt x="48286" y="1301479"/>
                </a:lnTo>
                <a:lnTo>
                  <a:pt x="41711" y="1290591"/>
                </a:lnTo>
                <a:lnTo>
                  <a:pt x="35817" y="1279703"/>
                </a:lnTo>
                <a:lnTo>
                  <a:pt x="30150" y="1268361"/>
                </a:lnTo>
                <a:lnTo>
                  <a:pt x="25163" y="1257020"/>
                </a:lnTo>
                <a:lnTo>
                  <a:pt x="20402" y="1245225"/>
                </a:lnTo>
                <a:lnTo>
                  <a:pt x="16095" y="1233203"/>
                </a:lnTo>
                <a:lnTo>
                  <a:pt x="12468" y="1221181"/>
                </a:lnTo>
                <a:lnTo>
                  <a:pt x="9068" y="1208932"/>
                </a:lnTo>
                <a:lnTo>
                  <a:pt x="6347" y="1196229"/>
                </a:lnTo>
                <a:lnTo>
                  <a:pt x="4080" y="1183527"/>
                </a:lnTo>
                <a:lnTo>
                  <a:pt x="2493" y="1170371"/>
                </a:lnTo>
                <a:lnTo>
                  <a:pt x="907" y="1157215"/>
                </a:lnTo>
                <a:lnTo>
                  <a:pt x="226" y="1143605"/>
                </a:lnTo>
                <a:lnTo>
                  <a:pt x="0" y="1129995"/>
                </a:lnTo>
                <a:lnTo>
                  <a:pt x="453" y="1116158"/>
                </a:lnTo>
                <a:lnTo>
                  <a:pt x="1133" y="1102095"/>
                </a:lnTo>
                <a:lnTo>
                  <a:pt x="2947" y="1087805"/>
                </a:lnTo>
                <a:lnTo>
                  <a:pt x="4760" y="1073288"/>
                </a:lnTo>
                <a:lnTo>
                  <a:pt x="7481" y="1058544"/>
                </a:lnTo>
                <a:lnTo>
                  <a:pt x="10654" y="1043573"/>
                </a:lnTo>
                <a:lnTo>
                  <a:pt x="14508" y="1028375"/>
                </a:lnTo>
                <a:lnTo>
                  <a:pt x="19042" y="1012951"/>
                </a:lnTo>
                <a:lnTo>
                  <a:pt x="29697" y="978473"/>
                </a:lnTo>
                <a:lnTo>
                  <a:pt x="40578" y="944448"/>
                </a:lnTo>
                <a:lnTo>
                  <a:pt x="51233" y="911104"/>
                </a:lnTo>
                <a:lnTo>
                  <a:pt x="62114" y="878667"/>
                </a:lnTo>
                <a:lnTo>
                  <a:pt x="73222" y="846684"/>
                </a:lnTo>
                <a:lnTo>
                  <a:pt x="84557" y="815608"/>
                </a:lnTo>
                <a:lnTo>
                  <a:pt x="95891" y="785213"/>
                </a:lnTo>
                <a:lnTo>
                  <a:pt x="101785" y="770469"/>
                </a:lnTo>
                <a:lnTo>
                  <a:pt x="107679" y="755725"/>
                </a:lnTo>
                <a:lnTo>
                  <a:pt x="113574" y="741435"/>
                </a:lnTo>
                <a:lnTo>
                  <a:pt x="119468" y="727145"/>
                </a:lnTo>
                <a:lnTo>
                  <a:pt x="125588" y="713081"/>
                </a:lnTo>
                <a:lnTo>
                  <a:pt x="131936" y="699245"/>
                </a:lnTo>
                <a:lnTo>
                  <a:pt x="138283" y="685635"/>
                </a:lnTo>
                <a:lnTo>
                  <a:pt x="144631" y="672479"/>
                </a:lnTo>
                <a:lnTo>
                  <a:pt x="151205" y="659322"/>
                </a:lnTo>
                <a:lnTo>
                  <a:pt x="157552" y="646393"/>
                </a:lnTo>
                <a:lnTo>
                  <a:pt x="164353" y="633691"/>
                </a:lnTo>
                <a:lnTo>
                  <a:pt x="171381" y="621669"/>
                </a:lnTo>
                <a:lnTo>
                  <a:pt x="178181" y="609420"/>
                </a:lnTo>
                <a:lnTo>
                  <a:pt x="185436" y="597625"/>
                </a:lnTo>
                <a:lnTo>
                  <a:pt x="192463" y="585830"/>
                </a:lnTo>
                <a:lnTo>
                  <a:pt x="199944" y="574488"/>
                </a:lnTo>
                <a:lnTo>
                  <a:pt x="207425" y="563600"/>
                </a:lnTo>
                <a:lnTo>
                  <a:pt x="215133" y="552712"/>
                </a:lnTo>
                <a:lnTo>
                  <a:pt x="222840" y="542051"/>
                </a:lnTo>
                <a:lnTo>
                  <a:pt x="230774" y="531844"/>
                </a:lnTo>
                <a:lnTo>
                  <a:pt x="238935" y="521863"/>
                </a:lnTo>
                <a:lnTo>
                  <a:pt x="247324" y="512110"/>
                </a:lnTo>
                <a:lnTo>
                  <a:pt x="255711" y="502810"/>
                </a:lnTo>
                <a:lnTo>
                  <a:pt x="264326" y="493736"/>
                </a:lnTo>
                <a:lnTo>
                  <a:pt x="272940" y="484663"/>
                </a:lnTo>
                <a:lnTo>
                  <a:pt x="282008" y="476271"/>
                </a:lnTo>
                <a:lnTo>
                  <a:pt x="291076" y="468105"/>
                </a:lnTo>
                <a:lnTo>
                  <a:pt x="300597" y="460166"/>
                </a:lnTo>
                <a:lnTo>
                  <a:pt x="310118" y="452453"/>
                </a:lnTo>
                <a:lnTo>
                  <a:pt x="319639" y="445195"/>
                </a:lnTo>
                <a:lnTo>
                  <a:pt x="329840" y="438163"/>
                </a:lnTo>
                <a:lnTo>
                  <a:pt x="339815" y="431585"/>
                </a:lnTo>
                <a:lnTo>
                  <a:pt x="350243" y="425234"/>
                </a:lnTo>
                <a:lnTo>
                  <a:pt x="360897" y="419336"/>
                </a:lnTo>
                <a:lnTo>
                  <a:pt x="371552" y="413665"/>
                </a:lnTo>
                <a:lnTo>
                  <a:pt x="382660" y="408222"/>
                </a:lnTo>
                <a:lnTo>
                  <a:pt x="393995" y="403231"/>
                </a:lnTo>
                <a:lnTo>
                  <a:pt x="405556" y="398695"/>
                </a:lnTo>
                <a:lnTo>
                  <a:pt x="417344" y="394385"/>
                </a:lnTo>
                <a:lnTo>
                  <a:pt x="429359" y="390529"/>
                </a:lnTo>
                <a:lnTo>
                  <a:pt x="441601" y="386899"/>
                </a:lnTo>
                <a:lnTo>
                  <a:pt x="454069" y="383724"/>
                </a:lnTo>
                <a:lnTo>
                  <a:pt x="466764" y="380775"/>
                </a:lnTo>
                <a:lnTo>
                  <a:pt x="479912" y="378280"/>
                </a:lnTo>
                <a:lnTo>
                  <a:pt x="493287" y="376238"/>
                </a:lnTo>
                <a:lnTo>
                  <a:pt x="506888" y="374424"/>
                </a:lnTo>
                <a:lnTo>
                  <a:pt x="520717" y="373063"/>
                </a:lnTo>
                <a:lnTo>
                  <a:pt x="534772" y="372156"/>
                </a:lnTo>
                <a:lnTo>
                  <a:pt x="549280" y="371475"/>
                </a:lnTo>
                <a:close/>
                <a:moveTo>
                  <a:pt x="455387" y="0"/>
                </a:moveTo>
                <a:lnTo>
                  <a:pt x="463542" y="227"/>
                </a:lnTo>
                <a:lnTo>
                  <a:pt x="471471" y="682"/>
                </a:lnTo>
                <a:lnTo>
                  <a:pt x="479174" y="1591"/>
                </a:lnTo>
                <a:lnTo>
                  <a:pt x="486423" y="2500"/>
                </a:lnTo>
                <a:lnTo>
                  <a:pt x="493446" y="3863"/>
                </a:lnTo>
                <a:lnTo>
                  <a:pt x="500242" y="5681"/>
                </a:lnTo>
                <a:lnTo>
                  <a:pt x="506812" y="7499"/>
                </a:lnTo>
                <a:lnTo>
                  <a:pt x="512702" y="9317"/>
                </a:lnTo>
                <a:lnTo>
                  <a:pt x="518592" y="11362"/>
                </a:lnTo>
                <a:lnTo>
                  <a:pt x="524256" y="13861"/>
                </a:lnTo>
                <a:lnTo>
                  <a:pt x="529466" y="16361"/>
                </a:lnTo>
                <a:lnTo>
                  <a:pt x="534450" y="18861"/>
                </a:lnTo>
                <a:lnTo>
                  <a:pt x="539207" y="21587"/>
                </a:lnTo>
                <a:lnTo>
                  <a:pt x="543738" y="24314"/>
                </a:lnTo>
                <a:lnTo>
                  <a:pt x="547816" y="27268"/>
                </a:lnTo>
                <a:lnTo>
                  <a:pt x="551894" y="29995"/>
                </a:lnTo>
                <a:lnTo>
                  <a:pt x="555292" y="32722"/>
                </a:lnTo>
                <a:lnTo>
                  <a:pt x="558916" y="35676"/>
                </a:lnTo>
                <a:lnTo>
                  <a:pt x="564807" y="40903"/>
                </a:lnTo>
                <a:lnTo>
                  <a:pt x="569790" y="45902"/>
                </a:lnTo>
                <a:lnTo>
                  <a:pt x="574095" y="50674"/>
                </a:lnTo>
                <a:lnTo>
                  <a:pt x="577040" y="54310"/>
                </a:lnTo>
                <a:lnTo>
                  <a:pt x="579079" y="57491"/>
                </a:lnTo>
                <a:lnTo>
                  <a:pt x="581118" y="59990"/>
                </a:lnTo>
                <a:lnTo>
                  <a:pt x="590406" y="51810"/>
                </a:lnTo>
                <a:lnTo>
                  <a:pt x="599467" y="44311"/>
                </a:lnTo>
                <a:lnTo>
                  <a:pt x="608076" y="37494"/>
                </a:lnTo>
                <a:lnTo>
                  <a:pt x="616685" y="31359"/>
                </a:lnTo>
                <a:lnTo>
                  <a:pt x="625293" y="25905"/>
                </a:lnTo>
                <a:lnTo>
                  <a:pt x="633449" y="21360"/>
                </a:lnTo>
                <a:lnTo>
                  <a:pt x="641151" y="17043"/>
                </a:lnTo>
                <a:lnTo>
                  <a:pt x="648854" y="13407"/>
                </a:lnTo>
                <a:lnTo>
                  <a:pt x="656103" y="10226"/>
                </a:lnTo>
                <a:lnTo>
                  <a:pt x="663126" y="7499"/>
                </a:lnTo>
                <a:lnTo>
                  <a:pt x="669922" y="5454"/>
                </a:lnTo>
                <a:lnTo>
                  <a:pt x="676492" y="3409"/>
                </a:lnTo>
                <a:lnTo>
                  <a:pt x="682608" y="2272"/>
                </a:lnTo>
                <a:lnTo>
                  <a:pt x="688498" y="1136"/>
                </a:lnTo>
                <a:lnTo>
                  <a:pt x="694162" y="454"/>
                </a:lnTo>
                <a:lnTo>
                  <a:pt x="699599" y="227"/>
                </a:lnTo>
                <a:lnTo>
                  <a:pt x="704583" y="0"/>
                </a:lnTo>
                <a:lnTo>
                  <a:pt x="709340" y="227"/>
                </a:lnTo>
                <a:lnTo>
                  <a:pt x="713871" y="454"/>
                </a:lnTo>
                <a:lnTo>
                  <a:pt x="717949" y="909"/>
                </a:lnTo>
                <a:lnTo>
                  <a:pt x="721800" y="1591"/>
                </a:lnTo>
                <a:lnTo>
                  <a:pt x="725198" y="2272"/>
                </a:lnTo>
                <a:lnTo>
                  <a:pt x="728596" y="3181"/>
                </a:lnTo>
                <a:lnTo>
                  <a:pt x="731315" y="3863"/>
                </a:lnTo>
                <a:lnTo>
                  <a:pt x="736299" y="5908"/>
                </a:lnTo>
                <a:lnTo>
                  <a:pt x="739697" y="7499"/>
                </a:lnTo>
                <a:lnTo>
                  <a:pt x="742415" y="8862"/>
                </a:lnTo>
                <a:lnTo>
                  <a:pt x="746720" y="13180"/>
                </a:lnTo>
                <a:lnTo>
                  <a:pt x="751024" y="17497"/>
                </a:lnTo>
                <a:lnTo>
                  <a:pt x="754875" y="22269"/>
                </a:lnTo>
                <a:lnTo>
                  <a:pt x="758726" y="27496"/>
                </a:lnTo>
                <a:lnTo>
                  <a:pt x="762124" y="32495"/>
                </a:lnTo>
                <a:lnTo>
                  <a:pt x="765523" y="37949"/>
                </a:lnTo>
                <a:lnTo>
                  <a:pt x="768694" y="43629"/>
                </a:lnTo>
                <a:lnTo>
                  <a:pt x="771639" y="49310"/>
                </a:lnTo>
                <a:lnTo>
                  <a:pt x="774584" y="54764"/>
                </a:lnTo>
                <a:lnTo>
                  <a:pt x="777076" y="60672"/>
                </a:lnTo>
                <a:lnTo>
                  <a:pt x="779342" y="66808"/>
                </a:lnTo>
                <a:lnTo>
                  <a:pt x="781834" y="72716"/>
                </a:lnTo>
                <a:lnTo>
                  <a:pt x="785911" y="84305"/>
                </a:lnTo>
                <a:lnTo>
                  <a:pt x="789536" y="95894"/>
                </a:lnTo>
                <a:lnTo>
                  <a:pt x="792481" y="106801"/>
                </a:lnTo>
                <a:lnTo>
                  <a:pt x="794973" y="117254"/>
                </a:lnTo>
                <a:lnTo>
                  <a:pt x="796785" y="126571"/>
                </a:lnTo>
                <a:lnTo>
                  <a:pt x="798371" y="134524"/>
                </a:lnTo>
                <a:lnTo>
                  <a:pt x="800183" y="146568"/>
                </a:lnTo>
                <a:lnTo>
                  <a:pt x="800636" y="150658"/>
                </a:lnTo>
                <a:lnTo>
                  <a:pt x="805847" y="149294"/>
                </a:lnTo>
                <a:lnTo>
                  <a:pt x="810831" y="147931"/>
                </a:lnTo>
                <a:lnTo>
                  <a:pt x="815362" y="146340"/>
                </a:lnTo>
                <a:lnTo>
                  <a:pt x="820119" y="144522"/>
                </a:lnTo>
                <a:lnTo>
                  <a:pt x="824197" y="142705"/>
                </a:lnTo>
                <a:lnTo>
                  <a:pt x="828275" y="140887"/>
                </a:lnTo>
                <a:lnTo>
                  <a:pt x="832352" y="139069"/>
                </a:lnTo>
                <a:lnTo>
                  <a:pt x="835750" y="136796"/>
                </a:lnTo>
                <a:lnTo>
                  <a:pt x="839375" y="134751"/>
                </a:lnTo>
                <a:lnTo>
                  <a:pt x="842547" y="132706"/>
                </a:lnTo>
                <a:lnTo>
                  <a:pt x="848663" y="128389"/>
                </a:lnTo>
                <a:lnTo>
                  <a:pt x="853647" y="124071"/>
                </a:lnTo>
                <a:lnTo>
                  <a:pt x="858405" y="119754"/>
                </a:lnTo>
                <a:lnTo>
                  <a:pt x="862482" y="115663"/>
                </a:lnTo>
                <a:lnTo>
                  <a:pt x="865654" y="111800"/>
                </a:lnTo>
                <a:lnTo>
                  <a:pt x="868372" y="108392"/>
                </a:lnTo>
                <a:lnTo>
                  <a:pt x="870638" y="105211"/>
                </a:lnTo>
                <a:lnTo>
                  <a:pt x="873130" y="100439"/>
                </a:lnTo>
                <a:lnTo>
                  <a:pt x="874036" y="98848"/>
                </a:lnTo>
                <a:lnTo>
                  <a:pt x="875395" y="106347"/>
                </a:lnTo>
                <a:lnTo>
                  <a:pt x="876755" y="113846"/>
                </a:lnTo>
                <a:lnTo>
                  <a:pt x="877434" y="121117"/>
                </a:lnTo>
                <a:lnTo>
                  <a:pt x="877887" y="128389"/>
                </a:lnTo>
                <a:lnTo>
                  <a:pt x="877887" y="135433"/>
                </a:lnTo>
                <a:lnTo>
                  <a:pt x="877434" y="142250"/>
                </a:lnTo>
                <a:lnTo>
                  <a:pt x="876755" y="149067"/>
                </a:lnTo>
                <a:lnTo>
                  <a:pt x="875622" y="155884"/>
                </a:lnTo>
                <a:lnTo>
                  <a:pt x="874263" y="162474"/>
                </a:lnTo>
                <a:lnTo>
                  <a:pt x="872903" y="168837"/>
                </a:lnTo>
                <a:lnTo>
                  <a:pt x="870864" y="175199"/>
                </a:lnTo>
                <a:lnTo>
                  <a:pt x="868599" y="181335"/>
                </a:lnTo>
                <a:lnTo>
                  <a:pt x="866334" y="187243"/>
                </a:lnTo>
                <a:lnTo>
                  <a:pt x="863615" y="193378"/>
                </a:lnTo>
                <a:lnTo>
                  <a:pt x="860670" y="199287"/>
                </a:lnTo>
                <a:lnTo>
                  <a:pt x="857725" y="204967"/>
                </a:lnTo>
                <a:lnTo>
                  <a:pt x="854327" y="210421"/>
                </a:lnTo>
                <a:lnTo>
                  <a:pt x="850702" y="215875"/>
                </a:lnTo>
                <a:lnTo>
                  <a:pt x="847078" y="221328"/>
                </a:lnTo>
                <a:lnTo>
                  <a:pt x="843000" y="226328"/>
                </a:lnTo>
                <a:lnTo>
                  <a:pt x="838922" y="231554"/>
                </a:lnTo>
                <a:lnTo>
                  <a:pt x="834844" y="236553"/>
                </a:lnTo>
                <a:lnTo>
                  <a:pt x="830313" y="241325"/>
                </a:lnTo>
                <a:lnTo>
                  <a:pt x="826009" y="246097"/>
                </a:lnTo>
                <a:lnTo>
                  <a:pt x="821252" y="250869"/>
                </a:lnTo>
                <a:lnTo>
                  <a:pt x="816494" y="255187"/>
                </a:lnTo>
                <a:lnTo>
                  <a:pt x="811737" y="259731"/>
                </a:lnTo>
                <a:lnTo>
                  <a:pt x="806753" y="264049"/>
                </a:lnTo>
                <a:lnTo>
                  <a:pt x="796785" y="272229"/>
                </a:lnTo>
                <a:lnTo>
                  <a:pt x="786364" y="279955"/>
                </a:lnTo>
                <a:lnTo>
                  <a:pt x="776170" y="287227"/>
                </a:lnTo>
                <a:lnTo>
                  <a:pt x="765749" y="294044"/>
                </a:lnTo>
                <a:lnTo>
                  <a:pt x="755328" y="300180"/>
                </a:lnTo>
                <a:lnTo>
                  <a:pt x="745360" y="305860"/>
                </a:lnTo>
                <a:lnTo>
                  <a:pt x="735619" y="311314"/>
                </a:lnTo>
                <a:lnTo>
                  <a:pt x="725878" y="316313"/>
                </a:lnTo>
                <a:lnTo>
                  <a:pt x="717043" y="320631"/>
                </a:lnTo>
                <a:lnTo>
                  <a:pt x="708661" y="324721"/>
                </a:lnTo>
                <a:lnTo>
                  <a:pt x="700732" y="327902"/>
                </a:lnTo>
                <a:lnTo>
                  <a:pt x="693709" y="331084"/>
                </a:lnTo>
                <a:lnTo>
                  <a:pt x="681929" y="335628"/>
                </a:lnTo>
                <a:lnTo>
                  <a:pt x="674453" y="338583"/>
                </a:lnTo>
                <a:lnTo>
                  <a:pt x="671961" y="339492"/>
                </a:lnTo>
                <a:lnTo>
                  <a:pt x="658142" y="336083"/>
                </a:lnTo>
                <a:lnTo>
                  <a:pt x="644776" y="333583"/>
                </a:lnTo>
                <a:lnTo>
                  <a:pt x="632089" y="331311"/>
                </a:lnTo>
                <a:lnTo>
                  <a:pt x="619630" y="329266"/>
                </a:lnTo>
                <a:lnTo>
                  <a:pt x="607623" y="327675"/>
                </a:lnTo>
                <a:lnTo>
                  <a:pt x="596069" y="326539"/>
                </a:lnTo>
                <a:lnTo>
                  <a:pt x="584969" y="325630"/>
                </a:lnTo>
                <a:lnTo>
                  <a:pt x="574548" y="324948"/>
                </a:lnTo>
                <a:lnTo>
                  <a:pt x="564127" y="324494"/>
                </a:lnTo>
                <a:lnTo>
                  <a:pt x="554612" y="324494"/>
                </a:lnTo>
                <a:lnTo>
                  <a:pt x="545324" y="324494"/>
                </a:lnTo>
                <a:lnTo>
                  <a:pt x="536715" y="324948"/>
                </a:lnTo>
                <a:lnTo>
                  <a:pt x="528333" y="325403"/>
                </a:lnTo>
                <a:lnTo>
                  <a:pt x="520178" y="326085"/>
                </a:lnTo>
                <a:lnTo>
                  <a:pt x="512702" y="326766"/>
                </a:lnTo>
                <a:lnTo>
                  <a:pt x="505679" y="327675"/>
                </a:lnTo>
                <a:lnTo>
                  <a:pt x="499109" y="328811"/>
                </a:lnTo>
                <a:lnTo>
                  <a:pt x="492993" y="329948"/>
                </a:lnTo>
                <a:lnTo>
                  <a:pt x="487329" y="331311"/>
                </a:lnTo>
                <a:lnTo>
                  <a:pt x="481892" y="332447"/>
                </a:lnTo>
                <a:lnTo>
                  <a:pt x="472604" y="334947"/>
                </a:lnTo>
                <a:lnTo>
                  <a:pt x="465128" y="337219"/>
                </a:lnTo>
                <a:lnTo>
                  <a:pt x="459012" y="339719"/>
                </a:lnTo>
                <a:lnTo>
                  <a:pt x="454934" y="341309"/>
                </a:lnTo>
                <a:lnTo>
                  <a:pt x="451536" y="342900"/>
                </a:lnTo>
                <a:lnTo>
                  <a:pt x="445646" y="337219"/>
                </a:lnTo>
                <a:lnTo>
                  <a:pt x="439529" y="331311"/>
                </a:lnTo>
                <a:lnTo>
                  <a:pt x="425710" y="318813"/>
                </a:lnTo>
                <a:lnTo>
                  <a:pt x="410532" y="305860"/>
                </a:lnTo>
                <a:lnTo>
                  <a:pt x="394221" y="292454"/>
                </a:lnTo>
                <a:lnTo>
                  <a:pt x="377456" y="279274"/>
                </a:lnTo>
                <a:lnTo>
                  <a:pt x="360239" y="266094"/>
                </a:lnTo>
                <a:lnTo>
                  <a:pt x="343249" y="252914"/>
                </a:lnTo>
                <a:lnTo>
                  <a:pt x="326258" y="240416"/>
                </a:lnTo>
                <a:lnTo>
                  <a:pt x="295222" y="217693"/>
                </a:lnTo>
                <a:lnTo>
                  <a:pt x="269849" y="199514"/>
                </a:lnTo>
                <a:lnTo>
                  <a:pt x="252405" y="187243"/>
                </a:lnTo>
                <a:lnTo>
                  <a:pt x="246062" y="183153"/>
                </a:lnTo>
                <a:lnTo>
                  <a:pt x="251726" y="176563"/>
                </a:lnTo>
                <a:lnTo>
                  <a:pt x="257616" y="170655"/>
                </a:lnTo>
                <a:lnTo>
                  <a:pt x="263506" y="165428"/>
                </a:lnTo>
                <a:lnTo>
                  <a:pt x="269623" y="160656"/>
                </a:lnTo>
                <a:lnTo>
                  <a:pt x="275286" y="156339"/>
                </a:lnTo>
                <a:lnTo>
                  <a:pt x="281629" y="152476"/>
                </a:lnTo>
                <a:lnTo>
                  <a:pt x="287746" y="149294"/>
                </a:lnTo>
                <a:lnTo>
                  <a:pt x="293863" y="146568"/>
                </a:lnTo>
                <a:lnTo>
                  <a:pt x="299979" y="144068"/>
                </a:lnTo>
                <a:lnTo>
                  <a:pt x="306096" y="142023"/>
                </a:lnTo>
                <a:lnTo>
                  <a:pt x="311986" y="140432"/>
                </a:lnTo>
                <a:lnTo>
                  <a:pt x="317876" y="139069"/>
                </a:lnTo>
                <a:lnTo>
                  <a:pt x="323766" y="138160"/>
                </a:lnTo>
                <a:lnTo>
                  <a:pt x="329656" y="137024"/>
                </a:lnTo>
                <a:lnTo>
                  <a:pt x="335093" y="136569"/>
                </a:lnTo>
                <a:lnTo>
                  <a:pt x="340530" y="136342"/>
                </a:lnTo>
                <a:lnTo>
                  <a:pt x="345967" y="136342"/>
                </a:lnTo>
                <a:lnTo>
                  <a:pt x="350951" y="136569"/>
                </a:lnTo>
                <a:lnTo>
                  <a:pt x="355708" y="136796"/>
                </a:lnTo>
                <a:lnTo>
                  <a:pt x="360466" y="137251"/>
                </a:lnTo>
                <a:lnTo>
                  <a:pt x="368848" y="138614"/>
                </a:lnTo>
                <a:lnTo>
                  <a:pt x="376097" y="139978"/>
                </a:lnTo>
                <a:lnTo>
                  <a:pt x="382214" y="141341"/>
                </a:lnTo>
                <a:lnTo>
                  <a:pt x="386518" y="142705"/>
                </a:lnTo>
                <a:lnTo>
                  <a:pt x="390369" y="143841"/>
                </a:lnTo>
                <a:lnTo>
                  <a:pt x="389916" y="135888"/>
                </a:lnTo>
                <a:lnTo>
                  <a:pt x="389916" y="127934"/>
                </a:lnTo>
                <a:lnTo>
                  <a:pt x="390369" y="120208"/>
                </a:lnTo>
                <a:lnTo>
                  <a:pt x="391049" y="112482"/>
                </a:lnTo>
                <a:lnTo>
                  <a:pt x="392182" y="105211"/>
                </a:lnTo>
                <a:lnTo>
                  <a:pt x="393767" y="98166"/>
                </a:lnTo>
                <a:lnTo>
                  <a:pt x="395580" y="91122"/>
                </a:lnTo>
                <a:lnTo>
                  <a:pt x="397619" y="84305"/>
                </a:lnTo>
                <a:lnTo>
                  <a:pt x="399884" y="77942"/>
                </a:lnTo>
                <a:lnTo>
                  <a:pt x="402376" y="71807"/>
                </a:lnTo>
                <a:lnTo>
                  <a:pt x="405095" y="65671"/>
                </a:lnTo>
                <a:lnTo>
                  <a:pt x="407813" y="59763"/>
                </a:lnTo>
                <a:lnTo>
                  <a:pt x="410985" y="54310"/>
                </a:lnTo>
                <a:lnTo>
                  <a:pt x="413930" y="49083"/>
                </a:lnTo>
                <a:lnTo>
                  <a:pt x="417101" y="43857"/>
                </a:lnTo>
                <a:lnTo>
                  <a:pt x="420273" y="39085"/>
                </a:lnTo>
                <a:lnTo>
                  <a:pt x="423444" y="34540"/>
                </a:lnTo>
                <a:lnTo>
                  <a:pt x="426616" y="30222"/>
                </a:lnTo>
                <a:lnTo>
                  <a:pt x="432959" y="22496"/>
                </a:lnTo>
                <a:lnTo>
                  <a:pt x="438849" y="15679"/>
                </a:lnTo>
                <a:lnTo>
                  <a:pt x="444060" y="10226"/>
                </a:lnTo>
                <a:lnTo>
                  <a:pt x="448817" y="5908"/>
                </a:lnTo>
                <a:lnTo>
                  <a:pt x="452215" y="2500"/>
                </a:lnTo>
                <a:lnTo>
                  <a:pt x="45538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KSO_Shape"/>
          <p:cNvSpPr/>
          <p:nvPr/>
        </p:nvSpPr>
        <p:spPr>
          <a:xfrm>
            <a:off x="10410840" y="3141720"/>
            <a:ext cx="596880" cy="596880"/>
          </a:xfrm>
          <a:custGeom>
            <a:avLst/>
            <a:gdLst>
              <a:gd name="textAreaLeft" fmla="*/ 0 w 596880"/>
              <a:gd name="textAreaRight" fmla="*/ 597240 w 596880"/>
              <a:gd name="textAreaTop" fmla="*/ 0 h 596880"/>
              <a:gd name="textAreaBottom" fmla="*/ 597240 h 596880"/>
            </a:gdLst>
            <a:ahLst/>
            <a:rect l="textAreaLeft" t="textAreaTop" r="textAreaRight" b="textAreaBottom"/>
            <a:pathLst>
              <a:path w="2298700" h="2298700">
                <a:moveTo>
                  <a:pt x="494084" y="1279525"/>
                </a:moveTo>
                <a:lnTo>
                  <a:pt x="844179" y="1279525"/>
                </a:lnTo>
                <a:lnTo>
                  <a:pt x="849841" y="1279752"/>
                </a:lnTo>
                <a:lnTo>
                  <a:pt x="855502" y="1280660"/>
                </a:lnTo>
                <a:lnTo>
                  <a:pt x="860710" y="1282023"/>
                </a:lnTo>
                <a:lnTo>
                  <a:pt x="865692" y="1283839"/>
                </a:lnTo>
                <a:lnTo>
                  <a:pt x="870674" y="1286109"/>
                </a:lnTo>
                <a:lnTo>
                  <a:pt x="875203" y="1289061"/>
                </a:lnTo>
                <a:lnTo>
                  <a:pt x="879732" y="1292467"/>
                </a:lnTo>
                <a:lnTo>
                  <a:pt x="883582" y="1295872"/>
                </a:lnTo>
                <a:lnTo>
                  <a:pt x="887205" y="1299959"/>
                </a:lnTo>
                <a:lnTo>
                  <a:pt x="890602" y="1304273"/>
                </a:lnTo>
                <a:lnTo>
                  <a:pt x="893320" y="1308814"/>
                </a:lnTo>
                <a:lnTo>
                  <a:pt x="895584" y="1313809"/>
                </a:lnTo>
                <a:lnTo>
                  <a:pt x="897396" y="1319031"/>
                </a:lnTo>
                <a:lnTo>
                  <a:pt x="898981" y="1324480"/>
                </a:lnTo>
                <a:lnTo>
                  <a:pt x="899660" y="1329702"/>
                </a:lnTo>
                <a:lnTo>
                  <a:pt x="900113" y="1335378"/>
                </a:lnTo>
                <a:lnTo>
                  <a:pt x="900113" y="1818531"/>
                </a:lnTo>
                <a:lnTo>
                  <a:pt x="899660" y="1824434"/>
                </a:lnTo>
                <a:lnTo>
                  <a:pt x="898981" y="1829883"/>
                </a:lnTo>
                <a:lnTo>
                  <a:pt x="897396" y="1835332"/>
                </a:lnTo>
                <a:lnTo>
                  <a:pt x="895584" y="1840554"/>
                </a:lnTo>
                <a:lnTo>
                  <a:pt x="893320" y="1845322"/>
                </a:lnTo>
                <a:lnTo>
                  <a:pt x="890602" y="1850090"/>
                </a:lnTo>
                <a:lnTo>
                  <a:pt x="887205" y="1854404"/>
                </a:lnTo>
                <a:lnTo>
                  <a:pt x="883582" y="1858264"/>
                </a:lnTo>
                <a:lnTo>
                  <a:pt x="879732" y="1861897"/>
                </a:lnTo>
                <a:lnTo>
                  <a:pt x="875203" y="1865302"/>
                </a:lnTo>
                <a:lnTo>
                  <a:pt x="870674" y="1867800"/>
                </a:lnTo>
                <a:lnTo>
                  <a:pt x="865692" y="1870524"/>
                </a:lnTo>
                <a:lnTo>
                  <a:pt x="860710" y="1872114"/>
                </a:lnTo>
                <a:lnTo>
                  <a:pt x="855502" y="1873476"/>
                </a:lnTo>
                <a:lnTo>
                  <a:pt x="849841" y="1874611"/>
                </a:lnTo>
                <a:lnTo>
                  <a:pt x="844179" y="1874838"/>
                </a:lnTo>
                <a:lnTo>
                  <a:pt x="494084" y="1874838"/>
                </a:lnTo>
                <a:lnTo>
                  <a:pt x="488423" y="1874611"/>
                </a:lnTo>
                <a:lnTo>
                  <a:pt x="482761" y="1873476"/>
                </a:lnTo>
                <a:lnTo>
                  <a:pt x="477326" y="1872114"/>
                </a:lnTo>
                <a:lnTo>
                  <a:pt x="472571" y="1870524"/>
                </a:lnTo>
                <a:lnTo>
                  <a:pt x="467589" y="1867800"/>
                </a:lnTo>
                <a:lnTo>
                  <a:pt x="463060" y="1865302"/>
                </a:lnTo>
                <a:lnTo>
                  <a:pt x="458531" y="1861897"/>
                </a:lnTo>
                <a:lnTo>
                  <a:pt x="454455" y="1858264"/>
                </a:lnTo>
                <a:lnTo>
                  <a:pt x="450831" y="1854404"/>
                </a:lnTo>
                <a:lnTo>
                  <a:pt x="447661" y="1850090"/>
                </a:lnTo>
                <a:lnTo>
                  <a:pt x="444944" y="1845322"/>
                </a:lnTo>
                <a:lnTo>
                  <a:pt x="442679" y="1840554"/>
                </a:lnTo>
                <a:lnTo>
                  <a:pt x="440868" y="1835332"/>
                </a:lnTo>
                <a:lnTo>
                  <a:pt x="439282" y="1829883"/>
                </a:lnTo>
                <a:lnTo>
                  <a:pt x="438603" y="1824434"/>
                </a:lnTo>
                <a:lnTo>
                  <a:pt x="438150" y="1818531"/>
                </a:lnTo>
                <a:lnTo>
                  <a:pt x="438150" y="1335378"/>
                </a:lnTo>
                <a:lnTo>
                  <a:pt x="438603" y="1329702"/>
                </a:lnTo>
                <a:lnTo>
                  <a:pt x="439282" y="1324480"/>
                </a:lnTo>
                <a:lnTo>
                  <a:pt x="440868" y="1319031"/>
                </a:lnTo>
                <a:lnTo>
                  <a:pt x="442679" y="1313809"/>
                </a:lnTo>
                <a:lnTo>
                  <a:pt x="444944" y="1308814"/>
                </a:lnTo>
                <a:lnTo>
                  <a:pt x="447661" y="1304273"/>
                </a:lnTo>
                <a:lnTo>
                  <a:pt x="450831" y="1299959"/>
                </a:lnTo>
                <a:lnTo>
                  <a:pt x="454455" y="1295872"/>
                </a:lnTo>
                <a:lnTo>
                  <a:pt x="458531" y="1292467"/>
                </a:lnTo>
                <a:lnTo>
                  <a:pt x="463060" y="1289061"/>
                </a:lnTo>
                <a:lnTo>
                  <a:pt x="467589" y="1286109"/>
                </a:lnTo>
                <a:lnTo>
                  <a:pt x="472571" y="1283839"/>
                </a:lnTo>
                <a:lnTo>
                  <a:pt x="477326" y="1282023"/>
                </a:lnTo>
                <a:lnTo>
                  <a:pt x="482761" y="1280660"/>
                </a:lnTo>
                <a:lnTo>
                  <a:pt x="488423" y="1279752"/>
                </a:lnTo>
                <a:lnTo>
                  <a:pt x="494084" y="1279525"/>
                </a:lnTo>
                <a:close/>
                <a:moveTo>
                  <a:pt x="1168971" y="903287"/>
                </a:moveTo>
                <a:lnTo>
                  <a:pt x="1518668" y="903287"/>
                </a:lnTo>
                <a:lnTo>
                  <a:pt x="1524553" y="903514"/>
                </a:lnTo>
                <a:lnTo>
                  <a:pt x="1529985" y="904195"/>
                </a:lnTo>
                <a:lnTo>
                  <a:pt x="1535418" y="905557"/>
                </a:lnTo>
                <a:lnTo>
                  <a:pt x="1540624" y="907600"/>
                </a:lnTo>
                <a:lnTo>
                  <a:pt x="1545377" y="909870"/>
                </a:lnTo>
                <a:lnTo>
                  <a:pt x="1550130" y="912821"/>
                </a:lnTo>
                <a:lnTo>
                  <a:pt x="1554430" y="915999"/>
                </a:lnTo>
                <a:lnTo>
                  <a:pt x="1558278" y="919404"/>
                </a:lnTo>
                <a:lnTo>
                  <a:pt x="1561900" y="923717"/>
                </a:lnTo>
                <a:lnTo>
                  <a:pt x="1565295" y="927803"/>
                </a:lnTo>
                <a:lnTo>
                  <a:pt x="1567784" y="932343"/>
                </a:lnTo>
                <a:lnTo>
                  <a:pt x="1570274" y="937337"/>
                </a:lnTo>
                <a:lnTo>
                  <a:pt x="1572085" y="942558"/>
                </a:lnTo>
                <a:lnTo>
                  <a:pt x="1573443" y="948006"/>
                </a:lnTo>
                <a:lnTo>
                  <a:pt x="1574575" y="953681"/>
                </a:lnTo>
                <a:lnTo>
                  <a:pt x="1574801" y="959355"/>
                </a:lnTo>
                <a:lnTo>
                  <a:pt x="1574801" y="1818542"/>
                </a:lnTo>
                <a:lnTo>
                  <a:pt x="1574575" y="1824444"/>
                </a:lnTo>
                <a:lnTo>
                  <a:pt x="1573443" y="1829892"/>
                </a:lnTo>
                <a:lnTo>
                  <a:pt x="1572085" y="1835340"/>
                </a:lnTo>
                <a:lnTo>
                  <a:pt x="1570274" y="1840560"/>
                </a:lnTo>
                <a:lnTo>
                  <a:pt x="1567784" y="1845327"/>
                </a:lnTo>
                <a:lnTo>
                  <a:pt x="1565295" y="1850094"/>
                </a:lnTo>
                <a:lnTo>
                  <a:pt x="1561900" y="1854407"/>
                </a:lnTo>
                <a:lnTo>
                  <a:pt x="1558278" y="1858266"/>
                </a:lnTo>
                <a:lnTo>
                  <a:pt x="1554430" y="1861898"/>
                </a:lnTo>
                <a:lnTo>
                  <a:pt x="1550130" y="1865303"/>
                </a:lnTo>
                <a:lnTo>
                  <a:pt x="1545377" y="1867800"/>
                </a:lnTo>
                <a:lnTo>
                  <a:pt x="1540624" y="1870524"/>
                </a:lnTo>
                <a:lnTo>
                  <a:pt x="1535418" y="1872113"/>
                </a:lnTo>
                <a:lnTo>
                  <a:pt x="1529985" y="1873475"/>
                </a:lnTo>
                <a:lnTo>
                  <a:pt x="1524553" y="1874610"/>
                </a:lnTo>
                <a:lnTo>
                  <a:pt x="1518668" y="1874837"/>
                </a:lnTo>
                <a:lnTo>
                  <a:pt x="1168971" y="1874837"/>
                </a:lnTo>
                <a:lnTo>
                  <a:pt x="1163312" y="1874610"/>
                </a:lnTo>
                <a:lnTo>
                  <a:pt x="1157654" y="1873475"/>
                </a:lnTo>
                <a:lnTo>
                  <a:pt x="1152221" y="1872113"/>
                </a:lnTo>
                <a:lnTo>
                  <a:pt x="1147242" y="1870524"/>
                </a:lnTo>
                <a:lnTo>
                  <a:pt x="1142262" y="1867800"/>
                </a:lnTo>
                <a:lnTo>
                  <a:pt x="1137736" y="1865303"/>
                </a:lnTo>
                <a:lnTo>
                  <a:pt x="1133435" y="1861898"/>
                </a:lnTo>
                <a:lnTo>
                  <a:pt x="1129361" y="1858266"/>
                </a:lnTo>
                <a:lnTo>
                  <a:pt x="1125740" y="1854407"/>
                </a:lnTo>
                <a:lnTo>
                  <a:pt x="1122797" y="1850094"/>
                </a:lnTo>
                <a:lnTo>
                  <a:pt x="1119855" y="1845327"/>
                </a:lnTo>
                <a:lnTo>
                  <a:pt x="1117365" y="1840560"/>
                </a:lnTo>
                <a:lnTo>
                  <a:pt x="1115554" y="1835340"/>
                </a:lnTo>
                <a:lnTo>
                  <a:pt x="1114196" y="1829892"/>
                </a:lnTo>
                <a:lnTo>
                  <a:pt x="1113291" y="1824444"/>
                </a:lnTo>
                <a:lnTo>
                  <a:pt x="1112838" y="1818542"/>
                </a:lnTo>
                <a:lnTo>
                  <a:pt x="1112838" y="959355"/>
                </a:lnTo>
                <a:lnTo>
                  <a:pt x="1113291" y="953681"/>
                </a:lnTo>
                <a:lnTo>
                  <a:pt x="1114196" y="948006"/>
                </a:lnTo>
                <a:lnTo>
                  <a:pt x="1115554" y="942558"/>
                </a:lnTo>
                <a:lnTo>
                  <a:pt x="1117365" y="937337"/>
                </a:lnTo>
                <a:lnTo>
                  <a:pt x="1119855" y="932343"/>
                </a:lnTo>
                <a:lnTo>
                  <a:pt x="1122797" y="927803"/>
                </a:lnTo>
                <a:lnTo>
                  <a:pt x="1125740" y="923717"/>
                </a:lnTo>
                <a:lnTo>
                  <a:pt x="1129361" y="919404"/>
                </a:lnTo>
                <a:lnTo>
                  <a:pt x="1133435" y="915999"/>
                </a:lnTo>
                <a:lnTo>
                  <a:pt x="1137736" y="912821"/>
                </a:lnTo>
                <a:lnTo>
                  <a:pt x="1142262" y="909870"/>
                </a:lnTo>
                <a:lnTo>
                  <a:pt x="1147242" y="907600"/>
                </a:lnTo>
                <a:lnTo>
                  <a:pt x="1152221" y="905557"/>
                </a:lnTo>
                <a:lnTo>
                  <a:pt x="1157654" y="904195"/>
                </a:lnTo>
                <a:lnTo>
                  <a:pt x="1163312" y="903514"/>
                </a:lnTo>
                <a:lnTo>
                  <a:pt x="1168971" y="903287"/>
                </a:lnTo>
                <a:close/>
                <a:moveTo>
                  <a:pt x="1841899" y="450850"/>
                </a:moveTo>
                <a:lnTo>
                  <a:pt x="2191940" y="450850"/>
                </a:lnTo>
                <a:lnTo>
                  <a:pt x="2197604" y="451077"/>
                </a:lnTo>
                <a:lnTo>
                  <a:pt x="2203268" y="451985"/>
                </a:lnTo>
                <a:lnTo>
                  <a:pt x="2208706" y="453573"/>
                </a:lnTo>
                <a:lnTo>
                  <a:pt x="2213917" y="455388"/>
                </a:lnTo>
                <a:lnTo>
                  <a:pt x="2218674" y="457657"/>
                </a:lnTo>
                <a:lnTo>
                  <a:pt x="2223206" y="460380"/>
                </a:lnTo>
                <a:lnTo>
                  <a:pt x="2227510" y="463556"/>
                </a:lnTo>
                <a:lnTo>
                  <a:pt x="2231589" y="467186"/>
                </a:lnTo>
                <a:lnTo>
                  <a:pt x="2235214" y="471271"/>
                </a:lnTo>
                <a:lnTo>
                  <a:pt x="2238385" y="475582"/>
                </a:lnTo>
                <a:lnTo>
                  <a:pt x="2241104" y="480119"/>
                </a:lnTo>
                <a:lnTo>
                  <a:pt x="2243596" y="484884"/>
                </a:lnTo>
                <a:lnTo>
                  <a:pt x="2245636" y="490103"/>
                </a:lnTo>
                <a:lnTo>
                  <a:pt x="2246768" y="495548"/>
                </a:lnTo>
                <a:lnTo>
                  <a:pt x="2247675" y="501221"/>
                </a:lnTo>
                <a:lnTo>
                  <a:pt x="2247901" y="506893"/>
                </a:lnTo>
                <a:lnTo>
                  <a:pt x="2247901" y="1818568"/>
                </a:lnTo>
                <a:lnTo>
                  <a:pt x="2247675" y="1824468"/>
                </a:lnTo>
                <a:lnTo>
                  <a:pt x="2246768" y="1829913"/>
                </a:lnTo>
                <a:lnTo>
                  <a:pt x="2245636" y="1835358"/>
                </a:lnTo>
                <a:lnTo>
                  <a:pt x="2243596" y="1840577"/>
                </a:lnTo>
                <a:lnTo>
                  <a:pt x="2241104" y="1845342"/>
                </a:lnTo>
                <a:lnTo>
                  <a:pt x="2238385" y="1850107"/>
                </a:lnTo>
                <a:lnTo>
                  <a:pt x="2235214" y="1854418"/>
                </a:lnTo>
                <a:lnTo>
                  <a:pt x="2231589" y="1858275"/>
                </a:lnTo>
                <a:lnTo>
                  <a:pt x="2227510" y="1861905"/>
                </a:lnTo>
                <a:lnTo>
                  <a:pt x="2223206" y="1865309"/>
                </a:lnTo>
                <a:lnTo>
                  <a:pt x="2218674" y="1867804"/>
                </a:lnTo>
                <a:lnTo>
                  <a:pt x="2213917" y="1870527"/>
                </a:lnTo>
                <a:lnTo>
                  <a:pt x="2208706" y="1872115"/>
                </a:lnTo>
                <a:lnTo>
                  <a:pt x="2203268" y="1873477"/>
                </a:lnTo>
                <a:lnTo>
                  <a:pt x="2197604" y="1874611"/>
                </a:lnTo>
                <a:lnTo>
                  <a:pt x="2191940" y="1874838"/>
                </a:lnTo>
                <a:lnTo>
                  <a:pt x="1841899" y="1874838"/>
                </a:lnTo>
                <a:lnTo>
                  <a:pt x="1836235" y="1874611"/>
                </a:lnTo>
                <a:lnTo>
                  <a:pt x="1830798" y="1873477"/>
                </a:lnTo>
                <a:lnTo>
                  <a:pt x="1825360" y="1872115"/>
                </a:lnTo>
                <a:lnTo>
                  <a:pt x="1820149" y="1870527"/>
                </a:lnTo>
                <a:lnTo>
                  <a:pt x="1815165" y="1867804"/>
                </a:lnTo>
                <a:lnTo>
                  <a:pt x="1810633" y="1865309"/>
                </a:lnTo>
                <a:lnTo>
                  <a:pt x="1806329" y="1861905"/>
                </a:lnTo>
                <a:lnTo>
                  <a:pt x="1802477" y="1858275"/>
                </a:lnTo>
                <a:lnTo>
                  <a:pt x="1798852" y="1854418"/>
                </a:lnTo>
                <a:lnTo>
                  <a:pt x="1795454" y="1850107"/>
                </a:lnTo>
                <a:lnTo>
                  <a:pt x="1792508" y="1845342"/>
                </a:lnTo>
                <a:lnTo>
                  <a:pt x="1790243" y="1840577"/>
                </a:lnTo>
                <a:lnTo>
                  <a:pt x="1788430" y="1835358"/>
                </a:lnTo>
                <a:lnTo>
                  <a:pt x="1786844" y="1829913"/>
                </a:lnTo>
                <a:lnTo>
                  <a:pt x="1786165" y="1824468"/>
                </a:lnTo>
                <a:lnTo>
                  <a:pt x="1785938" y="1818568"/>
                </a:lnTo>
                <a:lnTo>
                  <a:pt x="1785938" y="506893"/>
                </a:lnTo>
                <a:lnTo>
                  <a:pt x="1786165" y="501221"/>
                </a:lnTo>
                <a:lnTo>
                  <a:pt x="1786844" y="495548"/>
                </a:lnTo>
                <a:lnTo>
                  <a:pt x="1788430" y="490103"/>
                </a:lnTo>
                <a:lnTo>
                  <a:pt x="1790243" y="484884"/>
                </a:lnTo>
                <a:lnTo>
                  <a:pt x="1792508" y="480119"/>
                </a:lnTo>
                <a:lnTo>
                  <a:pt x="1795454" y="475582"/>
                </a:lnTo>
                <a:lnTo>
                  <a:pt x="1798852" y="471271"/>
                </a:lnTo>
                <a:lnTo>
                  <a:pt x="1802477" y="467186"/>
                </a:lnTo>
                <a:lnTo>
                  <a:pt x="1806329" y="463556"/>
                </a:lnTo>
                <a:lnTo>
                  <a:pt x="1810633" y="460380"/>
                </a:lnTo>
                <a:lnTo>
                  <a:pt x="1815165" y="457657"/>
                </a:lnTo>
                <a:lnTo>
                  <a:pt x="1820149" y="455388"/>
                </a:lnTo>
                <a:lnTo>
                  <a:pt x="1825360" y="453573"/>
                </a:lnTo>
                <a:lnTo>
                  <a:pt x="1830798" y="451985"/>
                </a:lnTo>
                <a:lnTo>
                  <a:pt x="1836235" y="451077"/>
                </a:lnTo>
                <a:lnTo>
                  <a:pt x="1841899" y="450850"/>
                </a:lnTo>
                <a:close/>
                <a:moveTo>
                  <a:pt x="1458752" y="38100"/>
                </a:moveTo>
                <a:lnTo>
                  <a:pt x="1461698" y="38100"/>
                </a:lnTo>
                <a:lnTo>
                  <a:pt x="1464870" y="38100"/>
                </a:lnTo>
                <a:lnTo>
                  <a:pt x="1468043" y="38327"/>
                </a:lnTo>
                <a:lnTo>
                  <a:pt x="1470989" y="38554"/>
                </a:lnTo>
                <a:lnTo>
                  <a:pt x="1473935" y="39235"/>
                </a:lnTo>
                <a:lnTo>
                  <a:pt x="1477107" y="40143"/>
                </a:lnTo>
                <a:lnTo>
                  <a:pt x="1479827" y="40825"/>
                </a:lnTo>
                <a:lnTo>
                  <a:pt x="1482773" y="42187"/>
                </a:lnTo>
                <a:lnTo>
                  <a:pt x="1485718" y="43322"/>
                </a:lnTo>
                <a:lnTo>
                  <a:pt x="1488438" y="44684"/>
                </a:lnTo>
                <a:lnTo>
                  <a:pt x="1491157" y="46500"/>
                </a:lnTo>
                <a:lnTo>
                  <a:pt x="1493876" y="48317"/>
                </a:lnTo>
                <a:lnTo>
                  <a:pt x="1496143" y="50133"/>
                </a:lnTo>
                <a:lnTo>
                  <a:pt x="1498409" y="52176"/>
                </a:lnTo>
                <a:lnTo>
                  <a:pt x="1500675" y="54447"/>
                </a:lnTo>
                <a:lnTo>
                  <a:pt x="1502714" y="56490"/>
                </a:lnTo>
                <a:lnTo>
                  <a:pt x="1504754" y="59214"/>
                </a:lnTo>
                <a:lnTo>
                  <a:pt x="1506567" y="61485"/>
                </a:lnTo>
                <a:lnTo>
                  <a:pt x="1508153" y="64436"/>
                </a:lnTo>
                <a:lnTo>
                  <a:pt x="1509739" y="66934"/>
                </a:lnTo>
                <a:lnTo>
                  <a:pt x="1511099" y="69658"/>
                </a:lnTo>
                <a:lnTo>
                  <a:pt x="1512005" y="72609"/>
                </a:lnTo>
                <a:lnTo>
                  <a:pt x="1513138" y="75334"/>
                </a:lnTo>
                <a:lnTo>
                  <a:pt x="1514045" y="78512"/>
                </a:lnTo>
                <a:lnTo>
                  <a:pt x="1514725" y="81691"/>
                </a:lnTo>
                <a:lnTo>
                  <a:pt x="1515178" y="84642"/>
                </a:lnTo>
                <a:lnTo>
                  <a:pt x="1515405" y="87821"/>
                </a:lnTo>
                <a:lnTo>
                  <a:pt x="1543051" y="488083"/>
                </a:lnTo>
                <a:lnTo>
                  <a:pt x="1543051" y="493305"/>
                </a:lnTo>
                <a:lnTo>
                  <a:pt x="1542371" y="498754"/>
                </a:lnTo>
                <a:lnTo>
                  <a:pt x="1541691" y="503976"/>
                </a:lnTo>
                <a:lnTo>
                  <a:pt x="1540105" y="509198"/>
                </a:lnTo>
                <a:lnTo>
                  <a:pt x="1538066" y="513965"/>
                </a:lnTo>
                <a:lnTo>
                  <a:pt x="1535800" y="518506"/>
                </a:lnTo>
                <a:lnTo>
                  <a:pt x="1532854" y="522820"/>
                </a:lnTo>
                <a:lnTo>
                  <a:pt x="1529908" y="526906"/>
                </a:lnTo>
                <a:lnTo>
                  <a:pt x="1526282" y="530539"/>
                </a:lnTo>
                <a:lnTo>
                  <a:pt x="1522429" y="533944"/>
                </a:lnTo>
                <a:lnTo>
                  <a:pt x="1518350" y="537123"/>
                </a:lnTo>
                <a:lnTo>
                  <a:pt x="1513592" y="539620"/>
                </a:lnTo>
                <a:lnTo>
                  <a:pt x="1509059" y="541663"/>
                </a:lnTo>
                <a:lnTo>
                  <a:pt x="1503847" y="543253"/>
                </a:lnTo>
                <a:lnTo>
                  <a:pt x="1498635" y="544615"/>
                </a:lnTo>
                <a:lnTo>
                  <a:pt x="1493197" y="545069"/>
                </a:lnTo>
                <a:lnTo>
                  <a:pt x="1488211" y="545296"/>
                </a:lnTo>
                <a:lnTo>
                  <a:pt x="1482999" y="544842"/>
                </a:lnTo>
                <a:lnTo>
                  <a:pt x="1478014" y="543934"/>
                </a:lnTo>
                <a:lnTo>
                  <a:pt x="1473481" y="542799"/>
                </a:lnTo>
                <a:lnTo>
                  <a:pt x="1469629" y="541437"/>
                </a:lnTo>
                <a:lnTo>
                  <a:pt x="1466003" y="539847"/>
                </a:lnTo>
                <a:lnTo>
                  <a:pt x="1462604" y="537804"/>
                </a:lnTo>
                <a:lnTo>
                  <a:pt x="1459205" y="535761"/>
                </a:lnTo>
                <a:lnTo>
                  <a:pt x="1456032" y="533490"/>
                </a:lnTo>
                <a:lnTo>
                  <a:pt x="1453086" y="530766"/>
                </a:lnTo>
                <a:lnTo>
                  <a:pt x="1450367" y="528041"/>
                </a:lnTo>
                <a:lnTo>
                  <a:pt x="1447874" y="525090"/>
                </a:lnTo>
                <a:lnTo>
                  <a:pt x="1445382" y="522139"/>
                </a:lnTo>
                <a:lnTo>
                  <a:pt x="1443342" y="518733"/>
                </a:lnTo>
                <a:lnTo>
                  <a:pt x="1441529" y="515100"/>
                </a:lnTo>
                <a:lnTo>
                  <a:pt x="1439943" y="511468"/>
                </a:lnTo>
                <a:lnTo>
                  <a:pt x="1438583" y="507608"/>
                </a:lnTo>
                <a:lnTo>
                  <a:pt x="1437677" y="503749"/>
                </a:lnTo>
                <a:lnTo>
                  <a:pt x="1436770" y="499662"/>
                </a:lnTo>
                <a:lnTo>
                  <a:pt x="1436317" y="495348"/>
                </a:lnTo>
                <a:lnTo>
                  <a:pt x="1419775" y="256735"/>
                </a:lnTo>
                <a:lnTo>
                  <a:pt x="1404592" y="280119"/>
                </a:lnTo>
                <a:lnTo>
                  <a:pt x="1396434" y="292606"/>
                </a:lnTo>
                <a:lnTo>
                  <a:pt x="1387596" y="304866"/>
                </a:lnTo>
                <a:lnTo>
                  <a:pt x="1378531" y="317580"/>
                </a:lnTo>
                <a:lnTo>
                  <a:pt x="1369014" y="330748"/>
                </a:lnTo>
                <a:lnTo>
                  <a:pt x="1359270" y="343916"/>
                </a:lnTo>
                <a:lnTo>
                  <a:pt x="1348845" y="357311"/>
                </a:lnTo>
                <a:lnTo>
                  <a:pt x="1338421" y="370933"/>
                </a:lnTo>
                <a:lnTo>
                  <a:pt x="1327317" y="384782"/>
                </a:lnTo>
                <a:lnTo>
                  <a:pt x="1315760" y="398632"/>
                </a:lnTo>
                <a:lnTo>
                  <a:pt x="1303750" y="412935"/>
                </a:lnTo>
                <a:lnTo>
                  <a:pt x="1291513" y="426784"/>
                </a:lnTo>
                <a:lnTo>
                  <a:pt x="1278823" y="441314"/>
                </a:lnTo>
                <a:lnTo>
                  <a:pt x="1265679" y="455390"/>
                </a:lnTo>
                <a:lnTo>
                  <a:pt x="1252082" y="469920"/>
                </a:lnTo>
                <a:lnTo>
                  <a:pt x="1233500" y="488991"/>
                </a:lnTo>
                <a:lnTo>
                  <a:pt x="1214465" y="507608"/>
                </a:lnTo>
                <a:lnTo>
                  <a:pt x="1195430" y="525998"/>
                </a:lnTo>
                <a:lnTo>
                  <a:pt x="1175715" y="543707"/>
                </a:lnTo>
                <a:lnTo>
                  <a:pt x="1156226" y="560961"/>
                </a:lnTo>
                <a:lnTo>
                  <a:pt x="1136058" y="577762"/>
                </a:lnTo>
                <a:lnTo>
                  <a:pt x="1115663" y="594336"/>
                </a:lnTo>
                <a:lnTo>
                  <a:pt x="1095041" y="610455"/>
                </a:lnTo>
                <a:lnTo>
                  <a:pt x="1074193" y="625893"/>
                </a:lnTo>
                <a:lnTo>
                  <a:pt x="1053118" y="641105"/>
                </a:lnTo>
                <a:lnTo>
                  <a:pt x="1031590" y="655408"/>
                </a:lnTo>
                <a:lnTo>
                  <a:pt x="1010062" y="669711"/>
                </a:lnTo>
                <a:lnTo>
                  <a:pt x="988081" y="683333"/>
                </a:lnTo>
                <a:lnTo>
                  <a:pt x="966099" y="696501"/>
                </a:lnTo>
                <a:lnTo>
                  <a:pt x="943891" y="709442"/>
                </a:lnTo>
                <a:lnTo>
                  <a:pt x="921004" y="721702"/>
                </a:lnTo>
                <a:lnTo>
                  <a:pt x="906954" y="729194"/>
                </a:lnTo>
                <a:lnTo>
                  <a:pt x="892451" y="736232"/>
                </a:lnTo>
                <a:lnTo>
                  <a:pt x="878174" y="743497"/>
                </a:lnTo>
                <a:lnTo>
                  <a:pt x="863671" y="750309"/>
                </a:lnTo>
                <a:lnTo>
                  <a:pt x="848941" y="756893"/>
                </a:lnTo>
                <a:lnTo>
                  <a:pt x="834212" y="763477"/>
                </a:lnTo>
                <a:lnTo>
                  <a:pt x="819482" y="769834"/>
                </a:lnTo>
                <a:lnTo>
                  <a:pt x="804526" y="775736"/>
                </a:lnTo>
                <a:lnTo>
                  <a:pt x="789569" y="781866"/>
                </a:lnTo>
                <a:lnTo>
                  <a:pt x="774613" y="787542"/>
                </a:lnTo>
                <a:lnTo>
                  <a:pt x="759430" y="793218"/>
                </a:lnTo>
                <a:lnTo>
                  <a:pt x="744247" y="798440"/>
                </a:lnTo>
                <a:lnTo>
                  <a:pt x="729064" y="803435"/>
                </a:lnTo>
                <a:lnTo>
                  <a:pt x="713655" y="808657"/>
                </a:lnTo>
                <a:lnTo>
                  <a:pt x="698472" y="813197"/>
                </a:lnTo>
                <a:lnTo>
                  <a:pt x="682609" y="817965"/>
                </a:lnTo>
                <a:lnTo>
                  <a:pt x="667199" y="822279"/>
                </a:lnTo>
                <a:lnTo>
                  <a:pt x="651563" y="826365"/>
                </a:lnTo>
                <a:lnTo>
                  <a:pt x="635701" y="830452"/>
                </a:lnTo>
                <a:lnTo>
                  <a:pt x="620064" y="834084"/>
                </a:lnTo>
                <a:lnTo>
                  <a:pt x="604202" y="837717"/>
                </a:lnTo>
                <a:lnTo>
                  <a:pt x="588112" y="841350"/>
                </a:lnTo>
                <a:lnTo>
                  <a:pt x="572249" y="844528"/>
                </a:lnTo>
                <a:lnTo>
                  <a:pt x="555933" y="847479"/>
                </a:lnTo>
                <a:lnTo>
                  <a:pt x="539618" y="850431"/>
                </a:lnTo>
                <a:lnTo>
                  <a:pt x="523528" y="852928"/>
                </a:lnTo>
                <a:lnTo>
                  <a:pt x="507212" y="855653"/>
                </a:lnTo>
                <a:lnTo>
                  <a:pt x="490896" y="857923"/>
                </a:lnTo>
                <a:lnTo>
                  <a:pt x="474353" y="859966"/>
                </a:lnTo>
                <a:lnTo>
                  <a:pt x="458037" y="861783"/>
                </a:lnTo>
                <a:lnTo>
                  <a:pt x="441268" y="863372"/>
                </a:lnTo>
                <a:lnTo>
                  <a:pt x="424726" y="864961"/>
                </a:lnTo>
                <a:lnTo>
                  <a:pt x="419287" y="865188"/>
                </a:lnTo>
                <a:lnTo>
                  <a:pt x="414075" y="864734"/>
                </a:lnTo>
                <a:lnTo>
                  <a:pt x="409089" y="863826"/>
                </a:lnTo>
                <a:lnTo>
                  <a:pt x="404104" y="862464"/>
                </a:lnTo>
                <a:lnTo>
                  <a:pt x="400252" y="861329"/>
                </a:lnTo>
                <a:lnTo>
                  <a:pt x="396626" y="859739"/>
                </a:lnTo>
                <a:lnTo>
                  <a:pt x="393227" y="857923"/>
                </a:lnTo>
                <a:lnTo>
                  <a:pt x="389827" y="855880"/>
                </a:lnTo>
                <a:lnTo>
                  <a:pt x="386882" y="853609"/>
                </a:lnTo>
                <a:lnTo>
                  <a:pt x="383936" y="850885"/>
                </a:lnTo>
                <a:lnTo>
                  <a:pt x="381216" y="848161"/>
                </a:lnTo>
                <a:lnTo>
                  <a:pt x="378497" y="845209"/>
                </a:lnTo>
                <a:lnTo>
                  <a:pt x="376231" y="842258"/>
                </a:lnTo>
                <a:lnTo>
                  <a:pt x="374191" y="838852"/>
                </a:lnTo>
                <a:lnTo>
                  <a:pt x="372378" y="835447"/>
                </a:lnTo>
                <a:lnTo>
                  <a:pt x="370566" y="831814"/>
                </a:lnTo>
                <a:lnTo>
                  <a:pt x="369206" y="827955"/>
                </a:lnTo>
                <a:lnTo>
                  <a:pt x="368299" y="824095"/>
                </a:lnTo>
                <a:lnTo>
                  <a:pt x="367620" y="820008"/>
                </a:lnTo>
                <a:lnTo>
                  <a:pt x="366940" y="815922"/>
                </a:lnTo>
                <a:lnTo>
                  <a:pt x="366713" y="810473"/>
                </a:lnTo>
                <a:lnTo>
                  <a:pt x="367167" y="805024"/>
                </a:lnTo>
                <a:lnTo>
                  <a:pt x="368073" y="799802"/>
                </a:lnTo>
                <a:lnTo>
                  <a:pt x="369206" y="795034"/>
                </a:lnTo>
                <a:lnTo>
                  <a:pt x="371472" y="790040"/>
                </a:lnTo>
                <a:lnTo>
                  <a:pt x="373738" y="785272"/>
                </a:lnTo>
                <a:lnTo>
                  <a:pt x="376231" y="780958"/>
                </a:lnTo>
                <a:lnTo>
                  <a:pt x="379403" y="776872"/>
                </a:lnTo>
                <a:lnTo>
                  <a:pt x="383029" y="773239"/>
                </a:lnTo>
                <a:lnTo>
                  <a:pt x="386882" y="769607"/>
                </a:lnTo>
                <a:lnTo>
                  <a:pt x="390961" y="766882"/>
                </a:lnTo>
                <a:lnTo>
                  <a:pt x="395266" y="763931"/>
                </a:lnTo>
                <a:lnTo>
                  <a:pt x="400252" y="761887"/>
                </a:lnTo>
                <a:lnTo>
                  <a:pt x="405237" y="760071"/>
                </a:lnTo>
                <a:lnTo>
                  <a:pt x="410222" y="758709"/>
                </a:lnTo>
                <a:lnTo>
                  <a:pt x="415661" y="758255"/>
                </a:lnTo>
                <a:lnTo>
                  <a:pt x="431071" y="756666"/>
                </a:lnTo>
                <a:lnTo>
                  <a:pt x="446027" y="755076"/>
                </a:lnTo>
                <a:lnTo>
                  <a:pt x="461210" y="753714"/>
                </a:lnTo>
                <a:lnTo>
                  <a:pt x="476166" y="751898"/>
                </a:lnTo>
                <a:lnTo>
                  <a:pt x="491123" y="749854"/>
                </a:lnTo>
                <a:lnTo>
                  <a:pt x="506079" y="747357"/>
                </a:lnTo>
                <a:lnTo>
                  <a:pt x="521035" y="745087"/>
                </a:lnTo>
                <a:lnTo>
                  <a:pt x="535765" y="742589"/>
                </a:lnTo>
                <a:lnTo>
                  <a:pt x="550495" y="739638"/>
                </a:lnTo>
                <a:lnTo>
                  <a:pt x="565224" y="736913"/>
                </a:lnTo>
                <a:lnTo>
                  <a:pt x="579728" y="733735"/>
                </a:lnTo>
                <a:lnTo>
                  <a:pt x="594231" y="730329"/>
                </a:lnTo>
                <a:lnTo>
                  <a:pt x="608734" y="726697"/>
                </a:lnTo>
                <a:lnTo>
                  <a:pt x="623010" y="723064"/>
                </a:lnTo>
                <a:lnTo>
                  <a:pt x="637287" y="719432"/>
                </a:lnTo>
                <a:lnTo>
                  <a:pt x="651563" y="715345"/>
                </a:lnTo>
                <a:lnTo>
                  <a:pt x="665613" y="711259"/>
                </a:lnTo>
                <a:lnTo>
                  <a:pt x="679890" y="706945"/>
                </a:lnTo>
                <a:lnTo>
                  <a:pt x="693713" y="702404"/>
                </a:lnTo>
                <a:lnTo>
                  <a:pt x="707763" y="697864"/>
                </a:lnTo>
                <a:lnTo>
                  <a:pt x="721586" y="692869"/>
                </a:lnTo>
                <a:lnTo>
                  <a:pt x="735183" y="687874"/>
                </a:lnTo>
                <a:lnTo>
                  <a:pt x="749233" y="682652"/>
                </a:lnTo>
                <a:lnTo>
                  <a:pt x="762603" y="677430"/>
                </a:lnTo>
                <a:lnTo>
                  <a:pt x="776199" y="671755"/>
                </a:lnTo>
                <a:lnTo>
                  <a:pt x="789569" y="666079"/>
                </a:lnTo>
                <a:lnTo>
                  <a:pt x="803166" y="660176"/>
                </a:lnTo>
                <a:lnTo>
                  <a:pt x="816536" y="654273"/>
                </a:lnTo>
                <a:lnTo>
                  <a:pt x="829679" y="648143"/>
                </a:lnTo>
                <a:lnTo>
                  <a:pt x="842823" y="641559"/>
                </a:lnTo>
                <a:lnTo>
                  <a:pt x="855966" y="634975"/>
                </a:lnTo>
                <a:lnTo>
                  <a:pt x="868883" y="628164"/>
                </a:lnTo>
                <a:lnTo>
                  <a:pt x="889505" y="617039"/>
                </a:lnTo>
                <a:lnTo>
                  <a:pt x="910126" y="605460"/>
                </a:lnTo>
                <a:lnTo>
                  <a:pt x="930068" y="593655"/>
                </a:lnTo>
                <a:lnTo>
                  <a:pt x="950237" y="580941"/>
                </a:lnTo>
                <a:lnTo>
                  <a:pt x="970178" y="568000"/>
                </a:lnTo>
                <a:lnTo>
                  <a:pt x="989667" y="554832"/>
                </a:lnTo>
                <a:lnTo>
                  <a:pt x="1008929" y="540982"/>
                </a:lnTo>
                <a:lnTo>
                  <a:pt x="1027964" y="526906"/>
                </a:lnTo>
                <a:lnTo>
                  <a:pt x="1046773" y="512149"/>
                </a:lnTo>
                <a:lnTo>
                  <a:pt x="1065355" y="497165"/>
                </a:lnTo>
                <a:lnTo>
                  <a:pt x="1083937" y="481726"/>
                </a:lnTo>
                <a:lnTo>
                  <a:pt x="1102066" y="466061"/>
                </a:lnTo>
                <a:lnTo>
                  <a:pt x="1119742" y="449714"/>
                </a:lnTo>
                <a:lnTo>
                  <a:pt x="1137644" y="433141"/>
                </a:lnTo>
                <a:lnTo>
                  <a:pt x="1154866" y="416113"/>
                </a:lnTo>
                <a:lnTo>
                  <a:pt x="1171862" y="398859"/>
                </a:lnTo>
                <a:lnTo>
                  <a:pt x="1184779" y="385236"/>
                </a:lnTo>
                <a:lnTo>
                  <a:pt x="1197469" y="371841"/>
                </a:lnTo>
                <a:lnTo>
                  <a:pt x="1209480" y="358219"/>
                </a:lnTo>
                <a:lnTo>
                  <a:pt x="1221037" y="344597"/>
                </a:lnTo>
                <a:lnTo>
                  <a:pt x="1232367" y="331429"/>
                </a:lnTo>
                <a:lnTo>
                  <a:pt x="1243245" y="318261"/>
                </a:lnTo>
                <a:lnTo>
                  <a:pt x="1253895" y="305093"/>
                </a:lnTo>
                <a:lnTo>
                  <a:pt x="1263866" y="292606"/>
                </a:lnTo>
                <a:lnTo>
                  <a:pt x="1273384" y="279665"/>
                </a:lnTo>
                <a:lnTo>
                  <a:pt x="1282675" y="267178"/>
                </a:lnTo>
                <a:lnTo>
                  <a:pt x="1291739" y="255145"/>
                </a:lnTo>
                <a:lnTo>
                  <a:pt x="1300124" y="242886"/>
                </a:lnTo>
                <a:lnTo>
                  <a:pt x="1308282" y="231307"/>
                </a:lnTo>
                <a:lnTo>
                  <a:pt x="1316213" y="219728"/>
                </a:lnTo>
                <a:lnTo>
                  <a:pt x="1330263" y="197706"/>
                </a:lnTo>
                <a:lnTo>
                  <a:pt x="1107958" y="281027"/>
                </a:lnTo>
                <a:lnTo>
                  <a:pt x="1102746" y="282390"/>
                </a:lnTo>
                <a:lnTo>
                  <a:pt x="1097534" y="283525"/>
                </a:lnTo>
                <a:lnTo>
                  <a:pt x="1092322" y="283979"/>
                </a:lnTo>
                <a:lnTo>
                  <a:pt x="1087110" y="283979"/>
                </a:lnTo>
                <a:lnTo>
                  <a:pt x="1081898" y="283752"/>
                </a:lnTo>
                <a:lnTo>
                  <a:pt x="1076686" y="282844"/>
                </a:lnTo>
                <a:lnTo>
                  <a:pt x="1071927" y="281255"/>
                </a:lnTo>
                <a:lnTo>
                  <a:pt x="1067168" y="279438"/>
                </a:lnTo>
                <a:lnTo>
                  <a:pt x="1062636" y="277168"/>
                </a:lnTo>
                <a:lnTo>
                  <a:pt x="1058103" y="274216"/>
                </a:lnTo>
                <a:lnTo>
                  <a:pt x="1054251" y="270811"/>
                </a:lnTo>
                <a:lnTo>
                  <a:pt x="1050399" y="267178"/>
                </a:lnTo>
                <a:lnTo>
                  <a:pt x="1047226" y="263319"/>
                </a:lnTo>
                <a:lnTo>
                  <a:pt x="1044054" y="259005"/>
                </a:lnTo>
                <a:lnTo>
                  <a:pt x="1041561" y="254237"/>
                </a:lnTo>
                <a:lnTo>
                  <a:pt x="1039295" y="249470"/>
                </a:lnTo>
                <a:lnTo>
                  <a:pt x="1037482" y="244021"/>
                </a:lnTo>
                <a:lnTo>
                  <a:pt x="1036575" y="238799"/>
                </a:lnTo>
                <a:lnTo>
                  <a:pt x="1036122" y="233350"/>
                </a:lnTo>
                <a:lnTo>
                  <a:pt x="1036122" y="228355"/>
                </a:lnTo>
                <a:lnTo>
                  <a:pt x="1036349" y="223134"/>
                </a:lnTo>
                <a:lnTo>
                  <a:pt x="1037255" y="218139"/>
                </a:lnTo>
                <a:lnTo>
                  <a:pt x="1038841" y="213144"/>
                </a:lnTo>
                <a:lnTo>
                  <a:pt x="1040654" y="208376"/>
                </a:lnTo>
                <a:lnTo>
                  <a:pt x="1042920" y="203836"/>
                </a:lnTo>
                <a:lnTo>
                  <a:pt x="1045866" y="199295"/>
                </a:lnTo>
                <a:lnTo>
                  <a:pt x="1049266" y="195435"/>
                </a:lnTo>
                <a:lnTo>
                  <a:pt x="1052891" y="191576"/>
                </a:lnTo>
                <a:lnTo>
                  <a:pt x="1056744" y="188170"/>
                </a:lnTo>
                <a:lnTo>
                  <a:pt x="1061049" y="185219"/>
                </a:lnTo>
                <a:lnTo>
                  <a:pt x="1065582" y="182494"/>
                </a:lnTo>
                <a:lnTo>
                  <a:pt x="1070567" y="180451"/>
                </a:lnTo>
                <a:lnTo>
                  <a:pt x="1443569" y="41279"/>
                </a:lnTo>
                <a:lnTo>
                  <a:pt x="1446288" y="40370"/>
                </a:lnTo>
                <a:lnTo>
                  <a:pt x="1449461" y="39462"/>
                </a:lnTo>
                <a:lnTo>
                  <a:pt x="1452633" y="38781"/>
                </a:lnTo>
                <a:lnTo>
                  <a:pt x="1455579" y="38327"/>
                </a:lnTo>
                <a:lnTo>
                  <a:pt x="1458752" y="38100"/>
                </a:lnTo>
                <a:close/>
                <a:moveTo>
                  <a:pt x="102528" y="0"/>
                </a:moveTo>
                <a:lnTo>
                  <a:pt x="107971" y="454"/>
                </a:lnTo>
                <a:lnTo>
                  <a:pt x="113189" y="681"/>
                </a:lnTo>
                <a:lnTo>
                  <a:pt x="118406" y="1361"/>
                </a:lnTo>
                <a:lnTo>
                  <a:pt x="123169" y="2268"/>
                </a:lnTo>
                <a:lnTo>
                  <a:pt x="128386" y="3403"/>
                </a:lnTo>
                <a:lnTo>
                  <a:pt x="133376" y="4764"/>
                </a:lnTo>
                <a:lnTo>
                  <a:pt x="137913" y="6578"/>
                </a:lnTo>
                <a:lnTo>
                  <a:pt x="142450" y="8393"/>
                </a:lnTo>
                <a:lnTo>
                  <a:pt x="147213" y="10434"/>
                </a:lnTo>
                <a:lnTo>
                  <a:pt x="151523" y="12476"/>
                </a:lnTo>
                <a:lnTo>
                  <a:pt x="156059" y="14971"/>
                </a:lnTo>
                <a:lnTo>
                  <a:pt x="160143" y="17693"/>
                </a:lnTo>
                <a:lnTo>
                  <a:pt x="164225" y="20642"/>
                </a:lnTo>
                <a:lnTo>
                  <a:pt x="168082" y="23590"/>
                </a:lnTo>
                <a:lnTo>
                  <a:pt x="171711" y="26993"/>
                </a:lnTo>
                <a:lnTo>
                  <a:pt x="175340" y="30169"/>
                </a:lnTo>
                <a:lnTo>
                  <a:pt x="178743" y="33798"/>
                </a:lnTo>
                <a:lnTo>
                  <a:pt x="181918" y="37427"/>
                </a:lnTo>
                <a:lnTo>
                  <a:pt x="185094" y="41510"/>
                </a:lnTo>
                <a:lnTo>
                  <a:pt x="188043" y="45593"/>
                </a:lnTo>
                <a:lnTo>
                  <a:pt x="190538" y="49676"/>
                </a:lnTo>
                <a:lnTo>
                  <a:pt x="193033" y="53986"/>
                </a:lnTo>
                <a:lnTo>
                  <a:pt x="195074" y="58296"/>
                </a:lnTo>
                <a:lnTo>
                  <a:pt x="197343" y="63059"/>
                </a:lnTo>
                <a:lnTo>
                  <a:pt x="199157" y="67596"/>
                </a:lnTo>
                <a:lnTo>
                  <a:pt x="200745" y="72359"/>
                </a:lnTo>
                <a:lnTo>
                  <a:pt x="202106" y="77122"/>
                </a:lnTo>
                <a:lnTo>
                  <a:pt x="203467" y="82340"/>
                </a:lnTo>
                <a:lnTo>
                  <a:pt x="204148" y="87330"/>
                </a:lnTo>
                <a:lnTo>
                  <a:pt x="205055" y="92320"/>
                </a:lnTo>
                <a:lnTo>
                  <a:pt x="205282" y="97537"/>
                </a:lnTo>
                <a:lnTo>
                  <a:pt x="205509" y="102981"/>
                </a:lnTo>
                <a:lnTo>
                  <a:pt x="205509" y="2092965"/>
                </a:lnTo>
                <a:lnTo>
                  <a:pt x="2195719" y="2092965"/>
                </a:lnTo>
                <a:lnTo>
                  <a:pt x="2201163" y="2093192"/>
                </a:lnTo>
                <a:lnTo>
                  <a:pt x="2206380" y="2093419"/>
                </a:lnTo>
                <a:lnTo>
                  <a:pt x="2211597" y="2094326"/>
                </a:lnTo>
                <a:lnTo>
                  <a:pt x="2216587" y="2095233"/>
                </a:lnTo>
                <a:lnTo>
                  <a:pt x="2221578" y="2096367"/>
                </a:lnTo>
                <a:lnTo>
                  <a:pt x="2226568" y="2097501"/>
                </a:lnTo>
                <a:lnTo>
                  <a:pt x="2231105" y="2099316"/>
                </a:lnTo>
                <a:lnTo>
                  <a:pt x="2235868" y="2101131"/>
                </a:lnTo>
                <a:lnTo>
                  <a:pt x="2240405" y="2103172"/>
                </a:lnTo>
                <a:lnTo>
                  <a:pt x="2244714" y="2105667"/>
                </a:lnTo>
                <a:lnTo>
                  <a:pt x="2249251" y="2107936"/>
                </a:lnTo>
                <a:lnTo>
                  <a:pt x="2253334" y="2110658"/>
                </a:lnTo>
                <a:lnTo>
                  <a:pt x="2257417" y="2113606"/>
                </a:lnTo>
                <a:lnTo>
                  <a:pt x="2261273" y="2116328"/>
                </a:lnTo>
                <a:lnTo>
                  <a:pt x="2264902" y="2119731"/>
                </a:lnTo>
                <a:lnTo>
                  <a:pt x="2268532" y="2123133"/>
                </a:lnTo>
                <a:lnTo>
                  <a:pt x="2271934" y="2126763"/>
                </a:lnTo>
                <a:lnTo>
                  <a:pt x="2275337" y="2130619"/>
                </a:lnTo>
                <a:lnTo>
                  <a:pt x="2278285" y="2134475"/>
                </a:lnTo>
                <a:lnTo>
                  <a:pt x="2281234" y="2138331"/>
                </a:lnTo>
                <a:lnTo>
                  <a:pt x="2283729" y="2142414"/>
                </a:lnTo>
                <a:lnTo>
                  <a:pt x="2286224" y="2146724"/>
                </a:lnTo>
                <a:lnTo>
                  <a:pt x="2288720" y="2151260"/>
                </a:lnTo>
                <a:lnTo>
                  <a:pt x="2290761" y="2155797"/>
                </a:lnTo>
                <a:lnTo>
                  <a:pt x="2292576" y="2160560"/>
                </a:lnTo>
                <a:lnTo>
                  <a:pt x="2294164" y="2165324"/>
                </a:lnTo>
                <a:lnTo>
                  <a:pt x="2295298" y="2170087"/>
                </a:lnTo>
                <a:lnTo>
                  <a:pt x="2296659" y="2175304"/>
                </a:lnTo>
                <a:lnTo>
                  <a:pt x="2297339" y="2180068"/>
                </a:lnTo>
                <a:lnTo>
                  <a:pt x="2298246" y="2185285"/>
                </a:lnTo>
                <a:lnTo>
                  <a:pt x="2298473" y="2190729"/>
                </a:lnTo>
                <a:lnTo>
                  <a:pt x="2298700" y="2195946"/>
                </a:lnTo>
                <a:lnTo>
                  <a:pt x="2298473" y="2201163"/>
                </a:lnTo>
                <a:lnTo>
                  <a:pt x="2298246" y="2206380"/>
                </a:lnTo>
                <a:lnTo>
                  <a:pt x="2297339" y="2211597"/>
                </a:lnTo>
                <a:lnTo>
                  <a:pt x="2296659" y="2216361"/>
                </a:lnTo>
                <a:lnTo>
                  <a:pt x="2295298" y="2221578"/>
                </a:lnTo>
                <a:lnTo>
                  <a:pt x="2294164" y="2226568"/>
                </a:lnTo>
                <a:lnTo>
                  <a:pt x="2292576" y="2231105"/>
                </a:lnTo>
                <a:lnTo>
                  <a:pt x="2290761" y="2235868"/>
                </a:lnTo>
                <a:lnTo>
                  <a:pt x="2288720" y="2240405"/>
                </a:lnTo>
                <a:lnTo>
                  <a:pt x="2286224" y="2244941"/>
                </a:lnTo>
                <a:lnTo>
                  <a:pt x="2283729" y="2249251"/>
                </a:lnTo>
                <a:lnTo>
                  <a:pt x="2281234" y="2253334"/>
                </a:lnTo>
                <a:lnTo>
                  <a:pt x="2278285" y="2257417"/>
                </a:lnTo>
                <a:lnTo>
                  <a:pt x="2275337" y="2261273"/>
                </a:lnTo>
                <a:lnTo>
                  <a:pt x="2271934" y="2264902"/>
                </a:lnTo>
                <a:lnTo>
                  <a:pt x="2268532" y="2268532"/>
                </a:lnTo>
                <a:lnTo>
                  <a:pt x="2264902" y="2271934"/>
                </a:lnTo>
                <a:lnTo>
                  <a:pt x="2261273" y="2275337"/>
                </a:lnTo>
                <a:lnTo>
                  <a:pt x="2257417" y="2278059"/>
                </a:lnTo>
                <a:lnTo>
                  <a:pt x="2253334" y="2281234"/>
                </a:lnTo>
                <a:lnTo>
                  <a:pt x="2249251" y="2283729"/>
                </a:lnTo>
                <a:lnTo>
                  <a:pt x="2244714" y="2286451"/>
                </a:lnTo>
                <a:lnTo>
                  <a:pt x="2240405" y="2288493"/>
                </a:lnTo>
                <a:lnTo>
                  <a:pt x="2235868" y="2290534"/>
                </a:lnTo>
                <a:lnTo>
                  <a:pt x="2231105" y="2292349"/>
                </a:lnTo>
                <a:lnTo>
                  <a:pt x="2226568" y="2294164"/>
                </a:lnTo>
                <a:lnTo>
                  <a:pt x="2221578" y="2295298"/>
                </a:lnTo>
                <a:lnTo>
                  <a:pt x="2216587" y="2296659"/>
                </a:lnTo>
                <a:lnTo>
                  <a:pt x="2211597" y="2297566"/>
                </a:lnTo>
                <a:lnTo>
                  <a:pt x="2206380" y="2298246"/>
                </a:lnTo>
                <a:lnTo>
                  <a:pt x="2201163" y="2298473"/>
                </a:lnTo>
                <a:lnTo>
                  <a:pt x="2195719" y="2298700"/>
                </a:lnTo>
                <a:lnTo>
                  <a:pt x="102528" y="2298700"/>
                </a:lnTo>
                <a:lnTo>
                  <a:pt x="97310" y="2298473"/>
                </a:lnTo>
                <a:lnTo>
                  <a:pt x="92093" y="2298246"/>
                </a:lnTo>
                <a:lnTo>
                  <a:pt x="86876" y="2297566"/>
                </a:lnTo>
                <a:lnTo>
                  <a:pt x="81886" y="2296659"/>
                </a:lnTo>
                <a:lnTo>
                  <a:pt x="77122" y="2295298"/>
                </a:lnTo>
                <a:lnTo>
                  <a:pt x="72132" y="2294164"/>
                </a:lnTo>
                <a:lnTo>
                  <a:pt x="67142" y="2292349"/>
                </a:lnTo>
                <a:lnTo>
                  <a:pt x="62605" y="2290534"/>
                </a:lnTo>
                <a:lnTo>
                  <a:pt x="57842" y="2288493"/>
                </a:lnTo>
                <a:lnTo>
                  <a:pt x="53532" y="2286451"/>
                </a:lnTo>
                <a:lnTo>
                  <a:pt x="49449" y="2283729"/>
                </a:lnTo>
                <a:lnTo>
                  <a:pt x="45139" y="2281234"/>
                </a:lnTo>
                <a:lnTo>
                  <a:pt x="41283" y="2278059"/>
                </a:lnTo>
                <a:lnTo>
                  <a:pt x="37200" y="2275337"/>
                </a:lnTo>
                <a:lnTo>
                  <a:pt x="33344" y="2271934"/>
                </a:lnTo>
                <a:lnTo>
                  <a:pt x="29715" y="2268532"/>
                </a:lnTo>
                <a:lnTo>
                  <a:pt x="26539" y="2264902"/>
                </a:lnTo>
                <a:lnTo>
                  <a:pt x="23364" y="2261273"/>
                </a:lnTo>
                <a:lnTo>
                  <a:pt x="20188" y="2257417"/>
                </a:lnTo>
                <a:lnTo>
                  <a:pt x="17466" y="2253334"/>
                </a:lnTo>
                <a:lnTo>
                  <a:pt x="14517" y="2249251"/>
                </a:lnTo>
                <a:lnTo>
                  <a:pt x="12249" y="2244941"/>
                </a:lnTo>
                <a:lnTo>
                  <a:pt x="9981" y="2240405"/>
                </a:lnTo>
                <a:lnTo>
                  <a:pt x="7939" y="2235868"/>
                </a:lnTo>
                <a:lnTo>
                  <a:pt x="6125" y="2231105"/>
                </a:lnTo>
                <a:lnTo>
                  <a:pt x="4537" y="2226568"/>
                </a:lnTo>
                <a:lnTo>
                  <a:pt x="2949" y="2221578"/>
                </a:lnTo>
                <a:lnTo>
                  <a:pt x="2042" y="2216361"/>
                </a:lnTo>
                <a:lnTo>
                  <a:pt x="907" y="2211597"/>
                </a:lnTo>
                <a:lnTo>
                  <a:pt x="454" y="2206380"/>
                </a:lnTo>
                <a:lnTo>
                  <a:pt x="0" y="2201163"/>
                </a:lnTo>
                <a:lnTo>
                  <a:pt x="0" y="2195946"/>
                </a:lnTo>
                <a:lnTo>
                  <a:pt x="0" y="102981"/>
                </a:lnTo>
                <a:lnTo>
                  <a:pt x="0" y="97537"/>
                </a:lnTo>
                <a:lnTo>
                  <a:pt x="454" y="92320"/>
                </a:lnTo>
                <a:lnTo>
                  <a:pt x="907" y="87330"/>
                </a:lnTo>
                <a:lnTo>
                  <a:pt x="2042" y="82340"/>
                </a:lnTo>
                <a:lnTo>
                  <a:pt x="2949" y="77122"/>
                </a:lnTo>
                <a:lnTo>
                  <a:pt x="4537" y="72359"/>
                </a:lnTo>
                <a:lnTo>
                  <a:pt x="6125" y="67596"/>
                </a:lnTo>
                <a:lnTo>
                  <a:pt x="7939" y="63059"/>
                </a:lnTo>
                <a:lnTo>
                  <a:pt x="9981" y="58296"/>
                </a:lnTo>
                <a:lnTo>
                  <a:pt x="12249" y="53986"/>
                </a:lnTo>
                <a:lnTo>
                  <a:pt x="14517" y="49676"/>
                </a:lnTo>
                <a:lnTo>
                  <a:pt x="17466" y="45593"/>
                </a:lnTo>
                <a:lnTo>
                  <a:pt x="20188" y="41510"/>
                </a:lnTo>
                <a:lnTo>
                  <a:pt x="23364" y="37427"/>
                </a:lnTo>
                <a:lnTo>
                  <a:pt x="26539" y="33798"/>
                </a:lnTo>
                <a:lnTo>
                  <a:pt x="29715" y="30169"/>
                </a:lnTo>
                <a:lnTo>
                  <a:pt x="33344" y="26993"/>
                </a:lnTo>
                <a:lnTo>
                  <a:pt x="37200" y="23590"/>
                </a:lnTo>
                <a:lnTo>
                  <a:pt x="41283" y="20642"/>
                </a:lnTo>
                <a:lnTo>
                  <a:pt x="45139" y="17693"/>
                </a:lnTo>
                <a:lnTo>
                  <a:pt x="49449" y="14971"/>
                </a:lnTo>
                <a:lnTo>
                  <a:pt x="53532" y="12476"/>
                </a:lnTo>
                <a:lnTo>
                  <a:pt x="57842" y="10434"/>
                </a:lnTo>
                <a:lnTo>
                  <a:pt x="62605" y="8393"/>
                </a:lnTo>
                <a:lnTo>
                  <a:pt x="67142" y="6578"/>
                </a:lnTo>
                <a:lnTo>
                  <a:pt x="72132" y="4764"/>
                </a:lnTo>
                <a:lnTo>
                  <a:pt x="77122" y="3403"/>
                </a:lnTo>
                <a:lnTo>
                  <a:pt x="81886" y="2268"/>
                </a:lnTo>
                <a:lnTo>
                  <a:pt x="86876" y="1361"/>
                </a:lnTo>
                <a:lnTo>
                  <a:pt x="92093" y="681"/>
                </a:lnTo>
                <a:lnTo>
                  <a:pt x="97310" y="454"/>
                </a:lnTo>
                <a:lnTo>
                  <a:pt x="1025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KSO_Shape"/>
          <p:cNvSpPr/>
          <p:nvPr/>
        </p:nvSpPr>
        <p:spPr>
          <a:xfrm>
            <a:off x="10353600" y="4325760"/>
            <a:ext cx="693720" cy="675000"/>
          </a:xfrm>
          <a:custGeom>
            <a:avLst/>
            <a:gdLst>
              <a:gd name="textAreaLeft" fmla="*/ 0 w 693720"/>
              <a:gd name="textAreaRight" fmla="*/ 694080 w 693720"/>
              <a:gd name="textAreaTop" fmla="*/ 0 h 675000"/>
              <a:gd name="textAreaBottom" fmla="*/ 675360 h 675000"/>
            </a:gdLst>
            <a:ahLst/>
            <a:rect l="textAreaLeft" t="textAreaTop" r="textAreaRight" b="textAreaBottom"/>
            <a:pathLst>
              <a:path w="1257300" h="1223963">
                <a:moveTo>
                  <a:pt x="297038" y="823913"/>
                </a:moveTo>
                <a:lnTo>
                  <a:pt x="593725" y="823913"/>
                </a:lnTo>
                <a:lnTo>
                  <a:pt x="593725" y="1117601"/>
                </a:lnTo>
                <a:lnTo>
                  <a:pt x="329915" y="1117601"/>
                </a:lnTo>
                <a:lnTo>
                  <a:pt x="322226" y="1117601"/>
                </a:lnTo>
                <a:lnTo>
                  <a:pt x="314537" y="1116807"/>
                </a:lnTo>
                <a:lnTo>
                  <a:pt x="306848" y="1115483"/>
                </a:lnTo>
                <a:lnTo>
                  <a:pt x="299425" y="1113894"/>
                </a:lnTo>
                <a:lnTo>
                  <a:pt x="292001" y="1111510"/>
                </a:lnTo>
                <a:lnTo>
                  <a:pt x="284842" y="1108862"/>
                </a:lnTo>
                <a:lnTo>
                  <a:pt x="277949" y="1105949"/>
                </a:lnTo>
                <a:lnTo>
                  <a:pt x="271320" y="1102241"/>
                </a:lnTo>
                <a:lnTo>
                  <a:pt x="264692" y="1098004"/>
                </a:lnTo>
                <a:lnTo>
                  <a:pt x="258328" y="1093767"/>
                </a:lnTo>
                <a:lnTo>
                  <a:pt x="252761" y="1089000"/>
                </a:lnTo>
                <a:lnTo>
                  <a:pt x="246928" y="1083704"/>
                </a:lnTo>
                <a:lnTo>
                  <a:pt x="241890" y="1078143"/>
                </a:lnTo>
                <a:lnTo>
                  <a:pt x="236852" y="1072317"/>
                </a:lnTo>
                <a:lnTo>
                  <a:pt x="232345" y="1066226"/>
                </a:lnTo>
                <a:lnTo>
                  <a:pt x="228103" y="1059605"/>
                </a:lnTo>
                <a:lnTo>
                  <a:pt x="224391" y="1052455"/>
                </a:lnTo>
                <a:lnTo>
                  <a:pt x="221209" y="1045569"/>
                </a:lnTo>
                <a:lnTo>
                  <a:pt x="218558" y="1038154"/>
                </a:lnTo>
                <a:lnTo>
                  <a:pt x="216437" y="1031004"/>
                </a:lnTo>
                <a:lnTo>
                  <a:pt x="214581" y="1023589"/>
                </a:lnTo>
                <a:lnTo>
                  <a:pt x="213521" y="1015909"/>
                </a:lnTo>
                <a:lnTo>
                  <a:pt x="212990" y="1008494"/>
                </a:lnTo>
                <a:lnTo>
                  <a:pt x="212725" y="1000550"/>
                </a:lnTo>
                <a:lnTo>
                  <a:pt x="212990" y="993135"/>
                </a:lnTo>
                <a:lnTo>
                  <a:pt x="213521" y="985455"/>
                </a:lnTo>
                <a:lnTo>
                  <a:pt x="214846" y="978040"/>
                </a:lnTo>
                <a:lnTo>
                  <a:pt x="216702" y="970625"/>
                </a:lnTo>
                <a:lnTo>
                  <a:pt x="218823" y="963475"/>
                </a:lnTo>
                <a:lnTo>
                  <a:pt x="221475" y="956059"/>
                </a:lnTo>
                <a:lnTo>
                  <a:pt x="224921" y="949174"/>
                </a:lnTo>
                <a:lnTo>
                  <a:pt x="228633" y="942289"/>
                </a:lnTo>
                <a:lnTo>
                  <a:pt x="297038" y="823913"/>
                </a:lnTo>
                <a:close/>
                <a:moveTo>
                  <a:pt x="837211" y="711200"/>
                </a:moveTo>
                <a:lnTo>
                  <a:pt x="836946" y="821267"/>
                </a:lnTo>
                <a:lnTo>
                  <a:pt x="1126800" y="821267"/>
                </a:lnTo>
                <a:lnTo>
                  <a:pt x="1136859" y="820738"/>
                </a:lnTo>
                <a:lnTo>
                  <a:pt x="1146918" y="819944"/>
                </a:lnTo>
                <a:lnTo>
                  <a:pt x="1156712" y="818356"/>
                </a:lnTo>
                <a:lnTo>
                  <a:pt x="1165976" y="815975"/>
                </a:lnTo>
                <a:lnTo>
                  <a:pt x="1175506" y="813329"/>
                </a:lnTo>
                <a:lnTo>
                  <a:pt x="1184506" y="809890"/>
                </a:lnTo>
                <a:lnTo>
                  <a:pt x="1193506" y="805921"/>
                </a:lnTo>
                <a:lnTo>
                  <a:pt x="1201976" y="801423"/>
                </a:lnTo>
                <a:lnTo>
                  <a:pt x="1210447" y="796396"/>
                </a:lnTo>
                <a:lnTo>
                  <a:pt x="1218388" y="790575"/>
                </a:lnTo>
                <a:lnTo>
                  <a:pt x="1226065" y="784225"/>
                </a:lnTo>
                <a:lnTo>
                  <a:pt x="1233212" y="777611"/>
                </a:lnTo>
                <a:lnTo>
                  <a:pt x="1239830" y="770467"/>
                </a:lnTo>
                <a:lnTo>
                  <a:pt x="1245918" y="763059"/>
                </a:lnTo>
                <a:lnTo>
                  <a:pt x="1252006" y="754856"/>
                </a:lnTo>
                <a:lnTo>
                  <a:pt x="1257300" y="746654"/>
                </a:lnTo>
                <a:lnTo>
                  <a:pt x="1074388" y="1063625"/>
                </a:lnTo>
                <a:lnTo>
                  <a:pt x="1070682" y="1069711"/>
                </a:lnTo>
                <a:lnTo>
                  <a:pt x="1066447" y="1075003"/>
                </a:lnTo>
                <a:lnTo>
                  <a:pt x="1061947" y="1080559"/>
                </a:lnTo>
                <a:lnTo>
                  <a:pt x="1057182" y="1085321"/>
                </a:lnTo>
                <a:lnTo>
                  <a:pt x="1052417" y="1089819"/>
                </a:lnTo>
                <a:lnTo>
                  <a:pt x="1046858" y="1094053"/>
                </a:lnTo>
                <a:lnTo>
                  <a:pt x="1041564" y="1097757"/>
                </a:lnTo>
                <a:lnTo>
                  <a:pt x="1035741" y="1101461"/>
                </a:lnTo>
                <a:lnTo>
                  <a:pt x="1029652" y="1104371"/>
                </a:lnTo>
                <a:lnTo>
                  <a:pt x="1023829" y="1107282"/>
                </a:lnTo>
                <a:lnTo>
                  <a:pt x="1017476" y="1109398"/>
                </a:lnTo>
                <a:lnTo>
                  <a:pt x="1011123" y="1111251"/>
                </a:lnTo>
                <a:lnTo>
                  <a:pt x="1004505" y="1112573"/>
                </a:lnTo>
                <a:lnTo>
                  <a:pt x="998152" y="1113896"/>
                </a:lnTo>
                <a:lnTo>
                  <a:pt x="991535" y="1114426"/>
                </a:lnTo>
                <a:lnTo>
                  <a:pt x="984917" y="1114426"/>
                </a:lnTo>
                <a:lnTo>
                  <a:pt x="836946" y="1114426"/>
                </a:lnTo>
                <a:lnTo>
                  <a:pt x="837211" y="1223963"/>
                </a:lnTo>
                <a:lnTo>
                  <a:pt x="830858" y="1216026"/>
                </a:lnTo>
                <a:lnTo>
                  <a:pt x="814181" y="1194330"/>
                </a:lnTo>
                <a:lnTo>
                  <a:pt x="802799" y="1179513"/>
                </a:lnTo>
                <a:lnTo>
                  <a:pt x="790358" y="1162315"/>
                </a:lnTo>
                <a:lnTo>
                  <a:pt x="776858" y="1143530"/>
                </a:lnTo>
                <a:lnTo>
                  <a:pt x="763093" y="1123686"/>
                </a:lnTo>
                <a:lnTo>
                  <a:pt x="749328" y="1102784"/>
                </a:lnTo>
                <a:lnTo>
                  <a:pt x="742711" y="1091936"/>
                </a:lnTo>
                <a:lnTo>
                  <a:pt x="736093" y="1081353"/>
                </a:lnTo>
                <a:lnTo>
                  <a:pt x="729475" y="1070505"/>
                </a:lnTo>
                <a:lnTo>
                  <a:pt x="723387" y="1059921"/>
                </a:lnTo>
                <a:lnTo>
                  <a:pt x="717563" y="1049338"/>
                </a:lnTo>
                <a:lnTo>
                  <a:pt x="712005" y="1039019"/>
                </a:lnTo>
                <a:lnTo>
                  <a:pt x="707240" y="1028700"/>
                </a:lnTo>
                <a:lnTo>
                  <a:pt x="702740" y="1018646"/>
                </a:lnTo>
                <a:lnTo>
                  <a:pt x="698769" y="1009121"/>
                </a:lnTo>
                <a:lnTo>
                  <a:pt x="695593" y="999861"/>
                </a:lnTo>
                <a:lnTo>
                  <a:pt x="692681" y="991130"/>
                </a:lnTo>
                <a:lnTo>
                  <a:pt x="690563" y="982663"/>
                </a:lnTo>
                <a:lnTo>
                  <a:pt x="690034" y="978694"/>
                </a:lnTo>
                <a:lnTo>
                  <a:pt x="689505" y="974725"/>
                </a:lnTo>
                <a:lnTo>
                  <a:pt x="689240" y="971021"/>
                </a:lnTo>
                <a:lnTo>
                  <a:pt x="688975" y="967582"/>
                </a:lnTo>
                <a:lnTo>
                  <a:pt x="689240" y="964142"/>
                </a:lnTo>
                <a:lnTo>
                  <a:pt x="689505" y="960438"/>
                </a:lnTo>
                <a:lnTo>
                  <a:pt x="690034" y="956469"/>
                </a:lnTo>
                <a:lnTo>
                  <a:pt x="690563" y="952500"/>
                </a:lnTo>
                <a:lnTo>
                  <a:pt x="692681" y="944298"/>
                </a:lnTo>
                <a:lnTo>
                  <a:pt x="695593" y="935302"/>
                </a:lnTo>
                <a:lnTo>
                  <a:pt x="698769" y="926042"/>
                </a:lnTo>
                <a:lnTo>
                  <a:pt x="702740" y="916517"/>
                </a:lnTo>
                <a:lnTo>
                  <a:pt x="707240" y="906463"/>
                </a:lnTo>
                <a:lnTo>
                  <a:pt x="712005" y="896144"/>
                </a:lnTo>
                <a:lnTo>
                  <a:pt x="717563" y="886090"/>
                </a:lnTo>
                <a:lnTo>
                  <a:pt x="723387" y="875507"/>
                </a:lnTo>
                <a:lnTo>
                  <a:pt x="729475" y="864659"/>
                </a:lnTo>
                <a:lnTo>
                  <a:pt x="736093" y="854075"/>
                </a:lnTo>
                <a:lnTo>
                  <a:pt x="742711" y="843227"/>
                </a:lnTo>
                <a:lnTo>
                  <a:pt x="749328" y="832644"/>
                </a:lnTo>
                <a:lnTo>
                  <a:pt x="763093" y="811742"/>
                </a:lnTo>
                <a:lnTo>
                  <a:pt x="776858" y="791369"/>
                </a:lnTo>
                <a:lnTo>
                  <a:pt x="790358" y="772848"/>
                </a:lnTo>
                <a:lnTo>
                  <a:pt x="802799" y="755650"/>
                </a:lnTo>
                <a:lnTo>
                  <a:pt x="814181" y="740833"/>
                </a:lnTo>
                <a:lnTo>
                  <a:pt x="830858" y="719138"/>
                </a:lnTo>
                <a:lnTo>
                  <a:pt x="837211" y="711200"/>
                </a:lnTo>
                <a:close/>
                <a:moveTo>
                  <a:pt x="174360" y="454025"/>
                </a:moveTo>
                <a:lnTo>
                  <a:pt x="186796" y="454025"/>
                </a:lnTo>
                <a:lnTo>
                  <a:pt x="199231" y="454025"/>
                </a:lnTo>
                <a:lnTo>
                  <a:pt x="211137" y="454290"/>
                </a:lnTo>
                <a:lnTo>
                  <a:pt x="222779" y="454819"/>
                </a:lnTo>
                <a:lnTo>
                  <a:pt x="234156" y="455349"/>
                </a:lnTo>
                <a:lnTo>
                  <a:pt x="245004" y="456407"/>
                </a:lnTo>
                <a:lnTo>
                  <a:pt x="255323" y="457996"/>
                </a:lnTo>
                <a:lnTo>
                  <a:pt x="265113" y="459584"/>
                </a:lnTo>
                <a:lnTo>
                  <a:pt x="273844" y="461701"/>
                </a:lnTo>
                <a:lnTo>
                  <a:pt x="282311" y="464348"/>
                </a:lnTo>
                <a:lnTo>
                  <a:pt x="286279" y="465672"/>
                </a:lnTo>
                <a:lnTo>
                  <a:pt x="289719" y="466995"/>
                </a:lnTo>
                <a:lnTo>
                  <a:pt x="293158" y="468583"/>
                </a:lnTo>
                <a:lnTo>
                  <a:pt x="296333" y="470172"/>
                </a:lnTo>
                <a:lnTo>
                  <a:pt x="299508" y="472289"/>
                </a:lnTo>
                <a:lnTo>
                  <a:pt x="302154" y="474142"/>
                </a:lnTo>
                <a:lnTo>
                  <a:pt x="305329" y="476789"/>
                </a:lnTo>
                <a:lnTo>
                  <a:pt x="308504" y="479436"/>
                </a:lnTo>
                <a:lnTo>
                  <a:pt x="314854" y="484995"/>
                </a:lnTo>
                <a:lnTo>
                  <a:pt x="321204" y="491877"/>
                </a:lnTo>
                <a:lnTo>
                  <a:pt x="327290" y="499288"/>
                </a:lnTo>
                <a:lnTo>
                  <a:pt x="333640" y="507759"/>
                </a:lnTo>
                <a:lnTo>
                  <a:pt x="340254" y="516493"/>
                </a:lnTo>
                <a:lnTo>
                  <a:pt x="346604" y="526023"/>
                </a:lnTo>
                <a:lnTo>
                  <a:pt x="352690" y="535816"/>
                </a:lnTo>
                <a:lnTo>
                  <a:pt x="359040" y="546139"/>
                </a:lnTo>
                <a:lnTo>
                  <a:pt x="365125" y="556727"/>
                </a:lnTo>
                <a:lnTo>
                  <a:pt x="371475" y="567580"/>
                </a:lnTo>
                <a:lnTo>
                  <a:pt x="377296" y="578697"/>
                </a:lnTo>
                <a:lnTo>
                  <a:pt x="383117" y="589814"/>
                </a:lnTo>
                <a:lnTo>
                  <a:pt x="394494" y="612578"/>
                </a:lnTo>
                <a:lnTo>
                  <a:pt x="404813" y="634548"/>
                </a:lnTo>
                <a:lnTo>
                  <a:pt x="414338" y="655459"/>
                </a:lnTo>
                <a:lnTo>
                  <a:pt x="423069" y="674782"/>
                </a:lnTo>
                <a:lnTo>
                  <a:pt x="430213" y="691987"/>
                </a:lnTo>
                <a:lnTo>
                  <a:pt x="440796" y="717398"/>
                </a:lnTo>
                <a:lnTo>
                  <a:pt x="444500" y="726662"/>
                </a:lnTo>
                <a:lnTo>
                  <a:pt x="349250" y="671606"/>
                </a:lnTo>
                <a:lnTo>
                  <a:pt x="204258" y="922803"/>
                </a:lnTo>
                <a:lnTo>
                  <a:pt x="199496" y="931538"/>
                </a:lnTo>
                <a:lnTo>
                  <a:pt x="195527" y="940802"/>
                </a:lnTo>
                <a:lnTo>
                  <a:pt x="191823" y="949802"/>
                </a:lnTo>
                <a:lnTo>
                  <a:pt x="188912" y="959331"/>
                </a:lnTo>
                <a:lnTo>
                  <a:pt x="186796" y="968860"/>
                </a:lnTo>
                <a:lnTo>
                  <a:pt x="185208" y="978389"/>
                </a:lnTo>
                <a:lnTo>
                  <a:pt x="183885" y="988183"/>
                </a:lnTo>
                <a:lnTo>
                  <a:pt x="183621" y="997976"/>
                </a:lnTo>
                <a:lnTo>
                  <a:pt x="183885" y="1007505"/>
                </a:lnTo>
                <a:lnTo>
                  <a:pt x="184944" y="1017299"/>
                </a:lnTo>
                <a:lnTo>
                  <a:pt x="186531" y="1027093"/>
                </a:lnTo>
                <a:lnTo>
                  <a:pt x="188648" y="1036357"/>
                </a:lnTo>
                <a:lnTo>
                  <a:pt x="191558" y="1045886"/>
                </a:lnTo>
                <a:lnTo>
                  <a:pt x="194733" y="1055151"/>
                </a:lnTo>
                <a:lnTo>
                  <a:pt x="199231" y="1064150"/>
                </a:lnTo>
                <a:lnTo>
                  <a:pt x="203729" y="1073150"/>
                </a:lnTo>
                <a:lnTo>
                  <a:pt x="20637" y="756044"/>
                </a:lnTo>
                <a:lnTo>
                  <a:pt x="17462" y="749691"/>
                </a:lnTo>
                <a:lnTo>
                  <a:pt x="14552" y="743338"/>
                </a:lnTo>
                <a:lnTo>
                  <a:pt x="12171" y="736721"/>
                </a:lnTo>
                <a:lnTo>
                  <a:pt x="10319" y="730104"/>
                </a:lnTo>
                <a:lnTo>
                  <a:pt x="8996" y="723751"/>
                </a:lnTo>
                <a:lnTo>
                  <a:pt x="7937" y="717133"/>
                </a:lnTo>
                <a:lnTo>
                  <a:pt x="7144" y="710251"/>
                </a:lnTo>
                <a:lnTo>
                  <a:pt x="7144" y="703634"/>
                </a:lnTo>
                <a:lnTo>
                  <a:pt x="7408" y="697016"/>
                </a:lnTo>
                <a:lnTo>
                  <a:pt x="8202" y="690399"/>
                </a:lnTo>
                <a:lnTo>
                  <a:pt x="9260" y="684046"/>
                </a:lnTo>
                <a:lnTo>
                  <a:pt x="10848" y="677429"/>
                </a:lnTo>
                <a:lnTo>
                  <a:pt x="12964" y="671076"/>
                </a:lnTo>
                <a:lnTo>
                  <a:pt x="15346" y="664724"/>
                </a:lnTo>
                <a:lnTo>
                  <a:pt x="17992" y="658900"/>
                </a:lnTo>
                <a:lnTo>
                  <a:pt x="21167" y="653077"/>
                </a:lnTo>
                <a:lnTo>
                  <a:pt x="95250" y="524964"/>
                </a:lnTo>
                <a:lnTo>
                  <a:pt x="0" y="470172"/>
                </a:lnTo>
                <a:lnTo>
                  <a:pt x="10054" y="468848"/>
                </a:lnTo>
                <a:lnTo>
                  <a:pt x="37306" y="465142"/>
                </a:lnTo>
                <a:lnTo>
                  <a:pt x="55827" y="462760"/>
                </a:lnTo>
                <a:lnTo>
                  <a:pt x="76994" y="460378"/>
                </a:lnTo>
                <a:lnTo>
                  <a:pt x="99748" y="458260"/>
                </a:lnTo>
                <a:lnTo>
                  <a:pt x="124089" y="456407"/>
                </a:lnTo>
                <a:lnTo>
                  <a:pt x="149225" y="454819"/>
                </a:lnTo>
                <a:lnTo>
                  <a:pt x="161660" y="454555"/>
                </a:lnTo>
                <a:lnTo>
                  <a:pt x="174360" y="454025"/>
                </a:lnTo>
                <a:close/>
                <a:moveTo>
                  <a:pt x="1100138" y="387350"/>
                </a:moveTo>
                <a:lnTo>
                  <a:pt x="1231901" y="615156"/>
                </a:lnTo>
                <a:lnTo>
                  <a:pt x="1235605" y="622036"/>
                </a:lnTo>
                <a:lnTo>
                  <a:pt x="1239045" y="629179"/>
                </a:lnTo>
                <a:lnTo>
                  <a:pt x="1241426" y="636323"/>
                </a:lnTo>
                <a:lnTo>
                  <a:pt x="1243807" y="643731"/>
                </a:lnTo>
                <a:lnTo>
                  <a:pt x="1245395" y="651140"/>
                </a:lnTo>
                <a:lnTo>
                  <a:pt x="1246982" y="658548"/>
                </a:lnTo>
                <a:lnTo>
                  <a:pt x="1247512" y="666221"/>
                </a:lnTo>
                <a:lnTo>
                  <a:pt x="1247776" y="673629"/>
                </a:lnTo>
                <a:lnTo>
                  <a:pt x="1247776" y="681567"/>
                </a:lnTo>
                <a:lnTo>
                  <a:pt x="1246982" y="688975"/>
                </a:lnTo>
                <a:lnTo>
                  <a:pt x="1245924" y="696648"/>
                </a:lnTo>
                <a:lnTo>
                  <a:pt x="1244072" y="704056"/>
                </a:lnTo>
                <a:lnTo>
                  <a:pt x="1241691" y="711200"/>
                </a:lnTo>
                <a:lnTo>
                  <a:pt x="1239309" y="718608"/>
                </a:lnTo>
                <a:lnTo>
                  <a:pt x="1236134" y="725488"/>
                </a:lnTo>
                <a:lnTo>
                  <a:pt x="1232430" y="732367"/>
                </a:lnTo>
                <a:lnTo>
                  <a:pt x="1228462" y="739246"/>
                </a:lnTo>
                <a:lnTo>
                  <a:pt x="1223699" y="745067"/>
                </a:lnTo>
                <a:lnTo>
                  <a:pt x="1218937" y="751152"/>
                </a:lnTo>
                <a:lnTo>
                  <a:pt x="1213645" y="756973"/>
                </a:lnTo>
                <a:lnTo>
                  <a:pt x="1208089" y="762000"/>
                </a:lnTo>
                <a:lnTo>
                  <a:pt x="1202003" y="766763"/>
                </a:lnTo>
                <a:lnTo>
                  <a:pt x="1195918" y="770996"/>
                </a:lnTo>
                <a:lnTo>
                  <a:pt x="1189303" y="775229"/>
                </a:lnTo>
                <a:lnTo>
                  <a:pt x="1182689" y="778933"/>
                </a:lnTo>
                <a:lnTo>
                  <a:pt x="1175809" y="781579"/>
                </a:lnTo>
                <a:lnTo>
                  <a:pt x="1168666" y="784490"/>
                </a:lnTo>
                <a:lnTo>
                  <a:pt x="1161257" y="786606"/>
                </a:lnTo>
                <a:lnTo>
                  <a:pt x="1153849" y="788194"/>
                </a:lnTo>
                <a:lnTo>
                  <a:pt x="1146176" y="789781"/>
                </a:lnTo>
                <a:lnTo>
                  <a:pt x="1138503" y="790311"/>
                </a:lnTo>
                <a:lnTo>
                  <a:pt x="1130830" y="790575"/>
                </a:lnTo>
                <a:lnTo>
                  <a:pt x="994305" y="790575"/>
                </a:lnTo>
                <a:lnTo>
                  <a:pt x="846138" y="534194"/>
                </a:lnTo>
                <a:lnTo>
                  <a:pt x="1100138" y="387350"/>
                </a:lnTo>
                <a:close/>
                <a:moveTo>
                  <a:pt x="819361" y="30163"/>
                </a:moveTo>
                <a:lnTo>
                  <a:pt x="827011" y="30428"/>
                </a:lnTo>
                <a:lnTo>
                  <a:pt x="834661" y="31221"/>
                </a:lnTo>
                <a:lnTo>
                  <a:pt x="842311" y="32280"/>
                </a:lnTo>
                <a:lnTo>
                  <a:pt x="849961" y="34132"/>
                </a:lnTo>
                <a:lnTo>
                  <a:pt x="857084" y="36249"/>
                </a:lnTo>
                <a:lnTo>
                  <a:pt x="864206" y="39159"/>
                </a:lnTo>
                <a:lnTo>
                  <a:pt x="870801" y="42334"/>
                </a:lnTo>
                <a:lnTo>
                  <a:pt x="877660" y="45774"/>
                </a:lnTo>
                <a:lnTo>
                  <a:pt x="883991" y="49742"/>
                </a:lnTo>
                <a:lnTo>
                  <a:pt x="890322" y="54240"/>
                </a:lnTo>
                <a:lnTo>
                  <a:pt x="895862" y="59267"/>
                </a:lnTo>
                <a:lnTo>
                  <a:pt x="901665" y="64294"/>
                </a:lnTo>
                <a:lnTo>
                  <a:pt x="906677" y="70115"/>
                </a:lnTo>
                <a:lnTo>
                  <a:pt x="911689" y="75672"/>
                </a:lnTo>
                <a:lnTo>
                  <a:pt x="916174" y="82022"/>
                </a:lnTo>
                <a:lnTo>
                  <a:pt x="920395" y="88636"/>
                </a:lnTo>
                <a:lnTo>
                  <a:pt x="972362" y="179124"/>
                </a:lnTo>
                <a:lnTo>
                  <a:pt x="1066801" y="124355"/>
                </a:lnTo>
                <a:lnTo>
                  <a:pt x="1063108" y="133615"/>
                </a:lnTo>
                <a:lnTo>
                  <a:pt x="1052556" y="159015"/>
                </a:lnTo>
                <a:lnTo>
                  <a:pt x="1045434" y="176213"/>
                </a:lnTo>
                <a:lnTo>
                  <a:pt x="1036992" y="195793"/>
                </a:lnTo>
                <a:lnTo>
                  <a:pt x="1027496" y="216430"/>
                </a:lnTo>
                <a:lnTo>
                  <a:pt x="1016944" y="238391"/>
                </a:lnTo>
                <a:lnTo>
                  <a:pt x="1005601" y="260880"/>
                </a:lnTo>
                <a:lnTo>
                  <a:pt x="999797" y="272257"/>
                </a:lnTo>
                <a:lnTo>
                  <a:pt x="993994" y="283105"/>
                </a:lnTo>
                <a:lnTo>
                  <a:pt x="987926" y="294218"/>
                </a:lnTo>
                <a:lnTo>
                  <a:pt x="981595" y="304801"/>
                </a:lnTo>
                <a:lnTo>
                  <a:pt x="975528" y="315120"/>
                </a:lnTo>
                <a:lnTo>
                  <a:pt x="969197" y="324645"/>
                </a:lnTo>
                <a:lnTo>
                  <a:pt x="962866" y="334170"/>
                </a:lnTo>
                <a:lnTo>
                  <a:pt x="956535" y="342901"/>
                </a:lnTo>
                <a:lnTo>
                  <a:pt x="949940" y="351368"/>
                </a:lnTo>
                <a:lnTo>
                  <a:pt x="943872" y="359041"/>
                </a:lnTo>
                <a:lnTo>
                  <a:pt x="937541" y="365655"/>
                </a:lnTo>
                <a:lnTo>
                  <a:pt x="931210" y="371476"/>
                </a:lnTo>
                <a:lnTo>
                  <a:pt x="928045" y="374122"/>
                </a:lnTo>
                <a:lnTo>
                  <a:pt x="925407" y="376503"/>
                </a:lnTo>
                <a:lnTo>
                  <a:pt x="922241" y="378620"/>
                </a:lnTo>
                <a:lnTo>
                  <a:pt x="919076" y="380472"/>
                </a:lnTo>
                <a:lnTo>
                  <a:pt x="915910" y="382059"/>
                </a:lnTo>
                <a:lnTo>
                  <a:pt x="912744" y="383912"/>
                </a:lnTo>
                <a:lnTo>
                  <a:pt x="909051" y="385234"/>
                </a:lnTo>
                <a:lnTo>
                  <a:pt x="905358" y="386822"/>
                </a:lnTo>
                <a:lnTo>
                  <a:pt x="897180" y="388939"/>
                </a:lnTo>
                <a:lnTo>
                  <a:pt x="887948" y="391320"/>
                </a:lnTo>
                <a:lnTo>
                  <a:pt x="878187" y="392907"/>
                </a:lnTo>
                <a:lnTo>
                  <a:pt x="868163" y="394495"/>
                </a:lnTo>
                <a:lnTo>
                  <a:pt x="857347" y="395289"/>
                </a:lnTo>
                <a:lnTo>
                  <a:pt x="846268" y="396082"/>
                </a:lnTo>
                <a:lnTo>
                  <a:pt x="834133" y="396612"/>
                </a:lnTo>
                <a:lnTo>
                  <a:pt x="822263" y="396876"/>
                </a:lnTo>
                <a:lnTo>
                  <a:pt x="809864" y="396876"/>
                </a:lnTo>
                <a:lnTo>
                  <a:pt x="797730" y="396876"/>
                </a:lnTo>
                <a:lnTo>
                  <a:pt x="784804" y="396347"/>
                </a:lnTo>
                <a:lnTo>
                  <a:pt x="772405" y="395818"/>
                </a:lnTo>
                <a:lnTo>
                  <a:pt x="747608" y="394495"/>
                </a:lnTo>
                <a:lnTo>
                  <a:pt x="723339" y="392643"/>
                </a:lnTo>
                <a:lnTo>
                  <a:pt x="700389" y="390526"/>
                </a:lnTo>
                <a:lnTo>
                  <a:pt x="679549" y="388145"/>
                </a:lnTo>
                <a:lnTo>
                  <a:pt x="661083" y="385764"/>
                </a:lnTo>
                <a:lnTo>
                  <a:pt x="633912" y="382059"/>
                </a:lnTo>
                <a:lnTo>
                  <a:pt x="623888" y="380737"/>
                </a:lnTo>
                <a:lnTo>
                  <a:pt x="719382" y="326761"/>
                </a:lnTo>
                <a:lnTo>
                  <a:pt x="650795" y="207434"/>
                </a:lnTo>
                <a:lnTo>
                  <a:pt x="697487" y="125942"/>
                </a:lnTo>
                <a:lnTo>
                  <a:pt x="718855" y="89430"/>
                </a:lnTo>
                <a:lnTo>
                  <a:pt x="722812" y="82551"/>
                </a:lnTo>
                <a:lnTo>
                  <a:pt x="727032" y="76201"/>
                </a:lnTo>
                <a:lnTo>
                  <a:pt x="732044" y="70380"/>
                </a:lnTo>
                <a:lnTo>
                  <a:pt x="737320" y="64559"/>
                </a:lnTo>
                <a:lnTo>
                  <a:pt x="742860" y="59532"/>
                </a:lnTo>
                <a:lnTo>
                  <a:pt x="748400" y="54505"/>
                </a:lnTo>
                <a:lnTo>
                  <a:pt x="754731" y="50007"/>
                </a:lnTo>
                <a:lnTo>
                  <a:pt x="761062" y="46038"/>
                </a:lnTo>
                <a:lnTo>
                  <a:pt x="767921" y="42334"/>
                </a:lnTo>
                <a:lnTo>
                  <a:pt x="774779" y="39159"/>
                </a:lnTo>
                <a:lnTo>
                  <a:pt x="781902" y="36513"/>
                </a:lnTo>
                <a:lnTo>
                  <a:pt x="789024" y="34396"/>
                </a:lnTo>
                <a:lnTo>
                  <a:pt x="796411" y="32280"/>
                </a:lnTo>
                <a:lnTo>
                  <a:pt x="804061" y="31221"/>
                </a:lnTo>
                <a:lnTo>
                  <a:pt x="811711" y="30428"/>
                </a:lnTo>
                <a:lnTo>
                  <a:pt x="819361" y="30163"/>
                </a:lnTo>
                <a:close/>
                <a:moveTo>
                  <a:pt x="454607" y="0"/>
                </a:moveTo>
                <a:lnTo>
                  <a:pt x="820738" y="0"/>
                </a:lnTo>
                <a:lnTo>
                  <a:pt x="810936" y="264"/>
                </a:lnTo>
                <a:lnTo>
                  <a:pt x="801133" y="1320"/>
                </a:lnTo>
                <a:lnTo>
                  <a:pt x="791331" y="2904"/>
                </a:lnTo>
                <a:lnTo>
                  <a:pt x="782059" y="5280"/>
                </a:lnTo>
                <a:lnTo>
                  <a:pt x="772786" y="7656"/>
                </a:lnTo>
                <a:lnTo>
                  <a:pt x="764044" y="11087"/>
                </a:lnTo>
                <a:lnTo>
                  <a:pt x="755301" y="15047"/>
                </a:lnTo>
                <a:lnTo>
                  <a:pt x="747088" y="19799"/>
                </a:lnTo>
                <a:lnTo>
                  <a:pt x="738875" y="24551"/>
                </a:lnTo>
                <a:lnTo>
                  <a:pt x="730927" y="30358"/>
                </a:lnTo>
                <a:lnTo>
                  <a:pt x="723774" y="36166"/>
                </a:lnTo>
                <a:lnTo>
                  <a:pt x="716621" y="42765"/>
                </a:lnTo>
                <a:lnTo>
                  <a:pt x="710263" y="49893"/>
                </a:lnTo>
                <a:lnTo>
                  <a:pt x="704170" y="57548"/>
                </a:lnTo>
                <a:lnTo>
                  <a:pt x="698341" y="65468"/>
                </a:lnTo>
                <a:lnTo>
                  <a:pt x="693043" y="73915"/>
                </a:lnTo>
                <a:lnTo>
                  <a:pt x="566672" y="291701"/>
                </a:lnTo>
                <a:lnTo>
                  <a:pt x="466529" y="465138"/>
                </a:lnTo>
                <a:lnTo>
                  <a:pt x="211138" y="318100"/>
                </a:lnTo>
                <a:lnTo>
                  <a:pt x="230743" y="283782"/>
                </a:lnTo>
                <a:lnTo>
                  <a:pt x="276046" y="204587"/>
                </a:lnTo>
                <a:lnTo>
                  <a:pt x="327972" y="115361"/>
                </a:lnTo>
                <a:lnTo>
                  <a:pt x="349696" y="78139"/>
                </a:lnTo>
                <a:lnTo>
                  <a:pt x="365591" y="51741"/>
                </a:lnTo>
                <a:lnTo>
                  <a:pt x="369300" y="46197"/>
                </a:lnTo>
                <a:lnTo>
                  <a:pt x="373009" y="40917"/>
                </a:lnTo>
                <a:lnTo>
                  <a:pt x="377248" y="35638"/>
                </a:lnTo>
                <a:lnTo>
                  <a:pt x="382017" y="30886"/>
                </a:lnTo>
                <a:lnTo>
                  <a:pt x="386786" y="26398"/>
                </a:lnTo>
                <a:lnTo>
                  <a:pt x="391819" y="21911"/>
                </a:lnTo>
                <a:lnTo>
                  <a:pt x="397118" y="17951"/>
                </a:lnTo>
                <a:lnTo>
                  <a:pt x="402681" y="14519"/>
                </a:lnTo>
                <a:lnTo>
                  <a:pt x="408510" y="11087"/>
                </a:lnTo>
                <a:lnTo>
                  <a:pt x="414603" y="8448"/>
                </a:lnTo>
                <a:lnTo>
                  <a:pt x="420696" y="6072"/>
                </a:lnTo>
                <a:lnTo>
                  <a:pt x="427055" y="3696"/>
                </a:lnTo>
                <a:lnTo>
                  <a:pt x="433678" y="2112"/>
                </a:lnTo>
                <a:lnTo>
                  <a:pt x="440566" y="792"/>
                </a:lnTo>
                <a:lnTo>
                  <a:pt x="447454" y="264"/>
                </a:lnTo>
                <a:lnTo>
                  <a:pt x="45460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16"/>
          <p:cNvSpPr/>
          <p:nvPr/>
        </p:nvSpPr>
        <p:spPr>
          <a:xfrm>
            <a:off x="1101600" y="5429160"/>
            <a:ext cx="9540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17"/>
          <p:cNvSpPr/>
          <p:nvPr/>
        </p:nvSpPr>
        <p:spPr>
          <a:xfrm>
            <a:off x="1095480" y="112536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1"/>
          <p:cNvSpPr/>
          <p:nvPr/>
        </p:nvSpPr>
        <p:spPr>
          <a:xfrm>
            <a:off x="4219560" y="5454720"/>
            <a:ext cx="968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2"/>
          <p:cNvSpPr/>
          <p:nvPr/>
        </p:nvSpPr>
        <p:spPr>
          <a:xfrm>
            <a:off x="4210200" y="1144440"/>
            <a:ext cx="968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椭圆 3"/>
          <p:cNvSpPr/>
          <p:nvPr/>
        </p:nvSpPr>
        <p:spPr>
          <a:xfrm>
            <a:off x="2308320" y="112860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4"/>
          <p:cNvSpPr/>
          <p:nvPr/>
        </p:nvSpPr>
        <p:spPr>
          <a:xfrm>
            <a:off x="1698480" y="1128600"/>
            <a:ext cx="9540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5"/>
          <p:cNvSpPr/>
          <p:nvPr/>
        </p:nvSpPr>
        <p:spPr>
          <a:xfrm>
            <a:off x="2930400" y="5446800"/>
            <a:ext cx="96840" cy="2300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6"/>
          <p:cNvSpPr/>
          <p:nvPr/>
        </p:nvSpPr>
        <p:spPr>
          <a:xfrm>
            <a:off x="3575160" y="5454720"/>
            <a:ext cx="950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7"/>
          <p:cNvSpPr/>
          <p:nvPr/>
        </p:nvSpPr>
        <p:spPr>
          <a:xfrm>
            <a:off x="2311560" y="543888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8"/>
          <p:cNvSpPr/>
          <p:nvPr/>
        </p:nvSpPr>
        <p:spPr>
          <a:xfrm>
            <a:off x="1701720" y="543240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9"/>
          <p:cNvSpPr/>
          <p:nvPr/>
        </p:nvSpPr>
        <p:spPr>
          <a:xfrm>
            <a:off x="2927520" y="1149480"/>
            <a:ext cx="95040" cy="2314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0"/>
          <p:cNvSpPr/>
          <p:nvPr/>
        </p:nvSpPr>
        <p:spPr>
          <a:xfrm>
            <a:off x="3571920" y="1144440"/>
            <a:ext cx="950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11"/>
          <p:cNvSpPr/>
          <p:nvPr/>
        </p:nvSpPr>
        <p:spPr>
          <a:xfrm>
            <a:off x="793800" y="1290600"/>
            <a:ext cx="10540800" cy="4237200"/>
          </a:xfrm>
          <a:prstGeom prst="rect">
            <a:avLst/>
          </a:prstGeom>
          <a:solidFill>
            <a:srgbClr val="bfbfbf">
              <a:alpha val="30000"/>
            </a:srgbClr>
          </a:solidFill>
          <a:ln w="0">
            <a:noFill/>
          </a:ln>
        </p:spPr>
        <p:style>
          <a:lnRef idx="0"/>
          <a:fillRef idx="0"/>
          <a:effectRef idx="0"/>
          <a:fontRef idx="minor"/>
        </p:style>
        <p:txBody>
          <a:bodyPr lIns="4248000" rIns="252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15"/>
          <p:cNvSpPr/>
          <p:nvPr/>
        </p:nvSpPr>
        <p:spPr>
          <a:xfrm>
            <a:off x="1727280" y="1123920"/>
            <a:ext cx="492120" cy="4545000"/>
          </a:xfrm>
          <a:prstGeom prst="pie">
            <a:avLst/>
          </a:prstGeom>
          <a:solidFill>
            <a:srgbClr val="ffa146"/>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5" name="圆角矩形 15"/>
          <p:cNvSpPr/>
          <p:nvPr/>
        </p:nvSpPr>
        <p:spPr>
          <a:xfrm>
            <a:off x="2336760" y="1128600"/>
            <a:ext cx="493920" cy="4542120"/>
          </a:xfrm>
          <a:prstGeom prst="pie">
            <a:avLst/>
          </a:prstGeom>
          <a:solidFill>
            <a:srgbClr val="22f2cc"/>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6" name="圆角矩形 15"/>
          <p:cNvSpPr/>
          <p:nvPr/>
        </p:nvSpPr>
        <p:spPr>
          <a:xfrm>
            <a:off x="2955960" y="1133640"/>
            <a:ext cx="492120" cy="4545000"/>
          </a:xfrm>
          <a:prstGeom prst="pie">
            <a:avLst/>
          </a:prstGeom>
          <a:solidFill>
            <a:srgbClr val="ff4664"/>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7" name="圆角矩形 15"/>
          <p:cNvSpPr/>
          <p:nvPr/>
        </p:nvSpPr>
        <p:spPr>
          <a:xfrm>
            <a:off x="1127160" y="1120680"/>
            <a:ext cx="492120" cy="4543560"/>
          </a:xfrm>
          <a:prstGeom prst="pie">
            <a:avLst/>
          </a:prstGeom>
          <a:solidFill>
            <a:srgbClr val="ff4664"/>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8" name="圆角矩形 15"/>
          <p:cNvSpPr/>
          <p:nvPr/>
        </p:nvSpPr>
        <p:spPr>
          <a:xfrm>
            <a:off x="3600360" y="1144440"/>
            <a:ext cx="492120" cy="4543560"/>
          </a:xfrm>
          <a:prstGeom prst="pie">
            <a:avLst/>
          </a:prstGeom>
          <a:solidFill>
            <a:srgbClr val="ffa146"/>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199" name="圆角矩形 15"/>
          <p:cNvSpPr/>
          <p:nvPr/>
        </p:nvSpPr>
        <p:spPr>
          <a:xfrm>
            <a:off x="4210200" y="1120680"/>
            <a:ext cx="495000" cy="4543560"/>
          </a:xfrm>
          <a:prstGeom prst="pie">
            <a:avLst/>
          </a:prstGeom>
          <a:solidFill>
            <a:srgbClr val="22f2cc"/>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0" name="TextBox 15"/>
          <p:cNvSpPr/>
          <p:nvPr/>
        </p:nvSpPr>
        <p:spPr>
          <a:xfrm>
            <a:off x="5424480" y="2235240"/>
            <a:ext cx="54928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这里输入简单的文字概述这里输入简单字概述这里输入这里输入简单的文字概述这里输入简单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直接连接符 4"/>
          <p:cNvSpPr/>
          <p:nvPr/>
        </p:nvSpPr>
        <p:spPr>
          <a:xfrm>
            <a:off x="1274760" y="3971880"/>
            <a:ext cx="9372600" cy="12600"/>
          </a:xfrm>
          <a:prstGeom prst="line">
            <a:avLst/>
          </a:prstGeom>
          <a:ln w="648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0" name="直接连接符 46"/>
          <p:cNvSpPr/>
          <p:nvPr/>
        </p:nvSpPr>
        <p:spPr>
          <a:xfrm flipH="1">
            <a:off x="4273560" y="2232000"/>
            <a:ext cx="1440" cy="346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47"/>
          <p:cNvSpPr/>
          <p:nvPr/>
        </p:nvSpPr>
        <p:spPr>
          <a:xfrm flipH="1">
            <a:off x="7656120" y="2232000"/>
            <a:ext cx="1800" cy="346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KSO_Shape"/>
          <p:cNvSpPr/>
          <p:nvPr/>
        </p:nvSpPr>
        <p:spPr>
          <a:xfrm>
            <a:off x="1274760" y="2851200"/>
            <a:ext cx="538200" cy="453960"/>
          </a:xfrm>
          <a:custGeom>
            <a:avLst/>
            <a:gdLst>
              <a:gd name="textAreaLeft" fmla="*/ 0 w 538200"/>
              <a:gd name="textAreaRight" fmla="*/ 538560 w 538200"/>
              <a:gd name="textAreaTop" fmla="*/ 0 h 453960"/>
              <a:gd name="textAreaBottom" fmla="*/ 454320 h 453960"/>
            </a:gdLst>
            <a:ahLst/>
            <a:rect l="textAreaLeft" t="textAreaTop" r="textAreaRight" b="textAreaBottom"/>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KSO_Shape"/>
          <p:cNvSpPr/>
          <p:nvPr/>
        </p:nvSpPr>
        <p:spPr>
          <a:xfrm>
            <a:off x="4538520" y="2851200"/>
            <a:ext cx="576360" cy="534960"/>
          </a:xfrm>
          <a:custGeom>
            <a:avLst/>
            <a:gdLst>
              <a:gd name="textAreaLeft" fmla="*/ 0 w 576360"/>
              <a:gd name="textAreaRight" fmla="*/ 576720 w 576360"/>
              <a:gd name="textAreaTop" fmla="*/ 0 h 534960"/>
              <a:gd name="textAreaBottom" fmla="*/ 535320 h 534960"/>
            </a:gdLst>
            <a:ahLst/>
            <a:rect l="textAreaLeft" t="textAreaTop" r="textAreaRight" b="textAreaBottom"/>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KSO_Shape"/>
          <p:cNvSpPr/>
          <p:nvPr/>
        </p:nvSpPr>
        <p:spPr>
          <a:xfrm>
            <a:off x="7953480" y="2851200"/>
            <a:ext cx="538200" cy="442800"/>
          </a:xfrm>
          <a:custGeom>
            <a:avLst/>
            <a:gdLst>
              <a:gd name="textAreaLeft" fmla="*/ 0 w 538200"/>
              <a:gd name="textAreaRight" fmla="*/ 538560 w 538200"/>
              <a:gd name="textAreaTop" fmla="*/ 0 h 442800"/>
              <a:gd name="textAreaBottom" fmla="*/ 443160 h 442800"/>
            </a:gdLst>
            <a:ahLst/>
            <a:rect l="textAreaLeft" t="textAreaTop" r="textAreaRight" b="textAreaBottom"/>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KSO_Shape"/>
          <p:cNvSpPr/>
          <p:nvPr/>
        </p:nvSpPr>
        <p:spPr>
          <a:xfrm>
            <a:off x="1281240" y="4537080"/>
            <a:ext cx="539640" cy="387360"/>
          </a:xfrm>
          <a:custGeom>
            <a:avLst/>
            <a:gdLst>
              <a:gd name="textAreaLeft" fmla="*/ 0 w 539640"/>
              <a:gd name="textAreaRight" fmla="*/ 540000 w 539640"/>
              <a:gd name="textAreaTop" fmla="*/ 0 h 387360"/>
              <a:gd name="textAreaBottom" fmla="*/ 387720 h 387360"/>
            </a:gdLst>
            <a:ahLst/>
            <a:rect l="textAreaLeft" t="textAreaTop" r="textAreaRight" b="textAreaBottom"/>
            <a:pathLst>
              <a:path w="5832" h="4173">
                <a:moveTo>
                  <a:pt x="370" y="477"/>
                </a:moveTo>
                <a:lnTo>
                  <a:pt x="5462" y="477"/>
                </a:lnTo>
                <a:lnTo>
                  <a:pt x="5481" y="477"/>
                </a:lnTo>
                <a:lnTo>
                  <a:pt x="5500" y="478"/>
                </a:lnTo>
                <a:lnTo>
                  <a:pt x="5518" y="480"/>
                </a:lnTo>
                <a:lnTo>
                  <a:pt x="5537" y="484"/>
                </a:lnTo>
                <a:lnTo>
                  <a:pt x="5554" y="488"/>
                </a:lnTo>
                <a:lnTo>
                  <a:pt x="5571" y="494"/>
                </a:lnTo>
                <a:lnTo>
                  <a:pt x="5589" y="499"/>
                </a:lnTo>
                <a:lnTo>
                  <a:pt x="5606" y="506"/>
                </a:lnTo>
                <a:lnTo>
                  <a:pt x="5622" y="513"/>
                </a:lnTo>
                <a:lnTo>
                  <a:pt x="5638" y="521"/>
                </a:lnTo>
                <a:lnTo>
                  <a:pt x="5654" y="530"/>
                </a:lnTo>
                <a:lnTo>
                  <a:pt x="5668" y="539"/>
                </a:lnTo>
                <a:lnTo>
                  <a:pt x="5683" y="550"/>
                </a:lnTo>
                <a:lnTo>
                  <a:pt x="5697" y="562"/>
                </a:lnTo>
                <a:lnTo>
                  <a:pt x="5710" y="573"/>
                </a:lnTo>
                <a:lnTo>
                  <a:pt x="5723" y="585"/>
                </a:lnTo>
                <a:lnTo>
                  <a:pt x="5735" y="598"/>
                </a:lnTo>
                <a:lnTo>
                  <a:pt x="5747" y="612"/>
                </a:lnTo>
                <a:lnTo>
                  <a:pt x="5758" y="625"/>
                </a:lnTo>
                <a:lnTo>
                  <a:pt x="5768" y="640"/>
                </a:lnTo>
                <a:lnTo>
                  <a:pt x="5778" y="655"/>
                </a:lnTo>
                <a:lnTo>
                  <a:pt x="5787" y="670"/>
                </a:lnTo>
                <a:lnTo>
                  <a:pt x="5795" y="686"/>
                </a:lnTo>
                <a:lnTo>
                  <a:pt x="5803" y="702"/>
                </a:lnTo>
                <a:lnTo>
                  <a:pt x="5810" y="720"/>
                </a:lnTo>
                <a:lnTo>
                  <a:pt x="5815" y="737"/>
                </a:lnTo>
                <a:lnTo>
                  <a:pt x="5820" y="754"/>
                </a:lnTo>
                <a:lnTo>
                  <a:pt x="5824" y="772"/>
                </a:lnTo>
                <a:lnTo>
                  <a:pt x="5828" y="790"/>
                </a:lnTo>
                <a:lnTo>
                  <a:pt x="5830" y="808"/>
                </a:lnTo>
                <a:lnTo>
                  <a:pt x="5831" y="827"/>
                </a:lnTo>
                <a:lnTo>
                  <a:pt x="5832" y="846"/>
                </a:lnTo>
                <a:lnTo>
                  <a:pt x="5832" y="3803"/>
                </a:lnTo>
                <a:lnTo>
                  <a:pt x="5831" y="3822"/>
                </a:lnTo>
                <a:lnTo>
                  <a:pt x="5830" y="3841"/>
                </a:lnTo>
                <a:lnTo>
                  <a:pt x="5828" y="3858"/>
                </a:lnTo>
                <a:lnTo>
                  <a:pt x="5824" y="3877"/>
                </a:lnTo>
                <a:lnTo>
                  <a:pt x="5820" y="3895"/>
                </a:lnTo>
                <a:lnTo>
                  <a:pt x="5815" y="3912"/>
                </a:lnTo>
                <a:lnTo>
                  <a:pt x="5810" y="3930"/>
                </a:lnTo>
                <a:lnTo>
                  <a:pt x="5803" y="3947"/>
                </a:lnTo>
                <a:lnTo>
                  <a:pt x="5795" y="3962"/>
                </a:lnTo>
                <a:lnTo>
                  <a:pt x="5787" y="3979"/>
                </a:lnTo>
                <a:lnTo>
                  <a:pt x="5778" y="3994"/>
                </a:lnTo>
                <a:lnTo>
                  <a:pt x="5768" y="4009"/>
                </a:lnTo>
                <a:lnTo>
                  <a:pt x="5758" y="4023"/>
                </a:lnTo>
                <a:lnTo>
                  <a:pt x="5747" y="4038"/>
                </a:lnTo>
                <a:lnTo>
                  <a:pt x="5735" y="4051"/>
                </a:lnTo>
                <a:lnTo>
                  <a:pt x="5723" y="4064"/>
                </a:lnTo>
                <a:lnTo>
                  <a:pt x="5710" y="4076"/>
                </a:lnTo>
                <a:lnTo>
                  <a:pt x="5697" y="4088"/>
                </a:lnTo>
                <a:lnTo>
                  <a:pt x="5683" y="4098"/>
                </a:lnTo>
                <a:lnTo>
                  <a:pt x="5668" y="4109"/>
                </a:lnTo>
                <a:lnTo>
                  <a:pt x="5654" y="4118"/>
                </a:lnTo>
                <a:lnTo>
                  <a:pt x="5638" y="4127"/>
                </a:lnTo>
                <a:lnTo>
                  <a:pt x="5622" y="4136"/>
                </a:lnTo>
                <a:lnTo>
                  <a:pt x="5606" y="4143"/>
                </a:lnTo>
                <a:lnTo>
                  <a:pt x="5589" y="4149"/>
                </a:lnTo>
                <a:lnTo>
                  <a:pt x="5571" y="4156"/>
                </a:lnTo>
                <a:lnTo>
                  <a:pt x="5554" y="4160"/>
                </a:lnTo>
                <a:lnTo>
                  <a:pt x="5537" y="4165"/>
                </a:lnTo>
                <a:lnTo>
                  <a:pt x="5518" y="4168"/>
                </a:lnTo>
                <a:lnTo>
                  <a:pt x="5500" y="4171"/>
                </a:lnTo>
                <a:lnTo>
                  <a:pt x="5481" y="4172"/>
                </a:lnTo>
                <a:lnTo>
                  <a:pt x="5462" y="4173"/>
                </a:lnTo>
                <a:lnTo>
                  <a:pt x="370" y="4173"/>
                </a:lnTo>
                <a:lnTo>
                  <a:pt x="351" y="4172"/>
                </a:lnTo>
                <a:lnTo>
                  <a:pt x="332" y="4171"/>
                </a:lnTo>
                <a:lnTo>
                  <a:pt x="313" y="4168"/>
                </a:lnTo>
                <a:lnTo>
                  <a:pt x="295" y="4165"/>
                </a:lnTo>
                <a:lnTo>
                  <a:pt x="277" y="4160"/>
                </a:lnTo>
                <a:lnTo>
                  <a:pt x="259" y="4156"/>
                </a:lnTo>
                <a:lnTo>
                  <a:pt x="243" y="4149"/>
                </a:lnTo>
                <a:lnTo>
                  <a:pt x="226" y="4143"/>
                </a:lnTo>
                <a:lnTo>
                  <a:pt x="209" y="4136"/>
                </a:lnTo>
                <a:lnTo>
                  <a:pt x="194" y="4127"/>
                </a:lnTo>
                <a:lnTo>
                  <a:pt x="178" y="4118"/>
                </a:lnTo>
                <a:lnTo>
                  <a:pt x="162" y="4109"/>
                </a:lnTo>
                <a:lnTo>
                  <a:pt x="148" y="4098"/>
                </a:lnTo>
                <a:lnTo>
                  <a:pt x="134" y="4088"/>
                </a:lnTo>
                <a:lnTo>
                  <a:pt x="121" y="4076"/>
                </a:lnTo>
                <a:lnTo>
                  <a:pt x="108" y="4064"/>
                </a:lnTo>
                <a:lnTo>
                  <a:pt x="95" y="4051"/>
                </a:lnTo>
                <a:lnTo>
                  <a:pt x="84" y="4038"/>
                </a:lnTo>
                <a:lnTo>
                  <a:pt x="73" y="4023"/>
                </a:lnTo>
                <a:lnTo>
                  <a:pt x="63" y="4009"/>
                </a:lnTo>
                <a:lnTo>
                  <a:pt x="53" y="3994"/>
                </a:lnTo>
                <a:lnTo>
                  <a:pt x="44" y="3979"/>
                </a:lnTo>
                <a:lnTo>
                  <a:pt x="36" y="3962"/>
                </a:lnTo>
                <a:lnTo>
                  <a:pt x="29" y="3947"/>
                </a:lnTo>
                <a:lnTo>
                  <a:pt x="22" y="3930"/>
                </a:lnTo>
                <a:lnTo>
                  <a:pt x="16" y="3912"/>
                </a:lnTo>
                <a:lnTo>
                  <a:pt x="11" y="3895"/>
                </a:lnTo>
                <a:lnTo>
                  <a:pt x="7" y="3877"/>
                </a:lnTo>
                <a:lnTo>
                  <a:pt x="4" y="3858"/>
                </a:lnTo>
                <a:lnTo>
                  <a:pt x="2" y="3841"/>
                </a:lnTo>
                <a:lnTo>
                  <a:pt x="0" y="3822"/>
                </a:lnTo>
                <a:lnTo>
                  <a:pt x="0" y="3803"/>
                </a:lnTo>
                <a:lnTo>
                  <a:pt x="0" y="846"/>
                </a:lnTo>
                <a:lnTo>
                  <a:pt x="0" y="827"/>
                </a:lnTo>
                <a:lnTo>
                  <a:pt x="2" y="808"/>
                </a:lnTo>
                <a:lnTo>
                  <a:pt x="4" y="790"/>
                </a:lnTo>
                <a:lnTo>
                  <a:pt x="7" y="772"/>
                </a:lnTo>
                <a:lnTo>
                  <a:pt x="11" y="754"/>
                </a:lnTo>
                <a:lnTo>
                  <a:pt x="16" y="737"/>
                </a:lnTo>
                <a:lnTo>
                  <a:pt x="22" y="720"/>
                </a:lnTo>
                <a:lnTo>
                  <a:pt x="29" y="702"/>
                </a:lnTo>
                <a:lnTo>
                  <a:pt x="36" y="686"/>
                </a:lnTo>
                <a:lnTo>
                  <a:pt x="44" y="670"/>
                </a:lnTo>
                <a:lnTo>
                  <a:pt x="53" y="655"/>
                </a:lnTo>
                <a:lnTo>
                  <a:pt x="63" y="640"/>
                </a:lnTo>
                <a:lnTo>
                  <a:pt x="73" y="625"/>
                </a:lnTo>
                <a:lnTo>
                  <a:pt x="84" y="612"/>
                </a:lnTo>
                <a:lnTo>
                  <a:pt x="95" y="598"/>
                </a:lnTo>
                <a:lnTo>
                  <a:pt x="108" y="585"/>
                </a:lnTo>
                <a:lnTo>
                  <a:pt x="121" y="573"/>
                </a:lnTo>
                <a:lnTo>
                  <a:pt x="134" y="562"/>
                </a:lnTo>
                <a:lnTo>
                  <a:pt x="148" y="550"/>
                </a:lnTo>
                <a:lnTo>
                  <a:pt x="162" y="539"/>
                </a:lnTo>
                <a:lnTo>
                  <a:pt x="178" y="530"/>
                </a:lnTo>
                <a:lnTo>
                  <a:pt x="194" y="521"/>
                </a:lnTo>
                <a:lnTo>
                  <a:pt x="209" y="513"/>
                </a:lnTo>
                <a:lnTo>
                  <a:pt x="226" y="506"/>
                </a:lnTo>
                <a:lnTo>
                  <a:pt x="243" y="499"/>
                </a:lnTo>
                <a:lnTo>
                  <a:pt x="259" y="494"/>
                </a:lnTo>
                <a:lnTo>
                  <a:pt x="277" y="488"/>
                </a:lnTo>
                <a:lnTo>
                  <a:pt x="295" y="484"/>
                </a:lnTo>
                <a:lnTo>
                  <a:pt x="313" y="480"/>
                </a:lnTo>
                <a:lnTo>
                  <a:pt x="332" y="478"/>
                </a:lnTo>
                <a:lnTo>
                  <a:pt x="351" y="477"/>
                </a:lnTo>
                <a:lnTo>
                  <a:pt x="370" y="477"/>
                </a:lnTo>
                <a:close/>
                <a:moveTo>
                  <a:pt x="542" y="0"/>
                </a:moveTo>
                <a:lnTo>
                  <a:pt x="1703" y="0"/>
                </a:lnTo>
                <a:lnTo>
                  <a:pt x="1703" y="350"/>
                </a:lnTo>
                <a:lnTo>
                  <a:pt x="542" y="350"/>
                </a:lnTo>
                <a:lnTo>
                  <a:pt x="542" y="0"/>
                </a:lnTo>
                <a:close/>
                <a:moveTo>
                  <a:pt x="4019" y="1725"/>
                </a:moveTo>
                <a:lnTo>
                  <a:pt x="4019" y="1725"/>
                </a:lnTo>
                <a:lnTo>
                  <a:pt x="3983" y="1726"/>
                </a:lnTo>
                <a:lnTo>
                  <a:pt x="3946" y="1729"/>
                </a:lnTo>
                <a:lnTo>
                  <a:pt x="3910" y="1734"/>
                </a:lnTo>
                <a:lnTo>
                  <a:pt x="3874" y="1740"/>
                </a:lnTo>
                <a:lnTo>
                  <a:pt x="3840" y="1747"/>
                </a:lnTo>
                <a:lnTo>
                  <a:pt x="3806" y="1758"/>
                </a:lnTo>
                <a:lnTo>
                  <a:pt x="3773" y="1769"/>
                </a:lnTo>
                <a:lnTo>
                  <a:pt x="3740" y="1782"/>
                </a:lnTo>
                <a:lnTo>
                  <a:pt x="3708" y="1797"/>
                </a:lnTo>
                <a:lnTo>
                  <a:pt x="3677" y="1812"/>
                </a:lnTo>
                <a:lnTo>
                  <a:pt x="3647" y="1829"/>
                </a:lnTo>
                <a:lnTo>
                  <a:pt x="3618" y="1848"/>
                </a:lnTo>
                <a:lnTo>
                  <a:pt x="3590" y="1868"/>
                </a:lnTo>
                <a:lnTo>
                  <a:pt x="3563" y="1889"/>
                </a:lnTo>
                <a:lnTo>
                  <a:pt x="3537" y="1911"/>
                </a:lnTo>
                <a:lnTo>
                  <a:pt x="3512" y="1936"/>
                </a:lnTo>
                <a:lnTo>
                  <a:pt x="3488" y="1960"/>
                </a:lnTo>
                <a:lnTo>
                  <a:pt x="3465" y="1987"/>
                </a:lnTo>
                <a:lnTo>
                  <a:pt x="3444" y="2014"/>
                </a:lnTo>
                <a:lnTo>
                  <a:pt x="3424" y="2042"/>
                </a:lnTo>
                <a:lnTo>
                  <a:pt x="3405" y="2071"/>
                </a:lnTo>
                <a:lnTo>
                  <a:pt x="3388" y="2101"/>
                </a:lnTo>
                <a:lnTo>
                  <a:pt x="3372" y="2132"/>
                </a:lnTo>
                <a:lnTo>
                  <a:pt x="3358" y="2164"/>
                </a:lnTo>
                <a:lnTo>
                  <a:pt x="3345" y="2197"/>
                </a:lnTo>
                <a:lnTo>
                  <a:pt x="3334" y="2230"/>
                </a:lnTo>
                <a:lnTo>
                  <a:pt x="3324" y="2264"/>
                </a:lnTo>
                <a:lnTo>
                  <a:pt x="3316" y="2298"/>
                </a:lnTo>
                <a:lnTo>
                  <a:pt x="3309" y="2334"/>
                </a:lnTo>
                <a:lnTo>
                  <a:pt x="3305" y="2369"/>
                </a:lnTo>
                <a:lnTo>
                  <a:pt x="3303" y="2406"/>
                </a:lnTo>
                <a:lnTo>
                  <a:pt x="3302" y="2443"/>
                </a:lnTo>
                <a:lnTo>
                  <a:pt x="3303" y="2480"/>
                </a:lnTo>
                <a:lnTo>
                  <a:pt x="3305" y="2517"/>
                </a:lnTo>
                <a:lnTo>
                  <a:pt x="3309" y="2552"/>
                </a:lnTo>
                <a:lnTo>
                  <a:pt x="3316" y="2587"/>
                </a:lnTo>
                <a:lnTo>
                  <a:pt x="3324" y="2622"/>
                </a:lnTo>
                <a:lnTo>
                  <a:pt x="3334" y="2656"/>
                </a:lnTo>
                <a:lnTo>
                  <a:pt x="3345" y="2689"/>
                </a:lnTo>
                <a:lnTo>
                  <a:pt x="3358" y="2722"/>
                </a:lnTo>
                <a:lnTo>
                  <a:pt x="3372" y="2754"/>
                </a:lnTo>
                <a:lnTo>
                  <a:pt x="3388" y="2784"/>
                </a:lnTo>
                <a:lnTo>
                  <a:pt x="3405" y="2814"/>
                </a:lnTo>
                <a:lnTo>
                  <a:pt x="3424" y="2843"/>
                </a:lnTo>
                <a:lnTo>
                  <a:pt x="3444" y="2872"/>
                </a:lnTo>
                <a:lnTo>
                  <a:pt x="3465" y="2899"/>
                </a:lnTo>
                <a:lnTo>
                  <a:pt x="3488" y="2924"/>
                </a:lnTo>
                <a:lnTo>
                  <a:pt x="3512" y="2950"/>
                </a:lnTo>
                <a:lnTo>
                  <a:pt x="3537" y="2973"/>
                </a:lnTo>
                <a:lnTo>
                  <a:pt x="3563" y="2997"/>
                </a:lnTo>
                <a:lnTo>
                  <a:pt x="3590" y="3018"/>
                </a:lnTo>
                <a:lnTo>
                  <a:pt x="3618" y="3038"/>
                </a:lnTo>
                <a:lnTo>
                  <a:pt x="3647" y="3056"/>
                </a:lnTo>
                <a:lnTo>
                  <a:pt x="3677" y="3074"/>
                </a:lnTo>
                <a:lnTo>
                  <a:pt x="3708" y="3089"/>
                </a:lnTo>
                <a:lnTo>
                  <a:pt x="3740" y="3104"/>
                </a:lnTo>
                <a:lnTo>
                  <a:pt x="3773" y="3117"/>
                </a:lnTo>
                <a:lnTo>
                  <a:pt x="3806" y="3128"/>
                </a:lnTo>
                <a:lnTo>
                  <a:pt x="3840" y="3137"/>
                </a:lnTo>
                <a:lnTo>
                  <a:pt x="3874" y="3145"/>
                </a:lnTo>
                <a:lnTo>
                  <a:pt x="3910" y="3152"/>
                </a:lnTo>
                <a:lnTo>
                  <a:pt x="3946" y="3156"/>
                </a:lnTo>
                <a:lnTo>
                  <a:pt x="3983" y="3160"/>
                </a:lnTo>
                <a:lnTo>
                  <a:pt x="4019" y="3161"/>
                </a:lnTo>
                <a:lnTo>
                  <a:pt x="4056" y="3160"/>
                </a:lnTo>
                <a:lnTo>
                  <a:pt x="4092" y="3156"/>
                </a:lnTo>
                <a:lnTo>
                  <a:pt x="4129" y="3152"/>
                </a:lnTo>
                <a:lnTo>
                  <a:pt x="4163" y="3145"/>
                </a:lnTo>
                <a:lnTo>
                  <a:pt x="4198" y="3137"/>
                </a:lnTo>
                <a:lnTo>
                  <a:pt x="4232" y="3128"/>
                </a:lnTo>
                <a:lnTo>
                  <a:pt x="4266" y="3117"/>
                </a:lnTo>
                <a:lnTo>
                  <a:pt x="4298" y="3104"/>
                </a:lnTo>
                <a:lnTo>
                  <a:pt x="4329" y="3089"/>
                </a:lnTo>
                <a:lnTo>
                  <a:pt x="4361" y="3074"/>
                </a:lnTo>
                <a:lnTo>
                  <a:pt x="4391" y="3056"/>
                </a:lnTo>
                <a:lnTo>
                  <a:pt x="4420" y="3038"/>
                </a:lnTo>
                <a:lnTo>
                  <a:pt x="4447" y="3018"/>
                </a:lnTo>
                <a:lnTo>
                  <a:pt x="4475" y="2997"/>
                </a:lnTo>
                <a:lnTo>
                  <a:pt x="4501" y="2973"/>
                </a:lnTo>
                <a:lnTo>
                  <a:pt x="4527" y="2950"/>
                </a:lnTo>
                <a:lnTo>
                  <a:pt x="4550" y="2924"/>
                </a:lnTo>
                <a:lnTo>
                  <a:pt x="4572" y="2899"/>
                </a:lnTo>
                <a:lnTo>
                  <a:pt x="4595" y="2872"/>
                </a:lnTo>
                <a:lnTo>
                  <a:pt x="4614" y="2843"/>
                </a:lnTo>
                <a:lnTo>
                  <a:pt x="4633" y="2814"/>
                </a:lnTo>
                <a:lnTo>
                  <a:pt x="4650" y="2784"/>
                </a:lnTo>
                <a:lnTo>
                  <a:pt x="4666" y="2754"/>
                </a:lnTo>
                <a:lnTo>
                  <a:pt x="4680" y="2722"/>
                </a:lnTo>
                <a:lnTo>
                  <a:pt x="4693" y="2689"/>
                </a:lnTo>
                <a:lnTo>
                  <a:pt x="4705" y="2656"/>
                </a:lnTo>
                <a:lnTo>
                  <a:pt x="4714" y="2622"/>
                </a:lnTo>
                <a:lnTo>
                  <a:pt x="4722" y="2587"/>
                </a:lnTo>
                <a:lnTo>
                  <a:pt x="4728" y="2552"/>
                </a:lnTo>
                <a:lnTo>
                  <a:pt x="4733" y="2517"/>
                </a:lnTo>
                <a:lnTo>
                  <a:pt x="4736" y="2480"/>
                </a:lnTo>
                <a:lnTo>
                  <a:pt x="4736" y="2443"/>
                </a:lnTo>
                <a:lnTo>
                  <a:pt x="4736" y="2406"/>
                </a:lnTo>
                <a:lnTo>
                  <a:pt x="4733" y="2369"/>
                </a:lnTo>
                <a:lnTo>
                  <a:pt x="4728" y="2334"/>
                </a:lnTo>
                <a:lnTo>
                  <a:pt x="4722" y="2298"/>
                </a:lnTo>
                <a:lnTo>
                  <a:pt x="4714" y="2264"/>
                </a:lnTo>
                <a:lnTo>
                  <a:pt x="4705" y="2230"/>
                </a:lnTo>
                <a:lnTo>
                  <a:pt x="4693" y="2197"/>
                </a:lnTo>
                <a:lnTo>
                  <a:pt x="4680" y="2164"/>
                </a:lnTo>
                <a:lnTo>
                  <a:pt x="4666" y="2132"/>
                </a:lnTo>
                <a:lnTo>
                  <a:pt x="4650" y="2101"/>
                </a:lnTo>
                <a:lnTo>
                  <a:pt x="4633" y="2071"/>
                </a:lnTo>
                <a:lnTo>
                  <a:pt x="4614" y="2042"/>
                </a:lnTo>
                <a:lnTo>
                  <a:pt x="4595" y="2014"/>
                </a:lnTo>
                <a:lnTo>
                  <a:pt x="4572" y="1987"/>
                </a:lnTo>
                <a:lnTo>
                  <a:pt x="4550" y="1960"/>
                </a:lnTo>
                <a:lnTo>
                  <a:pt x="4527" y="1936"/>
                </a:lnTo>
                <a:lnTo>
                  <a:pt x="4501" y="1911"/>
                </a:lnTo>
                <a:lnTo>
                  <a:pt x="4475" y="1889"/>
                </a:lnTo>
                <a:lnTo>
                  <a:pt x="4447" y="1868"/>
                </a:lnTo>
                <a:lnTo>
                  <a:pt x="4420" y="1848"/>
                </a:lnTo>
                <a:lnTo>
                  <a:pt x="4391" y="1829"/>
                </a:lnTo>
                <a:lnTo>
                  <a:pt x="4361" y="1812"/>
                </a:lnTo>
                <a:lnTo>
                  <a:pt x="4329" y="1797"/>
                </a:lnTo>
                <a:lnTo>
                  <a:pt x="4298" y="1782"/>
                </a:lnTo>
                <a:lnTo>
                  <a:pt x="4266" y="1769"/>
                </a:lnTo>
                <a:lnTo>
                  <a:pt x="4232" y="1758"/>
                </a:lnTo>
                <a:lnTo>
                  <a:pt x="4198" y="1747"/>
                </a:lnTo>
                <a:lnTo>
                  <a:pt x="4163" y="1740"/>
                </a:lnTo>
                <a:lnTo>
                  <a:pt x="4129" y="1734"/>
                </a:lnTo>
                <a:lnTo>
                  <a:pt x="4092" y="1729"/>
                </a:lnTo>
                <a:lnTo>
                  <a:pt x="4056" y="1726"/>
                </a:lnTo>
                <a:lnTo>
                  <a:pt x="4019" y="1725"/>
                </a:lnTo>
                <a:close/>
                <a:moveTo>
                  <a:pt x="1375" y="838"/>
                </a:moveTo>
                <a:lnTo>
                  <a:pt x="1375" y="3754"/>
                </a:lnTo>
                <a:lnTo>
                  <a:pt x="1591" y="3754"/>
                </a:lnTo>
                <a:lnTo>
                  <a:pt x="1591" y="838"/>
                </a:lnTo>
                <a:lnTo>
                  <a:pt x="1375" y="838"/>
                </a:lnTo>
                <a:close/>
                <a:moveTo>
                  <a:pt x="1841" y="690"/>
                </a:moveTo>
                <a:lnTo>
                  <a:pt x="1841" y="1260"/>
                </a:lnTo>
                <a:lnTo>
                  <a:pt x="2899" y="1260"/>
                </a:lnTo>
                <a:lnTo>
                  <a:pt x="2899" y="690"/>
                </a:lnTo>
                <a:lnTo>
                  <a:pt x="1841" y="690"/>
                </a:lnTo>
                <a:close/>
                <a:moveTo>
                  <a:pt x="4019" y="1003"/>
                </a:moveTo>
                <a:lnTo>
                  <a:pt x="4019" y="1003"/>
                </a:lnTo>
                <a:lnTo>
                  <a:pt x="3982" y="1004"/>
                </a:lnTo>
                <a:lnTo>
                  <a:pt x="3945" y="1005"/>
                </a:lnTo>
                <a:lnTo>
                  <a:pt x="3908" y="1007"/>
                </a:lnTo>
                <a:lnTo>
                  <a:pt x="3872" y="1011"/>
                </a:lnTo>
                <a:lnTo>
                  <a:pt x="3835" y="1015"/>
                </a:lnTo>
                <a:lnTo>
                  <a:pt x="3800" y="1020"/>
                </a:lnTo>
                <a:lnTo>
                  <a:pt x="3764" y="1026"/>
                </a:lnTo>
                <a:lnTo>
                  <a:pt x="3728" y="1033"/>
                </a:lnTo>
                <a:lnTo>
                  <a:pt x="3694" y="1040"/>
                </a:lnTo>
                <a:lnTo>
                  <a:pt x="3659" y="1049"/>
                </a:lnTo>
                <a:lnTo>
                  <a:pt x="3625" y="1058"/>
                </a:lnTo>
                <a:lnTo>
                  <a:pt x="3591" y="1068"/>
                </a:lnTo>
                <a:lnTo>
                  <a:pt x="3558" y="1079"/>
                </a:lnTo>
                <a:lnTo>
                  <a:pt x="3524" y="1091"/>
                </a:lnTo>
                <a:lnTo>
                  <a:pt x="3491" y="1103"/>
                </a:lnTo>
                <a:lnTo>
                  <a:pt x="3459" y="1117"/>
                </a:lnTo>
                <a:lnTo>
                  <a:pt x="3426" y="1130"/>
                </a:lnTo>
                <a:lnTo>
                  <a:pt x="3395" y="1146"/>
                </a:lnTo>
                <a:lnTo>
                  <a:pt x="3364" y="1161"/>
                </a:lnTo>
                <a:lnTo>
                  <a:pt x="3333" y="1177"/>
                </a:lnTo>
                <a:lnTo>
                  <a:pt x="3303" y="1194"/>
                </a:lnTo>
                <a:lnTo>
                  <a:pt x="3273" y="1211"/>
                </a:lnTo>
                <a:lnTo>
                  <a:pt x="3244" y="1230"/>
                </a:lnTo>
                <a:lnTo>
                  <a:pt x="3215" y="1249"/>
                </a:lnTo>
                <a:lnTo>
                  <a:pt x="3186" y="1269"/>
                </a:lnTo>
                <a:lnTo>
                  <a:pt x="3158" y="1289"/>
                </a:lnTo>
                <a:lnTo>
                  <a:pt x="3130" y="1311"/>
                </a:lnTo>
                <a:lnTo>
                  <a:pt x="3103" y="1332"/>
                </a:lnTo>
                <a:lnTo>
                  <a:pt x="3077" y="1354"/>
                </a:lnTo>
                <a:lnTo>
                  <a:pt x="3051" y="1377"/>
                </a:lnTo>
                <a:lnTo>
                  <a:pt x="3026" y="1401"/>
                </a:lnTo>
                <a:lnTo>
                  <a:pt x="3001" y="1425"/>
                </a:lnTo>
                <a:lnTo>
                  <a:pt x="2977" y="1450"/>
                </a:lnTo>
                <a:lnTo>
                  <a:pt x="2954" y="1474"/>
                </a:lnTo>
                <a:lnTo>
                  <a:pt x="2930" y="1501"/>
                </a:lnTo>
                <a:lnTo>
                  <a:pt x="2908" y="1527"/>
                </a:lnTo>
                <a:lnTo>
                  <a:pt x="2887" y="1554"/>
                </a:lnTo>
                <a:lnTo>
                  <a:pt x="2866" y="1581"/>
                </a:lnTo>
                <a:lnTo>
                  <a:pt x="2844" y="1609"/>
                </a:lnTo>
                <a:lnTo>
                  <a:pt x="2826" y="1638"/>
                </a:lnTo>
                <a:lnTo>
                  <a:pt x="2807" y="1667"/>
                </a:lnTo>
                <a:lnTo>
                  <a:pt x="2788" y="1696"/>
                </a:lnTo>
                <a:lnTo>
                  <a:pt x="2770" y="1726"/>
                </a:lnTo>
                <a:lnTo>
                  <a:pt x="2753" y="1756"/>
                </a:lnTo>
                <a:lnTo>
                  <a:pt x="2737" y="1788"/>
                </a:lnTo>
                <a:lnTo>
                  <a:pt x="2722" y="1819"/>
                </a:lnTo>
                <a:lnTo>
                  <a:pt x="2706" y="1850"/>
                </a:lnTo>
                <a:lnTo>
                  <a:pt x="2693" y="1882"/>
                </a:lnTo>
                <a:lnTo>
                  <a:pt x="2679" y="1915"/>
                </a:lnTo>
                <a:lnTo>
                  <a:pt x="2667" y="1948"/>
                </a:lnTo>
                <a:lnTo>
                  <a:pt x="2655" y="1982"/>
                </a:lnTo>
                <a:lnTo>
                  <a:pt x="2644" y="2015"/>
                </a:lnTo>
                <a:lnTo>
                  <a:pt x="2634" y="2048"/>
                </a:lnTo>
                <a:lnTo>
                  <a:pt x="2625" y="2083"/>
                </a:lnTo>
                <a:lnTo>
                  <a:pt x="2616" y="2118"/>
                </a:lnTo>
                <a:lnTo>
                  <a:pt x="2609" y="2153"/>
                </a:lnTo>
                <a:lnTo>
                  <a:pt x="2601" y="2188"/>
                </a:lnTo>
                <a:lnTo>
                  <a:pt x="2596" y="2223"/>
                </a:lnTo>
                <a:lnTo>
                  <a:pt x="2591" y="2259"/>
                </a:lnTo>
                <a:lnTo>
                  <a:pt x="2587" y="2296"/>
                </a:lnTo>
                <a:lnTo>
                  <a:pt x="2584" y="2332"/>
                </a:lnTo>
                <a:lnTo>
                  <a:pt x="2581" y="2368"/>
                </a:lnTo>
                <a:lnTo>
                  <a:pt x="2580" y="2405"/>
                </a:lnTo>
                <a:lnTo>
                  <a:pt x="2579" y="2443"/>
                </a:lnTo>
                <a:lnTo>
                  <a:pt x="2580" y="2480"/>
                </a:lnTo>
                <a:lnTo>
                  <a:pt x="2581" y="2517"/>
                </a:lnTo>
                <a:lnTo>
                  <a:pt x="2584" y="2553"/>
                </a:lnTo>
                <a:lnTo>
                  <a:pt x="2587" y="2590"/>
                </a:lnTo>
                <a:lnTo>
                  <a:pt x="2591" y="2626"/>
                </a:lnTo>
                <a:lnTo>
                  <a:pt x="2596" y="2661"/>
                </a:lnTo>
                <a:lnTo>
                  <a:pt x="2601" y="2697"/>
                </a:lnTo>
                <a:lnTo>
                  <a:pt x="2609" y="2733"/>
                </a:lnTo>
                <a:lnTo>
                  <a:pt x="2616" y="2767"/>
                </a:lnTo>
                <a:lnTo>
                  <a:pt x="2625" y="2803"/>
                </a:lnTo>
                <a:lnTo>
                  <a:pt x="2634" y="2836"/>
                </a:lnTo>
                <a:lnTo>
                  <a:pt x="2644" y="2871"/>
                </a:lnTo>
                <a:lnTo>
                  <a:pt x="2655" y="2904"/>
                </a:lnTo>
                <a:lnTo>
                  <a:pt x="2667" y="2938"/>
                </a:lnTo>
                <a:lnTo>
                  <a:pt x="2679" y="2970"/>
                </a:lnTo>
                <a:lnTo>
                  <a:pt x="2693" y="3004"/>
                </a:lnTo>
                <a:lnTo>
                  <a:pt x="2706" y="3035"/>
                </a:lnTo>
                <a:lnTo>
                  <a:pt x="2722" y="3067"/>
                </a:lnTo>
                <a:lnTo>
                  <a:pt x="2737" y="3098"/>
                </a:lnTo>
                <a:lnTo>
                  <a:pt x="2753" y="3128"/>
                </a:lnTo>
                <a:lnTo>
                  <a:pt x="2770" y="3160"/>
                </a:lnTo>
                <a:lnTo>
                  <a:pt x="2788" y="3189"/>
                </a:lnTo>
                <a:lnTo>
                  <a:pt x="2807" y="3219"/>
                </a:lnTo>
                <a:lnTo>
                  <a:pt x="2826" y="3248"/>
                </a:lnTo>
                <a:lnTo>
                  <a:pt x="2844" y="3276"/>
                </a:lnTo>
                <a:lnTo>
                  <a:pt x="2866" y="3305"/>
                </a:lnTo>
                <a:lnTo>
                  <a:pt x="2887" y="3331"/>
                </a:lnTo>
                <a:lnTo>
                  <a:pt x="2908" y="3358"/>
                </a:lnTo>
                <a:lnTo>
                  <a:pt x="2930" y="3385"/>
                </a:lnTo>
                <a:lnTo>
                  <a:pt x="2954" y="3410"/>
                </a:lnTo>
                <a:lnTo>
                  <a:pt x="2977" y="3436"/>
                </a:lnTo>
                <a:lnTo>
                  <a:pt x="3001" y="3461"/>
                </a:lnTo>
                <a:lnTo>
                  <a:pt x="3026" y="3485"/>
                </a:lnTo>
                <a:lnTo>
                  <a:pt x="3051" y="3508"/>
                </a:lnTo>
                <a:lnTo>
                  <a:pt x="3077" y="3531"/>
                </a:lnTo>
                <a:lnTo>
                  <a:pt x="3103" y="3553"/>
                </a:lnTo>
                <a:lnTo>
                  <a:pt x="3130" y="3575"/>
                </a:lnTo>
                <a:lnTo>
                  <a:pt x="3158" y="3597"/>
                </a:lnTo>
                <a:lnTo>
                  <a:pt x="3186" y="3617"/>
                </a:lnTo>
                <a:lnTo>
                  <a:pt x="3215" y="3637"/>
                </a:lnTo>
                <a:lnTo>
                  <a:pt x="3244" y="3656"/>
                </a:lnTo>
                <a:lnTo>
                  <a:pt x="3273" y="3673"/>
                </a:lnTo>
                <a:lnTo>
                  <a:pt x="3303" y="3691"/>
                </a:lnTo>
                <a:lnTo>
                  <a:pt x="3333" y="3708"/>
                </a:lnTo>
                <a:lnTo>
                  <a:pt x="3364" y="3725"/>
                </a:lnTo>
                <a:lnTo>
                  <a:pt x="3395" y="3740"/>
                </a:lnTo>
                <a:lnTo>
                  <a:pt x="3426" y="3755"/>
                </a:lnTo>
                <a:lnTo>
                  <a:pt x="3459" y="3769"/>
                </a:lnTo>
                <a:lnTo>
                  <a:pt x="3491" y="3783"/>
                </a:lnTo>
                <a:lnTo>
                  <a:pt x="3524" y="3795"/>
                </a:lnTo>
                <a:lnTo>
                  <a:pt x="3558" y="3806"/>
                </a:lnTo>
                <a:lnTo>
                  <a:pt x="3591" y="3817"/>
                </a:lnTo>
                <a:lnTo>
                  <a:pt x="3625" y="3827"/>
                </a:lnTo>
                <a:lnTo>
                  <a:pt x="3659" y="3837"/>
                </a:lnTo>
                <a:lnTo>
                  <a:pt x="3694" y="3845"/>
                </a:lnTo>
                <a:lnTo>
                  <a:pt x="3728" y="3853"/>
                </a:lnTo>
                <a:lnTo>
                  <a:pt x="3764" y="3860"/>
                </a:lnTo>
                <a:lnTo>
                  <a:pt x="3800" y="3865"/>
                </a:lnTo>
                <a:lnTo>
                  <a:pt x="3835" y="3871"/>
                </a:lnTo>
                <a:lnTo>
                  <a:pt x="3872" y="3875"/>
                </a:lnTo>
                <a:lnTo>
                  <a:pt x="3908" y="3879"/>
                </a:lnTo>
                <a:lnTo>
                  <a:pt x="3945" y="3881"/>
                </a:lnTo>
                <a:lnTo>
                  <a:pt x="3982" y="3882"/>
                </a:lnTo>
                <a:lnTo>
                  <a:pt x="4019" y="3882"/>
                </a:lnTo>
                <a:lnTo>
                  <a:pt x="4056" y="3882"/>
                </a:lnTo>
                <a:lnTo>
                  <a:pt x="4093" y="3881"/>
                </a:lnTo>
                <a:lnTo>
                  <a:pt x="4130" y="3879"/>
                </a:lnTo>
                <a:lnTo>
                  <a:pt x="4167" y="3875"/>
                </a:lnTo>
                <a:lnTo>
                  <a:pt x="4202" y="3871"/>
                </a:lnTo>
                <a:lnTo>
                  <a:pt x="4238" y="3865"/>
                </a:lnTo>
                <a:lnTo>
                  <a:pt x="4274" y="3860"/>
                </a:lnTo>
                <a:lnTo>
                  <a:pt x="4309" y="3853"/>
                </a:lnTo>
                <a:lnTo>
                  <a:pt x="4344" y="3845"/>
                </a:lnTo>
                <a:lnTo>
                  <a:pt x="4378" y="3837"/>
                </a:lnTo>
                <a:lnTo>
                  <a:pt x="4413" y="3827"/>
                </a:lnTo>
                <a:lnTo>
                  <a:pt x="4447" y="3817"/>
                </a:lnTo>
                <a:lnTo>
                  <a:pt x="4481" y="3806"/>
                </a:lnTo>
                <a:lnTo>
                  <a:pt x="4514" y="3795"/>
                </a:lnTo>
                <a:lnTo>
                  <a:pt x="4547" y="3783"/>
                </a:lnTo>
                <a:lnTo>
                  <a:pt x="4579" y="3769"/>
                </a:lnTo>
                <a:lnTo>
                  <a:pt x="4611" y="3755"/>
                </a:lnTo>
                <a:lnTo>
                  <a:pt x="4644" y="3740"/>
                </a:lnTo>
                <a:lnTo>
                  <a:pt x="4675" y="3725"/>
                </a:lnTo>
                <a:lnTo>
                  <a:pt x="4705" y="3708"/>
                </a:lnTo>
                <a:lnTo>
                  <a:pt x="4736" y="3691"/>
                </a:lnTo>
                <a:lnTo>
                  <a:pt x="4765" y="3673"/>
                </a:lnTo>
                <a:lnTo>
                  <a:pt x="4795" y="3656"/>
                </a:lnTo>
                <a:lnTo>
                  <a:pt x="4824" y="3637"/>
                </a:lnTo>
                <a:lnTo>
                  <a:pt x="4852" y="3617"/>
                </a:lnTo>
                <a:lnTo>
                  <a:pt x="4880" y="3597"/>
                </a:lnTo>
                <a:lnTo>
                  <a:pt x="4908" y="3575"/>
                </a:lnTo>
                <a:lnTo>
                  <a:pt x="4935" y="3553"/>
                </a:lnTo>
                <a:lnTo>
                  <a:pt x="4961" y="3531"/>
                </a:lnTo>
                <a:lnTo>
                  <a:pt x="4987" y="3508"/>
                </a:lnTo>
                <a:lnTo>
                  <a:pt x="5013" y="3485"/>
                </a:lnTo>
                <a:lnTo>
                  <a:pt x="5037" y="3461"/>
                </a:lnTo>
                <a:lnTo>
                  <a:pt x="5061" y="3436"/>
                </a:lnTo>
                <a:lnTo>
                  <a:pt x="5085" y="3410"/>
                </a:lnTo>
                <a:lnTo>
                  <a:pt x="5107" y="3385"/>
                </a:lnTo>
                <a:lnTo>
                  <a:pt x="5130" y="3358"/>
                </a:lnTo>
                <a:lnTo>
                  <a:pt x="5152" y="3331"/>
                </a:lnTo>
                <a:lnTo>
                  <a:pt x="5173" y="3305"/>
                </a:lnTo>
                <a:lnTo>
                  <a:pt x="5193" y="3276"/>
                </a:lnTo>
                <a:lnTo>
                  <a:pt x="5213" y="3248"/>
                </a:lnTo>
                <a:lnTo>
                  <a:pt x="5232" y="3219"/>
                </a:lnTo>
                <a:lnTo>
                  <a:pt x="5250" y="3189"/>
                </a:lnTo>
                <a:lnTo>
                  <a:pt x="5268" y="3160"/>
                </a:lnTo>
                <a:lnTo>
                  <a:pt x="5285" y="3128"/>
                </a:lnTo>
                <a:lnTo>
                  <a:pt x="5301" y="3098"/>
                </a:lnTo>
                <a:lnTo>
                  <a:pt x="5317" y="3067"/>
                </a:lnTo>
                <a:lnTo>
                  <a:pt x="5331" y="3035"/>
                </a:lnTo>
                <a:lnTo>
                  <a:pt x="5346" y="3004"/>
                </a:lnTo>
                <a:lnTo>
                  <a:pt x="5359" y="2970"/>
                </a:lnTo>
                <a:lnTo>
                  <a:pt x="5372" y="2938"/>
                </a:lnTo>
                <a:lnTo>
                  <a:pt x="5383" y="2904"/>
                </a:lnTo>
                <a:lnTo>
                  <a:pt x="5394" y="2871"/>
                </a:lnTo>
                <a:lnTo>
                  <a:pt x="5404" y="2836"/>
                </a:lnTo>
                <a:lnTo>
                  <a:pt x="5414" y="2803"/>
                </a:lnTo>
                <a:lnTo>
                  <a:pt x="5422" y="2767"/>
                </a:lnTo>
                <a:lnTo>
                  <a:pt x="5430" y="2733"/>
                </a:lnTo>
                <a:lnTo>
                  <a:pt x="5436" y="2697"/>
                </a:lnTo>
                <a:lnTo>
                  <a:pt x="5442" y="2661"/>
                </a:lnTo>
                <a:lnTo>
                  <a:pt x="5447" y="2626"/>
                </a:lnTo>
                <a:lnTo>
                  <a:pt x="5452" y="2590"/>
                </a:lnTo>
                <a:lnTo>
                  <a:pt x="5454" y="2553"/>
                </a:lnTo>
                <a:lnTo>
                  <a:pt x="5457" y="2517"/>
                </a:lnTo>
                <a:lnTo>
                  <a:pt x="5459" y="2480"/>
                </a:lnTo>
                <a:lnTo>
                  <a:pt x="5459" y="2443"/>
                </a:lnTo>
                <a:lnTo>
                  <a:pt x="5459" y="2405"/>
                </a:lnTo>
                <a:lnTo>
                  <a:pt x="5457" y="2368"/>
                </a:lnTo>
                <a:lnTo>
                  <a:pt x="5454" y="2332"/>
                </a:lnTo>
                <a:lnTo>
                  <a:pt x="5452" y="2296"/>
                </a:lnTo>
                <a:lnTo>
                  <a:pt x="5447" y="2259"/>
                </a:lnTo>
                <a:lnTo>
                  <a:pt x="5442" y="2223"/>
                </a:lnTo>
                <a:lnTo>
                  <a:pt x="5436" y="2188"/>
                </a:lnTo>
                <a:lnTo>
                  <a:pt x="5430" y="2153"/>
                </a:lnTo>
                <a:lnTo>
                  <a:pt x="5422" y="2118"/>
                </a:lnTo>
                <a:lnTo>
                  <a:pt x="5414" y="2083"/>
                </a:lnTo>
                <a:lnTo>
                  <a:pt x="5404" y="2048"/>
                </a:lnTo>
                <a:lnTo>
                  <a:pt x="5394" y="2015"/>
                </a:lnTo>
                <a:lnTo>
                  <a:pt x="5383" y="1982"/>
                </a:lnTo>
                <a:lnTo>
                  <a:pt x="5372" y="1948"/>
                </a:lnTo>
                <a:lnTo>
                  <a:pt x="5359" y="1915"/>
                </a:lnTo>
                <a:lnTo>
                  <a:pt x="5346" y="1882"/>
                </a:lnTo>
                <a:lnTo>
                  <a:pt x="5331" y="1850"/>
                </a:lnTo>
                <a:lnTo>
                  <a:pt x="5317" y="1819"/>
                </a:lnTo>
                <a:lnTo>
                  <a:pt x="5301" y="1788"/>
                </a:lnTo>
                <a:lnTo>
                  <a:pt x="5285" y="1756"/>
                </a:lnTo>
                <a:lnTo>
                  <a:pt x="5268" y="1726"/>
                </a:lnTo>
                <a:lnTo>
                  <a:pt x="5250" y="1696"/>
                </a:lnTo>
                <a:lnTo>
                  <a:pt x="5232" y="1667"/>
                </a:lnTo>
                <a:lnTo>
                  <a:pt x="5213" y="1638"/>
                </a:lnTo>
                <a:lnTo>
                  <a:pt x="5193" y="1609"/>
                </a:lnTo>
                <a:lnTo>
                  <a:pt x="5173" y="1581"/>
                </a:lnTo>
                <a:lnTo>
                  <a:pt x="5152" y="1554"/>
                </a:lnTo>
                <a:lnTo>
                  <a:pt x="5130" y="1527"/>
                </a:lnTo>
                <a:lnTo>
                  <a:pt x="5107" y="1501"/>
                </a:lnTo>
                <a:lnTo>
                  <a:pt x="5085" y="1474"/>
                </a:lnTo>
                <a:lnTo>
                  <a:pt x="5061" y="1450"/>
                </a:lnTo>
                <a:lnTo>
                  <a:pt x="5037" y="1425"/>
                </a:lnTo>
                <a:lnTo>
                  <a:pt x="5013" y="1401"/>
                </a:lnTo>
                <a:lnTo>
                  <a:pt x="4987" y="1377"/>
                </a:lnTo>
                <a:lnTo>
                  <a:pt x="4961" y="1354"/>
                </a:lnTo>
                <a:lnTo>
                  <a:pt x="4935" y="1332"/>
                </a:lnTo>
                <a:lnTo>
                  <a:pt x="4908" y="1311"/>
                </a:lnTo>
                <a:lnTo>
                  <a:pt x="4880" y="1289"/>
                </a:lnTo>
                <a:lnTo>
                  <a:pt x="4852" y="1269"/>
                </a:lnTo>
                <a:lnTo>
                  <a:pt x="4824" y="1249"/>
                </a:lnTo>
                <a:lnTo>
                  <a:pt x="4795" y="1230"/>
                </a:lnTo>
                <a:lnTo>
                  <a:pt x="4765" y="1211"/>
                </a:lnTo>
                <a:lnTo>
                  <a:pt x="4736" y="1194"/>
                </a:lnTo>
                <a:lnTo>
                  <a:pt x="4705" y="1177"/>
                </a:lnTo>
                <a:lnTo>
                  <a:pt x="4675" y="1161"/>
                </a:lnTo>
                <a:lnTo>
                  <a:pt x="4644" y="1146"/>
                </a:lnTo>
                <a:lnTo>
                  <a:pt x="4611" y="1130"/>
                </a:lnTo>
                <a:lnTo>
                  <a:pt x="4579" y="1117"/>
                </a:lnTo>
                <a:lnTo>
                  <a:pt x="4547" y="1103"/>
                </a:lnTo>
                <a:lnTo>
                  <a:pt x="4514" y="1091"/>
                </a:lnTo>
                <a:lnTo>
                  <a:pt x="4481" y="1079"/>
                </a:lnTo>
                <a:lnTo>
                  <a:pt x="4447" y="1068"/>
                </a:lnTo>
                <a:lnTo>
                  <a:pt x="4413" y="1058"/>
                </a:lnTo>
                <a:lnTo>
                  <a:pt x="4378" y="1049"/>
                </a:lnTo>
                <a:lnTo>
                  <a:pt x="4344" y="1040"/>
                </a:lnTo>
                <a:lnTo>
                  <a:pt x="4309" y="1033"/>
                </a:lnTo>
                <a:lnTo>
                  <a:pt x="4274" y="1026"/>
                </a:lnTo>
                <a:lnTo>
                  <a:pt x="4238" y="1020"/>
                </a:lnTo>
                <a:lnTo>
                  <a:pt x="4202" y="1015"/>
                </a:lnTo>
                <a:lnTo>
                  <a:pt x="4167" y="1011"/>
                </a:lnTo>
                <a:lnTo>
                  <a:pt x="4130" y="1007"/>
                </a:lnTo>
                <a:lnTo>
                  <a:pt x="4093" y="1005"/>
                </a:lnTo>
                <a:lnTo>
                  <a:pt x="4056" y="1004"/>
                </a:lnTo>
                <a:lnTo>
                  <a:pt x="4019" y="1003"/>
                </a:lnTo>
                <a:close/>
                <a:moveTo>
                  <a:pt x="4708" y="1754"/>
                </a:moveTo>
                <a:lnTo>
                  <a:pt x="4708" y="1754"/>
                </a:lnTo>
                <a:lnTo>
                  <a:pt x="4674" y="1722"/>
                </a:lnTo>
                <a:lnTo>
                  <a:pt x="4639" y="1692"/>
                </a:lnTo>
                <a:lnTo>
                  <a:pt x="4602" y="1663"/>
                </a:lnTo>
                <a:lnTo>
                  <a:pt x="4563" y="1635"/>
                </a:lnTo>
                <a:lnTo>
                  <a:pt x="4524" y="1610"/>
                </a:lnTo>
                <a:lnTo>
                  <a:pt x="4483" y="1587"/>
                </a:lnTo>
                <a:lnTo>
                  <a:pt x="4442" y="1565"/>
                </a:lnTo>
                <a:lnTo>
                  <a:pt x="4398" y="1546"/>
                </a:lnTo>
                <a:lnTo>
                  <a:pt x="4354" y="1528"/>
                </a:lnTo>
                <a:lnTo>
                  <a:pt x="4309" y="1512"/>
                </a:lnTo>
                <a:lnTo>
                  <a:pt x="4262" y="1500"/>
                </a:lnTo>
                <a:lnTo>
                  <a:pt x="4216" y="1489"/>
                </a:lnTo>
                <a:lnTo>
                  <a:pt x="4168" y="1480"/>
                </a:lnTo>
                <a:lnTo>
                  <a:pt x="4119" y="1474"/>
                </a:lnTo>
                <a:lnTo>
                  <a:pt x="4070" y="1470"/>
                </a:lnTo>
                <a:lnTo>
                  <a:pt x="4019" y="1469"/>
                </a:lnTo>
                <a:lnTo>
                  <a:pt x="3969" y="1470"/>
                </a:lnTo>
                <a:lnTo>
                  <a:pt x="3919" y="1474"/>
                </a:lnTo>
                <a:lnTo>
                  <a:pt x="3871" y="1480"/>
                </a:lnTo>
                <a:lnTo>
                  <a:pt x="3823" y="1489"/>
                </a:lnTo>
                <a:lnTo>
                  <a:pt x="3775" y="1500"/>
                </a:lnTo>
                <a:lnTo>
                  <a:pt x="3730" y="1512"/>
                </a:lnTo>
                <a:lnTo>
                  <a:pt x="3684" y="1528"/>
                </a:lnTo>
                <a:lnTo>
                  <a:pt x="3640" y="1546"/>
                </a:lnTo>
                <a:lnTo>
                  <a:pt x="3597" y="1565"/>
                </a:lnTo>
                <a:lnTo>
                  <a:pt x="3555" y="1587"/>
                </a:lnTo>
                <a:lnTo>
                  <a:pt x="3514" y="1610"/>
                </a:lnTo>
                <a:lnTo>
                  <a:pt x="3474" y="1635"/>
                </a:lnTo>
                <a:lnTo>
                  <a:pt x="3436" y="1663"/>
                </a:lnTo>
                <a:lnTo>
                  <a:pt x="3400" y="1692"/>
                </a:lnTo>
                <a:lnTo>
                  <a:pt x="3364" y="1722"/>
                </a:lnTo>
                <a:lnTo>
                  <a:pt x="3330" y="1754"/>
                </a:lnTo>
                <a:lnTo>
                  <a:pt x="3298" y="1788"/>
                </a:lnTo>
                <a:lnTo>
                  <a:pt x="3267" y="1823"/>
                </a:lnTo>
                <a:lnTo>
                  <a:pt x="3239" y="1860"/>
                </a:lnTo>
                <a:lnTo>
                  <a:pt x="3211" y="1898"/>
                </a:lnTo>
                <a:lnTo>
                  <a:pt x="3186" y="1938"/>
                </a:lnTo>
                <a:lnTo>
                  <a:pt x="3162" y="1978"/>
                </a:lnTo>
                <a:lnTo>
                  <a:pt x="3141" y="2021"/>
                </a:lnTo>
                <a:lnTo>
                  <a:pt x="3122" y="2064"/>
                </a:lnTo>
                <a:lnTo>
                  <a:pt x="3104" y="2107"/>
                </a:lnTo>
                <a:lnTo>
                  <a:pt x="3089" y="2153"/>
                </a:lnTo>
                <a:lnTo>
                  <a:pt x="3075" y="2199"/>
                </a:lnTo>
                <a:lnTo>
                  <a:pt x="3065" y="2247"/>
                </a:lnTo>
                <a:lnTo>
                  <a:pt x="3056" y="2295"/>
                </a:lnTo>
                <a:lnTo>
                  <a:pt x="3050" y="2344"/>
                </a:lnTo>
                <a:lnTo>
                  <a:pt x="3046" y="2393"/>
                </a:lnTo>
                <a:lnTo>
                  <a:pt x="3045" y="2443"/>
                </a:lnTo>
                <a:lnTo>
                  <a:pt x="3046" y="2493"/>
                </a:lnTo>
                <a:lnTo>
                  <a:pt x="3050" y="2542"/>
                </a:lnTo>
                <a:lnTo>
                  <a:pt x="3056" y="2591"/>
                </a:lnTo>
                <a:lnTo>
                  <a:pt x="3065" y="2639"/>
                </a:lnTo>
                <a:lnTo>
                  <a:pt x="3075" y="2686"/>
                </a:lnTo>
                <a:lnTo>
                  <a:pt x="3089" y="2733"/>
                </a:lnTo>
                <a:lnTo>
                  <a:pt x="3104" y="2777"/>
                </a:lnTo>
                <a:lnTo>
                  <a:pt x="3122" y="2822"/>
                </a:lnTo>
                <a:lnTo>
                  <a:pt x="3141" y="2865"/>
                </a:lnTo>
                <a:lnTo>
                  <a:pt x="3162" y="2907"/>
                </a:lnTo>
                <a:lnTo>
                  <a:pt x="3186" y="2948"/>
                </a:lnTo>
                <a:lnTo>
                  <a:pt x="3211" y="2987"/>
                </a:lnTo>
                <a:lnTo>
                  <a:pt x="3239" y="3026"/>
                </a:lnTo>
                <a:lnTo>
                  <a:pt x="3267" y="3063"/>
                </a:lnTo>
                <a:lnTo>
                  <a:pt x="3298" y="3097"/>
                </a:lnTo>
                <a:lnTo>
                  <a:pt x="3330" y="3132"/>
                </a:lnTo>
                <a:lnTo>
                  <a:pt x="3364" y="3164"/>
                </a:lnTo>
                <a:lnTo>
                  <a:pt x="3400" y="3194"/>
                </a:lnTo>
                <a:lnTo>
                  <a:pt x="3436" y="3223"/>
                </a:lnTo>
                <a:lnTo>
                  <a:pt x="3474" y="3250"/>
                </a:lnTo>
                <a:lnTo>
                  <a:pt x="3514" y="3276"/>
                </a:lnTo>
                <a:lnTo>
                  <a:pt x="3555" y="3299"/>
                </a:lnTo>
                <a:lnTo>
                  <a:pt x="3597" y="3320"/>
                </a:lnTo>
                <a:lnTo>
                  <a:pt x="3640" y="3340"/>
                </a:lnTo>
                <a:lnTo>
                  <a:pt x="3684" y="3358"/>
                </a:lnTo>
                <a:lnTo>
                  <a:pt x="3730" y="3373"/>
                </a:lnTo>
                <a:lnTo>
                  <a:pt x="3775" y="3386"/>
                </a:lnTo>
                <a:lnTo>
                  <a:pt x="3823" y="3397"/>
                </a:lnTo>
                <a:lnTo>
                  <a:pt x="3871" y="3405"/>
                </a:lnTo>
                <a:lnTo>
                  <a:pt x="3919" y="3412"/>
                </a:lnTo>
                <a:lnTo>
                  <a:pt x="3969" y="3415"/>
                </a:lnTo>
                <a:lnTo>
                  <a:pt x="4019" y="3417"/>
                </a:lnTo>
                <a:lnTo>
                  <a:pt x="4070" y="3415"/>
                </a:lnTo>
                <a:lnTo>
                  <a:pt x="4119" y="3412"/>
                </a:lnTo>
                <a:lnTo>
                  <a:pt x="4168" y="3405"/>
                </a:lnTo>
                <a:lnTo>
                  <a:pt x="4216" y="3397"/>
                </a:lnTo>
                <a:lnTo>
                  <a:pt x="4262" y="3386"/>
                </a:lnTo>
                <a:lnTo>
                  <a:pt x="4309" y="3373"/>
                </a:lnTo>
                <a:lnTo>
                  <a:pt x="4354" y="3358"/>
                </a:lnTo>
                <a:lnTo>
                  <a:pt x="4398" y="3340"/>
                </a:lnTo>
                <a:lnTo>
                  <a:pt x="4442" y="3320"/>
                </a:lnTo>
                <a:lnTo>
                  <a:pt x="4483" y="3299"/>
                </a:lnTo>
                <a:lnTo>
                  <a:pt x="4524" y="3276"/>
                </a:lnTo>
                <a:lnTo>
                  <a:pt x="4563" y="3250"/>
                </a:lnTo>
                <a:lnTo>
                  <a:pt x="4602" y="3223"/>
                </a:lnTo>
                <a:lnTo>
                  <a:pt x="4639" y="3194"/>
                </a:lnTo>
                <a:lnTo>
                  <a:pt x="4674" y="3164"/>
                </a:lnTo>
                <a:lnTo>
                  <a:pt x="4708" y="3132"/>
                </a:lnTo>
                <a:lnTo>
                  <a:pt x="4740" y="3097"/>
                </a:lnTo>
                <a:lnTo>
                  <a:pt x="4771" y="3063"/>
                </a:lnTo>
                <a:lnTo>
                  <a:pt x="4800" y="3026"/>
                </a:lnTo>
                <a:lnTo>
                  <a:pt x="4826" y="2987"/>
                </a:lnTo>
                <a:lnTo>
                  <a:pt x="4852" y="2948"/>
                </a:lnTo>
                <a:lnTo>
                  <a:pt x="4876" y="2907"/>
                </a:lnTo>
                <a:lnTo>
                  <a:pt x="4897" y="2865"/>
                </a:lnTo>
                <a:lnTo>
                  <a:pt x="4917" y="2822"/>
                </a:lnTo>
                <a:lnTo>
                  <a:pt x="4934" y="2777"/>
                </a:lnTo>
                <a:lnTo>
                  <a:pt x="4949" y="2733"/>
                </a:lnTo>
                <a:lnTo>
                  <a:pt x="4962" y="2686"/>
                </a:lnTo>
                <a:lnTo>
                  <a:pt x="4974" y="2639"/>
                </a:lnTo>
                <a:lnTo>
                  <a:pt x="4981" y="2591"/>
                </a:lnTo>
                <a:lnTo>
                  <a:pt x="4988" y="2542"/>
                </a:lnTo>
                <a:lnTo>
                  <a:pt x="4991" y="2493"/>
                </a:lnTo>
                <a:lnTo>
                  <a:pt x="4993" y="2443"/>
                </a:lnTo>
                <a:lnTo>
                  <a:pt x="4991" y="2393"/>
                </a:lnTo>
                <a:lnTo>
                  <a:pt x="4988" y="2344"/>
                </a:lnTo>
                <a:lnTo>
                  <a:pt x="4981" y="2295"/>
                </a:lnTo>
                <a:lnTo>
                  <a:pt x="4974" y="2247"/>
                </a:lnTo>
                <a:lnTo>
                  <a:pt x="4962" y="2199"/>
                </a:lnTo>
                <a:lnTo>
                  <a:pt x="4949" y="2153"/>
                </a:lnTo>
                <a:lnTo>
                  <a:pt x="4934" y="2107"/>
                </a:lnTo>
                <a:lnTo>
                  <a:pt x="4917" y="2064"/>
                </a:lnTo>
                <a:lnTo>
                  <a:pt x="4897" y="2021"/>
                </a:lnTo>
                <a:lnTo>
                  <a:pt x="4876" y="1978"/>
                </a:lnTo>
                <a:lnTo>
                  <a:pt x="4852" y="1938"/>
                </a:lnTo>
                <a:lnTo>
                  <a:pt x="4826" y="1898"/>
                </a:lnTo>
                <a:lnTo>
                  <a:pt x="4800" y="1860"/>
                </a:lnTo>
                <a:lnTo>
                  <a:pt x="4771" y="1823"/>
                </a:lnTo>
                <a:lnTo>
                  <a:pt x="4740" y="1788"/>
                </a:lnTo>
                <a:lnTo>
                  <a:pt x="4708" y="1754"/>
                </a:lnTo>
                <a:close/>
                <a:moveTo>
                  <a:pt x="4362" y="2100"/>
                </a:moveTo>
                <a:lnTo>
                  <a:pt x="4362" y="2100"/>
                </a:lnTo>
                <a:lnTo>
                  <a:pt x="4345" y="2084"/>
                </a:lnTo>
                <a:lnTo>
                  <a:pt x="4328" y="2068"/>
                </a:lnTo>
                <a:lnTo>
                  <a:pt x="4309" y="2054"/>
                </a:lnTo>
                <a:lnTo>
                  <a:pt x="4290" y="2041"/>
                </a:lnTo>
                <a:lnTo>
                  <a:pt x="4270" y="2028"/>
                </a:lnTo>
                <a:lnTo>
                  <a:pt x="4250" y="2016"/>
                </a:lnTo>
                <a:lnTo>
                  <a:pt x="4229" y="2006"/>
                </a:lnTo>
                <a:lnTo>
                  <a:pt x="4208" y="1996"/>
                </a:lnTo>
                <a:lnTo>
                  <a:pt x="4186" y="1987"/>
                </a:lnTo>
                <a:lnTo>
                  <a:pt x="4163" y="1980"/>
                </a:lnTo>
                <a:lnTo>
                  <a:pt x="4141" y="1974"/>
                </a:lnTo>
                <a:lnTo>
                  <a:pt x="4116" y="1968"/>
                </a:lnTo>
                <a:lnTo>
                  <a:pt x="4093" y="1964"/>
                </a:lnTo>
                <a:lnTo>
                  <a:pt x="4068" y="1960"/>
                </a:lnTo>
                <a:lnTo>
                  <a:pt x="4044" y="1959"/>
                </a:lnTo>
                <a:lnTo>
                  <a:pt x="4019" y="1958"/>
                </a:lnTo>
                <a:lnTo>
                  <a:pt x="3994" y="1959"/>
                </a:lnTo>
                <a:lnTo>
                  <a:pt x="3969" y="1960"/>
                </a:lnTo>
                <a:lnTo>
                  <a:pt x="3945" y="1964"/>
                </a:lnTo>
                <a:lnTo>
                  <a:pt x="3921" y="1968"/>
                </a:lnTo>
                <a:lnTo>
                  <a:pt x="3898" y="1974"/>
                </a:lnTo>
                <a:lnTo>
                  <a:pt x="3874" y="1980"/>
                </a:lnTo>
                <a:lnTo>
                  <a:pt x="3852" y="1987"/>
                </a:lnTo>
                <a:lnTo>
                  <a:pt x="3830" y="1996"/>
                </a:lnTo>
                <a:lnTo>
                  <a:pt x="3809" y="2006"/>
                </a:lnTo>
                <a:lnTo>
                  <a:pt x="3788" y="2016"/>
                </a:lnTo>
                <a:lnTo>
                  <a:pt x="3767" y="2028"/>
                </a:lnTo>
                <a:lnTo>
                  <a:pt x="3747" y="2041"/>
                </a:lnTo>
                <a:lnTo>
                  <a:pt x="3728" y="2054"/>
                </a:lnTo>
                <a:lnTo>
                  <a:pt x="3711" y="2068"/>
                </a:lnTo>
                <a:lnTo>
                  <a:pt x="3693" y="2084"/>
                </a:lnTo>
                <a:lnTo>
                  <a:pt x="3676" y="2100"/>
                </a:lnTo>
                <a:lnTo>
                  <a:pt x="3660" y="2116"/>
                </a:lnTo>
                <a:lnTo>
                  <a:pt x="3645" y="2134"/>
                </a:lnTo>
                <a:lnTo>
                  <a:pt x="3630" y="2152"/>
                </a:lnTo>
                <a:lnTo>
                  <a:pt x="3617" y="2172"/>
                </a:lnTo>
                <a:lnTo>
                  <a:pt x="3605" y="2191"/>
                </a:lnTo>
                <a:lnTo>
                  <a:pt x="3592" y="2211"/>
                </a:lnTo>
                <a:lnTo>
                  <a:pt x="3582" y="2232"/>
                </a:lnTo>
                <a:lnTo>
                  <a:pt x="3572" y="2253"/>
                </a:lnTo>
                <a:lnTo>
                  <a:pt x="3563" y="2276"/>
                </a:lnTo>
                <a:lnTo>
                  <a:pt x="3556" y="2298"/>
                </a:lnTo>
                <a:lnTo>
                  <a:pt x="3550" y="2321"/>
                </a:lnTo>
                <a:lnTo>
                  <a:pt x="3545" y="2345"/>
                </a:lnTo>
                <a:lnTo>
                  <a:pt x="3540" y="2369"/>
                </a:lnTo>
                <a:lnTo>
                  <a:pt x="3537" y="2393"/>
                </a:lnTo>
                <a:lnTo>
                  <a:pt x="3534" y="2417"/>
                </a:lnTo>
                <a:lnTo>
                  <a:pt x="3534" y="2443"/>
                </a:lnTo>
                <a:lnTo>
                  <a:pt x="3534" y="2467"/>
                </a:lnTo>
                <a:lnTo>
                  <a:pt x="3537" y="2492"/>
                </a:lnTo>
                <a:lnTo>
                  <a:pt x="3540" y="2517"/>
                </a:lnTo>
                <a:lnTo>
                  <a:pt x="3545" y="2541"/>
                </a:lnTo>
                <a:lnTo>
                  <a:pt x="3550" y="2564"/>
                </a:lnTo>
                <a:lnTo>
                  <a:pt x="3556" y="2587"/>
                </a:lnTo>
                <a:lnTo>
                  <a:pt x="3563" y="2610"/>
                </a:lnTo>
                <a:lnTo>
                  <a:pt x="3572" y="2631"/>
                </a:lnTo>
                <a:lnTo>
                  <a:pt x="3582" y="2654"/>
                </a:lnTo>
                <a:lnTo>
                  <a:pt x="3592" y="2674"/>
                </a:lnTo>
                <a:lnTo>
                  <a:pt x="3605" y="2695"/>
                </a:lnTo>
                <a:lnTo>
                  <a:pt x="3617" y="2714"/>
                </a:lnTo>
                <a:lnTo>
                  <a:pt x="3630" y="2733"/>
                </a:lnTo>
                <a:lnTo>
                  <a:pt x="3645" y="2752"/>
                </a:lnTo>
                <a:lnTo>
                  <a:pt x="3660" y="2768"/>
                </a:lnTo>
                <a:lnTo>
                  <a:pt x="3676" y="2786"/>
                </a:lnTo>
                <a:lnTo>
                  <a:pt x="3693" y="2802"/>
                </a:lnTo>
                <a:lnTo>
                  <a:pt x="3711" y="2817"/>
                </a:lnTo>
                <a:lnTo>
                  <a:pt x="3728" y="2831"/>
                </a:lnTo>
                <a:lnTo>
                  <a:pt x="3747" y="2845"/>
                </a:lnTo>
                <a:lnTo>
                  <a:pt x="3767" y="2858"/>
                </a:lnTo>
                <a:lnTo>
                  <a:pt x="3788" y="2869"/>
                </a:lnTo>
                <a:lnTo>
                  <a:pt x="3809" y="2880"/>
                </a:lnTo>
                <a:lnTo>
                  <a:pt x="3830" y="2890"/>
                </a:lnTo>
                <a:lnTo>
                  <a:pt x="3852" y="2898"/>
                </a:lnTo>
                <a:lnTo>
                  <a:pt x="3874" y="2906"/>
                </a:lnTo>
                <a:lnTo>
                  <a:pt x="3898" y="2912"/>
                </a:lnTo>
                <a:lnTo>
                  <a:pt x="3921" y="2918"/>
                </a:lnTo>
                <a:lnTo>
                  <a:pt x="3945" y="2922"/>
                </a:lnTo>
                <a:lnTo>
                  <a:pt x="3969" y="2924"/>
                </a:lnTo>
                <a:lnTo>
                  <a:pt x="3994" y="2927"/>
                </a:lnTo>
                <a:lnTo>
                  <a:pt x="4019" y="2928"/>
                </a:lnTo>
                <a:lnTo>
                  <a:pt x="4044" y="2927"/>
                </a:lnTo>
                <a:lnTo>
                  <a:pt x="4068" y="2924"/>
                </a:lnTo>
                <a:lnTo>
                  <a:pt x="4093" y="2922"/>
                </a:lnTo>
                <a:lnTo>
                  <a:pt x="4116" y="2918"/>
                </a:lnTo>
                <a:lnTo>
                  <a:pt x="4141" y="2912"/>
                </a:lnTo>
                <a:lnTo>
                  <a:pt x="4163" y="2906"/>
                </a:lnTo>
                <a:lnTo>
                  <a:pt x="4186" y="2898"/>
                </a:lnTo>
                <a:lnTo>
                  <a:pt x="4208" y="2890"/>
                </a:lnTo>
                <a:lnTo>
                  <a:pt x="4229" y="2880"/>
                </a:lnTo>
                <a:lnTo>
                  <a:pt x="4250" y="2869"/>
                </a:lnTo>
                <a:lnTo>
                  <a:pt x="4270" y="2858"/>
                </a:lnTo>
                <a:lnTo>
                  <a:pt x="4290" y="2845"/>
                </a:lnTo>
                <a:lnTo>
                  <a:pt x="4309" y="2831"/>
                </a:lnTo>
                <a:lnTo>
                  <a:pt x="4328" y="2817"/>
                </a:lnTo>
                <a:lnTo>
                  <a:pt x="4345" y="2802"/>
                </a:lnTo>
                <a:lnTo>
                  <a:pt x="4362" y="2786"/>
                </a:lnTo>
                <a:lnTo>
                  <a:pt x="4378" y="2768"/>
                </a:lnTo>
                <a:lnTo>
                  <a:pt x="4393" y="2752"/>
                </a:lnTo>
                <a:lnTo>
                  <a:pt x="4407" y="2733"/>
                </a:lnTo>
                <a:lnTo>
                  <a:pt x="4421" y="2714"/>
                </a:lnTo>
                <a:lnTo>
                  <a:pt x="4434" y="2695"/>
                </a:lnTo>
                <a:lnTo>
                  <a:pt x="4445" y="2674"/>
                </a:lnTo>
                <a:lnTo>
                  <a:pt x="4456" y="2654"/>
                </a:lnTo>
                <a:lnTo>
                  <a:pt x="4465" y="2631"/>
                </a:lnTo>
                <a:lnTo>
                  <a:pt x="4474" y="2610"/>
                </a:lnTo>
                <a:lnTo>
                  <a:pt x="4482" y="2587"/>
                </a:lnTo>
                <a:lnTo>
                  <a:pt x="4489" y="2564"/>
                </a:lnTo>
                <a:lnTo>
                  <a:pt x="4494" y="2541"/>
                </a:lnTo>
                <a:lnTo>
                  <a:pt x="4499" y="2517"/>
                </a:lnTo>
                <a:lnTo>
                  <a:pt x="4501" y="2492"/>
                </a:lnTo>
                <a:lnTo>
                  <a:pt x="4503" y="2467"/>
                </a:lnTo>
                <a:lnTo>
                  <a:pt x="4504" y="2443"/>
                </a:lnTo>
                <a:lnTo>
                  <a:pt x="4503" y="2417"/>
                </a:lnTo>
                <a:lnTo>
                  <a:pt x="4501" y="2393"/>
                </a:lnTo>
                <a:lnTo>
                  <a:pt x="4499" y="2369"/>
                </a:lnTo>
                <a:lnTo>
                  <a:pt x="4494" y="2345"/>
                </a:lnTo>
                <a:lnTo>
                  <a:pt x="4489" y="2321"/>
                </a:lnTo>
                <a:lnTo>
                  <a:pt x="4482" y="2298"/>
                </a:lnTo>
                <a:lnTo>
                  <a:pt x="4474" y="2276"/>
                </a:lnTo>
                <a:lnTo>
                  <a:pt x="4465" y="2253"/>
                </a:lnTo>
                <a:lnTo>
                  <a:pt x="4456" y="2232"/>
                </a:lnTo>
                <a:lnTo>
                  <a:pt x="4445" y="2211"/>
                </a:lnTo>
                <a:lnTo>
                  <a:pt x="4434" y="2191"/>
                </a:lnTo>
                <a:lnTo>
                  <a:pt x="4421" y="2172"/>
                </a:lnTo>
                <a:lnTo>
                  <a:pt x="4407" y="2152"/>
                </a:lnTo>
                <a:lnTo>
                  <a:pt x="4393" y="2134"/>
                </a:lnTo>
                <a:lnTo>
                  <a:pt x="4378" y="2116"/>
                </a:lnTo>
                <a:lnTo>
                  <a:pt x="4362" y="2100"/>
                </a:ln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KSO_Shape"/>
          <p:cNvSpPr/>
          <p:nvPr/>
        </p:nvSpPr>
        <p:spPr>
          <a:xfrm>
            <a:off x="4560840" y="4564080"/>
            <a:ext cx="547560" cy="379440"/>
          </a:xfrm>
          <a:custGeom>
            <a:avLst/>
            <a:gdLst>
              <a:gd name="textAreaLeft" fmla="*/ 0 w 547560"/>
              <a:gd name="textAreaRight" fmla="*/ 547920 w 547560"/>
              <a:gd name="textAreaTop" fmla="*/ 0 h 379440"/>
              <a:gd name="textAreaBottom" fmla="*/ 379800 h 379440"/>
            </a:gdLst>
            <a:ahLst/>
            <a:rect l="textAreaLeft" t="textAreaTop" r="textAreaRight" b="textAreaBottom"/>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KSO_Shape"/>
          <p:cNvSpPr/>
          <p:nvPr/>
        </p:nvSpPr>
        <p:spPr>
          <a:xfrm>
            <a:off x="7940520" y="4510080"/>
            <a:ext cx="517680" cy="509760"/>
          </a:xfrm>
          <a:custGeom>
            <a:avLst/>
            <a:gdLst>
              <a:gd name="textAreaLeft" fmla="*/ 0 w 517680"/>
              <a:gd name="textAreaRight" fmla="*/ 518040 w 517680"/>
              <a:gd name="textAreaTop" fmla="*/ 0 h 509760"/>
              <a:gd name="textAreaBottom" fmla="*/ 510120 h 509760"/>
            </a:gdLst>
            <a:ahLst/>
            <a:rect l="textAreaLeft" t="textAreaTop" r="textAreaRight" b="textAreaBottom"/>
            <a:pathLst>
              <a:path w="6140" h="6040">
                <a:moveTo>
                  <a:pt x="3011" y="554"/>
                </a:moveTo>
                <a:lnTo>
                  <a:pt x="5433" y="554"/>
                </a:lnTo>
                <a:lnTo>
                  <a:pt x="5469" y="555"/>
                </a:lnTo>
                <a:lnTo>
                  <a:pt x="5505" y="557"/>
                </a:lnTo>
                <a:lnTo>
                  <a:pt x="5540" y="562"/>
                </a:lnTo>
                <a:lnTo>
                  <a:pt x="5575" y="567"/>
                </a:lnTo>
                <a:lnTo>
                  <a:pt x="5608" y="576"/>
                </a:lnTo>
                <a:lnTo>
                  <a:pt x="5642" y="586"/>
                </a:lnTo>
                <a:lnTo>
                  <a:pt x="5676" y="597"/>
                </a:lnTo>
                <a:lnTo>
                  <a:pt x="5707" y="609"/>
                </a:lnTo>
                <a:lnTo>
                  <a:pt x="5738" y="623"/>
                </a:lnTo>
                <a:lnTo>
                  <a:pt x="5768" y="639"/>
                </a:lnTo>
                <a:lnTo>
                  <a:pt x="5799" y="656"/>
                </a:lnTo>
                <a:lnTo>
                  <a:pt x="5828" y="674"/>
                </a:lnTo>
                <a:lnTo>
                  <a:pt x="5854" y="694"/>
                </a:lnTo>
                <a:lnTo>
                  <a:pt x="5881" y="716"/>
                </a:lnTo>
                <a:lnTo>
                  <a:pt x="5908" y="738"/>
                </a:lnTo>
                <a:lnTo>
                  <a:pt x="5932" y="761"/>
                </a:lnTo>
                <a:lnTo>
                  <a:pt x="5955" y="786"/>
                </a:lnTo>
                <a:lnTo>
                  <a:pt x="5977" y="811"/>
                </a:lnTo>
                <a:lnTo>
                  <a:pt x="5998" y="838"/>
                </a:lnTo>
                <a:lnTo>
                  <a:pt x="6018" y="866"/>
                </a:lnTo>
                <a:lnTo>
                  <a:pt x="6037" y="895"/>
                </a:lnTo>
                <a:lnTo>
                  <a:pt x="6054" y="924"/>
                </a:lnTo>
                <a:lnTo>
                  <a:pt x="6069" y="955"/>
                </a:lnTo>
                <a:lnTo>
                  <a:pt x="6084" y="987"/>
                </a:lnTo>
                <a:lnTo>
                  <a:pt x="6097" y="1018"/>
                </a:lnTo>
                <a:lnTo>
                  <a:pt x="6107" y="1051"/>
                </a:lnTo>
                <a:lnTo>
                  <a:pt x="6117" y="1084"/>
                </a:lnTo>
                <a:lnTo>
                  <a:pt x="6125" y="1119"/>
                </a:lnTo>
                <a:lnTo>
                  <a:pt x="6132" y="1154"/>
                </a:lnTo>
                <a:lnTo>
                  <a:pt x="6136" y="1189"/>
                </a:lnTo>
                <a:lnTo>
                  <a:pt x="6139" y="1225"/>
                </a:lnTo>
                <a:lnTo>
                  <a:pt x="6140" y="1261"/>
                </a:lnTo>
                <a:lnTo>
                  <a:pt x="6140" y="5331"/>
                </a:lnTo>
                <a:lnTo>
                  <a:pt x="6139" y="5369"/>
                </a:lnTo>
                <a:lnTo>
                  <a:pt x="6136" y="5405"/>
                </a:lnTo>
                <a:lnTo>
                  <a:pt x="6132" y="5439"/>
                </a:lnTo>
                <a:lnTo>
                  <a:pt x="6125" y="5474"/>
                </a:lnTo>
                <a:lnTo>
                  <a:pt x="6117" y="5508"/>
                </a:lnTo>
                <a:lnTo>
                  <a:pt x="6107" y="5542"/>
                </a:lnTo>
                <a:lnTo>
                  <a:pt x="6097" y="5574"/>
                </a:lnTo>
                <a:lnTo>
                  <a:pt x="6084" y="5607"/>
                </a:lnTo>
                <a:lnTo>
                  <a:pt x="6069" y="5638"/>
                </a:lnTo>
                <a:lnTo>
                  <a:pt x="6054" y="5668"/>
                </a:lnTo>
                <a:lnTo>
                  <a:pt x="6037" y="5698"/>
                </a:lnTo>
                <a:lnTo>
                  <a:pt x="6018" y="5726"/>
                </a:lnTo>
                <a:lnTo>
                  <a:pt x="5998" y="5754"/>
                </a:lnTo>
                <a:lnTo>
                  <a:pt x="5977" y="5781"/>
                </a:lnTo>
                <a:lnTo>
                  <a:pt x="5955" y="5806"/>
                </a:lnTo>
                <a:lnTo>
                  <a:pt x="5932" y="5832"/>
                </a:lnTo>
                <a:lnTo>
                  <a:pt x="5908" y="5855"/>
                </a:lnTo>
                <a:lnTo>
                  <a:pt x="5881" y="5877"/>
                </a:lnTo>
                <a:lnTo>
                  <a:pt x="5854" y="5898"/>
                </a:lnTo>
                <a:lnTo>
                  <a:pt x="5828" y="5918"/>
                </a:lnTo>
                <a:lnTo>
                  <a:pt x="5799" y="5936"/>
                </a:lnTo>
                <a:lnTo>
                  <a:pt x="5768" y="5954"/>
                </a:lnTo>
                <a:lnTo>
                  <a:pt x="5738" y="5969"/>
                </a:lnTo>
                <a:lnTo>
                  <a:pt x="5707" y="5983"/>
                </a:lnTo>
                <a:lnTo>
                  <a:pt x="5676" y="5996"/>
                </a:lnTo>
                <a:lnTo>
                  <a:pt x="5642" y="6007"/>
                </a:lnTo>
                <a:lnTo>
                  <a:pt x="5608" y="6016"/>
                </a:lnTo>
                <a:lnTo>
                  <a:pt x="5575" y="6025"/>
                </a:lnTo>
                <a:lnTo>
                  <a:pt x="5540" y="6030"/>
                </a:lnTo>
                <a:lnTo>
                  <a:pt x="5505" y="6035"/>
                </a:lnTo>
                <a:lnTo>
                  <a:pt x="5469" y="6039"/>
                </a:lnTo>
                <a:lnTo>
                  <a:pt x="5433" y="6040"/>
                </a:lnTo>
                <a:lnTo>
                  <a:pt x="3011" y="6040"/>
                </a:lnTo>
                <a:lnTo>
                  <a:pt x="2981" y="6039"/>
                </a:lnTo>
                <a:lnTo>
                  <a:pt x="2951" y="6036"/>
                </a:lnTo>
                <a:lnTo>
                  <a:pt x="2921" y="6033"/>
                </a:lnTo>
                <a:lnTo>
                  <a:pt x="2892" y="6029"/>
                </a:lnTo>
                <a:lnTo>
                  <a:pt x="2863" y="6023"/>
                </a:lnTo>
                <a:lnTo>
                  <a:pt x="2834" y="6016"/>
                </a:lnTo>
                <a:lnTo>
                  <a:pt x="2806" y="6008"/>
                </a:lnTo>
                <a:lnTo>
                  <a:pt x="2778" y="5999"/>
                </a:lnTo>
                <a:lnTo>
                  <a:pt x="2750" y="5989"/>
                </a:lnTo>
                <a:lnTo>
                  <a:pt x="2723" y="5978"/>
                </a:lnTo>
                <a:lnTo>
                  <a:pt x="2698" y="5965"/>
                </a:lnTo>
                <a:lnTo>
                  <a:pt x="2672" y="5951"/>
                </a:lnTo>
                <a:lnTo>
                  <a:pt x="2647" y="5938"/>
                </a:lnTo>
                <a:lnTo>
                  <a:pt x="2623" y="5922"/>
                </a:lnTo>
                <a:lnTo>
                  <a:pt x="2599" y="5906"/>
                </a:lnTo>
                <a:lnTo>
                  <a:pt x="2577" y="5889"/>
                </a:lnTo>
                <a:lnTo>
                  <a:pt x="2554" y="5870"/>
                </a:lnTo>
                <a:lnTo>
                  <a:pt x="2533" y="5852"/>
                </a:lnTo>
                <a:lnTo>
                  <a:pt x="2512" y="5832"/>
                </a:lnTo>
                <a:lnTo>
                  <a:pt x="2492" y="5811"/>
                </a:lnTo>
                <a:lnTo>
                  <a:pt x="2474" y="5790"/>
                </a:lnTo>
                <a:lnTo>
                  <a:pt x="2455" y="5768"/>
                </a:lnTo>
                <a:lnTo>
                  <a:pt x="2438" y="5745"/>
                </a:lnTo>
                <a:lnTo>
                  <a:pt x="2421" y="5722"/>
                </a:lnTo>
                <a:lnTo>
                  <a:pt x="2406" y="5697"/>
                </a:lnTo>
                <a:lnTo>
                  <a:pt x="2392" y="5672"/>
                </a:lnTo>
                <a:lnTo>
                  <a:pt x="2378" y="5646"/>
                </a:lnTo>
                <a:lnTo>
                  <a:pt x="2366" y="5621"/>
                </a:lnTo>
                <a:lnTo>
                  <a:pt x="2355" y="5594"/>
                </a:lnTo>
                <a:lnTo>
                  <a:pt x="2345" y="5567"/>
                </a:lnTo>
                <a:lnTo>
                  <a:pt x="2336" y="5539"/>
                </a:lnTo>
                <a:lnTo>
                  <a:pt x="2327" y="5510"/>
                </a:lnTo>
                <a:lnTo>
                  <a:pt x="2315" y="5509"/>
                </a:lnTo>
                <a:lnTo>
                  <a:pt x="2259" y="5501"/>
                </a:lnTo>
                <a:lnTo>
                  <a:pt x="2203" y="5493"/>
                </a:lnTo>
                <a:lnTo>
                  <a:pt x="2147" y="5484"/>
                </a:lnTo>
                <a:lnTo>
                  <a:pt x="2092" y="5474"/>
                </a:lnTo>
                <a:lnTo>
                  <a:pt x="2037" y="5463"/>
                </a:lnTo>
                <a:lnTo>
                  <a:pt x="1983" y="5451"/>
                </a:lnTo>
                <a:lnTo>
                  <a:pt x="1929" y="5439"/>
                </a:lnTo>
                <a:lnTo>
                  <a:pt x="1876" y="5427"/>
                </a:lnTo>
                <a:lnTo>
                  <a:pt x="1824" y="5413"/>
                </a:lnTo>
                <a:lnTo>
                  <a:pt x="1771" y="5398"/>
                </a:lnTo>
                <a:lnTo>
                  <a:pt x="1719" y="5383"/>
                </a:lnTo>
                <a:lnTo>
                  <a:pt x="1668" y="5366"/>
                </a:lnTo>
                <a:lnTo>
                  <a:pt x="1618" y="5350"/>
                </a:lnTo>
                <a:lnTo>
                  <a:pt x="1568" y="5333"/>
                </a:lnTo>
                <a:lnTo>
                  <a:pt x="1519" y="5314"/>
                </a:lnTo>
                <a:lnTo>
                  <a:pt x="1471" y="5295"/>
                </a:lnTo>
                <a:lnTo>
                  <a:pt x="1423" y="5276"/>
                </a:lnTo>
                <a:lnTo>
                  <a:pt x="1375" y="5255"/>
                </a:lnTo>
                <a:lnTo>
                  <a:pt x="1329" y="5234"/>
                </a:lnTo>
                <a:lnTo>
                  <a:pt x="1283" y="5213"/>
                </a:lnTo>
                <a:lnTo>
                  <a:pt x="1237" y="5190"/>
                </a:lnTo>
                <a:lnTo>
                  <a:pt x="1193" y="5167"/>
                </a:lnTo>
                <a:lnTo>
                  <a:pt x="1150" y="5143"/>
                </a:lnTo>
                <a:lnTo>
                  <a:pt x="1107" y="5119"/>
                </a:lnTo>
                <a:lnTo>
                  <a:pt x="1064" y="5093"/>
                </a:lnTo>
                <a:lnTo>
                  <a:pt x="1024" y="5067"/>
                </a:lnTo>
                <a:lnTo>
                  <a:pt x="983" y="5041"/>
                </a:lnTo>
                <a:lnTo>
                  <a:pt x="944" y="5013"/>
                </a:lnTo>
                <a:lnTo>
                  <a:pt x="905" y="4985"/>
                </a:lnTo>
                <a:lnTo>
                  <a:pt x="867" y="4956"/>
                </a:lnTo>
                <a:lnTo>
                  <a:pt x="830" y="4927"/>
                </a:lnTo>
                <a:lnTo>
                  <a:pt x="794" y="4897"/>
                </a:lnTo>
                <a:lnTo>
                  <a:pt x="757" y="4866"/>
                </a:lnTo>
                <a:lnTo>
                  <a:pt x="721" y="4832"/>
                </a:lnTo>
                <a:lnTo>
                  <a:pt x="686" y="4800"/>
                </a:lnTo>
                <a:lnTo>
                  <a:pt x="652" y="4765"/>
                </a:lnTo>
                <a:lnTo>
                  <a:pt x="620" y="4730"/>
                </a:lnTo>
                <a:lnTo>
                  <a:pt x="588" y="4695"/>
                </a:lnTo>
                <a:lnTo>
                  <a:pt x="557" y="4658"/>
                </a:lnTo>
                <a:lnTo>
                  <a:pt x="528" y="4622"/>
                </a:lnTo>
                <a:lnTo>
                  <a:pt x="500" y="4584"/>
                </a:lnTo>
                <a:lnTo>
                  <a:pt x="472" y="4547"/>
                </a:lnTo>
                <a:lnTo>
                  <a:pt x="447" y="4507"/>
                </a:lnTo>
                <a:lnTo>
                  <a:pt x="422" y="4468"/>
                </a:lnTo>
                <a:lnTo>
                  <a:pt x="398" y="4428"/>
                </a:lnTo>
                <a:lnTo>
                  <a:pt x="376" y="4386"/>
                </a:lnTo>
                <a:lnTo>
                  <a:pt x="355" y="4346"/>
                </a:lnTo>
                <a:lnTo>
                  <a:pt x="335" y="4304"/>
                </a:lnTo>
                <a:lnTo>
                  <a:pt x="317" y="4261"/>
                </a:lnTo>
                <a:lnTo>
                  <a:pt x="299" y="4218"/>
                </a:lnTo>
                <a:lnTo>
                  <a:pt x="283" y="4174"/>
                </a:lnTo>
                <a:lnTo>
                  <a:pt x="269" y="4130"/>
                </a:lnTo>
                <a:lnTo>
                  <a:pt x="255" y="4084"/>
                </a:lnTo>
                <a:lnTo>
                  <a:pt x="243" y="4038"/>
                </a:lnTo>
                <a:lnTo>
                  <a:pt x="233" y="3993"/>
                </a:lnTo>
                <a:lnTo>
                  <a:pt x="224" y="3945"/>
                </a:lnTo>
                <a:lnTo>
                  <a:pt x="217" y="3897"/>
                </a:lnTo>
                <a:lnTo>
                  <a:pt x="210" y="3850"/>
                </a:lnTo>
                <a:lnTo>
                  <a:pt x="205" y="3801"/>
                </a:lnTo>
                <a:lnTo>
                  <a:pt x="203" y="3752"/>
                </a:lnTo>
                <a:lnTo>
                  <a:pt x="201" y="3702"/>
                </a:lnTo>
                <a:lnTo>
                  <a:pt x="201" y="3651"/>
                </a:lnTo>
                <a:lnTo>
                  <a:pt x="202" y="3601"/>
                </a:lnTo>
                <a:lnTo>
                  <a:pt x="204" y="3549"/>
                </a:lnTo>
                <a:lnTo>
                  <a:pt x="209" y="3500"/>
                </a:lnTo>
                <a:lnTo>
                  <a:pt x="216" y="3445"/>
                </a:lnTo>
                <a:lnTo>
                  <a:pt x="221" y="3403"/>
                </a:lnTo>
                <a:lnTo>
                  <a:pt x="228" y="3360"/>
                </a:lnTo>
                <a:lnTo>
                  <a:pt x="235" y="3317"/>
                </a:lnTo>
                <a:lnTo>
                  <a:pt x="245" y="3274"/>
                </a:lnTo>
                <a:lnTo>
                  <a:pt x="255" y="3231"/>
                </a:lnTo>
                <a:lnTo>
                  <a:pt x="267" y="3187"/>
                </a:lnTo>
                <a:lnTo>
                  <a:pt x="278" y="3143"/>
                </a:lnTo>
                <a:lnTo>
                  <a:pt x="292" y="3099"/>
                </a:lnTo>
                <a:lnTo>
                  <a:pt x="306" y="3053"/>
                </a:lnTo>
                <a:lnTo>
                  <a:pt x="322" y="3009"/>
                </a:lnTo>
                <a:lnTo>
                  <a:pt x="339" y="2964"/>
                </a:lnTo>
                <a:lnTo>
                  <a:pt x="356" y="2919"/>
                </a:lnTo>
                <a:lnTo>
                  <a:pt x="376" y="2872"/>
                </a:lnTo>
                <a:lnTo>
                  <a:pt x="396" y="2826"/>
                </a:lnTo>
                <a:lnTo>
                  <a:pt x="416" y="2779"/>
                </a:lnTo>
                <a:lnTo>
                  <a:pt x="440" y="2733"/>
                </a:lnTo>
                <a:lnTo>
                  <a:pt x="398" y="2695"/>
                </a:lnTo>
                <a:lnTo>
                  <a:pt x="357" y="2654"/>
                </a:lnTo>
                <a:lnTo>
                  <a:pt x="319" y="2614"/>
                </a:lnTo>
                <a:lnTo>
                  <a:pt x="282" y="2573"/>
                </a:lnTo>
                <a:lnTo>
                  <a:pt x="247" y="2531"/>
                </a:lnTo>
                <a:lnTo>
                  <a:pt x="214" y="2489"/>
                </a:lnTo>
                <a:lnTo>
                  <a:pt x="184" y="2445"/>
                </a:lnTo>
                <a:lnTo>
                  <a:pt x="155" y="2401"/>
                </a:lnTo>
                <a:lnTo>
                  <a:pt x="129" y="2356"/>
                </a:lnTo>
                <a:lnTo>
                  <a:pt x="104" y="2310"/>
                </a:lnTo>
                <a:lnTo>
                  <a:pt x="82" y="2263"/>
                </a:lnTo>
                <a:lnTo>
                  <a:pt x="62" y="2215"/>
                </a:lnTo>
                <a:lnTo>
                  <a:pt x="46" y="2165"/>
                </a:lnTo>
                <a:lnTo>
                  <a:pt x="38" y="2141"/>
                </a:lnTo>
                <a:lnTo>
                  <a:pt x="31" y="2115"/>
                </a:lnTo>
                <a:lnTo>
                  <a:pt x="25" y="2090"/>
                </a:lnTo>
                <a:lnTo>
                  <a:pt x="19" y="2064"/>
                </a:lnTo>
                <a:lnTo>
                  <a:pt x="14" y="2037"/>
                </a:lnTo>
                <a:lnTo>
                  <a:pt x="10" y="2011"/>
                </a:lnTo>
                <a:lnTo>
                  <a:pt x="7" y="1984"/>
                </a:lnTo>
                <a:lnTo>
                  <a:pt x="3" y="1957"/>
                </a:lnTo>
                <a:lnTo>
                  <a:pt x="1" y="1929"/>
                </a:lnTo>
                <a:lnTo>
                  <a:pt x="0" y="1902"/>
                </a:lnTo>
                <a:lnTo>
                  <a:pt x="0" y="1874"/>
                </a:lnTo>
                <a:lnTo>
                  <a:pt x="0" y="1846"/>
                </a:lnTo>
                <a:lnTo>
                  <a:pt x="0" y="1817"/>
                </a:lnTo>
                <a:lnTo>
                  <a:pt x="2" y="1788"/>
                </a:lnTo>
                <a:lnTo>
                  <a:pt x="4" y="1758"/>
                </a:lnTo>
                <a:lnTo>
                  <a:pt x="7" y="1729"/>
                </a:lnTo>
                <a:lnTo>
                  <a:pt x="11" y="1698"/>
                </a:lnTo>
                <a:lnTo>
                  <a:pt x="16" y="1667"/>
                </a:lnTo>
                <a:lnTo>
                  <a:pt x="21" y="1637"/>
                </a:lnTo>
                <a:lnTo>
                  <a:pt x="28" y="1606"/>
                </a:lnTo>
                <a:lnTo>
                  <a:pt x="35" y="1573"/>
                </a:lnTo>
                <a:lnTo>
                  <a:pt x="43" y="1542"/>
                </a:lnTo>
                <a:lnTo>
                  <a:pt x="51" y="1509"/>
                </a:lnTo>
                <a:lnTo>
                  <a:pt x="61" y="1475"/>
                </a:lnTo>
                <a:lnTo>
                  <a:pt x="72" y="1443"/>
                </a:lnTo>
                <a:lnTo>
                  <a:pt x="83" y="1409"/>
                </a:lnTo>
                <a:lnTo>
                  <a:pt x="109" y="1340"/>
                </a:lnTo>
                <a:lnTo>
                  <a:pt x="138" y="1270"/>
                </a:lnTo>
                <a:lnTo>
                  <a:pt x="170" y="1198"/>
                </a:lnTo>
                <a:lnTo>
                  <a:pt x="207" y="1124"/>
                </a:lnTo>
                <a:lnTo>
                  <a:pt x="247" y="1048"/>
                </a:lnTo>
                <a:lnTo>
                  <a:pt x="291" y="970"/>
                </a:lnTo>
                <a:lnTo>
                  <a:pt x="232" y="930"/>
                </a:lnTo>
                <a:lnTo>
                  <a:pt x="966" y="3"/>
                </a:lnTo>
                <a:lnTo>
                  <a:pt x="977" y="2"/>
                </a:lnTo>
                <a:lnTo>
                  <a:pt x="1011" y="1"/>
                </a:lnTo>
                <a:lnTo>
                  <a:pt x="1062" y="0"/>
                </a:lnTo>
                <a:lnTo>
                  <a:pt x="1092" y="1"/>
                </a:lnTo>
                <a:lnTo>
                  <a:pt x="1126" y="2"/>
                </a:lnTo>
                <a:lnTo>
                  <a:pt x="1161" y="4"/>
                </a:lnTo>
                <a:lnTo>
                  <a:pt x="1198" y="9"/>
                </a:lnTo>
                <a:lnTo>
                  <a:pt x="1236" y="14"/>
                </a:lnTo>
                <a:lnTo>
                  <a:pt x="1276" y="22"/>
                </a:lnTo>
                <a:lnTo>
                  <a:pt x="1314" y="31"/>
                </a:lnTo>
                <a:lnTo>
                  <a:pt x="1352" y="43"/>
                </a:lnTo>
                <a:lnTo>
                  <a:pt x="1372" y="48"/>
                </a:lnTo>
                <a:lnTo>
                  <a:pt x="1390" y="57"/>
                </a:lnTo>
                <a:lnTo>
                  <a:pt x="1408" y="65"/>
                </a:lnTo>
                <a:lnTo>
                  <a:pt x="1426" y="73"/>
                </a:lnTo>
                <a:lnTo>
                  <a:pt x="1461" y="93"/>
                </a:lnTo>
                <a:lnTo>
                  <a:pt x="1495" y="114"/>
                </a:lnTo>
                <a:lnTo>
                  <a:pt x="1527" y="136"/>
                </a:lnTo>
                <a:lnTo>
                  <a:pt x="1559" y="159"/>
                </a:lnTo>
                <a:lnTo>
                  <a:pt x="1588" y="182"/>
                </a:lnTo>
                <a:lnTo>
                  <a:pt x="1616" y="205"/>
                </a:lnTo>
                <a:lnTo>
                  <a:pt x="1642" y="230"/>
                </a:lnTo>
                <a:lnTo>
                  <a:pt x="1666" y="252"/>
                </a:lnTo>
                <a:lnTo>
                  <a:pt x="1707" y="293"/>
                </a:lnTo>
                <a:lnTo>
                  <a:pt x="1739" y="327"/>
                </a:lnTo>
                <a:lnTo>
                  <a:pt x="1759" y="350"/>
                </a:lnTo>
                <a:lnTo>
                  <a:pt x="1765" y="359"/>
                </a:lnTo>
                <a:lnTo>
                  <a:pt x="1153" y="1011"/>
                </a:lnTo>
                <a:lnTo>
                  <a:pt x="985" y="843"/>
                </a:lnTo>
                <a:lnTo>
                  <a:pt x="714" y="1251"/>
                </a:lnTo>
                <a:lnTo>
                  <a:pt x="630" y="1196"/>
                </a:lnTo>
                <a:lnTo>
                  <a:pt x="603" y="1246"/>
                </a:lnTo>
                <a:lnTo>
                  <a:pt x="578" y="1294"/>
                </a:lnTo>
                <a:lnTo>
                  <a:pt x="556" y="1342"/>
                </a:lnTo>
                <a:lnTo>
                  <a:pt x="535" y="1390"/>
                </a:lnTo>
                <a:lnTo>
                  <a:pt x="516" y="1435"/>
                </a:lnTo>
                <a:lnTo>
                  <a:pt x="500" y="1480"/>
                </a:lnTo>
                <a:lnTo>
                  <a:pt x="485" y="1524"/>
                </a:lnTo>
                <a:lnTo>
                  <a:pt x="472" y="1567"/>
                </a:lnTo>
                <a:lnTo>
                  <a:pt x="462" y="1609"/>
                </a:lnTo>
                <a:lnTo>
                  <a:pt x="452" y="1650"/>
                </a:lnTo>
                <a:lnTo>
                  <a:pt x="445" y="1690"/>
                </a:lnTo>
                <a:lnTo>
                  <a:pt x="440" y="1729"/>
                </a:lnTo>
                <a:lnTo>
                  <a:pt x="436" y="1768"/>
                </a:lnTo>
                <a:lnTo>
                  <a:pt x="435" y="1805"/>
                </a:lnTo>
                <a:lnTo>
                  <a:pt x="434" y="1842"/>
                </a:lnTo>
                <a:lnTo>
                  <a:pt x="436" y="1878"/>
                </a:lnTo>
                <a:lnTo>
                  <a:pt x="439" y="1913"/>
                </a:lnTo>
                <a:lnTo>
                  <a:pt x="443" y="1948"/>
                </a:lnTo>
                <a:lnTo>
                  <a:pt x="450" y="1982"/>
                </a:lnTo>
                <a:lnTo>
                  <a:pt x="457" y="2014"/>
                </a:lnTo>
                <a:lnTo>
                  <a:pt x="466" y="2047"/>
                </a:lnTo>
                <a:lnTo>
                  <a:pt x="477" y="2079"/>
                </a:lnTo>
                <a:lnTo>
                  <a:pt x="488" y="2111"/>
                </a:lnTo>
                <a:lnTo>
                  <a:pt x="502" y="2141"/>
                </a:lnTo>
                <a:lnTo>
                  <a:pt x="516" y="2171"/>
                </a:lnTo>
                <a:lnTo>
                  <a:pt x="533" y="2200"/>
                </a:lnTo>
                <a:lnTo>
                  <a:pt x="550" y="2229"/>
                </a:lnTo>
                <a:lnTo>
                  <a:pt x="569" y="2257"/>
                </a:lnTo>
                <a:lnTo>
                  <a:pt x="587" y="2285"/>
                </a:lnTo>
                <a:lnTo>
                  <a:pt x="608" y="2313"/>
                </a:lnTo>
                <a:lnTo>
                  <a:pt x="630" y="2339"/>
                </a:lnTo>
                <a:lnTo>
                  <a:pt x="652" y="2366"/>
                </a:lnTo>
                <a:lnTo>
                  <a:pt x="682" y="2322"/>
                </a:lnTo>
                <a:lnTo>
                  <a:pt x="713" y="2278"/>
                </a:lnTo>
                <a:lnTo>
                  <a:pt x="745" y="2234"/>
                </a:lnTo>
                <a:lnTo>
                  <a:pt x="778" y="2188"/>
                </a:lnTo>
                <a:lnTo>
                  <a:pt x="811" y="2144"/>
                </a:lnTo>
                <a:lnTo>
                  <a:pt x="846" y="2099"/>
                </a:lnTo>
                <a:lnTo>
                  <a:pt x="883" y="2054"/>
                </a:lnTo>
                <a:lnTo>
                  <a:pt x="920" y="2007"/>
                </a:lnTo>
                <a:lnTo>
                  <a:pt x="957" y="1962"/>
                </a:lnTo>
                <a:lnTo>
                  <a:pt x="997" y="1916"/>
                </a:lnTo>
                <a:lnTo>
                  <a:pt x="1038" y="1870"/>
                </a:lnTo>
                <a:lnTo>
                  <a:pt x="1079" y="1824"/>
                </a:lnTo>
                <a:lnTo>
                  <a:pt x="1166" y="1730"/>
                </a:lnTo>
                <a:lnTo>
                  <a:pt x="1257" y="1636"/>
                </a:lnTo>
                <a:lnTo>
                  <a:pt x="1247" y="1611"/>
                </a:lnTo>
                <a:lnTo>
                  <a:pt x="1237" y="1586"/>
                </a:lnTo>
                <a:lnTo>
                  <a:pt x="1230" y="1560"/>
                </a:lnTo>
                <a:lnTo>
                  <a:pt x="1223" y="1534"/>
                </a:lnTo>
                <a:lnTo>
                  <a:pt x="1219" y="1507"/>
                </a:lnTo>
                <a:lnTo>
                  <a:pt x="1215" y="1479"/>
                </a:lnTo>
                <a:lnTo>
                  <a:pt x="1213" y="1451"/>
                </a:lnTo>
                <a:lnTo>
                  <a:pt x="1212" y="1423"/>
                </a:lnTo>
                <a:lnTo>
                  <a:pt x="1213" y="1397"/>
                </a:lnTo>
                <a:lnTo>
                  <a:pt x="1214" y="1370"/>
                </a:lnTo>
                <a:lnTo>
                  <a:pt x="1218" y="1344"/>
                </a:lnTo>
                <a:lnTo>
                  <a:pt x="1222" y="1319"/>
                </a:lnTo>
                <a:lnTo>
                  <a:pt x="1228" y="1293"/>
                </a:lnTo>
                <a:lnTo>
                  <a:pt x="1235" y="1269"/>
                </a:lnTo>
                <a:lnTo>
                  <a:pt x="1243" y="1244"/>
                </a:lnTo>
                <a:lnTo>
                  <a:pt x="1252" y="1221"/>
                </a:lnTo>
                <a:lnTo>
                  <a:pt x="1263" y="1198"/>
                </a:lnTo>
                <a:lnTo>
                  <a:pt x="1274" y="1175"/>
                </a:lnTo>
                <a:lnTo>
                  <a:pt x="1287" y="1154"/>
                </a:lnTo>
                <a:lnTo>
                  <a:pt x="1301" y="1132"/>
                </a:lnTo>
                <a:lnTo>
                  <a:pt x="1315" y="1112"/>
                </a:lnTo>
                <a:lnTo>
                  <a:pt x="1331" y="1092"/>
                </a:lnTo>
                <a:lnTo>
                  <a:pt x="1348" y="1073"/>
                </a:lnTo>
                <a:lnTo>
                  <a:pt x="1365" y="1055"/>
                </a:lnTo>
                <a:lnTo>
                  <a:pt x="1365" y="1054"/>
                </a:lnTo>
                <a:lnTo>
                  <a:pt x="1384" y="1037"/>
                </a:lnTo>
                <a:lnTo>
                  <a:pt x="1402" y="1020"/>
                </a:lnTo>
                <a:lnTo>
                  <a:pt x="1422" y="1005"/>
                </a:lnTo>
                <a:lnTo>
                  <a:pt x="1443" y="990"/>
                </a:lnTo>
                <a:lnTo>
                  <a:pt x="1464" y="977"/>
                </a:lnTo>
                <a:lnTo>
                  <a:pt x="1486" y="965"/>
                </a:lnTo>
                <a:lnTo>
                  <a:pt x="1508" y="953"/>
                </a:lnTo>
                <a:lnTo>
                  <a:pt x="1531" y="943"/>
                </a:lnTo>
                <a:lnTo>
                  <a:pt x="1554" y="933"/>
                </a:lnTo>
                <a:lnTo>
                  <a:pt x="1579" y="925"/>
                </a:lnTo>
                <a:lnTo>
                  <a:pt x="1603" y="918"/>
                </a:lnTo>
                <a:lnTo>
                  <a:pt x="1628" y="912"/>
                </a:lnTo>
                <a:lnTo>
                  <a:pt x="1654" y="908"/>
                </a:lnTo>
                <a:lnTo>
                  <a:pt x="1681" y="904"/>
                </a:lnTo>
                <a:lnTo>
                  <a:pt x="1706" y="902"/>
                </a:lnTo>
                <a:lnTo>
                  <a:pt x="1733" y="902"/>
                </a:lnTo>
                <a:lnTo>
                  <a:pt x="1760" y="902"/>
                </a:lnTo>
                <a:lnTo>
                  <a:pt x="1786" y="904"/>
                </a:lnTo>
                <a:lnTo>
                  <a:pt x="1813" y="908"/>
                </a:lnTo>
                <a:lnTo>
                  <a:pt x="1839" y="912"/>
                </a:lnTo>
                <a:lnTo>
                  <a:pt x="1863" y="918"/>
                </a:lnTo>
                <a:lnTo>
                  <a:pt x="1889" y="925"/>
                </a:lnTo>
                <a:lnTo>
                  <a:pt x="1913" y="933"/>
                </a:lnTo>
                <a:lnTo>
                  <a:pt x="1936" y="943"/>
                </a:lnTo>
                <a:lnTo>
                  <a:pt x="1959" y="953"/>
                </a:lnTo>
                <a:lnTo>
                  <a:pt x="1981" y="965"/>
                </a:lnTo>
                <a:lnTo>
                  <a:pt x="2003" y="977"/>
                </a:lnTo>
                <a:lnTo>
                  <a:pt x="2024" y="990"/>
                </a:lnTo>
                <a:lnTo>
                  <a:pt x="2045" y="1005"/>
                </a:lnTo>
                <a:lnTo>
                  <a:pt x="2065" y="1020"/>
                </a:lnTo>
                <a:lnTo>
                  <a:pt x="2084" y="1037"/>
                </a:lnTo>
                <a:lnTo>
                  <a:pt x="2102" y="1054"/>
                </a:lnTo>
                <a:lnTo>
                  <a:pt x="2102" y="1055"/>
                </a:lnTo>
                <a:lnTo>
                  <a:pt x="2118" y="1073"/>
                </a:lnTo>
                <a:lnTo>
                  <a:pt x="2136" y="1091"/>
                </a:lnTo>
                <a:lnTo>
                  <a:pt x="2151" y="1111"/>
                </a:lnTo>
                <a:lnTo>
                  <a:pt x="2165" y="1132"/>
                </a:lnTo>
                <a:lnTo>
                  <a:pt x="2179" y="1153"/>
                </a:lnTo>
                <a:lnTo>
                  <a:pt x="2192" y="1175"/>
                </a:lnTo>
                <a:lnTo>
                  <a:pt x="2203" y="1197"/>
                </a:lnTo>
                <a:lnTo>
                  <a:pt x="2214" y="1220"/>
                </a:lnTo>
                <a:lnTo>
                  <a:pt x="2223" y="1244"/>
                </a:lnTo>
                <a:lnTo>
                  <a:pt x="2231" y="1269"/>
                </a:lnTo>
                <a:lnTo>
                  <a:pt x="2238" y="1293"/>
                </a:lnTo>
                <a:lnTo>
                  <a:pt x="2244" y="1319"/>
                </a:lnTo>
                <a:lnTo>
                  <a:pt x="2248" y="1344"/>
                </a:lnTo>
                <a:lnTo>
                  <a:pt x="2252" y="1370"/>
                </a:lnTo>
                <a:lnTo>
                  <a:pt x="2254" y="1397"/>
                </a:lnTo>
                <a:lnTo>
                  <a:pt x="2254" y="1423"/>
                </a:lnTo>
                <a:lnTo>
                  <a:pt x="2254" y="1450"/>
                </a:lnTo>
                <a:lnTo>
                  <a:pt x="2252" y="1477"/>
                </a:lnTo>
                <a:lnTo>
                  <a:pt x="2248" y="1502"/>
                </a:lnTo>
                <a:lnTo>
                  <a:pt x="2244" y="1528"/>
                </a:lnTo>
                <a:lnTo>
                  <a:pt x="2238" y="1553"/>
                </a:lnTo>
                <a:lnTo>
                  <a:pt x="2231" y="1578"/>
                </a:lnTo>
                <a:lnTo>
                  <a:pt x="2223" y="1602"/>
                </a:lnTo>
                <a:lnTo>
                  <a:pt x="2214" y="1626"/>
                </a:lnTo>
                <a:lnTo>
                  <a:pt x="2203" y="1648"/>
                </a:lnTo>
                <a:lnTo>
                  <a:pt x="2192" y="1672"/>
                </a:lnTo>
                <a:lnTo>
                  <a:pt x="2179" y="1694"/>
                </a:lnTo>
                <a:lnTo>
                  <a:pt x="2166" y="1715"/>
                </a:lnTo>
                <a:lnTo>
                  <a:pt x="2151" y="1734"/>
                </a:lnTo>
                <a:lnTo>
                  <a:pt x="2136" y="1754"/>
                </a:lnTo>
                <a:lnTo>
                  <a:pt x="2120" y="1774"/>
                </a:lnTo>
                <a:lnTo>
                  <a:pt x="2102" y="1791"/>
                </a:lnTo>
                <a:lnTo>
                  <a:pt x="2084" y="1809"/>
                </a:lnTo>
                <a:lnTo>
                  <a:pt x="2065" y="1825"/>
                </a:lnTo>
                <a:lnTo>
                  <a:pt x="2045" y="1841"/>
                </a:lnTo>
                <a:lnTo>
                  <a:pt x="2024" y="1855"/>
                </a:lnTo>
                <a:lnTo>
                  <a:pt x="2003" y="1869"/>
                </a:lnTo>
                <a:lnTo>
                  <a:pt x="1981" y="1882"/>
                </a:lnTo>
                <a:lnTo>
                  <a:pt x="1959" y="1893"/>
                </a:lnTo>
                <a:lnTo>
                  <a:pt x="1936" y="1904"/>
                </a:lnTo>
                <a:lnTo>
                  <a:pt x="1913" y="1913"/>
                </a:lnTo>
                <a:lnTo>
                  <a:pt x="1889" y="1921"/>
                </a:lnTo>
                <a:lnTo>
                  <a:pt x="1863" y="1928"/>
                </a:lnTo>
                <a:lnTo>
                  <a:pt x="1839" y="1934"/>
                </a:lnTo>
                <a:lnTo>
                  <a:pt x="1813" y="1939"/>
                </a:lnTo>
                <a:lnTo>
                  <a:pt x="1786" y="1942"/>
                </a:lnTo>
                <a:lnTo>
                  <a:pt x="1760" y="1943"/>
                </a:lnTo>
                <a:lnTo>
                  <a:pt x="1733" y="1945"/>
                </a:lnTo>
                <a:lnTo>
                  <a:pt x="1710" y="1943"/>
                </a:lnTo>
                <a:lnTo>
                  <a:pt x="1685" y="1942"/>
                </a:lnTo>
                <a:lnTo>
                  <a:pt x="1662" y="1940"/>
                </a:lnTo>
                <a:lnTo>
                  <a:pt x="1640" y="1936"/>
                </a:lnTo>
                <a:lnTo>
                  <a:pt x="1617" y="1932"/>
                </a:lnTo>
                <a:lnTo>
                  <a:pt x="1595" y="1926"/>
                </a:lnTo>
                <a:lnTo>
                  <a:pt x="1573" y="1919"/>
                </a:lnTo>
                <a:lnTo>
                  <a:pt x="1552" y="1912"/>
                </a:lnTo>
                <a:lnTo>
                  <a:pt x="1465" y="2000"/>
                </a:lnTo>
                <a:lnTo>
                  <a:pt x="1384" y="2089"/>
                </a:lnTo>
                <a:lnTo>
                  <a:pt x="1306" y="2177"/>
                </a:lnTo>
                <a:lnTo>
                  <a:pt x="1233" y="2263"/>
                </a:lnTo>
                <a:lnTo>
                  <a:pt x="1164" y="2349"/>
                </a:lnTo>
                <a:lnTo>
                  <a:pt x="1099" y="2433"/>
                </a:lnTo>
                <a:lnTo>
                  <a:pt x="1069" y="2475"/>
                </a:lnTo>
                <a:lnTo>
                  <a:pt x="1039" y="2517"/>
                </a:lnTo>
                <a:lnTo>
                  <a:pt x="1011" y="2558"/>
                </a:lnTo>
                <a:lnTo>
                  <a:pt x="983" y="2599"/>
                </a:lnTo>
                <a:lnTo>
                  <a:pt x="961" y="2633"/>
                </a:lnTo>
                <a:lnTo>
                  <a:pt x="1020" y="2674"/>
                </a:lnTo>
                <a:lnTo>
                  <a:pt x="1081" y="2714"/>
                </a:lnTo>
                <a:lnTo>
                  <a:pt x="1143" y="2755"/>
                </a:lnTo>
                <a:lnTo>
                  <a:pt x="1207" y="2796"/>
                </a:lnTo>
                <a:lnTo>
                  <a:pt x="1341" y="2878"/>
                </a:lnTo>
                <a:lnTo>
                  <a:pt x="1479" y="2962"/>
                </a:lnTo>
                <a:lnTo>
                  <a:pt x="1583" y="3026"/>
                </a:lnTo>
                <a:lnTo>
                  <a:pt x="1689" y="3089"/>
                </a:lnTo>
                <a:lnTo>
                  <a:pt x="1795" y="3156"/>
                </a:lnTo>
                <a:lnTo>
                  <a:pt x="1900" y="3223"/>
                </a:lnTo>
                <a:lnTo>
                  <a:pt x="2003" y="3293"/>
                </a:lnTo>
                <a:lnTo>
                  <a:pt x="2056" y="3329"/>
                </a:lnTo>
                <a:lnTo>
                  <a:pt x="2107" y="3365"/>
                </a:lnTo>
                <a:lnTo>
                  <a:pt x="2157" y="3402"/>
                </a:lnTo>
                <a:lnTo>
                  <a:pt x="2207" y="3439"/>
                </a:lnTo>
                <a:lnTo>
                  <a:pt x="2255" y="3477"/>
                </a:lnTo>
                <a:lnTo>
                  <a:pt x="2304" y="3517"/>
                </a:lnTo>
                <a:lnTo>
                  <a:pt x="2304" y="1261"/>
                </a:lnTo>
                <a:lnTo>
                  <a:pt x="2305" y="1225"/>
                </a:lnTo>
                <a:lnTo>
                  <a:pt x="2308" y="1189"/>
                </a:lnTo>
                <a:lnTo>
                  <a:pt x="2312" y="1154"/>
                </a:lnTo>
                <a:lnTo>
                  <a:pt x="2319" y="1119"/>
                </a:lnTo>
                <a:lnTo>
                  <a:pt x="2326" y="1084"/>
                </a:lnTo>
                <a:lnTo>
                  <a:pt x="2337" y="1051"/>
                </a:lnTo>
                <a:lnTo>
                  <a:pt x="2347" y="1018"/>
                </a:lnTo>
                <a:lnTo>
                  <a:pt x="2360" y="987"/>
                </a:lnTo>
                <a:lnTo>
                  <a:pt x="2374" y="955"/>
                </a:lnTo>
                <a:lnTo>
                  <a:pt x="2390" y="924"/>
                </a:lnTo>
                <a:lnTo>
                  <a:pt x="2407" y="895"/>
                </a:lnTo>
                <a:lnTo>
                  <a:pt x="2425" y="866"/>
                </a:lnTo>
                <a:lnTo>
                  <a:pt x="2445" y="838"/>
                </a:lnTo>
                <a:lnTo>
                  <a:pt x="2467" y="811"/>
                </a:lnTo>
                <a:lnTo>
                  <a:pt x="2489" y="786"/>
                </a:lnTo>
                <a:lnTo>
                  <a:pt x="2512" y="761"/>
                </a:lnTo>
                <a:lnTo>
                  <a:pt x="2536" y="738"/>
                </a:lnTo>
                <a:lnTo>
                  <a:pt x="2562" y="716"/>
                </a:lnTo>
                <a:lnTo>
                  <a:pt x="2589" y="694"/>
                </a:lnTo>
                <a:lnTo>
                  <a:pt x="2616" y="674"/>
                </a:lnTo>
                <a:lnTo>
                  <a:pt x="2645" y="656"/>
                </a:lnTo>
                <a:lnTo>
                  <a:pt x="2674" y="639"/>
                </a:lnTo>
                <a:lnTo>
                  <a:pt x="2706" y="623"/>
                </a:lnTo>
                <a:lnTo>
                  <a:pt x="2737" y="609"/>
                </a:lnTo>
                <a:lnTo>
                  <a:pt x="2769" y="597"/>
                </a:lnTo>
                <a:lnTo>
                  <a:pt x="2802" y="586"/>
                </a:lnTo>
                <a:lnTo>
                  <a:pt x="2835" y="576"/>
                </a:lnTo>
                <a:lnTo>
                  <a:pt x="2870" y="567"/>
                </a:lnTo>
                <a:lnTo>
                  <a:pt x="2904" y="562"/>
                </a:lnTo>
                <a:lnTo>
                  <a:pt x="2939" y="557"/>
                </a:lnTo>
                <a:lnTo>
                  <a:pt x="2975" y="555"/>
                </a:lnTo>
                <a:lnTo>
                  <a:pt x="3011" y="554"/>
                </a:lnTo>
                <a:close/>
                <a:moveTo>
                  <a:pt x="1887" y="1269"/>
                </a:moveTo>
                <a:lnTo>
                  <a:pt x="1887" y="1269"/>
                </a:lnTo>
                <a:lnTo>
                  <a:pt x="1871" y="1255"/>
                </a:lnTo>
                <a:lnTo>
                  <a:pt x="1855" y="1242"/>
                </a:lnTo>
                <a:lnTo>
                  <a:pt x="1837" y="1232"/>
                </a:lnTo>
                <a:lnTo>
                  <a:pt x="1818" y="1222"/>
                </a:lnTo>
                <a:lnTo>
                  <a:pt x="1798" y="1215"/>
                </a:lnTo>
                <a:lnTo>
                  <a:pt x="1777" y="1210"/>
                </a:lnTo>
                <a:lnTo>
                  <a:pt x="1755" y="1206"/>
                </a:lnTo>
                <a:lnTo>
                  <a:pt x="1733" y="1205"/>
                </a:lnTo>
                <a:lnTo>
                  <a:pt x="1711" y="1206"/>
                </a:lnTo>
                <a:lnTo>
                  <a:pt x="1689" y="1210"/>
                </a:lnTo>
                <a:lnTo>
                  <a:pt x="1668" y="1215"/>
                </a:lnTo>
                <a:lnTo>
                  <a:pt x="1648" y="1222"/>
                </a:lnTo>
                <a:lnTo>
                  <a:pt x="1630" y="1232"/>
                </a:lnTo>
                <a:lnTo>
                  <a:pt x="1611" y="1242"/>
                </a:lnTo>
                <a:lnTo>
                  <a:pt x="1595" y="1255"/>
                </a:lnTo>
                <a:lnTo>
                  <a:pt x="1580" y="1269"/>
                </a:lnTo>
                <a:lnTo>
                  <a:pt x="1579" y="1269"/>
                </a:lnTo>
                <a:lnTo>
                  <a:pt x="1565" y="1284"/>
                </a:lnTo>
                <a:lnTo>
                  <a:pt x="1552" y="1301"/>
                </a:lnTo>
                <a:lnTo>
                  <a:pt x="1541" y="1319"/>
                </a:lnTo>
                <a:lnTo>
                  <a:pt x="1532" y="1338"/>
                </a:lnTo>
                <a:lnTo>
                  <a:pt x="1525" y="1358"/>
                </a:lnTo>
                <a:lnTo>
                  <a:pt x="1519" y="1379"/>
                </a:lnTo>
                <a:lnTo>
                  <a:pt x="1517" y="1401"/>
                </a:lnTo>
                <a:lnTo>
                  <a:pt x="1516" y="1423"/>
                </a:lnTo>
                <a:lnTo>
                  <a:pt x="1517" y="1445"/>
                </a:lnTo>
                <a:lnTo>
                  <a:pt x="1519" y="1467"/>
                </a:lnTo>
                <a:lnTo>
                  <a:pt x="1525" y="1488"/>
                </a:lnTo>
                <a:lnTo>
                  <a:pt x="1532" y="1508"/>
                </a:lnTo>
                <a:lnTo>
                  <a:pt x="1541" y="1527"/>
                </a:lnTo>
                <a:lnTo>
                  <a:pt x="1553" y="1545"/>
                </a:lnTo>
                <a:lnTo>
                  <a:pt x="1565" y="1561"/>
                </a:lnTo>
                <a:lnTo>
                  <a:pt x="1580" y="1576"/>
                </a:lnTo>
                <a:lnTo>
                  <a:pt x="1580" y="1578"/>
                </a:lnTo>
                <a:lnTo>
                  <a:pt x="1595" y="1592"/>
                </a:lnTo>
                <a:lnTo>
                  <a:pt x="1611" y="1604"/>
                </a:lnTo>
                <a:lnTo>
                  <a:pt x="1630" y="1615"/>
                </a:lnTo>
                <a:lnTo>
                  <a:pt x="1648" y="1624"/>
                </a:lnTo>
                <a:lnTo>
                  <a:pt x="1668" y="1631"/>
                </a:lnTo>
                <a:lnTo>
                  <a:pt x="1689" y="1637"/>
                </a:lnTo>
                <a:lnTo>
                  <a:pt x="1711" y="1639"/>
                </a:lnTo>
                <a:lnTo>
                  <a:pt x="1733" y="1640"/>
                </a:lnTo>
                <a:lnTo>
                  <a:pt x="1755" y="1639"/>
                </a:lnTo>
                <a:lnTo>
                  <a:pt x="1777" y="1637"/>
                </a:lnTo>
                <a:lnTo>
                  <a:pt x="1798" y="1631"/>
                </a:lnTo>
                <a:lnTo>
                  <a:pt x="1818" y="1624"/>
                </a:lnTo>
                <a:lnTo>
                  <a:pt x="1837" y="1615"/>
                </a:lnTo>
                <a:lnTo>
                  <a:pt x="1855" y="1603"/>
                </a:lnTo>
                <a:lnTo>
                  <a:pt x="1871" y="1592"/>
                </a:lnTo>
                <a:lnTo>
                  <a:pt x="1887" y="1576"/>
                </a:lnTo>
                <a:lnTo>
                  <a:pt x="1901" y="1561"/>
                </a:lnTo>
                <a:lnTo>
                  <a:pt x="1914" y="1545"/>
                </a:lnTo>
                <a:lnTo>
                  <a:pt x="1925" y="1527"/>
                </a:lnTo>
                <a:lnTo>
                  <a:pt x="1934" y="1508"/>
                </a:lnTo>
                <a:lnTo>
                  <a:pt x="1941" y="1488"/>
                </a:lnTo>
                <a:lnTo>
                  <a:pt x="1947" y="1467"/>
                </a:lnTo>
                <a:lnTo>
                  <a:pt x="1950" y="1445"/>
                </a:lnTo>
                <a:lnTo>
                  <a:pt x="1951" y="1423"/>
                </a:lnTo>
                <a:lnTo>
                  <a:pt x="1950" y="1401"/>
                </a:lnTo>
                <a:lnTo>
                  <a:pt x="1947" y="1379"/>
                </a:lnTo>
                <a:lnTo>
                  <a:pt x="1941" y="1358"/>
                </a:lnTo>
                <a:lnTo>
                  <a:pt x="1934" y="1338"/>
                </a:lnTo>
                <a:lnTo>
                  <a:pt x="1925" y="1319"/>
                </a:lnTo>
                <a:lnTo>
                  <a:pt x="1914" y="1301"/>
                </a:lnTo>
                <a:lnTo>
                  <a:pt x="1901" y="1284"/>
                </a:lnTo>
                <a:lnTo>
                  <a:pt x="1887" y="1269"/>
                </a:lnTo>
                <a:close/>
                <a:moveTo>
                  <a:pt x="2304" y="5100"/>
                </a:moveTo>
                <a:lnTo>
                  <a:pt x="2304" y="4074"/>
                </a:lnTo>
                <a:lnTo>
                  <a:pt x="2277" y="4045"/>
                </a:lnTo>
                <a:lnTo>
                  <a:pt x="2251" y="4017"/>
                </a:lnTo>
                <a:lnTo>
                  <a:pt x="2224" y="3989"/>
                </a:lnTo>
                <a:lnTo>
                  <a:pt x="2195" y="3961"/>
                </a:lnTo>
                <a:lnTo>
                  <a:pt x="2138" y="3908"/>
                </a:lnTo>
                <a:lnTo>
                  <a:pt x="2078" y="3856"/>
                </a:lnTo>
                <a:lnTo>
                  <a:pt x="2016" y="3805"/>
                </a:lnTo>
                <a:lnTo>
                  <a:pt x="1952" y="3755"/>
                </a:lnTo>
                <a:lnTo>
                  <a:pt x="1887" y="3706"/>
                </a:lnTo>
                <a:lnTo>
                  <a:pt x="1821" y="3659"/>
                </a:lnTo>
                <a:lnTo>
                  <a:pt x="1754" y="3613"/>
                </a:lnTo>
                <a:lnTo>
                  <a:pt x="1687" y="3567"/>
                </a:lnTo>
                <a:lnTo>
                  <a:pt x="1617" y="3522"/>
                </a:lnTo>
                <a:lnTo>
                  <a:pt x="1548" y="3478"/>
                </a:lnTo>
                <a:lnTo>
                  <a:pt x="1409" y="3392"/>
                </a:lnTo>
                <a:lnTo>
                  <a:pt x="1270" y="3308"/>
                </a:lnTo>
                <a:lnTo>
                  <a:pt x="1140" y="3230"/>
                </a:lnTo>
                <a:lnTo>
                  <a:pt x="1012" y="3151"/>
                </a:lnTo>
                <a:lnTo>
                  <a:pt x="949" y="3111"/>
                </a:lnTo>
                <a:lnTo>
                  <a:pt x="888" y="3071"/>
                </a:lnTo>
                <a:lnTo>
                  <a:pt x="826" y="3030"/>
                </a:lnTo>
                <a:lnTo>
                  <a:pt x="765" y="2988"/>
                </a:lnTo>
                <a:lnTo>
                  <a:pt x="737" y="3056"/>
                </a:lnTo>
                <a:lnTo>
                  <a:pt x="710" y="3122"/>
                </a:lnTo>
                <a:lnTo>
                  <a:pt x="687" y="3186"/>
                </a:lnTo>
                <a:lnTo>
                  <a:pt x="667" y="3250"/>
                </a:lnTo>
                <a:lnTo>
                  <a:pt x="650" y="3313"/>
                </a:lnTo>
                <a:lnTo>
                  <a:pt x="636" y="3375"/>
                </a:lnTo>
                <a:lnTo>
                  <a:pt x="624" y="3435"/>
                </a:lnTo>
                <a:lnTo>
                  <a:pt x="615" y="3496"/>
                </a:lnTo>
                <a:lnTo>
                  <a:pt x="612" y="3533"/>
                </a:lnTo>
                <a:lnTo>
                  <a:pt x="608" y="3577"/>
                </a:lnTo>
                <a:lnTo>
                  <a:pt x="606" y="3615"/>
                </a:lnTo>
                <a:lnTo>
                  <a:pt x="605" y="3652"/>
                </a:lnTo>
                <a:lnTo>
                  <a:pt x="605" y="3691"/>
                </a:lnTo>
                <a:lnTo>
                  <a:pt x="606" y="3728"/>
                </a:lnTo>
                <a:lnTo>
                  <a:pt x="609" y="3765"/>
                </a:lnTo>
                <a:lnTo>
                  <a:pt x="613" y="3801"/>
                </a:lnTo>
                <a:lnTo>
                  <a:pt x="617" y="3837"/>
                </a:lnTo>
                <a:lnTo>
                  <a:pt x="623" y="3873"/>
                </a:lnTo>
                <a:lnTo>
                  <a:pt x="630" y="3908"/>
                </a:lnTo>
                <a:lnTo>
                  <a:pt x="638" y="3943"/>
                </a:lnTo>
                <a:lnTo>
                  <a:pt x="646" y="3976"/>
                </a:lnTo>
                <a:lnTo>
                  <a:pt x="657" y="4010"/>
                </a:lnTo>
                <a:lnTo>
                  <a:pt x="668" y="4044"/>
                </a:lnTo>
                <a:lnTo>
                  <a:pt x="680" y="4076"/>
                </a:lnTo>
                <a:lnTo>
                  <a:pt x="693" y="4109"/>
                </a:lnTo>
                <a:lnTo>
                  <a:pt x="707" y="4141"/>
                </a:lnTo>
                <a:lnTo>
                  <a:pt x="722" y="4173"/>
                </a:lnTo>
                <a:lnTo>
                  <a:pt x="738" y="4204"/>
                </a:lnTo>
                <a:lnTo>
                  <a:pt x="755" y="4234"/>
                </a:lnTo>
                <a:lnTo>
                  <a:pt x="773" y="4264"/>
                </a:lnTo>
                <a:lnTo>
                  <a:pt x="791" y="4295"/>
                </a:lnTo>
                <a:lnTo>
                  <a:pt x="811" y="4324"/>
                </a:lnTo>
                <a:lnTo>
                  <a:pt x="832" y="4353"/>
                </a:lnTo>
                <a:lnTo>
                  <a:pt x="853" y="4380"/>
                </a:lnTo>
                <a:lnTo>
                  <a:pt x="875" y="4408"/>
                </a:lnTo>
                <a:lnTo>
                  <a:pt x="898" y="4436"/>
                </a:lnTo>
                <a:lnTo>
                  <a:pt x="923" y="4463"/>
                </a:lnTo>
                <a:lnTo>
                  <a:pt x="947" y="4488"/>
                </a:lnTo>
                <a:lnTo>
                  <a:pt x="973" y="4515"/>
                </a:lnTo>
                <a:lnTo>
                  <a:pt x="999" y="4540"/>
                </a:lnTo>
                <a:lnTo>
                  <a:pt x="1027" y="4565"/>
                </a:lnTo>
                <a:lnTo>
                  <a:pt x="1055" y="4589"/>
                </a:lnTo>
                <a:lnTo>
                  <a:pt x="1084" y="4614"/>
                </a:lnTo>
                <a:lnTo>
                  <a:pt x="1114" y="4637"/>
                </a:lnTo>
                <a:lnTo>
                  <a:pt x="1144" y="4660"/>
                </a:lnTo>
                <a:lnTo>
                  <a:pt x="1176" y="4684"/>
                </a:lnTo>
                <a:lnTo>
                  <a:pt x="1208" y="4706"/>
                </a:lnTo>
                <a:lnTo>
                  <a:pt x="1242" y="4728"/>
                </a:lnTo>
                <a:lnTo>
                  <a:pt x="1276" y="4749"/>
                </a:lnTo>
                <a:lnTo>
                  <a:pt x="1309" y="4769"/>
                </a:lnTo>
                <a:lnTo>
                  <a:pt x="1344" y="4789"/>
                </a:lnTo>
                <a:lnTo>
                  <a:pt x="1380" y="4809"/>
                </a:lnTo>
                <a:lnTo>
                  <a:pt x="1416" y="4829"/>
                </a:lnTo>
                <a:lnTo>
                  <a:pt x="1453" y="4847"/>
                </a:lnTo>
                <a:lnTo>
                  <a:pt x="1490" y="4865"/>
                </a:lnTo>
                <a:lnTo>
                  <a:pt x="1529" y="4882"/>
                </a:lnTo>
                <a:lnTo>
                  <a:pt x="1568" y="4899"/>
                </a:lnTo>
                <a:lnTo>
                  <a:pt x="1608" y="4916"/>
                </a:lnTo>
                <a:lnTo>
                  <a:pt x="1647" y="4931"/>
                </a:lnTo>
                <a:lnTo>
                  <a:pt x="1688" y="4947"/>
                </a:lnTo>
                <a:lnTo>
                  <a:pt x="1728" y="4961"/>
                </a:lnTo>
                <a:lnTo>
                  <a:pt x="1770" y="4975"/>
                </a:lnTo>
                <a:lnTo>
                  <a:pt x="1855" y="5002"/>
                </a:lnTo>
                <a:lnTo>
                  <a:pt x="1941" y="5026"/>
                </a:lnTo>
                <a:lnTo>
                  <a:pt x="2029" y="5048"/>
                </a:lnTo>
                <a:lnTo>
                  <a:pt x="2120" y="5068"/>
                </a:lnTo>
                <a:lnTo>
                  <a:pt x="2211" y="5085"/>
                </a:lnTo>
                <a:lnTo>
                  <a:pt x="2304" y="5100"/>
                </a:lnTo>
                <a:close/>
                <a:moveTo>
                  <a:pt x="2991" y="1292"/>
                </a:moveTo>
                <a:lnTo>
                  <a:pt x="2991" y="3627"/>
                </a:lnTo>
                <a:lnTo>
                  <a:pt x="5477" y="3627"/>
                </a:lnTo>
                <a:lnTo>
                  <a:pt x="5477" y="1292"/>
                </a:lnTo>
                <a:lnTo>
                  <a:pt x="2991" y="1292"/>
                </a:lnTo>
                <a:close/>
                <a:moveTo>
                  <a:pt x="4212" y="3997"/>
                </a:moveTo>
                <a:lnTo>
                  <a:pt x="4212" y="3997"/>
                </a:lnTo>
                <a:lnTo>
                  <a:pt x="4181" y="3998"/>
                </a:lnTo>
                <a:lnTo>
                  <a:pt x="4150" y="4000"/>
                </a:lnTo>
                <a:lnTo>
                  <a:pt x="4120" y="4003"/>
                </a:lnTo>
                <a:lnTo>
                  <a:pt x="4090" y="4007"/>
                </a:lnTo>
                <a:lnTo>
                  <a:pt x="4060" y="4012"/>
                </a:lnTo>
                <a:lnTo>
                  <a:pt x="4030" y="4018"/>
                </a:lnTo>
                <a:lnTo>
                  <a:pt x="4001" y="4026"/>
                </a:lnTo>
                <a:lnTo>
                  <a:pt x="3974" y="4034"/>
                </a:lnTo>
                <a:lnTo>
                  <a:pt x="3946" y="4044"/>
                </a:lnTo>
                <a:lnTo>
                  <a:pt x="3918" y="4054"/>
                </a:lnTo>
                <a:lnTo>
                  <a:pt x="3891" y="4066"/>
                </a:lnTo>
                <a:lnTo>
                  <a:pt x="3864" y="4079"/>
                </a:lnTo>
                <a:lnTo>
                  <a:pt x="3839" y="4091"/>
                </a:lnTo>
                <a:lnTo>
                  <a:pt x="3813" y="4105"/>
                </a:lnTo>
                <a:lnTo>
                  <a:pt x="3789" y="4120"/>
                </a:lnTo>
                <a:lnTo>
                  <a:pt x="3765" y="4137"/>
                </a:lnTo>
                <a:lnTo>
                  <a:pt x="4227" y="4599"/>
                </a:lnTo>
                <a:lnTo>
                  <a:pt x="4676" y="4149"/>
                </a:lnTo>
                <a:lnTo>
                  <a:pt x="4652" y="4132"/>
                </a:lnTo>
                <a:lnTo>
                  <a:pt x="4626" y="4116"/>
                </a:lnTo>
                <a:lnTo>
                  <a:pt x="4599" y="4100"/>
                </a:lnTo>
                <a:lnTo>
                  <a:pt x="4573" y="4086"/>
                </a:lnTo>
                <a:lnTo>
                  <a:pt x="4546" y="4072"/>
                </a:lnTo>
                <a:lnTo>
                  <a:pt x="4518" y="4059"/>
                </a:lnTo>
                <a:lnTo>
                  <a:pt x="4489" y="4048"/>
                </a:lnTo>
                <a:lnTo>
                  <a:pt x="4460" y="4038"/>
                </a:lnTo>
                <a:lnTo>
                  <a:pt x="4431" y="4029"/>
                </a:lnTo>
                <a:lnTo>
                  <a:pt x="4401" y="4021"/>
                </a:lnTo>
                <a:lnTo>
                  <a:pt x="4371" y="4014"/>
                </a:lnTo>
                <a:lnTo>
                  <a:pt x="4339" y="4008"/>
                </a:lnTo>
                <a:lnTo>
                  <a:pt x="4308" y="4003"/>
                </a:lnTo>
                <a:lnTo>
                  <a:pt x="4277" y="4000"/>
                </a:lnTo>
                <a:lnTo>
                  <a:pt x="4244" y="3998"/>
                </a:lnTo>
                <a:lnTo>
                  <a:pt x="4212" y="3997"/>
                </a:lnTo>
                <a:close/>
                <a:moveTo>
                  <a:pt x="4858" y="4335"/>
                </a:moveTo>
                <a:lnTo>
                  <a:pt x="4411" y="4783"/>
                </a:lnTo>
                <a:lnTo>
                  <a:pt x="4859" y="5233"/>
                </a:lnTo>
                <a:lnTo>
                  <a:pt x="4876" y="5208"/>
                </a:lnTo>
                <a:lnTo>
                  <a:pt x="4891" y="5184"/>
                </a:lnTo>
                <a:lnTo>
                  <a:pt x="4906" y="5158"/>
                </a:lnTo>
                <a:lnTo>
                  <a:pt x="4919" y="5133"/>
                </a:lnTo>
                <a:lnTo>
                  <a:pt x="4931" y="5106"/>
                </a:lnTo>
                <a:lnTo>
                  <a:pt x="4943" y="5079"/>
                </a:lnTo>
                <a:lnTo>
                  <a:pt x="4953" y="5052"/>
                </a:lnTo>
                <a:lnTo>
                  <a:pt x="4963" y="5024"/>
                </a:lnTo>
                <a:lnTo>
                  <a:pt x="4971" y="4995"/>
                </a:lnTo>
                <a:lnTo>
                  <a:pt x="4978" y="4967"/>
                </a:lnTo>
                <a:lnTo>
                  <a:pt x="4985" y="4937"/>
                </a:lnTo>
                <a:lnTo>
                  <a:pt x="4989" y="4908"/>
                </a:lnTo>
                <a:lnTo>
                  <a:pt x="4994" y="4877"/>
                </a:lnTo>
                <a:lnTo>
                  <a:pt x="4996" y="4847"/>
                </a:lnTo>
                <a:lnTo>
                  <a:pt x="4999" y="4816"/>
                </a:lnTo>
                <a:lnTo>
                  <a:pt x="5000" y="4786"/>
                </a:lnTo>
                <a:lnTo>
                  <a:pt x="4999" y="4754"/>
                </a:lnTo>
                <a:lnTo>
                  <a:pt x="4996" y="4723"/>
                </a:lnTo>
                <a:lnTo>
                  <a:pt x="4994" y="4693"/>
                </a:lnTo>
                <a:lnTo>
                  <a:pt x="4989" y="4663"/>
                </a:lnTo>
                <a:lnTo>
                  <a:pt x="4985" y="4632"/>
                </a:lnTo>
                <a:lnTo>
                  <a:pt x="4978" y="4603"/>
                </a:lnTo>
                <a:lnTo>
                  <a:pt x="4971" y="4574"/>
                </a:lnTo>
                <a:lnTo>
                  <a:pt x="4963" y="4545"/>
                </a:lnTo>
                <a:lnTo>
                  <a:pt x="4952" y="4517"/>
                </a:lnTo>
                <a:lnTo>
                  <a:pt x="4942" y="4490"/>
                </a:lnTo>
                <a:lnTo>
                  <a:pt x="4930" y="4463"/>
                </a:lnTo>
                <a:lnTo>
                  <a:pt x="4917" y="4436"/>
                </a:lnTo>
                <a:lnTo>
                  <a:pt x="4905" y="4411"/>
                </a:lnTo>
                <a:lnTo>
                  <a:pt x="4890" y="4385"/>
                </a:lnTo>
                <a:lnTo>
                  <a:pt x="4874" y="4360"/>
                </a:lnTo>
                <a:lnTo>
                  <a:pt x="4858" y="4335"/>
                </a:lnTo>
                <a:close/>
                <a:moveTo>
                  <a:pt x="4678" y="5420"/>
                </a:moveTo>
                <a:lnTo>
                  <a:pt x="4227" y="4968"/>
                </a:lnTo>
                <a:lnTo>
                  <a:pt x="3762" y="5431"/>
                </a:lnTo>
                <a:lnTo>
                  <a:pt x="3787" y="5448"/>
                </a:lnTo>
                <a:lnTo>
                  <a:pt x="3811" y="5464"/>
                </a:lnTo>
                <a:lnTo>
                  <a:pt x="3837" y="5478"/>
                </a:lnTo>
                <a:lnTo>
                  <a:pt x="3863" y="5492"/>
                </a:lnTo>
                <a:lnTo>
                  <a:pt x="3890" y="5503"/>
                </a:lnTo>
                <a:lnTo>
                  <a:pt x="3917" y="5515"/>
                </a:lnTo>
                <a:lnTo>
                  <a:pt x="3945" y="5526"/>
                </a:lnTo>
                <a:lnTo>
                  <a:pt x="3972" y="5536"/>
                </a:lnTo>
                <a:lnTo>
                  <a:pt x="4000" y="5544"/>
                </a:lnTo>
                <a:lnTo>
                  <a:pt x="4029" y="5552"/>
                </a:lnTo>
                <a:lnTo>
                  <a:pt x="4060" y="5558"/>
                </a:lnTo>
                <a:lnTo>
                  <a:pt x="4089" y="5564"/>
                </a:lnTo>
                <a:lnTo>
                  <a:pt x="4119" y="5567"/>
                </a:lnTo>
                <a:lnTo>
                  <a:pt x="4150" y="5571"/>
                </a:lnTo>
                <a:lnTo>
                  <a:pt x="4180" y="5572"/>
                </a:lnTo>
                <a:lnTo>
                  <a:pt x="4212" y="5573"/>
                </a:lnTo>
                <a:lnTo>
                  <a:pt x="4244" y="5572"/>
                </a:lnTo>
                <a:lnTo>
                  <a:pt x="4277" y="5569"/>
                </a:lnTo>
                <a:lnTo>
                  <a:pt x="4308" y="5567"/>
                </a:lnTo>
                <a:lnTo>
                  <a:pt x="4340" y="5562"/>
                </a:lnTo>
                <a:lnTo>
                  <a:pt x="4371" y="5557"/>
                </a:lnTo>
                <a:lnTo>
                  <a:pt x="4402" y="5550"/>
                </a:lnTo>
                <a:lnTo>
                  <a:pt x="4432" y="5542"/>
                </a:lnTo>
                <a:lnTo>
                  <a:pt x="4461" y="5532"/>
                </a:lnTo>
                <a:lnTo>
                  <a:pt x="4490" y="5522"/>
                </a:lnTo>
                <a:lnTo>
                  <a:pt x="4519" y="5510"/>
                </a:lnTo>
                <a:lnTo>
                  <a:pt x="4547" y="5497"/>
                </a:lnTo>
                <a:lnTo>
                  <a:pt x="4575" y="5485"/>
                </a:lnTo>
                <a:lnTo>
                  <a:pt x="4602" y="5470"/>
                </a:lnTo>
                <a:lnTo>
                  <a:pt x="4627" y="5454"/>
                </a:lnTo>
                <a:lnTo>
                  <a:pt x="4653" y="5437"/>
                </a:lnTo>
                <a:lnTo>
                  <a:pt x="4678" y="5420"/>
                </a:lnTo>
                <a:close/>
                <a:moveTo>
                  <a:pt x="3575" y="5249"/>
                </a:moveTo>
                <a:lnTo>
                  <a:pt x="4042" y="4783"/>
                </a:lnTo>
                <a:lnTo>
                  <a:pt x="3578" y="4319"/>
                </a:lnTo>
                <a:lnTo>
                  <a:pt x="3560" y="4343"/>
                </a:lnTo>
                <a:lnTo>
                  <a:pt x="3543" y="4369"/>
                </a:lnTo>
                <a:lnTo>
                  <a:pt x="3528" y="4396"/>
                </a:lnTo>
                <a:lnTo>
                  <a:pt x="3513" y="4422"/>
                </a:lnTo>
                <a:lnTo>
                  <a:pt x="3499" y="4450"/>
                </a:lnTo>
                <a:lnTo>
                  <a:pt x="3487" y="4478"/>
                </a:lnTo>
                <a:lnTo>
                  <a:pt x="3476" y="4506"/>
                </a:lnTo>
                <a:lnTo>
                  <a:pt x="3465" y="4536"/>
                </a:lnTo>
                <a:lnTo>
                  <a:pt x="3456" y="4565"/>
                </a:lnTo>
                <a:lnTo>
                  <a:pt x="3448" y="4595"/>
                </a:lnTo>
                <a:lnTo>
                  <a:pt x="3441" y="4625"/>
                </a:lnTo>
                <a:lnTo>
                  <a:pt x="3435" y="4657"/>
                </a:lnTo>
                <a:lnTo>
                  <a:pt x="3430" y="4688"/>
                </a:lnTo>
                <a:lnTo>
                  <a:pt x="3427" y="4721"/>
                </a:lnTo>
                <a:lnTo>
                  <a:pt x="3426" y="4752"/>
                </a:lnTo>
                <a:lnTo>
                  <a:pt x="3424" y="4786"/>
                </a:lnTo>
                <a:lnTo>
                  <a:pt x="3426" y="4817"/>
                </a:lnTo>
                <a:lnTo>
                  <a:pt x="3427" y="4850"/>
                </a:lnTo>
                <a:lnTo>
                  <a:pt x="3430" y="4881"/>
                </a:lnTo>
                <a:lnTo>
                  <a:pt x="3435" y="4912"/>
                </a:lnTo>
                <a:lnTo>
                  <a:pt x="3441" y="4944"/>
                </a:lnTo>
                <a:lnTo>
                  <a:pt x="3448" y="4974"/>
                </a:lnTo>
                <a:lnTo>
                  <a:pt x="3456" y="5004"/>
                </a:lnTo>
                <a:lnTo>
                  <a:pt x="3464" y="5033"/>
                </a:lnTo>
                <a:lnTo>
                  <a:pt x="3474" y="5062"/>
                </a:lnTo>
                <a:lnTo>
                  <a:pt x="3486" y="5091"/>
                </a:lnTo>
                <a:lnTo>
                  <a:pt x="3499" y="5119"/>
                </a:lnTo>
                <a:lnTo>
                  <a:pt x="3512" y="5147"/>
                </a:lnTo>
                <a:lnTo>
                  <a:pt x="3527" y="5174"/>
                </a:lnTo>
                <a:lnTo>
                  <a:pt x="3542" y="5199"/>
                </a:lnTo>
                <a:lnTo>
                  <a:pt x="3558" y="5225"/>
                </a:lnTo>
                <a:lnTo>
                  <a:pt x="3575" y="5249"/>
                </a:ln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矩形 20"/>
          <p:cNvSpPr/>
          <p:nvPr/>
        </p:nvSpPr>
        <p:spPr>
          <a:xfrm>
            <a:off x="194940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19" name="矩形 21"/>
          <p:cNvSpPr/>
          <p:nvPr/>
        </p:nvSpPr>
        <p:spPr>
          <a:xfrm>
            <a:off x="1949400" y="43592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0" name="矩形 22"/>
          <p:cNvSpPr/>
          <p:nvPr/>
        </p:nvSpPr>
        <p:spPr>
          <a:xfrm>
            <a:off x="530388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1" name="矩形 23"/>
          <p:cNvSpPr/>
          <p:nvPr/>
        </p:nvSpPr>
        <p:spPr>
          <a:xfrm>
            <a:off x="5345280" y="4359240"/>
            <a:ext cx="217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2" name="矩形 24"/>
          <p:cNvSpPr/>
          <p:nvPr/>
        </p:nvSpPr>
        <p:spPr>
          <a:xfrm>
            <a:off x="865836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3" name="矩形 25"/>
          <p:cNvSpPr/>
          <p:nvPr/>
        </p:nvSpPr>
        <p:spPr>
          <a:xfrm>
            <a:off x="8740800" y="4359240"/>
            <a:ext cx="2176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4" name="矩形 27"/>
          <p:cNvSpPr/>
          <p:nvPr/>
        </p:nvSpPr>
        <p:spPr>
          <a:xfrm>
            <a:off x="4677120" y="11494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7172"/>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7"/>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2</a:t>
            </a:r>
            <a:endParaRPr b="0" lang="en-US" sz="13800" spc="-1" strike="noStrike">
              <a:solidFill>
                <a:srgbClr val="000000"/>
              </a:solidFill>
              <a:latin typeface="Arial"/>
            </a:endParaRPr>
          </a:p>
        </p:txBody>
      </p:sp>
      <p:sp>
        <p:nvSpPr>
          <p:cNvPr id="228" name="矩形 8"/>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229" name="矩形 9"/>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07:27:00Z</dcterms:created>
  <dc:creator>123</dc:creator>
  <dc:description/>
  <cp:keywords/>
  <dc:language>en-US</dc:language>
  <cp:lastModifiedBy>Administrator</cp:lastModifiedBy>
  <dcterms:modified xsi:type="dcterms:W3CDTF">2016-07-25T09:08:49Z</dcterms:modified>
  <cp:revision>20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NXTAG2">
    <vt:lpwstr>0008001014000000000001024100</vt:lpwstr>
  </property>
</Properties>
</file>