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786-B233-468E-A9BA-C886F15C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A1A-53C2-413D-A131-75463538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30A-D589-43D3-8A6D-CF6F827F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4D2-C5BB-49B7-8D83-5BDE06FE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E1FD-3E29-4B10-A340-F7DD666D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94EB-CE14-4B77-85B6-BAEB9E49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F68E-782F-42D5-8E35-1A60B729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6B47-405F-436F-A692-B8E84F3C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2BAD-D0C0-4EA1-8E2D-DFB6BC2B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B4F9-8BAB-425D-BAF7-658682D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C27-E4A8-42D7-A57A-81BE511C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771-B1FF-445B-8F5D-36022D9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D688-2B8C-4F57-842D-1DE7019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FCED-EF9C-4DB0-975B-2296A0D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821B-6EC9-41A7-97F0-0797A85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C63-784C-42FB-AA7F-C71D4AB7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2871-0154-429A-8597-24836DA7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BB9-2CF3-41E8-B007-DD294A4D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C93-9EA0-446F-ACE0-1FD7757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B43-3F40-400D-AF48-A7CDAFFE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7CB-251D-42D3-9B14-088B156D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FB4-73D6-4206-A859-57E5B141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83C-80D8-4496-9F37-1CFD05DD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05E-CA2F-4316-8CAC-16992911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EEF5-B6EF-4AB1-9067-31C82ABFBD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32E2-6E54-408E-B651-4C8BA6D32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18576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251280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875480" y="3351960"/>
            <a:ext cx="382140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 rot="5400000">
            <a:off x="3361320" y="2032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9670200">
            <a:off x="2999160" y="48373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5971680" y="509940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29920" y="20764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111480" y="2276640"/>
            <a:ext cx="3041640" cy="302076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ee9de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1480" y="2271600"/>
            <a:ext cx="303588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118320" y="2272320"/>
            <a:ext cx="304092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 rot="5400000">
            <a:off x="3112200" y="2265480"/>
            <a:ext cx="3050640" cy="30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074400" y="3822480"/>
            <a:ext cx="1738440" cy="1637640"/>
            <a:chOff x="3074400" y="3822480"/>
            <a:chExt cx="1738440" cy="1637640"/>
          </a:xfrm>
        </p:grpSpPr>
        <p:sp>
          <p:nvSpPr>
            <p:cNvPr id="477" name=""/>
            <p:cNvSpPr/>
            <p:nvPr/>
          </p:nvSpPr>
          <p:spPr>
            <a:xfrm flipV="1" rot="19510800">
              <a:off x="3480840" y="378252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694800">
              <a:off x="3635640" y="3984120"/>
              <a:ext cx="340920" cy="15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399600">
              <a:off x="3746880" y="407916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7867400">
              <a:off x="3885480" y="418644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 rot="9670200">
            <a:off x="3115800" y="2269800"/>
            <a:ext cx="3040560" cy="30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5590b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8280" y="2278440"/>
            <a:ext cx="1680120" cy="1389240"/>
            <a:chOff x="4418280" y="2278440"/>
            <a:chExt cx="1680120" cy="1389240"/>
          </a:xfrm>
        </p:grpSpPr>
        <p:grpSp>
          <p:nvGrpSpPr>
            <p:cNvPr id="488" name=""/>
            <p:cNvGrpSpPr/>
            <p:nvPr/>
          </p:nvGrpSpPr>
          <p:grpSpPr>
            <a:xfrm>
              <a:off x="4785840" y="2278440"/>
              <a:ext cx="1312560" cy="1389240"/>
              <a:chOff x="4785840" y="2278440"/>
              <a:chExt cx="1312560" cy="1389240"/>
            </a:xfrm>
          </p:grpSpPr>
          <p:sp>
            <p:nvSpPr>
              <p:cNvPr id="489" name=""/>
              <p:cNvSpPr/>
              <p:nvPr/>
            </p:nvSpPr>
            <p:spPr>
              <a:xfrm flipV="1" rot="8983800">
                <a:off x="5535720" y="245772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8167800">
                <a:off x="5425560" y="2285640"/>
                <a:ext cx="27288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 rot="7872600">
                <a:off x="5342400" y="22028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7340400">
                <a:off x="5239800" y="2108160"/>
                <a:ext cx="27252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418280" y="2285280"/>
              <a:ext cx="1606320" cy="966960"/>
              <a:chOff x="4418280" y="2285280"/>
              <a:chExt cx="1606320" cy="966960"/>
            </a:xfrm>
          </p:grpSpPr>
          <p:sp>
            <p:nvSpPr>
              <p:cNvPr id="494" name=""/>
              <p:cNvSpPr/>
              <p:nvPr/>
            </p:nvSpPr>
            <p:spPr>
              <a:xfrm flipV="1" rot="7630800">
                <a:off x="5316120" y="216000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6814800">
                <a:off x="5148360" y="20430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6519600">
                <a:off x="5039280" y="199980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 rot="5987400">
                <a:off x="4908240" y="1952280"/>
                <a:ext cx="274320" cy="122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04" name="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07" name="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12" name="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17" name="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319"/>
              </a:gs>
              <a:gs pos="100000">
                <a:srgbClr val="c093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16200000">
            <a:off x="5753520" y="4637160"/>
            <a:ext cx="189540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cb1fe"/>
              </a:gs>
              <a:gs pos="100000">
                <a:srgbClr val="4585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412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48444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189480" y="380340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ee9b0"/>
                </a:gs>
                <a:gs pos="100000">
                  <a:srgbClr val="ffc31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0eeb6"/>
                </a:gs>
                <a:gs pos="100000">
                  <a:srgbClr val="a8d02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2a2a"/>
                </a:gs>
                <a:gs pos="50000">
                  <a:srgbClr val="ff7575"/>
                </a:gs>
                <a:gs pos="100000">
                  <a:srgbClr val="5b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ecfcf"/>
                </a:gs>
                <a:gs pos="100000">
                  <a:srgbClr val="ff757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122480" y="457524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182e42">
                  <a:alpha val="90196"/>
                </a:srgbClr>
              </a:gs>
              <a:gs pos="50000">
                <a:srgbClr val="5cb1fe">
                  <a:alpha val="45098"/>
                </a:srgbClr>
              </a:gs>
              <a:gs pos="100000">
                <a:srgbClr val="182e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21504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b360a">
                  <a:alpha val="90196"/>
                </a:srgbClr>
              </a:gs>
              <a:gs pos="50000">
                <a:srgbClr val="a8d02a">
                  <a:alpha val="45098"/>
                </a:srgbClr>
              </a:gs>
              <a:gs pos="100000">
                <a:srgbClr val="2b36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576" name=""/>
            <p:cNvGrpSpPr/>
            <p:nvPr/>
          </p:nvGrpSpPr>
          <p:grpSpPr>
            <a:xfrm>
              <a:off x="6549120" y="5586480"/>
              <a:ext cx="1081440" cy="491040"/>
              <a:chOff x="6549120" y="5586480"/>
              <a:chExt cx="1081440" cy="491040"/>
            </a:xfrm>
          </p:grpSpPr>
          <p:sp>
            <p:nvSpPr>
              <p:cNvPr id="577" name=""/>
              <p:cNvSpPr/>
              <p:nvPr/>
            </p:nvSpPr>
            <p:spPr>
              <a:xfrm flipH="1" flipV="1" rot="3964800">
                <a:off x="713844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 rot="4780200">
                <a:off x="701712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 rot="5076000">
                <a:off x="694188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 rot="5608200">
                <a:off x="685224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320520" y="5592600"/>
              <a:ext cx="1079640" cy="515880"/>
              <a:chOff x="6320520" y="5592600"/>
              <a:chExt cx="1079640" cy="515880"/>
            </a:xfrm>
          </p:grpSpPr>
          <p:sp>
            <p:nvSpPr>
              <p:cNvPr id="582" name=""/>
              <p:cNvSpPr/>
              <p:nvPr/>
            </p:nvSpPr>
            <p:spPr>
              <a:xfrm flipH="1" flipV="1" rot="5317800">
                <a:off x="690912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flipV="1" rot="6133800">
                <a:off x="677916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 rot="6429000">
                <a:off x="670644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743280" y="457524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423306">
                  <a:alpha val="90196"/>
                </a:srgbClr>
              </a:gs>
              <a:gs pos="50000">
                <a:srgbClr val="ffc319">
                  <a:alpha val="45098"/>
                </a:srgbClr>
              </a:gs>
              <a:gs pos="100000">
                <a:srgbClr val="42330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591" name=""/>
            <p:cNvGrpSpPr/>
            <p:nvPr/>
          </p:nvGrpSpPr>
          <p:grpSpPr>
            <a:xfrm>
              <a:off x="4077360" y="5586480"/>
              <a:ext cx="1081440" cy="491040"/>
              <a:chOff x="4077360" y="5586480"/>
              <a:chExt cx="1081440" cy="491040"/>
            </a:xfrm>
          </p:grpSpPr>
          <p:sp>
            <p:nvSpPr>
              <p:cNvPr id="592" name=""/>
              <p:cNvSpPr/>
              <p:nvPr/>
            </p:nvSpPr>
            <p:spPr>
              <a:xfrm flipH="1" flipV="1" rot="3964800">
                <a:off x="466668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 rot="4780200">
                <a:off x="454536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 rot="5076000">
                <a:off x="447012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 rot="5608200">
                <a:off x="438048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848760" y="5592600"/>
              <a:ext cx="1079640" cy="515880"/>
              <a:chOff x="3848760" y="5592600"/>
              <a:chExt cx="1079640" cy="515880"/>
            </a:xfrm>
          </p:grpSpPr>
          <p:sp>
            <p:nvSpPr>
              <p:cNvPr id="597" name=""/>
              <p:cNvSpPr/>
              <p:nvPr/>
            </p:nvSpPr>
            <p:spPr>
              <a:xfrm flipH="1" flipV="1" rot="5317800">
                <a:off x="443736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 rot="6133800">
                <a:off x="430740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 rot="6429000">
                <a:off x="423468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06" name=""/>
            <p:cNvGrpSpPr/>
            <p:nvPr/>
          </p:nvGrpSpPr>
          <p:grpSpPr>
            <a:xfrm>
              <a:off x="1445400" y="5586480"/>
              <a:ext cx="1081440" cy="491040"/>
              <a:chOff x="1445400" y="5586480"/>
              <a:chExt cx="1081440" cy="491040"/>
            </a:xfrm>
          </p:grpSpPr>
          <p:sp>
            <p:nvSpPr>
              <p:cNvPr id="607" name=""/>
              <p:cNvSpPr/>
              <p:nvPr/>
            </p:nvSpPr>
            <p:spPr>
              <a:xfrm flipH="1" flipV="1" rot="3964800">
                <a:off x="2034720" y="543924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4780200">
                <a:off x="1913400" y="548712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5076000">
                <a:off x="1838160" y="549648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 rot="5608200">
                <a:off x="1748520" y="550620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216800" y="5592600"/>
              <a:ext cx="1079640" cy="515880"/>
              <a:chOff x="1216800" y="5592600"/>
              <a:chExt cx="1079640" cy="515880"/>
            </a:xfrm>
          </p:grpSpPr>
          <p:sp>
            <p:nvSpPr>
              <p:cNvPr id="612" name=""/>
              <p:cNvSpPr/>
              <p:nvPr/>
            </p:nvSpPr>
            <p:spPr>
              <a:xfrm flipH="1" flipV="1" rot="5317800">
                <a:off x="1805400" y="55047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 rot="6133800">
                <a:off x="1675440" y="5502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 rot="6429000">
                <a:off x="1602720" y="548388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17" name="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18" name="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48640" y="154800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49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0000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819080" y="861840"/>
            <a:ext cx="4983480" cy="3741840"/>
            <a:chOff x="1819080" y="861840"/>
            <a:chExt cx="4983480" cy="3741840"/>
          </a:xfrm>
        </p:grpSpPr>
        <p:sp>
          <p:nvSpPr>
            <p:cNvPr id="623" name="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>
                    <a:alpha val="6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341440" y="1869840"/>
              <a:ext cx="3857400" cy="19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ea6a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20602200">
              <a:off x="2377800" y="186336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cb1fe"/>
                </a:gs>
                <a:gs pos="100000">
                  <a:srgbClr val="3f7b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01600">
              <a:off x="2344320" y="1874160"/>
              <a:ext cx="3845520" cy="189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88c12"/>
                </a:gs>
                <a:gs pos="100000">
                  <a:srgbClr val="ffc31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rot="20602200">
              <a:off x="2352600" y="1868400"/>
              <a:ext cx="3859560" cy="195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3535"/>
                </a:gs>
                <a:gs pos="100000">
                  <a:srgbClr val="ff757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539200">
              <a:off x="2096280" y="1474560"/>
              <a:ext cx="4428720" cy="251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4d5f1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d6e8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9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51" name="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52" name="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3292560" y="1553040"/>
            <a:ext cx="1907640" cy="50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3462120" y="142740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b9ddfd"/>
              </a:gs>
              <a:gs pos="100000">
                <a:srgbClr val="5cb1f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3378600" y="1540800"/>
            <a:ext cx="175572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52680" y="2855880"/>
            <a:ext cx="5844240" cy="2289960"/>
            <a:chOff x="1552680" y="2855880"/>
            <a:chExt cx="5844240" cy="2289960"/>
          </a:xfrm>
        </p:grpSpPr>
        <p:sp>
          <p:nvSpPr>
            <p:cNvPr id="675" name=""/>
            <p:cNvSpPr/>
            <p:nvPr/>
          </p:nvSpPr>
          <p:spPr>
            <a:xfrm rot="16200000">
              <a:off x="3329640" y="1078560"/>
              <a:ext cx="2289960" cy="58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82630c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16200000">
            <a:off x="3342240" y="873720"/>
            <a:ext cx="2291760" cy="58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688" name="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691" name="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6200000">
            <a:off x="2795760" y="235908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2904840" y="228744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9eaa4"/>
              </a:gs>
              <a:gs pos="100000">
                <a:srgbClr val="a8d0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2852640" y="237528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ee0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2844720" y="2364840"/>
            <a:ext cx="122616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fec6c6"/>
              </a:gs>
              <a:gs pos="100000">
                <a:srgbClr val="ff75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2813400" y="204336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f5a81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822400" y="1901880"/>
            <a:ext cx="159984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dde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endCxn id="709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endCxn id="702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14" name="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a5d3f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17" name="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3e7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20" name="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fee2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23" name="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7575"/>
                </a:gs>
                <a:gs pos="100000">
                  <a:srgbClr val="fe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5" name=""/>
          <p:cNvCxnSpPr>
            <a:stCxn id="721" idx="0"/>
            <a:endCxn id="701" idx="3"/>
          </p:cNvCxnSpPr>
          <p:nvPr/>
        </p:nvCxnSpPr>
        <p:spPr>
          <a:xfrm flipV="1" rot="16200000">
            <a:off x="4818240" y="4408200"/>
            <a:ext cx="561240" cy="27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24" idx="3"/>
            <a:endCxn id="712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31" name="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32" name="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86600" y="2730960"/>
              <a:ext cx="299160" cy="310680"/>
              <a:chOff x="2586600" y="2730960"/>
              <a:chExt cx="299160" cy="310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2594520" y="2730960"/>
                <a:ext cx="291240" cy="237240"/>
                <a:chOff x="2594520" y="2730960"/>
                <a:chExt cx="291240" cy="23724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rot="13396200">
                  <a:off x="265824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586600" y="2749320"/>
                <a:ext cx="235800" cy="292320"/>
                <a:chOff x="2586600" y="2749320"/>
                <a:chExt cx="235800" cy="292320"/>
              </a:xfrm>
            </p:grpSpPr>
            <p:sp>
              <p:nvSpPr>
                <p:cNvPr id="745" name="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12043800">
                  <a:off x="2625840" y="2814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430720" y="3195360"/>
              <a:ext cx="372240" cy="449280"/>
              <a:chOff x="2430720" y="3195360"/>
              <a:chExt cx="372240" cy="4492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2430720" y="3195360"/>
                <a:ext cx="372240" cy="352080"/>
                <a:chOff x="2430720" y="3195360"/>
                <a:chExt cx="372240" cy="352080"/>
              </a:xfrm>
            </p:grpSpPr>
            <p:sp>
              <p:nvSpPr>
                <p:cNvPr id="751" name="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rot="13608600">
                  <a:off x="2556360" y="31795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 rot="12781200">
                  <a:off x="2511360" y="32306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2432880" y="3220200"/>
                <a:ext cx="266400" cy="424440"/>
                <a:chOff x="2432880" y="3220200"/>
                <a:chExt cx="266400" cy="42444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rot="12256200">
                  <a:off x="2494800" y="325584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rot="11428200">
                  <a:off x="2472480" y="33192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62" name="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63" name="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771" name="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14224200">
                  <a:off x="222948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13928400">
                  <a:off x="2214000" y="27302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12871200">
                  <a:off x="218160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782" name="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787" name="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3f7bb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cc7fd"/>
              </a:gs>
              <a:gs pos="100000">
                <a:srgbClr val="5cb1f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795" name="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796" name="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a5175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74901d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1dd69"/>
              </a:gs>
              <a:gs pos="100000">
                <a:srgbClr val="a8d02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08" name="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09" name="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d5f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b18711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d45d"/>
              </a:gs>
              <a:gs pos="100000">
                <a:srgbClr val="ffc31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21" name="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22" name="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5590b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a51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d5f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5590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5353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45" name="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895"/>
                </a:gs>
                <a:gs pos="50000">
                  <a:srgbClr val="5cb1fe"/>
                </a:gs>
                <a:gs pos="100000">
                  <a:srgbClr val="366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f7bb0"/>
                </a:gs>
                <a:gs pos="50000">
                  <a:srgbClr val="5cb1fe"/>
                </a:gs>
                <a:gs pos="100000">
                  <a:srgbClr val="3f7b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54" name="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6730e"/>
                </a:gs>
                <a:gs pos="50000">
                  <a:srgbClr val="ffc319"/>
                </a:gs>
                <a:gs pos="100000">
                  <a:srgbClr val="9673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8711"/>
                </a:gs>
                <a:gs pos="50000">
                  <a:srgbClr val="ffc319"/>
                </a:gs>
                <a:gs pos="100000">
                  <a:srgbClr val="b187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c319"/>
              </a:gs>
              <a:gs pos="100000">
                <a:srgbClr val="fed155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5cb1fe"/>
              </a:gs>
              <a:gs pos="100000">
                <a:srgbClr val="86c4fd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f7575"/>
              </a:gs>
              <a:gs pos="100000">
                <a:srgbClr val="fe989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86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86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86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86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69560" y="297036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914560" y="1547640"/>
            <a:ext cx="1171080" cy="1175400"/>
            <a:chOff x="2914560" y="1547640"/>
            <a:chExt cx="1171080" cy="1175400"/>
          </a:xfrm>
        </p:grpSpPr>
        <p:sp>
          <p:nvSpPr>
            <p:cNvPr id="209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4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3476880" y="2021400"/>
                  <a:ext cx="591120" cy="694080"/>
                  <a:chOff x="3476880" y="2021400"/>
                  <a:chExt cx="591120" cy="694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flipV="1" rot="2344200">
                    <a:off x="3760920" y="2107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flipV="1" rot="2640000">
                    <a:off x="3723840" y="2149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flipV="1" rot="3172200">
                    <a:off x="3678480" y="2196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flipV="1" rot="3697200">
                    <a:off x="363708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3407760" y="2052720"/>
              <a:ext cx="677880" cy="618120"/>
              <a:chOff x="3407760" y="2052720"/>
              <a:chExt cx="677880" cy="6181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564360" y="2052720"/>
                <a:ext cx="521280" cy="611280"/>
                <a:chOff x="3564360" y="2052720"/>
                <a:chExt cx="521280" cy="611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 rot="1528800">
                  <a:off x="3854160" y="2054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2344200">
                  <a:off x="3815280" y="212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2640000">
                  <a:off x="3782160" y="2165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 flipV="1" rot="3172200">
                  <a:off x="3741480" y="2207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7760" y="2220840"/>
                <a:ext cx="655200" cy="450000"/>
                <a:chOff x="3407760" y="2220840"/>
                <a:chExt cx="655200" cy="450000"/>
              </a:xfrm>
            </p:grpSpPr>
            <p:sp>
              <p:nvSpPr>
                <p:cNvPr id="232" name=""/>
                <p:cNvSpPr/>
                <p:nvPr/>
              </p:nvSpPr>
              <p:spPr>
                <a:xfrm flipH="1" flipV="1" rot="2881800">
                  <a:off x="3769200" y="2182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 rot="3697200">
                  <a:off x="3704400" y="223668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 flipV="1" rot="3993000">
                  <a:off x="3660120" y="225828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 rot="4525200">
                  <a:off x="3606480" y="22816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830240" y="2830680"/>
            <a:ext cx="1171080" cy="1175400"/>
            <a:chOff x="1830240" y="2830680"/>
            <a:chExt cx="1171080" cy="1175400"/>
          </a:xfrm>
        </p:grpSpPr>
        <p:sp>
          <p:nvSpPr>
            <p:cNvPr id="238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3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2392560" y="3304440"/>
                  <a:ext cx="591120" cy="694080"/>
                  <a:chOff x="2392560" y="3304440"/>
                  <a:chExt cx="591120" cy="6940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flipV="1" rot="2344200">
                    <a:off x="2676600" y="3390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 rot="2640000">
                    <a:off x="2639520" y="3432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flipV="1" rot="3172200">
                    <a:off x="2594160" y="3479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flipV="1" rot="3697200">
                    <a:off x="255276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"/>
            <p:cNvGrpSpPr/>
            <p:nvPr/>
          </p:nvGrpSpPr>
          <p:grpSpPr>
            <a:xfrm>
              <a:off x="2323440" y="3335760"/>
              <a:ext cx="677880" cy="618120"/>
              <a:chOff x="2323440" y="3335760"/>
              <a:chExt cx="677880" cy="618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2480040" y="3335760"/>
                <a:ext cx="521280" cy="611280"/>
                <a:chOff x="2480040" y="3335760"/>
                <a:chExt cx="521280" cy="611280"/>
              </a:xfrm>
            </p:grpSpPr>
            <p:sp>
              <p:nvSpPr>
                <p:cNvPr id="256" name=""/>
                <p:cNvSpPr/>
                <p:nvPr/>
              </p:nvSpPr>
              <p:spPr>
                <a:xfrm flipH="1" flipV="1" rot="1528800">
                  <a:off x="2769840" y="333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2344200">
                  <a:off x="2730960" y="3411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2640000">
                  <a:off x="2697840" y="344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 rot="3172200">
                  <a:off x="2657160" y="349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323440" y="3503880"/>
                <a:ext cx="655200" cy="450000"/>
                <a:chOff x="2323440" y="3503880"/>
                <a:chExt cx="655200" cy="450000"/>
              </a:xfrm>
            </p:grpSpPr>
            <p:sp>
              <p:nvSpPr>
                <p:cNvPr id="261" name=""/>
                <p:cNvSpPr/>
                <p:nvPr/>
              </p:nvSpPr>
              <p:spPr>
                <a:xfrm flipH="1" flipV="1" rot="2881800">
                  <a:off x="2684880" y="346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3697200">
                  <a:off x="2620080" y="351972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3993000">
                  <a:off x="2575800" y="35413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 rot="4525200">
                  <a:off x="2522160" y="3564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3360" y="5178600"/>
            <a:ext cx="1170360" cy="1175400"/>
            <a:chOff x="2943360" y="5178600"/>
            <a:chExt cx="1170360" cy="1175400"/>
          </a:xfrm>
        </p:grpSpPr>
        <p:sp>
          <p:nvSpPr>
            <p:cNvPr id="267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05320" y="5652360"/>
                  <a:ext cx="591120" cy="694080"/>
                  <a:chOff x="3505320" y="5652360"/>
                  <a:chExt cx="591120" cy="6940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 rot="2344200">
                    <a:off x="3789360" y="57387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2640000">
                    <a:off x="3752280" y="5780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172200">
                    <a:off x="3706920" y="5827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 rot="3697200">
                    <a:off x="366552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3435480" y="5683320"/>
              <a:ext cx="678240" cy="618120"/>
              <a:chOff x="3435480" y="5683320"/>
              <a:chExt cx="678240" cy="6181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3592440" y="5683320"/>
                <a:ext cx="521280" cy="611640"/>
                <a:chOff x="3592440" y="5683320"/>
                <a:chExt cx="521280" cy="611640"/>
              </a:xfrm>
            </p:grpSpPr>
            <p:sp>
              <p:nvSpPr>
                <p:cNvPr id="285" name=""/>
                <p:cNvSpPr/>
                <p:nvPr/>
              </p:nvSpPr>
              <p:spPr>
                <a:xfrm flipH="1" flipV="1" rot="1528800">
                  <a:off x="3881880" y="5685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 rot="2344200">
                  <a:off x="3843360" y="57596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flipV="1" rot="2640000">
                  <a:off x="3810960" y="57960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 flipV="1" rot="3172200">
                  <a:off x="3770280" y="58377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435480" y="5851800"/>
                <a:ext cx="655200" cy="449640"/>
                <a:chOff x="3435480" y="5851800"/>
                <a:chExt cx="655200" cy="44964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flipV="1" rot="2881800">
                  <a:off x="3797640" y="5813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3697200">
                  <a:off x="3732840" y="58680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3993000">
                  <a:off x="3688920" y="5888160"/>
                  <a:ext cx="12456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 rot="4525200">
                  <a:off x="3634200" y="59119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7960" y="3719520"/>
            <a:ext cx="1171080" cy="1175400"/>
            <a:chOff x="5187960" y="3719520"/>
            <a:chExt cx="1171080" cy="1175400"/>
          </a:xfrm>
        </p:grpSpPr>
        <p:sp>
          <p:nvSpPr>
            <p:cNvPr id="296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750280" y="4193280"/>
                  <a:ext cx="591120" cy="694080"/>
                  <a:chOff x="5750280" y="4193280"/>
                  <a:chExt cx="591120" cy="6940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 rot="2344200">
                    <a:off x="6034320" y="42796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2640000">
                    <a:off x="5997240" y="4321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172200">
                    <a:off x="5951880" y="4368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 rot="3697200">
                    <a:off x="591048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2" name=""/>
            <p:cNvGrpSpPr/>
            <p:nvPr/>
          </p:nvGrpSpPr>
          <p:grpSpPr>
            <a:xfrm>
              <a:off x="5681160" y="4224600"/>
              <a:ext cx="677880" cy="618120"/>
              <a:chOff x="5681160" y="4224600"/>
              <a:chExt cx="677880" cy="6181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837760" y="4224600"/>
                <a:ext cx="521280" cy="611280"/>
                <a:chOff x="5837760" y="4224600"/>
                <a:chExt cx="521280" cy="6112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1528800">
                  <a:off x="6127560" y="4226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2344200">
                  <a:off x="6088680" y="430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2640000">
                  <a:off x="6055560" y="4337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3172200">
                  <a:off x="6014880" y="4379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81160" y="4392720"/>
                <a:ext cx="655200" cy="450000"/>
                <a:chOff x="5681160" y="4392720"/>
                <a:chExt cx="655200" cy="45000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2881800">
                  <a:off x="6042600" y="4354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3697200">
                  <a:off x="5977800" y="440856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3993000">
                  <a:off x="5933520" y="4430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4525200">
                  <a:off x="5879880" y="4453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1557360"/>
            <a:ext cx="1171080" cy="1175400"/>
            <a:chOff x="5181480" y="1557360"/>
            <a:chExt cx="1171080" cy="1175400"/>
          </a:xfrm>
        </p:grpSpPr>
        <p:sp>
          <p:nvSpPr>
            <p:cNvPr id="325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9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0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5743800" y="2031120"/>
                  <a:ext cx="591120" cy="694080"/>
                  <a:chOff x="5743800" y="2031120"/>
                  <a:chExt cx="591120" cy="6940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flipV="1" rot="2344200">
                    <a:off x="6027840" y="2117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2640000">
                    <a:off x="5990760" y="215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172200">
                    <a:off x="5945400" y="2206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 rot="3697200">
                    <a:off x="590400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1" name=""/>
            <p:cNvGrpSpPr/>
            <p:nvPr/>
          </p:nvGrpSpPr>
          <p:grpSpPr>
            <a:xfrm>
              <a:off x="5674680" y="2062440"/>
              <a:ext cx="677880" cy="618120"/>
              <a:chOff x="5674680" y="2062440"/>
              <a:chExt cx="677880" cy="6181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5831280" y="2062440"/>
                <a:ext cx="521280" cy="611280"/>
                <a:chOff x="5831280" y="2062440"/>
                <a:chExt cx="521280" cy="6112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flipV="1" rot="1528800">
                  <a:off x="6121080" y="20642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 rot="2344200">
                  <a:off x="6082200" y="2138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2640000">
                  <a:off x="6049080" y="21751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3172200">
                  <a:off x="6008400" y="2216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674680" y="2230560"/>
                <a:ext cx="655200" cy="450000"/>
                <a:chOff x="5674680" y="2230560"/>
                <a:chExt cx="655200" cy="4500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2881800">
                  <a:off x="6036120" y="219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3697200">
                  <a:off x="5971320" y="2246400"/>
                  <a:ext cx="12492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3993000">
                  <a:off x="5927040" y="22680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4525200">
                  <a:off x="5873400" y="2291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09000" y="3445920"/>
              <a:ext cx="225720" cy="500760"/>
              <a:chOff x="4509000" y="3445920"/>
              <a:chExt cx="225720" cy="500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4515120" y="3538800"/>
                <a:ext cx="219600" cy="407880"/>
                <a:chOff x="4515120" y="3538800"/>
                <a:chExt cx="219600" cy="40788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9757200">
                  <a:off x="4562640" y="3602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0053000">
                  <a:off x="4556160" y="35740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0585200">
                  <a:off x="4548600" y="3540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509000" y="3445920"/>
                <a:ext cx="169560" cy="423000"/>
                <a:chOff x="4509000" y="3445920"/>
                <a:chExt cx="169560" cy="42300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1110200">
                  <a:off x="4545360" y="35121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1406000">
                  <a:off x="4550760" y="34833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1938200">
                  <a:off x="4555800" y="344952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c3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54d09"/>
              </a:gs>
              <a:gs pos="50000">
                <a:srgbClr val="ffc319"/>
              </a:gs>
              <a:gs pos="100000">
                <a:srgbClr val="654d0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ecccc"/>
              </a:gs>
              <a:gs pos="100000">
                <a:srgbClr val="ff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0" idx="3"/>
            <a:endCxn id="420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2" idx="3"/>
            <a:endCxn id="421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7" name=""/>
          <p:cNvCxnSpPr>
            <a:stCxn id="411" idx="3"/>
            <a:endCxn id="422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8" name="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4e2fd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/>
  <dc:description/>
  <dc:language>en-US</dc:language>
  <cp:lastModifiedBy>GZB</cp:lastModifiedBy>
  <dcterms:modified xsi:type="dcterms:W3CDTF">2014-09-06T15:05:05Z</dcterms:modified>
  <cp:revision>31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