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A3D4-4F8B-4DA1-BFE0-4AD9E2765E2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A888-6E97-4FE4-801A-C6B323B4FAE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32BE-01EB-4F21-8976-C3CB3A6EC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006D9-B09D-4554-9EE8-9FD8C881A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A181-4FE6-4AF0-AA73-31C52BDE7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9CED6-F7D7-4BBD-A869-EA4D45A534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D76D-8D02-4EE1-97BB-5888370A1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C4A5-DFB7-4081-9808-A3026CACB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99B51-EB2B-4CB7-954C-181910EB9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D743-BAB6-4ADC-B06B-185D5B58B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718C-528A-44CA-BC32-8EFB383F9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B327-5807-4DED-9874-ABC3404AB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BF5F-A33E-43EA-95B2-CF6F46714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7C93-2891-47EC-AC90-DD01DD1AF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42BE-17DA-4911-864B-110EDE5C80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1017-D880-4B29-91F8-1C95F8423ED1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prstGeom prst="pie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prstGeom prst="pie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prstGeom prst="pie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prstGeom prst="pie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prstGeom prst="pie">
                <a:avLst/>
              </a:pr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prstGeom prst="pie">
                <a:avLst/>
              </a:pr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prstGeom prst="pie">
                <a:avLst/>
              </a:pr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prstGeom prst="pie">
                <a:avLst/>
              </a:pr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prstGeom prst="pie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prstGeom prst="pi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prstGeom prst="pie">
                <a:avLst/>
              </a:pr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prstGeom prst="pie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prstGeom prst="pie">
                <a:avLst/>
              </a:pr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prstGeom prst="pie">
                <a:avLst/>
              </a:pr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prstGeom prst="pie">
                <a:avLst/>
              </a:pr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prstGeom prst="pie">
                <a:avLst/>
              </a:pr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prstGeom prst="pie">
                <a:avLst/>
              </a:pr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prstGeom prst="pi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prstGeom prst="pie">
                <a:avLst/>
              </a:pr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prstGeom prst="pie">
                <a:avLst/>
              </a:pr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prstGeom prst="pie">
                <a:avLst/>
              </a:pr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prstGeom prst="pie">
                <a:avLst/>
              </a:pr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prstGeom prst="pie">
                <a:avLst/>
              </a:pr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prstGeom prst="pie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prstGeom prst="pie">
                <a:avLst/>
              </a:pr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prstGeom prst="pie">
                <a:avLst/>
              </a:pr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prstGeom prst="pie">
                <a:avLst/>
              </a:pr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prstGeom prst="pie">
                <a:avLst/>
              </a:pr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F59F-ED8E-4AD4-8F37-FFCF04D532A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217A-A789-4CCD-BD14-17C866731CA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prstGeom prst="pie">
              <a:avLst/>
            </a:pr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prstGeom prst="pie">
              <a:avLst/>
            </a:pr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09FA-14AB-43F9-B487-C0AB8C6EBFA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prstGeom prst="pie">
            <a:avLst/>
          </a:pr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4087-13DB-4170-AEF0-312E18423EB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8B59-3B98-4400-9FF6-37E1028F122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4A67-39DB-4E74-8147-ADA60E123D6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20200" cy="4084560"/>
            <a:chOff x="4178880" y="1218240"/>
            <a:chExt cx="412020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8840" cy="27741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280" cy="245988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8880" cy="25531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6000" y="2501640"/>
              <a:ext cx="611280" cy="381600"/>
              <a:chOff x="4266000" y="2501640"/>
              <a:chExt cx="61128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7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360" y="24501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720" y="1915560"/>
              <a:ext cx="562320" cy="499680"/>
              <a:chOff x="4599720" y="191556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800" y="19346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800" y="1928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600" y="1470600"/>
              <a:ext cx="452160" cy="589320"/>
              <a:chOff x="513360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08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0880" y="15505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7960" y="1218240"/>
              <a:ext cx="310320" cy="606600"/>
              <a:chOff x="635796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168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320" y="13262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560" y="1434960"/>
              <a:ext cx="441720" cy="594720"/>
              <a:chOff x="685656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08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440" y="151920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920"/>
              <a:ext cx="553320" cy="511920"/>
              <a:chOff x="7269480" y="186192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3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8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8640"/>
              <a:ext cx="609480" cy="394560"/>
              <a:chOff x="7567920" y="243864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364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880" y="3097440"/>
              <a:ext cx="592200" cy="245160"/>
              <a:chOff x="7706880" y="309744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600" y="3166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2160" y="29779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600" y="3617640"/>
              <a:ext cx="610560" cy="380880"/>
              <a:chOff x="7590600" y="361764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800" y="385812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9280" y="3566160"/>
                <a:ext cx="23616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7280" y="4084560"/>
              <a:ext cx="561600" cy="498960"/>
              <a:chOff x="7307280" y="408456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4040" y="446868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1280" y="4086360"/>
                <a:ext cx="23544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000" y="4461840"/>
              <a:ext cx="452160" cy="589320"/>
              <a:chOff x="690300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56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09920" y="448812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080" y="4682520"/>
              <a:ext cx="325440" cy="609120"/>
              <a:chOff x="640908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080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000" y="47005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720" y="4125960"/>
              <a:ext cx="553320" cy="511920"/>
              <a:chOff x="4644720" y="412596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4160" y="45226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9320" y="413172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8680" y="3666600"/>
              <a:ext cx="609480" cy="394560"/>
              <a:chOff x="4288680" y="366660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2360" y="3923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1160" y="362196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7200"/>
              <a:ext cx="592200" cy="245160"/>
              <a:chOff x="4178880" y="315720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71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680"/>
                <a:ext cx="236880" cy="483840"/>
              </a:xfrm>
              <a:prstGeom prst="pi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360" y="3010680"/>
              <a:ext cx="204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3D92-5A00-44DC-871A-8795C3892ACB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7260-6331-4E4A-A1A5-0A7B7AA6AC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A513-734B-4553-921A-7A955DFD690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092-8F32-4485-AD6D-A227EEB771DF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1E28-D1D0-42EB-A6CE-BB2EA8C7112B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20:51:4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prstGeom prst="pie">
            <a:avLst/>
          </a:pr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prstGeom prst="pie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prstGeom prst="pie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www.pptbz.com</dc:creator>
  <dc:description/>
  <dc:language>en-US</dc:language>
  <cp:lastModifiedBy>User</cp:lastModifiedBy>
  <dcterms:modified xsi:type="dcterms:W3CDTF">2015-03-15T14:37:42Z</dcterms:modified>
  <cp:revision>1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