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A4BB-3CDA-4EFF-B87E-8B73451900F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CEB5-848C-4061-B251-210361E69BC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D92F-8997-41DF-B550-7B05297F5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B533-2D00-4600-86ED-A079F5FC8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256B-EF4A-461B-A271-4FC5E059C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9296-5DCF-4902-B0FE-1B810FC993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17E2-A417-43B1-8D9D-23F2A76786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2F83-5CFD-47B3-84F3-D58C85115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BF94-D0F3-4F16-93BC-376C04DBB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BF06-85EE-489A-8ED7-DD5FABABB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A47B-5902-4157-BB55-7C53AC285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1388F-F873-4614-96F8-ECA9BCA75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7A6D-2AF6-4464-B837-233826788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84E7-A35E-4AD3-B8F4-A9375ECF6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DA22-6B6B-4BCC-AA35-760A7731E6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5EDB-31E9-4A88-BA70-A1C5A6FC920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prstGeom prst="pie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prstGeom prst="pie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prstGeom prst="pie">
                <a:avLst/>
              </a:pr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prstGeom prst="pie">
                <a:avLst/>
              </a:pr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prstGeom prst="pie">
                <a:avLst/>
              </a:pr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prstGeom prst="pie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prstGeom prst="pi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prstGeom prst="pie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prstGeom prst="pie">
                <a:avLst/>
              </a:pr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prstGeom prst="pie">
                <a:avLst/>
              </a:pr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prstGeom prst="pie">
                <a:avLst/>
              </a:pr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prstGeom prst="pie">
                <a:avLst/>
              </a:pr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prstGeom prst="pi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prstGeom prst="pie">
                <a:avLst/>
              </a:pr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prstGeom prst="pie">
                <a:avLst/>
              </a:pr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prstGeom prst="pie">
                <a:avLst/>
              </a:pr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prstGeom prst="pie">
                <a:avLst/>
              </a:pr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prstGeom prst="pie">
                <a:avLst/>
              </a:pr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prstGeom prst="pie">
                <a:avLst/>
              </a:pr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4CE9-F9D4-49A8-9856-3C03A4FADE7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F4BB-B652-4BC8-8F1D-D3B71C78327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A09C-9341-42A3-A10D-DBFC1E77D628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prstGeom prst="pie">
            <a:avLst/>
          </a:pr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F97-2FA9-4505-8306-0C167560245C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439F-2CD3-4F41-9AA1-BBE56CF5884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59FC-6E7C-49AB-B412-5404E140F5E8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20200" cy="4084560"/>
            <a:chOff x="4178880" y="1218240"/>
            <a:chExt cx="412020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8840" cy="27741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280" cy="245988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8880" cy="25531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6000" y="2501640"/>
              <a:ext cx="611280" cy="381600"/>
              <a:chOff x="4266000" y="2501640"/>
              <a:chExt cx="61128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7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360" y="24501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720" y="1915560"/>
              <a:ext cx="562320" cy="499680"/>
              <a:chOff x="4599720" y="191556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800" y="19346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800" y="1928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600" y="1470600"/>
              <a:ext cx="452160" cy="589320"/>
              <a:chOff x="513360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08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0880" y="15505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7960" y="1218240"/>
              <a:ext cx="310320" cy="606600"/>
              <a:chOff x="635796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168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320" y="13262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560" y="1434960"/>
              <a:ext cx="441720" cy="594720"/>
              <a:chOff x="685656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08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440" y="151920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920"/>
              <a:ext cx="553320" cy="511920"/>
              <a:chOff x="7269480" y="186192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3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8640"/>
              <a:ext cx="609480" cy="394560"/>
              <a:chOff x="7567920" y="243864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364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880" y="3097440"/>
              <a:ext cx="592200" cy="245160"/>
              <a:chOff x="7706880" y="309744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600" y="3166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2160" y="29779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600" y="3617640"/>
              <a:ext cx="610560" cy="380880"/>
              <a:chOff x="7590600" y="361764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800" y="385812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9280" y="3566160"/>
                <a:ext cx="23616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7280" y="4084560"/>
              <a:ext cx="561600" cy="498960"/>
              <a:chOff x="7307280" y="408456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4040" y="446868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1280" y="4086360"/>
                <a:ext cx="23544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000" y="4461840"/>
              <a:ext cx="452160" cy="589320"/>
              <a:chOff x="690300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56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09920" y="44881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080" y="4682520"/>
              <a:ext cx="325440" cy="609120"/>
              <a:chOff x="640908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080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000" y="47005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720" y="4125960"/>
              <a:ext cx="553320" cy="511920"/>
              <a:chOff x="4644720" y="412596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4160" y="45226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9320" y="41317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8680" y="3666600"/>
              <a:ext cx="609480" cy="394560"/>
              <a:chOff x="4288680" y="366660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2360" y="3923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1160" y="36219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7200"/>
              <a:ext cx="592200" cy="245160"/>
              <a:chOff x="4178880" y="315720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71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6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360" y="3010680"/>
              <a:ext cx="20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FFF8-D0E4-4A62-B11E-AE53C77253B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6495-0A21-4132-92F1-62E6D54E1D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1C81-2FFE-416B-81E5-4B6AF2F92CA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ACD4-BD25-4A27-B212-771C9E81FA5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04D2-B502-4780-971A-F7FDC564FF9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50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www.pptbz.com</dc:creator>
  <dc:description/>
  <dc:language>en-US</dc:language>
  <cp:lastModifiedBy>User</cp:lastModifiedBy>
  <dcterms:modified xsi:type="dcterms:W3CDTF">2015-03-15T14:37:42Z</dcterms:modified>
  <cp:revision>1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