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2B7-5B32-4416-B21C-CD49F898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C26-5811-4BA5-A022-EABCD4EE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212-D810-4CA4-A0EC-61EC4E72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F58-087C-416F-A8FA-162A622D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E34-4BC5-4E52-AB8D-4B4BF53D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31F-B5CC-4596-BF49-C33891E5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45A-36F1-434C-A661-5F143F6E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4BC-CDAF-466A-A39F-2317467D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9C1-7DC8-46F8-9B1E-58315172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BAD-4E47-4A3D-93B0-61CF4FB9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3F7-078D-402C-B2B9-D0C5229F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1C2-B595-4A42-9827-F372B78C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538C-E916-4B87-BBA1-F54693F94D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876960"/>
            <a:chOff x="4879800" y="1809720"/>
            <a:chExt cx="2444760" cy="87696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866880"/>
            <a:chOff x="8137440" y="3067200"/>
            <a:chExt cx="3332160" cy="86688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60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840240"/>
              <a:chOff x="8841600" y="3067200"/>
              <a:chExt cx="2628000" cy="84024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240"/>
                <a:ext cx="2564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856800"/>
            <a:chOff x="8177040" y="4402080"/>
            <a:chExt cx="3230640" cy="85680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840240"/>
              <a:chOff x="8857080" y="4402080"/>
              <a:chExt cx="2550600" cy="84024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12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5-09-18T13:54:57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