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C6A-14BA-4A5C-B147-F2DBBFE6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985-6723-4788-AEFF-753E44BF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9FE-DE29-4118-87A0-EEA78F95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FE8-ABDA-48C4-BF86-2186BF1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F83-0787-4E69-BDA1-02B8BA71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8617-3497-40AF-A1AE-C368359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193F-A30A-4130-A0F8-2EF80D99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66E2-EB41-40BA-8EE7-34F7984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E2C0-E8BC-4346-BE6A-063A7045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5F2B-A80D-4D35-B948-29B8D256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EEFE-AB64-4ED6-AA3E-E68DFF9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3DB-E7B1-414D-8ACE-200DCA3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80BA-7427-4AED-BF6A-EBBD057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97F-A24E-4E57-A3FA-EA98673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8D89-9605-4E81-8B11-56178F85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70B4-508D-4051-90F2-D1C18D14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E6F5-3D10-4C1E-B1F0-C2DD53D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EEF-CA50-40DA-BE6D-B5273B14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21F-37DD-4C3F-B09A-B11FF83C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E53-739B-4C5B-A78B-381A8080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CE0-46E0-4F53-A6E5-9074AE9C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B0E-5E43-47B6-A900-726DD18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450-CE7D-4746-9BF8-62139A2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F35-6AFE-46BD-88DE-0B19FA8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20091226_ded7f797d7c1f73b7b40Ufsw3Ykaj0qB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27280" y="196992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7612-8BFC-4A70-B984-28ACF50DF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91120_ee26936737ff5900b03bIADRHHPTXbA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507-42ED-4CA3-9CF0-8544A82E7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40000" y="4581360"/>
            <a:ext cx="7308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吉祥如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内容占位符 1" descr=""/>
          <p:cNvPicPr/>
          <p:nvPr/>
        </p:nvPicPr>
        <p:blipFill>
          <a:blip r:embed="rId1"/>
          <a:stretch/>
        </p:blipFill>
        <p:spPr>
          <a:xfrm flipH="1">
            <a:off x="-360" y="2276640"/>
            <a:ext cx="308772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任意多边形 8"/>
          <p:cNvSpPr/>
          <p:nvPr/>
        </p:nvSpPr>
        <p:spPr>
          <a:xfrm>
            <a:off x="3441600" y="2548080"/>
            <a:ext cx="760680" cy="376200"/>
          </a:xfrm>
          <a:prstGeom prst="pie">
            <a:avLst/>
          </a:prstGeom>
          <a:solidFill>
            <a:srgbClr val="ed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27440" bIns="33084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bbe0e3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202280" y="2538360"/>
            <a:ext cx="467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D DO EIUSMOD TEMPOR INCIDID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7"/>
          <p:cNvSpPr/>
          <p:nvPr/>
        </p:nvSpPr>
        <p:spPr>
          <a:xfrm>
            <a:off x="3441600" y="4448160"/>
            <a:ext cx="760680" cy="376200"/>
          </a:xfrm>
          <a:prstGeom prst="pie">
            <a:avLst/>
          </a:prstGeom>
          <a:solidFill>
            <a:srgbClr val="f67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27440" bIns="33084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4202280" y="4438800"/>
            <a:ext cx="467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D DO EIUSMOD TEMPOR INCIDID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755640" y="981000"/>
            <a:ext cx="7769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等腰三角形 5"/>
          <p:cNvSpPr/>
          <p:nvPr/>
        </p:nvSpPr>
        <p:spPr>
          <a:xfrm>
            <a:off x="982800" y="2681280"/>
            <a:ext cx="1895400" cy="1635120"/>
          </a:xfrm>
          <a:prstGeom prst="triangle">
            <a:avLst>
              <a:gd name="adj" fmla="val 50000"/>
            </a:avLst>
          </a:prstGeom>
          <a:solidFill>
            <a:srgbClr val="ff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6"/>
          <p:cNvSpPr/>
          <p:nvPr/>
        </p:nvSpPr>
        <p:spPr>
          <a:xfrm>
            <a:off x="763560" y="2422440"/>
            <a:ext cx="2333520" cy="2013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bbe0e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1930320" y="0"/>
            <a:ext cx="0" cy="2422440"/>
          </a:xfrm>
          <a:prstGeom prst="line">
            <a:avLst/>
          </a:prstGeom>
          <a:ln w="9360">
            <a:solidFill>
              <a:srgbClr val="bbe0e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930320" y="4448160"/>
            <a:ext cx="0" cy="2413080"/>
          </a:xfrm>
          <a:prstGeom prst="line">
            <a:avLst/>
          </a:prstGeom>
          <a:ln w="9360">
            <a:solidFill>
              <a:srgbClr val="bbe0e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"/>
          <p:cNvSpPr/>
          <p:nvPr/>
        </p:nvSpPr>
        <p:spPr>
          <a:xfrm>
            <a:off x="4373640" y="233856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2ca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 flipH="1">
            <a:off x="3997440" y="2151000"/>
            <a:ext cx="498240" cy="647640"/>
          </a:xfrm>
          <a:prstGeom prst="line">
            <a:avLst/>
          </a:prstGeom>
          <a:ln w="9360">
            <a:solidFill>
              <a:srgbClr val="d6e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"/>
          <p:cNvSpPr/>
          <p:nvPr/>
        </p:nvSpPr>
        <p:spPr>
          <a:xfrm>
            <a:off x="3798720" y="1862280"/>
            <a:ext cx="3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a2ca"/>
                </a:solidFill>
                <a:latin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5"/>
          <p:cNvSpPr/>
          <p:nvPr/>
        </p:nvSpPr>
        <p:spPr>
          <a:xfrm>
            <a:off x="4373640" y="343692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e0d9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6"/>
          <p:cNvSpPr/>
          <p:nvPr/>
        </p:nvSpPr>
        <p:spPr>
          <a:xfrm flipH="1">
            <a:off x="3997440" y="3246480"/>
            <a:ext cx="498240" cy="650880"/>
          </a:xfrm>
          <a:prstGeom prst="line">
            <a:avLst/>
          </a:prstGeom>
          <a:ln w="9360">
            <a:solidFill>
              <a:srgbClr val="d6e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7"/>
          <p:cNvSpPr/>
          <p:nvPr/>
        </p:nvSpPr>
        <p:spPr>
          <a:xfrm>
            <a:off x="3798720" y="2957400"/>
            <a:ext cx="385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0d9"/>
                </a:solidFill>
                <a:latin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9"/>
          <p:cNvSpPr/>
          <p:nvPr/>
        </p:nvSpPr>
        <p:spPr>
          <a:xfrm>
            <a:off x="4373640" y="453564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2e6d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0"/>
          <p:cNvSpPr/>
          <p:nvPr/>
        </p:nvSpPr>
        <p:spPr>
          <a:xfrm flipH="1">
            <a:off x="3997440" y="4344840"/>
            <a:ext cx="498240" cy="650880"/>
          </a:xfrm>
          <a:prstGeom prst="line">
            <a:avLst/>
          </a:prstGeom>
          <a:ln w="9360">
            <a:solidFill>
              <a:srgbClr val="d6e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1"/>
          <p:cNvSpPr/>
          <p:nvPr/>
        </p:nvSpPr>
        <p:spPr>
          <a:xfrm>
            <a:off x="3798720" y="4056120"/>
            <a:ext cx="385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52e6d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组合 23" descr=""/>
          <p:cNvPicPr/>
          <p:nvPr/>
        </p:nvPicPr>
        <p:blipFill>
          <a:blip r:embed="rId1"/>
          <a:stretch/>
        </p:blipFill>
        <p:spPr>
          <a:xfrm>
            <a:off x="2603520" y="2876400"/>
            <a:ext cx="391788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组合 37" descr=""/>
          <p:cNvPicPr/>
          <p:nvPr/>
        </p:nvPicPr>
        <p:blipFill>
          <a:blip r:embed="rId1"/>
          <a:stretch/>
        </p:blipFill>
        <p:spPr>
          <a:xfrm>
            <a:off x="3276720" y="2774880"/>
            <a:ext cx="2330280" cy="26622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6"/>
          <p:cNvSpPr/>
          <p:nvPr/>
        </p:nvSpPr>
        <p:spPr>
          <a:xfrm>
            <a:off x="2685960" y="1566720"/>
            <a:ext cx="3772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 rot="20220000">
            <a:off x="3851280" y="422100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8:18Z</dcterms:created>
  <dc:creator>user</dc:creator>
  <dc:description/>
  <dc:language>en-US</dc:language>
  <cp:lastModifiedBy>Administrator</cp:lastModifiedBy>
  <dcterms:modified xsi:type="dcterms:W3CDTF">2016-04-18T08:39:01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