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1D14-F1D2-42BB-BE5C-09BB935B8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D7AD-6470-4944-AE98-3E0A8B9B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3DDE-D395-4B7C-B584-38988B04D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69BE-FE95-4F7C-9438-6686A8AB0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018F-E217-418C-A365-A8F9A6E7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493F-4122-4026-AE42-FD9DD080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A63F-34B0-4DC0-A47E-0D976DDB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798E-D825-4AEF-A87E-33C066B1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9976-F7A8-4109-89BD-6E0F7B04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0D02-8C14-4986-8361-C0A7BD67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CA43-EBC0-4A7C-B532-DB3E57B6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5B13-4DEB-4F43-8F14-998D6094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E43E-F485-4409-B922-BD84AF75FFC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6ABC-883B-4DD1-A3B3-C34FD167BF3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rcRect l="0" t="9304" r="0" b="696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文本框 7"/>
          <p:cNvSpPr/>
          <p:nvPr/>
        </p:nvSpPr>
        <p:spPr>
          <a:xfrm>
            <a:off x="11138400" y="6397560"/>
            <a:ext cx="7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美渠</a:t>
            </a: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·</a:t>
            </a:r>
            <a:r>
              <a:rPr b="0" lang="zh-CN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中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等腰三角形 3"/>
          <p:cNvSpPr/>
          <p:nvPr/>
        </p:nvSpPr>
        <p:spPr>
          <a:xfrm rot="13500000">
            <a:off x="8323920" y="551160"/>
            <a:ext cx="890280" cy="4340160"/>
          </a:xfrm>
          <a:prstGeom prst="triangle">
            <a:avLst>
              <a:gd name="adj" fmla="val 50000"/>
            </a:avLst>
          </a:prstGeom>
          <a:solidFill>
            <a:srgbClr val="ff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等腰三角形 4"/>
          <p:cNvSpPr/>
          <p:nvPr/>
        </p:nvSpPr>
        <p:spPr>
          <a:xfrm rot="13402800">
            <a:off x="7889400" y="999720"/>
            <a:ext cx="2443320" cy="5208480"/>
          </a:xfrm>
          <a:prstGeom prst="triangle">
            <a:avLst>
              <a:gd name="adj" fmla="val 50000"/>
            </a:avLst>
          </a:prstGeom>
          <a:solidFill>
            <a:srgbClr val="a40c63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等腰三角形 5"/>
          <p:cNvSpPr/>
          <p:nvPr/>
        </p:nvSpPr>
        <p:spPr>
          <a:xfrm rot="15008400">
            <a:off x="5342760" y="50040"/>
            <a:ext cx="3508560" cy="7485120"/>
          </a:xfrm>
          <a:prstGeom prst="triangle">
            <a:avLst>
              <a:gd name="adj" fmla="val 50000"/>
            </a:avLst>
          </a:prstGeom>
          <a:solidFill>
            <a:srgbClr val="a40c63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等腰三角形 6"/>
          <p:cNvSpPr/>
          <p:nvPr/>
        </p:nvSpPr>
        <p:spPr>
          <a:xfrm rot="11677200">
            <a:off x="9415440" y="904320"/>
            <a:ext cx="735120" cy="4678200"/>
          </a:xfrm>
          <a:prstGeom prst="triangle">
            <a:avLst>
              <a:gd name="adj" fmla="val 50000"/>
            </a:avLst>
          </a:prstGeom>
          <a:solidFill>
            <a:srgbClr val="ffff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7" descr=""/>
          <p:cNvPicPr/>
          <p:nvPr/>
        </p:nvPicPr>
        <p:blipFill>
          <a:blip r:embed="rId1"/>
          <a:srcRect l="1186" t="17858" r="-1181" b="22619"/>
          <a:stretch/>
        </p:blipFill>
        <p:spPr>
          <a:xfrm>
            <a:off x="2666880" y="1517760"/>
            <a:ext cx="685800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1"/>
          <p:cNvSpPr/>
          <p:nvPr/>
        </p:nvSpPr>
        <p:spPr>
          <a:xfrm>
            <a:off x="6567480" y="1535040"/>
            <a:ext cx="4971960" cy="600120"/>
          </a:xfrm>
          <a:prstGeom prst="rect">
            <a:avLst/>
          </a:prstGeom>
          <a:solidFill>
            <a:srgbClr val="d2107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直接连接符 21"/>
          <p:cNvSpPr/>
          <p:nvPr/>
        </p:nvSpPr>
        <p:spPr>
          <a:xfrm>
            <a:off x="6448320" y="2611440"/>
            <a:ext cx="494820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直接连接符 22"/>
          <p:cNvSpPr/>
          <p:nvPr/>
        </p:nvSpPr>
        <p:spPr>
          <a:xfrm>
            <a:off x="6448320" y="5483160"/>
            <a:ext cx="494820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直接连接符 23"/>
          <p:cNvSpPr/>
          <p:nvPr/>
        </p:nvSpPr>
        <p:spPr>
          <a:xfrm>
            <a:off x="6448320" y="2611440"/>
            <a:ext cx="0" cy="2887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24"/>
          <p:cNvSpPr/>
          <p:nvPr/>
        </p:nvSpPr>
        <p:spPr>
          <a:xfrm>
            <a:off x="11396520" y="2611440"/>
            <a:ext cx="0" cy="2887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32"/>
          <p:cNvSpPr/>
          <p:nvPr/>
        </p:nvSpPr>
        <p:spPr>
          <a:xfrm>
            <a:off x="6599160" y="2820960"/>
            <a:ext cx="4659480" cy="2425680"/>
          </a:xfrm>
          <a:prstGeom prst="rect">
            <a:avLst/>
          </a:prstGeom>
          <a:solidFill>
            <a:srgbClr val="ffffff">
              <a:alpha val="23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圆角矩形 33"/>
          <p:cNvSpPr/>
          <p:nvPr/>
        </p:nvSpPr>
        <p:spPr>
          <a:xfrm>
            <a:off x="8588520" y="5335560"/>
            <a:ext cx="677880" cy="7452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36"/>
          <p:cNvGrpSpPr/>
          <p:nvPr/>
        </p:nvGrpSpPr>
        <p:grpSpPr>
          <a:xfrm>
            <a:off x="1336680" y="3505320"/>
            <a:ext cx="2228760" cy="2396880"/>
            <a:chOff x="1336680" y="3505320"/>
            <a:chExt cx="2228760" cy="2396880"/>
          </a:xfrm>
        </p:grpSpPr>
        <p:pic>
          <p:nvPicPr>
            <p:cNvPr id="125" name="图片 37" descr=""/>
            <p:cNvPicPr/>
            <p:nvPr/>
          </p:nvPicPr>
          <p:blipFill>
            <a:blip r:embed="rId1"/>
            <a:stretch/>
          </p:blipFill>
          <p:spPr>
            <a:xfrm>
              <a:off x="1462680" y="3507120"/>
              <a:ext cx="1886760" cy="23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图片 38" descr=""/>
            <p:cNvPicPr/>
            <p:nvPr/>
          </p:nvPicPr>
          <p:blipFill>
            <a:blip r:embed="rId2"/>
            <a:stretch/>
          </p:blipFill>
          <p:spPr>
            <a:xfrm>
              <a:off x="1336680" y="3505320"/>
              <a:ext cx="2228760" cy="230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矩形 6"/>
          <p:cNvSpPr/>
          <p:nvPr/>
        </p:nvSpPr>
        <p:spPr>
          <a:xfrm>
            <a:off x="1143000" y="1349280"/>
            <a:ext cx="2502000" cy="4645080"/>
          </a:xfrm>
          <a:prstGeom prst="rect">
            <a:avLst/>
          </a:prstGeom>
          <a:solidFill>
            <a:srgbClr val="ffffff">
              <a:alpha val="23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接连接符 11"/>
          <p:cNvSpPr/>
          <p:nvPr/>
        </p:nvSpPr>
        <p:spPr>
          <a:xfrm>
            <a:off x="988920" y="1049400"/>
            <a:ext cx="28051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直接连接符 14"/>
          <p:cNvSpPr/>
          <p:nvPr/>
        </p:nvSpPr>
        <p:spPr>
          <a:xfrm>
            <a:off x="988920" y="6445080"/>
            <a:ext cx="280512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15"/>
          <p:cNvSpPr/>
          <p:nvPr/>
        </p:nvSpPr>
        <p:spPr>
          <a:xfrm>
            <a:off x="988920" y="1057320"/>
            <a:ext cx="1800" cy="53877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17"/>
          <p:cNvSpPr/>
          <p:nvPr/>
        </p:nvSpPr>
        <p:spPr>
          <a:xfrm>
            <a:off x="3794040" y="1041480"/>
            <a:ext cx="0" cy="5389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圆角矩形 16"/>
          <p:cNvSpPr/>
          <p:nvPr/>
        </p:nvSpPr>
        <p:spPr>
          <a:xfrm>
            <a:off x="2052720" y="6151680"/>
            <a:ext cx="677880" cy="13320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图片 4" descr=""/>
          <p:cNvPicPr/>
          <p:nvPr/>
        </p:nvPicPr>
        <p:blipFill>
          <a:blip r:embed="rId3"/>
          <a:stretch/>
        </p:blipFill>
        <p:spPr>
          <a:xfrm>
            <a:off x="1143000" y="2820960"/>
            <a:ext cx="2511360" cy="318780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31" descr=""/>
          <p:cNvPicPr/>
          <p:nvPr/>
        </p:nvPicPr>
        <p:blipFill>
          <a:blip r:embed="rId4"/>
          <a:stretch/>
        </p:blipFill>
        <p:spPr>
          <a:xfrm>
            <a:off x="974880" y="2817720"/>
            <a:ext cx="2966760" cy="3070440"/>
          </a:xfrm>
          <a:prstGeom prst="rect">
            <a:avLst/>
          </a:prstGeom>
          <a:ln w="0">
            <a:noFill/>
          </a:ln>
        </p:spPr>
      </p:pic>
      <p:sp>
        <p:nvSpPr>
          <p:cNvPr id="135" name="矩形 19"/>
          <p:cNvSpPr/>
          <p:nvPr/>
        </p:nvSpPr>
        <p:spPr>
          <a:xfrm>
            <a:off x="1143000" y="1355760"/>
            <a:ext cx="2495520" cy="465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55"/>
          <p:cNvSpPr/>
          <p:nvPr/>
        </p:nvSpPr>
        <p:spPr>
          <a:xfrm>
            <a:off x="7966080" y="1684440"/>
            <a:ext cx="21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遥控电脑进行美发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DI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接连接符 25"/>
          <p:cNvSpPr/>
          <p:nvPr/>
        </p:nvSpPr>
        <p:spPr>
          <a:xfrm>
            <a:off x="6381720" y="2127240"/>
            <a:ext cx="535608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11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1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mph" presetID="19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4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set>
                                      <p:cBhvr>
                                        <p:cTn id="4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11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11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4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19">
                                  <p:stCondLst>
                                    <p:cond delay="1700"/>
                                  </p:stCondLst>
                                  <p:childTnLst>
                                    <p:animClr clrSpc="rgb">
                                      <p:cBhvr>
                                        <p:cTn id="45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animClr clrSpc="rgb">
                                      <p:cBhvr>
                                        <p:cTn id="4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set>
                                      <p:cBhvr>
                                        <p:cTn id="4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8" repeatCount="300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4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4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471" nodeType="after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2" dur="12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3542 L 0.52813 -0.09097 E">
                                      <p:cBhvr>
                                        <p:cTn id="487" dur="5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娱乐资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0"/>
          <p:cNvSpPr/>
          <p:nvPr/>
        </p:nvSpPr>
        <p:spPr>
          <a:xfrm>
            <a:off x="4727880" y="518940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Entertainm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0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9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4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8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6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0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4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8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空心弧 3"/>
          <p:cNvSpPr/>
          <p:nvPr/>
        </p:nvSpPr>
        <p:spPr>
          <a:xfrm rot="5400000">
            <a:off x="940680" y="1736640"/>
            <a:ext cx="1098720" cy="1098360"/>
          </a:xfrm>
          <a:custGeom>
            <a:avLst/>
            <a:gdLst>
              <a:gd name="textAreaLeft" fmla="*/ 0 w 1098720"/>
              <a:gd name="textAreaRight" fmla="*/ 1099080 w 1098720"/>
              <a:gd name="textAreaTop" fmla="*/ 0 h 1098360"/>
              <a:gd name="textAreaBottom" fmla="*/ 392040 h 1098360"/>
            </a:gdLst>
            <a:ahLst/>
            <a:rect l="textAreaLeft" t="textAreaTop" r="textAreaRight" b="textAreaBottom"/>
            <a:pathLst>
              <a:path w="21600" h="21600">
                <a:moveTo>
                  <a:pt x="6095" y="10800"/>
                </a:moveTo>
                <a:cubicBezTo>
                  <a:pt x="6095" y="8201"/>
                  <a:pt x="8201" y="6095"/>
                  <a:pt x="10800" y="6095"/>
                </a:cubicBezTo>
                <a:cubicBezTo>
                  <a:pt x="13398" y="6094"/>
                  <a:pt x="15504" y="8201"/>
                  <a:pt x="15505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609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4"/>
          <p:cNvSpPr/>
          <p:nvPr/>
        </p:nvSpPr>
        <p:spPr>
          <a:xfrm>
            <a:off x="1125360" y="1916280"/>
            <a:ext cx="731880" cy="73152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5"/>
          <p:cNvSpPr/>
          <p:nvPr/>
        </p:nvSpPr>
        <p:spPr>
          <a:xfrm>
            <a:off x="1308600" y="2050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空心弧 6"/>
          <p:cNvSpPr/>
          <p:nvPr/>
        </p:nvSpPr>
        <p:spPr>
          <a:xfrm rot="5400000">
            <a:off x="2158920" y="3219120"/>
            <a:ext cx="1098360" cy="1098720"/>
          </a:xfrm>
          <a:custGeom>
            <a:avLst/>
            <a:gdLst>
              <a:gd name="textAreaLeft" fmla="*/ 0 w 1098360"/>
              <a:gd name="textAreaRight" fmla="*/ 1098720 w 1098360"/>
              <a:gd name="textAreaTop" fmla="*/ 0 h 1098720"/>
              <a:gd name="textAreaBottom" fmla="*/ 392400 h 1098720"/>
            </a:gdLst>
            <a:ahLst/>
            <a:rect l="textAreaLeft" t="textAreaTop" r="textAreaRight" b="textAreaBottom"/>
            <a:pathLst>
              <a:path w="21600" h="21600">
                <a:moveTo>
                  <a:pt x="6095" y="10800"/>
                </a:moveTo>
                <a:cubicBezTo>
                  <a:pt x="6095" y="8201"/>
                  <a:pt x="8201" y="6095"/>
                  <a:pt x="10800" y="6095"/>
                </a:cubicBezTo>
                <a:cubicBezTo>
                  <a:pt x="13398" y="6094"/>
                  <a:pt x="15504" y="8201"/>
                  <a:pt x="15505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609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椭圆 7"/>
          <p:cNvSpPr/>
          <p:nvPr/>
        </p:nvSpPr>
        <p:spPr>
          <a:xfrm>
            <a:off x="2341440" y="3398760"/>
            <a:ext cx="731880" cy="7318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空心弧 8"/>
          <p:cNvSpPr/>
          <p:nvPr/>
        </p:nvSpPr>
        <p:spPr>
          <a:xfrm rot="5400000">
            <a:off x="3384360" y="4718160"/>
            <a:ext cx="1098360" cy="1098360"/>
          </a:xfrm>
          <a:custGeom>
            <a:avLst/>
            <a:gdLst>
              <a:gd name="textAreaLeft" fmla="*/ 0 w 1098360"/>
              <a:gd name="textAreaRight" fmla="*/ 1098720 w 1098360"/>
              <a:gd name="textAreaTop" fmla="*/ 0 h 1098360"/>
              <a:gd name="textAreaBottom" fmla="*/ 392040 h 1098360"/>
            </a:gdLst>
            <a:ahLst/>
            <a:rect l="textAreaLeft" t="textAreaTop" r="textAreaRight" b="textAreaBottom"/>
            <a:pathLst>
              <a:path w="21600" h="21600">
                <a:moveTo>
                  <a:pt x="6095" y="10800"/>
                </a:moveTo>
                <a:cubicBezTo>
                  <a:pt x="6095" y="8201"/>
                  <a:pt x="8201" y="6095"/>
                  <a:pt x="10800" y="6095"/>
                </a:cubicBezTo>
                <a:cubicBezTo>
                  <a:pt x="13398" y="6094"/>
                  <a:pt x="15504" y="8201"/>
                  <a:pt x="15505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609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椭圆 9"/>
          <p:cNvSpPr/>
          <p:nvPr/>
        </p:nvSpPr>
        <p:spPr>
          <a:xfrm>
            <a:off x="3567240" y="4896000"/>
            <a:ext cx="731880" cy="73152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0"/>
          <p:cNvSpPr/>
          <p:nvPr/>
        </p:nvSpPr>
        <p:spPr>
          <a:xfrm>
            <a:off x="2525400" y="3530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11"/>
          <p:cNvSpPr/>
          <p:nvPr/>
        </p:nvSpPr>
        <p:spPr>
          <a:xfrm>
            <a:off x="3751200" y="5032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2"/>
          <p:cNvSpPr/>
          <p:nvPr/>
        </p:nvSpPr>
        <p:spPr>
          <a:xfrm>
            <a:off x="1159560" y="55728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精彩刺激伴你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13"/>
          <p:cNvSpPr/>
          <p:nvPr/>
        </p:nvSpPr>
        <p:spPr>
          <a:xfrm>
            <a:off x="2158920" y="2001960"/>
            <a:ext cx="45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影视大片、明星娱乐八卦、美发资讯应有尽有，剪发也能如此精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14"/>
          <p:cNvSpPr/>
          <p:nvPr/>
        </p:nvSpPr>
        <p:spPr>
          <a:xfrm>
            <a:off x="3376440" y="3483000"/>
            <a:ext cx="48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剪发也能玩游戏，游戏劲多，全国联网一起上，根本停不下来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15"/>
          <p:cNvSpPr/>
          <p:nvPr/>
        </p:nvSpPr>
        <p:spPr>
          <a:xfrm>
            <a:off x="4603680" y="4938840"/>
            <a:ext cx="48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参与全国发型、选美时尚比赛，展开属于自己的美渠时尚之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16"/>
          <p:cNvSpPr/>
          <p:nvPr/>
        </p:nvSpPr>
        <p:spPr>
          <a:xfrm>
            <a:off x="4800600" y="619200"/>
            <a:ext cx="46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手机扫描大屏二维码，直接遥控电脑，乐趣多多，美发也能精彩刺激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接连接符 17"/>
          <p:cNvSpPr/>
          <p:nvPr/>
        </p:nvSpPr>
        <p:spPr>
          <a:xfrm>
            <a:off x="4603680" y="463680"/>
            <a:ext cx="0" cy="95544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http://www.3tuw.com/Content/image/publish/Photo/634889341780400027.JPG"/>
          <p:cNvPicPr/>
          <p:nvPr/>
        </p:nvPicPr>
        <p:blipFill>
          <a:blip r:embed="rId1"/>
          <a:srcRect l="15566" t="12692" r="8562" b="34964"/>
          <a:stretch/>
        </p:blipFill>
        <p:spPr>
          <a:xfrm>
            <a:off x="6821640" y="1779480"/>
            <a:ext cx="2193840" cy="10051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摇骰子图片素材"/>
          <p:cNvPicPr/>
          <p:nvPr/>
        </p:nvPicPr>
        <p:blipFill>
          <a:blip r:embed="rId2"/>
          <a:srcRect l="17038" t="20448" r="32704" b="17254"/>
          <a:stretch/>
        </p:blipFill>
        <p:spPr>
          <a:xfrm>
            <a:off x="8299440" y="3235320"/>
            <a:ext cx="633600" cy="6094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摇骰子图片素材"/>
          <p:cNvPicPr/>
          <p:nvPr/>
        </p:nvPicPr>
        <p:blipFill>
          <a:blip r:embed="rId3"/>
          <a:srcRect l="17038" t="20448" r="32704" b="17254"/>
          <a:stretch/>
        </p:blipFill>
        <p:spPr>
          <a:xfrm>
            <a:off x="8852040" y="3235320"/>
            <a:ext cx="633240" cy="609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摇骰子图片素材"/>
          <p:cNvPicPr/>
          <p:nvPr/>
        </p:nvPicPr>
        <p:blipFill>
          <a:blip r:embed="rId4"/>
          <a:srcRect l="17038" t="20448" r="32704" b="17254"/>
          <a:stretch/>
        </p:blipFill>
        <p:spPr>
          <a:xfrm>
            <a:off x="8459640" y="3495600"/>
            <a:ext cx="633600" cy="60984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22" descr=""/>
          <p:cNvPicPr/>
          <p:nvPr/>
        </p:nvPicPr>
        <p:blipFill>
          <a:blip r:embed="rId5"/>
          <a:srcRect l="18981" t="6752" r="20758" b="14550"/>
          <a:stretch/>
        </p:blipFill>
        <p:spPr>
          <a:xfrm>
            <a:off x="9485280" y="4400640"/>
            <a:ext cx="143496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0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4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7"/>
          <p:cNvSpPr/>
          <p:nvPr/>
        </p:nvSpPr>
        <p:spPr>
          <a:xfrm>
            <a:off x="5639760" y="47451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社交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0"/>
          <p:cNvSpPr/>
          <p:nvPr/>
        </p:nvSpPr>
        <p:spPr>
          <a:xfrm>
            <a:off x="5456160" y="5189400"/>
            <a:ext cx="12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ocial cir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0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9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9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9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3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7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1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9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3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矩形 3"/>
          <p:cNvSpPr/>
          <p:nvPr/>
        </p:nvSpPr>
        <p:spPr>
          <a:xfrm>
            <a:off x="909720" y="4417920"/>
            <a:ext cx="10374120" cy="133848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4"/>
          <p:cNvSpPr/>
          <p:nvPr/>
        </p:nvSpPr>
        <p:spPr>
          <a:xfrm>
            <a:off x="971640" y="4622760"/>
            <a:ext cx="10260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美渠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专门设置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个专设的社交圈，满足不同性别不同需求的消费者，直接在社交圈中寻找您心仪的需要。美渠社交圈将会提供比微信和陌陌更多的乐趣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5"/>
          <p:cNvSpPr/>
          <p:nvPr/>
        </p:nvSpPr>
        <p:spPr>
          <a:xfrm>
            <a:off x="1367280" y="1790640"/>
            <a:ext cx="13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6"/>
          <p:cNvSpPr/>
          <p:nvPr/>
        </p:nvSpPr>
        <p:spPr>
          <a:xfrm>
            <a:off x="4269240" y="1816200"/>
            <a:ext cx="15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118c"/>
                </a:solidFill>
                <a:latin typeface="方正正大黑简体"/>
                <a:ea typeface="方正正大黑简体"/>
              </a:rPr>
              <a:t>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椭圆 7"/>
          <p:cNvSpPr/>
          <p:nvPr/>
        </p:nvSpPr>
        <p:spPr>
          <a:xfrm>
            <a:off x="1428840" y="1587600"/>
            <a:ext cx="277560" cy="279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梯形 8"/>
          <p:cNvSpPr/>
          <p:nvPr/>
        </p:nvSpPr>
        <p:spPr>
          <a:xfrm flipV="1" rot="10800000">
            <a:off x="1459080" y="2359080"/>
            <a:ext cx="109440" cy="590400"/>
          </a:xfrm>
          <a:custGeom>
            <a:avLst/>
            <a:gdLst>
              <a:gd name="textAreaLeft" fmla="*/ 18360 w 109440"/>
              <a:gd name="textAreaRight" fmla="*/ 91080 w 109440"/>
              <a:gd name="textAreaTop" fmla="*/ 100080 h 590400"/>
              <a:gd name="textAreaBottom" fmla="*/ 49032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梯形 9"/>
          <p:cNvSpPr/>
          <p:nvPr/>
        </p:nvSpPr>
        <p:spPr>
          <a:xfrm flipV="1" rot="10800000">
            <a:off x="1598400" y="2358000"/>
            <a:ext cx="107640" cy="592200"/>
          </a:xfrm>
          <a:custGeom>
            <a:avLst/>
            <a:gdLst>
              <a:gd name="textAreaLeft" fmla="*/ 18000 w 107640"/>
              <a:gd name="textAreaRight" fmla="*/ 89640 w 107640"/>
              <a:gd name="textAreaTop" fmla="*/ 100440 h 592200"/>
              <a:gd name="textAreaBottom" fmla="*/ 491760 h 5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椭圆 10"/>
          <p:cNvSpPr/>
          <p:nvPr/>
        </p:nvSpPr>
        <p:spPr>
          <a:xfrm>
            <a:off x="4248000" y="1587600"/>
            <a:ext cx="277920" cy="27756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梯形 11"/>
          <p:cNvSpPr/>
          <p:nvPr/>
        </p:nvSpPr>
        <p:spPr>
          <a:xfrm flipV="1" rot="10800000">
            <a:off x="4278240" y="2444760"/>
            <a:ext cx="108000" cy="503280"/>
          </a:xfrm>
          <a:custGeom>
            <a:avLst/>
            <a:gdLst>
              <a:gd name="textAreaLeft" fmla="*/ 18360 w 108000"/>
              <a:gd name="textAreaRight" fmla="*/ 89640 w 108000"/>
              <a:gd name="textAreaTop" fmla="*/ 85320 h 503280"/>
              <a:gd name="textAreaBottom" fmla="*/ 417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梯形 12"/>
          <p:cNvSpPr/>
          <p:nvPr/>
        </p:nvSpPr>
        <p:spPr>
          <a:xfrm flipV="1" rot="10800000">
            <a:off x="4416480" y="2444760"/>
            <a:ext cx="109440" cy="504720"/>
          </a:xfrm>
          <a:custGeom>
            <a:avLst/>
            <a:gdLst>
              <a:gd name="textAreaLeft" fmla="*/ 18360 w 109440"/>
              <a:gd name="textAreaRight" fmla="*/ 91080 w 109440"/>
              <a:gd name="textAreaTop" fmla="*/ 85680 h 504720"/>
              <a:gd name="textAreaBottom" fmla="*/ 41904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梯形 13"/>
          <p:cNvSpPr/>
          <p:nvPr/>
        </p:nvSpPr>
        <p:spPr>
          <a:xfrm flipV="1">
            <a:off x="4224240" y="2252520"/>
            <a:ext cx="354240" cy="216000"/>
          </a:xfrm>
          <a:custGeom>
            <a:avLst/>
            <a:gdLst>
              <a:gd name="textAreaLeft" fmla="*/ 56520 w 354240"/>
              <a:gd name="textAreaRight" fmla="*/ 297720 w 354240"/>
              <a:gd name="textAreaTop" fmla="*/ 34200 h 216000"/>
              <a:gd name="textAreaBottom" fmla="*/ 1818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299" y="21600"/>
                </a:lnTo>
                <a:lnTo>
                  <a:pt x="18301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http://img.sj33.cn/uploads/allimg/201302/1-130204134923.png"/>
          <p:cNvPicPr/>
          <p:nvPr/>
        </p:nvPicPr>
        <p:blipFill>
          <a:blip r:embed="rId1"/>
          <a:stretch/>
        </p:blipFill>
        <p:spPr>
          <a:xfrm>
            <a:off x="6529320" y="789120"/>
            <a:ext cx="2392560" cy="2989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http://pic4.nipic.com/20091120/1858375_150044048320_2.jpg"/>
          <p:cNvPicPr/>
          <p:nvPr/>
        </p:nvPicPr>
        <p:blipFill>
          <a:blip r:embed="rId2"/>
          <a:srcRect l="0" t="0" r="0" b="29990"/>
          <a:stretch/>
        </p:blipFill>
        <p:spPr>
          <a:xfrm>
            <a:off x="9578880" y="1805040"/>
            <a:ext cx="2079720" cy="993600"/>
          </a:xfrm>
          <a:prstGeom prst="rect">
            <a:avLst/>
          </a:prstGeom>
          <a:ln w="0">
            <a:noFill/>
          </a:ln>
        </p:spPr>
      </p:pic>
      <p:sp>
        <p:nvSpPr>
          <p:cNvPr id="185" name="文本框 20"/>
          <p:cNvSpPr/>
          <p:nvPr/>
        </p:nvSpPr>
        <p:spPr>
          <a:xfrm>
            <a:off x="1248480" y="356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帅哥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21"/>
          <p:cNvSpPr/>
          <p:nvPr/>
        </p:nvSpPr>
        <p:spPr>
          <a:xfrm>
            <a:off x="4073400" y="356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女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22"/>
          <p:cNvSpPr/>
          <p:nvPr/>
        </p:nvSpPr>
        <p:spPr>
          <a:xfrm>
            <a:off x="6897600" y="35593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师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23"/>
          <p:cNvSpPr/>
          <p:nvPr/>
        </p:nvSpPr>
        <p:spPr>
          <a:xfrm>
            <a:off x="9837000" y="3568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型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直接连接符 24"/>
          <p:cNvSpPr/>
          <p:nvPr/>
        </p:nvSpPr>
        <p:spPr>
          <a:xfrm>
            <a:off x="1090440" y="3968640"/>
            <a:ext cx="954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直接连接符 25"/>
          <p:cNvSpPr/>
          <p:nvPr/>
        </p:nvSpPr>
        <p:spPr>
          <a:xfrm>
            <a:off x="3908520" y="3968640"/>
            <a:ext cx="9540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直接连接符 26"/>
          <p:cNvSpPr/>
          <p:nvPr/>
        </p:nvSpPr>
        <p:spPr>
          <a:xfrm>
            <a:off x="6816600" y="3965400"/>
            <a:ext cx="95436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27"/>
          <p:cNvSpPr/>
          <p:nvPr/>
        </p:nvSpPr>
        <p:spPr>
          <a:xfrm>
            <a:off x="9678960" y="3965400"/>
            <a:ext cx="95400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http://img.sj33.cn/uploads/allimg/201302/1-130204134923.png"/>
          <p:cNvPicPr/>
          <p:nvPr/>
        </p:nvPicPr>
        <p:blipFill>
          <a:blip r:embed="rId3"/>
          <a:stretch/>
        </p:blipFill>
        <p:spPr>
          <a:xfrm>
            <a:off x="6608880" y="878040"/>
            <a:ext cx="2247840" cy="28098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http://pic4.nipic.com/20091120/1858375_150044048320_2.jpg"/>
          <p:cNvPicPr/>
          <p:nvPr/>
        </p:nvPicPr>
        <p:blipFill>
          <a:blip r:embed="rId4"/>
          <a:srcRect l="16352" t="5969" r="0" b="47879"/>
          <a:stretch/>
        </p:blipFill>
        <p:spPr>
          <a:xfrm>
            <a:off x="9926640" y="1922400"/>
            <a:ext cx="1739880" cy="6555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http://pic4.nipic.com/20091120/1858375_150044048320_2.jpg"/>
          <p:cNvPicPr/>
          <p:nvPr/>
        </p:nvPicPr>
        <p:blipFill>
          <a:blip r:embed="rId5"/>
          <a:srcRect l="26555" t="26292" r="0" b="29990"/>
          <a:stretch/>
        </p:blipFill>
        <p:spPr>
          <a:xfrm>
            <a:off x="10094760" y="2225520"/>
            <a:ext cx="152748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0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17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7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7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14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4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4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3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22" presetSubtype="8">
                                  <p:stCondLst>
                                    <p:cond delay="1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3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22" presetSubtype="8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2" presetSubtype="8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xit" presetID="22" presetSubtype="8">
                                  <p:stCondLst>
                                    <p:cond delay="5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2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2" presetSubtype="8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mph" presetID="32">
                                  <p:stCondLst>
                                    <p:cond delay="6000"/>
                                  </p:stCondLst>
                                  <p:childTnLst>
                                    <p:animRot by="120000">
                                      <p:cBhvr>
                                        <p:cTn id="83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3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2" presetSubtype="8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mph" presetID="32">
                                  <p:stCondLst>
                                    <p:cond delay="6400"/>
                                  </p:stCondLst>
                                  <p:childTnLst>
                                    <p:animRot by="120000">
                                      <p:cBhvr>
                                        <p:cTn id="84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4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2" presetSubtype="8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xit" presetID="22" presetSubtype="8">
                                  <p:stCondLst>
                                    <p:cond delay="7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点评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0"/>
          <p:cNvSpPr/>
          <p:nvPr/>
        </p:nvSpPr>
        <p:spPr>
          <a:xfrm>
            <a:off x="5171040" y="518940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Commen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nodeType="clickEffect" fill="hold">
                      <p:stCondLst>
                        <p:cond delay="0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9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9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6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0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4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8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2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6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0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矩形 3"/>
          <p:cNvSpPr/>
          <p:nvPr/>
        </p:nvSpPr>
        <p:spPr>
          <a:xfrm>
            <a:off x="7566120" y="730080"/>
            <a:ext cx="2027160" cy="533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4"/>
          <p:cNvSpPr/>
          <p:nvPr/>
        </p:nvSpPr>
        <p:spPr>
          <a:xfrm>
            <a:off x="4983120" y="4359240"/>
            <a:ext cx="6095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集成排行、星级、评论于一体的服务点评系统，精准定位客户需求，及时收集顾客反馈信息，促使店家服务效率有效提高，创造更佳的品牌效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5"/>
          <p:cNvSpPr/>
          <p:nvPr/>
        </p:nvSpPr>
        <p:spPr>
          <a:xfrm>
            <a:off x="2481120" y="1981080"/>
            <a:ext cx="143208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椭圆 6"/>
          <p:cNvSpPr/>
          <p:nvPr/>
        </p:nvSpPr>
        <p:spPr>
          <a:xfrm>
            <a:off x="2313000" y="1812960"/>
            <a:ext cx="67140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椭圆 7"/>
          <p:cNvSpPr/>
          <p:nvPr/>
        </p:nvSpPr>
        <p:spPr>
          <a:xfrm>
            <a:off x="5380200" y="1981080"/>
            <a:ext cx="143172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椭圆 8"/>
          <p:cNvSpPr/>
          <p:nvPr/>
        </p:nvSpPr>
        <p:spPr>
          <a:xfrm>
            <a:off x="5211720" y="1812960"/>
            <a:ext cx="67140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椭圆 9"/>
          <p:cNvSpPr/>
          <p:nvPr/>
        </p:nvSpPr>
        <p:spPr>
          <a:xfrm>
            <a:off x="8275680" y="1981080"/>
            <a:ext cx="143172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椭圆 10"/>
          <p:cNvSpPr/>
          <p:nvPr/>
        </p:nvSpPr>
        <p:spPr>
          <a:xfrm>
            <a:off x="8107200" y="1812960"/>
            <a:ext cx="67176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http://pic21.nipic.com/20120611/2786001_084010888000_2.jpg"/>
          <p:cNvPicPr/>
          <p:nvPr/>
        </p:nvPicPr>
        <p:blipFill>
          <a:blip r:embed="rId1"/>
          <a:srcRect l="6564" t="13688" r="7964" b="8761"/>
          <a:stretch/>
        </p:blipFill>
        <p:spPr>
          <a:xfrm>
            <a:off x="2185920" y="1868400"/>
            <a:ext cx="925560" cy="560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http://www.ii123.com/uploads/allimg/c121222/135615022L1460-12435.png"/>
          <p:cNvPicPr/>
          <p:nvPr/>
        </p:nvPicPr>
        <p:blipFill>
          <a:blip r:embed="rId2"/>
          <a:stretch/>
        </p:blipFill>
        <p:spPr>
          <a:xfrm>
            <a:off x="5070600" y="166680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http://221.2.159.215:90/uploads/allimg/090523/0411544442-29.png"/>
          <p:cNvPicPr/>
          <p:nvPr/>
        </p:nvPicPr>
        <p:blipFill>
          <a:blip r:embed="rId3"/>
          <a:stretch/>
        </p:blipFill>
        <p:spPr>
          <a:xfrm rot="20566200">
            <a:off x="8040240" y="1820520"/>
            <a:ext cx="655560" cy="655560"/>
          </a:xfrm>
          <a:prstGeom prst="rect">
            <a:avLst/>
          </a:prstGeom>
          <a:ln w="0">
            <a:noFill/>
          </a:ln>
        </p:spPr>
      </p:pic>
      <p:sp>
        <p:nvSpPr>
          <p:cNvPr id="214" name="文本框 14"/>
          <p:cNvSpPr/>
          <p:nvPr/>
        </p:nvSpPr>
        <p:spPr>
          <a:xfrm>
            <a:off x="289368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排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15"/>
          <p:cNvSpPr/>
          <p:nvPr/>
        </p:nvSpPr>
        <p:spPr>
          <a:xfrm>
            <a:off x="579240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星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16"/>
          <p:cNvSpPr/>
          <p:nvPr/>
        </p:nvSpPr>
        <p:spPr>
          <a:xfrm>
            <a:off x="868788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评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19"/>
          <p:cNvSpPr/>
          <p:nvPr/>
        </p:nvSpPr>
        <p:spPr>
          <a:xfrm>
            <a:off x="7966440" y="8064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因为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更精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20"/>
          <p:cNvSpPr/>
          <p:nvPr/>
        </p:nvSpPr>
        <p:spPr>
          <a:xfrm>
            <a:off x="828000" y="63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评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接连接符 21"/>
          <p:cNvSpPr/>
          <p:nvPr/>
        </p:nvSpPr>
        <p:spPr>
          <a:xfrm>
            <a:off x="0" y="533520"/>
            <a:ext cx="26478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接连接符 22"/>
          <p:cNvSpPr/>
          <p:nvPr/>
        </p:nvSpPr>
        <p:spPr>
          <a:xfrm>
            <a:off x="0" y="1265400"/>
            <a:ext cx="9585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接连接符 23"/>
          <p:cNvSpPr/>
          <p:nvPr/>
        </p:nvSpPr>
        <p:spPr>
          <a:xfrm>
            <a:off x="4676760" y="4048200"/>
            <a:ext cx="66643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接连接符 24"/>
          <p:cNvSpPr/>
          <p:nvPr/>
        </p:nvSpPr>
        <p:spPr>
          <a:xfrm>
            <a:off x="4656240" y="5986440"/>
            <a:ext cx="666252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25"/>
          <p:cNvSpPr/>
          <p:nvPr/>
        </p:nvSpPr>
        <p:spPr>
          <a:xfrm>
            <a:off x="746280" y="4048200"/>
            <a:ext cx="473040" cy="19396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26"/>
          <p:cNvSpPr/>
          <p:nvPr/>
        </p:nvSpPr>
        <p:spPr>
          <a:xfrm>
            <a:off x="474480" y="4273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评界面截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27" descr=""/>
          <p:cNvPicPr/>
          <p:nvPr/>
        </p:nvPicPr>
        <p:blipFill>
          <a:blip r:embed="rId4"/>
          <a:stretch/>
        </p:blipFill>
        <p:spPr>
          <a:xfrm>
            <a:off x="1225440" y="4054320"/>
            <a:ext cx="3084480" cy="19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nodeType="clickEffect" fill="hold">
                      <p:stCondLst>
                        <p:cond delay="0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40.5399990081787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移动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0"/>
          <p:cNvSpPr/>
          <p:nvPr/>
        </p:nvSpPr>
        <p:spPr>
          <a:xfrm>
            <a:off x="5120280" y="5189400"/>
            <a:ext cx="19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obile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nodeType="clickEffect" fill="hold">
                      <p:stCondLst>
                        <p:cond delay="0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9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9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8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2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6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0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8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2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任意多边形 20"/>
          <p:cNvSpPr/>
          <p:nvPr/>
        </p:nvSpPr>
        <p:spPr>
          <a:xfrm flipH="1">
            <a:off x="1628640" y="3627360"/>
            <a:ext cx="3230640" cy="1990800"/>
          </a:xfrm>
          <a:custGeom>
            <a:avLst/>
            <a:gdLst>
              <a:gd name="textAreaLeft" fmla="*/ 360 w 3230640"/>
              <a:gd name="textAreaRight" fmla="*/ 3231360 w 3230640"/>
              <a:gd name="textAreaTop" fmla="*/ 0 h 1990800"/>
              <a:gd name="textAreaBottom" fmla="*/ 1991160 h 19908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任意多边形 21"/>
          <p:cNvSpPr/>
          <p:nvPr/>
        </p:nvSpPr>
        <p:spPr>
          <a:xfrm>
            <a:off x="5105520" y="3941640"/>
            <a:ext cx="2354040" cy="1451160"/>
          </a:xfrm>
          <a:custGeom>
            <a:avLst/>
            <a:gdLst>
              <a:gd name="textAreaLeft" fmla="*/ 0 w 2354040"/>
              <a:gd name="textAreaRight" fmla="*/ 2354400 w 2354040"/>
              <a:gd name="textAreaTop" fmla="*/ 0 h 1451160"/>
              <a:gd name="textAreaBottom" fmla="*/ 1451520 h 14511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任意多边形 19"/>
          <p:cNvSpPr/>
          <p:nvPr/>
        </p:nvSpPr>
        <p:spPr>
          <a:xfrm flipH="1">
            <a:off x="3000240" y="2781360"/>
            <a:ext cx="3229200" cy="1992240"/>
          </a:xfrm>
          <a:custGeom>
            <a:avLst/>
            <a:gdLst>
              <a:gd name="textAreaLeft" fmla="*/ 360 w 3229200"/>
              <a:gd name="textAreaRight" fmla="*/ 3229920 w 3229200"/>
              <a:gd name="textAreaTop" fmla="*/ 0 h 1992240"/>
              <a:gd name="textAreaBottom" fmla="*/ 1992600 h 199224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椭圆 26"/>
          <p:cNvSpPr/>
          <p:nvPr/>
        </p:nvSpPr>
        <p:spPr>
          <a:xfrm>
            <a:off x="304920" y="484200"/>
            <a:ext cx="1164960" cy="1163520"/>
          </a:xfrm>
          <a:prstGeom prst="ellipse">
            <a:avLst/>
          </a:prstGeom>
          <a:solidFill>
            <a:srgbClr val="dc5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任意多边形 11"/>
          <p:cNvSpPr/>
          <p:nvPr/>
        </p:nvSpPr>
        <p:spPr>
          <a:xfrm flipH="1">
            <a:off x="1525680" y="1467000"/>
            <a:ext cx="1612800" cy="995040"/>
          </a:xfrm>
          <a:custGeom>
            <a:avLst/>
            <a:gdLst>
              <a:gd name="textAreaLeft" fmla="*/ 360 w 1612800"/>
              <a:gd name="textAreaRight" fmla="*/ 1613520 w 1612800"/>
              <a:gd name="textAreaTop" fmla="*/ 0 h 995040"/>
              <a:gd name="textAreaBottom" fmla="*/ 995400 h 99504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任意多边形 10"/>
          <p:cNvSpPr/>
          <p:nvPr/>
        </p:nvSpPr>
        <p:spPr>
          <a:xfrm>
            <a:off x="-512640" y="1119240"/>
            <a:ext cx="1612800" cy="993600"/>
          </a:xfrm>
          <a:custGeom>
            <a:avLst/>
            <a:gdLst>
              <a:gd name="textAreaLeft" fmla="*/ 0 w 1612800"/>
              <a:gd name="textAreaRight" fmla="*/ 1613160 w 1612800"/>
              <a:gd name="textAreaTop" fmla="*/ 0 h 993600"/>
              <a:gd name="textAreaBottom" fmla="*/ 993960 h 9936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任意多边形 9"/>
          <p:cNvSpPr/>
          <p:nvPr/>
        </p:nvSpPr>
        <p:spPr>
          <a:xfrm>
            <a:off x="-171360" y="1467000"/>
            <a:ext cx="2503440" cy="154440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1544400"/>
              <a:gd name="textAreaBottom" fmla="*/ 1544760 h 15444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任意多边形 14"/>
          <p:cNvSpPr/>
          <p:nvPr/>
        </p:nvSpPr>
        <p:spPr>
          <a:xfrm flipH="1">
            <a:off x="365040" y="5175360"/>
            <a:ext cx="2230560" cy="1374840"/>
          </a:xfrm>
          <a:custGeom>
            <a:avLst/>
            <a:gdLst>
              <a:gd name="textAreaLeft" fmla="*/ 360 w 2230560"/>
              <a:gd name="textAreaRight" fmla="*/ 2231280 w 2230560"/>
              <a:gd name="textAreaTop" fmla="*/ 0 h 1374840"/>
              <a:gd name="textAreaBottom" fmla="*/ 1375200 h 137484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任意多边形 13"/>
          <p:cNvSpPr/>
          <p:nvPr/>
        </p:nvSpPr>
        <p:spPr>
          <a:xfrm flipH="1">
            <a:off x="932760" y="5175360"/>
            <a:ext cx="5457960" cy="3365280"/>
          </a:xfrm>
          <a:custGeom>
            <a:avLst/>
            <a:gdLst>
              <a:gd name="textAreaLeft" fmla="*/ -360 w 5457960"/>
              <a:gd name="textAreaRight" fmla="*/ 5457960 w 5457960"/>
              <a:gd name="textAreaTop" fmla="*/ 0 h 3365280"/>
              <a:gd name="textAreaBottom" fmla="*/ 3365640 h 336528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任意多边形 15"/>
          <p:cNvSpPr/>
          <p:nvPr/>
        </p:nvSpPr>
        <p:spPr>
          <a:xfrm flipH="1">
            <a:off x="5508000" y="6006960"/>
            <a:ext cx="1763640" cy="1087560"/>
          </a:xfrm>
          <a:custGeom>
            <a:avLst/>
            <a:gdLst>
              <a:gd name="textAreaLeft" fmla="*/ -360 w 1763640"/>
              <a:gd name="textAreaRight" fmla="*/ 1763640 w 1763640"/>
              <a:gd name="textAreaTop" fmla="*/ 0 h 1087560"/>
              <a:gd name="textAreaBottom" fmla="*/ 1087920 h 10875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任意多边形 16"/>
          <p:cNvSpPr/>
          <p:nvPr/>
        </p:nvSpPr>
        <p:spPr>
          <a:xfrm>
            <a:off x="6994440" y="5657760"/>
            <a:ext cx="2791080" cy="1722600"/>
          </a:xfrm>
          <a:custGeom>
            <a:avLst/>
            <a:gdLst>
              <a:gd name="textAreaLeft" fmla="*/ 0 w 2791080"/>
              <a:gd name="textAreaRight" fmla="*/ 2791440 w 2791080"/>
              <a:gd name="textAreaTop" fmla="*/ 0 h 1722600"/>
              <a:gd name="textAreaBottom" fmla="*/ 1722960 h 17226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任意多边形 23"/>
          <p:cNvSpPr/>
          <p:nvPr/>
        </p:nvSpPr>
        <p:spPr>
          <a:xfrm flipH="1">
            <a:off x="10779840" y="2506680"/>
            <a:ext cx="1411560" cy="869760"/>
          </a:xfrm>
          <a:custGeom>
            <a:avLst/>
            <a:gdLst>
              <a:gd name="textAreaLeft" fmla="*/ -360 w 1411560"/>
              <a:gd name="textAreaRight" fmla="*/ 1411560 w 14115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任意多边形 24"/>
          <p:cNvSpPr/>
          <p:nvPr/>
        </p:nvSpPr>
        <p:spPr>
          <a:xfrm>
            <a:off x="8996400" y="2200320"/>
            <a:ext cx="1411200" cy="869760"/>
          </a:xfrm>
          <a:custGeom>
            <a:avLst/>
            <a:gdLst>
              <a:gd name="textAreaLeft" fmla="*/ 0 w 1411200"/>
              <a:gd name="textAreaRight" fmla="*/ 1411560 w 14112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任意多边形 25"/>
          <p:cNvSpPr/>
          <p:nvPr/>
        </p:nvSpPr>
        <p:spPr>
          <a:xfrm>
            <a:off x="9294840" y="2506680"/>
            <a:ext cx="2192400" cy="1351080"/>
          </a:xfrm>
          <a:custGeom>
            <a:avLst/>
            <a:gdLst>
              <a:gd name="textAreaLeft" fmla="*/ 0 w 2192400"/>
              <a:gd name="textAreaRight" fmla="*/ 2192760 w 2192400"/>
              <a:gd name="textAreaTop" fmla="*/ 0 h 1351080"/>
              <a:gd name="textAreaBottom" fmla="*/ 1351440 h 135108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29"/>
          <p:cNvSpPr/>
          <p:nvPr/>
        </p:nvSpPr>
        <p:spPr>
          <a:xfrm>
            <a:off x="2900520" y="2327400"/>
            <a:ext cx="6322680" cy="1830240"/>
          </a:xfrm>
          <a:prstGeom prst="rect">
            <a:avLst/>
          </a:prstGeom>
          <a:solidFill>
            <a:srgbClr val="d2107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28"/>
          <p:cNvSpPr/>
          <p:nvPr/>
        </p:nvSpPr>
        <p:spPr>
          <a:xfrm>
            <a:off x="3265560" y="2624040"/>
            <a:ext cx="5127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让你摆脱守店烦恼，通过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软件平台架设，连接店内美频一体机摄像设备，无论身在何处，依然可以管理店铺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8" descr="http://pic14.nipic.com/20110511/7326837_095555677109_2.jpg"/>
          <p:cNvPicPr/>
          <p:nvPr/>
        </p:nvPicPr>
        <p:blipFill>
          <a:blip r:embed="rId1"/>
          <a:srcRect l="29544" t="18548" r="31515" b="10959"/>
          <a:stretch/>
        </p:blipFill>
        <p:spPr>
          <a:xfrm>
            <a:off x="7835760" y="6858000"/>
            <a:ext cx="1949760" cy="2352600"/>
          </a:xfrm>
          <a:prstGeom prst="rect">
            <a:avLst/>
          </a:prstGeom>
          <a:ln w="0">
            <a:noFill/>
          </a:ln>
        </p:spPr>
      </p:pic>
      <p:sp>
        <p:nvSpPr>
          <p:cNvPr id="251" name="文本框 1"/>
          <p:cNvSpPr/>
          <p:nvPr/>
        </p:nvSpPr>
        <p:spPr>
          <a:xfrm>
            <a:off x="3401640" y="1847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开启云端办公时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0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7 L 0.5543 -3.7037E-007 E">
                                      <p:cBhvr>
                                        <p:cTn id="1146" dur="50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-4.07407E-006 L 0.20976 -4.07407E-006 E">
                                      <p:cBhvr>
                                        <p:cTn id="1148" dur="50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11111E-006 L -0.36601 -1.11111E-006 E">
                                      <p:cBhvr>
                                        <p:cTn id="1150" dur="50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152" dur="50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5833E-006 -2.59259E-006 L 0.40547 -2.59259E-006 E">
                                      <p:cBhvr>
                                        <p:cTn id="1154" dur="50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156" dur="50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0833E-006 4.81481E-006 L -0.85183 4.81481E-006 E">
                                      <p:cBhvr>
                                        <p:cTn id="1158" dur="50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4.07407E-006 L -0.24493 4.07407E-006 E">
                                      <p:cBhvr>
                                        <p:cTn id="1160" dur="50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96296E-006 L -0.38763 0.04953 E">
                                      <p:cBhvr>
                                        <p:cTn id="1162" dur="50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5E-006 2.22222E-006 L 3.75E-006 -0.83797 E">
                                      <p:cBhvr>
                                        <p:cTn id="1164" dur="4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组合 3"/>
          <p:cNvGrpSpPr/>
          <p:nvPr/>
        </p:nvGrpSpPr>
        <p:grpSpPr>
          <a:xfrm>
            <a:off x="4400640" y="1389240"/>
            <a:ext cx="3421080" cy="3420720"/>
            <a:chOff x="4400640" y="1389240"/>
            <a:chExt cx="3421080" cy="3420720"/>
          </a:xfrm>
        </p:grpSpPr>
        <p:sp>
          <p:nvSpPr>
            <p:cNvPr id="253" name="椭圆 4"/>
            <p:cNvSpPr/>
            <p:nvPr/>
          </p:nvSpPr>
          <p:spPr>
            <a:xfrm>
              <a:off x="440064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文本框 5"/>
            <p:cNvSpPr/>
            <p:nvPr/>
          </p:nvSpPr>
          <p:spPr>
            <a:xfrm>
              <a:off x="510624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降低美发店成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椭圆 6"/>
          <p:cNvSpPr/>
          <p:nvPr/>
        </p:nvSpPr>
        <p:spPr>
          <a:xfrm>
            <a:off x="17136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7"/>
          <p:cNvSpPr/>
          <p:nvPr/>
        </p:nvSpPr>
        <p:spPr>
          <a:xfrm>
            <a:off x="967680" y="2870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组合 8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258" name="椭圆 9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文本框 10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0" dur="8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8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5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4"/>
          <p:cNvSpPr/>
          <p:nvPr/>
        </p:nvSpPr>
        <p:spPr>
          <a:xfrm>
            <a:off x="2254320" y="628560"/>
            <a:ext cx="9939240" cy="1710000"/>
          </a:xfrm>
          <a:prstGeom prst="rect">
            <a:avLst/>
          </a:prstGeom>
          <a:solidFill>
            <a:srgbClr val="a40c63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2473200" y="628560"/>
            <a:ext cx="93679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Calibri"/>
                <a:ea typeface="微软雅黑"/>
              </a:rPr>
              <a:t>行业变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美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O2O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跨界营销、一体化集成解决方案成为大势所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随着美发市场日趋成熟的发展与消费者需求的不断变迁，创新模式，跨界整合，坚持以客户为导向，运用新的科技手段革新传统产业已成为美发行业的必然趋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6"/>
          <p:cNvSpPr/>
          <p:nvPr/>
        </p:nvSpPr>
        <p:spPr>
          <a:xfrm>
            <a:off x="2355120" y="3029040"/>
            <a:ext cx="1902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店全国覆盖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麦当劳的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覆盖率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要</a:t>
            </a:r>
            <a:r>
              <a:rPr b="0" lang="zh-CN" sz="2800" spc="-1" strike="noStrike">
                <a:solidFill>
                  <a:srgbClr val="e9118c"/>
                </a:solidFill>
                <a:latin typeface="微软雅黑"/>
                <a:ea typeface="微软雅黑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7"/>
          <p:cNvSpPr/>
          <p:nvPr/>
        </p:nvSpPr>
        <p:spPr>
          <a:xfrm>
            <a:off x="7242120" y="297504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中国美发市场规模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269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亿美元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将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331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亿美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8"/>
          <p:cNvSpPr/>
          <p:nvPr/>
        </p:nvSpPr>
        <p:spPr>
          <a:xfrm>
            <a:off x="6898320" y="5091120"/>
            <a:ext cx="26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能做到信息化管理的只有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5.7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9"/>
          <p:cNvSpPr/>
          <p:nvPr/>
        </p:nvSpPr>
        <p:spPr>
          <a:xfrm>
            <a:off x="2166840" y="509112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店数量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325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万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10"/>
          <p:cNvSpPr/>
          <p:nvPr/>
        </p:nvSpPr>
        <p:spPr>
          <a:xfrm>
            <a:off x="501480" y="2917800"/>
            <a:ext cx="1047960" cy="104760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图片 11" descr=""/>
          <p:cNvPicPr/>
          <p:nvPr/>
        </p:nvPicPr>
        <p:blipFill>
          <a:blip r:embed="rId1">
            <a:biLevel thresh="50000"/>
          </a:blip>
          <a:srcRect l="17428" t="9335" r="20063" b="2298"/>
          <a:stretch/>
        </p:blipFill>
        <p:spPr>
          <a:xfrm>
            <a:off x="565200" y="3121200"/>
            <a:ext cx="863640" cy="664920"/>
          </a:xfrm>
          <a:prstGeom prst="rect">
            <a:avLst/>
          </a:prstGeom>
          <a:ln w="0">
            <a:noFill/>
          </a:ln>
        </p:spPr>
      </p:pic>
      <p:sp>
        <p:nvSpPr>
          <p:cNvPr id="56" name="椭圆 14"/>
          <p:cNvSpPr/>
          <p:nvPr/>
        </p:nvSpPr>
        <p:spPr>
          <a:xfrm>
            <a:off x="5977080" y="2917800"/>
            <a:ext cx="1047600" cy="104760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17"/>
          <p:cNvSpPr/>
          <p:nvPr/>
        </p:nvSpPr>
        <p:spPr>
          <a:xfrm>
            <a:off x="501480" y="4805280"/>
            <a:ext cx="1047960" cy="104796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21" descr=""/>
          <p:cNvPicPr/>
          <p:nvPr/>
        </p:nvPicPr>
        <p:blipFill>
          <a:blip r:embed="rId2"/>
          <a:stretch/>
        </p:blipFill>
        <p:spPr>
          <a:xfrm>
            <a:off x="5977080" y="3038400"/>
            <a:ext cx="1022040" cy="771480"/>
          </a:xfrm>
          <a:prstGeom prst="rect">
            <a:avLst/>
          </a:prstGeom>
          <a:ln w="0">
            <a:noFill/>
          </a:ln>
        </p:spPr>
      </p:pic>
      <p:pic>
        <p:nvPicPr>
          <p:cNvPr id="59" name="图片 22" descr=""/>
          <p:cNvPicPr/>
          <p:nvPr/>
        </p:nvPicPr>
        <p:blipFill>
          <a:blip r:embed="rId3"/>
          <a:stretch/>
        </p:blipFill>
        <p:spPr>
          <a:xfrm>
            <a:off x="665280" y="4965840"/>
            <a:ext cx="738000" cy="68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24" dur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" dur="48" fill="hold">
                                          <p:stCondLst>
                                            <p:cond delay="4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" dur="48" fill="hold">
                                          <p:stCondLst>
                                            <p:cond delay="9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" dur="48" fill="hold">
                                          <p:stCondLst>
                                            <p:cond delay="14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" dur="4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62.8559989929199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56" dur="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" dur="44" fill="hold">
                                          <p:stCondLst>
                                            <p:cond delay="4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8" dur="44" fill="hold">
                                          <p:stCondLst>
                                            <p:cond delay="8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" dur="44" fill="hold">
                                          <p:stCondLst>
                                            <p:cond delay="13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" dur="44" fill="hold">
                                          <p:stCondLst>
                                            <p:cond delay="1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39.2879981994629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88" dur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" dur="48" fill="hold">
                                          <p:stCondLst>
                                            <p:cond delay="4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0" dur="48" fill="hold">
                                          <p:stCondLst>
                                            <p:cond delay="9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48" fill="hold">
                                          <p:stCondLst>
                                            <p:cond delay="14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2" dur="4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4.76000213623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1.015999794006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26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2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99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49">
                                          <p:stCondLst>
                                            <p:cond delay="59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74">
                                          <p:stCondLst>
                                            <p:cond delay="74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12" fill="hold">
                                          <p:stCondLst>
                                            <p:cond delay="293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75" fill="hold">
                                          <p:stCondLst>
                                            <p:cond delay="30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12" fill="hold">
                                          <p:stCondLst>
                                            <p:cond delay="59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75" fill="hold">
                                          <p:stCondLst>
                                            <p:cond delay="60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12" fill="hold">
                                          <p:stCondLst>
                                            <p:cond delay="73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75" fill="hold">
                                          <p:stCondLst>
                                            <p:cond delay="751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12" fill="hold">
                                          <p:stCondLst>
                                            <p:cond delay="81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75" fill="hold">
                                          <p:stCondLst>
                                            <p:cond delay="82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5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安防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直接连接符 6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直接连接符 7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8"/>
          <p:cNvSpPr/>
          <p:nvPr/>
        </p:nvSpPr>
        <p:spPr>
          <a:xfrm>
            <a:off x="5310360" y="5235480"/>
            <a:ext cx="166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椭圆 9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椭圆 10"/>
          <p:cNvSpPr/>
          <p:nvPr/>
        </p:nvSpPr>
        <p:spPr>
          <a:xfrm>
            <a:off x="440064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11"/>
          <p:cNvSpPr/>
          <p:nvPr/>
        </p:nvSpPr>
        <p:spPr>
          <a:xfrm>
            <a:off x="5106240" y="2870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nodeType="clickEffect" fill="hold">
                      <p:stCondLst>
                        <p:cond delay="0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1.85185E-006 L -1.875E-006 -0.05856 E">
                                      <p:cBhvr>
                                        <p:cTn id="1183" dur="15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0.05856 L -1.875E-006 0.00023 E">
                                      <p:cBhvr>
                                        <p:cTn id="1185" dur="15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7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8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9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9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7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1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4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5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9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2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3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7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1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矩形 3"/>
          <p:cNvSpPr/>
          <p:nvPr/>
        </p:nvSpPr>
        <p:spPr>
          <a:xfrm>
            <a:off x="2448000" y="3308400"/>
            <a:ext cx="73785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免费集成整套安防监控系统，包括实时监控、摄像头监控、红外监控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监控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报警等一系列安防监控功能。让你时刻监控店内员工工作及店铺安全状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椭圆 11"/>
          <p:cNvSpPr/>
          <p:nvPr/>
        </p:nvSpPr>
        <p:spPr>
          <a:xfrm>
            <a:off x="2960640" y="596880"/>
            <a:ext cx="223992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椭圆 12"/>
          <p:cNvSpPr/>
          <p:nvPr/>
        </p:nvSpPr>
        <p:spPr>
          <a:xfrm>
            <a:off x="4971960" y="601560"/>
            <a:ext cx="223992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椭圆 13"/>
          <p:cNvSpPr/>
          <p:nvPr/>
        </p:nvSpPr>
        <p:spPr>
          <a:xfrm>
            <a:off x="6975360" y="582480"/>
            <a:ext cx="223848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16"/>
          <p:cNvSpPr/>
          <p:nvPr/>
        </p:nvSpPr>
        <p:spPr>
          <a:xfrm>
            <a:off x="3625200" y="118260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摄像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7"/>
          <p:cNvSpPr/>
          <p:nvPr/>
        </p:nvSpPr>
        <p:spPr>
          <a:xfrm>
            <a:off x="5775840" y="117324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红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18"/>
          <p:cNvSpPr/>
          <p:nvPr/>
        </p:nvSpPr>
        <p:spPr>
          <a:xfrm>
            <a:off x="7607520" y="1182600"/>
            <a:ext cx="99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20"/>
          <p:cNvSpPr/>
          <p:nvPr/>
        </p:nvSpPr>
        <p:spPr>
          <a:xfrm>
            <a:off x="4730040" y="5711760"/>
            <a:ext cx="27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你的店铺时刻掌握在你的手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直接连接符 21"/>
          <p:cNvSpPr/>
          <p:nvPr/>
        </p:nvSpPr>
        <p:spPr>
          <a:xfrm flipH="1">
            <a:off x="6086520" y="2840040"/>
            <a:ext cx="6480" cy="487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直接连接符 22"/>
          <p:cNvSpPr/>
          <p:nvPr/>
        </p:nvSpPr>
        <p:spPr>
          <a:xfrm flipH="1">
            <a:off x="2430000" y="3308400"/>
            <a:ext cx="3706920" cy="190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直接连接符 23"/>
          <p:cNvSpPr/>
          <p:nvPr/>
        </p:nvSpPr>
        <p:spPr>
          <a:xfrm>
            <a:off x="2387520" y="3327480"/>
            <a:ext cx="0" cy="145872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直接连接符 24"/>
          <p:cNvSpPr/>
          <p:nvPr/>
        </p:nvSpPr>
        <p:spPr>
          <a:xfrm>
            <a:off x="2405160" y="4786200"/>
            <a:ext cx="266688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直接连接符 25"/>
          <p:cNvSpPr/>
          <p:nvPr/>
        </p:nvSpPr>
        <p:spPr>
          <a:xfrm flipV="1">
            <a:off x="5072040" y="4786200"/>
            <a:ext cx="0" cy="5652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直接连接符 26"/>
          <p:cNvSpPr/>
          <p:nvPr/>
        </p:nvSpPr>
        <p:spPr>
          <a:xfrm>
            <a:off x="4610160" y="5351400"/>
            <a:ext cx="46188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直接连接符 27"/>
          <p:cNvSpPr/>
          <p:nvPr/>
        </p:nvSpPr>
        <p:spPr>
          <a:xfrm>
            <a:off x="4610160" y="5351400"/>
            <a:ext cx="0" cy="461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接连接符 28"/>
          <p:cNvSpPr/>
          <p:nvPr/>
        </p:nvSpPr>
        <p:spPr>
          <a:xfrm flipH="1">
            <a:off x="3854160" y="5813280"/>
            <a:ext cx="7556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29"/>
          <p:cNvSpPr/>
          <p:nvPr/>
        </p:nvSpPr>
        <p:spPr>
          <a:xfrm flipV="1">
            <a:off x="3844800" y="5820840"/>
            <a:ext cx="1800" cy="4683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直接连接符 30"/>
          <p:cNvSpPr/>
          <p:nvPr/>
        </p:nvSpPr>
        <p:spPr>
          <a:xfrm flipH="1">
            <a:off x="3854520" y="6280200"/>
            <a:ext cx="223344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直接连接符 31"/>
          <p:cNvSpPr/>
          <p:nvPr/>
        </p:nvSpPr>
        <p:spPr>
          <a:xfrm>
            <a:off x="8342280" y="5823000"/>
            <a:ext cx="1800" cy="4572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32"/>
          <p:cNvSpPr/>
          <p:nvPr/>
        </p:nvSpPr>
        <p:spPr>
          <a:xfrm flipH="1">
            <a:off x="7564320" y="5819760"/>
            <a:ext cx="7826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直接连接符 33"/>
          <p:cNvSpPr/>
          <p:nvPr/>
        </p:nvSpPr>
        <p:spPr>
          <a:xfrm flipH="1">
            <a:off x="7556400" y="5351400"/>
            <a:ext cx="7920" cy="461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34"/>
          <p:cNvSpPr/>
          <p:nvPr/>
        </p:nvSpPr>
        <p:spPr>
          <a:xfrm flipH="1" flipV="1">
            <a:off x="7102080" y="5347800"/>
            <a:ext cx="461880" cy="32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35"/>
          <p:cNvSpPr/>
          <p:nvPr/>
        </p:nvSpPr>
        <p:spPr>
          <a:xfrm>
            <a:off x="7089840" y="4786200"/>
            <a:ext cx="9360" cy="5619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36"/>
          <p:cNvSpPr/>
          <p:nvPr/>
        </p:nvSpPr>
        <p:spPr>
          <a:xfrm flipV="1">
            <a:off x="7102440" y="4784760"/>
            <a:ext cx="270036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直接连接符 37"/>
          <p:cNvSpPr/>
          <p:nvPr/>
        </p:nvSpPr>
        <p:spPr>
          <a:xfrm flipH="1" flipV="1">
            <a:off x="9785520" y="3308040"/>
            <a:ext cx="17280" cy="14763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38"/>
          <p:cNvSpPr/>
          <p:nvPr/>
        </p:nvSpPr>
        <p:spPr>
          <a:xfrm>
            <a:off x="6137280" y="3308400"/>
            <a:ext cx="37069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39"/>
          <p:cNvSpPr/>
          <p:nvPr/>
        </p:nvSpPr>
        <p:spPr>
          <a:xfrm flipH="1">
            <a:off x="6102000" y="6275520"/>
            <a:ext cx="22446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40"/>
          <p:cNvSpPr/>
          <p:nvPr/>
        </p:nvSpPr>
        <p:spPr>
          <a:xfrm>
            <a:off x="5451480" y="4784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他无所遁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41"/>
          <p:cNvSpPr/>
          <p:nvPr/>
        </p:nvSpPr>
        <p:spPr>
          <a:xfrm>
            <a:off x="5177160" y="52498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你的店铺无盗可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nodeType="clickEffect" fill="hold">
                      <p:stCondLst>
                        <p:cond delay="0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2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5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0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8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5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9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5" nodeType="withEffect" fill="hold" presetClass="exit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9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1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0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7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0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3" nodeType="withEffect" fill="hold" presetClass="exit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9" nodeType="withEffect" fill="hold" presetClass="exit" presetID="22" presetSubtype="2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2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2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4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22" presetSubtype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22" presetSubtype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4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3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2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xit" presetID="22" presetSubtype="2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2" nodeType="withEffect" fill="hold" presetClass="exit" presetID="22" presetSubtype="8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22" presetSubtype="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xit" presetID="22" presetSubtype="2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7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xit" presetID="22" presetSubtype="8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7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2" nodeType="withEffect" fill="hold" presetClass="exit" presetID="22" presetSubtype="1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8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8" nodeType="withEffect" fill="hold" presetClass="exit" presetID="22" presetSubtype="1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8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nodeType="withEffect" fill="hold" presetClass="exit" presetID="22" presetSubtype="8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2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0" nodeType="withEffect" fill="hold" presetClass="exit" presetID="22" presetSubtype="2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会员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10"/>
          <p:cNvSpPr/>
          <p:nvPr/>
        </p:nvSpPr>
        <p:spPr>
          <a:xfrm>
            <a:off x="4932000" y="5189400"/>
            <a:ext cx="23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ember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3" dur="indefinite" restart="never" nodeType="tmRoot">
          <p:childTnLst>
            <p:seq>
              <p:cTn id="1404" dur="indefinite" nodeType="mainSeq">
                <p:childTnLst>
                  <p:par>
                    <p:cTn id="1405" nodeType="clickEffect" fill="hold">
                      <p:stCondLst>
                        <p:cond delay="0"/>
                      </p:stCondLst>
                      <p:childTnLst>
                        <p:par>
                          <p:cTn id="1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9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9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nodeType="clickEffect" fill="hold">
                      <p:stCondLst>
                        <p:cond delay="indefinite"/>
                      </p:stCondLst>
                      <p:childTnLst>
                        <p:par>
                          <p:cTn id="1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9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2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3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6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7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1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4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5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9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2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3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椭圆 3"/>
          <p:cNvSpPr/>
          <p:nvPr/>
        </p:nvSpPr>
        <p:spPr>
          <a:xfrm>
            <a:off x="644400" y="1106640"/>
            <a:ext cx="2371680" cy="237312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椭圆 4"/>
          <p:cNvSpPr/>
          <p:nvPr/>
        </p:nvSpPr>
        <p:spPr>
          <a:xfrm>
            <a:off x="503280" y="965160"/>
            <a:ext cx="2617920" cy="261936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5"/>
          <p:cNvSpPr/>
          <p:nvPr/>
        </p:nvSpPr>
        <p:spPr>
          <a:xfrm>
            <a:off x="1160280" y="173664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微软雅黑"/>
              </a:rPr>
              <a:t>免费集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微软雅黑"/>
              </a:rPr>
              <a:t>几大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6"/>
          <p:cNvSpPr/>
          <p:nvPr/>
        </p:nvSpPr>
        <p:spPr>
          <a:xfrm>
            <a:off x="4292640" y="4981680"/>
            <a:ext cx="7899480" cy="112392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7"/>
          <p:cNvSpPr/>
          <p:nvPr/>
        </p:nvSpPr>
        <p:spPr>
          <a:xfrm>
            <a:off x="4487760" y="5081760"/>
            <a:ext cx="76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告别实物会员管理，集成电子会员卡，会员注册、会员查询、会员等级、信息发送、活动推送等功能。消费者可通过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进行远程结账、店铺定位，并且享受该店铺的会员优惠，完全取代传统会员制度与实物会员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椭圆 8"/>
          <p:cNvSpPr/>
          <p:nvPr/>
        </p:nvSpPr>
        <p:spPr>
          <a:xfrm>
            <a:off x="9147240" y="1401840"/>
            <a:ext cx="1687320" cy="16873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椭圆 9"/>
          <p:cNvSpPr/>
          <p:nvPr/>
        </p:nvSpPr>
        <p:spPr>
          <a:xfrm>
            <a:off x="7129440" y="273996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椭圆 10"/>
          <p:cNvSpPr/>
          <p:nvPr/>
        </p:nvSpPr>
        <p:spPr>
          <a:xfrm>
            <a:off x="5848200" y="37620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直接连接符 11"/>
          <p:cNvSpPr/>
          <p:nvPr/>
        </p:nvSpPr>
        <p:spPr>
          <a:xfrm flipV="1">
            <a:off x="3102120" y="1499760"/>
            <a:ext cx="2770200" cy="569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直接连接符 12"/>
          <p:cNvSpPr/>
          <p:nvPr/>
        </p:nvSpPr>
        <p:spPr>
          <a:xfrm flipV="1">
            <a:off x="3121200" y="2246040"/>
            <a:ext cx="6026040" cy="28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椭圆 13"/>
          <p:cNvSpPr/>
          <p:nvPr/>
        </p:nvSpPr>
        <p:spPr>
          <a:xfrm>
            <a:off x="3836880" y="301464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直接连接符 14"/>
          <p:cNvSpPr/>
          <p:nvPr/>
        </p:nvSpPr>
        <p:spPr>
          <a:xfrm>
            <a:off x="3060720" y="2689200"/>
            <a:ext cx="1023840" cy="5716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直接连接符 15"/>
          <p:cNvSpPr/>
          <p:nvPr/>
        </p:nvSpPr>
        <p:spPr>
          <a:xfrm>
            <a:off x="3108240" y="2424240"/>
            <a:ext cx="4021200" cy="11602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椭圆 16"/>
          <p:cNvSpPr/>
          <p:nvPr/>
        </p:nvSpPr>
        <p:spPr>
          <a:xfrm>
            <a:off x="5938920" y="46656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17"/>
          <p:cNvSpPr/>
          <p:nvPr/>
        </p:nvSpPr>
        <p:spPr>
          <a:xfrm>
            <a:off x="6419520" y="8064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18"/>
          <p:cNvSpPr/>
          <p:nvPr/>
        </p:nvSpPr>
        <p:spPr>
          <a:xfrm>
            <a:off x="9223200" y="1494000"/>
            <a:ext cx="1528920" cy="15285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19"/>
          <p:cNvSpPr/>
          <p:nvPr/>
        </p:nvSpPr>
        <p:spPr>
          <a:xfrm>
            <a:off x="9715320" y="18288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充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椭圆 20"/>
          <p:cNvSpPr/>
          <p:nvPr/>
        </p:nvSpPr>
        <p:spPr>
          <a:xfrm>
            <a:off x="3927600" y="310500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1"/>
          <p:cNvSpPr/>
          <p:nvPr/>
        </p:nvSpPr>
        <p:spPr>
          <a:xfrm>
            <a:off x="4419360" y="34448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椭圆 22"/>
          <p:cNvSpPr/>
          <p:nvPr/>
        </p:nvSpPr>
        <p:spPr>
          <a:xfrm>
            <a:off x="7219800" y="283068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23"/>
          <p:cNvSpPr/>
          <p:nvPr/>
        </p:nvSpPr>
        <p:spPr>
          <a:xfrm>
            <a:off x="7711920" y="31766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椭圆 24"/>
          <p:cNvSpPr/>
          <p:nvPr/>
        </p:nvSpPr>
        <p:spPr>
          <a:xfrm>
            <a:off x="1494000" y="4124160"/>
            <a:ext cx="1687320" cy="16891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直接连接符 25"/>
          <p:cNvSpPr/>
          <p:nvPr/>
        </p:nvSpPr>
        <p:spPr>
          <a:xfrm>
            <a:off x="2144880" y="3535200"/>
            <a:ext cx="191880" cy="5889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椭圆 26"/>
          <p:cNvSpPr/>
          <p:nvPr/>
        </p:nvSpPr>
        <p:spPr>
          <a:xfrm>
            <a:off x="1584360" y="421632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27"/>
          <p:cNvSpPr/>
          <p:nvPr/>
        </p:nvSpPr>
        <p:spPr>
          <a:xfrm>
            <a:off x="1936800" y="4556160"/>
            <a:ext cx="79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支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6" dur="indefinite" restart="never" nodeType="tmRoot">
          <p:childTnLst>
            <p:seq>
              <p:cTn id="1467" dur="indefinite" nodeType="mainSeq">
                <p:childTnLst>
                  <p:par>
                    <p:cTn id="1468" nodeType="clickEffect" fill="hold">
                      <p:stCondLst>
                        <p:cond delay="0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7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9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5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5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3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5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5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7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5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5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1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6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6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3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7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7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7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财务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10"/>
          <p:cNvSpPr/>
          <p:nvPr/>
        </p:nvSpPr>
        <p:spPr>
          <a:xfrm>
            <a:off x="5067000" y="523548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7" dur="indefinite" restart="never" nodeType="tmRoot">
          <p:childTnLst>
            <p:seq>
              <p:cTn id="1578" dur="indefinite" nodeType="mainSeq">
                <p:childTnLst>
                  <p:par>
                    <p:cTn id="1579" nodeType="clickEffect" fill="hold">
                      <p:stCondLst>
                        <p:cond delay="0"/>
                      </p:stCondLst>
                      <p:childTnLst>
                        <p:par>
                          <p:cTn id="1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5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8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0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9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6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9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nodeType="clickEffect" fill="hold">
                      <p:stCondLst>
                        <p:cond delay="indefinite"/>
                      </p:stCondLst>
                      <p:childTnLst>
                        <p:par>
                          <p:cTn id="1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3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6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7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0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1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5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8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9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3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6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7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椭圆 3"/>
          <p:cNvSpPr/>
          <p:nvPr/>
        </p:nvSpPr>
        <p:spPr>
          <a:xfrm>
            <a:off x="7346880" y="1793880"/>
            <a:ext cx="3965760" cy="3963960"/>
          </a:xfrm>
          <a:prstGeom prst="ellipse">
            <a:avLst/>
          </a:prstGeom>
          <a:solidFill>
            <a:srgbClr val="e9118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4"/>
          <p:cNvSpPr/>
          <p:nvPr/>
        </p:nvSpPr>
        <p:spPr>
          <a:xfrm>
            <a:off x="7765920" y="2482920"/>
            <a:ext cx="312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免费集一整套财务管理系统，帮助店家一键理财，让业绩统计、工资结算、销售提成等财务难题轻松解决，再也不用为财务难题而烦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组合 5"/>
          <p:cNvGrpSpPr/>
          <p:nvPr/>
        </p:nvGrpSpPr>
        <p:grpSpPr>
          <a:xfrm>
            <a:off x="752400" y="1268280"/>
            <a:ext cx="1059480" cy="4686480"/>
            <a:chOff x="752400" y="1268280"/>
            <a:chExt cx="1059480" cy="4686480"/>
          </a:xfrm>
        </p:grpSpPr>
        <p:sp>
          <p:nvSpPr>
            <p:cNvPr id="339" name="直接连接符 6"/>
            <p:cNvSpPr/>
            <p:nvPr/>
          </p:nvSpPr>
          <p:spPr>
            <a:xfrm>
              <a:off x="752400" y="1268280"/>
              <a:ext cx="1059480" cy="468648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椭圆 8"/>
          <p:cNvSpPr/>
          <p:nvPr/>
        </p:nvSpPr>
        <p:spPr>
          <a:xfrm>
            <a:off x="812880" y="480852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组合 9"/>
          <p:cNvGrpSpPr/>
          <p:nvPr/>
        </p:nvGrpSpPr>
        <p:grpSpPr>
          <a:xfrm>
            <a:off x="2155680" y="1268280"/>
            <a:ext cx="1059480" cy="2976840"/>
            <a:chOff x="2155680" y="1268280"/>
            <a:chExt cx="1059480" cy="2976840"/>
          </a:xfrm>
        </p:grpSpPr>
        <p:sp>
          <p:nvSpPr>
            <p:cNvPr id="342" name="直接连接符 10"/>
            <p:cNvSpPr/>
            <p:nvPr/>
          </p:nvSpPr>
          <p:spPr>
            <a:xfrm>
              <a:off x="2155680" y="1268280"/>
              <a:ext cx="1059480" cy="297684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椭圆 12"/>
          <p:cNvSpPr/>
          <p:nvPr/>
        </p:nvSpPr>
        <p:spPr>
          <a:xfrm>
            <a:off x="2217600" y="309888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组合 13"/>
          <p:cNvGrpSpPr/>
          <p:nvPr/>
        </p:nvGrpSpPr>
        <p:grpSpPr>
          <a:xfrm>
            <a:off x="3684600" y="1268280"/>
            <a:ext cx="1059480" cy="3706920"/>
            <a:chOff x="3684600" y="1268280"/>
            <a:chExt cx="1059480" cy="3706920"/>
          </a:xfrm>
        </p:grpSpPr>
        <p:sp>
          <p:nvSpPr>
            <p:cNvPr id="345" name="直接连接符 14"/>
            <p:cNvSpPr/>
            <p:nvPr/>
          </p:nvSpPr>
          <p:spPr>
            <a:xfrm>
              <a:off x="3684600" y="1268280"/>
              <a:ext cx="1059480" cy="370692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椭圆 16"/>
          <p:cNvSpPr/>
          <p:nvPr/>
        </p:nvSpPr>
        <p:spPr>
          <a:xfrm>
            <a:off x="3746520" y="382896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组合 17"/>
          <p:cNvGrpSpPr/>
          <p:nvPr/>
        </p:nvGrpSpPr>
        <p:grpSpPr>
          <a:xfrm>
            <a:off x="5079960" y="1279440"/>
            <a:ext cx="1059480" cy="2502000"/>
            <a:chOff x="5079960" y="1279440"/>
            <a:chExt cx="1059480" cy="2502000"/>
          </a:xfrm>
        </p:grpSpPr>
        <p:sp>
          <p:nvSpPr>
            <p:cNvPr id="348" name="直接连接符 18"/>
            <p:cNvSpPr/>
            <p:nvPr/>
          </p:nvSpPr>
          <p:spPr>
            <a:xfrm>
              <a:off x="5079960" y="1279440"/>
              <a:ext cx="1059480" cy="250200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椭圆 20"/>
          <p:cNvSpPr/>
          <p:nvPr/>
        </p:nvSpPr>
        <p:spPr>
          <a:xfrm>
            <a:off x="5143680" y="2635200"/>
            <a:ext cx="119988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21"/>
          <p:cNvSpPr/>
          <p:nvPr/>
        </p:nvSpPr>
        <p:spPr>
          <a:xfrm>
            <a:off x="2539800" y="33148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统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22"/>
          <p:cNvSpPr/>
          <p:nvPr/>
        </p:nvSpPr>
        <p:spPr>
          <a:xfrm>
            <a:off x="4071600" y="40114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23"/>
          <p:cNvSpPr/>
          <p:nvPr/>
        </p:nvSpPr>
        <p:spPr>
          <a:xfrm>
            <a:off x="5470200" y="282096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销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文本框 24"/>
          <p:cNvSpPr/>
          <p:nvPr/>
        </p:nvSpPr>
        <p:spPr>
          <a:xfrm>
            <a:off x="1141200" y="49942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查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矩形 25"/>
          <p:cNvSpPr/>
          <p:nvPr/>
        </p:nvSpPr>
        <p:spPr>
          <a:xfrm>
            <a:off x="7566120" y="733320"/>
            <a:ext cx="2027160" cy="533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26"/>
          <p:cNvSpPr/>
          <p:nvPr/>
        </p:nvSpPr>
        <p:spPr>
          <a:xfrm>
            <a:off x="8362080" y="8049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一键理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27"/>
          <p:cNvSpPr/>
          <p:nvPr/>
        </p:nvSpPr>
        <p:spPr>
          <a:xfrm>
            <a:off x="828000" y="641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财务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直接连接符 28"/>
          <p:cNvSpPr/>
          <p:nvPr/>
        </p:nvSpPr>
        <p:spPr>
          <a:xfrm>
            <a:off x="0" y="536400"/>
            <a:ext cx="26478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直接连接符 29"/>
          <p:cNvSpPr/>
          <p:nvPr/>
        </p:nvSpPr>
        <p:spPr>
          <a:xfrm>
            <a:off x="0" y="1268280"/>
            <a:ext cx="9585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0" dur="indefinite" restart="never" nodeType="tmRoot">
          <p:childTnLst>
            <p:seq>
              <p:cTn id="1641" dur="indefinite" nodeType="mainSeq">
                <p:childTnLst>
                  <p:par>
                    <p:cTn id="1642" nodeType="clickEffect" fill="hold">
                      <p:stCondLst>
                        <p:cond delay="0"/>
                      </p:stCondLst>
                      <p:childTnLst>
                        <p:par>
                          <p:cTn id="1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0" dur="19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5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9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9" nodeType="withEffect" fill="hold" presetClass="emph" presetID="19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167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7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7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37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8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9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9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2" nodeType="withEffect" fill="hold" presetClass="emph" presetID="19">
                                  <p:stCondLst>
                                    <p:cond delay="1800"/>
                                  </p:stCondLst>
                                  <p:childTnLst>
                                    <p:animClr clrSpc="rgb">
                                      <p:cBhvr>
                                        <p:cTn id="168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8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8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6" nodeType="withEffect" fill="hold" presetClass="entr" presetID="2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9" nodeType="withEffect" fill="hold" presetClass="entr" presetID="37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1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2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9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5" nodeType="withEffect" fill="hold" presetClass="emph" presetID="19">
                                  <p:stCondLst>
                                    <p:cond delay="2100"/>
                                  </p:stCondLst>
                                  <p:childTnLst>
                                    <p:animClr clrSpc="rgb">
                                      <p:cBhvr>
                                        <p:cTn id="169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9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9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2" nodeType="withEffect" fill="hold" presetClass="entr" presetID="37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9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8" nodeType="withEffect" fill="hold" presetClass="emph" presetID="19">
                                  <p:stCondLst>
                                    <p:cond delay="2400"/>
                                  </p:stCondLst>
                                  <p:childTnLst>
                                    <p:animClr clrSpc="rgb">
                                      <p:cBhvr>
                                        <p:cTn id="170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71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71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8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1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4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椭圆 3"/>
          <p:cNvSpPr/>
          <p:nvPr/>
        </p:nvSpPr>
        <p:spPr>
          <a:xfrm>
            <a:off x="440064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4"/>
          <p:cNvSpPr/>
          <p:nvPr/>
        </p:nvSpPr>
        <p:spPr>
          <a:xfrm>
            <a:off x="5106240" y="2870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组合 5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362" name="椭圆 6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文本框 7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0" dur="indefinite" restart="never" nodeType="tmRoot">
          <p:childTnLst>
            <p:seq>
              <p:cTn id="1731" dur="indefinite" nodeType="mainSeq">
                <p:childTnLst>
                  <p:par>
                    <p:cTn id="1732" nodeType="clickEffect" fill="hold">
                      <p:stCondLst>
                        <p:cond delay="indefinite"/>
                      </p:stCondLst>
                      <p:childTnLst>
                        <p:par>
                          <p:cTn id="1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5" dur="8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8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8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3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0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美渠电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10"/>
          <p:cNvSpPr/>
          <p:nvPr/>
        </p:nvSpPr>
        <p:spPr>
          <a:xfrm>
            <a:off x="5591160" y="5189400"/>
            <a:ext cx="10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ICH 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3" dur="indefinite" restart="never" nodeType="tmRoot">
          <p:childTnLst>
            <p:seq>
              <p:cTn id="1744" dur="indefinite" nodeType="mainSeq">
                <p:childTnLst>
                  <p:par>
                    <p:cTn id="1745" nodeType="clickEffect" fill="hold">
                      <p:stCondLst>
                        <p:cond delay="0"/>
                      </p:stCondLst>
                      <p:childTnLst>
                        <p:par>
                          <p:cTn id="1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9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1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6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9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2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3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9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nodeType="clickEffect" fill="hold">
                      <p:stCondLst>
                        <p:cond delay="indefinite"/>
                      </p:stCondLst>
                      <p:childTnLst>
                        <p:par>
                          <p:cTn id="1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9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2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3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6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7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1" dur="5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5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4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5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9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3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矩形 3"/>
          <p:cNvSpPr/>
          <p:nvPr/>
        </p:nvSpPr>
        <p:spPr>
          <a:xfrm>
            <a:off x="743040" y="2944800"/>
            <a:ext cx="5600520" cy="31687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矩形 4"/>
          <p:cNvSpPr/>
          <p:nvPr/>
        </p:nvSpPr>
        <p:spPr>
          <a:xfrm>
            <a:off x="1039680" y="3129120"/>
            <a:ext cx="5008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美渠专门为店家及消费客户建立了一个集销售、购物于一体的电商平台。美渠电商平台与美渠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的结合，打造新世代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O2O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体验店。同时为广大消费顾客提供美发、购物新型平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矩形 5"/>
          <p:cNvSpPr/>
          <p:nvPr/>
        </p:nvSpPr>
        <p:spPr>
          <a:xfrm>
            <a:off x="4729320" y="536400"/>
            <a:ext cx="399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美渠重金打造美发垂直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O2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矩形 6"/>
          <p:cNvSpPr/>
          <p:nvPr/>
        </p:nvSpPr>
        <p:spPr>
          <a:xfrm>
            <a:off x="3543480" y="485640"/>
            <a:ext cx="365040" cy="1548000"/>
          </a:xfrm>
          <a:prstGeom prst="rect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7"/>
          <p:cNvSpPr/>
          <p:nvPr/>
        </p:nvSpPr>
        <p:spPr>
          <a:xfrm>
            <a:off x="3908520" y="1260360"/>
            <a:ext cx="7369200" cy="773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文本框 8"/>
          <p:cNvSpPr/>
          <p:nvPr/>
        </p:nvSpPr>
        <p:spPr>
          <a:xfrm>
            <a:off x="5091840" y="1415880"/>
            <a:ext cx="46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美发店变身美发美品</a:t>
            </a:r>
            <a:r>
              <a:rPr b="0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O2O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体验店，直接增加收入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直接连接符 9"/>
          <p:cNvSpPr/>
          <p:nvPr/>
        </p:nvSpPr>
        <p:spPr>
          <a:xfrm>
            <a:off x="1978200" y="1260360"/>
            <a:ext cx="1565280" cy="144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空心弧 11"/>
          <p:cNvSpPr/>
          <p:nvPr/>
        </p:nvSpPr>
        <p:spPr>
          <a:xfrm rot="5400000">
            <a:off x="8609760" y="3310560"/>
            <a:ext cx="2555640" cy="2557440"/>
          </a:xfrm>
          <a:custGeom>
            <a:avLst/>
            <a:gdLst>
              <a:gd name="textAreaLeft" fmla="*/ 0 w 2555640"/>
              <a:gd name="textAreaRight" fmla="*/ 2556000 w 2555640"/>
              <a:gd name="textAreaTop" fmla="*/ 0 h 2557440"/>
              <a:gd name="textAreaBottom" fmla="*/ 913320 h 2557440"/>
            </a:gdLst>
            <a:ahLst/>
            <a:rect l="textAreaLeft" t="textAreaTop" r="textAreaRight" b="textAreaBottom"/>
            <a:pathLst>
              <a:path w="21600" h="21600">
                <a:moveTo>
                  <a:pt x="2527" y="10800"/>
                </a:moveTo>
                <a:cubicBezTo>
                  <a:pt x="2527" y="6230"/>
                  <a:pt x="6230" y="2527"/>
                  <a:pt x="10800" y="2527"/>
                </a:cubicBezTo>
                <a:cubicBezTo>
                  <a:pt x="15369" y="2526"/>
                  <a:pt x="19072" y="6230"/>
                  <a:pt x="19073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2527" y="1080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文本框 13"/>
          <p:cNvSpPr/>
          <p:nvPr/>
        </p:nvSpPr>
        <p:spPr>
          <a:xfrm>
            <a:off x="7263720" y="39304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收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直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文本框 14"/>
          <p:cNvSpPr/>
          <p:nvPr/>
        </p:nvSpPr>
        <p:spPr>
          <a:xfrm>
            <a:off x="8771760" y="3990960"/>
            <a:ext cx="257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方正兰亭特黑简体"/>
                <a:ea typeface="时尚中黑简体"/>
              </a:rPr>
              <a:t>200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直接连接符 15"/>
          <p:cNvSpPr/>
          <p:nvPr/>
        </p:nvSpPr>
        <p:spPr>
          <a:xfrm>
            <a:off x="1978200" y="1262160"/>
            <a:ext cx="1440" cy="16826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4" descr="http://img.taopic.com/uploads/allimg/110220/6311-11022012461071.jpg"/>
          <p:cNvPicPr/>
          <p:nvPr/>
        </p:nvPicPr>
        <p:blipFill>
          <a:blip r:embed="rId1"/>
          <a:srcRect l="13814" t="0" r="6178" b="0"/>
          <a:stretch/>
        </p:blipFill>
        <p:spPr>
          <a:xfrm>
            <a:off x="399960" y="117360"/>
            <a:ext cx="277992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6" dur="indefinite" restart="never" nodeType="tmRoot">
          <p:childTnLst>
            <p:seq>
              <p:cTn id="1807" dur="indefinite" nodeType="mainSeq">
                <p:childTnLst>
                  <p:par>
                    <p:cTn id="1808" nodeType="clickEffect" fill="hold">
                      <p:stCondLst>
                        <p:cond delay="0"/>
                      </p:stCondLst>
                      <p:childTnLst>
                        <p:par>
                          <p:cTn id="1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6" nodeType="withEffect" fill="hold" presetClass="emph" presetID="19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81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animClr clrSpc="rgb">
                                      <p:cBhvr>
                                        <p:cTn id="181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set>
                                      <p:cBhvr>
                                        <p:cTn id="181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2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3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6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8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2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4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23" presetSubtype="3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功能效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矩形 10"/>
          <p:cNvSpPr/>
          <p:nvPr/>
        </p:nvSpPr>
        <p:spPr>
          <a:xfrm>
            <a:off x="5067000" y="523548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8" dur="indefinite" restart="never" nodeType="tmRoot">
          <p:childTnLst>
            <p:seq>
              <p:cTn id="1849" dur="indefinite" nodeType="mainSeq">
                <p:childTnLst>
                  <p:par>
                    <p:cTn id="1850" nodeType="clickEffect" fill="hold">
                      <p:stCondLst>
                        <p:cond delay="0"/>
                      </p:stCondLst>
                      <p:childTnLst>
                        <p:par>
                          <p:cTn id="1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4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5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1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8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9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2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9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5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7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9" dur="9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nodeType="clickEffect" fill="hold">
                      <p:stCondLst>
                        <p:cond delay="indefinite"/>
                      </p:stCondLst>
                      <p:childTnLst>
                        <p:par>
                          <p:cTn id="1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4" dur="5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5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8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1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2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6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0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1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4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7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8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3"/>
          <p:cNvSpPr/>
          <p:nvPr/>
        </p:nvSpPr>
        <p:spPr>
          <a:xfrm>
            <a:off x="4943520" y="3679920"/>
            <a:ext cx="299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WHY</a:t>
            </a:r>
            <a:r>
              <a:rPr b="0" lang="zh-CN" sz="72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组合 4"/>
          <p:cNvGrpSpPr/>
          <p:nvPr/>
        </p:nvGrpSpPr>
        <p:grpSpPr>
          <a:xfrm>
            <a:off x="6606000" y="4605480"/>
            <a:ext cx="2600640" cy="459720"/>
            <a:chOff x="6606000" y="4605480"/>
            <a:chExt cx="2600640" cy="459720"/>
          </a:xfrm>
        </p:grpSpPr>
        <p:sp>
          <p:nvSpPr>
            <p:cNvPr id="62" name="文本框 5"/>
            <p:cNvSpPr/>
            <p:nvPr/>
          </p:nvSpPr>
          <p:spPr>
            <a:xfrm>
              <a:off x="6606000" y="4605480"/>
              <a:ext cx="260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能做到信息化管理的只有</a:t>
              </a:r>
              <a:r>
                <a:rPr b="0" lang="en-US" sz="2400" spc="-1" strike="noStrike">
                  <a:solidFill>
                    <a:srgbClr val="e9118c"/>
                  </a:solidFill>
                  <a:latin typeface="微软雅黑"/>
                  <a:ea typeface="微软雅黑"/>
                </a:rPr>
                <a:t>5.72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9167E-006 -2.59259E-006 L -0.14857 -0.37153 E">
                                      <p:cBhvr>
                                        <p:cTn id="130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矩形 61"/>
          <p:cNvSpPr/>
          <p:nvPr/>
        </p:nvSpPr>
        <p:spPr>
          <a:xfrm>
            <a:off x="457200" y="4498920"/>
            <a:ext cx="4119480" cy="92700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直接连接符 47"/>
          <p:cNvSpPr/>
          <p:nvPr/>
        </p:nvSpPr>
        <p:spPr>
          <a:xfrm flipV="1">
            <a:off x="7029360" y="2084040"/>
            <a:ext cx="601920" cy="4395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直接连接符 48"/>
          <p:cNvSpPr/>
          <p:nvPr/>
        </p:nvSpPr>
        <p:spPr>
          <a:xfrm>
            <a:off x="7631280" y="204480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矩形 49"/>
          <p:cNvSpPr/>
          <p:nvPr/>
        </p:nvSpPr>
        <p:spPr>
          <a:xfrm flipH="1">
            <a:off x="7630560" y="2055960"/>
            <a:ext cx="4120920" cy="120168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43"/>
          <p:cNvSpPr/>
          <p:nvPr/>
        </p:nvSpPr>
        <p:spPr>
          <a:xfrm>
            <a:off x="474840" y="2901960"/>
            <a:ext cx="4120920" cy="119376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椭圆 19"/>
          <p:cNvSpPr/>
          <p:nvPr/>
        </p:nvSpPr>
        <p:spPr>
          <a:xfrm>
            <a:off x="5554800" y="2887560"/>
            <a:ext cx="1128600" cy="11289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组合 23"/>
          <p:cNvGrpSpPr/>
          <p:nvPr/>
        </p:nvGrpSpPr>
        <p:grpSpPr>
          <a:xfrm>
            <a:off x="4915800" y="2252160"/>
            <a:ext cx="2395440" cy="2395080"/>
            <a:chOff x="4915800" y="2252160"/>
            <a:chExt cx="2395440" cy="2395080"/>
          </a:xfrm>
        </p:grpSpPr>
        <p:sp>
          <p:nvSpPr>
            <p:cNvPr id="397" name="同心圆 18"/>
            <p:cNvSpPr/>
            <p:nvPr/>
          </p:nvSpPr>
          <p:spPr>
            <a:xfrm rot="12733800">
              <a:off x="5245200" y="2581200"/>
              <a:ext cx="1736640" cy="1736640"/>
            </a:xfrm>
            <a:custGeom>
              <a:avLst/>
              <a:gdLst>
                <a:gd name="textAreaLeft" fmla="*/ 254160 w 1736640"/>
                <a:gd name="textAreaRight" fmla="*/ 1482480 w 1736640"/>
                <a:gd name="textAreaTop" fmla="*/ 254160 h 1736640"/>
                <a:gd name="textAreaBottom" fmla="*/ 1482480 h 173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383" y="10800"/>
                  </a:moveTo>
                  <a:cubicBezTo>
                    <a:pt x="2383" y="15449"/>
                    <a:pt x="6151" y="19217"/>
                    <a:pt x="10800" y="19217"/>
                  </a:cubicBezTo>
                  <a:cubicBezTo>
                    <a:pt x="15449" y="19217"/>
                    <a:pt x="19217" y="15449"/>
                    <a:pt x="19217" y="10800"/>
                  </a:cubicBezTo>
                  <a:cubicBezTo>
                    <a:pt x="19217" y="6151"/>
                    <a:pt x="15449" y="2383"/>
                    <a:pt x="10800" y="2383"/>
                  </a:cubicBezTo>
                  <a:cubicBezTo>
                    <a:pt x="6151" y="2383"/>
                    <a:pt x="2383" y="6151"/>
                    <a:pt x="2383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等腰三角形 21"/>
            <p:cNvSpPr/>
            <p:nvPr/>
          </p:nvSpPr>
          <p:spPr>
            <a:xfrm rot="9541200">
              <a:off x="5758200" y="2785680"/>
              <a:ext cx="266040" cy="325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22"/>
          <p:cNvGrpSpPr/>
          <p:nvPr/>
        </p:nvGrpSpPr>
        <p:grpSpPr>
          <a:xfrm>
            <a:off x="4287600" y="1622160"/>
            <a:ext cx="3660840" cy="3660840"/>
            <a:chOff x="4287600" y="1622160"/>
            <a:chExt cx="3660840" cy="3660840"/>
          </a:xfrm>
        </p:grpSpPr>
        <p:sp>
          <p:nvSpPr>
            <p:cNvPr id="400" name="同心圆 17"/>
            <p:cNvSpPr/>
            <p:nvPr/>
          </p:nvSpPr>
          <p:spPr>
            <a:xfrm rot="12733800">
              <a:off x="4790880" y="2125080"/>
              <a:ext cx="2654280" cy="2654280"/>
            </a:xfrm>
            <a:custGeom>
              <a:avLst/>
              <a:gdLst>
                <a:gd name="textAreaLeft" fmla="*/ 388440 w 2654280"/>
                <a:gd name="textAreaRight" fmla="*/ 2265840 w 2654280"/>
                <a:gd name="textAreaTop" fmla="*/ 388440 h 2654280"/>
                <a:gd name="textAreaBottom" fmla="*/ 2265840 h 265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450" y="10800"/>
                  </a:moveTo>
                  <a:cubicBezTo>
                    <a:pt x="2450" y="15412"/>
                    <a:pt x="6188" y="19150"/>
                    <a:pt x="10800" y="19150"/>
                  </a:cubicBezTo>
                  <a:cubicBezTo>
                    <a:pt x="15412" y="19150"/>
                    <a:pt x="19150" y="15412"/>
                    <a:pt x="19150" y="10800"/>
                  </a:cubicBezTo>
                  <a:cubicBezTo>
                    <a:pt x="19150" y="6188"/>
                    <a:pt x="15412" y="2450"/>
                    <a:pt x="10800" y="2450"/>
                  </a:cubicBezTo>
                  <a:cubicBezTo>
                    <a:pt x="6188" y="2450"/>
                    <a:pt x="2450" y="6188"/>
                    <a:pt x="2450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等腰三角形 20"/>
            <p:cNvSpPr/>
            <p:nvPr/>
          </p:nvSpPr>
          <p:spPr>
            <a:xfrm rot="18134400">
              <a:off x="6596640" y="3625560"/>
              <a:ext cx="397440" cy="486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文本框 24"/>
          <p:cNvSpPr/>
          <p:nvPr/>
        </p:nvSpPr>
        <p:spPr>
          <a:xfrm>
            <a:off x="5813640" y="30067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矩形 26"/>
          <p:cNvSpPr/>
          <p:nvPr/>
        </p:nvSpPr>
        <p:spPr>
          <a:xfrm>
            <a:off x="484200" y="2892600"/>
            <a:ext cx="409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可以大幅度提高客户的发型满意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自主设计发型，加上发型师直观看图分析，打造最适合发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27"/>
          <p:cNvSpPr/>
          <p:nvPr/>
        </p:nvSpPr>
        <p:spPr>
          <a:xfrm>
            <a:off x="453960" y="44798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等待也是一件快乐的事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娱乐资讯功能，美发的过程不再沉闷，而是其乐融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28"/>
          <p:cNvSpPr/>
          <p:nvPr/>
        </p:nvSpPr>
        <p:spPr>
          <a:xfrm>
            <a:off x="7626240" y="2058840"/>
            <a:ext cx="41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消费者与美发店有了更多的沟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种评论方式同时进行，及时倾听消费者的需与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直接连接符 31"/>
          <p:cNvSpPr/>
          <p:nvPr/>
        </p:nvSpPr>
        <p:spPr>
          <a:xfrm flipH="1" flipV="1">
            <a:off x="4591080" y="1386000"/>
            <a:ext cx="588960" cy="11239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直接连接符 32"/>
          <p:cNvSpPr/>
          <p:nvPr/>
        </p:nvSpPr>
        <p:spPr>
          <a:xfrm flipH="1">
            <a:off x="479160" y="139860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40"/>
          <p:cNvSpPr/>
          <p:nvPr/>
        </p:nvSpPr>
        <p:spPr>
          <a:xfrm>
            <a:off x="479520" y="1409760"/>
            <a:ext cx="4120920" cy="119376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25"/>
          <p:cNvSpPr/>
          <p:nvPr/>
        </p:nvSpPr>
        <p:spPr>
          <a:xfrm>
            <a:off x="596880" y="140328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可以享受最便捷的美发过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约，美发，支付，处处体现出美渠以及美发店的良苦用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直接连接符 41"/>
          <p:cNvSpPr/>
          <p:nvPr/>
        </p:nvSpPr>
        <p:spPr>
          <a:xfrm flipH="1" flipV="1">
            <a:off x="4586400" y="2901600"/>
            <a:ext cx="203040" cy="3999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直接连接符 42"/>
          <p:cNvSpPr/>
          <p:nvPr/>
        </p:nvSpPr>
        <p:spPr>
          <a:xfrm flipH="1">
            <a:off x="469800" y="2892600"/>
            <a:ext cx="4119840" cy="144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直接连接符 52"/>
          <p:cNvSpPr/>
          <p:nvPr/>
        </p:nvSpPr>
        <p:spPr>
          <a:xfrm>
            <a:off x="7423200" y="3398760"/>
            <a:ext cx="208080" cy="2844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直接连接符 53"/>
          <p:cNvSpPr/>
          <p:nvPr/>
        </p:nvSpPr>
        <p:spPr>
          <a:xfrm>
            <a:off x="7631280" y="368316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矩形 54"/>
          <p:cNvSpPr/>
          <p:nvPr/>
        </p:nvSpPr>
        <p:spPr>
          <a:xfrm flipH="1">
            <a:off x="7630560" y="3693960"/>
            <a:ext cx="4120920" cy="92232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矩形 29"/>
          <p:cNvSpPr/>
          <p:nvPr/>
        </p:nvSpPr>
        <p:spPr>
          <a:xfrm>
            <a:off x="7637400" y="3683160"/>
            <a:ext cx="41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连交朋友也变得如此简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为你寻找拥有共同爱好，同样审美观的知心好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直接连接符 59"/>
          <p:cNvSpPr/>
          <p:nvPr/>
        </p:nvSpPr>
        <p:spPr>
          <a:xfrm flipH="1">
            <a:off x="4576320" y="4229280"/>
            <a:ext cx="459000" cy="26028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直接连接符 60"/>
          <p:cNvSpPr/>
          <p:nvPr/>
        </p:nvSpPr>
        <p:spPr>
          <a:xfrm flipH="1">
            <a:off x="456840" y="4489560"/>
            <a:ext cx="411948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1" dur="indefinite" restart="never" nodeType="tmRoot">
          <p:childTnLst>
            <p:seq>
              <p:cTn id="1912" dur="indefinite" nodeType="mainSeq">
                <p:childTnLst>
                  <p:par>
                    <p:cTn id="1913" nodeType="clickEffect" fill="hold">
                      <p:stCondLst>
                        <p:cond delay="0"/>
                      </p:stCondLst>
                      <p:childTnLst>
                        <p:par>
                          <p:cTn id="1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9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3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7" nodeType="withEffect" fill="hold" presetClass="entr" presetID="23" presetSubtype="3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3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9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2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8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1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4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7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0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3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6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9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5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8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1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7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0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文本框 3"/>
          <p:cNvSpPr/>
          <p:nvPr/>
        </p:nvSpPr>
        <p:spPr>
          <a:xfrm>
            <a:off x="5456880" y="2867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熟运营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4"/>
          <p:cNvSpPr/>
          <p:nvPr/>
        </p:nvSpPr>
        <p:spPr>
          <a:xfrm>
            <a:off x="5456880" y="33577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技术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5"/>
          <p:cNvSpPr/>
          <p:nvPr/>
        </p:nvSpPr>
        <p:spPr>
          <a:xfrm>
            <a:off x="5456880" y="2374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雄厚资金支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文本框 6"/>
          <p:cNvSpPr/>
          <p:nvPr/>
        </p:nvSpPr>
        <p:spPr>
          <a:xfrm>
            <a:off x="4771080" y="384804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天时地利人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直接连接符 7"/>
          <p:cNvSpPr/>
          <p:nvPr/>
        </p:nvSpPr>
        <p:spPr>
          <a:xfrm>
            <a:off x="6095880" y="2374920"/>
            <a:ext cx="101628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直接连接符 8"/>
          <p:cNvSpPr/>
          <p:nvPr/>
        </p:nvSpPr>
        <p:spPr>
          <a:xfrm>
            <a:off x="5079960" y="2374920"/>
            <a:ext cx="1800" cy="1473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直接连接符 9"/>
          <p:cNvSpPr/>
          <p:nvPr/>
        </p:nvSpPr>
        <p:spPr>
          <a:xfrm>
            <a:off x="7116840" y="2374920"/>
            <a:ext cx="1440" cy="1473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直接连接符 10"/>
          <p:cNvSpPr/>
          <p:nvPr/>
        </p:nvSpPr>
        <p:spPr>
          <a:xfrm>
            <a:off x="3925800" y="3848040"/>
            <a:ext cx="1154160" cy="180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直接连接符 11"/>
          <p:cNvSpPr/>
          <p:nvPr/>
        </p:nvSpPr>
        <p:spPr>
          <a:xfrm>
            <a:off x="7112160" y="3848040"/>
            <a:ext cx="1153800" cy="180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直接连接符 12"/>
          <p:cNvSpPr/>
          <p:nvPr/>
        </p:nvSpPr>
        <p:spPr>
          <a:xfrm>
            <a:off x="3925800" y="3835440"/>
            <a:ext cx="1800" cy="9367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直接连接符 13"/>
          <p:cNvSpPr/>
          <p:nvPr/>
        </p:nvSpPr>
        <p:spPr>
          <a:xfrm>
            <a:off x="8265960" y="3848040"/>
            <a:ext cx="0" cy="924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直接连接符 14"/>
          <p:cNvSpPr/>
          <p:nvPr/>
        </p:nvSpPr>
        <p:spPr>
          <a:xfrm>
            <a:off x="0" y="4772160"/>
            <a:ext cx="394164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直接连接符 15"/>
          <p:cNvSpPr/>
          <p:nvPr/>
        </p:nvSpPr>
        <p:spPr>
          <a:xfrm>
            <a:off x="8265960" y="4772160"/>
            <a:ext cx="392616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直接连接符 16"/>
          <p:cNvSpPr/>
          <p:nvPr/>
        </p:nvSpPr>
        <p:spPr>
          <a:xfrm>
            <a:off x="5079960" y="2373480"/>
            <a:ext cx="101592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3" dur="indefinite" restart="never" nodeType="tmRoot">
          <p:childTnLst>
            <p:seq>
              <p:cTn id="1994" dur="indefinite" nodeType="mainSeq">
                <p:childTnLst>
                  <p:par>
                    <p:cTn id="1995" nodeType="clickEffect" fill="hold">
                      <p:stCondLst>
                        <p:cond delay="0"/>
                      </p:stCondLst>
                      <p:childTnLst>
                        <p:par>
                          <p:cTn id="1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9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2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4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7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9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2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4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5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0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2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6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2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9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2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3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8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3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1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4" nodeType="withEffect" fill="hold" presetClass="exit" presetID="22" presetSubtype="8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4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7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0" nodeType="withEffect" fill="hold" presetClass="exit" presetID="22" presetSubtype="2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5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3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6" nodeType="withEffect" fill="hold" presetClass="exit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5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9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2" nodeType="withEffect" fill="hold" presetClass="exit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6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5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8" nodeType="withEffect" fill="hold" presetClass="exit" presetID="22" presetSubtype="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6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1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4" nodeType="withEffect" fill="hold" presetClass="exit" presetID="22" presetSubtype="8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7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文本框 3"/>
          <p:cNvSpPr/>
          <p:nvPr/>
        </p:nvSpPr>
        <p:spPr>
          <a:xfrm>
            <a:off x="4464000" y="351000"/>
            <a:ext cx="321336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ff0000"/>
                </a:solidFill>
                <a:latin typeface="方正兰亭特黑简体"/>
                <a:ea typeface="方正兰亭特黑简体"/>
              </a:rPr>
              <a:t>美渠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ff0000"/>
                </a:solidFill>
                <a:latin typeface="方正兰亭特黑简体"/>
                <a:ea typeface="方正兰亭特黑简体"/>
              </a:rPr>
              <a:t>中国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3"/>
          <p:cNvSpPr/>
          <p:nvPr/>
        </p:nvSpPr>
        <p:spPr>
          <a:xfrm>
            <a:off x="0" y="2666880"/>
            <a:ext cx="12192120" cy="29908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4"/>
          <p:cNvSpPr/>
          <p:nvPr/>
        </p:nvSpPr>
        <p:spPr>
          <a:xfrm>
            <a:off x="1119600" y="936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5"/>
          <p:cNvSpPr/>
          <p:nvPr/>
        </p:nvSpPr>
        <p:spPr>
          <a:xfrm>
            <a:off x="1341360" y="3265560"/>
            <a:ext cx="9520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中国成立于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，由多元化专业团队组成，以美渠网络产品为依托，通过对传统美发行业与一体化社交、咨询、管理和采购供应平台的开发，以及电子科技功能的模块架设，我们可以实现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增强服务功能，降低店铺成本，增加店铺收入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大功能，把美发店铺打造成一个高科技体验平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6"/>
          <p:cNvSpPr/>
          <p:nvPr/>
        </p:nvSpPr>
        <p:spPr>
          <a:xfrm>
            <a:off x="846000" y="622440"/>
            <a:ext cx="1155960" cy="115380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直接连接符 7"/>
          <p:cNvSpPr/>
          <p:nvPr/>
        </p:nvSpPr>
        <p:spPr>
          <a:xfrm>
            <a:off x="1424160" y="622440"/>
            <a:ext cx="0" cy="2044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animClr clrSpc="rgb">
                                      <p:cBhvr>
                                        <p:cTn id="15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set>
                                      <p:cBhvr>
                                        <p:cTn id="15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组合 3"/>
          <p:cNvGrpSpPr/>
          <p:nvPr/>
        </p:nvGrpSpPr>
        <p:grpSpPr>
          <a:xfrm>
            <a:off x="4400640" y="1389240"/>
            <a:ext cx="3421080" cy="3420720"/>
            <a:chOff x="4400640" y="1389240"/>
            <a:chExt cx="3421080" cy="3420720"/>
          </a:xfrm>
        </p:grpSpPr>
        <p:sp>
          <p:nvSpPr>
            <p:cNvPr id="70" name="椭圆 4"/>
            <p:cNvSpPr/>
            <p:nvPr/>
          </p:nvSpPr>
          <p:spPr>
            <a:xfrm>
              <a:off x="440064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文本框 5"/>
            <p:cNvSpPr/>
            <p:nvPr/>
          </p:nvSpPr>
          <p:spPr>
            <a:xfrm>
              <a:off x="510624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降低美发店成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6"/>
          <p:cNvGrpSpPr/>
          <p:nvPr/>
        </p:nvGrpSpPr>
        <p:grpSpPr>
          <a:xfrm>
            <a:off x="171360" y="1389240"/>
            <a:ext cx="3421080" cy="3420720"/>
            <a:chOff x="171360" y="1389240"/>
            <a:chExt cx="3421080" cy="3420720"/>
          </a:xfrm>
        </p:grpSpPr>
        <p:sp>
          <p:nvSpPr>
            <p:cNvPr id="73" name="椭圆 7"/>
            <p:cNvSpPr/>
            <p:nvPr/>
          </p:nvSpPr>
          <p:spPr>
            <a:xfrm>
              <a:off x="1713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文本框 8"/>
            <p:cNvSpPr/>
            <p:nvPr/>
          </p:nvSpPr>
          <p:spPr>
            <a:xfrm>
              <a:off x="968400" y="28688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增强美发店服务功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9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76" name="椭圆 10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文本框 11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文本框 12"/>
          <p:cNvSpPr/>
          <p:nvPr/>
        </p:nvSpPr>
        <p:spPr>
          <a:xfrm>
            <a:off x="5203800" y="339264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如何实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1.85185E-006 L -0.00117 -0.09884 E">
                                      <p:cBhvr>
                                        <p:cTn id="176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25E-006 -1.85185E-006 L 0.26484 0.19468 E">
                                      <p:cBhvr>
                                        <p:cTn id="178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25E-006 -1.85185E-006 L -0.26446 0.20209 E">
                                      <p:cBhvr>
                                        <p:cTn id="180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5"/>
          <p:cNvSpPr/>
          <p:nvPr/>
        </p:nvSpPr>
        <p:spPr>
          <a:xfrm>
            <a:off x="3398760" y="2730600"/>
            <a:ext cx="3421080" cy="342108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6"/>
          <p:cNvSpPr/>
          <p:nvPr/>
        </p:nvSpPr>
        <p:spPr>
          <a:xfrm>
            <a:off x="4195800" y="42102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7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8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美发预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接连接符 9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10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1"/>
          <p:cNvSpPr/>
          <p:nvPr/>
        </p:nvSpPr>
        <p:spPr>
          <a:xfrm>
            <a:off x="5081400" y="5235480"/>
            <a:ext cx="202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A hair appoin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-3.7037E-006 L 0.08099 -0.2493 E">
                                      <p:cBhvr>
                                        <p:cTn id="189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-3.7037E-006 L 0.08099 -0.2493 E">
                                      <p:cBhvr>
                                        <p:cTn id="191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9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2" presetSubtype="8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3"/>
          <p:cNvSpPr/>
          <p:nvPr/>
        </p:nvSpPr>
        <p:spPr>
          <a:xfrm>
            <a:off x="1974960" y="5129280"/>
            <a:ext cx="8216640" cy="133812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4"/>
          <p:cNvSpPr/>
          <p:nvPr/>
        </p:nvSpPr>
        <p:spPr>
          <a:xfrm>
            <a:off x="4003560" y="849240"/>
            <a:ext cx="3724560" cy="3724200"/>
          </a:xfrm>
          <a:prstGeom prst="ellipse">
            <a:avLst/>
          </a:prstGeom>
          <a:solidFill>
            <a:srgbClr val="2e75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2116080" y="5210280"/>
            <a:ext cx="794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消费者可通过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预约功能，查看附近美发店，并且可以选择美发师进行预约。而美发师也可以对自己的客户进行邀约，并且利用客人排期表管理自己一周内的美发预约安排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同心圆 6"/>
          <p:cNvSpPr/>
          <p:nvPr/>
        </p:nvSpPr>
        <p:spPr>
          <a:xfrm>
            <a:off x="3952800" y="812880"/>
            <a:ext cx="3797280" cy="3797280"/>
          </a:xfrm>
          <a:custGeom>
            <a:avLst/>
            <a:gdLst>
              <a:gd name="textAreaLeft" fmla="*/ 555840 w 3797280"/>
              <a:gd name="textAreaRight" fmla="*/ 3241440 w 3797280"/>
              <a:gd name="textAreaTop" fmla="*/ 555840 h 3797280"/>
              <a:gd name="textAreaBottom" fmla="*/ 3241440 h 379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566" y="10800"/>
                </a:moveTo>
                <a:cubicBezTo>
                  <a:pt x="1566" y="15900"/>
                  <a:pt x="5700" y="20034"/>
                  <a:pt x="10800" y="20034"/>
                </a:cubicBezTo>
                <a:cubicBezTo>
                  <a:pt x="15900" y="20034"/>
                  <a:pt x="20034" y="15900"/>
                  <a:pt x="20034" y="10800"/>
                </a:cubicBezTo>
                <a:cubicBezTo>
                  <a:pt x="20034" y="5700"/>
                  <a:pt x="15900" y="1566"/>
                  <a:pt x="10800" y="1566"/>
                </a:cubicBezTo>
                <a:cubicBezTo>
                  <a:pt x="5700" y="1566"/>
                  <a:pt x="1566" y="5700"/>
                  <a:pt x="1566" y="10800"/>
                </a:cubicBezTo>
                <a:close/>
              </a:path>
            </a:pathLst>
          </a:custGeom>
          <a:solidFill>
            <a:srgbClr val="f96197"/>
          </a:solidFill>
          <a:ln w="12600">
            <a:solidFill>
              <a:srgbClr val="f9619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同心圆 7"/>
          <p:cNvSpPr/>
          <p:nvPr/>
        </p:nvSpPr>
        <p:spPr>
          <a:xfrm>
            <a:off x="4667400" y="1514520"/>
            <a:ext cx="2395440" cy="2394000"/>
          </a:xfrm>
          <a:custGeom>
            <a:avLst/>
            <a:gdLst>
              <a:gd name="textAreaLeft" fmla="*/ 350640 w 2395440"/>
              <a:gd name="textAreaRight" fmla="*/ 2044800 w 2395440"/>
              <a:gd name="textAreaTop" fmla="*/ 350280 h 2394000"/>
              <a:gd name="textAreaBottom" fmla="*/ 2043720 h 239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60" y="10800"/>
                </a:moveTo>
                <a:cubicBezTo>
                  <a:pt x="3460" y="14854"/>
                  <a:pt x="6746" y="18140"/>
                  <a:pt x="10800" y="18140"/>
                </a:cubicBezTo>
                <a:cubicBezTo>
                  <a:pt x="14854" y="18140"/>
                  <a:pt x="18140" y="14854"/>
                  <a:pt x="18140" y="10800"/>
                </a:cubicBezTo>
                <a:cubicBezTo>
                  <a:pt x="18140" y="6746"/>
                  <a:pt x="14854" y="3460"/>
                  <a:pt x="10800" y="3460"/>
                </a:cubicBezTo>
                <a:cubicBezTo>
                  <a:pt x="6746" y="3460"/>
                  <a:pt x="3460" y="6746"/>
                  <a:pt x="3460" y="10800"/>
                </a:cubicBezTo>
                <a:close/>
              </a:path>
            </a:pathLst>
          </a:custGeom>
          <a:solidFill>
            <a:srgbClr val="f96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8"/>
          <p:cNvSpPr/>
          <p:nvPr/>
        </p:nvSpPr>
        <p:spPr>
          <a:xfrm>
            <a:off x="5467320" y="2314440"/>
            <a:ext cx="795240" cy="793800"/>
          </a:xfrm>
          <a:prstGeom prst="ellipse">
            <a:avLst/>
          </a:prstGeom>
          <a:solidFill>
            <a:srgbClr val="f96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同心圆 9"/>
          <p:cNvSpPr/>
          <p:nvPr/>
        </p:nvSpPr>
        <p:spPr>
          <a:xfrm>
            <a:off x="3808440" y="655560"/>
            <a:ext cx="4113360" cy="4111560"/>
          </a:xfrm>
          <a:custGeom>
            <a:avLst/>
            <a:gdLst>
              <a:gd name="textAreaLeft" fmla="*/ 602280 w 4113360"/>
              <a:gd name="textAreaRight" fmla="*/ 3511080 w 4113360"/>
              <a:gd name="textAreaTop" fmla="*/ 601920 h 4111560"/>
              <a:gd name="textAreaBottom" fmla="*/ 3509640 h 4111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811" y="10800"/>
                </a:moveTo>
                <a:cubicBezTo>
                  <a:pt x="811" y="16317"/>
                  <a:pt x="5283" y="20789"/>
                  <a:pt x="10800" y="20789"/>
                </a:cubicBezTo>
                <a:cubicBezTo>
                  <a:pt x="16317" y="20789"/>
                  <a:pt x="20789" y="16317"/>
                  <a:pt x="20789" y="10800"/>
                </a:cubicBezTo>
                <a:cubicBezTo>
                  <a:pt x="20789" y="5283"/>
                  <a:pt x="16317" y="811"/>
                  <a:pt x="10800" y="811"/>
                </a:cubicBezTo>
                <a:cubicBezTo>
                  <a:pt x="5283" y="811"/>
                  <a:pt x="811" y="5283"/>
                  <a:pt x="811" y="10800"/>
                </a:cubicBez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10"/>
          <p:cNvSpPr/>
          <p:nvPr/>
        </p:nvSpPr>
        <p:spPr>
          <a:xfrm rot="19840800">
            <a:off x="4119120" y="1782360"/>
            <a:ext cx="39952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步到位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11"/>
          <p:cNvSpPr/>
          <p:nvPr/>
        </p:nvSpPr>
        <p:spPr>
          <a:xfrm flipH="1" flipV="1">
            <a:off x="3742920" y="1469880"/>
            <a:ext cx="320760" cy="2527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12"/>
          <p:cNvSpPr/>
          <p:nvPr/>
        </p:nvSpPr>
        <p:spPr>
          <a:xfrm flipH="1" flipV="1">
            <a:off x="2763720" y="1469520"/>
            <a:ext cx="981360" cy="18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接连接符 13"/>
          <p:cNvSpPr/>
          <p:nvPr/>
        </p:nvSpPr>
        <p:spPr>
          <a:xfrm flipH="1" flipV="1">
            <a:off x="7610400" y="3766680"/>
            <a:ext cx="363600" cy="2365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14"/>
          <p:cNvSpPr/>
          <p:nvPr/>
        </p:nvSpPr>
        <p:spPr>
          <a:xfrm flipH="1">
            <a:off x="7956360" y="4003560"/>
            <a:ext cx="90468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15"/>
          <p:cNvSpPr/>
          <p:nvPr/>
        </p:nvSpPr>
        <p:spPr>
          <a:xfrm>
            <a:off x="2658960" y="1409760"/>
            <a:ext cx="112680" cy="11412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16"/>
          <p:cNvSpPr/>
          <p:nvPr/>
        </p:nvSpPr>
        <p:spPr>
          <a:xfrm>
            <a:off x="8871120" y="3946680"/>
            <a:ext cx="112680" cy="11412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17"/>
          <p:cNvSpPr/>
          <p:nvPr/>
        </p:nvSpPr>
        <p:spPr>
          <a:xfrm flipV="1">
            <a:off x="7318440" y="841320"/>
            <a:ext cx="492120" cy="4161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18"/>
          <p:cNvSpPr/>
          <p:nvPr/>
        </p:nvSpPr>
        <p:spPr>
          <a:xfrm>
            <a:off x="7810560" y="841320"/>
            <a:ext cx="892080" cy="18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19"/>
          <p:cNvSpPr/>
          <p:nvPr/>
        </p:nvSpPr>
        <p:spPr>
          <a:xfrm>
            <a:off x="8705880" y="792000"/>
            <a:ext cx="112680" cy="11304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20"/>
          <p:cNvSpPr/>
          <p:nvPr/>
        </p:nvSpPr>
        <p:spPr>
          <a:xfrm>
            <a:off x="563400" y="906480"/>
            <a:ext cx="857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方正兰亭特黑简体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21"/>
          <p:cNvSpPr/>
          <p:nvPr/>
        </p:nvSpPr>
        <p:spPr>
          <a:xfrm>
            <a:off x="8996040" y="23508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方正兰亭特黑简体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22"/>
          <p:cNvSpPr/>
          <p:nvPr/>
        </p:nvSpPr>
        <p:spPr>
          <a:xfrm>
            <a:off x="9109440" y="334476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方正兰亭特黑简体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23"/>
          <p:cNvSpPr/>
          <p:nvPr/>
        </p:nvSpPr>
        <p:spPr>
          <a:xfrm>
            <a:off x="1547640" y="118728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地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查找美发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24"/>
          <p:cNvSpPr/>
          <p:nvPr/>
        </p:nvSpPr>
        <p:spPr>
          <a:xfrm>
            <a:off x="10101240" y="52380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美发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择美发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25"/>
          <p:cNvSpPr/>
          <p:nvPr/>
        </p:nvSpPr>
        <p:spPr>
          <a:xfrm>
            <a:off x="10107000" y="364500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约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预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3" presetSubtype="36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32" repeatCount="3000">
                                  <p:stCondLst>
                                    <p:cond delay="3800"/>
                                  </p:stCondLst>
                                  <p:childTnLst>
                                    <p:animRot by="120000">
                                      <p:cBhvr>
                                        <p:cTn id="335" dur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6" dur="40" fill="hold">
                                          <p:stCondLst>
                                            <p:cond delay="4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7" dur="40" fill="hold">
                                          <p:stCondLst>
                                            <p:cond delay="8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8" dur="4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9" dur="40" fill="hold">
                                          <p:stCondLst>
                                            <p:cond delay="16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4401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7"/>
          <p:cNvSpPr/>
          <p:nvPr/>
        </p:nvSpPr>
        <p:spPr>
          <a:xfrm>
            <a:off x="5394240" y="4745160"/>
            <a:ext cx="143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发型</a:t>
            </a:r>
            <a:r>
              <a:rPr b="0" lang="en-US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DI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0"/>
          <p:cNvSpPr/>
          <p:nvPr/>
        </p:nvSpPr>
        <p:spPr>
          <a:xfrm>
            <a:off x="4741920" y="518940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Entertainm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9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9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6T02:32:00Z</dcterms:created>
  <dc:creator>曹志荣</dc:creator>
  <dc:description/>
  <cp:keywords/>
  <dc:language>en-US</dc:language>
  <cp:lastModifiedBy>Administrator</cp:lastModifiedBy>
  <dcterms:modified xsi:type="dcterms:W3CDTF">2016-07-26T02:51:24Z</dcterms:modified>
  <cp:revision>9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