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6BE9A-77DF-4B83-9CA7-2A4D8808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27F62-1FEC-476D-86A6-FC1AA5AD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EB6E7-BADF-4C6F-B9D7-CAE426C9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74CF4-CF1B-4F44-A67A-B1C5E243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7A1C6-F4BE-429E-ABA4-1B8F9F8F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1513D-1EEE-4D54-90B1-03BFF8E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29062-8809-4709-A92A-125B4DAF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F7961-6A63-4697-AE9B-68AB673C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FBD4F-4608-4160-B140-75B3BDB6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B963D-0B00-4438-B3C1-FF919397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D74C1-DB1E-4561-BAAA-C134E022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9DB74-A397-46F1-973B-4E79775A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BFC26-263F-4B85-A1A3-16D534CD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69A76-675C-4A70-9E0A-39CE2FD0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92CEE-5AE6-4DDD-B158-DD1441F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84428-6402-451B-AF6B-91BC704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358C3-5AA6-4ECB-838F-FFD4ABFF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4AFFD-F597-4AEB-B285-E1DB14A4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C2E96-4246-49F8-988D-C9799E2C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76A5B-9375-47CD-B89E-9916D326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D0831-6D41-4A69-8765-2C1B770F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CBE8A-5139-4F4C-89DD-1AC4C7FA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54054-8A0A-43DB-AD72-E5F600F9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EF38E-4191-4B69-B8CC-71CF7B8E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02F1A-2629-4CA5-A24D-E6BB6EB4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824C9-8CCE-4396-9E08-38BD8F99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EB03B-7867-49EC-9989-71164F06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E2A24-A7B2-4D4B-BE84-B8A05391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9F873-E632-47E7-854C-9825DF8D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2B123-909C-498F-8705-E77E4D33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53A-915C-4AE3-809A-B27BE3B5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CA3FB-4088-4FD3-979E-520F1261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81A3A-4558-4B5F-B54E-BE241DA4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24DC0-C91D-44A2-8272-56E32751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47191-AD86-4B62-B574-7BC9C99B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763D4-1B5D-458B-AD58-B337928D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833CC-C2AB-40F7-9661-7A62A120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20779-541A-4148-BE80-2A4E58DE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885FD-0DAA-4B0E-BE83-23C104B1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EA859-E2D0-4FB6-9D7C-AC3AB21C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07454-3B57-4795-951E-21D05705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07F-672A-4F5E-9945-515289AA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56254-1190-49DC-8DFE-F45E016E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AFA1A-AA90-44DE-B193-BE61FFC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3D903-64E4-40AB-AA3D-CA287676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7D0CC-C4DE-4FAB-ABE3-B72AF0A0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55C76-6052-4C20-9E21-AEEC5B27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219B0-2A01-4D57-8486-8E14AFE0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4AB2F-7D37-4FCF-9F86-D7F3C958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26C80-4D48-45EA-A3AB-3BD6D5F7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5CEC4-6440-45AA-8F88-D42B3A83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535F2-3612-48DF-BBFD-3285F631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7D9-A164-4968-B661-BD638945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6B495-46BE-4717-BAD7-1A2B95BF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CDE5F-959F-4A9A-A6A7-2705E5B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78967-2B80-4E63-96A0-3F994F5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8305D-DB79-44E5-9715-44EF696E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836C9-8B28-4FB9-8C18-DF5DDEC0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D25D4-9282-44B0-98B1-6424B962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CF8CF-A2A4-483F-AF9D-9F6F1EE7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FDC-3274-44B0-A533-B4E238E0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FB5-5C5D-4C0B-A278-B624A82C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A57-921A-47C3-9CD5-B32045CD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377-7502-45C6-996D-966ABC55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6DC-757E-46E7-AFCC-F6B54697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A2C-AB29-43ED-ABC6-E507701F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DFC-8CFE-4392-A7D1-17EB0C13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C16-9E51-4418-8B1D-CB1012E1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B2E-4D9E-41B5-88EC-143ACADD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54D7-D82E-4B58-9E3B-5ED0AB69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F0FC-5F78-41D7-ABCC-4571F0C0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9015-6F99-4EAE-8946-5D3DE4F7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E838-3DD2-4F1E-B68E-F1CE3ABA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5FFF-F18C-4898-AF15-86A165BE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EFE8-CC44-4C69-85E0-C6FDB1B0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A116-FF4E-4E06-89D0-ADA7F06F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B3B9-7549-404E-9E3C-5F7628C3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4C38-8BE3-487E-A903-7211A73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3A0C-97A3-4C8F-B607-17AEAFDA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D506-F28B-4558-A25A-9E784070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87DB-2F1A-4610-B124-A1EA8928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7E48-B988-4FA8-8D89-3F3E9F84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BBD7-A61E-4992-B4AB-1BAA8A2C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C64E-E42D-4F99-A8FC-37A887F7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53B7-4845-4527-80B0-3AD98E1F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89B9-15DC-48A0-B67B-72C0A72F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B18E-3992-43A4-882B-6F4E07CC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FCAA-643A-438F-BCA9-20EF3A50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6522-F1FD-41BC-8786-F6926860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98D5-3B67-424D-A1B3-8B987B16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AB65-8404-4FFB-B271-004D0114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7771-D126-44DE-AA42-63B4E168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EDF5-CFDB-4914-A6C7-2540DF82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86BD-102F-45FB-8467-E3C7662F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6EF72-BCA3-40C7-BE2B-037E19D5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7F8DD-A975-46C5-9BD9-F49ACC96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53A5-8A03-4AD6-8BFD-63E05B42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CE63-258C-47A1-AB2D-28BAC0A1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A20B-2397-4B14-A536-3DF2976F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C541-7A60-4884-82AC-8C82F14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E5661-7C43-4408-8690-9B179C1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357C-BB9B-4540-BBBB-433A5D46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DA25-D5AE-452B-AF47-50084D55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32C9-61DE-471C-AE82-58AD80AF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820F-5B9D-470E-B982-AC7E9339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F31A-14B6-487B-862B-4056C375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079D-FAD4-4F41-B831-AEB07FE0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F745F-05E7-458A-BEC4-6C0DB0FC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9167-BC9E-4888-B927-51AFCDD4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42AE8-4AB5-442C-978E-05528642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4771F-42DD-41A6-89B6-D859BDFF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790BA-465D-4D44-835B-F6CA2E6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47CE1-739C-4915-A383-5FCB7BEE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D875-E843-44EE-87AF-EF65A46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3E671-0CFF-4527-BE19-CA0C4D8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9A7A-815B-4E89-BD90-F17F10B6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E657-C109-4561-AACE-20E8959F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8618-5041-476C-B6DE-A1004DBD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0CB74-8011-4B9E-B457-EF88A146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47140-27D2-43F2-B071-D1948CDD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2302E-1A67-4BE9-854C-3D352793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EE5C0-10A8-4521-AF0B-76FAF3A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A929E-2483-4CE3-AC2F-F7671310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F1DA-5D1D-4CB2-84DE-F784AE77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DC5DA-E2F2-479C-8066-4AB70D9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8DC18-8F01-405A-92DB-84B0D154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82BAD-EDE3-472D-A9D5-7D982FC0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E7BCF-5EC3-4A8B-959F-2FEBD8AC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4A811-8E7B-4AFB-B202-A330D039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D0CC8-6E1D-40EF-ABE9-17A8A9FC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51E6-8678-43B1-8716-9283153E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E3B95-07FC-4EDC-B369-3654C98F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738D3-C43A-43C5-B9F4-96BA97DE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B894E-405D-47D5-ACAD-A35EEBD0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FC91C-F463-4123-AE6B-36223C96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14E6A-0BBF-4259-808D-D2688DF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D4612-62A5-414F-86CC-8129C853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D7E01-EF5C-4A7C-8BD0-9C35C476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0E3A4-4A54-43FF-BF27-B8D1D9C6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55502-E69C-495B-8C56-B8FC87EB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E07C4-234D-4AA1-8087-2C79E5CB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E0AF1-E7BC-42E7-B580-35B6C6DC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E3A83-4F0B-4924-B970-81540B39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70914-5D48-4BA4-A09C-99C6DA48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F7E3-C19E-4BFE-9CD4-4580F637A7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2A0F-2F1F-41D8-8A0A-B7BDEAF2756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9DB5-14E9-4AEA-8962-8F057E15866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7F70-8529-491B-8126-4D60A6C7005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CFB-D14A-434E-83AE-13790CE861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4E74-2B1B-4BC0-8916-B42ACC071EF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E465-5AB5-43E6-AB2E-5ACDF2A8E39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65F2-E678-4794-96BA-3231BF0FF13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B912-3525-47AC-8671-BCA4ACAA7F2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28AE-150F-434C-902D-9418529F042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B595-0199-432E-9FA1-C98A6767FC1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C9F3-05C5-4446-AEB0-59F9E67635B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248440" y="488628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人：不期而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165640" y="520056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院系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专业 指导老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52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600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601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612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39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718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722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726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30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34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38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1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42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7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2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93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822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29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35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39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组合 5" descr=""/>
          <p:cNvPicPr/>
          <p:nvPr/>
        </p:nvPicPr>
        <p:blipFill>
          <a:blip r:embed="rId1"/>
          <a:stretch/>
        </p:blipFill>
        <p:spPr>
          <a:xfrm>
            <a:off x="566640" y="341280"/>
            <a:ext cx="11034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57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68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79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9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90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901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912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923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34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45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5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56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57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58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85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7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88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1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92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4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95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7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1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1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42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4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0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110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2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1"/>
          <p:cNvSpPr/>
          <p:nvPr/>
        </p:nvSpPr>
        <p:spPr>
          <a:xfrm>
            <a:off x="4730760" y="25671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Lenovo</dc:creator>
  <dc:description/>
  <dc:language>en-US</dc:language>
  <cp:lastModifiedBy/>
  <dcterms:modified xsi:type="dcterms:W3CDTF">2015-06-20T00:28:01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