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8F92-BE5B-41EB-9D3F-49E065F3F7D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字体：叶根友行书繁，汉仪星宇体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39C9-68A4-4E24-9A3F-80105CE5608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字体：叶根友行书繁，汉仪星宇体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8D84-E63D-4136-85F9-6816A24DE75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DD19-8225-4C0A-A20F-EE6E93E0D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F569-4565-42B7-A14D-FDB82940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3D8A-8036-4139-92FD-ECE04801B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C561-6AA3-427C-B90E-C3629872B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302F-22AB-48E1-B587-2BA03F89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2485-5D8F-4437-AEDB-0D1A5566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6E95-E3C0-4AB6-88DF-EF4E791A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E452-90E9-44BE-909E-F8C5275E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B789-BC19-4B66-9631-EF4A343F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2F35-D44C-4698-96DA-8E3B6624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DF55-6CDA-4E9A-805F-DD007E8B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C536-9451-4376-93EA-020365FF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526E-19ED-41CE-BF5F-A943B60A3F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图片 1" descr=""/>
          <p:cNvPicPr/>
          <p:nvPr/>
        </p:nvPicPr>
        <p:blipFill>
          <a:blip r:embed="rId1"/>
          <a:srcRect l="10301" t="16678" r="15134" b="30818"/>
          <a:stretch/>
        </p:blipFill>
        <p:spPr>
          <a:xfrm>
            <a:off x="4986360" y="2441520"/>
            <a:ext cx="4732200" cy="134640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2" descr=""/>
          <p:cNvPicPr/>
          <p:nvPr/>
        </p:nvPicPr>
        <p:blipFill>
          <a:blip r:embed="rId2"/>
          <a:stretch/>
        </p:blipFill>
        <p:spPr>
          <a:xfrm>
            <a:off x="5126040" y="3898800"/>
            <a:ext cx="4017960" cy="59220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3" descr=""/>
          <p:cNvPicPr/>
          <p:nvPr/>
        </p:nvPicPr>
        <p:blipFill>
          <a:blip r:embed="rId3"/>
          <a:stretch/>
        </p:blipFill>
        <p:spPr>
          <a:xfrm>
            <a:off x="1925640" y="1238400"/>
            <a:ext cx="3675240" cy="437652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8" descr=""/>
          <p:cNvPicPr/>
          <p:nvPr/>
        </p:nvPicPr>
        <p:blipFill>
          <a:blip r:embed="rId4"/>
          <a:stretch/>
        </p:blipFill>
        <p:spPr>
          <a:xfrm>
            <a:off x="9144000" y="389880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6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traight Connector 154"/>
          <p:cNvSpPr/>
          <p:nvPr/>
        </p:nvSpPr>
        <p:spPr>
          <a:xfrm>
            <a:off x="3886200" y="2449440"/>
            <a:ext cx="1104840" cy="0"/>
          </a:xfrm>
          <a:prstGeom prst="line">
            <a:avLst/>
          </a:prstGeom>
          <a:ln w="19080">
            <a:solidFill>
              <a:srgbClr val="a8a8a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traight Connector 164"/>
          <p:cNvSpPr/>
          <p:nvPr/>
        </p:nvSpPr>
        <p:spPr>
          <a:xfrm>
            <a:off x="7216920" y="4821120"/>
            <a:ext cx="1056960" cy="0"/>
          </a:xfrm>
          <a:prstGeom prst="line">
            <a:avLst/>
          </a:prstGeom>
          <a:ln w="19080">
            <a:solidFill>
              <a:srgbClr val="6c717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traight Connector 163"/>
          <p:cNvSpPr/>
          <p:nvPr/>
        </p:nvSpPr>
        <p:spPr>
          <a:xfrm>
            <a:off x="3886200" y="4821120"/>
            <a:ext cx="1104840" cy="0"/>
          </a:xfrm>
          <a:prstGeom prst="line">
            <a:avLst/>
          </a:prstGeom>
          <a:ln w="19080">
            <a:solidFill>
              <a:srgbClr val="a8a8a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traight Connector 162"/>
          <p:cNvSpPr/>
          <p:nvPr/>
        </p:nvSpPr>
        <p:spPr>
          <a:xfrm>
            <a:off x="7686720" y="3633840"/>
            <a:ext cx="1063440" cy="0"/>
          </a:xfrm>
          <a:prstGeom prst="line">
            <a:avLst/>
          </a:prstGeom>
          <a:ln w="19080">
            <a:solidFill>
              <a:srgbClr val="a8a8a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traight Connector 161"/>
          <p:cNvSpPr/>
          <p:nvPr/>
        </p:nvSpPr>
        <p:spPr>
          <a:xfrm>
            <a:off x="3408480" y="3633840"/>
            <a:ext cx="1112760" cy="0"/>
          </a:xfrm>
          <a:prstGeom prst="line">
            <a:avLst/>
          </a:prstGeom>
          <a:ln w="19080">
            <a:solidFill>
              <a:srgbClr val="6c717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traight Connector 160"/>
          <p:cNvSpPr/>
          <p:nvPr/>
        </p:nvSpPr>
        <p:spPr>
          <a:xfrm>
            <a:off x="7216920" y="2449440"/>
            <a:ext cx="1068120" cy="0"/>
          </a:xfrm>
          <a:prstGeom prst="line">
            <a:avLst/>
          </a:prstGeom>
          <a:ln w="19080">
            <a:solidFill>
              <a:srgbClr val="6c717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Oval 101"/>
          <p:cNvSpPr/>
          <p:nvPr/>
        </p:nvSpPr>
        <p:spPr>
          <a:xfrm>
            <a:off x="4521240" y="2050920"/>
            <a:ext cx="3165480" cy="3164040"/>
          </a:xfrm>
          <a:prstGeom prst="ellipse">
            <a:avLst/>
          </a:prstGeom>
          <a:noFill/>
          <a:ln w="19080">
            <a:solidFill>
              <a:srgbClr val="c1c7d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Group 135" descr=""/>
          <p:cNvPicPr/>
          <p:nvPr/>
        </p:nvPicPr>
        <p:blipFill>
          <a:blip r:embed="rId1"/>
          <a:stretch/>
        </p:blipFill>
        <p:spPr>
          <a:xfrm>
            <a:off x="8272440" y="1603440"/>
            <a:ext cx="1573200" cy="1646280"/>
          </a:xfrm>
          <a:prstGeom prst="rect">
            <a:avLst/>
          </a:prstGeom>
          <a:ln w="0">
            <a:noFill/>
          </a:ln>
        </p:spPr>
      </p:pic>
      <p:pic>
        <p:nvPicPr>
          <p:cNvPr id="422" name="Group 138" descr=""/>
          <p:cNvPicPr/>
          <p:nvPr/>
        </p:nvPicPr>
        <p:blipFill>
          <a:blip r:embed="rId2"/>
          <a:stretch/>
        </p:blipFill>
        <p:spPr>
          <a:xfrm>
            <a:off x="2389320" y="1633680"/>
            <a:ext cx="1566720" cy="1633320"/>
          </a:xfrm>
          <a:prstGeom prst="rect">
            <a:avLst/>
          </a:prstGeom>
          <a:ln w="0">
            <a:noFill/>
          </a:ln>
        </p:spPr>
      </p:pic>
      <p:pic>
        <p:nvPicPr>
          <p:cNvPr id="423" name="Group 141" descr=""/>
          <p:cNvPicPr/>
          <p:nvPr/>
        </p:nvPicPr>
        <p:blipFill>
          <a:blip r:embed="rId3"/>
          <a:stretch/>
        </p:blipFill>
        <p:spPr>
          <a:xfrm>
            <a:off x="1895400" y="2822400"/>
            <a:ext cx="1560600" cy="1621080"/>
          </a:xfrm>
          <a:prstGeom prst="rect">
            <a:avLst/>
          </a:prstGeom>
          <a:ln w="0">
            <a:noFill/>
          </a:ln>
        </p:spPr>
      </p:pic>
      <p:pic>
        <p:nvPicPr>
          <p:cNvPr id="424" name="Group 144" descr=""/>
          <p:cNvPicPr/>
          <p:nvPr/>
        </p:nvPicPr>
        <p:blipFill>
          <a:blip r:embed="rId4"/>
          <a:stretch/>
        </p:blipFill>
        <p:spPr>
          <a:xfrm>
            <a:off x="2389320" y="4005360"/>
            <a:ext cx="1566720" cy="1627200"/>
          </a:xfrm>
          <a:prstGeom prst="rect">
            <a:avLst/>
          </a:prstGeom>
          <a:ln w="0">
            <a:noFill/>
          </a:ln>
        </p:spPr>
      </p:pic>
      <p:pic>
        <p:nvPicPr>
          <p:cNvPr id="425" name="Group 147" descr=""/>
          <p:cNvPicPr/>
          <p:nvPr/>
        </p:nvPicPr>
        <p:blipFill>
          <a:blip r:embed="rId5"/>
          <a:stretch/>
        </p:blipFill>
        <p:spPr>
          <a:xfrm>
            <a:off x="8747280" y="2809800"/>
            <a:ext cx="1566720" cy="1646280"/>
          </a:xfrm>
          <a:prstGeom prst="rect">
            <a:avLst/>
          </a:prstGeom>
          <a:ln w="0">
            <a:noFill/>
          </a:ln>
        </p:spPr>
      </p:pic>
      <p:pic>
        <p:nvPicPr>
          <p:cNvPr id="426" name="Group 150" descr=""/>
          <p:cNvPicPr/>
          <p:nvPr/>
        </p:nvPicPr>
        <p:blipFill>
          <a:blip r:embed="rId6"/>
          <a:stretch/>
        </p:blipFill>
        <p:spPr>
          <a:xfrm>
            <a:off x="8272440" y="3998880"/>
            <a:ext cx="1573200" cy="1646280"/>
          </a:xfrm>
          <a:prstGeom prst="rect">
            <a:avLst/>
          </a:prstGeom>
          <a:ln w="0">
            <a:noFill/>
          </a:ln>
        </p:spPr>
      </p:pic>
      <p:sp>
        <p:nvSpPr>
          <p:cNvPr id="427" name="Oval 61"/>
          <p:cNvSpPr/>
          <p:nvPr/>
        </p:nvSpPr>
        <p:spPr>
          <a:xfrm>
            <a:off x="4253040" y="3363840"/>
            <a:ext cx="538200" cy="53820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Oval 66"/>
          <p:cNvSpPr/>
          <p:nvPr/>
        </p:nvSpPr>
        <p:spPr>
          <a:xfrm>
            <a:off x="4800600" y="4551480"/>
            <a:ext cx="538200" cy="5382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Oval 71"/>
          <p:cNvSpPr/>
          <p:nvPr/>
        </p:nvSpPr>
        <p:spPr>
          <a:xfrm>
            <a:off x="6915240" y="2168640"/>
            <a:ext cx="536400" cy="53820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Oval 120"/>
          <p:cNvSpPr/>
          <p:nvPr/>
        </p:nvSpPr>
        <p:spPr>
          <a:xfrm>
            <a:off x="7418520" y="3363840"/>
            <a:ext cx="536400" cy="5382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Oval 121"/>
          <p:cNvSpPr/>
          <p:nvPr/>
        </p:nvSpPr>
        <p:spPr>
          <a:xfrm>
            <a:off x="6910560" y="4551480"/>
            <a:ext cx="536400" cy="53820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Oval 30"/>
          <p:cNvSpPr/>
          <p:nvPr/>
        </p:nvSpPr>
        <p:spPr>
          <a:xfrm>
            <a:off x="4800600" y="2181240"/>
            <a:ext cx="538200" cy="5382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3" name="组合 29"/>
          <p:cNvGrpSpPr/>
          <p:nvPr/>
        </p:nvGrpSpPr>
        <p:grpSpPr>
          <a:xfrm>
            <a:off x="5272200" y="2944800"/>
            <a:ext cx="1695240" cy="1533600"/>
            <a:chOff x="5272200" y="2944800"/>
            <a:chExt cx="1695240" cy="1533600"/>
          </a:xfrm>
        </p:grpSpPr>
        <p:sp>
          <p:nvSpPr>
            <p:cNvPr id="434" name="Freeform 5"/>
            <p:cNvSpPr/>
            <p:nvPr/>
          </p:nvSpPr>
          <p:spPr>
            <a:xfrm>
              <a:off x="5880960" y="4132080"/>
              <a:ext cx="483840" cy="219600"/>
            </a:xfrm>
            <a:custGeom>
              <a:avLst/>
              <a:gdLst/>
              <a:ahLst/>
              <a:rect l="l" t="t" r="r" b="b"/>
              <a:pathLst>
                <a:path w="919" h="417">
                  <a:moveTo>
                    <a:pt x="874" y="0"/>
                  </a:moveTo>
                  <a:lnTo>
                    <a:pt x="45" y="0"/>
                  </a:lnTo>
                  <a:lnTo>
                    <a:pt x="0" y="417"/>
                  </a:lnTo>
                  <a:lnTo>
                    <a:pt x="919" y="417"/>
                  </a:lnTo>
                  <a:lnTo>
                    <a:pt x="874" y="0"/>
                  </a:lnTo>
                  <a:close/>
                </a:path>
              </a:pathLst>
            </a:custGeom>
            <a:solidFill>
              <a:srgbClr val="889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Rectangle 6"/>
            <p:cNvSpPr/>
            <p:nvPr/>
          </p:nvSpPr>
          <p:spPr>
            <a:xfrm>
              <a:off x="5759640" y="4436280"/>
              <a:ext cx="725400" cy="42120"/>
            </a:xfrm>
            <a:prstGeom prst="rect">
              <a:avLst/>
            </a:prstGeom>
            <a:solidFill>
              <a:srgbClr val="56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74840"/>
                  <a:tab algn="l" pos="2749680"/>
                  <a:tab algn="l" pos="4124160"/>
                  <a:tab algn="l" pos="5499000"/>
                  <a:tab algn="l" pos="6873840"/>
                  <a:tab algn="l" pos="8248680"/>
                  <a:tab algn="l" pos="96235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7"/>
            <p:cNvSpPr/>
            <p:nvPr/>
          </p:nvSpPr>
          <p:spPr>
            <a:xfrm>
              <a:off x="5272200" y="2944800"/>
              <a:ext cx="1680840" cy="1015560"/>
            </a:xfrm>
            <a:custGeom>
              <a:avLst/>
              <a:gdLst/>
              <a:ahLst/>
              <a:rect l="l" t="t" r="r" b="b"/>
              <a:pathLst>
                <a:path w="1356" h="824">
                  <a:moveTo>
                    <a:pt x="1259" y="0"/>
                  </a:moveTo>
                  <a:cubicBezTo>
                    <a:pt x="97" y="0"/>
                    <a:pt x="97" y="0"/>
                    <a:pt x="97" y="0"/>
                  </a:cubicBezTo>
                  <a:cubicBezTo>
                    <a:pt x="43" y="0"/>
                    <a:pt x="0" y="44"/>
                    <a:pt x="0" y="97"/>
                  </a:cubicBezTo>
                  <a:cubicBezTo>
                    <a:pt x="0" y="727"/>
                    <a:pt x="0" y="727"/>
                    <a:pt x="0" y="727"/>
                  </a:cubicBezTo>
                  <a:cubicBezTo>
                    <a:pt x="0" y="824"/>
                    <a:pt x="0" y="824"/>
                    <a:pt x="0" y="824"/>
                  </a:cubicBezTo>
                  <a:cubicBezTo>
                    <a:pt x="1356" y="824"/>
                    <a:pt x="1356" y="824"/>
                    <a:pt x="1356" y="824"/>
                  </a:cubicBezTo>
                  <a:cubicBezTo>
                    <a:pt x="1356" y="727"/>
                    <a:pt x="1356" y="727"/>
                    <a:pt x="1356" y="727"/>
                  </a:cubicBezTo>
                  <a:cubicBezTo>
                    <a:pt x="1356" y="97"/>
                    <a:pt x="1356" y="97"/>
                    <a:pt x="1356" y="97"/>
                  </a:cubicBezTo>
                  <a:cubicBezTo>
                    <a:pt x="1356" y="44"/>
                    <a:pt x="1313" y="0"/>
                    <a:pt x="1259" y="0"/>
                  </a:cubicBezTo>
                </a:path>
              </a:pathLst>
            </a:custGeom>
            <a:solidFill>
              <a:srgbClr val="566172"/>
            </a:solidFill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9"/>
            <p:cNvSpPr/>
            <p:nvPr/>
          </p:nvSpPr>
          <p:spPr>
            <a:xfrm>
              <a:off x="5277600" y="2947320"/>
              <a:ext cx="1689840" cy="1027440"/>
            </a:xfrm>
            <a:custGeom>
              <a:avLst/>
              <a:gdLst/>
              <a:ahLst/>
              <a:rect l="l" t="t" r="r" b="b"/>
              <a:pathLst>
                <a:path w="1356" h="824">
                  <a:moveTo>
                    <a:pt x="1308" y="49"/>
                  </a:moveTo>
                  <a:cubicBezTo>
                    <a:pt x="1308" y="49"/>
                    <a:pt x="1308" y="49"/>
                    <a:pt x="1308" y="49"/>
                  </a:cubicBezTo>
                  <a:cubicBezTo>
                    <a:pt x="1308" y="775"/>
                    <a:pt x="1308" y="775"/>
                    <a:pt x="1308" y="775"/>
                  </a:cubicBezTo>
                  <a:cubicBezTo>
                    <a:pt x="48" y="775"/>
                    <a:pt x="48" y="775"/>
                    <a:pt x="48" y="775"/>
                  </a:cubicBezTo>
                  <a:cubicBezTo>
                    <a:pt x="48" y="49"/>
                    <a:pt x="48" y="49"/>
                    <a:pt x="48" y="49"/>
                  </a:cubicBezTo>
                  <a:cubicBezTo>
                    <a:pt x="48" y="49"/>
                    <a:pt x="48" y="49"/>
                    <a:pt x="48" y="49"/>
                  </a:cubicBezTo>
                  <a:lnTo>
                    <a:pt x="1308" y="49"/>
                  </a:lnTo>
                  <a:close/>
                  <a:moveTo>
                    <a:pt x="1308" y="0"/>
                  </a:moveTo>
                  <a:cubicBezTo>
                    <a:pt x="48" y="0"/>
                    <a:pt x="48" y="0"/>
                    <a:pt x="48" y="0"/>
                  </a:cubicBezTo>
                  <a:cubicBezTo>
                    <a:pt x="22" y="0"/>
                    <a:pt x="0" y="22"/>
                    <a:pt x="0" y="49"/>
                  </a:cubicBezTo>
                  <a:cubicBezTo>
                    <a:pt x="0" y="824"/>
                    <a:pt x="0" y="824"/>
                    <a:pt x="0" y="824"/>
                  </a:cubicBezTo>
                  <a:cubicBezTo>
                    <a:pt x="1356" y="824"/>
                    <a:pt x="1356" y="824"/>
                    <a:pt x="1356" y="824"/>
                  </a:cubicBezTo>
                  <a:cubicBezTo>
                    <a:pt x="1356" y="49"/>
                    <a:pt x="1356" y="49"/>
                    <a:pt x="1356" y="49"/>
                  </a:cubicBezTo>
                  <a:cubicBezTo>
                    <a:pt x="1356" y="22"/>
                    <a:pt x="1334" y="0"/>
                    <a:pt x="1308" y="0"/>
                  </a:cubicBezTo>
                  <a:close/>
                </a:path>
              </a:pathLst>
            </a:custGeom>
            <a:solidFill>
              <a:srgbClr val="56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10"/>
            <p:cNvSpPr/>
            <p:nvPr/>
          </p:nvSpPr>
          <p:spPr>
            <a:xfrm>
              <a:off x="5277600" y="3975120"/>
              <a:ext cx="1689840" cy="180360"/>
            </a:xfrm>
            <a:custGeom>
              <a:avLst/>
              <a:gdLst/>
              <a:ahLst/>
              <a:rect l="l" t="t" r="r" b="b"/>
              <a:pathLst>
                <a:path w="1356" h="145">
                  <a:moveTo>
                    <a:pt x="0" y="0"/>
                  </a:moveTo>
                  <a:cubicBezTo>
                    <a:pt x="0" y="96"/>
                    <a:pt x="0" y="96"/>
                    <a:pt x="0" y="96"/>
                  </a:cubicBezTo>
                  <a:cubicBezTo>
                    <a:pt x="0" y="123"/>
                    <a:pt x="22" y="145"/>
                    <a:pt x="48" y="145"/>
                  </a:cubicBezTo>
                  <a:cubicBezTo>
                    <a:pt x="1308" y="145"/>
                    <a:pt x="1308" y="145"/>
                    <a:pt x="1308" y="145"/>
                  </a:cubicBezTo>
                  <a:cubicBezTo>
                    <a:pt x="1334" y="145"/>
                    <a:pt x="1356" y="123"/>
                    <a:pt x="1356" y="96"/>
                  </a:cubicBezTo>
                  <a:cubicBezTo>
                    <a:pt x="1356" y="0"/>
                    <a:pt x="1356" y="0"/>
                    <a:pt x="135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1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11"/>
            <p:cNvSpPr/>
            <p:nvPr/>
          </p:nvSpPr>
          <p:spPr>
            <a:xfrm>
              <a:off x="5759640" y="4351680"/>
              <a:ext cx="725400" cy="84600"/>
            </a:xfrm>
            <a:custGeom>
              <a:avLst/>
              <a:gdLst/>
              <a:ahLst/>
              <a:rect l="l" t="t" r="r" b="b"/>
              <a:pathLst>
                <a:path w="1378" h="161">
                  <a:moveTo>
                    <a:pt x="0" y="161"/>
                  </a:moveTo>
                  <a:lnTo>
                    <a:pt x="230" y="0"/>
                  </a:lnTo>
                  <a:lnTo>
                    <a:pt x="1149" y="0"/>
                  </a:lnTo>
                  <a:lnTo>
                    <a:pt x="1378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c1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0" name="组合 33" descr=""/>
            <p:cNvPicPr/>
            <p:nvPr/>
          </p:nvPicPr>
          <p:blipFill>
            <a:blip r:embed="rId7"/>
            <a:stretch/>
          </p:blipFill>
          <p:spPr>
            <a:xfrm>
              <a:off x="5906880" y="3279960"/>
              <a:ext cx="432360" cy="37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1" name="TextBox 71"/>
          <p:cNvSpPr/>
          <p:nvPr/>
        </p:nvSpPr>
        <p:spPr>
          <a:xfrm>
            <a:off x="8655840" y="22924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extBox 71"/>
          <p:cNvSpPr/>
          <p:nvPr/>
        </p:nvSpPr>
        <p:spPr>
          <a:xfrm>
            <a:off x="9117000" y="34606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Box 71"/>
          <p:cNvSpPr/>
          <p:nvPr/>
        </p:nvSpPr>
        <p:spPr>
          <a:xfrm>
            <a:off x="8696160" y="47070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71"/>
          <p:cNvSpPr/>
          <p:nvPr/>
        </p:nvSpPr>
        <p:spPr>
          <a:xfrm>
            <a:off x="2776320" y="22924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extBox 71"/>
          <p:cNvSpPr/>
          <p:nvPr/>
        </p:nvSpPr>
        <p:spPr>
          <a:xfrm>
            <a:off x="2225520" y="34448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Box 71"/>
          <p:cNvSpPr/>
          <p:nvPr/>
        </p:nvSpPr>
        <p:spPr>
          <a:xfrm>
            <a:off x="2817720" y="47260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 Box 35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图片 1" descr=""/>
          <p:cNvPicPr/>
          <p:nvPr/>
        </p:nvPicPr>
        <p:blipFill>
          <a:blip r:embed="rId1"/>
          <a:stretch/>
        </p:blipFill>
        <p:spPr>
          <a:xfrm>
            <a:off x="3780000" y="2665440"/>
            <a:ext cx="8412120" cy="5241960"/>
          </a:xfrm>
          <a:prstGeom prst="rect">
            <a:avLst/>
          </a:prstGeom>
          <a:ln w="0">
            <a:noFill/>
          </a:ln>
        </p:spPr>
      </p:pic>
      <p:sp>
        <p:nvSpPr>
          <p:cNvPr id="449" name="矩形 2"/>
          <p:cNvSpPr/>
          <p:nvPr/>
        </p:nvSpPr>
        <p:spPr>
          <a:xfrm>
            <a:off x="1444680" y="368460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矩形 3"/>
          <p:cNvSpPr/>
          <p:nvPr/>
        </p:nvSpPr>
        <p:spPr>
          <a:xfrm>
            <a:off x="1444680" y="288756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1" name="组合 4"/>
          <p:cNvGrpSpPr/>
          <p:nvPr/>
        </p:nvGrpSpPr>
        <p:grpSpPr>
          <a:xfrm>
            <a:off x="1444680" y="1819440"/>
            <a:ext cx="3789360" cy="955440"/>
            <a:chOff x="1444680" y="1819440"/>
            <a:chExt cx="3789360" cy="955440"/>
          </a:xfrm>
        </p:grpSpPr>
        <p:pic>
          <p:nvPicPr>
            <p:cNvPr id="452" name="图片 5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1444680" y="1819440"/>
              <a:ext cx="3789360" cy="9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文本框 6"/>
            <p:cNvSpPr/>
            <p:nvPr/>
          </p:nvSpPr>
          <p:spPr>
            <a:xfrm>
              <a:off x="1829160" y="19998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4" name="Text Box 8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图片 1" descr=""/>
          <p:cNvPicPr/>
          <p:nvPr/>
        </p:nvPicPr>
        <p:blipFill>
          <a:blip r:embed="rId1"/>
          <a:stretch/>
        </p:blipFill>
        <p:spPr>
          <a:xfrm>
            <a:off x="190440" y="631800"/>
            <a:ext cx="7515360" cy="6226200"/>
          </a:xfrm>
          <a:prstGeom prst="rect">
            <a:avLst/>
          </a:prstGeom>
          <a:ln w="0">
            <a:noFill/>
          </a:ln>
        </p:spPr>
      </p:pic>
      <p:sp>
        <p:nvSpPr>
          <p:cNvPr id="456" name="矩形 2"/>
          <p:cNvSpPr/>
          <p:nvPr/>
        </p:nvSpPr>
        <p:spPr>
          <a:xfrm>
            <a:off x="7435800" y="3871800"/>
            <a:ext cx="37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7" name="组合 3"/>
          <p:cNvGrpSpPr/>
          <p:nvPr/>
        </p:nvGrpSpPr>
        <p:grpSpPr>
          <a:xfrm>
            <a:off x="7435800" y="2803680"/>
            <a:ext cx="3789360" cy="954000"/>
            <a:chOff x="7435800" y="2803680"/>
            <a:chExt cx="3789360" cy="954000"/>
          </a:xfrm>
        </p:grpSpPr>
        <p:pic>
          <p:nvPicPr>
            <p:cNvPr id="458" name="图片 4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7435800" y="2803680"/>
              <a:ext cx="378936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文本框 5"/>
            <p:cNvSpPr/>
            <p:nvPr/>
          </p:nvSpPr>
          <p:spPr>
            <a:xfrm>
              <a:off x="7820280" y="298368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0" name="Text Box 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图片 1" descr=""/>
          <p:cNvPicPr/>
          <p:nvPr/>
        </p:nvPicPr>
        <p:blipFill>
          <a:blip r:embed="rId1"/>
          <a:stretch/>
        </p:blipFill>
        <p:spPr>
          <a:xfrm>
            <a:off x="0" y="2114640"/>
            <a:ext cx="7145280" cy="4743360"/>
          </a:xfrm>
          <a:prstGeom prst="rect">
            <a:avLst/>
          </a:prstGeom>
          <a:ln w="0">
            <a:noFill/>
          </a:ln>
        </p:spPr>
      </p:pic>
      <p:sp>
        <p:nvSpPr>
          <p:cNvPr id="462" name="矩形 2"/>
          <p:cNvSpPr/>
          <p:nvPr/>
        </p:nvSpPr>
        <p:spPr>
          <a:xfrm>
            <a:off x="7435800" y="3871800"/>
            <a:ext cx="37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3" name="组合 3"/>
          <p:cNvGrpSpPr/>
          <p:nvPr/>
        </p:nvGrpSpPr>
        <p:grpSpPr>
          <a:xfrm>
            <a:off x="7435800" y="2803680"/>
            <a:ext cx="3789360" cy="954000"/>
            <a:chOff x="7435800" y="2803680"/>
            <a:chExt cx="3789360" cy="954000"/>
          </a:xfrm>
        </p:grpSpPr>
        <p:pic>
          <p:nvPicPr>
            <p:cNvPr id="464" name="图片 4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7435800" y="2803680"/>
              <a:ext cx="378936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文本框 5"/>
            <p:cNvSpPr/>
            <p:nvPr/>
          </p:nvSpPr>
          <p:spPr>
            <a:xfrm>
              <a:off x="7820280" y="298368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6" name="Text Box 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Oval 1"/>
          <p:cNvSpPr/>
          <p:nvPr/>
        </p:nvSpPr>
        <p:spPr>
          <a:xfrm>
            <a:off x="5365800" y="2975040"/>
            <a:ext cx="1297080" cy="129708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Rectangle 41"/>
          <p:cNvSpPr/>
          <p:nvPr/>
        </p:nvSpPr>
        <p:spPr>
          <a:xfrm>
            <a:off x="5726880" y="3716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Oval 45@|1FFC:4308095|FBC:16777215|LFC:16777215|LBC:16777215"/>
          <p:cNvSpPr/>
          <p:nvPr/>
        </p:nvSpPr>
        <p:spPr>
          <a:xfrm rot="18786600">
            <a:off x="7173720" y="1830600"/>
            <a:ext cx="695520" cy="69516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Oval 58@|1FFC:4308095|FBC:16777215|LFC:16777215|LBC:16777215"/>
          <p:cNvSpPr/>
          <p:nvPr/>
        </p:nvSpPr>
        <p:spPr>
          <a:xfrm rot="7432200">
            <a:off x="4241160" y="4808160"/>
            <a:ext cx="693720" cy="69372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Oval 80@|1FFC:2381804|FBC:16777215|LFC:16777215|LBC:16777215"/>
          <p:cNvSpPr/>
          <p:nvPr/>
        </p:nvSpPr>
        <p:spPr>
          <a:xfrm rot="13209000">
            <a:off x="4191120" y="1831680"/>
            <a:ext cx="696960" cy="69696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Oval 87@|1FFC:2381804|FBC:16777215|LFC:16777215|LBC:16777215"/>
          <p:cNvSpPr/>
          <p:nvPr/>
        </p:nvSpPr>
        <p:spPr>
          <a:xfrm rot="2361600">
            <a:off x="7126200" y="4798800"/>
            <a:ext cx="696960" cy="69516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Oval 120@|1FFC:1554685|FBC:16777215|LFC:16777215|LBC:16777215"/>
          <p:cNvSpPr/>
          <p:nvPr/>
        </p:nvSpPr>
        <p:spPr>
          <a:xfrm rot="10509000">
            <a:off x="3276360" y="3259080"/>
            <a:ext cx="696960" cy="69552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Oval 128@|1FFC:1554685|FBC:16777215|LFC:16777215|LBC:16777215"/>
          <p:cNvSpPr/>
          <p:nvPr/>
        </p:nvSpPr>
        <p:spPr>
          <a:xfrm rot="21144000">
            <a:off x="8078400" y="3260520"/>
            <a:ext cx="696960" cy="69372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Freeform 5"/>
          <p:cNvSpPr/>
          <p:nvPr/>
        </p:nvSpPr>
        <p:spPr>
          <a:xfrm>
            <a:off x="7342200" y="2004840"/>
            <a:ext cx="333360" cy="352440"/>
          </a:xfrm>
          <a:custGeom>
            <a:avLst/>
            <a:gdLst/>
            <a:ahLst/>
            <a:rect l="l" t="t" r="r" b="b"/>
            <a:pathLst>
              <a:path w="1558" h="1653">
                <a:moveTo>
                  <a:pt x="241" y="658"/>
                </a:moveTo>
                <a:cubicBezTo>
                  <a:pt x="637" y="754"/>
                  <a:pt x="637" y="754"/>
                  <a:pt x="637" y="754"/>
                </a:cubicBezTo>
                <a:cubicBezTo>
                  <a:pt x="1211" y="358"/>
                  <a:pt x="1211" y="358"/>
                  <a:pt x="1211" y="358"/>
                </a:cubicBezTo>
                <a:cubicBezTo>
                  <a:pt x="783" y="810"/>
                  <a:pt x="783" y="810"/>
                  <a:pt x="783" y="810"/>
                </a:cubicBezTo>
                <a:cubicBezTo>
                  <a:pt x="1217" y="1221"/>
                  <a:pt x="1217" y="1221"/>
                  <a:pt x="1217" y="1221"/>
                </a:cubicBezTo>
                <a:cubicBezTo>
                  <a:pt x="1558" y="0"/>
                  <a:pt x="1558" y="0"/>
                  <a:pt x="1558" y="0"/>
                </a:cubicBezTo>
                <a:lnTo>
                  <a:pt x="241" y="658"/>
                </a:lnTo>
                <a:close/>
                <a:moveTo>
                  <a:pt x="730" y="1284"/>
                </a:moveTo>
                <a:cubicBezTo>
                  <a:pt x="918" y="1068"/>
                  <a:pt x="918" y="1068"/>
                  <a:pt x="918" y="1068"/>
                </a:cubicBezTo>
                <a:cubicBezTo>
                  <a:pt x="730" y="887"/>
                  <a:pt x="730" y="887"/>
                  <a:pt x="730" y="887"/>
                </a:cubicBezTo>
                <a:lnTo>
                  <a:pt x="730" y="1284"/>
                </a:lnTo>
                <a:close/>
                <a:moveTo>
                  <a:pt x="568" y="1123"/>
                </a:moveTo>
                <a:cubicBezTo>
                  <a:pt x="633" y="1187"/>
                  <a:pt x="633" y="1187"/>
                  <a:pt x="633" y="1187"/>
                </a:cubicBezTo>
                <a:cubicBezTo>
                  <a:pt x="573" y="1248"/>
                  <a:pt x="511" y="1320"/>
                  <a:pt x="487" y="1419"/>
                </a:cubicBezTo>
                <a:cubicBezTo>
                  <a:pt x="399" y="1398"/>
                  <a:pt x="399" y="1398"/>
                  <a:pt x="399" y="1398"/>
                </a:cubicBezTo>
                <a:cubicBezTo>
                  <a:pt x="428" y="1276"/>
                  <a:pt x="501" y="1191"/>
                  <a:pt x="568" y="1123"/>
                </a:cubicBezTo>
                <a:close/>
                <a:moveTo>
                  <a:pt x="481" y="1647"/>
                </a:moveTo>
                <a:cubicBezTo>
                  <a:pt x="424" y="1653"/>
                  <a:pt x="373" y="1634"/>
                  <a:pt x="331" y="1591"/>
                </a:cubicBezTo>
                <a:cubicBezTo>
                  <a:pt x="231" y="1626"/>
                  <a:pt x="136" y="1588"/>
                  <a:pt x="86" y="1517"/>
                </a:cubicBezTo>
                <a:cubicBezTo>
                  <a:pt x="46" y="1460"/>
                  <a:pt x="37" y="1389"/>
                  <a:pt x="61" y="1321"/>
                </a:cubicBezTo>
                <a:cubicBezTo>
                  <a:pt x="18" y="1280"/>
                  <a:pt x="0" y="1229"/>
                  <a:pt x="6" y="1171"/>
                </a:cubicBezTo>
                <a:cubicBezTo>
                  <a:pt x="15" y="1075"/>
                  <a:pt x="92" y="1000"/>
                  <a:pt x="227" y="1014"/>
                </a:cubicBezTo>
                <a:cubicBezTo>
                  <a:pt x="240" y="1091"/>
                  <a:pt x="240" y="1091"/>
                  <a:pt x="240" y="1091"/>
                </a:cubicBezTo>
                <a:cubicBezTo>
                  <a:pt x="195" y="1095"/>
                  <a:pt x="153" y="1098"/>
                  <a:pt x="125" y="1125"/>
                </a:cubicBezTo>
                <a:cubicBezTo>
                  <a:pt x="80" y="1171"/>
                  <a:pt x="93" y="1267"/>
                  <a:pt x="179" y="1292"/>
                </a:cubicBezTo>
                <a:cubicBezTo>
                  <a:pt x="122" y="1349"/>
                  <a:pt x="128" y="1432"/>
                  <a:pt x="171" y="1477"/>
                </a:cubicBezTo>
                <a:cubicBezTo>
                  <a:pt x="216" y="1524"/>
                  <a:pt x="301" y="1532"/>
                  <a:pt x="361" y="1473"/>
                </a:cubicBezTo>
                <a:cubicBezTo>
                  <a:pt x="387" y="1563"/>
                  <a:pt x="484" y="1571"/>
                  <a:pt x="528" y="1527"/>
                </a:cubicBezTo>
                <a:cubicBezTo>
                  <a:pt x="555" y="1500"/>
                  <a:pt x="557" y="1459"/>
                  <a:pt x="561" y="1414"/>
                </a:cubicBezTo>
                <a:cubicBezTo>
                  <a:pt x="639" y="1430"/>
                  <a:pt x="639" y="1430"/>
                  <a:pt x="639" y="1430"/>
                </a:cubicBezTo>
                <a:cubicBezTo>
                  <a:pt x="652" y="1559"/>
                  <a:pt x="578" y="1637"/>
                  <a:pt x="481" y="1647"/>
                </a:cubicBezTo>
                <a:close/>
                <a:moveTo>
                  <a:pt x="233" y="1165"/>
                </a:moveTo>
                <a:cubicBezTo>
                  <a:pt x="255" y="1254"/>
                  <a:pt x="255" y="1254"/>
                  <a:pt x="255" y="1254"/>
                </a:cubicBezTo>
                <a:cubicBezTo>
                  <a:pt x="375" y="1224"/>
                  <a:pt x="457" y="1154"/>
                  <a:pt x="529" y="1084"/>
                </a:cubicBezTo>
                <a:cubicBezTo>
                  <a:pt x="464" y="1020"/>
                  <a:pt x="464" y="1020"/>
                  <a:pt x="464" y="1020"/>
                </a:cubicBezTo>
                <a:cubicBezTo>
                  <a:pt x="404" y="1079"/>
                  <a:pt x="332" y="1141"/>
                  <a:pt x="233" y="11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reeform 21"/>
          <p:cNvSpPr/>
          <p:nvPr/>
        </p:nvSpPr>
        <p:spPr>
          <a:xfrm>
            <a:off x="8244000" y="3419640"/>
            <a:ext cx="365040" cy="361800"/>
          </a:xfrm>
          <a:custGeom>
            <a:avLst/>
            <a:gdLst/>
            <a:ahLst/>
            <a:rect l="l" t="t" r="r" b="b"/>
            <a:pathLst>
              <a:path w="1648" h="1648">
                <a:moveTo>
                  <a:pt x="822" y="424"/>
                </a:moveTo>
                <a:cubicBezTo>
                  <a:pt x="601" y="424"/>
                  <a:pt x="422" y="603"/>
                  <a:pt x="422" y="824"/>
                </a:cubicBezTo>
                <a:cubicBezTo>
                  <a:pt x="422" y="1045"/>
                  <a:pt x="601" y="1224"/>
                  <a:pt x="822" y="1224"/>
                </a:cubicBezTo>
                <a:cubicBezTo>
                  <a:pt x="1043" y="1224"/>
                  <a:pt x="1222" y="1045"/>
                  <a:pt x="1222" y="824"/>
                </a:cubicBezTo>
                <a:cubicBezTo>
                  <a:pt x="1222" y="603"/>
                  <a:pt x="1043" y="424"/>
                  <a:pt x="822" y="424"/>
                </a:cubicBezTo>
                <a:close/>
                <a:moveTo>
                  <a:pt x="403" y="516"/>
                </a:moveTo>
                <a:cubicBezTo>
                  <a:pt x="185" y="298"/>
                  <a:pt x="185" y="298"/>
                  <a:pt x="185" y="298"/>
                </a:cubicBezTo>
                <a:cubicBezTo>
                  <a:pt x="298" y="185"/>
                  <a:pt x="298" y="185"/>
                  <a:pt x="298" y="185"/>
                </a:cubicBezTo>
                <a:cubicBezTo>
                  <a:pt x="517" y="403"/>
                  <a:pt x="517" y="403"/>
                  <a:pt x="517" y="403"/>
                </a:cubicBezTo>
                <a:cubicBezTo>
                  <a:pt x="473" y="435"/>
                  <a:pt x="435" y="473"/>
                  <a:pt x="403" y="516"/>
                </a:cubicBezTo>
                <a:close/>
                <a:moveTo>
                  <a:pt x="1130" y="405"/>
                </a:moveTo>
                <a:cubicBezTo>
                  <a:pt x="1350" y="185"/>
                  <a:pt x="1350" y="185"/>
                  <a:pt x="1350" y="185"/>
                </a:cubicBezTo>
                <a:cubicBezTo>
                  <a:pt x="1463" y="298"/>
                  <a:pt x="1463" y="298"/>
                  <a:pt x="1463" y="298"/>
                </a:cubicBezTo>
                <a:cubicBezTo>
                  <a:pt x="1243" y="519"/>
                  <a:pt x="1243" y="519"/>
                  <a:pt x="1243" y="519"/>
                </a:cubicBezTo>
                <a:cubicBezTo>
                  <a:pt x="1211" y="475"/>
                  <a:pt x="1173" y="437"/>
                  <a:pt x="1130" y="405"/>
                </a:cubicBezTo>
                <a:close/>
                <a:moveTo>
                  <a:pt x="308" y="904"/>
                </a:moveTo>
                <a:cubicBezTo>
                  <a:pt x="0" y="904"/>
                  <a:pt x="0" y="904"/>
                  <a:pt x="0" y="904"/>
                </a:cubicBezTo>
                <a:cubicBezTo>
                  <a:pt x="0" y="744"/>
                  <a:pt x="0" y="744"/>
                  <a:pt x="0" y="744"/>
                </a:cubicBezTo>
                <a:cubicBezTo>
                  <a:pt x="308" y="744"/>
                  <a:pt x="308" y="744"/>
                  <a:pt x="308" y="744"/>
                </a:cubicBezTo>
                <a:cubicBezTo>
                  <a:pt x="304" y="770"/>
                  <a:pt x="302" y="797"/>
                  <a:pt x="302" y="824"/>
                </a:cubicBezTo>
                <a:cubicBezTo>
                  <a:pt x="302" y="851"/>
                  <a:pt x="304" y="878"/>
                  <a:pt x="308" y="904"/>
                </a:cubicBezTo>
                <a:close/>
                <a:moveTo>
                  <a:pt x="744" y="310"/>
                </a:moveTo>
                <a:cubicBezTo>
                  <a:pt x="744" y="0"/>
                  <a:pt x="744" y="0"/>
                  <a:pt x="744" y="0"/>
                </a:cubicBezTo>
                <a:cubicBezTo>
                  <a:pt x="904" y="0"/>
                  <a:pt x="904" y="0"/>
                  <a:pt x="904" y="0"/>
                </a:cubicBezTo>
                <a:cubicBezTo>
                  <a:pt x="904" y="310"/>
                  <a:pt x="904" y="310"/>
                  <a:pt x="904" y="310"/>
                </a:cubicBezTo>
                <a:cubicBezTo>
                  <a:pt x="877" y="306"/>
                  <a:pt x="850" y="304"/>
                  <a:pt x="822" y="304"/>
                </a:cubicBezTo>
                <a:cubicBezTo>
                  <a:pt x="795" y="304"/>
                  <a:pt x="769" y="306"/>
                  <a:pt x="744" y="310"/>
                </a:cubicBezTo>
                <a:close/>
                <a:moveTo>
                  <a:pt x="517" y="1245"/>
                </a:moveTo>
                <a:cubicBezTo>
                  <a:pt x="298" y="1463"/>
                  <a:pt x="298" y="1463"/>
                  <a:pt x="298" y="1463"/>
                </a:cubicBezTo>
                <a:cubicBezTo>
                  <a:pt x="185" y="1350"/>
                  <a:pt x="185" y="1350"/>
                  <a:pt x="185" y="1350"/>
                </a:cubicBezTo>
                <a:cubicBezTo>
                  <a:pt x="403" y="1132"/>
                  <a:pt x="403" y="1132"/>
                  <a:pt x="403" y="1132"/>
                </a:cubicBezTo>
                <a:cubicBezTo>
                  <a:pt x="435" y="1175"/>
                  <a:pt x="473" y="1213"/>
                  <a:pt x="517" y="1245"/>
                </a:cubicBezTo>
                <a:close/>
                <a:moveTo>
                  <a:pt x="1648" y="744"/>
                </a:moveTo>
                <a:cubicBezTo>
                  <a:pt x="1648" y="904"/>
                  <a:pt x="1648" y="904"/>
                  <a:pt x="1648" y="904"/>
                </a:cubicBezTo>
                <a:cubicBezTo>
                  <a:pt x="1336" y="904"/>
                  <a:pt x="1336" y="904"/>
                  <a:pt x="1336" y="904"/>
                </a:cubicBezTo>
                <a:cubicBezTo>
                  <a:pt x="1340" y="878"/>
                  <a:pt x="1342" y="851"/>
                  <a:pt x="1342" y="824"/>
                </a:cubicBezTo>
                <a:cubicBezTo>
                  <a:pt x="1342" y="797"/>
                  <a:pt x="1340" y="770"/>
                  <a:pt x="1336" y="744"/>
                </a:cubicBezTo>
                <a:lnTo>
                  <a:pt x="1648" y="744"/>
                </a:lnTo>
                <a:close/>
                <a:moveTo>
                  <a:pt x="904" y="1338"/>
                </a:moveTo>
                <a:cubicBezTo>
                  <a:pt x="904" y="1648"/>
                  <a:pt x="904" y="1648"/>
                  <a:pt x="904" y="1648"/>
                </a:cubicBezTo>
                <a:cubicBezTo>
                  <a:pt x="744" y="1648"/>
                  <a:pt x="744" y="1648"/>
                  <a:pt x="744" y="1648"/>
                </a:cubicBezTo>
                <a:cubicBezTo>
                  <a:pt x="744" y="1338"/>
                  <a:pt x="744" y="1338"/>
                  <a:pt x="744" y="1338"/>
                </a:cubicBezTo>
                <a:cubicBezTo>
                  <a:pt x="769" y="1342"/>
                  <a:pt x="795" y="1344"/>
                  <a:pt x="822" y="1344"/>
                </a:cubicBezTo>
                <a:cubicBezTo>
                  <a:pt x="850" y="1344"/>
                  <a:pt x="877" y="1342"/>
                  <a:pt x="904" y="1338"/>
                </a:cubicBezTo>
                <a:close/>
                <a:moveTo>
                  <a:pt x="1243" y="1129"/>
                </a:moveTo>
                <a:cubicBezTo>
                  <a:pt x="1463" y="1350"/>
                  <a:pt x="1463" y="1350"/>
                  <a:pt x="1463" y="1350"/>
                </a:cubicBezTo>
                <a:cubicBezTo>
                  <a:pt x="1350" y="1463"/>
                  <a:pt x="1350" y="1463"/>
                  <a:pt x="1350" y="1463"/>
                </a:cubicBezTo>
                <a:cubicBezTo>
                  <a:pt x="1130" y="1243"/>
                  <a:pt x="1130" y="1243"/>
                  <a:pt x="1130" y="1243"/>
                </a:cubicBezTo>
                <a:cubicBezTo>
                  <a:pt x="1173" y="1211"/>
                  <a:pt x="1211" y="1173"/>
                  <a:pt x="1243" y="11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Freeform 25"/>
          <p:cNvSpPr/>
          <p:nvPr/>
        </p:nvSpPr>
        <p:spPr>
          <a:xfrm>
            <a:off x="3459240" y="3408480"/>
            <a:ext cx="317520" cy="320400"/>
          </a:xfrm>
          <a:custGeom>
            <a:avLst/>
            <a:gdLst/>
            <a:ahLst/>
            <a:rect l="l" t="t" r="r" b="b"/>
            <a:pathLst>
              <a:path w="1648" h="1653">
                <a:moveTo>
                  <a:pt x="533" y="502"/>
                </a:moveTo>
                <a:cubicBezTo>
                  <a:pt x="196" y="502"/>
                  <a:pt x="196" y="502"/>
                  <a:pt x="196" y="502"/>
                </a:cubicBezTo>
                <a:cubicBezTo>
                  <a:pt x="196" y="401"/>
                  <a:pt x="196" y="401"/>
                  <a:pt x="196" y="401"/>
                </a:cubicBezTo>
                <a:cubicBezTo>
                  <a:pt x="533" y="401"/>
                  <a:pt x="533" y="401"/>
                  <a:pt x="533" y="401"/>
                </a:cubicBezTo>
                <a:lnTo>
                  <a:pt x="533" y="502"/>
                </a:lnTo>
                <a:close/>
                <a:moveTo>
                  <a:pt x="1648" y="714"/>
                </a:moveTo>
                <a:cubicBezTo>
                  <a:pt x="1648" y="1513"/>
                  <a:pt x="1648" y="1513"/>
                  <a:pt x="1648" y="1513"/>
                </a:cubicBezTo>
                <a:cubicBezTo>
                  <a:pt x="1648" y="1590"/>
                  <a:pt x="1585" y="1653"/>
                  <a:pt x="1508" y="1653"/>
                </a:cubicBezTo>
                <a:cubicBezTo>
                  <a:pt x="140" y="1653"/>
                  <a:pt x="140" y="1653"/>
                  <a:pt x="140" y="1653"/>
                </a:cubicBezTo>
                <a:cubicBezTo>
                  <a:pt x="63" y="1653"/>
                  <a:pt x="0" y="1590"/>
                  <a:pt x="0" y="1513"/>
                </a:cubicBezTo>
                <a:cubicBezTo>
                  <a:pt x="0" y="714"/>
                  <a:pt x="0" y="714"/>
                  <a:pt x="0" y="714"/>
                </a:cubicBezTo>
                <a:cubicBezTo>
                  <a:pt x="0" y="636"/>
                  <a:pt x="63" y="574"/>
                  <a:pt x="140" y="574"/>
                </a:cubicBezTo>
                <a:cubicBezTo>
                  <a:pt x="1508" y="574"/>
                  <a:pt x="1508" y="574"/>
                  <a:pt x="1508" y="574"/>
                </a:cubicBezTo>
                <a:cubicBezTo>
                  <a:pt x="1585" y="574"/>
                  <a:pt x="1648" y="636"/>
                  <a:pt x="1648" y="714"/>
                </a:cubicBezTo>
                <a:close/>
                <a:moveTo>
                  <a:pt x="162" y="910"/>
                </a:moveTo>
                <a:cubicBezTo>
                  <a:pt x="988" y="910"/>
                  <a:pt x="988" y="910"/>
                  <a:pt x="988" y="910"/>
                </a:cubicBezTo>
                <a:cubicBezTo>
                  <a:pt x="988" y="736"/>
                  <a:pt x="988" y="736"/>
                  <a:pt x="988" y="736"/>
                </a:cubicBezTo>
                <a:cubicBezTo>
                  <a:pt x="162" y="736"/>
                  <a:pt x="162" y="736"/>
                  <a:pt x="162" y="736"/>
                </a:cubicBezTo>
                <a:lnTo>
                  <a:pt x="162" y="910"/>
                </a:lnTo>
                <a:close/>
                <a:moveTo>
                  <a:pt x="428" y="1079"/>
                </a:moveTo>
                <a:cubicBezTo>
                  <a:pt x="428" y="1151"/>
                  <a:pt x="428" y="1151"/>
                  <a:pt x="428" y="1151"/>
                </a:cubicBezTo>
                <a:cubicBezTo>
                  <a:pt x="1221" y="1151"/>
                  <a:pt x="1221" y="1151"/>
                  <a:pt x="1221" y="1151"/>
                </a:cubicBezTo>
                <a:cubicBezTo>
                  <a:pt x="1221" y="1079"/>
                  <a:pt x="1221" y="1079"/>
                  <a:pt x="1221" y="1079"/>
                </a:cubicBezTo>
                <a:lnTo>
                  <a:pt x="428" y="1079"/>
                </a:lnTo>
                <a:close/>
                <a:moveTo>
                  <a:pt x="1220" y="1405"/>
                </a:moveTo>
                <a:cubicBezTo>
                  <a:pt x="428" y="1405"/>
                  <a:pt x="428" y="1405"/>
                  <a:pt x="428" y="1405"/>
                </a:cubicBezTo>
                <a:cubicBezTo>
                  <a:pt x="428" y="1441"/>
                  <a:pt x="428" y="1441"/>
                  <a:pt x="428" y="1441"/>
                </a:cubicBezTo>
                <a:cubicBezTo>
                  <a:pt x="428" y="1477"/>
                  <a:pt x="428" y="1477"/>
                  <a:pt x="428" y="1477"/>
                </a:cubicBezTo>
                <a:cubicBezTo>
                  <a:pt x="1220" y="1477"/>
                  <a:pt x="1220" y="1477"/>
                  <a:pt x="1220" y="1477"/>
                </a:cubicBezTo>
                <a:lnTo>
                  <a:pt x="1220" y="1405"/>
                </a:lnTo>
                <a:close/>
                <a:moveTo>
                  <a:pt x="1335" y="1243"/>
                </a:moveTo>
                <a:cubicBezTo>
                  <a:pt x="313" y="1243"/>
                  <a:pt x="313" y="1243"/>
                  <a:pt x="313" y="1243"/>
                </a:cubicBezTo>
                <a:cubicBezTo>
                  <a:pt x="313" y="1315"/>
                  <a:pt x="313" y="1315"/>
                  <a:pt x="313" y="1315"/>
                </a:cubicBezTo>
                <a:cubicBezTo>
                  <a:pt x="1335" y="1315"/>
                  <a:pt x="1335" y="1315"/>
                  <a:pt x="1335" y="1315"/>
                </a:cubicBezTo>
                <a:lnTo>
                  <a:pt x="1335" y="1243"/>
                </a:lnTo>
                <a:close/>
                <a:moveTo>
                  <a:pt x="1486" y="736"/>
                </a:moveTo>
                <a:cubicBezTo>
                  <a:pt x="1068" y="736"/>
                  <a:pt x="1068" y="736"/>
                  <a:pt x="1068" y="736"/>
                </a:cubicBezTo>
                <a:cubicBezTo>
                  <a:pt x="1068" y="910"/>
                  <a:pt x="1068" y="910"/>
                  <a:pt x="1068" y="910"/>
                </a:cubicBezTo>
                <a:cubicBezTo>
                  <a:pt x="1486" y="910"/>
                  <a:pt x="1486" y="910"/>
                  <a:pt x="1486" y="910"/>
                </a:cubicBezTo>
                <a:lnTo>
                  <a:pt x="1486" y="736"/>
                </a:lnTo>
                <a:close/>
                <a:moveTo>
                  <a:pt x="695" y="75"/>
                </a:moveTo>
                <a:cubicBezTo>
                  <a:pt x="869" y="200"/>
                  <a:pt x="869" y="200"/>
                  <a:pt x="869" y="200"/>
                </a:cubicBezTo>
                <a:cubicBezTo>
                  <a:pt x="914" y="137"/>
                  <a:pt x="914" y="137"/>
                  <a:pt x="914" y="137"/>
                </a:cubicBezTo>
                <a:cubicBezTo>
                  <a:pt x="740" y="12"/>
                  <a:pt x="740" y="12"/>
                  <a:pt x="740" y="12"/>
                </a:cubicBezTo>
                <a:cubicBezTo>
                  <a:pt x="723" y="0"/>
                  <a:pt x="699" y="4"/>
                  <a:pt x="686" y="21"/>
                </a:cubicBezTo>
                <a:cubicBezTo>
                  <a:pt x="674" y="38"/>
                  <a:pt x="678" y="62"/>
                  <a:pt x="695" y="75"/>
                </a:cubicBezTo>
                <a:close/>
                <a:moveTo>
                  <a:pt x="1262" y="502"/>
                </a:moveTo>
                <a:cubicBezTo>
                  <a:pt x="1436" y="502"/>
                  <a:pt x="1436" y="502"/>
                  <a:pt x="1436" y="502"/>
                </a:cubicBezTo>
                <a:cubicBezTo>
                  <a:pt x="963" y="154"/>
                  <a:pt x="963" y="154"/>
                  <a:pt x="963" y="154"/>
                </a:cubicBezTo>
                <a:cubicBezTo>
                  <a:pt x="900" y="241"/>
                  <a:pt x="900" y="241"/>
                  <a:pt x="900" y="241"/>
                </a:cubicBezTo>
                <a:lnTo>
                  <a:pt x="1262" y="5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Freeform 33"/>
          <p:cNvSpPr/>
          <p:nvPr/>
        </p:nvSpPr>
        <p:spPr>
          <a:xfrm rot="19296600">
            <a:off x="4363920" y="1995120"/>
            <a:ext cx="347760" cy="363600"/>
          </a:xfrm>
          <a:custGeom>
            <a:avLst/>
            <a:gdLst/>
            <a:ahLst/>
            <a:rect l="l" t="t" r="r" b="b"/>
            <a:pathLst>
              <a:path w="1568" h="1648">
                <a:moveTo>
                  <a:pt x="1348" y="1168"/>
                </a:moveTo>
                <a:cubicBezTo>
                  <a:pt x="1228" y="1168"/>
                  <a:pt x="1228" y="1168"/>
                  <a:pt x="1228" y="1168"/>
                </a:cubicBezTo>
                <a:cubicBezTo>
                  <a:pt x="1228" y="848"/>
                  <a:pt x="932" y="1038"/>
                  <a:pt x="784" y="772"/>
                </a:cubicBezTo>
                <a:cubicBezTo>
                  <a:pt x="637" y="1037"/>
                  <a:pt x="340" y="850"/>
                  <a:pt x="340" y="1168"/>
                </a:cubicBezTo>
                <a:cubicBezTo>
                  <a:pt x="220" y="1168"/>
                  <a:pt x="220" y="1168"/>
                  <a:pt x="220" y="1168"/>
                </a:cubicBezTo>
                <a:cubicBezTo>
                  <a:pt x="220" y="635"/>
                  <a:pt x="724" y="1052"/>
                  <a:pt x="724" y="480"/>
                </a:cubicBezTo>
                <a:cubicBezTo>
                  <a:pt x="844" y="480"/>
                  <a:pt x="844" y="480"/>
                  <a:pt x="844" y="480"/>
                </a:cubicBezTo>
                <a:cubicBezTo>
                  <a:pt x="844" y="1052"/>
                  <a:pt x="1348" y="634"/>
                  <a:pt x="1348" y="1168"/>
                </a:cubicBezTo>
                <a:close/>
                <a:moveTo>
                  <a:pt x="1064" y="0"/>
                </a:moveTo>
                <a:cubicBezTo>
                  <a:pt x="504" y="0"/>
                  <a:pt x="504" y="0"/>
                  <a:pt x="504" y="0"/>
                </a:cubicBezTo>
                <a:cubicBezTo>
                  <a:pt x="504" y="400"/>
                  <a:pt x="504" y="400"/>
                  <a:pt x="504" y="400"/>
                </a:cubicBezTo>
                <a:cubicBezTo>
                  <a:pt x="1064" y="400"/>
                  <a:pt x="1064" y="400"/>
                  <a:pt x="1064" y="400"/>
                </a:cubicBezTo>
                <a:lnTo>
                  <a:pt x="1064" y="0"/>
                </a:lnTo>
                <a:close/>
                <a:moveTo>
                  <a:pt x="0" y="1248"/>
                </a:moveTo>
                <a:cubicBezTo>
                  <a:pt x="560" y="1248"/>
                  <a:pt x="560" y="1248"/>
                  <a:pt x="560" y="1248"/>
                </a:cubicBezTo>
                <a:cubicBezTo>
                  <a:pt x="560" y="1648"/>
                  <a:pt x="560" y="1648"/>
                  <a:pt x="560" y="1648"/>
                </a:cubicBezTo>
                <a:cubicBezTo>
                  <a:pt x="0" y="1648"/>
                  <a:pt x="0" y="1648"/>
                  <a:pt x="0" y="1648"/>
                </a:cubicBezTo>
                <a:lnTo>
                  <a:pt x="0" y="1248"/>
                </a:lnTo>
                <a:close/>
                <a:moveTo>
                  <a:pt x="1568" y="1248"/>
                </a:moveTo>
                <a:cubicBezTo>
                  <a:pt x="1568" y="1648"/>
                  <a:pt x="1568" y="1648"/>
                  <a:pt x="1568" y="1648"/>
                </a:cubicBezTo>
                <a:cubicBezTo>
                  <a:pt x="1008" y="1648"/>
                  <a:pt x="1008" y="1648"/>
                  <a:pt x="1008" y="1648"/>
                </a:cubicBezTo>
                <a:cubicBezTo>
                  <a:pt x="1008" y="1248"/>
                  <a:pt x="1008" y="1248"/>
                  <a:pt x="1008" y="1248"/>
                </a:cubicBezTo>
                <a:lnTo>
                  <a:pt x="1568" y="12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reeform 436"/>
          <p:cNvSpPr/>
          <p:nvPr/>
        </p:nvSpPr>
        <p:spPr>
          <a:xfrm>
            <a:off x="4443480" y="5005440"/>
            <a:ext cx="282600" cy="330120"/>
          </a:xfrm>
          <a:custGeom>
            <a:avLst/>
            <a:gdLst/>
            <a:ahLst/>
            <a:rect l="l" t="t" r="r" b="b"/>
            <a:pathLst>
              <a:path w="469" h="545">
                <a:moveTo>
                  <a:pt x="335" y="0"/>
                </a:moveTo>
                <a:cubicBezTo>
                  <a:pt x="250" y="139"/>
                  <a:pt x="184" y="71"/>
                  <a:pt x="86" y="171"/>
                </a:cubicBezTo>
                <a:cubicBezTo>
                  <a:pt x="0" y="260"/>
                  <a:pt x="30" y="366"/>
                  <a:pt x="102" y="403"/>
                </a:cubicBezTo>
                <a:cubicBezTo>
                  <a:pt x="174" y="366"/>
                  <a:pt x="247" y="285"/>
                  <a:pt x="301" y="166"/>
                </a:cubicBezTo>
                <a:cubicBezTo>
                  <a:pt x="301" y="166"/>
                  <a:pt x="350" y="316"/>
                  <a:pt x="201" y="460"/>
                </a:cubicBezTo>
                <a:cubicBezTo>
                  <a:pt x="273" y="545"/>
                  <a:pt x="397" y="486"/>
                  <a:pt x="431" y="350"/>
                </a:cubicBezTo>
                <a:cubicBezTo>
                  <a:pt x="469" y="203"/>
                  <a:pt x="371" y="54"/>
                  <a:pt x="335" y="0"/>
                </a:cubicBezTo>
                <a:close/>
                <a:moveTo>
                  <a:pt x="25" y="483"/>
                </a:moveTo>
                <a:cubicBezTo>
                  <a:pt x="25" y="485"/>
                  <a:pt x="26" y="512"/>
                  <a:pt x="62" y="512"/>
                </a:cubicBezTo>
                <a:cubicBezTo>
                  <a:pt x="88" y="512"/>
                  <a:pt x="221" y="440"/>
                  <a:pt x="289" y="252"/>
                </a:cubicBezTo>
                <a:cubicBezTo>
                  <a:pt x="186" y="435"/>
                  <a:pt x="36" y="480"/>
                  <a:pt x="25" y="4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Freeform 737"/>
          <p:cNvSpPr/>
          <p:nvPr/>
        </p:nvSpPr>
        <p:spPr>
          <a:xfrm>
            <a:off x="7361280" y="4989600"/>
            <a:ext cx="277920" cy="377640"/>
          </a:xfrm>
          <a:custGeom>
            <a:avLst/>
            <a:gdLst/>
            <a:ahLst/>
            <a:rect l="l" t="t" r="r" b="b"/>
            <a:pathLst>
              <a:path w="369" h="520">
                <a:moveTo>
                  <a:pt x="38" y="509"/>
                </a:moveTo>
                <a:cubicBezTo>
                  <a:pt x="46" y="483"/>
                  <a:pt x="58" y="447"/>
                  <a:pt x="74" y="395"/>
                </a:cubicBezTo>
                <a:cubicBezTo>
                  <a:pt x="143" y="384"/>
                  <a:pt x="171" y="404"/>
                  <a:pt x="215" y="324"/>
                </a:cubicBezTo>
                <a:cubicBezTo>
                  <a:pt x="180" y="335"/>
                  <a:pt x="137" y="303"/>
                  <a:pt x="139" y="289"/>
                </a:cubicBezTo>
                <a:cubicBezTo>
                  <a:pt x="141" y="275"/>
                  <a:pt x="239" y="299"/>
                  <a:pt x="303" y="206"/>
                </a:cubicBezTo>
                <a:cubicBezTo>
                  <a:pt x="222" y="224"/>
                  <a:pt x="197" y="184"/>
                  <a:pt x="207" y="178"/>
                </a:cubicBezTo>
                <a:cubicBezTo>
                  <a:pt x="231" y="164"/>
                  <a:pt x="302" y="173"/>
                  <a:pt x="341" y="135"/>
                </a:cubicBezTo>
                <a:cubicBezTo>
                  <a:pt x="360" y="115"/>
                  <a:pt x="369" y="68"/>
                  <a:pt x="361" y="51"/>
                </a:cubicBezTo>
                <a:cubicBezTo>
                  <a:pt x="352" y="31"/>
                  <a:pt x="293" y="0"/>
                  <a:pt x="261" y="3"/>
                </a:cubicBezTo>
                <a:cubicBezTo>
                  <a:pt x="229" y="6"/>
                  <a:pt x="178" y="128"/>
                  <a:pt x="163" y="127"/>
                </a:cubicBezTo>
                <a:cubicBezTo>
                  <a:pt x="148" y="126"/>
                  <a:pt x="145" y="73"/>
                  <a:pt x="172" y="23"/>
                </a:cubicBezTo>
                <a:cubicBezTo>
                  <a:pt x="144" y="35"/>
                  <a:pt x="94" y="74"/>
                  <a:pt x="78" y="107"/>
                </a:cubicBezTo>
                <a:cubicBezTo>
                  <a:pt x="48" y="168"/>
                  <a:pt x="80" y="310"/>
                  <a:pt x="70" y="315"/>
                </a:cubicBezTo>
                <a:cubicBezTo>
                  <a:pt x="60" y="320"/>
                  <a:pt x="25" y="250"/>
                  <a:pt x="14" y="218"/>
                </a:cubicBezTo>
                <a:cubicBezTo>
                  <a:pt x="0" y="267"/>
                  <a:pt x="0" y="315"/>
                  <a:pt x="41" y="380"/>
                </a:cubicBezTo>
                <a:cubicBezTo>
                  <a:pt x="26" y="422"/>
                  <a:pt x="17" y="471"/>
                  <a:pt x="16" y="496"/>
                </a:cubicBezTo>
                <a:cubicBezTo>
                  <a:pt x="15" y="516"/>
                  <a:pt x="34" y="520"/>
                  <a:pt x="38" y="50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traight Connector 74"/>
          <p:cNvSpPr/>
          <p:nvPr/>
        </p:nvSpPr>
        <p:spPr>
          <a:xfrm flipH="1">
            <a:off x="6544800" y="2595600"/>
            <a:ext cx="484200" cy="5014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traight Connector 75"/>
          <p:cNvSpPr/>
          <p:nvPr/>
        </p:nvSpPr>
        <p:spPr>
          <a:xfrm flipH="1">
            <a:off x="5014440" y="4181400"/>
            <a:ext cx="484200" cy="50184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traight Connector 76"/>
          <p:cNvSpPr/>
          <p:nvPr/>
        </p:nvSpPr>
        <p:spPr>
          <a:xfrm>
            <a:off x="5008680" y="2595600"/>
            <a:ext cx="484200" cy="5014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traight Connector 77"/>
          <p:cNvSpPr/>
          <p:nvPr/>
        </p:nvSpPr>
        <p:spPr>
          <a:xfrm>
            <a:off x="6545160" y="4176720"/>
            <a:ext cx="484200" cy="50472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traight Connector 81"/>
          <p:cNvSpPr/>
          <p:nvPr/>
        </p:nvSpPr>
        <p:spPr>
          <a:xfrm>
            <a:off x="6757920" y="3622680"/>
            <a:ext cx="1130400" cy="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traight Connector 83"/>
          <p:cNvSpPr/>
          <p:nvPr/>
        </p:nvSpPr>
        <p:spPr>
          <a:xfrm>
            <a:off x="4140360" y="3622680"/>
            <a:ext cx="1130040" cy="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Freeform 391@|5FFC:0|FBC:0|LFC:0|LBC:16777215"/>
          <p:cNvSpPr/>
          <p:nvPr/>
        </p:nvSpPr>
        <p:spPr>
          <a:xfrm>
            <a:off x="6203880" y="3375000"/>
            <a:ext cx="208080" cy="254160"/>
          </a:xfrm>
          <a:custGeom>
            <a:avLst/>
            <a:gdLst/>
            <a:ahLst/>
            <a:rect l="l" t="t" r="r" b="b"/>
            <a:pathLst>
              <a:path w="81" h="101">
                <a:moveTo>
                  <a:pt x="81" y="89"/>
                </a:moveTo>
                <a:cubicBezTo>
                  <a:pt x="81" y="89"/>
                  <a:pt x="81" y="82"/>
                  <a:pt x="67" y="76"/>
                </a:cubicBezTo>
                <a:cubicBezTo>
                  <a:pt x="60" y="73"/>
                  <a:pt x="50" y="65"/>
                  <a:pt x="34" y="62"/>
                </a:cubicBezTo>
                <a:cubicBezTo>
                  <a:pt x="38" y="58"/>
                  <a:pt x="41" y="51"/>
                  <a:pt x="44" y="43"/>
                </a:cubicBezTo>
                <a:cubicBezTo>
                  <a:pt x="46" y="39"/>
                  <a:pt x="46" y="35"/>
                  <a:pt x="46" y="29"/>
                </a:cubicBezTo>
                <a:cubicBezTo>
                  <a:pt x="46" y="25"/>
                  <a:pt x="46" y="19"/>
                  <a:pt x="45" y="15"/>
                </a:cubicBezTo>
                <a:cubicBezTo>
                  <a:pt x="42" y="3"/>
                  <a:pt x="33" y="0"/>
                  <a:pt x="23" y="0"/>
                </a:cubicBezTo>
                <a:cubicBezTo>
                  <a:pt x="13" y="0"/>
                  <a:pt x="5" y="3"/>
                  <a:pt x="1" y="15"/>
                </a:cubicBezTo>
                <a:cubicBezTo>
                  <a:pt x="0" y="19"/>
                  <a:pt x="1" y="25"/>
                  <a:pt x="1" y="29"/>
                </a:cubicBezTo>
                <a:cubicBezTo>
                  <a:pt x="1" y="35"/>
                  <a:pt x="1" y="39"/>
                  <a:pt x="3" y="43"/>
                </a:cubicBezTo>
                <a:cubicBezTo>
                  <a:pt x="5" y="50"/>
                  <a:pt x="8" y="55"/>
                  <a:pt x="11" y="59"/>
                </a:cubicBezTo>
                <a:cubicBezTo>
                  <a:pt x="28" y="70"/>
                  <a:pt x="29" y="81"/>
                  <a:pt x="29" y="84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101"/>
                  <a:pt x="29" y="101"/>
                  <a:pt x="29" y="101"/>
                </a:cubicBezTo>
                <a:cubicBezTo>
                  <a:pt x="29" y="101"/>
                  <a:pt x="29" y="101"/>
                  <a:pt x="29" y="101"/>
                </a:cubicBezTo>
                <a:cubicBezTo>
                  <a:pt x="81" y="101"/>
                  <a:pt x="81" y="101"/>
                  <a:pt x="81" y="101"/>
                </a:cubicBezTo>
                <a:lnTo>
                  <a:pt x="81" y="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reeform 392@|5FFC:0|FBC:0|LFC:0|LBC:16777215"/>
          <p:cNvSpPr/>
          <p:nvPr/>
        </p:nvSpPr>
        <p:spPr>
          <a:xfrm>
            <a:off x="5684760" y="3375000"/>
            <a:ext cx="203400" cy="254160"/>
          </a:xfrm>
          <a:custGeom>
            <a:avLst/>
            <a:gdLst/>
            <a:ahLst/>
            <a:rect l="l" t="t" r="r" b="b"/>
            <a:pathLst>
              <a:path w="81" h="101">
                <a:moveTo>
                  <a:pt x="53" y="85"/>
                </a:moveTo>
                <a:cubicBezTo>
                  <a:pt x="53" y="84"/>
                  <a:pt x="53" y="84"/>
                  <a:pt x="53" y="84"/>
                </a:cubicBezTo>
                <a:cubicBezTo>
                  <a:pt x="53" y="81"/>
                  <a:pt x="54" y="70"/>
                  <a:pt x="71" y="60"/>
                </a:cubicBezTo>
                <a:cubicBezTo>
                  <a:pt x="74" y="55"/>
                  <a:pt x="76" y="50"/>
                  <a:pt x="79" y="43"/>
                </a:cubicBezTo>
                <a:cubicBezTo>
                  <a:pt x="81" y="39"/>
                  <a:pt x="80" y="35"/>
                  <a:pt x="80" y="29"/>
                </a:cubicBezTo>
                <a:cubicBezTo>
                  <a:pt x="80" y="25"/>
                  <a:pt x="81" y="19"/>
                  <a:pt x="80" y="15"/>
                </a:cubicBezTo>
                <a:cubicBezTo>
                  <a:pt x="77" y="3"/>
                  <a:pt x="68" y="0"/>
                  <a:pt x="58" y="0"/>
                </a:cubicBezTo>
                <a:cubicBezTo>
                  <a:pt x="48" y="0"/>
                  <a:pt x="40" y="3"/>
                  <a:pt x="36" y="15"/>
                </a:cubicBezTo>
                <a:cubicBezTo>
                  <a:pt x="35" y="19"/>
                  <a:pt x="36" y="25"/>
                  <a:pt x="36" y="29"/>
                </a:cubicBezTo>
                <a:cubicBezTo>
                  <a:pt x="36" y="35"/>
                  <a:pt x="36" y="39"/>
                  <a:pt x="37" y="43"/>
                </a:cubicBezTo>
                <a:cubicBezTo>
                  <a:pt x="41" y="51"/>
                  <a:pt x="43" y="58"/>
                  <a:pt x="47" y="62"/>
                </a:cubicBezTo>
                <a:cubicBezTo>
                  <a:pt x="32" y="65"/>
                  <a:pt x="22" y="73"/>
                  <a:pt x="15" y="76"/>
                </a:cubicBezTo>
                <a:cubicBezTo>
                  <a:pt x="1" y="82"/>
                  <a:pt x="0" y="89"/>
                  <a:pt x="0" y="89"/>
                </a:cubicBezTo>
                <a:cubicBezTo>
                  <a:pt x="0" y="101"/>
                  <a:pt x="0" y="101"/>
                  <a:pt x="0" y="101"/>
                </a:cubicBezTo>
                <a:cubicBezTo>
                  <a:pt x="53" y="101"/>
                  <a:pt x="53" y="101"/>
                  <a:pt x="53" y="101"/>
                </a:cubicBezTo>
                <a:cubicBezTo>
                  <a:pt x="53" y="85"/>
                  <a:pt x="53" y="85"/>
                  <a:pt x="53" y="8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Freeform 393@|5FFC:0|FBC:0|LFC:0|LBC:16777215"/>
          <p:cNvSpPr/>
          <p:nvPr/>
        </p:nvSpPr>
        <p:spPr>
          <a:xfrm>
            <a:off x="5848200" y="3292560"/>
            <a:ext cx="400320" cy="349200"/>
          </a:xfrm>
          <a:custGeom>
            <a:avLst/>
            <a:gdLst/>
            <a:ahLst/>
            <a:rect l="l" t="t" r="r" b="b"/>
            <a:pathLst>
              <a:path w="159" h="139">
                <a:moveTo>
                  <a:pt x="139" y="104"/>
                </a:moveTo>
                <a:cubicBezTo>
                  <a:pt x="129" y="100"/>
                  <a:pt x="115" y="89"/>
                  <a:pt x="94" y="85"/>
                </a:cubicBezTo>
                <a:cubicBezTo>
                  <a:pt x="99" y="79"/>
                  <a:pt x="103" y="70"/>
                  <a:pt x="108" y="60"/>
                </a:cubicBezTo>
                <a:cubicBezTo>
                  <a:pt x="110" y="53"/>
                  <a:pt x="110" y="48"/>
                  <a:pt x="110" y="41"/>
                </a:cubicBezTo>
                <a:cubicBezTo>
                  <a:pt x="110" y="35"/>
                  <a:pt x="111" y="26"/>
                  <a:pt x="109" y="21"/>
                </a:cubicBezTo>
                <a:cubicBezTo>
                  <a:pt x="105" y="5"/>
                  <a:pt x="93" y="0"/>
                  <a:pt x="79" y="0"/>
                </a:cubicBezTo>
                <a:cubicBezTo>
                  <a:pt x="65" y="0"/>
                  <a:pt x="54" y="5"/>
                  <a:pt x="49" y="21"/>
                </a:cubicBezTo>
                <a:cubicBezTo>
                  <a:pt x="48" y="26"/>
                  <a:pt x="49" y="35"/>
                  <a:pt x="49" y="41"/>
                </a:cubicBezTo>
                <a:cubicBezTo>
                  <a:pt x="49" y="48"/>
                  <a:pt x="48" y="53"/>
                  <a:pt x="51" y="60"/>
                </a:cubicBezTo>
                <a:cubicBezTo>
                  <a:pt x="55" y="70"/>
                  <a:pt x="59" y="79"/>
                  <a:pt x="64" y="85"/>
                </a:cubicBezTo>
                <a:cubicBezTo>
                  <a:pt x="43" y="89"/>
                  <a:pt x="29" y="100"/>
                  <a:pt x="20" y="104"/>
                </a:cubicBezTo>
                <a:cubicBezTo>
                  <a:pt x="0" y="113"/>
                  <a:pt x="0" y="123"/>
                  <a:pt x="0" y="123"/>
                </a:cubicBezTo>
                <a:cubicBezTo>
                  <a:pt x="0" y="139"/>
                  <a:pt x="0" y="139"/>
                  <a:pt x="0" y="139"/>
                </a:cubicBezTo>
                <a:cubicBezTo>
                  <a:pt x="159" y="139"/>
                  <a:pt x="159" y="139"/>
                  <a:pt x="159" y="139"/>
                </a:cubicBezTo>
                <a:cubicBezTo>
                  <a:pt x="159" y="123"/>
                  <a:pt x="159" y="123"/>
                  <a:pt x="159" y="123"/>
                </a:cubicBezTo>
                <a:cubicBezTo>
                  <a:pt x="159" y="123"/>
                  <a:pt x="159" y="113"/>
                  <a:pt x="139" y="1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TextBox 13"/>
          <p:cNvSpPr/>
          <p:nvPr/>
        </p:nvSpPr>
        <p:spPr>
          <a:xfrm>
            <a:off x="8069400" y="18572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TextBox 13"/>
          <p:cNvSpPr/>
          <p:nvPr/>
        </p:nvSpPr>
        <p:spPr>
          <a:xfrm>
            <a:off x="8074080" y="2117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TextBox 13"/>
          <p:cNvSpPr/>
          <p:nvPr/>
        </p:nvSpPr>
        <p:spPr>
          <a:xfrm>
            <a:off x="8940960" y="3305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TextBox 13"/>
          <p:cNvSpPr/>
          <p:nvPr/>
        </p:nvSpPr>
        <p:spPr>
          <a:xfrm>
            <a:off x="8945640" y="35654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extBox 13"/>
          <p:cNvSpPr/>
          <p:nvPr/>
        </p:nvSpPr>
        <p:spPr>
          <a:xfrm>
            <a:off x="8069400" y="4838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TextBox 13"/>
          <p:cNvSpPr/>
          <p:nvPr/>
        </p:nvSpPr>
        <p:spPr>
          <a:xfrm>
            <a:off x="8074080" y="50990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TextBox 13"/>
          <p:cNvSpPr/>
          <p:nvPr/>
        </p:nvSpPr>
        <p:spPr>
          <a:xfrm>
            <a:off x="2036880" y="18572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13"/>
          <p:cNvSpPr/>
          <p:nvPr/>
        </p:nvSpPr>
        <p:spPr>
          <a:xfrm>
            <a:off x="1655640" y="211788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TextBox 13"/>
          <p:cNvSpPr/>
          <p:nvPr/>
        </p:nvSpPr>
        <p:spPr>
          <a:xfrm>
            <a:off x="1119240" y="330516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Box 13"/>
          <p:cNvSpPr/>
          <p:nvPr/>
        </p:nvSpPr>
        <p:spPr>
          <a:xfrm>
            <a:off x="738360" y="356544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Box 13"/>
          <p:cNvSpPr/>
          <p:nvPr/>
        </p:nvSpPr>
        <p:spPr>
          <a:xfrm>
            <a:off x="2036880" y="4838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13"/>
          <p:cNvSpPr/>
          <p:nvPr/>
        </p:nvSpPr>
        <p:spPr>
          <a:xfrm>
            <a:off x="1655640" y="5099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 Box 3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reeform 5"/>
          <p:cNvSpPr/>
          <p:nvPr/>
        </p:nvSpPr>
        <p:spPr>
          <a:xfrm>
            <a:off x="1168560" y="3235320"/>
            <a:ext cx="1117440" cy="1690560"/>
          </a:xfrm>
          <a:custGeom>
            <a:avLst/>
            <a:gdLst/>
            <a:ahLst/>
            <a:rect l="l" t="t" r="r" b="b"/>
            <a:pathLst>
              <a:path w="620" h="938">
                <a:moveTo>
                  <a:pt x="620" y="212"/>
                </a:moveTo>
                <a:lnTo>
                  <a:pt x="274" y="0"/>
                </a:lnTo>
                <a:lnTo>
                  <a:pt x="150" y="198"/>
                </a:lnTo>
                <a:lnTo>
                  <a:pt x="64" y="342"/>
                </a:lnTo>
                <a:lnTo>
                  <a:pt x="18" y="418"/>
                </a:lnTo>
                <a:lnTo>
                  <a:pt x="8" y="438"/>
                </a:lnTo>
                <a:lnTo>
                  <a:pt x="4" y="448"/>
                </a:lnTo>
                <a:lnTo>
                  <a:pt x="0" y="460"/>
                </a:lnTo>
                <a:lnTo>
                  <a:pt x="0" y="474"/>
                </a:lnTo>
                <a:lnTo>
                  <a:pt x="2" y="488"/>
                </a:lnTo>
                <a:lnTo>
                  <a:pt x="6" y="506"/>
                </a:lnTo>
                <a:lnTo>
                  <a:pt x="14" y="524"/>
                </a:lnTo>
                <a:lnTo>
                  <a:pt x="142" y="752"/>
                </a:lnTo>
                <a:lnTo>
                  <a:pt x="246" y="938"/>
                </a:lnTo>
                <a:lnTo>
                  <a:pt x="242" y="926"/>
                </a:lnTo>
                <a:lnTo>
                  <a:pt x="238" y="912"/>
                </a:lnTo>
                <a:lnTo>
                  <a:pt x="238" y="892"/>
                </a:lnTo>
                <a:lnTo>
                  <a:pt x="238" y="870"/>
                </a:lnTo>
                <a:lnTo>
                  <a:pt x="244" y="844"/>
                </a:lnTo>
                <a:lnTo>
                  <a:pt x="248" y="830"/>
                </a:lnTo>
                <a:lnTo>
                  <a:pt x="254" y="814"/>
                </a:lnTo>
                <a:lnTo>
                  <a:pt x="262" y="800"/>
                </a:lnTo>
                <a:lnTo>
                  <a:pt x="272" y="784"/>
                </a:lnTo>
                <a:lnTo>
                  <a:pt x="300" y="740"/>
                </a:lnTo>
                <a:lnTo>
                  <a:pt x="346" y="666"/>
                </a:lnTo>
                <a:lnTo>
                  <a:pt x="464" y="474"/>
                </a:lnTo>
                <a:lnTo>
                  <a:pt x="620" y="212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AutoShape 3"/>
          <p:cNvSpPr/>
          <p:nvPr/>
        </p:nvSpPr>
        <p:spPr>
          <a:xfrm>
            <a:off x="1160640" y="2249640"/>
            <a:ext cx="319212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Freeform 6"/>
          <p:cNvSpPr/>
          <p:nvPr/>
        </p:nvSpPr>
        <p:spPr>
          <a:xfrm>
            <a:off x="2320920" y="2257560"/>
            <a:ext cx="1440000" cy="1207800"/>
          </a:xfrm>
          <a:custGeom>
            <a:avLst/>
            <a:gdLst/>
            <a:ahLst/>
            <a:rect l="l" t="t" r="r" b="b"/>
            <a:pathLst>
              <a:path w="798" h="670">
                <a:moveTo>
                  <a:pt x="442" y="670"/>
                </a:moveTo>
                <a:lnTo>
                  <a:pt x="798" y="470"/>
                </a:lnTo>
                <a:lnTo>
                  <a:pt x="688" y="272"/>
                </a:lnTo>
                <a:lnTo>
                  <a:pt x="608" y="130"/>
                </a:lnTo>
                <a:lnTo>
                  <a:pt x="566" y="56"/>
                </a:lnTo>
                <a:lnTo>
                  <a:pt x="552" y="36"/>
                </a:lnTo>
                <a:lnTo>
                  <a:pt x="546" y="28"/>
                </a:lnTo>
                <a:lnTo>
                  <a:pt x="536" y="20"/>
                </a:lnTo>
                <a:lnTo>
                  <a:pt x="526" y="12"/>
                </a:lnTo>
                <a:lnTo>
                  <a:pt x="512" y="6"/>
                </a:lnTo>
                <a:lnTo>
                  <a:pt x="494" y="2"/>
                </a:lnTo>
                <a:lnTo>
                  <a:pt x="474" y="0"/>
                </a:lnTo>
                <a:lnTo>
                  <a:pt x="214" y="2"/>
                </a:lnTo>
                <a:lnTo>
                  <a:pt x="0" y="2"/>
                </a:lnTo>
                <a:lnTo>
                  <a:pt x="14" y="4"/>
                </a:lnTo>
                <a:lnTo>
                  <a:pt x="28" y="10"/>
                </a:lnTo>
                <a:lnTo>
                  <a:pt x="44" y="16"/>
                </a:lnTo>
                <a:lnTo>
                  <a:pt x="64" y="28"/>
                </a:lnTo>
                <a:lnTo>
                  <a:pt x="84" y="46"/>
                </a:lnTo>
                <a:lnTo>
                  <a:pt x="94" y="56"/>
                </a:lnTo>
                <a:lnTo>
                  <a:pt x="104" y="70"/>
                </a:lnTo>
                <a:lnTo>
                  <a:pt x="114" y="84"/>
                </a:lnTo>
                <a:lnTo>
                  <a:pt x="122" y="100"/>
                </a:lnTo>
                <a:lnTo>
                  <a:pt x="188" y="218"/>
                </a:lnTo>
                <a:lnTo>
                  <a:pt x="296" y="412"/>
                </a:lnTo>
                <a:lnTo>
                  <a:pt x="442" y="67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reeform 9"/>
          <p:cNvSpPr/>
          <p:nvPr/>
        </p:nvSpPr>
        <p:spPr>
          <a:xfrm>
            <a:off x="1433520" y="2257560"/>
            <a:ext cx="1749240" cy="1585800"/>
          </a:xfrm>
          <a:custGeom>
            <a:avLst/>
            <a:gdLst/>
            <a:ahLst/>
            <a:rect l="l" t="t" r="r" b="b"/>
            <a:pathLst>
              <a:path w="970" h="880">
                <a:moveTo>
                  <a:pt x="496" y="0"/>
                </a:moveTo>
                <a:lnTo>
                  <a:pt x="496" y="0"/>
                </a:lnTo>
                <a:lnTo>
                  <a:pt x="474" y="2"/>
                </a:lnTo>
                <a:lnTo>
                  <a:pt x="458" y="6"/>
                </a:lnTo>
                <a:lnTo>
                  <a:pt x="444" y="12"/>
                </a:lnTo>
                <a:lnTo>
                  <a:pt x="432" y="20"/>
                </a:lnTo>
                <a:lnTo>
                  <a:pt x="424" y="28"/>
                </a:lnTo>
                <a:lnTo>
                  <a:pt x="416" y="36"/>
                </a:lnTo>
                <a:lnTo>
                  <a:pt x="404" y="56"/>
                </a:lnTo>
                <a:lnTo>
                  <a:pt x="358" y="136"/>
                </a:lnTo>
                <a:lnTo>
                  <a:pt x="270" y="294"/>
                </a:lnTo>
                <a:lnTo>
                  <a:pt x="136" y="530"/>
                </a:lnTo>
                <a:lnTo>
                  <a:pt x="0" y="452"/>
                </a:lnTo>
                <a:lnTo>
                  <a:pt x="176" y="880"/>
                </a:lnTo>
                <a:lnTo>
                  <a:pt x="632" y="810"/>
                </a:lnTo>
                <a:lnTo>
                  <a:pt x="492" y="732"/>
                </a:lnTo>
                <a:lnTo>
                  <a:pt x="658" y="436"/>
                </a:lnTo>
                <a:lnTo>
                  <a:pt x="848" y="100"/>
                </a:lnTo>
                <a:lnTo>
                  <a:pt x="858" y="82"/>
                </a:lnTo>
                <a:lnTo>
                  <a:pt x="868" y="68"/>
                </a:lnTo>
                <a:lnTo>
                  <a:pt x="890" y="42"/>
                </a:lnTo>
                <a:lnTo>
                  <a:pt x="910" y="26"/>
                </a:lnTo>
                <a:lnTo>
                  <a:pt x="930" y="14"/>
                </a:lnTo>
                <a:lnTo>
                  <a:pt x="946" y="6"/>
                </a:lnTo>
                <a:lnTo>
                  <a:pt x="958" y="2"/>
                </a:lnTo>
                <a:lnTo>
                  <a:pt x="970" y="0"/>
                </a:lnTo>
                <a:lnTo>
                  <a:pt x="496" y="0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Freeform 7"/>
          <p:cNvSpPr/>
          <p:nvPr/>
        </p:nvSpPr>
        <p:spPr>
          <a:xfrm>
            <a:off x="2879640" y="4183200"/>
            <a:ext cx="1438200" cy="844560"/>
          </a:xfrm>
          <a:custGeom>
            <a:avLst/>
            <a:gdLst/>
            <a:ahLst/>
            <a:rect l="l" t="t" r="r" b="b"/>
            <a:pathLst>
              <a:path w="798" h="468">
                <a:moveTo>
                  <a:pt x="0" y="60"/>
                </a:moveTo>
                <a:lnTo>
                  <a:pt x="0" y="468"/>
                </a:lnTo>
                <a:lnTo>
                  <a:pt x="226" y="468"/>
                </a:lnTo>
                <a:lnTo>
                  <a:pt x="388" y="468"/>
                </a:lnTo>
                <a:lnTo>
                  <a:pt x="474" y="466"/>
                </a:lnTo>
                <a:lnTo>
                  <a:pt x="496" y="466"/>
                </a:lnTo>
                <a:lnTo>
                  <a:pt x="508" y="464"/>
                </a:lnTo>
                <a:lnTo>
                  <a:pt x="520" y="460"/>
                </a:lnTo>
                <a:lnTo>
                  <a:pt x="532" y="454"/>
                </a:lnTo>
                <a:lnTo>
                  <a:pt x="544" y="444"/>
                </a:lnTo>
                <a:lnTo>
                  <a:pt x="556" y="432"/>
                </a:lnTo>
                <a:lnTo>
                  <a:pt x="566" y="414"/>
                </a:lnTo>
                <a:lnTo>
                  <a:pt x="694" y="186"/>
                </a:lnTo>
                <a:lnTo>
                  <a:pt x="798" y="0"/>
                </a:lnTo>
                <a:lnTo>
                  <a:pt x="790" y="10"/>
                </a:lnTo>
                <a:lnTo>
                  <a:pt x="778" y="20"/>
                </a:lnTo>
                <a:lnTo>
                  <a:pt x="764" y="32"/>
                </a:lnTo>
                <a:lnTo>
                  <a:pt x="744" y="42"/>
                </a:lnTo>
                <a:lnTo>
                  <a:pt x="718" y="52"/>
                </a:lnTo>
                <a:lnTo>
                  <a:pt x="704" y="56"/>
                </a:lnTo>
                <a:lnTo>
                  <a:pt x="688" y="58"/>
                </a:lnTo>
                <a:lnTo>
                  <a:pt x="672" y="60"/>
                </a:lnTo>
                <a:lnTo>
                  <a:pt x="654" y="60"/>
                </a:lnTo>
                <a:lnTo>
                  <a:pt x="518" y="58"/>
                </a:lnTo>
                <a:lnTo>
                  <a:pt x="296" y="58"/>
                </a:lnTo>
                <a:lnTo>
                  <a:pt x="0" y="6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Freeform 10"/>
          <p:cNvSpPr/>
          <p:nvPr/>
        </p:nvSpPr>
        <p:spPr>
          <a:xfrm>
            <a:off x="2922480" y="2909880"/>
            <a:ext cx="1420920" cy="2025720"/>
          </a:xfrm>
          <a:custGeom>
            <a:avLst/>
            <a:gdLst/>
            <a:ahLst/>
            <a:rect l="l" t="t" r="r" b="b"/>
            <a:pathLst>
              <a:path w="788" h="1124">
                <a:moveTo>
                  <a:pt x="770" y="604"/>
                </a:moveTo>
                <a:lnTo>
                  <a:pt x="770" y="604"/>
                </a:lnTo>
                <a:lnTo>
                  <a:pt x="722" y="524"/>
                </a:lnTo>
                <a:lnTo>
                  <a:pt x="630" y="370"/>
                </a:lnTo>
                <a:lnTo>
                  <a:pt x="488" y="138"/>
                </a:lnTo>
                <a:lnTo>
                  <a:pt x="622" y="56"/>
                </a:lnTo>
                <a:lnTo>
                  <a:pt x="164" y="0"/>
                </a:lnTo>
                <a:lnTo>
                  <a:pt x="0" y="432"/>
                </a:lnTo>
                <a:lnTo>
                  <a:pt x="138" y="348"/>
                </a:lnTo>
                <a:lnTo>
                  <a:pt x="316" y="638"/>
                </a:lnTo>
                <a:lnTo>
                  <a:pt x="514" y="968"/>
                </a:lnTo>
                <a:lnTo>
                  <a:pt x="524" y="986"/>
                </a:lnTo>
                <a:lnTo>
                  <a:pt x="532" y="1002"/>
                </a:lnTo>
                <a:lnTo>
                  <a:pt x="538" y="1018"/>
                </a:lnTo>
                <a:lnTo>
                  <a:pt x="542" y="1034"/>
                </a:lnTo>
                <a:lnTo>
                  <a:pt x="548" y="1060"/>
                </a:lnTo>
                <a:lnTo>
                  <a:pt x="548" y="1082"/>
                </a:lnTo>
                <a:lnTo>
                  <a:pt x="548" y="1100"/>
                </a:lnTo>
                <a:lnTo>
                  <a:pt x="544" y="1114"/>
                </a:lnTo>
                <a:lnTo>
                  <a:pt x="540" y="1124"/>
                </a:lnTo>
                <a:lnTo>
                  <a:pt x="774" y="710"/>
                </a:lnTo>
                <a:lnTo>
                  <a:pt x="782" y="692"/>
                </a:lnTo>
                <a:lnTo>
                  <a:pt x="788" y="674"/>
                </a:lnTo>
                <a:lnTo>
                  <a:pt x="788" y="660"/>
                </a:lnTo>
                <a:lnTo>
                  <a:pt x="788" y="646"/>
                </a:lnTo>
                <a:lnTo>
                  <a:pt x="784" y="634"/>
                </a:lnTo>
                <a:lnTo>
                  <a:pt x="780" y="624"/>
                </a:lnTo>
                <a:lnTo>
                  <a:pt x="770" y="604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reeform 8"/>
          <p:cNvSpPr/>
          <p:nvPr/>
        </p:nvSpPr>
        <p:spPr>
          <a:xfrm>
            <a:off x="1192320" y="3998880"/>
            <a:ext cx="2081160" cy="1309680"/>
          </a:xfrm>
          <a:custGeom>
            <a:avLst/>
            <a:gdLst/>
            <a:ahLst/>
            <a:rect l="l" t="t" r="r" b="b"/>
            <a:pathLst>
              <a:path w="1154" h="726">
                <a:moveTo>
                  <a:pt x="1154" y="366"/>
                </a:moveTo>
                <a:lnTo>
                  <a:pt x="872" y="0"/>
                </a:lnTo>
                <a:lnTo>
                  <a:pt x="870" y="162"/>
                </a:lnTo>
                <a:lnTo>
                  <a:pt x="494" y="160"/>
                </a:lnTo>
                <a:lnTo>
                  <a:pt x="144" y="156"/>
                </a:lnTo>
                <a:lnTo>
                  <a:pt x="124" y="156"/>
                </a:lnTo>
                <a:lnTo>
                  <a:pt x="106" y="154"/>
                </a:lnTo>
                <a:lnTo>
                  <a:pt x="74" y="146"/>
                </a:lnTo>
                <a:lnTo>
                  <a:pt x="50" y="136"/>
                </a:lnTo>
                <a:lnTo>
                  <a:pt x="30" y="126"/>
                </a:lnTo>
                <a:lnTo>
                  <a:pt x="16" y="116"/>
                </a:lnTo>
                <a:lnTo>
                  <a:pt x="6" y="106"/>
                </a:lnTo>
                <a:lnTo>
                  <a:pt x="0" y="98"/>
                </a:lnTo>
                <a:lnTo>
                  <a:pt x="228" y="512"/>
                </a:lnTo>
                <a:lnTo>
                  <a:pt x="240" y="530"/>
                </a:lnTo>
                <a:lnTo>
                  <a:pt x="252" y="542"/>
                </a:lnTo>
                <a:lnTo>
                  <a:pt x="264" y="552"/>
                </a:lnTo>
                <a:lnTo>
                  <a:pt x="276" y="558"/>
                </a:lnTo>
                <a:lnTo>
                  <a:pt x="288" y="562"/>
                </a:lnTo>
                <a:lnTo>
                  <a:pt x="298" y="564"/>
                </a:lnTo>
                <a:lnTo>
                  <a:pt x="322" y="566"/>
                </a:lnTo>
                <a:lnTo>
                  <a:pt x="404" y="566"/>
                </a:lnTo>
                <a:lnTo>
                  <a:pt x="568" y="568"/>
                </a:lnTo>
                <a:lnTo>
                  <a:pt x="866" y="568"/>
                </a:lnTo>
                <a:lnTo>
                  <a:pt x="864" y="726"/>
                </a:lnTo>
                <a:lnTo>
                  <a:pt x="1154" y="366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직사각형 255"/>
          <p:cNvSpPr/>
          <p:nvPr/>
        </p:nvSpPr>
        <p:spPr>
          <a:xfrm>
            <a:off x="1623960" y="4520880"/>
            <a:ext cx="129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직사각형 256"/>
          <p:cNvSpPr/>
          <p:nvPr/>
        </p:nvSpPr>
        <p:spPr>
          <a:xfrm rot="3600000">
            <a:off x="3072960" y="3628080"/>
            <a:ext cx="135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직사각형 257"/>
          <p:cNvSpPr/>
          <p:nvPr/>
        </p:nvSpPr>
        <p:spPr>
          <a:xfrm rot="18000000">
            <a:off x="1585800" y="2807280"/>
            <a:ext cx="1324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Round Same Side Corner Rectangle 3"/>
          <p:cNvSpPr/>
          <p:nvPr/>
        </p:nvSpPr>
        <p:spPr>
          <a:xfrm rot="5400000">
            <a:off x="6646320" y="1488960"/>
            <a:ext cx="371520" cy="1908360"/>
          </a:xfrm>
          <a:custGeom>
            <a:avLst/>
            <a:gdLst/>
            <a:ahLst/>
            <a:rect l="l" t="t" r="r" b="b"/>
            <a:pathLst>
              <a:path w="372533" h="1907117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759884"/>
                  <a:pt x="372533" y="1333500"/>
                  <a:pt x="372533" y="1907117"/>
                </a:cubicBezTo>
                <a:lnTo>
                  <a:pt x="0" y="1907117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ound Same Side Corner Rectangle 36"/>
          <p:cNvSpPr/>
          <p:nvPr/>
        </p:nvSpPr>
        <p:spPr>
          <a:xfrm rot="5400000">
            <a:off x="6637320" y="2627280"/>
            <a:ext cx="372960" cy="1906560"/>
          </a:xfrm>
          <a:custGeom>
            <a:avLst/>
            <a:gdLst/>
            <a:ahLst/>
            <a:rect l="l" t="t" r="r" b="b"/>
            <a:pathLst>
              <a:path w="372533" h="1907117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759884"/>
                  <a:pt x="372533" y="1333500"/>
                  <a:pt x="372533" y="1907117"/>
                </a:cubicBezTo>
                <a:lnTo>
                  <a:pt x="0" y="1907117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ound Same Side Corner Rectangle 37"/>
          <p:cNvSpPr/>
          <p:nvPr/>
        </p:nvSpPr>
        <p:spPr>
          <a:xfrm rot="5400000">
            <a:off x="6645600" y="3717000"/>
            <a:ext cx="373320" cy="1908360"/>
          </a:xfrm>
          <a:custGeom>
            <a:avLst/>
            <a:gdLst/>
            <a:ahLst/>
            <a:rect l="l" t="t" r="r" b="b"/>
            <a:pathLst>
              <a:path w="372533" h="1907117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759884"/>
                  <a:pt x="372533" y="1333500"/>
                  <a:pt x="372533" y="1907117"/>
                </a:cubicBezTo>
                <a:lnTo>
                  <a:pt x="0" y="1907117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73"/>
          <p:cNvSpPr/>
          <p:nvPr/>
        </p:nvSpPr>
        <p:spPr>
          <a:xfrm>
            <a:off x="6037200" y="4567320"/>
            <a:ext cx="113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您的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74"/>
          <p:cNvSpPr/>
          <p:nvPr/>
        </p:nvSpPr>
        <p:spPr>
          <a:xfrm>
            <a:off x="6037200" y="3468600"/>
            <a:ext cx="113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您的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75"/>
          <p:cNvSpPr/>
          <p:nvPr/>
        </p:nvSpPr>
        <p:spPr>
          <a:xfrm>
            <a:off x="6037200" y="2311560"/>
            <a:ext cx="113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您的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ound Same Side Corner Rectangle 79"/>
          <p:cNvSpPr/>
          <p:nvPr/>
        </p:nvSpPr>
        <p:spPr>
          <a:xfrm rot="16200000">
            <a:off x="5375880" y="2129760"/>
            <a:ext cx="371520" cy="626760"/>
          </a:xfrm>
          <a:custGeom>
            <a:avLst/>
            <a:gdLst/>
            <a:ahLst/>
            <a:rect l="l" t="t" r="r" b="b"/>
            <a:pathLst>
              <a:path w="372533" h="626533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333022"/>
                  <a:pt x="372533" y="479778"/>
                  <a:pt x="372533" y="626533"/>
                </a:cubicBezTo>
                <a:lnTo>
                  <a:pt x="0" y="626533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ound Same Side Corner Rectangle 80"/>
          <p:cNvSpPr/>
          <p:nvPr/>
        </p:nvSpPr>
        <p:spPr>
          <a:xfrm rot="16200000">
            <a:off x="5366520" y="3274200"/>
            <a:ext cx="372960" cy="625680"/>
          </a:xfrm>
          <a:custGeom>
            <a:avLst/>
            <a:gdLst/>
            <a:ahLst/>
            <a:rect l="l" t="t" r="r" b="b"/>
            <a:pathLst>
              <a:path w="372533" h="626533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333022"/>
                  <a:pt x="372533" y="479778"/>
                  <a:pt x="372533" y="626533"/>
                </a:cubicBezTo>
                <a:lnTo>
                  <a:pt x="0" y="626533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ound Same Side Corner Rectangle 81"/>
          <p:cNvSpPr/>
          <p:nvPr/>
        </p:nvSpPr>
        <p:spPr>
          <a:xfrm rot="16200000">
            <a:off x="5370480" y="4356000"/>
            <a:ext cx="372960" cy="627120"/>
          </a:xfrm>
          <a:custGeom>
            <a:avLst/>
            <a:gdLst/>
            <a:ahLst/>
            <a:rect l="l" t="t" r="r" b="b"/>
            <a:pathLst>
              <a:path w="372533" h="626533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333022"/>
                  <a:pt x="372533" y="479778"/>
                  <a:pt x="372533" y="626533"/>
                </a:cubicBezTo>
                <a:lnTo>
                  <a:pt x="0" y="626533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Freeform 13"/>
          <p:cNvSpPr/>
          <p:nvPr/>
        </p:nvSpPr>
        <p:spPr>
          <a:xfrm>
            <a:off x="5494320" y="2311560"/>
            <a:ext cx="222120" cy="253800"/>
          </a:xfrm>
          <a:custGeom>
            <a:avLst/>
            <a:gdLst/>
            <a:ahLst/>
            <a:rect l="l" t="t" r="r" b="b"/>
            <a:pathLst>
              <a:path w="1450" h="1648">
                <a:moveTo>
                  <a:pt x="860" y="121"/>
                </a:moveTo>
                <a:cubicBezTo>
                  <a:pt x="604" y="121"/>
                  <a:pt x="604" y="121"/>
                  <a:pt x="604" y="121"/>
                </a:cubicBezTo>
                <a:cubicBezTo>
                  <a:pt x="604" y="254"/>
                  <a:pt x="604" y="254"/>
                  <a:pt x="604" y="254"/>
                </a:cubicBezTo>
                <a:cubicBezTo>
                  <a:pt x="795" y="254"/>
                  <a:pt x="795" y="254"/>
                  <a:pt x="795" y="254"/>
                </a:cubicBezTo>
                <a:cubicBezTo>
                  <a:pt x="795" y="560"/>
                  <a:pt x="795" y="560"/>
                  <a:pt x="795" y="560"/>
                </a:cubicBezTo>
                <a:cubicBezTo>
                  <a:pt x="1082" y="560"/>
                  <a:pt x="1082" y="560"/>
                  <a:pt x="1082" y="560"/>
                </a:cubicBezTo>
                <a:cubicBezTo>
                  <a:pt x="1082" y="1287"/>
                  <a:pt x="1082" y="1287"/>
                  <a:pt x="1082" y="1287"/>
                </a:cubicBezTo>
                <a:cubicBezTo>
                  <a:pt x="217" y="1287"/>
                  <a:pt x="217" y="1287"/>
                  <a:pt x="217" y="1287"/>
                </a:cubicBezTo>
                <a:cubicBezTo>
                  <a:pt x="217" y="995"/>
                  <a:pt x="217" y="995"/>
                  <a:pt x="217" y="995"/>
                </a:cubicBezTo>
                <a:cubicBezTo>
                  <a:pt x="170" y="990"/>
                  <a:pt x="125" y="976"/>
                  <a:pt x="85" y="954"/>
                </a:cubicBezTo>
                <a:cubicBezTo>
                  <a:pt x="85" y="1419"/>
                  <a:pt x="85" y="1419"/>
                  <a:pt x="85" y="1419"/>
                </a:cubicBezTo>
                <a:cubicBezTo>
                  <a:pt x="1214" y="1419"/>
                  <a:pt x="1214" y="1419"/>
                  <a:pt x="1214" y="1419"/>
                </a:cubicBezTo>
                <a:cubicBezTo>
                  <a:pt x="1214" y="483"/>
                  <a:pt x="1214" y="483"/>
                  <a:pt x="1214" y="483"/>
                </a:cubicBezTo>
                <a:lnTo>
                  <a:pt x="860" y="121"/>
                </a:lnTo>
                <a:close/>
                <a:moveTo>
                  <a:pt x="504" y="121"/>
                </a:moveTo>
                <a:cubicBezTo>
                  <a:pt x="416" y="121"/>
                  <a:pt x="416" y="121"/>
                  <a:pt x="416" y="121"/>
                </a:cubicBezTo>
                <a:cubicBezTo>
                  <a:pt x="416" y="644"/>
                  <a:pt x="416" y="644"/>
                  <a:pt x="416" y="644"/>
                </a:cubicBezTo>
                <a:cubicBezTo>
                  <a:pt x="416" y="735"/>
                  <a:pt x="343" y="808"/>
                  <a:pt x="252" y="808"/>
                </a:cubicBezTo>
                <a:cubicBezTo>
                  <a:pt x="252" y="808"/>
                  <a:pt x="252" y="808"/>
                  <a:pt x="252" y="808"/>
                </a:cubicBezTo>
                <a:cubicBezTo>
                  <a:pt x="161" y="808"/>
                  <a:pt x="88" y="735"/>
                  <a:pt x="88" y="644"/>
                </a:cubicBezTo>
                <a:cubicBezTo>
                  <a:pt x="88" y="187"/>
                  <a:pt x="88" y="187"/>
                  <a:pt x="88" y="187"/>
                </a:cubicBezTo>
                <a:cubicBezTo>
                  <a:pt x="88" y="132"/>
                  <a:pt x="132" y="88"/>
                  <a:pt x="187" y="88"/>
                </a:cubicBezTo>
                <a:cubicBezTo>
                  <a:pt x="187" y="88"/>
                  <a:pt x="187" y="88"/>
                  <a:pt x="187" y="88"/>
                </a:cubicBezTo>
                <a:cubicBezTo>
                  <a:pt x="242" y="88"/>
                  <a:pt x="287" y="132"/>
                  <a:pt x="287" y="187"/>
                </a:cubicBezTo>
                <a:cubicBezTo>
                  <a:pt x="287" y="542"/>
                  <a:pt x="287" y="542"/>
                  <a:pt x="287" y="542"/>
                </a:cubicBezTo>
                <a:cubicBezTo>
                  <a:pt x="287" y="561"/>
                  <a:pt x="271" y="576"/>
                  <a:pt x="253" y="576"/>
                </a:cubicBezTo>
                <a:cubicBezTo>
                  <a:pt x="253" y="576"/>
                  <a:pt x="253" y="576"/>
                  <a:pt x="253" y="576"/>
                </a:cubicBezTo>
                <a:cubicBezTo>
                  <a:pt x="234" y="576"/>
                  <a:pt x="218" y="561"/>
                  <a:pt x="218" y="542"/>
                </a:cubicBezTo>
                <a:cubicBezTo>
                  <a:pt x="218" y="288"/>
                  <a:pt x="218" y="288"/>
                  <a:pt x="218" y="288"/>
                </a:cubicBezTo>
                <a:cubicBezTo>
                  <a:pt x="131" y="288"/>
                  <a:pt x="131" y="288"/>
                  <a:pt x="131" y="288"/>
                </a:cubicBezTo>
                <a:cubicBezTo>
                  <a:pt x="131" y="542"/>
                  <a:pt x="131" y="542"/>
                  <a:pt x="131" y="542"/>
                </a:cubicBezTo>
                <a:cubicBezTo>
                  <a:pt x="131" y="609"/>
                  <a:pt x="185" y="664"/>
                  <a:pt x="253" y="664"/>
                </a:cubicBezTo>
                <a:cubicBezTo>
                  <a:pt x="253" y="664"/>
                  <a:pt x="253" y="664"/>
                  <a:pt x="253" y="664"/>
                </a:cubicBezTo>
                <a:cubicBezTo>
                  <a:pt x="320" y="664"/>
                  <a:pt x="375" y="609"/>
                  <a:pt x="375" y="542"/>
                </a:cubicBezTo>
                <a:cubicBezTo>
                  <a:pt x="375" y="187"/>
                  <a:pt x="375" y="187"/>
                  <a:pt x="375" y="187"/>
                </a:cubicBezTo>
                <a:cubicBezTo>
                  <a:pt x="374" y="84"/>
                  <a:pt x="290" y="0"/>
                  <a:pt x="187" y="0"/>
                </a:cubicBezTo>
                <a:cubicBezTo>
                  <a:pt x="187" y="0"/>
                  <a:pt x="187" y="0"/>
                  <a:pt x="187" y="0"/>
                </a:cubicBezTo>
                <a:cubicBezTo>
                  <a:pt x="84" y="0"/>
                  <a:pt x="0" y="84"/>
                  <a:pt x="0" y="187"/>
                </a:cubicBezTo>
                <a:cubicBezTo>
                  <a:pt x="0" y="644"/>
                  <a:pt x="0" y="644"/>
                  <a:pt x="0" y="644"/>
                </a:cubicBezTo>
                <a:cubicBezTo>
                  <a:pt x="0" y="783"/>
                  <a:pt x="113" y="896"/>
                  <a:pt x="252" y="896"/>
                </a:cubicBezTo>
                <a:cubicBezTo>
                  <a:pt x="252" y="896"/>
                  <a:pt x="252" y="896"/>
                  <a:pt x="252" y="896"/>
                </a:cubicBezTo>
                <a:cubicBezTo>
                  <a:pt x="391" y="896"/>
                  <a:pt x="504" y="783"/>
                  <a:pt x="504" y="644"/>
                </a:cubicBezTo>
                <a:lnTo>
                  <a:pt x="504" y="121"/>
                </a:lnTo>
                <a:close/>
                <a:moveTo>
                  <a:pt x="1317" y="565"/>
                </a:moveTo>
                <a:cubicBezTo>
                  <a:pt x="1317" y="1515"/>
                  <a:pt x="1317" y="1515"/>
                  <a:pt x="1317" y="1515"/>
                </a:cubicBezTo>
                <a:cubicBezTo>
                  <a:pt x="333" y="1515"/>
                  <a:pt x="333" y="1515"/>
                  <a:pt x="333" y="1515"/>
                </a:cubicBezTo>
                <a:cubicBezTo>
                  <a:pt x="333" y="1648"/>
                  <a:pt x="333" y="1648"/>
                  <a:pt x="333" y="1648"/>
                </a:cubicBezTo>
                <a:cubicBezTo>
                  <a:pt x="1450" y="1648"/>
                  <a:pt x="1450" y="1648"/>
                  <a:pt x="1450" y="1648"/>
                </a:cubicBezTo>
                <a:cubicBezTo>
                  <a:pt x="1450" y="697"/>
                  <a:pt x="1450" y="697"/>
                  <a:pt x="1450" y="697"/>
                </a:cubicBezTo>
                <a:lnTo>
                  <a:pt x="1317" y="5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Freeform 17"/>
          <p:cNvSpPr/>
          <p:nvPr/>
        </p:nvSpPr>
        <p:spPr>
          <a:xfrm>
            <a:off x="5451480" y="3446640"/>
            <a:ext cx="291960" cy="269640"/>
          </a:xfrm>
          <a:custGeom>
            <a:avLst/>
            <a:gdLst/>
            <a:ahLst/>
            <a:rect l="l" t="t" r="r" b="b"/>
            <a:pathLst>
              <a:path w="1648" h="1502">
                <a:moveTo>
                  <a:pt x="812" y="0"/>
                </a:moveTo>
                <a:cubicBezTo>
                  <a:pt x="616" y="0"/>
                  <a:pt x="457" y="158"/>
                  <a:pt x="457" y="354"/>
                </a:cubicBezTo>
                <a:cubicBezTo>
                  <a:pt x="457" y="646"/>
                  <a:pt x="736" y="676"/>
                  <a:pt x="812" y="1120"/>
                </a:cubicBezTo>
                <a:cubicBezTo>
                  <a:pt x="888" y="676"/>
                  <a:pt x="1167" y="646"/>
                  <a:pt x="1167" y="354"/>
                </a:cubicBezTo>
                <a:cubicBezTo>
                  <a:pt x="1167" y="158"/>
                  <a:pt x="1008" y="0"/>
                  <a:pt x="812" y="0"/>
                </a:cubicBezTo>
                <a:close/>
                <a:moveTo>
                  <a:pt x="812" y="473"/>
                </a:moveTo>
                <a:cubicBezTo>
                  <a:pt x="742" y="473"/>
                  <a:pt x="685" y="416"/>
                  <a:pt x="685" y="346"/>
                </a:cubicBezTo>
                <a:cubicBezTo>
                  <a:pt x="685" y="275"/>
                  <a:pt x="742" y="218"/>
                  <a:pt x="812" y="218"/>
                </a:cubicBezTo>
                <a:cubicBezTo>
                  <a:pt x="882" y="218"/>
                  <a:pt x="939" y="275"/>
                  <a:pt x="939" y="346"/>
                </a:cubicBezTo>
                <a:cubicBezTo>
                  <a:pt x="939" y="416"/>
                  <a:pt x="882" y="473"/>
                  <a:pt x="812" y="473"/>
                </a:cubicBezTo>
                <a:close/>
                <a:moveTo>
                  <a:pt x="1648" y="1502"/>
                </a:moveTo>
                <a:cubicBezTo>
                  <a:pt x="1187" y="1336"/>
                  <a:pt x="1187" y="1336"/>
                  <a:pt x="1187" y="1336"/>
                </a:cubicBezTo>
                <a:cubicBezTo>
                  <a:pt x="813" y="1502"/>
                  <a:pt x="813" y="1502"/>
                  <a:pt x="813" y="1502"/>
                </a:cubicBezTo>
                <a:cubicBezTo>
                  <a:pt x="441" y="1336"/>
                  <a:pt x="441" y="1336"/>
                  <a:pt x="441" y="1336"/>
                </a:cubicBezTo>
                <a:cubicBezTo>
                  <a:pt x="0" y="1502"/>
                  <a:pt x="0" y="1502"/>
                  <a:pt x="0" y="1502"/>
                </a:cubicBezTo>
                <a:cubicBezTo>
                  <a:pt x="270" y="965"/>
                  <a:pt x="270" y="965"/>
                  <a:pt x="270" y="965"/>
                </a:cubicBezTo>
                <a:cubicBezTo>
                  <a:pt x="572" y="834"/>
                  <a:pt x="572" y="834"/>
                  <a:pt x="572" y="834"/>
                </a:cubicBezTo>
                <a:cubicBezTo>
                  <a:pt x="593" y="865"/>
                  <a:pt x="614" y="899"/>
                  <a:pt x="633" y="939"/>
                </a:cubicBezTo>
                <a:cubicBezTo>
                  <a:pt x="567" y="967"/>
                  <a:pt x="622" y="943"/>
                  <a:pt x="358" y="1058"/>
                </a:cubicBezTo>
                <a:cubicBezTo>
                  <a:pt x="245" y="1281"/>
                  <a:pt x="245" y="1281"/>
                  <a:pt x="245" y="1281"/>
                </a:cubicBezTo>
                <a:cubicBezTo>
                  <a:pt x="431" y="1211"/>
                  <a:pt x="431" y="1211"/>
                  <a:pt x="431" y="1211"/>
                </a:cubicBezTo>
                <a:cubicBezTo>
                  <a:pt x="539" y="1018"/>
                  <a:pt x="539" y="1018"/>
                  <a:pt x="539" y="1018"/>
                </a:cubicBezTo>
                <a:cubicBezTo>
                  <a:pt x="495" y="1228"/>
                  <a:pt x="495" y="1228"/>
                  <a:pt x="495" y="1228"/>
                </a:cubicBezTo>
                <a:cubicBezTo>
                  <a:pt x="781" y="1356"/>
                  <a:pt x="781" y="1356"/>
                  <a:pt x="781" y="1356"/>
                </a:cubicBezTo>
                <a:cubicBezTo>
                  <a:pt x="813" y="1212"/>
                  <a:pt x="813" y="1212"/>
                  <a:pt x="813" y="1212"/>
                </a:cubicBezTo>
                <a:cubicBezTo>
                  <a:pt x="849" y="1357"/>
                  <a:pt x="849" y="1357"/>
                  <a:pt x="849" y="1357"/>
                </a:cubicBezTo>
                <a:cubicBezTo>
                  <a:pt x="1135" y="1228"/>
                  <a:pt x="1135" y="1228"/>
                  <a:pt x="1135" y="1228"/>
                </a:cubicBezTo>
                <a:cubicBezTo>
                  <a:pt x="1092" y="1012"/>
                  <a:pt x="1092" y="1012"/>
                  <a:pt x="1092" y="1012"/>
                </a:cubicBezTo>
                <a:cubicBezTo>
                  <a:pt x="1200" y="1213"/>
                  <a:pt x="1200" y="1213"/>
                  <a:pt x="1200" y="1213"/>
                </a:cubicBezTo>
                <a:cubicBezTo>
                  <a:pt x="1405" y="1287"/>
                  <a:pt x="1405" y="1287"/>
                  <a:pt x="1405" y="1287"/>
                </a:cubicBezTo>
                <a:cubicBezTo>
                  <a:pt x="1290" y="1058"/>
                  <a:pt x="1290" y="1058"/>
                  <a:pt x="1290" y="1058"/>
                </a:cubicBezTo>
                <a:cubicBezTo>
                  <a:pt x="994" y="932"/>
                  <a:pt x="994" y="932"/>
                  <a:pt x="994" y="932"/>
                </a:cubicBezTo>
                <a:cubicBezTo>
                  <a:pt x="1013" y="894"/>
                  <a:pt x="1034" y="859"/>
                  <a:pt x="1056" y="828"/>
                </a:cubicBezTo>
                <a:cubicBezTo>
                  <a:pt x="1378" y="965"/>
                  <a:pt x="1378" y="965"/>
                  <a:pt x="1378" y="965"/>
                </a:cubicBezTo>
                <a:lnTo>
                  <a:pt x="1648" y="15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reeform 13"/>
          <p:cNvSpPr/>
          <p:nvPr/>
        </p:nvSpPr>
        <p:spPr>
          <a:xfrm>
            <a:off x="5464080" y="4545000"/>
            <a:ext cx="262080" cy="262080"/>
          </a:xfrm>
          <a:custGeom>
            <a:avLst/>
            <a:gdLst/>
            <a:ahLst/>
            <a:rect l="l" t="t" r="r" b="b"/>
            <a:pathLst>
              <a:path w="1640" h="1642">
                <a:moveTo>
                  <a:pt x="1158" y="965"/>
                </a:moveTo>
                <a:cubicBezTo>
                  <a:pt x="705" y="965"/>
                  <a:pt x="705" y="965"/>
                  <a:pt x="705" y="965"/>
                </a:cubicBezTo>
                <a:cubicBezTo>
                  <a:pt x="705" y="467"/>
                  <a:pt x="705" y="467"/>
                  <a:pt x="705" y="467"/>
                </a:cubicBezTo>
                <a:cubicBezTo>
                  <a:pt x="849" y="467"/>
                  <a:pt x="849" y="467"/>
                  <a:pt x="849" y="467"/>
                </a:cubicBezTo>
                <a:cubicBezTo>
                  <a:pt x="849" y="821"/>
                  <a:pt x="849" y="821"/>
                  <a:pt x="849" y="821"/>
                </a:cubicBezTo>
                <a:cubicBezTo>
                  <a:pt x="1158" y="821"/>
                  <a:pt x="1158" y="821"/>
                  <a:pt x="1158" y="821"/>
                </a:cubicBezTo>
                <a:cubicBezTo>
                  <a:pt x="1158" y="965"/>
                  <a:pt x="1158" y="965"/>
                  <a:pt x="1158" y="965"/>
                </a:cubicBezTo>
                <a:close/>
                <a:moveTo>
                  <a:pt x="1354" y="1311"/>
                </a:moveTo>
                <a:cubicBezTo>
                  <a:pt x="1471" y="1183"/>
                  <a:pt x="1543" y="1012"/>
                  <a:pt x="1543" y="824"/>
                </a:cubicBezTo>
                <a:cubicBezTo>
                  <a:pt x="1543" y="424"/>
                  <a:pt x="1219" y="101"/>
                  <a:pt x="820" y="101"/>
                </a:cubicBezTo>
                <a:cubicBezTo>
                  <a:pt x="421" y="101"/>
                  <a:pt x="97" y="424"/>
                  <a:pt x="97" y="824"/>
                </a:cubicBezTo>
                <a:cubicBezTo>
                  <a:pt x="97" y="1012"/>
                  <a:pt x="169" y="1183"/>
                  <a:pt x="286" y="1311"/>
                </a:cubicBezTo>
                <a:cubicBezTo>
                  <a:pt x="250" y="1401"/>
                  <a:pt x="203" y="1520"/>
                  <a:pt x="171" y="1599"/>
                </a:cubicBezTo>
                <a:cubicBezTo>
                  <a:pt x="166" y="1611"/>
                  <a:pt x="169" y="1625"/>
                  <a:pt x="179" y="1633"/>
                </a:cubicBezTo>
                <a:cubicBezTo>
                  <a:pt x="190" y="1642"/>
                  <a:pt x="204" y="1642"/>
                  <a:pt x="215" y="1635"/>
                </a:cubicBezTo>
                <a:cubicBezTo>
                  <a:pt x="288" y="1586"/>
                  <a:pt x="398" y="1513"/>
                  <a:pt x="476" y="1460"/>
                </a:cubicBezTo>
                <a:cubicBezTo>
                  <a:pt x="579" y="1515"/>
                  <a:pt x="696" y="1547"/>
                  <a:pt x="820" y="1547"/>
                </a:cubicBezTo>
                <a:cubicBezTo>
                  <a:pt x="944" y="1547"/>
                  <a:pt x="1061" y="1515"/>
                  <a:pt x="1164" y="1460"/>
                </a:cubicBezTo>
                <a:cubicBezTo>
                  <a:pt x="1425" y="1635"/>
                  <a:pt x="1425" y="1635"/>
                  <a:pt x="1425" y="1635"/>
                </a:cubicBezTo>
                <a:cubicBezTo>
                  <a:pt x="1436" y="1642"/>
                  <a:pt x="1450" y="1642"/>
                  <a:pt x="1461" y="1634"/>
                </a:cubicBezTo>
                <a:cubicBezTo>
                  <a:pt x="1471" y="1625"/>
                  <a:pt x="1474" y="1612"/>
                  <a:pt x="1469" y="1599"/>
                </a:cubicBezTo>
                <a:lnTo>
                  <a:pt x="1354" y="1311"/>
                </a:lnTo>
                <a:close/>
                <a:moveTo>
                  <a:pt x="820" y="1367"/>
                </a:moveTo>
                <a:cubicBezTo>
                  <a:pt x="520" y="1367"/>
                  <a:pt x="277" y="1124"/>
                  <a:pt x="277" y="824"/>
                </a:cubicBezTo>
                <a:cubicBezTo>
                  <a:pt x="277" y="524"/>
                  <a:pt x="520" y="281"/>
                  <a:pt x="820" y="281"/>
                </a:cubicBezTo>
                <a:cubicBezTo>
                  <a:pt x="1120" y="281"/>
                  <a:pt x="1363" y="524"/>
                  <a:pt x="1363" y="824"/>
                </a:cubicBezTo>
                <a:cubicBezTo>
                  <a:pt x="1363" y="1124"/>
                  <a:pt x="1120" y="1367"/>
                  <a:pt x="820" y="1367"/>
                </a:cubicBezTo>
                <a:close/>
                <a:moveTo>
                  <a:pt x="496" y="46"/>
                </a:moveTo>
                <a:cubicBezTo>
                  <a:pt x="446" y="17"/>
                  <a:pt x="389" y="0"/>
                  <a:pt x="328" y="0"/>
                </a:cubicBezTo>
                <a:cubicBezTo>
                  <a:pt x="147" y="0"/>
                  <a:pt x="0" y="147"/>
                  <a:pt x="0" y="328"/>
                </a:cubicBezTo>
                <a:cubicBezTo>
                  <a:pt x="0" y="388"/>
                  <a:pt x="16" y="444"/>
                  <a:pt x="45" y="493"/>
                </a:cubicBezTo>
                <a:cubicBezTo>
                  <a:pt x="131" y="292"/>
                  <a:pt x="293" y="130"/>
                  <a:pt x="496" y="46"/>
                </a:cubicBezTo>
                <a:close/>
                <a:moveTo>
                  <a:pt x="1595" y="493"/>
                </a:moveTo>
                <a:cubicBezTo>
                  <a:pt x="1624" y="444"/>
                  <a:pt x="1640" y="388"/>
                  <a:pt x="1640" y="328"/>
                </a:cubicBezTo>
                <a:cubicBezTo>
                  <a:pt x="1640" y="147"/>
                  <a:pt x="1493" y="0"/>
                  <a:pt x="1312" y="0"/>
                </a:cubicBezTo>
                <a:cubicBezTo>
                  <a:pt x="1251" y="0"/>
                  <a:pt x="1194" y="17"/>
                  <a:pt x="1145" y="46"/>
                </a:cubicBezTo>
                <a:cubicBezTo>
                  <a:pt x="1347" y="130"/>
                  <a:pt x="1509" y="292"/>
                  <a:pt x="1595" y="4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TextBox 13"/>
          <p:cNvSpPr/>
          <p:nvPr/>
        </p:nvSpPr>
        <p:spPr>
          <a:xfrm>
            <a:off x="5978520" y="2697120"/>
            <a:ext cx="51339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Box 13"/>
          <p:cNvSpPr/>
          <p:nvPr/>
        </p:nvSpPr>
        <p:spPr>
          <a:xfrm>
            <a:off x="5978520" y="3821040"/>
            <a:ext cx="51339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Box 13"/>
          <p:cNvSpPr/>
          <p:nvPr/>
        </p:nvSpPr>
        <p:spPr>
          <a:xfrm>
            <a:off x="5978520" y="4957920"/>
            <a:ext cx="51339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 Box 2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图片 1" descr=""/>
          <p:cNvPicPr/>
          <p:nvPr/>
        </p:nvPicPr>
        <p:blipFill>
          <a:blip r:embed="rId1"/>
          <a:stretch/>
        </p:blipFill>
        <p:spPr>
          <a:xfrm>
            <a:off x="1322280" y="0"/>
            <a:ext cx="3241800" cy="6858000"/>
          </a:xfrm>
          <a:prstGeom prst="rect">
            <a:avLst/>
          </a:prstGeom>
          <a:ln w="0">
            <a:noFill/>
          </a:ln>
        </p:spPr>
      </p:pic>
      <p:sp>
        <p:nvSpPr>
          <p:cNvPr id="530" name="矩形 2"/>
          <p:cNvSpPr/>
          <p:nvPr/>
        </p:nvSpPr>
        <p:spPr>
          <a:xfrm>
            <a:off x="6064200" y="413244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矩形 3"/>
          <p:cNvSpPr/>
          <p:nvPr/>
        </p:nvSpPr>
        <p:spPr>
          <a:xfrm>
            <a:off x="6064200" y="333540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2" name="组合 4"/>
          <p:cNvGrpSpPr/>
          <p:nvPr/>
        </p:nvGrpSpPr>
        <p:grpSpPr>
          <a:xfrm>
            <a:off x="6064200" y="2266920"/>
            <a:ext cx="3789360" cy="955800"/>
            <a:chOff x="6064200" y="2266920"/>
            <a:chExt cx="3789360" cy="955800"/>
          </a:xfrm>
        </p:grpSpPr>
        <p:pic>
          <p:nvPicPr>
            <p:cNvPr id="533" name="图片 5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6064200" y="2266920"/>
              <a:ext cx="378936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文本框 6"/>
            <p:cNvSpPr/>
            <p:nvPr/>
          </p:nvSpPr>
          <p:spPr>
            <a:xfrm>
              <a:off x="6448680" y="244728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5" name="Text Box 8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图片 2" descr=""/>
          <p:cNvPicPr/>
          <p:nvPr/>
        </p:nvPicPr>
        <p:blipFill>
          <a:blip r:embed="rId1"/>
          <a:stretch/>
        </p:blipFill>
        <p:spPr>
          <a:xfrm>
            <a:off x="0" y="3571920"/>
            <a:ext cx="5527800" cy="3286080"/>
          </a:xfrm>
          <a:prstGeom prst="rect">
            <a:avLst/>
          </a:prstGeom>
          <a:ln w="0">
            <a:noFill/>
          </a:ln>
        </p:spPr>
      </p:pic>
      <p:sp>
        <p:nvSpPr>
          <p:cNvPr id="537" name="矩形 3"/>
          <p:cNvSpPr/>
          <p:nvPr/>
        </p:nvSpPr>
        <p:spPr>
          <a:xfrm>
            <a:off x="6039000" y="4141800"/>
            <a:ext cx="48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矩形 4"/>
          <p:cNvSpPr/>
          <p:nvPr/>
        </p:nvSpPr>
        <p:spPr>
          <a:xfrm>
            <a:off x="6039000" y="3344760"/>
            <a:ext cx="48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9" name="组合 5"/>
          <p:cNvGrpSpPr/>
          <p:nvPr/>
        </p:nvGrpSpPr>
        <p:grpSpPr>
          <a:xfrm>
            <a:off x="6039000" y="2276640"/>
            <a:ext cx="3789360" cy="955440"/>
            <a:chOff x="6039000" y="2276640"/>
            <a:chExt cx="3789360" cy="955440"/>
          </a:xfrm>
        </p:grpSpPr>
        <p:pic>
          <p:nvPicPr>
            <p:cNvPr id="540" name="图片 6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6039000" y="2276640"/>
              <a:ext cx="3789360" cy="9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文本框 7"/>
            <p:cNvSpPr/>
            <p:nvPr/>
          </p:nvSpPr>
          <p:spPr>
            <a:xfrm>
              <a:off x="6423480" y="24570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2" name="Text Box 8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图片 1" descr=""/>
          <p:cNvPicPr/>
          <p:nvPr/>
        </p:nvPicPr>
        <p:blipFill>
          <a:blip r:embed="rId1"/>
          <a:srcRect l="9808" t="15023" r="8038" b="29345"/>
          <a:stretch/>
        </p:blipFill>
        <p:spPr>
          <a:xfrm>
            <a:off x="4923000" y="2392200"/>
            <a:ext cx="5213160" cy="1427400"/>
          </a:xfrm>
          <a:prstGeom prst="rect">
            <a:avLst/>
          </a:prstGeom>
          <a:ln w="0">
            <a:noFill/>
          </a:ln>
        </p:spPr>
      </p:pic>
      <p:pic>
        <p:nvPicPr>
          <p:cNvPr id="544" name="图片 2" descr=""/>
          <p:cNvPicPr/>
          <p:nvPr/>
        </p:nvPicPr>
        <p:blipFill>
          <a:blip r:embed="rId2"/>
          <a:stretch/>
        </p:blipFill>
        <p:spPr>
          <a:xfrm>
            <a:off x="5126040" y="3890880"/>
            <a:ext cx="4017960" cy="59076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7" descr=""/>
          <p:cNvPicPr/>
          <p:nvPr/>
        </p:nvPicPr>
        <p:blipFill>
          <a:blip r:embed="rId3"/>
          <a:stretch/>
        </p:blipFill>
        <p:spPr>
          <a:xfrm>
            <a:off x="1925640" y="1238400"/>
            <a:ext cx="3675240" cy="437652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10" descr=""/>
          <p:cNvPicPr/>
          <p:nvPr/>
        </p:nvPicPr>
        <p:blipFill>
          <a:blip r:embed="rId4"/>
          <a:stretch/>
        </p:blipFill>
        <p:spPr>
          <a:xfrm>
            <a:off x="9144000" y="389880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6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 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组合 45"/>
          <p:cNvGrpSpPr/>
          <p:nvPr/>
        </p:nvGrpSpPr>
        <p:grpSpPr>
          <a:xfrm>
            <a:off x="7054920" y="2771640"/>
            <a:ext cx="4321080" cy="462240"/>
            <a:chOff x="7054920" y="2771640"/>
            <a:chExt cx="4321080" cy="462240"/>
          </a:xfrm>
        </p:grpSpPr>
        <p:sp>
          <p:nvSpPr>
            <p:cNvPr id="282" name="TextBox 2"/>
            <p:cNvSpPr/>
            <p:nvPr/>
          </p:nvSpPr>
          <p:spPr>
            <a:xfrm>
              <a:off x="8394480" y="2771640"/>
              <a:ext cx="298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文本框 47"/>
            <p:cNvSpPr/>
            <p:nvPr/>
          </p:nvSpPr>
          <p:spPr>
            <a:xfrm>
              <a:off x="7674120" y="277164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4" name="图片 48" descr=""/>
            <p:cNvPicPr/>
            <p:nvPr/>
          </p:nvPicPr>
          <p:blipFill>
            <a:blip r:embed="rId1"/>
            <a:stretch/>
          </p:blipFill>
          <p:spPr>
            <a:xfrm>
              <a:off x="7054920" y="2891160"/>
              <a:ext cx="66240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流程图: 联系 49"/>
            <p:cNvSpPr/>
            <p:nvPr/>
          </p:nvSpPr>
          <p:spPr>
            <a:xfrm>
              <a:off x="8287920" y="2949480"/>
              <a:ext cx="106200" cy="10620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组合 50"/>
          <p:cNvGrpSpPr/>
          <p:nvPr/>
        </p:nvGrpSpPr>
        <p:grpSpPr>
          <a:xfrm>
            <a:off x="7054920" y="3316320"/>
            <a:ext cx="4321080" cy="461880"/>
            <a:chOff x="7054920" y="3316320"/>
            <a:chExt cx="4321080" cy="461880"/>
          </a:xfrm>
        </p:grpSpPr>
        <p:sp>
          <p:nvSpPr>
            <p:cNvPr id="287" name="TextBox 2"/>
            <p:cNvSpPr/>
            <p:nvPr/>
          </p:nvSpPr>
          <p:spPr>
            <a:xfrm>
              <a:off x="8394480" y="3316320"/>
              <a:ext cx="298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文本框 52"/>
            <p:cNvSpPr/>
            <p:nvPr/>
          </p:nvSpPr>
          <p:spPr>
            <a:xfrm>
              <a:off x="7674120" y="331632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9" name="图片 53" descr=""/>
            <p:cNvPicPr/>
            <p:nvPr/>
          </p:nvPicPr>
          <p:blipFill>
            <a:blip r:embed="rId2"/>
            <a:stretch/>
          </p:blipFill>
          <p:spPr>
            <a:xfrm>
              <a:off x="7054920" y="3435840"/>
              <a:ext cx="662400" cy="34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流程图: 联系 54"/>
            <p:cNvSpPr/>
            <p:nvPr/>
          </p:nvSpPr>
          <p:spPr>
            <a:xfrm>
              <a:off x="8287920" y="3494160"/>
              <a:ext cx="106200" cy="10620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1" name="组合 55"/>
          <p:cNvGrpSpPr/>
          <p:nvPr/>
        </p:nvGrpSpPr>
        <p:grpSpPr>
          <a:xfrm>
            <a:off x="7054920" y="4405320"/>
            <a:ext cx="4321080" cy="461880"/>
            <a:chOff x="7054920" y="4405320"/>
            <a:chExt cx="4321080" cy="461880"/>
          </a:xfrm>
        </p:grpSpPr>
        <p:sp>
          <p:nvSpPr>
            <p:cNvPr id="292" name="TextBox 2"/>
            <p:cNvSpPr/>
            <p:nvPr/>
          </p:nvSpPr>
          <p:spPr>
            <a:xfrm>
              <a:off x="8394480" y="4405320"/>
              <a:ext cx="298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文本框 57"/>
            <p:cNvSpPr/>
            <p:nvPr/>
          </p:nvSpPr>
          <p:spPr>
            <a:xfrm>
              <a:off x="7674120" y="440532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4" name="图片 58" descr=""/>
            <p:cNvPicPr/>
            <p:nvPr/>
          </p:nvPicPr>
          <p:blipFill>
            <a:blip r:embed="rId3"/>
            <a:stretch/>
          </p:blipFill>
          <p:spPr>
            <a:xfrm>
              <a:off x="7054920" y="4524840"/>
              <a:ext cx="662400" cy="34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流程图: 联系 59"/>
            <p:cNvSpPr/>
            <p:nvPr/>
          </p:nvSpPr>
          <p:spPr>
            <a:xfrm>
              <a:off x="8287920" y="4583160"/>
              <a:ext cx="106200" cy="10620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6" name="组合 60"/>
          <p:cNvGrpSpPr/>
          <p:nvPr/>
        </p:nvGrpSpPr>
        <p:grpSpPr>
          <a:xfrm>
            <a:off x="7054920" y="3860640"/>
            <a:ext cx="4321080" cy="462240"/>
            <a:chOff x="7054920" y="3860640"/>
            <a:chExt cx="4321080" cy="462240"/>
          </a:xfrm>
        </p:grpSpPr>
        <p:sp>
          <p:nvSpPr>
            <p:cNvPr id="297" name="TextBox 2"/>
            <p:cNvSpPr/>
            <p:nvPr/>
          </p:nvSpPr>
          <p:spPr>
            <a:xfrm>
              <a:off x="8394480" y="3860640"/>
              <a:ext cx="298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文本框 62"/>
            <p:cNvSpPr/>
            <p:nvPr/>
          </p:nvSpPr>
          <p:spPr>
            <a:xfrm>
              <a:off x="7674120" y="386064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肆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9" name="图片 63" descr=""/>
            <p:cNvPicPr/>
            <p:nvPr/>
          </p:nvPicPr>
          <p:blipFill>
            <a:blip r:embed="rId4"/>
            <a:stretch/>
          </p:blipFill>
          <p:spPr>
            <a:xfrm>
              <a:off x="7054920" y="3980160"/>
              <a:ext cx="66240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流程图: 联系 64"/>
            <p:cNvSpPr/>
            <p:nvPr/>
          </p:nvSpPr>
          <p:spPr>
            <a:xfrm>
              <a:off x="8287920" y="4038480"/>
              <a:ext cx="106200" cy="10620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1" name="组合 65"/>
          <p:cNvGrpSpPr/>
          <p:nvPr/>
        </p:nvGrpSpPr>
        <p:grpSpPr>
          <a:xfrm>
            <a:off x="9840960" y="0"/>
            <a:ext cx="971640" cy="1828800"/>
            <a:chOff x="9840960" y="0"/>
            <a:chExt cx="971640" cy="1828800"/>
          </a:xfrm>
        </p:grpSpPr>
        <p:sp>
          <p:nvSpPr>
            <p:cNvPr id="302" name="矩形 66"/>
            <p:cNvSpPr/>
            <p:nvPr/>
          </p:nvSpPr>
          <p:spPr>
            <a:xfrm>
              <a:off x="9840960" y="0"/>
              <a:ext cx="971640" cy="1828800"/>
            </a:xfrm>
            <a:prstGeom prst="rect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文本框 67"/>
            <p:cNvSpPr/>
            <p:nvPr/>
          </p:nvSpPr>
          <p:spPr>
            <a:xfrm>
              <a:off x="9840960" y="382320"/>
              <a:ext cx="720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目录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04" name="图片 25" descr=""/>
          <p:cNvPicPr/>
          <p:nvPr/>
        </p:nvPicPr>
        <p:blipFill>
          <a:blip r:embed="rId5"/>
          <a:stretch/>
        </p:blipFill>
        <p:spPr>
          <a:xfrm>
            <a:off x="-201600" y="3446640"/>
            <a:ext cx="5859360" cy="341136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26"/>
          <p:cNvSpPr/>
          <p:nvPr/>
        </p:nvSpPr>
        <p:spPr>
          <a:xfrm>
            <a:off x="4262400" y="6143760"/>
            <a:ext cx="90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图片 1" descr=""/>
          <p:cNvPicPr/>
          <p:nvPr/>
        </p:nvPicPr>
        <p:blipFill>
          <a:blip r:embed="rId1"/>
          <a:stretch/>
        </p:blipFill>
        <p:spPr>
          <a:xfrm>
            <a:off x="746280" y="1976400"/>
            <a:ext cx="4851360" cy="3857760"/>
          </a:xfrm>
          <a:prstGeom prst="rect">
            <a:avLst/>
          </a:prstGeom>
          <a:ln w="0">
            <a:noFill/>
          </a:ln>
        </p:spPr>
      </p:pic>
      <p:sp>
        <p:nvSpPr>
          <p:cNvPr id="307" name="矩形 2"/>
          <p:cNvSpPr/>
          <p:nvPr/>
        </p:nvSpPr>
        <p:spPr>
          <a:xfrm>
            <a:off x="6197760" y="3624120"/>
            <a:ext cx="489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8" name="组合 3"/>
          <p:cNvGrpSpPr/>
          <p:nvPr/>
        </p:nvGrpSpPr>
        <p:grpSpPr>
          <a:xfrm>
            <a:off x="6197760" y="2556000"/>
            <a:ext cx="3789360" cy="954000"/>
            <a:chOff x="6197760" y="2556000"/>
            <a:chExt cx="3789360" cy="954000"/>
          </a:xfrm>
        </p:grpSpPr>
        <p:pic>
          <p:nvPicPr>
            <p:cNvPr id="309" name="图片 4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6197760" y="2556000"/>
              <a:ext cx="378936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文本框 5"/>
            <p:cNvSpPr/>
            <p:nvPr/>
          </p:nvSpPr>
          <p:spPr>
            <a:xfrm>
              <a:off x="6582240" y="27360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1" name="Text Box 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图片 1" descr=""/>
          <p:cNvPicPr/>
          <p:nvPr/>
        </p:nvPicPr>
        <p:blipFill>
          <a:blip r:embed="rId1"/>
          <a:stretch/>
        </p:blipFill>
        <p:spPr>
          <a:xfrm>
            <a:off x="0" y="2405160"/>
            <a:ext cx="12192120" cy="4906800"/>
          </a:xfrm>
          <a:prstGeom prst="rect">
            <a:avLst/>
          </a:prstGeom>
          <a:ln w="0">
            <a:noFill/>
          </a:ln>
        </p:spPr>
      </p:pic>
      <p:sp>
        <p:nvSpPr>
          <p:cNvPr id="313" name="矩形 2"/>
          <p:cNvSpPr/>
          <p:nvPr/>
        </p:nvSpPr>
        <p:spPr>
          <a:xfrm>
            <a:off x="2475000" y="2030400"/>
            <a:ext cx="724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4" name="组合 3"/>
          <p:cNvGrpSpPr/>
          <p:nvPr/>
        </p:nvGrpSpPr>
        <p:grpSpPr>
          <a:xfrm>
            <a:off x="4549680" y="888840"/>
            <a:ext cx="3789360" cy="954360"/>
            <a:chOff x="4549680" y="888840"/>
            <a:chExt cx="3789360" cy="954360"/>
          </a:xfrm>
        </p:grpSpPr>
        <p:pic>
          <p:nvPicPr>
            <p:cNvPr id="315" name="图片 4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4549680" y="888840"/>
              <a:ext cx="3789360" cy="9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文本框 5"/>
            <p:cNvSpPr/>
            <p:nvPr/>
          </p:nvSpPr>
          <p:spPr>
            <a:xfrm>
              <a:off x="4934160" y="106884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7" name="Text Box 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AutoShape 2"/>
          <p:cNvSpPr/>
          <p:nvPr/>
        </p:nvSpPr>
        <p:spPr>
          <a:xfrm>
            <a:off x="4886280" y="2376360"/>
            <a:ext cx="2374920" cy="2374920"/>
          </a:xfrm>
          <a:prstGeom prst="diamond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3"/>
          <p:cNvSpPr/>
          <p:nvPr/>
        </p:nvSpPr>
        <p:spPr>
          <a:xfrm>
            <a:off x="4341960" y="1790640"/>
            <a:ext cx="3431880" cy="34545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16"/>
          <p:cNvSpPr/>
          <p:nvPr/>
        </p:nvSpPr>
        <p:spPr>
          <a:xfrm rot="10800000">
            <a:off x="5813280" y="5013360"/>
            <a:ext cx="51624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17"/>
          <p:cNvSpPr/>
          <p:nvPr/>
        </p:nvSpPr>
        <p:spPr>
          <a:xfrm rot="10800000">
            <a:off x="4559040" y="4479840"/>
            <a:ext cx="51588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18"/>
          <p:cNvSpPr/>
          <p:nvPr/>
        </p:nvSpPr>
        <p:spPr>
          <a:xfrm rot="10800000">
            <a:off x="6972120" y="4498920"/>
            <a:ext cx="51588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19"/>
          <p:cNvSpPr/>
          <p:nvPr/>
        </p:nvSpPr>
        <p:spPr>
          <a:xfrm>
            <a:off x="5915160" y="5124600"/>
            <a:ext cx="311040" cy="258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09" y="14020"/>
                </a:moveTo>
                <a:cubicBezTo>
                  <a:pt x="20951" y="14020"/>
                  <a:pt x="21162" y="14126"/>
                  <a:pt x="21336" y="14334"/>
                </a:cubicBezTo>
                <a:cubicBezTo>
                  <a:pt x="21512" y="14549"/>
                  <a:pt x="21600" y="14810"/>
                  <a:pt x="21600" y="15116"/>
                </a:cubicBezTo>
                <a:lnTo>
                  <a:pt x="21600" y="20504"/>
                </a:lnTo>
                <a:cubicBezTo>
                  <a:pt x="21600" y="20816"/>
                  <a:pt x="21512" y="21071"/>
                  <a:pt x="21336" y="21286"/>
                </a:cubicBezTo>
                <a:cubicBezTo>
                  <a:pt x="21162" y="21494"/>
                  <a:pt x="20951" y="21600"/>
                  <a:pt x="20709" y="21600"/>
                </a:cubicBezTo>
                <a:lnTo>
                  <a:pt x="16198" y="21600"/>
                </a:lnTo>
                <a:cubicBezTo>
                  <a:pt x="15940" y="21600"/>
                  <a:pt x="15730" y="21494"/>
                  <a:pt x="15564" y="21286"/>
                </a:cubicBezTo>
                <a:cubicBezTo>
                  <a:pt x="15400" y="21071"/>
                  <a:pt x="15316" y="20816"/>
                  <a:pt x="15316" y="20504"/>
                </a:cubicBezTo>
                <a:lnTo>
                  <a:pt x="15316" y="15116"/>
                </a:lnTo>
                <a:cubicBezTo>
                  <a:pt x="15316" y="14810"/>
                  <a:pt x="15400" y="14549"/>
                  <a:pt x="15571" y="14334"/>
                </a:cubicBezTo>
                <a:cubicBezTo>
                  <a:pt x="15737" y="14126"/>
                  <a:pt x="15945" y="14020"/>
                  <a:pt x="16198" y="14020"/>
                </a:cubicBezTo>
                <a:lnTo>
                  <a:pt x="17789" y="14020"/>
                </a:lnTo>
                <a:lnTo>
                  <a:pt x="17789" y="11869"/>
                </a:lnTo>
                <a:cubicBezTo>
                  <a:pt x="17789" y="11699"/>
                  <a:pt x="17708" y="11611"/>
                  <a:pt x="17544" y="11602"/>
                </a:cubicBezTo>
                <a:lnTo>
                  <a:pt x="11473" y="11602"/>
                </a:lnTo>
                <a:lnTo>
                  <a:pt x="11473" y="14020"/>
                </a:lnTo>
                <a:lnTo>
                  <a:pt x="13054" y="14020"/>
                </a:lnTo>
                <a:cubicBezTo>
                  <a:pt x="13297" y="14020"/>
                  <a:pt x="13507" y="14126"/>
                  <a:pt x="13681" y="14334"/>
                </a:cubicBezTo>
                <a:cubicBezTo>
                  <a:pt x="13857" y="14549"/>
                  <a:pt x="13945" y="14810"/>
                  <a:pt x="13945" y="15116"/>
                </a:cubicBezTo>
                <a:lnTo>
                  <a:pt x="13945" y="20504"/>
                </a:lnTo>
                <a:cubicBezTo>
                  <a:pt x="13945" y="20816"/>
                  <a:pt x="13857" y="21071"/>
                  <a:pt x="13681" y="21286"/>
                </a:cubicBezTo>
                <a:cubicBezTo>
                  <a:pt x="13507" y="21494"/>
                  <a:pt x="13297" y="21600"/>
                  <a:pt x="13054" y="21600"/>
                </a:cubicBezTo>
                <a:lnTo>
                  <a:pt x="8543" y="21600"/>
                </a:lnTo>
                <a:cubicBezTo>
                  <a:pt x="8298" y="21600"/>
                  <a:pt x="8090" y="21494"/>
                  <a:pt x="7914" y="21286"/>
                </a:cubicBezTo>
                <a:cubicBezTo>
                  <a:pt x="7740" y="21071"/>
                  <a:pt x="7652" y="20816"/>
                  <a:pt x="7652" y="20504"/>
                </a:cubicBezTo>
                <a:lnTo>
                  <a:pt x="7652" y="15116"/>
                </a:lnTo>
                <a:cubicBezTo>
                  <a:pt x="7652" y="14810"/>
                  <a:pt x="7740" y="14549"/>
                  <a:pt x="7914" y="14334"/>
                </a:cubicBezTo>
                <a:cubicBezTo>
                  <a:pt x="8090" y="14126"/>
                  <a:pt x="8298" y="14020"/>
                  <a:pt x="8543" y="14020"/>
                </a:cubicBezTo>
                <a:lnTo>
                  <a:pt x="10124" y="14020"/>
                </a:lnTo>
                <a:lnTo>
                  <a:pt x="10124" y="11602"/>
                </a:lnTo>
                <a:lnTo>
                  <a:pt x="4056" y="11602"/>
                </a:lnTo>
                <a:cubicBezTo>
                  <a:pt x="3902" y="11602"/>
                  <a:pt x="3821" y="11690"/>
                  <a:pt x="3821" y="11869"/>
                </a:cubicBezTo>
                <a:lnTo>
                  <a:pt x="3821" y="14020"/>
                </a:lnTo>
                <a:lnTo>
                  <a:pt x="5402" y="14020"/>
                </a:lnTo>
                <a:cubicBezTo>
                  <a:pt x="5662" y="14020"/>
                  <a:pt x="5875" y="14126"/>
                  <a:pt x="6054" y="14334"/>
                </a:cubicBezTo>
                <a:cubicBezTo>
                  <a:pt x="6230" y="14549"/>
                  <a:pt x="6316" y="14810"/>
                  <a:pt x="6316" y="15116"/>
                </a:cubicBezTo>
                <a:lnTo>
                  <a:pt x="6316" y="20504"/>
                </a:lnTo>
                <a:cubicBezTo>
                  <a:pt x="6316" y="20816"/>
                  <a:pt x="6230" y="21071"/>
                  <a:pt x="6054" y="21286"/>
                </a:cubicBezTo>
                <a:cubicBezTo>
                  <a:pt x="5877" y="21494"/>
                  <a:pt x="5664" y="21600"/>
                  <a:pt x="5402" y="21600"/>
                </a:cubicBezTo>
                <a:lnTo>
                  <a:pt x="913" y="21600"/>
                </a:lnTo>
                <a:cubicBezTo>
                  <a:pt x="658" y="21600"/>
                  <a:pt x="441" y="21494"/>
                  <a:pt x="262" y="21286"/>
                </a:cubicBezTo>
                <a:cubicBezTo>
                  <a:pt x="88" y="21071"/>
                  <a:pt x="0" y="20816"/>
                  <a:pt x="0" y="20504"/>
                </a:cubicBezTo>
                <a:lnTo>
                  <a:pt x="0" y="15116"/>
                </a:lnTo>
                <a:cubicBezTo>
                  <a:pt x="0" y="14810"/>
                  <a:pt x="88" y="14549"/>
                  <a:pt x="262" y="14334"/>
                </a:cubicBezTo>
                <a:cubicBezTo>
                  <a:pt x="438" y="14126"/>
                  <a:pt x="656" y="14020"/>
                  <a:pt x="913" y="14020"/>
                </a:cubicBezTo>
                <a:lnTo>
                  <a:pt x="2472" y="14020"/>
                </a:lnTo>
                <a:lnTo>
                  <a:pt x="2472" y="11869"/>
                </a:lnTo>
                <a:cubicBezTo>
                  <a:pt x="2472" y="11352"/>
                  <a:pt x="2629" y="10912"/>
                  <a:pt x="2942" y="10544"/>
                </a:cubicBezTo>
                <a:cubicBezTo>
                  <a:pt x="3253" y="10180"/>
                  <a:pt x="3623" y="9998"/>
                  <a:pt x="4054" y="9998"/>
                </a:cubicBezTo>
                <a:lnTo>
                  <a:pt x="10122" y="9998"/>
                </a:lnTo>
                <a:lnTo>
                  <a:pt x="10122" y="7551"/>
                </a:lnTo>
                <a:lnTo>
                  <a:pt x="8541" y="7551"/>
                </a:lnTo>
                <a:cubicBezTo>
                  <a:pt x="8296" y="7551"/>
                  <a:pt x="8088" y="7451"/>
                  <a:pt x="7912" y="7248"/>
                </a:cubicBezTo>
                <a:cubicBezTo>
                  <a:pt x="7738" y="7045"/>
                  <a:pt x="7650" y="6790"/>
                  <a:pt x="7650" y="6484"/>
                </a:cubicBezTo>
                <a:lnTo>
                  <a:pt x="7650" y="1066"/>
                </a:lnTo>
                <a:cubicBezTo>
                  <a:pt x="7650" y="776"/>
                  <a:pt x="7738" y="523"/>
                  <a:pt x="7912" y="314"/>
                </a:cubicBezTo>
                <a:cubicBezTo>
                  <a:pt x="8088" y="103"/>
                  <a:pt x="8296" y="0"/>
                  <a:pt x="8541" y="0"/>
                </a:cubicBezTo>
                <a:lnTo>
                  <a:pt x="13052" y="0"/>
                </a:lnTo>
                <a:cubicBezTo>
                  <a:pt x="13294" y="0"/>
                  <a:pt x="13505" y="103"/>
                  <a:pt x="13679" y="314"/>
                </a:cubicBezTo>
                <a:cubicBezTo>
                  <a:pt x="13855" y="523"/>
                  <a:pt x="13943" y="776"/>
                  <a:pt x="13943" y="1066"/>
                </a:cubicBezTo>
                <a:lnTo>
                  <a:pt x="13943" y="6484"/>
                </a:lnTo>
                <a:cubicBezTo>
                  <a:pt x="13943" y="6790"/>
                  <a:pt x="13855" y="7045"/>
                  <a:pt x="13679" y="7248"/>
                </a:cubicBezTo>
                <a:cubicBezTo>
                  <a:pt x="13505" y="7451"/>
                  <a:pt x="13294" y="7551"/>
                  <a:pt x="13052" y="7551"/>
                </a:cubicBezTo>
                <a:lnTo>
                  <a:pt x="11471" y="7551"/>
                </a:lnTo>
                <a:lnTo>
                  <a:pt x="11471" y="9998"/>
                </a:lnTo>
                <a:lnTo>
                  <a:pt x="17541" y="9998"/>
                </a:lnTo>
                <a:cubicBezTo>
                  <a:pt x="17970" y="9998"/>
                  <a:pt x="18339" y="10177"/>
                  <a:pt x="18653" y="10539"/>
                </a:cubicBezTo>
                <a:cubicBezTo>
                  <a:pt x="18966" y="10900"/>
                  <a:pt x="19123" y="11344"/>
                  <a:pt x="19123" y="11869"/>
                </a:cubicBezTo>
                <a:lnTo>
                  <a:pt x="19123" y="14020"/>
                </a:lnTo>
                <a:lnTo>
                  <a:pt x="20709" y="14020"/>
                </a:lnTo>
                <a:close/>
                <a:moveTo>
                  <a:pt x="20709" y="1402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20"/>
          <p:cNvSpPr/>
          <p:nvPr/>
        </p:nvSpPr>
        <p:spPr>
          <a:xfrm>
            <a:off x="4660920" y="4599000"/>
            <a:ext cx="309600" cy="258840"/>
          </a:xfrm>
          <a:custGeom>
            <a:avLst/>
            <a:gdLst/>
            <a:ahLst/>
            <a:rect l="l" t="t" r="r" b="b"/>
            <a:pathLst>
              <a:path w="21600" h="21579">
                <a:moveTo>
                  <a:pt x="21600" y="9391"/>
                </a:moveTo>
                <a:cubicBezTo>
                  <a:pt x="21600" y="9887"/>
                  <a:pt x="21473" y="10321"/>
                  <a:pt x="21218" y="10697"/>
                </a:cubicBezTo>
                <a:cubicBezTo>
                  <a:pt x="20963" y="11073"/>
                  <a:pt x="20648" y="11313"/>
                  <a:pt x="20263" y="11428"/>
                </a:cubicBezTo>
                <a:lnTo>
                  <a:pt x="20263" y="16611"/>
                </a:lnTo>
                <a:cubicBezTo>
                  <a:pt x="20263" y="17201"/>
                  <a:pt x="20087" y="17708"/>
                  <a:pt x="19730" y="18128"/>
                </a:cubicBezTo>
                <a:cubicBezTo>
                  <a:pt x="19375" y="18551"/>
                  <a:pt x="18951" y="18759"/>
                  <a:pt x="18459" y="18759"/>
                </a:cubicBezTo>
                <a:cubicBezTo>
                  <a:pt x="17928" y="18122"/>
                  <a:pt x="17286" y="17506"/>
                  <a:pt x="16537" y="16904"/>
                </a:cubicBezTo>
                <a:cubicBezTo>
                  <a:pt x="15786" y="16305"/>
                  <a:pt x="14980" y="15757"/>
                  <a:pt x="14116" y="15255"/>
                </a:cubicBezTo>
                <a:cubicBezTo>
                  <a:pt x="13254" y="14756"/>
                  <a:pt x="12363" y="14325"/>
                  <a:pt x="11450" y="13969"/>
                </a:cubicBezTo>
                <a:cubicBezTo>
                  <a:pt x="10537" y="13614"/>
                  <a:pt x="9648" y="13380"/>
                  <a:pt x="8789" y="13268"/>
                </a:cubicBezTo>
                <a:cubicBezTo>
                  <a:pt x="8453" y="13380"/>
                  <a:pt x="8179" y="13564"/>
                  <a:pt x="7969" y="13829"/>
                </a:cubicBezTo>
                <a:cubicBezTo>
                  <a:pt x="7758" y="14093"/>
                  <a:pt x="7614" y="14386"/>
                  <a:pt x="7535" y="14706"/>
                </a:cubicBezTo>
                <a:cubicBezTo>
                  <a:pt x="7457" y="15029"/>
                  <a:pt x="7450" y="15361"/>
                  <a:pt x="7511" y="15698"/>
                </a:cubicBezTo>
                <a:cubicBezTo>
                  <a:pt x="7575" y="16036"/>
                  <a:pt x="7719" y="16341"/>
                  <a:pt x="7947" y="16611"/>
                </a:cubicBezTo>
                <a:cubicBezTo>
                  <a:pt x="7751" y="16992"/>
                  <a:pt x="7660" y="17347"/>
                  <a:pt x="7677" y="17673"/>
                </a:cubicBezTo>
                <a:cubicBezTo>
                  <a:pt x="7692" y="17993"/>
                  <a:pt x="7773" y="18307"/>
                  <a:pt x="7917" y="18606"/>
                </a:cubicBezTo>
                <a:cubicBezTo>
                  <a:pt x="8059" y="18909"/>
                  <a:pt x="8255" y="19193"/>
                  <a:pt x="8498" y="19469"/>
                </a:cubicBezTo>
                <a:cubicBezTo>
                  <a:pt x="8737" y="19745"/>
                  <a:pt x="8997" y="20021"/>
                  <a:pt x="9271" y="20291"/>
                </a:cubicBezTo>
                <a:cubicBezTo>
                  <a:pt x="9114" y="20696"/>
                  <a:pt x="8843" y="21001"/>
                  <a:pt x="8456" y="21213"/>
                </a:cubicBezTo>
                <a:cubicBezTo>
                  <a:pt x="8069" y="21424"/>
                  <a:pt x="7655" y="21541"/>
                  <a:pt x="7212" y="21571"/>
                </a:cubicBezTo>
                <a:cubicBezTo>
                  <a:pt x="6772" y="21600"/>
                  <a:pt x="6341" y="21550"/>
                  <a:pt x="5917" y="21424"/>
                </a:cubicBezTo>
                <a:cubicBezTo>
                  <a:pt x="5496" y="21295"/>
                  <a:pt x="5163" y="21092"/>
                  <a:pt x="4923" y="20811"/>
                </a:cubicBezTo>
                <a:cubicBezTo>
                  <a:pt x="4781" y="20241"/>
                  <a:pt x="4625" y="19657"/>
                  <a:pt x="4453" y="19056"/>
                </a:cubicBezTo>
                <a:cubicBezTo>
                  <a:pt x="4282" y="18454"/>
                  <a:pt x="4140" y="17843"/>
                  <a:pt x="4032" y="17224"/>
                </a:cubicBezTo>
                <a:cubicBezTo>
                  <a:pt x="3922" y="16599"/>
                  <a:pt x="3868" y="15953"/>
                  <a:pt x="3868" y="15281"/>
                </a:cubicBezTo>
                <a:cubicBezTo>
                  <a:pt x="3868" y="14615"/>
                  <a:pt x="3961" y="13905"/>
                  <a:pt x="4150" y="13154"/>
                </a:cubicBezTo>
                <a:lnTo>
                  <a:pt x="1804" y="13154"/>
                </a:lnTo>
                <a:cubicBezTo>
                  <a:pt x="1312" y="13154"/>
                  <a:pt x="889" y="12945"/>
                  <a:pt x="534" y="12523"/>
                </a:cubicBezTo>
                <a:cubicBezTo>
                  <a:pt x="176" y="12100"/>
                  <a:pt x="0" y="11592"/>
                  <a:pt x="0" y="10991"/>
                </a:cubicBezTo>
                <a:lnTo>
                  <a:pt x="0" y="7774"/>
                </a:lnTo>
                <a:cubicBezTo>
                  <a:pt x="0" y="7184"/>
                  <a:pt x="176" y="6677"/>
                  <a:pt x="526" y="6245"/>
                </a:cubicBezTo>
                <a:cubicBezTo>
                  <a:pt x="879" y="5820"/>
                  <a:pt x="1305" y="5605"/>
                  <a:pt x="1804" y="5605"/>
                </a:cubicBezTo>
                <a:lnTo>
                  <a:pt x="7653" y="5605"/>
                </a:lnTo>
                <a:cubicBezTo>
                  <a:pt x="8551" y="5605"/>
                  <a:pt x="9509" y="5450"/>
                  <a:pt x="10525" y="5136"/>
                </a:cubicBezTo>
                <a:cubicBezTo>
                  <a:pt x="11541" y="4822"/>
                  <a:pt x="12537" y="4399"/>
                  <a:pt x="13511" y="3874"/>
                </a:cubicBezTo>
                <a:cubicBezTo>
                  <a:pt x="14488" y="3343"/>
                  <a:pt x="15409" y="2744"/>
                  <a:pt x="16273" y="2072"/>
                </a:cubicBezTo>
                <a:cubicBezTo>
                  <a:pt x="17135" y="1406"/>
                  <a:pt x="17864" y="713"/>
                  <a:pt x="18459" y="0"/>
                </a:cubicBezTo>
                <a:cubicBezTo>
                  <a:pt x="18951" y="0"/>
                  <a:pt x="19375" y="214"/>
                  <a:pt x="19730" y="634"/>
                </a:cubicBezTo>
                <a:cubicBezTo>
                  <a:pt x="20087" y="1057"/>
                  <a:pt x="20263" y="1567"/>
                  <a:pt x="20263" y="2166"/>
                </a:cubicBezTo>
                <a:lnTo>
                  <a:pt x="20263" y="7334"/>
                </a:lnTo>
                <a:cubicBezTo>
                  <a:pt x="20648" y="7446"/>
                  <a:pt x="20963" y="7692"/>
                  <a:pt x="21218" y="8071"/>
                </a:cubicBezTo>
                <a:cubicBezTo>
                  <a:pt x="21473" y="8455"/>
                  <a:pt x="21600" y="8895"/>
                  <a:pt x="21600" y="9391"/>
                </a:cubicBezTo>
                <a:moveTo>
                  <a:pt x="18459" y="2855"/>
                </a:moveTo>
                <a:cubicBezTo>
                  <a:pt x="17864" y="3407"/>
                  <a:pt x="17215" y="3941"/>
                  <a:pt x="16513" y="4452"/>
                </a:cubicBezTo>
                <a:cubicBezTo>
                  <a:pt x="15810" y="4963"/>
                  <a:pt x="15066" y="5423"/>
                  <a:pt x="14280" y="5834"/>
                </a:cubicBezTo>
                <a:cubicBezTo>
                  <a:pt x="13494" y="6245"/>
                  <a:pt x="12694" y="6609"/>
                  <a:pt x="11878" y="6923"/>
                </a:cubicBezTo>
                <a:cubicBezTo>
                  <a:pt x="11061" y="7237"/>
                  <a:pt x="10255" y="7463"/>
                  <a:pt x="9457" y="7604"/>
                </a:cubicBezTo>
                <a:lnTo>
                  <a:pt x="9457" y="11173"/>
                </a:lnTo>
                <a:cubicBezTo>
                  <a:pt x="10255" y="11325"/>
                  <a:pt x="11061" y="11554"/>
                  <a:pt x="11878" y="11862"/>
                </a:cubicBezTo>
                <a:cubicBezTo>
                  <a:pt x="12694" y="12170"/>
                  <a:pt x="13494" y="12537"/>
                  <a:pt x="14280" y="12957"/>
                </a:cubicBezTo>
                <a:cubicBezTo>
                  <a:pt x="15066" y="13379"/>
                  <a:pt x="15813" y="13843"/>
                  <a:pt x="16525" y="14348"/>
                </a:cubicBezTo>
                <a:cubicBezTo>
                  <a:pt x="17235" y="14856"/>
                  <a:pt x="17881" y="15381"/>
                  <a:pt x="18459" y="15921"/>
                </a:cubicBezTo>
                <a:lnTo>
                  <a:pt x="18459" y="2855"/>
                </a:lnTo>
                <a:close/>
                <a:moveTo>
                  <a:pt x="18459" y="2855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21"/>
          <p:cNvSpPr/>
          <p:nvPr/>
        </p:nvSpPr>
        <p:spPr>
          <a:xfrm>
            <a:off x="7110360" y="4633920"/>
            <a:ext cx="260280" cy="258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88" y="2580"/>
                </a:moveTo>
                <a:cubicBezTo>
                  <a:pt x="20420" y="2580"/>
                  <a:pt x="20794" y="2736"/>
                  <a:pt x="21116" y="3053"/>
                </a:cubicBezTo>
                <a:cubicBezTo>
                  <a:pt x="21439" y="3372"/>
                  <a:pt x="21600" y="3744"/>
                  <a:pt x="21600" y="4176"/>
                </a:cubicBezTo>
                <a:lnTo>
                  <a:pt x="21600" y="19987"/>
                </a:lnTo>
                <a:cubicBezTo>
                  <a:pt x="21600" y="20419"/>
                  <a:pt x="21439" y="20797"/>
                  <a:pt x="21116" y="21116"/>
                </a:cubicBezTo>
                <a:cubicBezTo>
                  <a:pt x="20794" y="21439"/>
                  <a:pt x="20420" y="21600"/>
                  <a:pt x="19988" y="21600"/>
                </a:cubicBezTo>
                <a:lnTo>
                  <a:pt x="1612" y="21600"/>
                </a:lnTo>
                <a:cubicBezTo>
                  <a:pt x="1180" y="21600"/>
                  <a:pt x="806" y="21439"/>
                  <a:pt x="484" y="21116"/>
                </a:cubicBezTo>
                <a:cubicBezTo>
                  <a:pt x="161" y="20797"/>
                  <a:pt x="0" y="20419"/>
                  <a:pt x="0" y="19987"/>
                </a:cubicBezTo>
                <a:lnTo>
                  <a:pt x="0" y="4176"/>
                </a:lnTo>
                <a:cubicBezTo>
                  <a:pt x="0" y="3744"/>
                  <a:pt x="161" y="3372"/>
                  <a:pt x="484" y="3053"/>
                </a:cubicBezTo>
                <a:cubicBezTo>
                  <a:pt x="806" y="2736"/>
                  <a:pt x="1180" y="2580"/>
                  <a:pt x="1612" y="2580"/>
                </a:cubicBezTo>
                <a:lnTo>
                  <a:pt x="2151" y="2580"/>
                </a:lnTo>
                <a:lnTo>
                  <a:pt x="2151" y="2402"/>
                </a:lnTo>
                <a:cubicBezTo>
                  <a:pt x="2151" y="2117"/>
                  <a:pt x="2197" y="1829"/>
                  <a:pt x="2289" y="1541"/>
                </a:cubicBezTo>
                <a:cubicBezTo>
                  <a:pt x="2381" y="1250"/>
                  <a:pt x="2531" y="991"/>
                  <a:pt x="2738" y="766"/>
                </a:cubicBezTo>
                <a:cubicBezTo>
                  <a:pt x="2943" y="542"/>
                  <a:pt x="3216" y="360"/>
                  <a:pt x="3556" y="213"/>
                </a:cubicBezTo>
                <a:cubicBezTo>
                  <a:pt x="3896" y="75"/>
                  <a:pt x="4310" y="0"/>
                  <a:pt x="4797" y="0"/>
                </a:cubicBezTo>
                <a:cubicBezTo>
                  <a:pt x="5283" y="0"/>
                  <a:pt x="5698" y="75"/>
                  <a:pt x="6038" y="213"/>
                </a:cubicBezTo>
                <a:cubicBezTo>
                  <a:pt x="6378" y="360"/>
                  <a:pt x="6651" y="542"/>
                  <a:pt x="6858" y="766"/>
                </a:cubicBezTo>
                <a:cubicBezTo>
                  <a:pt x="7063" y="991"/>
                  <a:pt x="7215" y="1256"/>
                  <a:pt x="7313" y="1546"/>
                </a:cubicBezTo>
                <a:cubicBezTo>
                  <a:pt x="7411" y="1840"/>
                  <a:pt x="7457" y="2125"/>
                  <a:pt x="7457" y="2402"/>
                </a:cubicBezTo>
                <a:lnTo>
                  <a:pt x="7457" y="2580"/>
                </a:lnTo>
                <a:lnTo>
                  <a:pt x="8134" y="2580"/>
                </a:lnTo>
                <a:lnTo>
                  <a:pt x="8134" y="2402"/>
                </a:lnTo>
                <a:cubicBezTo>
                  <a:pt x="8134" y="2117"/>
                  <a:pt x="8180" y="1829"/>
                  <a:pt x="8269" y="1541"/>
                </a:cubicBezTo>
                <a:cubicBezTo>
                  <a:pt x="8364" y="1250"/>
                  <a:pt x="8511" y="991"/>
                  <a:pt x="8718" y="766"/>
                </a:cubicBezTo>
                <a:cubicBezTo>
                  <a:pt x="8926" y="541"/>
                  <a:pt x="9199" y="360"/>
                  <a:pt x="9539" y="213"/>
                </a:cubicBezTo>
                <a:cubicBezTo>
                  <a:pt x="9879" y="75"/>
                  <a:pt x="10293" y="0"/>
                  <a:pt x="10780" y="0"/>
                </a:cubicBezTo>
                <a:cubicBezTo>
                  <a:pt x="11266" y="0"/>
                  <a:pt x="11678" y="75"/>
                  <a:pt x="12021" y="213"/>
                </a:cubicBezTo>
                <a:cubicBezTo>
                  <a:pt x="12361" y="360"/>
                  <a:pt x="12637" y="542"/>
                  <a:pt x="12853" y="766"/>
                </a:cubicBezTo>
                <a:cubicBezTo>
                  <a:pt x="13069" y="991"/>
                  <a:pt x="13227" y="1256"/>
                  <a:pt x="13322" y="1546"/>
                </a:cubicBezTo>
                <a:cubicBezTo>
                  <a:pt x="13417" y="1840"/>
                  <a:pt x="13469" y="2125"/>
                  <a:pt x="13469" y="2402"/>
                </a:cubicBezTo>
                <a:lnTo>
                  <a:pt x="13469" y="2580"/>
                </a:lnTo>
                <a:lnTo>
                  <a:pt x="14143" y="2580"/>
                </a:lnTo>
                <a:lnTo>
                  <a:pt x="14143" y="2402"/>
                </a:lnTo>
                <a:cubicBezTo>
                  <a:pt x="14143" y="2117"/>
                  <a:pt x="14192" y="1829"/>
                  <a:pt x="14287" y="1541"/>
                </a:cubicBezTo>
                <a:cubicBezTo>
                  <a:pt x="14385" y="1250"/>
                  <a:pt x="14534" y="991"/>
                  <a:pt x="14742" y="766"/>
                </a:cubicBezTo>
                <a:cubicBezTo>
                  <a:pt x="14949" y="541"/>
                  <a:pt x="15220" y="360"/>
                  <a:pt x="15556" y="213"/>
                </a:cubicBezTo>
                <a:cubicBezTo>
                  <a:pt x="15890" y="75"/>
                  <a:pt x="16305" y="0"/>
                  <a:pt x="16803" y="0"/>
                </a:cubicBezTo>
                <a:cubicBezTo>
                  <a:pt x="17290" y="0"/>
                  <a:pt x="17704" y="75"/>
                  <a:pt x="18044" y="213"/>
                </a:cubicBezTo>
                <a:cubicBezTo>
                  <a:pt x="18384" y="360"/>
                  <a:pt x="18657" y="541"/>
                  <a:pt x="18865" y="766"/>
                </a:cubicBezTo>
                <a:cubicBezTo>
                  <a:pt x="19069" y="991"/>
                  <a:pt x="19219" y="1256"/>
                  <a:pt x="19311" y="1546"/>
                </a:cubicBezTo>
                <a:cubicBezTo>
                  <a:pt x="19403" y="1840"/>
                  <a:pt x="19449" y="2125"/>
                  <a:pt x="19449" y="2402"/>
                </a:cubicBezTo>
                <a:lnTo>
                  <a:pt x="19449" y="2580"/>
                </a:lnTo>
                <a:lnTo>
                  <a:pt x="19988" y="2580"/>
                </a:lnTo>
                <a:close/>
                <a:moveTo>
                  <a:pt x="6067" y="7968"/>
                </a:moveTo>
                <a:lnTo>
                  <a:pt x="2180" y="7968"/>
                </a:lnTo>
                <a:lnTo>
                  <a:pt x="2180" y="11444"/>
                </a:lnTo>
                <a:lnTo>
                  <a:pt x="6067" y="11444"/>
                </a:lnTo>
                <a:lnTo>
                  <a:pt x="6067" y="7968"/>
                </a:lnTo>
                <a:close/>
                <a:moveTo>
                  <a:pt x="6067" y="11976"/>
                </a:moveTo>
                <a:lnTo>
                  <a:pt x="2180" y="11976"/>
                </a:lnTo>
                <a:lnTo>
                  <a:pt x="2180" y="15452"/>
                </a:lnTo>
                <a:lnTo>
                  <a:pt x="6067" y="15452"/>
                </a:lnTo>
                <a:lnTo>
                  <a:pt x="6067" y="11976"/>
                </a:lnTo>
                <a:close/>
                <a:moveTo>
                  <a:pt x="6067" y="15976"/>
                </a:moveTo>
                <a:lnTo>
                  <a:pt x="2180" y="15976"/>
                </a:lnTo>
                <a:lnTo>
                  <a:pt x="2180" y="19423"/>
                </a:lnTo>
                <a:lnTo>
                  <a:pt x="6067" y="19423"/>
                </a:lnTo>
                <a:lnTo>
                  <a:pt x="6067" y="15976"/>
                </a:lnTo>
                <a:close/>
                <a:moveTo>
                  <a:pt x="3755" y="5543"/>
                </a:moveTo>
                <a:cubicBezTo>
                  <a:pt x="3755" y="6068"/>
                  <a:pt x="4103" y="6324"/>
                  <a:pt x="4800" y="6324"/>
                </a:cubicBezTo>
                <a:cubicBezTo>
                  <a:pt x="5499" y="6324"/>
                  <a:pt x="5848" y="6068"/>
                  <a:pt x="5848" y="5543"/>
                </a:cubicBezTo>
                <a:lnTo>
                  <a:pt x="5848" y="2399"/>
                </a:lnTo>
                <a:cubicBezTo>
                  <a:pt x="5848" y="1878"/>
                  <a:pt x="5499" y="1613"/>
                  <a:pt x="4800" y="1613"/>
                </a:cubicBezTo>
                <a:cubicBezTo>
                  <a:pt x="4103" y="1613"/>
                  <a:pt x="3755" y="1878"/>
                  <a:pt x="3755" y="2399"/>
                </a:cubicBezTo>
                <a:lnTo>
                  <a:pt x="3755" y="5543"/>
                </a:lnTo>
                <a:close/>
                <a:moveTo>
                  <a:pt x="10535" y="7968"/>
                </a:moveTo>
                <a:lnTo>
                  <a:pt x="6608" y="7968"/>
                </a:lnTo>
                <a:lnTo>
                  <a:pt x="6608" y="11444"/>
                </a:lnTo>
                <a:lnTo>
                  <a:pt x="10535" y="11444"/>
                </a:lnTo>
                <a:lnTo>
                  <a:pt x="10535" y="7968"/>
                </a:lnTo>
                <a:close/>
                <a:moveTo>
                  <a:pt x="10535" y="11976"/>
                </a:moveTo>
                <a:lnTo>
                  <a:pt x="6608" y="11976"/>
                </a:lnTo>
                <a:lnTo>
                  <a:pt x="6608" y="15452"/>
                </a:lnTo>
                <a:lnTo>
                  <a:pt x="10535" y="15452"/>
                </a:lnTo>
                <a:lnTo>
                  <a:pt x="10535" y="11976"/>
                </a:lnTo>
                <a:close/>
                <a:moveTo>
                  <a:pt x="10535" y="15976"/>
                </a:moveTo>
                <a:lnTo>
                  <a:pt x="6608" y="15976"/>
                </a:lnTo>
                <a:lnTo>
                  <a:pt x="6608" y="19423"/>
                </a:lnTo>
                <a:lnTo>
                  <a:pt x="10535" y="19423"/>
                </a:lnTo>
                <a:lnTo>
                  <a:pt x="10535" y="15976"/>
                </a:lnTo>
                <a:close/>
                <a:moveTo>
                  <a:pt x="9775" y="5543"/>
                </a:moveTo>
                <a:cubicBezTo>
                  <a:pt x="9775" y="5826"/>
                  <a:pt x="9850" y="6027"/>
                  <a:pt x="9997" y="6145"/>
                </a:cubicBezTo>
                <a:cubicBezTo>
                  <a:pt x="10144" y="6269"/>
                  <a:pt x="10406" y="6324"/>
                  <a:pt x="10783" y="6324"/>
                </a:cubicBezTo>
                <a:cubicBezTo>
                  <a:pt x="11160" y="6324"/>
                  <a:pt x="11428" y="6263"/>
                  <a:pt x="11589" y="6140"/>
                </a:cubicBezTo>
                <a:cubicBezTo>
                  <a:pt x="11750" y="6016"/>
                  <a:pt x="11831" y="5820"/>
                  <a:pt x="11831" y="5544"/>
                </a:cubicBezTo>
                <a:lnTo>
                  <a:pt x="11831" y="2399"/>
                </a:lnTo>
                <a:cubicBezTo>
                  <a:pt x="11831" y="2128"/>
                  <a:pt x="11750" y="1933"/>
                  <a:pt x="11589" y="1803"/>
                </a:cubicBezTo>
                <a:cubicBezTo>
                  <a:pt x="11428" y="1673"/>
                  <a:pt x="11160" y="1613"/>
                  <a:pt x="10783" y="1613"/>
                </a:cubicBezTo>
                <a:cubicBezTo>
                  <a:pt x="10406" y="1613"/>
                  <a:pt x="10144" y="1679"/>
                  <a:pt x="9997" y="1814"/>
                </a:cubicBezTo>
                <a:cubicBezTo>
                  <a:pt x="9850" y="1944"/>
                  <a:pt x="9775" y="2140"/>
                  <a:pt x="9775" y="2399"/>
                </a:cubicBezTo>
                <a:lnTo>
                  <a:pt x="9775" y="5543"/>
                </a:lnTo>
                <a:close/>
                <a:moveTo>
                  <a:pt x="14986" y="7968"/>
                </a:moveTo>
                <a:lnTo>
                  <a:pt x="11074" y="7968"/>
                </a:lnTo>
                <a:lnTo>
                  <a:pt x="11074" y="11444"/>
                </a:lnTo>
                <a:lnTo>
                  <a:pt x="14986" y="11444"/>
                </a:lnTo>
                <a:lnTo>
                  <a:pt x="14986" y="7968"/>
                </a:lnTo>
                <a:close/>
                <a:moveTo>
                  <a:pt x="14986" y="11976"/>
                </a:moveTo>
                <a:lnTo>
                  <a:pt x="11074" y="11976"/>
                </a:lnTo>
                <a:lnTo>
                  <a:pt x="11074" y="15452"/>
                </a:lnTo>
                <a:lnTo>
                  <a:pt x="14986" y="15452"/>
                </a:lnTo>
                <a:lnTo>
                  <a:pt x="14986" y="11976"/>
                </a:lnTo>
                <a:close/>
                <a:moveTo>
                  <a:pt x="14986" y="15976"/>
                </a:moveTo>
                <a:lnTo>
                  <a:pt x="11074" y="15976"/>
                </a:lnTo>
                <a:lnTo>
                  <a:pt x="11074" y="19423"/>
                </a:lnTo>
                <a:lnTo>
                  <a:pt x="14986" y="19423"/>
                </a:lnTo>
                <a:lnTo>
                  <a:pt x="14986" y="15976"/>
                </a:lnTo>
                <a:close/>
                <a:moveTo>
                  <a:pt x="19423" y="7968"/>
                </a:moveTo>
                <a:lnTo>
                  <a:pt x="15522" y="7968"/>
                </a:lnTo>
                <a:lnTo>
                  <a:pt x="15522" y="11444"/>
                </a:lnTo>
                <a:lnTo>
                  <a:pt x="19423" y="11444"/>
                </a:lnTo>
                <a:lnTo>
                  <a:pt x="19423" y="7968"/>
                </a:lnTo>
                <a:close/>
                <a:moveTo>
                  <a:pt x="19423" y="11976"/>
                </a:moveTo>
                <a:lnTo>
                  <a:pt x="15522" y="11976"/>
                </a:lnTo>
                <a:lnTo>
                  <a:pt x="15522" y="15452"/>
                </a:lnTo>
                <a:lnTo>
                  <a:pt x="19423" y="15452"/>
                </a:lnTo>
                <a:lnTo>
                  <a:pt x="19423" y="11976"/>
                </a:lnTo>
                <a:close/>
                <a:moveTo>
                  <a:pt x="19423" y="15976"/>
                </a:moveTo>
                <a:lnTo>
                  <a:pt x="15522" y="15976"/>
                </a:lnTo>
                <a:lnTo>
                  <a:pt x="15522" y="19423"/>
                </a:lnTo>
                <a:lnTo>
                  <a:pt x="19423" y="19423"/>
                </a:lnTo>
                <a:lnTo>
                  <a:pt x="19423" y="15976"/>
                </a:lnTo>
                <a:close/>
                <a:moveTo>
                  <a:pt x="15758" y="5543"/>
                </a:moveTo>
                <a:cubicBezTo>
                  <a:pt x="15758" y="6068"/>
                  <a:pt x="16106" y="6324"/>
                  <a:pt x="16806" y="6324"/>
                </a:cubicBezTo>
                <a:cubicBezTo>
                  <a:pt x="17503" y="6324"/>
                  <a:pt x="17848" y="6068"/>
                  <a:pt x="17840" y="5543"/>
                </a:cubicBezTo>
                <a:lnTo>
                  <a:pt x="17840" y="2399"/>
                </a:lnTo>
                <a:cubicBezTo>
                  <a:pt x="17840" y="1878"/>
                  <a:pt x="17494" y="1613"/>
                  <a:pt x="16806" y="1613"/>
                </a:cubicBezTo>
                <a:cubicBezTo>
                  <a:pt x="16106" y="1613"/>
                  <a:pt x="15758" y="1878"/>
                  <a:pt x="15758" y="2399"/>
                </a:cubicBezTo>
                <a:lnTo>
                  <a:pt x="15758" y="5543"/>
                </a:lnTo>
                <a:close/>
                <a:moveTo>
                  <a:pt x="15758" y="5543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22"/>
          <p:cNvSpPr/>
          <p:nvPr/>
        </p:nvSpPr>
        <p:spPr>
          <a:xfrm>
            <a:off x="5788080" y="1593720"/>
            <a:ext cx="51588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23"/>
          <p:cNvSpPr/>
          <p:nvPr/>
        </p:nvSpPr>
        <p:spPr>
          <a:xfrm>
            <a:off x="7169040" y="2254320"/>
            <a:ext cx="51588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AutoShape 24"/>
          <p:cNvSpPr/>
          <p:nvPr/>
        </p:nvSpPr>
        <p:spPr>
          <a:xfrm>
            <a:off x="4071960" y="3419640"/>
            <a:ext cx="517680" cy="5205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25"/>
          <p:cNvSpPr/>
          <p:nvPr/>
        </p:nvSpPr>
        <p:spPr>
          <a:xfrm>
            <a:off x="7531200" y="3419640"/>
            <a:ext cx="515880" cy="5205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AutoShape 26"/>
          <p:cNvSpPr/>
          <p:nvPr/>
        </p:nvSpPr>
        <p:spPr>
          <a:xfrm>
            <a:off x="4502160" y="2127240"/>
            <a:ext cx="51588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27"/>
          <p:cNvSpPr/>
          <p:nvPr/>
        </p:nvSpPr>
        <p:spPr>
          <a:xfrm>
            <a:off x="5892840" y="1708200"/>
            <a:ext cx="309600" cy="258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09" y="14020"/>
                </a:moveTo>
                <a:cubicBezTo>
                  <a:pt x="20951" y="14020"/>
                  <a:pt x="21162" y="14126"/>
                  <a:pt x="21336" y="14334"/>
                </a:cubicBezTo>
                <a:cubicBezTo>
                  <a:pt x="21512" y="14549"/>
                  <a:pt x="21600" y="14810"/>
                  <a:pt x="21600" y="15116"/>
                </a:cubicBezTo>
                <a:lnTo>
                  <a:pt x="21600" y="20504"/>
                </a:lnTo>
                <a:cubicBezTo>
                  <a:pt x="21600" y="20816"/>
                  <a:pt x="21512" y="21071"/>
                  <a:pt x="21336" y="21286"/>
                </a:cubicBezTo>
                <a:cubicBezTo>
                  <a:pt x="21162" y="21494"/>
                  <a:pt x="20951" y="21600"/>
                  <a:pt x="20709" y="21600"/>
                </a:cubicBezTo>
                <a:lnTo>
                  <a:pt x="16198" y="21600"/>
                </a:lnTo>
                <a:cubicBezTo>
                  <a:pt x="15940" y="21600"/>
                  <a:pt x="15730" y="21494"/>
                  <a:pt x="15564" y="21286"/>
                </a:cubicBezTo>
                <a:cubicBezTo>
                  <a:pt x="15400" y="21071"/>
                  <a:pt x="15316" y="20816"/>
                  <a:pt x="15316" y="20504"/>
                </a:cubicBezTo>
                <a:lnTo>
                  <a:pt x="15316" y="15116"/>
                </a:lnTo>
                <a:cubicBezTo>
                  <a:pt x="15316" y="14810"/>
                  <a:pt x="15400" y="14549"/>
                  <a:pt x="15571" y="14334"/>
                </a:cubicBezTo>
                <a:cubicBezTo>
                  <a:pt x="15737" y="14126"/>
                  <a:pt x="15945" y="14020"/>
                  <a:pt x="16198" y="14020"/>
                </a:cubicBezTo>
                <a:lnTo>
                  <a:pt x="17789" y="14020"/>
                </a:lnTo>
                <a:lnTo>
                  <a:pt x="17789" y="11869"/>
                </a:lnTo>
                <a:cubicBezTo>
                  <a:pt x="17789" y="11699"/>
                  <a:pt x="17708" y="11611"/>
                  <a:pt x="17544" y="11602"/>
                </a:cubicBezTo>
                <a:lnTo>
                  <a:pt x="11473" y="11602"/>
                </a:lnTo>
                <a:lnTo>
                  <a:pt x="11473" y="14020"/>
                </a:lnTo>
                <a:lnTo>
                  <a:pt x="13054" y="14020"/>
                </a:lnTo>
                <a:cubicBezTo>
                  <a:pt x="13297" y="14020"/>
                  <a:pt x="13507" y="14126"/>
                  <a:pt x="13681" y="14334"/>
                </a:cubicBezTo>
                <a:cubicBezTo>
                  <a:pt x="13857" y="14549"/>
                  <a:pt x="13945" y="14810"/>
                  <a:pt x="13945" y="15116"/>
                </a:cubicBezTo>
                <a:lnTo>
                  <a:pt x="13945" y="20504"/>
                </a:lnTo>
                <a:cubicBezTo>
                  <a:pt x="13945" y="20816"/>
                  <a:pt x="13857" y="21071"/>
                  <a:pt x="13681" y="21286"/>
                </a:cubicBezTo>
                <a:cubicBezTo>
                  <a:pt x="13507" y="21494"/>
                  <a:pt x="13297" y="21600"/>
                  <a:pt x="13054" y="21600"/>
                </a:cubicBezTo>
                <a:lnTo>
                  <a:pt x="8543" y="21600"/>
                </a:lnTo>
                <a:cubicBezTo>
                  <a:pt x="8298" y="21600"/>
                  <a:pt x="8090" y="21494"/>
                  <a:pt x="7914" y="21286"/>
                </a:cubicBezTo>
                <a:cubicBezTo>
                  <a:pt x="7740" y="21071"/>
                  <a:pt x="7652" y="20816"/>
                  <a:pt x="7652" y="20504"/>
                </a:cubicBezTo>
                <a:lnTo>
                  <a:pt x="7652" y="15116"/>
                </a:lnTo>
                <a:cubicBezTo>
                  <a:pt x="7652" y="14810"/>
                  <a:pt x="7740" y="14549"/>
                  <a:pt x="7914" y="14334"/>
                </a:cubicBezTo>
                <a:cubicBezTo>
                  <a:pt x="8090" y="14126"/>
                  <a:pt x="8298" y="14020"/>
                  <a:pt x="8543" y="14020"/>
                </a:cubicBezTo>
                <a:lnTo>
                  <a:pt x="10124" y="14020"/>
                </a:lnTo>
                <a:lnTo>
                  <a:pt x="10124" y="11602"/>
                </a:lnTo>
                <a:lnTo>
                  <a:pt x="4056" y="11602"/>
                </a:lnTo>
                <a:cubicBezTo>
                  <a:pt x="3902" y="11602"/>
                  <a:pt x="3821" y="11690"/>
                  <a:pt x="3821" y="11869"/>
                </a:cubicBezTo>
                <a:lnTo>
                  <a:pt x="3821" y="14020"/>
                </a:lnTo>
                <a:lnTo>
                  <a:pt x="5402" y="14020"/>
                </a:lnTo>
                <a:cubicBezTo>
                  <a:pt x="5662" y="14020"/>
                  <a:pt x="5875" y="14126"/>
                  <a:pt x="6054" y="14334"/>
                </a:cubicBezTo>
                <a:cubicBezTo>
                  <a:pt x="6230" y="14549"/>
                  <a:pt x="6316" y="14810"/>
                  <a:pt x="6316" y="15116"/>
                </a:cubicBezTo>
                <a:lnTo>
                  <a:pt x="6316" y="20504"/>
                </a:lnTo>
                <a:cubicBezTo>
                  <a:pt x="6316" y="20816"/>
                  <a:pt x="6230" y="21071"/>
                  <a:pt x="6054" y="21286"/>
                </a:cubicBezTo>
                <a:cubicBezTo>
                  <a:pt x="5877" y="21494"/>
                  <a:pt x="5664" y="21600"/>
                  <a:pt x="5402" y="21600"/>
                </a:cubicBezTo>
                <a:lnTo>
                  <a:pt x="913" y="21600"/>
                </a:lnTo>
                <a:cubicBezTo>
                  <a:pt x="658" y="21600"/>
                  <a:pt x="441" y="21494"/>
                  <a:pt x="262" y="21286"/>
                </a:cubicBezTo>
                <a:cubicBezTo>
                  <a:pt x="88" y="21071"/>
                  <a:pt x="0" y="20816"/>
                  <a:pt x="0" y="20504"/>
                </a:cubicBezTo>
                <a:lnTo>
                  <a:pt x="0" y="15116"/>
                </a:lnTo>
                <a:cubicBezTo>
                  <a:pt x="0" y="14810"/>
                  <a:pt x="88" y="14549"/>
                  <a:pt x="262" y="14334"/>
                </a:cubicBezTo>
                <a:cubicBezTo>
                  <a:pt x="438" y="14126"/>
                  <a:pt x="656" y="14020"/>
                  <a:pt x="913" y="14020"/>
                </a:cubicBezTo>
                <a:lnTo>
                  <a:pt x="2472" y="14020"/>
                </a:lnTo>
                <a:lnTo>
                  <a:pt x="2472" y="11869"/>
                </a:lnTo>
                <a:cubicBezTo>
                  <a:pt x="2472" y="11352"/>
                  <a:pt x="2629" y="10912"/>
                  <a:pt x="2942" y="10544"/>
                </a:cubicBezTo>
                <a:cubicBezTo>
                  <a:pt x="3253" y="10180"/>
                  <a:pt x="3623" y="9998"/>
                  <a:pt x="4054" y="9998"/>
                </a:cubicBezTo>
                <a:lnTo>
                  <a:pt x="10122" y="9998"/>
                </a:lnTo>
                <a:lnTo>
                  <a:pt x="10122" y="7551"/>
                </a:lnTo>
                <a:lnTo>
                  <a:pt x="8541" y="7551"/>
                </a:lnTo>
                <a:cubicBezTo>
                  <a:pt x="8296" y="7551"/>
                  <a:pt x="8088" y="7451"/>
                  <a:pt x="7912" y="7248"/>
                </a:cubicBezTo>
                <a:cubicBezTo>
                  <a:pt x="7738" y="7045"/>
                  <a:pt x="7650" y="6790"/>
                  <a:pt x="7650" y="6484"/>
                </a:cubicBezTo>
                <a:lnTo>
                  <a:pt x="7650" y="1066"/>
                </a:lnTo>
                <a:cubicBezTo>
                  <a:pt x="7650" y="776"/>
                  <a:pt x="7738" y="523"/>
                  <a:pt x="7912" y="314"/>
                </a:cubicBezTo>
                <a:cubicBezTo>
                  <a:pt x="8088" y="103"/>
                  <a:pt x="8296" y="0"/>
                  <a:pt x="8541" y="0"/>
                </a:cubicBezTo>
                <a:lnTo>
                  <a:pt x="13052" y="0"/>
                </a:lnTo>
                <a:cubicBezTo>
                  <a:pt x="13294" y="0"/>
                  <a:pt x="13505" y="103"/>
                  <a:pt x="13679" y="314"/>
                </a:cubicBezTo>
                <a:cubicBezTo>
                  <a:pt x="13855" y="523"/>
                  <a:pt x="13943" y="776"/>
                  <a:pt x="13943" y="1066"/>
                </a:cubicBezTo>
                <a:lnTo>
                  <a:pt x="13943" y="6484"/>
                </a:lnTo>
                <a:cubicBezTo>
                  <a:pt x="13943" y="6790"/>
                  <a:pt x="13855" y="7045"/>
                  <a:pt x="13679" y="7248"/>
                </a:cubicBezTo>
                <a:cubicBezTo>
                  <a:pt x="13505" y="7451"/>
                  <a:pt x="13294" y="7551"/>
                  <a:pt x="13052" y="7551"/>
                </a:cubicBezTo>
                <a:lnTo>
                  <a:pt x="11471" y="7551"/>
                </a:lnTo>
                <a:lnTo>
                  <a:pt x="11471" y="9998"/>
                </a:lnTo>
                <a:lnTo>
                  <a:pt x="17541" y="9998"/>
                </a:lnTo>
                <a:cubicBezTo>
                  <a:pt x="17970" y="9998"/>
                  <a:pt x="18339" y="10177"/>
                  <a:pt x="18653" y="10539"/>
                </a:cubicBezTo>
                <a:cubicBezTo>
                  <a:pt x="18966" y="10900"/>
                  <a:pt x="19123" y="11344"/>
                  <a:pt x="19123" y="11869"/>
                </a:cubicBezTo>
                <a:lnTo>
                  <a:pt x="19123" y="14020"/>
                </a:lnTo>
                <a:lnTo>
                  <a:pt x="20709" y="14020"/>
                </a:lnTo>
                <a:close/>
                <a:moveTo>
                  <a:pt x="20709" y="1402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AutoShape 28"/>
          <p:cNvSpPr/>
          <p:nvPr/>
        </p:nvSpPr>
        <p:spPr>
          <a:xfrm>
            <a:off x="4178160" y="3533760"/>
            <a:ext cx="309600" cy="309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357" y="18802"/>
                </a:moveTo>
                <a:cubicBezTo>
                  <a:pt x="21518" y="18965"/>
                  <a:pt x="21600" y="19177"/>
                  <a:pt x="21600" y="19437"/>
                </a:cubicBezTo>
                <a:cubicBezTo>
                  <a:pt x="21600" y="19581"/>
                  <a:pt x="21518" y="19776"/>
                  <a:pt x="21357" y="20019"/>
                </a:cubicBezTo>
                <a:cubicBezTo>
                  <a:pt x="21193" y="20261"/>
                  <a:pt x="20990" y="20504"/>
                  <a:pt x="20747" y="20741"/>
                </a:cubicBezTo>
                <a:cubicBezTo>
                  <a:pt x="20504" y="20979"/>
                  <a:pt x="20261" y="21185"/>
                  <a:pt x="20023" y="21349"/>
                </a:cubicBezTo>
                <a:cubicBezTo>
                  <a:pt x="19783" y="21518"/>
                  <a:pt x="19594" y="21600"/>
                  <a:pt x="19447" y="21600"/>
                </a:cubicBezTo>
                <a:cubicBezTo>
                  <a:pt x="19190" y="21600"/>
                  <a:pt x="18975" y="21515"/>
                  <a:pt x="18811" y="21343"/>
                </a:cubicBezTo>
                <a:lnTo>
                  <a:pt x="13957" y="16503"/>
                </a:lnTo>
                <a:cubicBezTo>
                  <a:pt x="13217" y="16980"/>
                  <a:pt x="12429" y="17350"/>
                  <a:pt x="11590" y="17604"/>
                </a:cubicBezTo>
                <a:cubicBezTo>
                  <a:pt x="10751" y="17864"/>
                  <a:pt x="9892" y="17991"/>
                  <a:pt x="9007" y="17991"/>
                </a:cubicBezTo>
                <a:cubicBezTo>
                  <a:pt x="7770" y="17991"/>
                  <a:pt x="6609" y="17760"/>
                  <a:pt x="5518" y="17291"/>
                </a:cubicBezTo>
                <a:cubicBezTo>
                  <a:pt x="4427" y="16822"/>
                  <a:pt x="3470" y="16175"/>
                  <a:pt x="2645" y="15354"/>
                </a:cubicBezTo>
                <a:cubicBezTo>
                  <a:pt x="1817" y="14535"/>
                  <a:pt x="1173" y="13580"/>
                  <a:pt x="701" y="12487"/>
                </a:cubicBezTo>
                <a:cubicBezTo>
                  <a:pt x="232" y="11400"/>
                  <a:pt x="0" y="10237"/>
                  <a:pt x="0" y="9000"/>
                </a:cubicBezTo>
                <a:cubicBezTo>
                  <a:pt x="0" y="7769"/>
                  <a:pt x="232" y="6602"/>
                  <a:pt x="701" y="5515"/>
                </a:cubicBezTo>
                <a:cubicBezTo>
                  <a:pt x="1170" y="4422"/>
                  <a:pt x="1817" y="3468"/>
                  <a:pt x="2645" y="2646"/>
                </a:cubicBezTo>
                <a:cubicBezTo>
                  <a:pt x="3470" y="1827"/>
                  <a:pt x="4425" y="1180"/>
                  <a:pt x="5512" y="709"/>
                </a:cubicBezTo>
                <a:cubicBezTo>
                  <a:pt x="6600" y="237"/>
                  <a:pt x="7764" y="0"/>
                  <a:pt x="9007" y="0"/>
                </a:cubicBezTo>
                <a:cubicBezTo>
                  <a:pt x="10245" y="0"/>
                  <a:pt x="11403" y="237"/>
                  <a:pt x="12488" y="709"/>
                </a:cubicBezTo>
                <a:cubicBezTo>
                  <a:pt x="13573" y="1180"/>
                  <a:pt x="14531" y="1827"/>
                  <a:pt x="15359" y="2646"/>
                </a:cubicBezTo>
                <a:cubicBezTo>
                  <a:pt x="16184" y="3468"/>
                  <a:pt x="16831" y="4422"/>
                  <a:pt x="17300" y="5515"/>
                </a:cubicBezTo>
                <a:cubicBezTo>
                  <a:pt x="17769" y="6602"/>
                  <a:pt x="18003" y="7769"/>
                  <a:pt x="18003" y="9000"/>
                </a:cubicBezTo>
                <a:cubicBezTo>
                  <a:pt x="18003" y="9887"/>
                  <a:pt x="17873" y="10748"/>
                  <a:pt x="17616" y="11589"/>
                </a:cubicBezTo>
                <a:cubicBezTo>
                  <a:pt x="17359" y="12434"/>
                  <a:pt x="16992" y="13219"/>
                  <a:pt x="16514" y="13947"/>
                </a:cubicBezTo>
                <a:lnTo>
                  <a:pt x="21357" y="18802"/>
                </a:lnTo>
                <a:close/>
                <a:moveTo>
                  <a:pt x="3597" y="9000"/>
                </a:moveTo>
                <a:cubicBezTo>
                  <a:pt x="3597" y="9759"/>
                  <a:pt x="3741" y="10465"/>
                  <a:pt x="4029" y="11118"/>
                </a:cubicBezTo>
                <a:cubicBezTo>
                  <a:pt x="4317" y="11770"/>
                  <a:pt x="4707" y="12338"/>
                  <a:pt x="5193" y="12821"/>
                </a:cubicBezTo>
                <a:cubicBezTo>
                  <a:pt x="5679" y="13301"/>
                  <a:pt x="6253" y="13685"/>
                  <a:pt x="6908" y="13970"/>
                </a:cubicBezTo>
                <a:cubicBezTo>
                  <a:pt x="7566" y="14252"/>
                  <a:pt x="8264" y="14394"/>
                  <a:pt x="9004" y="14394"/>
                </a:cubicBezTo>
                <a:cubicBezTo>
                  <a:pt x="9745" y="14394"/>
                  <a:pt x="10440" y="14252"/>
                  <a:pt x="11092" y="13970"/>
                </a:cubicBezTo>
                <a:cubicBezTo>
                  <a:pt x="11745" y="13685"/>
                  <a:pt x="12319" y="13301"/>
                  <a:pt x="12802" y="12821"/>
                </a:cubicBezTo>
                <a:cubicBezTo>
                  <a:pt x="13291" y="12338"/>
                  <a:pt x="13678" y="11770"/>
                  <a:pt x="13966" y="11118"/>
                </a:cubicBezTo>
                <a:cubicBezTo>
                  <a:pt x="14254" y="10465"/>
                  <a:pt x="14398" y="9759"/>
                  <a:pt x="14398" y="9000"/>
                </a:cubicBezTo>
                <a:cubicBezTo>
                  <a:pt x="14398" y="8260"/>
                  <a:pt x="14254" y="7565"/>
                  <a:pt x="13966" y="6913"/>
                </a:cubicBezTo>
                <a:cubicBezTo>
                  <a:pt x="13675" y="6258"/>
                  <a:pt x="13291" y="5684"/>
                  <a:pt x="12802" y="5193"/>
                </a:cubicBezTo>
                <a:cubicBezTo>
                  <a:pt x="12316" y="4704"/>
                  <a:pt x="11745" y="4317"/>
                  <a:pt x="11092" y="4032"/>
                </a:cubicBezTo>
                <a:cubicBezTo>
                  <a:pt x="10440" y="3750"/>
                  <a:pt x="9742" y="3606"/>
                  <a:pt x="9004" y="3606"/>
                </a:cubicBezTo>
                <a:cubicBezTo>
                  <a:pt x="8267" y="3606"/>
                  <a:pt x="7566" y="3750"/>
                  <a:pt x="6908" y="4032"/>
                </a:cubicBezTo>
                <a:cubicBezTo>
                  <a:pt x="6253" y="4317"/>
                  <a:pt x="5676" y="4704"/>
                  <a:pt x="5193" y="5193"/>
                </a:cubicBezTo>
                <a:cubicBezTo>
                  <a:pt x="4707" y="5684"/>
                  <a:pt x="4317" y="6258"/>
                  <a:pt x="4029" y="6913"/>
                </a:cubicBezTo>
                <a:cubicBezTo>
                  <a:pt x="3741" y="7565"/>
                  <a:pt x="3597" y="8257"/>
                  <a:pt x="3597" y="9000"/>
                </a:cubicBezTo>
                <a:moveTo>
                  <a:pt x="9007" y="5591"/>
                </a:moveTo>
                <a:cubicBezTo>
                  <a:pt x="9185" y="5591"/>
                  <a:pt x="9344" y="5656"/>
                  <a:pt x="9473" y="5786"/>
                </a:cubicBezTo>
                <a:cubicBezTo>
                  <a:pt x="9603" y="5919"/>
                  <a:pt x="9668" y="6082"/>
                  <a:pt x="9668" y="6280"/>
                </a:cubicBezTo>
                <a:cubicBezTo>
                  <a:pt x="9668" y="6461"/>
                  <a:pt x="9603" y="6616"/>
                  <a:pt x="9473" y="6746"/>
                </a:cubicBezTo>
                <a:cubicBezTo>
                  <a:pt x="9344" y="6879"/>
                  <a:pt x="9185" y="6944"/>
                  <a:pt x="9007" y="6944"/>
                </a:cubicBezTo>
                <a:cubicBezTo>
                  <a:pt x="8439" y="6944"/>
                  <a:pt x="7953" y="7144"/>
                  <a:pt x="7552" y="7537"/>
                </a:cubicBezTo>
                <a:cubicBezTo>
                  <a:pt x="7151" y="7935"/>
                  <a:pt x="6950" y="8423"/>
                  <a:pt x="6950" y="8997"/>
                </a:cubicBezTo>
                <a:cubicBezTo>
                  <a:pt x="6950" y="9180"/>
                  <a:pt x="6885" y="9333"/>
                  <a:pt x="6755" y="9466"/>
                </a:cubicBezTo>
                <a:cubicBezTo>
                  <a:pt x="6623" y="9596"/>
                  <a:pt x="6467" y="9658"/>
                  <a:pt x="6289" y="9658"/>
                </a:cubicBezTo>
                <a:cubicBezTo>
                  <a:pt x="6080" y="9658"/>
                  <a:pt x="5914" y="9596"/>
                  <a:pt x="5786" y="9466"/>
                </a:cubicBezTo>
                <a:cubicBezTo>
                  <a:pt x="5659" y="9333"/>
                  <a:pt x="5600" y="9180"/>
                  <a:pt x="5600" y="8997"/>
                </a:cubicBezTo>
                <a:cubicBezTo>
                  <a:pt x="5600" y="8539"/>
                  <a:pt x="5685" y="8104"/>
                  <a:pt x="5863" y="7686"/>
                </a:cubicBezTo>
                <a:cubicBezTo>
                  <a:pt x="6038" y="7271"/>
                  <a:pt x="6281" y="6907"/>
                  <a:pt x="6597" y="6591"/>
                </a:cubicBezTo>
                <a:cubicBezTo>
                  <a:pt x="6905" y="6277"/>
                  <a:pt x="7264" y="6029"/>
                  <a:pt x="7677" y="5857"/>
                </a:cubicBezTo>
                <a:cubicBezTo>
                  <a:pt x="8086" y="5681"/>
                  <a:pt x="8530" y="5591"/>
                  <a:pt x="9007" y="559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29"/>
          <p:cNvSpPr/>
          <p:nvPr/>
        </p:nvSpPr>
        <p:spPr>
          <a:xfrm>
            <a:off x="7273800" y="2395440"/>
            <a:ext cx="309600" cy="258840"/>
          </a:xfrm>
          <a:custGeom>
            <a:avLst/>
            <a:gdLst/>
            <a:ahLst/>
            <a:rect l="l" t="t" r="r" b="b"/>
            <a:pathLst>
              <a:path w="21600" h="21579">
                <a:moveTo>
                  <a:pt x="21600" y="9391"/>
                </a:moveTo>
                <a:cubicBezTo>
                  <a:pt x="21600" y="9887"/>
                  <a:pt x="21473" y="10321"/>
                  <a:pt x="21218" y="10697"/>
                </a:cubicBezTo>
                <a:cubicBezTo>
                  <a:pt x="20963" y="11073"/>
                  <a:pt x="20648" y="11313"/>
                  <a:pt x="20263" y="11428"/>
                </a:cubicBezTo>
                <a:lnTo>
                  <a:pt x="20263" y="16611"/>
                </a:lnTo>
                <a:cubicBezTo>
                  <a:pt x="20263" y="17201"/>
                  <a:pt x="20087" y="17708"/>
                  <a:pt x="19730" y="18128"/>
                </a:cubicBezTo>
                <a:cubicBezTo>
                  <a:pt x="19375" y="18551"/>
                  <a:pt x="18951" y="18759"/>
                  <a:pt x="18459" y="18759"/>
                </a:cubicBezTo>
                <a:cubicBezTo>
                  <a:pt x="17928" y="18122"/>
                  <a:pt x="17286" y="17506"/>
                  <a:pt x="16537" y="16904"/>
                </a:cubicBezTo>
                <a:cubicBezTo>
                  <a:pt x="15786" y="16305"/>
                  <a:pt x="14980" y="15757"/>
                  <a:pt x="14116" y="15255"/>
                </a:cubicBezTo>
                <a:cubicBezTo>
                  <a:pt x="13254" y="14756"/>
                  <a:pt x="12363" y="14325"/>
                  <a:pt x="11450" y="13969"/>
                </a:cubicBezTo>
                <a:cubicBezTo>
                  <a:pt x="10537" y="13614"/>
                  <a:pt x="9648" y="13380"/>
                  <a:pt x="8789" y="13268"/>
                </a:cubicBezTo>
                <a:cubicBezTo>
                  <a:pt x="8453" y="13379"/>
                  <a:pt x="8179" y="13564"/>
                  <a:pt x="7969" y="13829"/>
                </a:cubicBezTo>
                <a:cubicBezTo>
                  <a:pt x="7758" y="14093"/>
                  <a:pt x="7614" y="14386"/>
                  <a:pt x="7535" y="14706"/>
                </a:cubicBezTo>
                <a:cubicBezTo>
                  <a:pt x="7457" y="15029"/>
                  <a:pt x="7450" y="15361"/>
                  <a:pt x="7511" y="15698"/>
                </a:cubicBezTo>
                <a:cubicBezTo>
                  <a:pt x="7575" y="16036"/>
                  <a:pt x="7719" y="16341"/>
                  <a:pt x="7947" y="16611"/>
                </a:cubicBezTo>
                <a:cubicBezTo>
                  <a:pt x="7751" y="16992"/>
                  <a:pt x="7660" y="17347"/>
                  <a:pt x="7677" y="17673"/>
                </a:cubicBezTo>
                <a:cubicBezTo>
                  <a:pt x="7692" y="17993"/>
                  <a:pt x="7773" y="18307"/>
                  <a:pt x="7917" y="18606"/>
                </a:cubicBezTo>
                <a:cubicBezTo>
                  <a:pt x="8059" y="18909"/>
                  <a:pt x="8255" y="19193"/>
                  <a:pt x="8498" y="19469"/>
                </a:cubicBezTo>
                <a:cubicBezTo>
                  <a:pt x="8737" y="19745"/>
                  <a:pt x="8997" y="20021"/>
                  <a:pt x="9271" y="20291"/>
                </a:cubicBezTo>
                <a:cubicBezTo>
                  <a:pt x="9114" y="20696"/>
                  <a:pt x="8843" y="21001"/>
                  <a:pt x="8456" y="21213"/>
                </a:cubicBezTo>
                <a:cubicBezTo>
                  <a:pt x="8069" y="21424"/>
                  <a:pt x="7655" y="21541"/>
                  <a:pt x="7212" y="21571"/>
                </a:cubicBezTo>
                <a:cubicBezTo>
                  <a:pt x="6772" y="21600"/>
                  <a:pt x="6341" y="21550"/>
                  <a:pt x="5917" y="21424"/>
                </a:cubicBezTo>
                <a:cubicBezTo>
                  <a:pt x="5496" y="21295"/>
                  <a:pt x="5163" y="21092"/>
                  <a:pt x="4923" y="20811"/>
                </a:cubicBezTo>
                <a:cubicBezTo>
                  <a:pt x="4781" y="20241"/>
                  <a:pt x="4625" y="19657"/>
                  <a:pt x="4453" y="19056"/>
                </a:cubicBezTo>
                <a:cubicBezTo>
                  <a:pt x="4282" y="18454"/>
                  <a:pt x="4140" y="17843"/>
                  <a:pt x="4032" y="17224"/>
                </a:cubicBezTo>
                <a:cubicBezTo>
                  <a:pt x="3922" y="16599"/>
                  <a:pt x="3868" y="15953"/>
                  <a:pt x="3868" y="15281"/>
                </a:cubicBezTo>
                <a:cubicBezTo>
                  <a:pt x="3868" y="14615"/>
                  <a:pt x="3961" y="13905"/>
                  <a:pt x="4150" y="13154"/>
                </a:cubicBezTo>
                <a:lnTo>
                  <a:pt x="1804" y="13154"/>
                </a:lnTo>
                <a:cubicBezTo>
                  <a:pt x="1312" y="13154"/>
                  <a:pt x="889" y="12945"/>
                  <a:pt x="534" y="12523"/>
                </a:cubicBezTo>
                <a:cubicBezTo>
                  <a:pt x="176" y="12100"/>
                  <a:pt x="0" y="11592"/>
                  <a:pt x="0" y="10991"/>
                </a:cubicBezTo>
                <a:lnTo>
                  <a:pt x="0" y="7774"/>
                </a:lnTo>
                <a:cubicBezTo>
                  <a:pt x="0" y="7184"/>
                  <a:pt x="176" y="6677"/>
                  <a:pt x="526" y="6245"/>
                </a:cubicBezTo>
                <a:cubicBezTo>
                  <a:pt x="879" y="5820"/>
                  <a:pt x="1305" y="5605"/>
                  <a:pt x="1804" y="5605"/>
                </a:cubicBezTo>
                <a:lnTo>
                  <a:pt x="7653" y="5605"/>
                </a:lnTo>
                <a:cubicBezTo>
                  <a:pt x="8551" y="5605"/>
                  <a:pt x="9509" y="5450"/>
                  <a:pt x="10525" y="5136"/>
                </a:cubicBezTo>
                <a:cubicBezTo>
                  <a:pt x="11541" y="4822"/>
                  <a:pt x="12537" y="4399"/>
                  <a:pt x="13511" y="3874"/>
                </a:cubicBezTo>
                <a:cubicBezTo>
                  <a:pt x="14488" y="3343"/>
                  <a:pt x="15409" y="2744"/>
                  <a:pt x="16273" y="2072"/>
                </a:cubicBezTo>
                <a:cubicBezTo>
                  <a:pt x="17135" y="1406"/>
                  <a:pt x="17864" y="713"/>
                  <a:pt x="18459" y="0"/>
                </a:cubicBezTo>
                <a:cubicBezTo>
                  <a:pt x="18951" y="0"/>
                  <a:pt x="19375" y="214"/>
                  <a:pt x="19730" y="634"/>
                </a:cubicBezTo>
                <a:cubicBezTo>
                  <a:pt x="20087" y="1057"/>
                  <a:pt x="20263" y="1567"/>
                  <a:pt x="20263" y="2166"/>
                </a:cubicBezTo>
                <a:lnTo>
                  <a:pt x="20263" y="7334"/>
                </a:lnTo>
                <a:cubicBezTo>
                  <a:pt x="20648" y="7446"/>
                  <a:pt x="20963" y="7692"/>
                  <a:pt x="21218" y="8071"/>
                </a:cubicBezTo>
                <a:cubicBezTo>
                  <a:pt x="21473" y="8455"/>
                  <a:pt x="21600" y="8895"/>
                  <a:pt x="21600" y="9391"/>
                </a:cubicBezTo>
                <a:moveTo>
                  <a:pt x="18459" y="2855"/>
                </a:moveTo>
                <a:cubicBezTo>
                  <a:pt x="17864" y="3407"/>
                  <a:pt x="17215" y="3941"/>
                  <a:pt x="16513" y="4452"/>
                </a:cubicBezTo>
                <a:cubicBezTo>
                  <a:pt x="15810" y="4963"/>
                  <a:pt x="15066" y="5423"/>
                  <a:pt x="14280" y="5834"/>
                </a:cubicBezTo>
                <a:cubicBezTo>
                  <a:pt x="13494" y="6245"/>
                  <a:pt x="12694" y="6609"/>
                  <a:pt x="11878" y="6923"/>
                </a:cubicBezTo>
                <a:cubicBezTo>
                  <a:pt x="11061" y="7237"/>
                  <a:pt x="10255" y="7463"/>
                  <a:pt x="9457" y="7604"/>
                </a:cubicBezTo>
                <a:lnTo>
                  <a:pt x="9457" y="11173"/>
                </a:lnTo>
                <a:cubicBezTo>
                  <a:pt x="10255" y="11325"/>
                  <a:pt x="11061" y="11554"/>
                  <a:pt x="11878" y="11862"/>
                </a:cubicBezTo>
                <a:cubicBezTo>
                  <a:pt x="12694" y="12170"/>
                  <a:pt x="13494" y="12537"/>
                  <a:pt x="14280" y="12957"/>
                </a:cubicBezTo>
                <a:cubicBezTo>
                  <a:pt x="15066" y="13379"/>
                  <a:pt x="15813" y="13843"/>
                  <a:pt x="16525" y="14348"/>
                </a:cubicBezTo>
                <a:cubicBezTo>
                  <a:pt x="17235" y="14856"/>
                  <a:pt x="17881" y="15381"/>
                  <a:pt x="18459" y="15921"/>
                </a:cubicBezTo>
                <a:lnTo>
                  <a:pt x="18459" y="2855"/>
                </a:lnTo>
                <a:close/>
                <a:moveTo>
                  <a:pt x="18459" y="2855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AutoShape 30"/>
          <p:cNvSpPr/>
          <p:nvPr/>
        </p:nvSpPr>
        <p:spPr>
          <a:xfrm>
            <a:off x="4621320" y="2233440"/>
            <a:ext cx="277560" cy="2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88" y="2580"/>
                </a:moveTo>
                <a:cubicBezTo>
                  <a:pt x="20420" y="2580"/>
                  <a:pt x="20794" y="2736"/>
                  <a:pt x="21116" y="3053"/>
                </a:cubicBezTo>
                <a:cubicBezTo>
                  <a:pt x="21439" y="3372"/>
                  <a:pt x="21600" y="3744"/>
                  <a:pt x="21600" y="4176"/>
                </a:cubicBezTo>
                <a:lnTo>
                  <a:pt x="21600" y="19987"/>
                </a:lnTo>
                <a:cubicBezTo>
                  <a:pt x="21600" y="20419"/>
                  <a:pt x="21439" y="20797"/>
                  <a:pt x="21116" y="21116"/>
                </a:cubicBezTo>
                <a:cubicBezTo>
                  <a:pt x="20794" y="21439"/>
                  <a:pt x="20420" y="21600"/>
                  <a:pt x="19988" y="21600"/>
                </a:cubicBezTo>
                <a:lnTo>
                  <a:pt x="1612" y="21600"/>
                </a:lnTo>
                <a:cubicBezTo>
                  <a:pt x="1180" y="21600"/>
                  <a:pt x="806" y="21439"/>
                  <a:pt x="484" y="21116"/>
                </a:cubicBezTo>
                <a:cubicBezTo>
                  <a:pt x="161" y="20797"/>
                  <a:pt x="0" y="20419"/>
                  <a:pt x="0" y="19987"/>
                </a:cubicBezTo>
                <a:lnTo>
                  <a:pt x="0" y="4176"/>
                </a:lnTo>
                <a:cubicBezTo>
                  <a:pt x="0" y="3744"/>
                  <a:pt x="161" y="3372"/>
                  <a:pt x="484" y="3053"/>
                </a:cubicBezTo>
                <a:cubicBezTo>
                  <a:pt x="806" y="2736"/>
                  <a:pt x="1180" y="2580"/>
                  <a:pt x="1612" y="2580"/>
                </a:cubicBezTo>
                <a:lnTo>
                  <a:pt x="2151" y="2580"/>
                </a:lnTo>
                <a:lnTo>
                  <a:pt x="2151" y="2402"/>
                </a:lnTo>
                <a:cubicBezTo>
                  <a:pt x="2151" y="2117"/>
                  <a:pt x="2197" y="1829"/>
                  <a:pt x="2289" y="1541"/>
                </a:cubicBezTo>
                <a:cubicBezTo>
                  <a:pt x="2381" y="1250"/>
                  <a:pt x="2531" y="991"/>
                  <a:pt x="2738" y="766"/>
                </a:cubicBezTo>
                <a:cubicBezTo>
                  <a:pt x="2943" y="542"/>
                  <a:pt x="3216" y="360"/>
                  <a:pt x="3556" y="213"/>
                </a:cubicBezTo>
                <a:cubicBezTo>
                  <a:pt x="3896" y="75"/>
                  <a:pt x="4310" y="0"/>
                  <a:pt x="4797" y="0"/>
                </a:cubicBezTo>
                <a:cubicBezTo>
                  <a:pt x="5283" y="0"/>
                  <a:pt x="5698" y="75"/>
                  <a:pt x="6038" y="213"/>
                </a:cubicBezTo>
                <a:cubicBezTo>
                  <a:pt x="6378" y="360"/>
                  <a:pt x="6651" y="542"/>
                  <a:pt x="6858" y="766"/>
                </a:cubicBezTo>
                <a:cubicBezTo>
                  <a:pt x="7063" y="991"/>
                  <a:pt x="7215" y="1256"/>
                  <a:pt x="7313" y="1546"/>
                </a:cubicBezTo>
                <a:cubicBezTo>
                  <a:pt x="7411" y="1840"/>
                  <a:pt x="7457" y="2125"/>
                  <a:pt x="7457" y="2402"/>
                </a:cubicBezTo>
                <a:lnTo>
                  <a:pt x="7457" y="2580"/>
                </a:lnTo>
                <a:lnTo>
                  <a:pt x="8134" y="2580"/>
                </a:lnTo>
                <a:lnTo>
                  <a:pt x="8134" y="2402"/>
                </a:lnTo>
                <a:cubicBezTo>
                  <a:pt x="8134" y="2117"/>
                  <a:pt x="8180" y="1829"/>
                  <a:pt x="8269" y="1541"/>
                </a:cubicBezTo>
                <a:cubicBezTo>
                  <a:pt x="8364" y="1250"/>
                  <a:pt x="8511" y="991"/>
                  <a:pt x="8718" y="766"/>
                </a:cubicBezTo>
                <a:cubicBezTo>
                  <a:pt x="8926" y="541"/>
                  <a:pt x="9199" y="360"/>
                  <a:pt x="9539" y="213"/>
                </a:cubicBezTo>
                <a:cubicBezTo>
                  <a:pt x="9879" y="75"/>
                  <a:pt x="10293" y="0"/>
                  <a:pt x="10780" y="0"/>
                </a:cubicBezTo>
                <a:cubicBezTo>
                  <a:pt x="11266" y="0"/>
                  <a:pt x="11678" y="75"/>
                  <a:pt x="12021" y="213"/>
                </a:cubicBezTo>
                <a:cubicBezTo>
                  <a:pt x="12361" y="360"/>
                  <a:pt x="12637" y="542"/>
                  <a:pt x="12853" y="766"/>
                </a:cubicBezTo>
                <a:cubicBezTo>
                  <a:pt x="13069" y="991"/>
                  <a:pt x="13227" y="1256"/>
                  <a:pt x="13322" y="1546"/>
                </a:cubicBezTo>
                <a:cubicBezTo>
                  <a:pt x="13417" y="1840"/>
                  <a:pt x="13469" y="2125"/>
                  <a:pt x="13469" y="2402"/>
                </a:cubicBezTo>
                <a:lnTo>
                  <a:pt x="13469" y="2580"/>
                </a:lnTo>
                <a:lnTo>
                  <a:pt x="14143" y="2580"/>
                </a:lnTo>
                <a:lnTo>
                  <a:pt x="14143" y="2402"/>
                </a:lnTo>
                <a:cubicBezTo>
                  <a:pt x="14143" y="2117"/>
                  <a:pt x="14192" y="1829"/>
                  <a:pt x="14287" y="1541"/>
                </a:cubicBezTo>
                <a:cubicBezTo>
                  <a:pt x="14385" y="1250"/>
                  <a:pt x="14534" y="991"/>
                  <a:pt x="14742" y="766"/>
                </a:cubicBezTo>
                <a:cubicBezTo>
                  <a:pt x="14949" y="541"/>
                  <a:pt x="15220" y="360"/>
                  <a:pt x="15556" y="213"/>
                </a:cubicBezTo>
                <a:cubicBezTo>
                  <a:pt x="15890" y="75"/>
                  <a:pt x="16305" y="0"/>
                  <a:pt x="16803" y="0"/>
                </a:cubicBezTo>
                <a:cubicBezTo>
                  <a:pt x="17290" y="0"/>
                  <a:pt x="17704" y="75"/>
                  <a:pt x="18044" y="213"/>
                </a:cubicBezTo>
                <a:cubicBezTo>
                  <a:pt x="18384" y="360"/>
                  <a:pt x="18657" y="541"/>
                  <a:pt x="18865" y="766"/>
                </a:cubicBezTo>
                <a:cubicBezTo>
                  <a:pt x="19069" y="991"/>
                  <a:pt x="19219" y="1256"/>
                  <a:pt x="19311" y="1546"/>
                </a:cubicBezTo>
                <a:cubicBezTo>
                  <a:pt x="19403" y="1840"/>
                  <a:pt x="19449" y="2125"/>
                  <a:pt x="19449" y="2402"/>
                </a:cubicBezTo>
                <a:lnTo>
                  <a:pt x="19449" y="2580"/>
                </a:lnTo>
                <a:lnTo>
                  <a:pt x="19988" y="2580"/>
                </a:lnTo>
                <a:close/>
                <a:moveTo>
                  <a:pt x="6067" y="7968"/>
                </a:moveTo>
                <a:lnTo>
                  <a:pt x="2180" y="7968"/>
                </a:lnTo>
                <a:lnTo>
                  <a:pt x="2180" y="11444"/>
                </a:lnTo>
                <a:lnTo>
                  <a:pt x="6067" y="11444"/>
                </a:lnTo>
                <a:lnTo>
                  <a:pt x="6067" y="7968"/>
                </a:lnTo>
                <a:close/>
                <a:moveTo>
                  <a:pt x="6067" y="11976"/>
                </a:moveTo>
                <a:lnTo>
                  <a:pt x="2180" y="11976"/>
                </a:lnTo>
                <a:lnTo>
                  <a:pt x="2180" y="15452"/>
                </a:lnTo>
                <a:lnTo>
                  <a:pt x="6067" y="15452"/>
                </a:lnTo>
                <a:lnTo>
                  <a:pt x="6067" y="11976"/>
                </a:lnTo>
                <a:close/>
                <a:moveTo>
                  <a:pt x="6067" y="15976"/>
                </a:moveTo>
                <a:lnTo>
                  <a:pt x="2180" y="15976"/>
                </a:lnTo>
                <a:lnTo>
                  <a:pt x="2180" y="19423"/>
                </a:lnTo>
                <a:lnTo>
                  <a:pt x="6067" y="19423"/>
                </a:lnTo>
                <a:lnTo>
                  <a:pt x="6067" y="15976"/>
                </a:lnTo>
                <a:close/>
                <a:moveTo>
                  <a:pt x="3755" y="5543"/>
                </a:moveTo>
                <a:cubicBezTo>
                  <a:pt x="3755" y="6068"/>
                  <a:pt x="4103" y="6324"/>
                  <a:pt x="4800" y="6324"/>
                </a:cubicBezTo>
                <a:cubicBezTo>
                  <a:pt x="5499" y="6324"/>
                  <a:pt x="5848" y="6068"/>
                  <a:pt x="5848" y="5543"/>
                </a:cubicBezTo>
                <a:lnTo>
                  <a:pt x="5848" y="2399"/>
                </a:lnTo>
                <a:cubicBezTo>
                  <a:pt x="5848" y="1878"/>
                  <a:pt x="5499" y="1613"/>
                  <a:pt x="4800" y="1613"/>
                </a:cubicBezTo>
                <a:cubicBezTo>
                  <a:pt x="4103" y="1613"/>
                  <a:pt x="3755" y="1878"/>
                  <a:pt x="3755" y="2399"/>
                </a:cubicBezTo>
                <a:lnTo>
                  <a:pt x="3755" y="5543"/>
                </a:lnTo>
                <a:close/>
                <a:moveTo>
                  <a:pt x="10535" y="7968"/>
                </a:moveTo>
                <a:lnTo>
                  <a:pt x="6608" y="7968"/>
                </a:lnTo>
                <a:lnTo>
                  <a:pt x="6608" y="11444"/>
                </a:lnTo>
                <a:lnTo>
                  <a:pt x="10535" y="11444"/>
                </a:lnTo>
                <a:lnTo>
                  <a:pt x="10535" y="7968"/>
                </a:lnTo>
                <a:close/>
                <a:moveTo>
                  <a:pt x="10535" y="11976"/>
                </a:moveTo>
                <a:lnTo>
                  <a:pt x="6608" y="11976"/>
                </a:lnTo>
                <a:lnTo>
                  <a:pt x="6608" y="15452"/>
                </a:lnTo>
                <a:lnTo>
                  <a:pt x="10535" y="15452"/>
                </a:lnTo>
                <a:lnTo>
                  <a:pt x="10535" y="11976"/>
                </a:lnTo>
                <a:close/>
                <a:moveTo>
                  <a:pt x="10535" y="15976"/>
                </a:moveTo>
                <a:lnTo>
                  <a:pt x="6608" y="15976"/>
                </a:lnTo>
                <a:lnTo>
                  <a:pt x="6608" y="19423"/>
                </a:lnTo>
                <a:lnTo>
                  <a:pt x="10535" y="19423"/>
                </a:lnTo>
                <a:lnTo>
                  <a:pt x="10535" y="15976"/>
                </a:lnTo>
                <a:close/>
                <a:moveTo>
                  <a:pt x="9775" y="5543"/>
                </a:moveTo>
                <a:cubicBezTo>
                  <a:pt x="9775" y="5826"/>
                  <a:pt x="9850" y="6027"/>
                  <a:pt x="9997" y="6145"/>
                </a:cubicBezTo>
                <a:cubicBezTo>
                  <a:pt x="10144" y="6269"/>
                  <a:pt x="10406" y="6324"/>
                  <a:pt x="10783" y="6324"/>
                </a:cubicBezTo>
                <a:cubicBezTo>
                  <a:pt x="11160" y="6324"/>
                  <a:pt x="11428" y="6263"/>
                  <a:pt x="11589" y="6140"/>
                </a:cubicBezTo>
                <a:cubicBezTo>
                  <a:pt x="11750" y="6016"/>
                  <a:pt x="11831" y="5820"/>
                  <a:pt x="11831" y="5544"/>
                </a:cubicBezTo>
                <a:lnTo>
                  <a:pt x="11831" y="2399"/>
                </a:lnTo>
                <a:cubicBezTo>
                  <a:pt x="11831" y="2128"/>
                  <a:pt x="11750" y="1933"/>
                  <a:pt x="11589" y="1803"/>
                </a:cubicBezTo>
                <a:cubicBezTo>
                  <a:pt x="11428" y="1673"/>
                  <a:pt x="11160" y="1613"/>
                  <a:pt x="10783" y="1613"/>
                </a:cubicBezTo>
                <a:cubicBezTo>
                  <a:pt x="10406" y="1613"/>
                  <a:pt x="10144" y="1679"/>
                  <a:pt x="9997" y="1814"/>
                </a:cubicBezTo>
                <a:cubicBezTo>
                  <a:pt x="9850" y="1944"/>
                  <a:pt x="9775" y="2140"/>
                  <a:pt x="9775" y="2399"/>
                </a:cubicBezTo>
                <a:lnTo>
                  <a:pt x="9775" y="5543"/>
                </a:lnTo>
                <a:close/>
                <a:moveTo>
                  <a:pt x="14986" y="7968"/>
                </a:moveTo>
                <a:lnTo>
                  <a:pt x="11074" y="7968"/>
                </a:lnTo>
                <a:lnTo>
                  <a:pt x="11074" y="11444"/>
                </a:lnTo>
                <a:lnTo>
                  <a:pt x="14986" y="11444"/>
                </a:lnTo>
                <a:lnTo>
                  <a:pt x="14986" y="7968"/>
                </a:lnTo>
                <a:close/>
                <a:moveTo>
                  <a:pt x="14986" y="11976"/>
                </a:moveTo>
                <a:lnTo>
                  <a:pt x="11074" y="11976"/>
                </a:lnTo>
                <a:lnTo>
                  <a:pt x="11074" y="15452"/>
                </a:lnTo>
                <a:lnTo>
                  <a:pt x="14986" y="15452"/>
                </a:lnTo>
                <a:lnTo>
                  <a:pt x="14986" y="11976"/>
                </a:lnTo>
                <a:close/>
                <a:moveTo>
                  <a:pt x="14986" y="15976"/>
                </a:moveTo>
                <a:lnTo>
                  <a:pt x="11074" y="15976"/>
                </a:lnTo>
                <a:lnTo>
                  <a:pt x="11074" y="19423"/>
                </a:lnTo>
                <a:lnTo>
                  <a:pt x="14986" y="19423"/>
                </a:lnTo>
                <a:lnTo>
                  <a:pt x="14986" y="15976"/>
                </a:lnTo>
                <a:close/>
                <a:moveTo>
                  <a:pt x="19423" y="7968"/>
                </a:moveTo>
                <a:lnTo>
                  <a:pt x="15522" y="7968"/>
                </a:lnTo>
                <a:lnTo>
                  <a:pt x="15522" y="11444"/>
                </a:lnTo>
                <a:lnTo>
                  <a:pt x="19423" y="11444"/>
                </a:lnTo>
                <a:lnTo>
                  <a:pt x="19423" y="7968"/>
                </a:lnTo>
                <a:close/>
                <a:moveTo>
                  <a:pt x="19423" y="11976"/>
                </a:moveTo>
                <a:lnTo>
                  <a:pt x="15522" y="11976"/>
                </a:lnTo>
                <a:lnTo>
                  <a:pt x="15522" y="15452"/>
                </a:lnTo>
                <a:lnTo>
                  <a:pt x="19423" y="15452"/>
                </a:lnTo>
                <a:lnTo>
                  <a:pt x="19423" y="11976"/>
                </a:lnTo>
                <a:close/>
                <a:moveTo>
                  <a:pt x="19423" y="15976"/>
                </a:moveTo>
                <a:lnTo>
                  <a:pt x="15522" y="15976"/>
                </a:lnTo>
                <a:lnTo>
                  <a:pt x="15522" y="19423"/>
                </a:lnTo>
                <a:lnTo>
                  <a:pt x="19423" y="19423"/>
                </a:lnTo>
                <a:lnTo>
                  <a:pt x="19423" y="15976"/>
                </a:lnTo>
                <a:close/>
                <a:moveTo>
                  <a:pt x="15758" y="5543"/>
                </a:moveTo>
                <a:cubicBezTo>
                  <a:pt x="15758" y="6068"/>
                  <a:pt x="16106" y="6324"/>
                  <a:pt x="16806" y="6324"/>
                </a:cubicBezTo>
                <a:cubicBezTo>
                  <a:pt x="17503" y="6324"/>
                  <a:pt x="17848" y="6068"/>
                  <a:pt x="17840" y="5543"/>
                </a:cubicBezTo>
                <a:lnTo>
                  <a:pt x="17840" y="2399"/>
                </a:lnTo>
                <a:cubicBezTo>
                  <a:pt x="17840" y="1878"/>
                  <a:pt x="17494" y="1613"/>
                  <a:pt x="16806" y="1613"/>
                </a:cubicBezTo>
                <a:cubicBezTo>
                  <a:pt x="16106" y="1613"/>
                  <a:pt x="15758" y="1878"/>
                  <a:pt x="15758" y="2399"/>
                </a:cubicBezTo>
                <a:lnTo>
                  <a:pt x="15758" y="5543"/>
                </a:lnTo>
                <a:close/>
                <a:moveTo>
                  <a:pt x="15758" y="5543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AutoShape 31"/>
          <p:cNvSpPr/>
          <p:nvPr/>
        </p:nvSpPr>
        <p:spPr>
          <a:xfrm>
            <a:off x="7643880" y="3540240"/>
            <a:ext cx="309600" cy="27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8640"/>
                </a:moveTo>
                <a:cubicBezTo>
                  <a:pt x="21600" y="3960"/>
                  <a:pt x="16676" y="0"/>
                  <a:pt x="10800" y="0"/>
                </a:cubicBezTo>
                <a:cubicBezTo>
                  <a:pt x="4765" y="0"/>
                  <a:pt x="0" y="3960"/>
                  <a:pt x="0" y="8640"/>
                </a:cubicBezTo>
                <a:cubicBezTo>
                  <a:pt x="0" y="12060"/>
                  <a:pt x="2382" y="14940"/>
                  <a:pt x="5876" y="16380"/>
                </a:cubicBezTo>
                <a:cubicBezTo>
                  <a:pt x="6035" y="17280"/>
                  <a:pt x="5718" y="19080"/>
                  <a:pt x="3335" y="21600"/>
                </a:cubicBezTo>
                <a:cubicBezTo>
                  <a:pt x="3335" y="21600"/>
                  <a:pt x="8576" y="19980"/>
                  <a:pt x="11435" y="17280"/>
                </a:cubicBezTo>
                <a:cubicBezTo>
                  <a:pt x="17153" y="16920"/>
                  <a:pt x="21600" y="13140"/>
                  <a:pt x="21600" y="8640"/>
                </a:cubicBezTo>
                <a:close/>
                <a:moveTo>
                  <a:pt x="21600" y="864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组合 19" descr=""/>
          <p:cNvPicPr/>
          <p:nvPr/>
        </p:nvPicPr>
        <p:blipFill>
          <a:blip r:embed="rId1"/>
          <a:stretch/>
        </p:blipFill>
        <p:spPr>
          <a:xfrm>
            <a:off x="5767560" y="3219480"/>
            <a:ext cx="693720" cy="584280"/>
          </a:xfrm>
          <a:prstGeom prst="rect">
            <a:avLst/>
          </a:prstGeom>
          <a:ln w="0">
            <a:noFill/>
          </a:ln>
        </p:spPr>
      </p:pic>
      <p:sp>
        <p:nvSpPr>
          <p:cNvPr id="337" name="TextBox 13@|17FFC:16777215|FBC:16777215|LFC:16777215|LBC:16777215"/>
          <p:cNvSpPr/>
          <p:nvPr/>
        </p:nvSpPr>
        <p:spPr>
          <a:xfrm>
            <a:off x="7953480" y="21114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13@|17FFC:16777215|FBC:16777215|LFC:16777215|LBC:16777215"/>
          <p:cNvSpPr/>
          <p:nvPr/>
        </p:nvSpPr>
        <p:spPr>
          <a:xfrm>
            <a:off x="7958160" y="23972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13@|17FFC:16777215|FBC:16777215|LFC:16777215|LBC:16777215"/>
          <p:cNvSpPr/>
          <p:nvPr/>
        </p:nvSpPr>
        <p:spPr>
          <a:xfrm>
            <a:off x="8231040" y="3348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13@|17FFC:16777215|FBC:16777215|LFC:16777215|LBC:16777215"/>
          <p:cNvSpPr/>
          <p:nvPr/>
        </p:nvSpPr>
        <p:spPr>
          <a:xfrm>
            <a:off x="8236080" y="36352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3@|17FFC:16777215|FBC:16777215|LFC:16777215|LBC:16777215"/>
          <p:cNvSpPr/>
          <p:nvPr/>
        </p:nvSpPr>
        <p:spPr>
          <a:xfrm>
            <a:off x="7742160" y="4433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13@|17FFC:16777215|FBC:16777215|LFC:16777215|LBC:16777215"/>
          <p:cNvSpPr/>
          <p:nvPr/>
        </p:nvSpPr>
        <p:spPr>
          <a:xfrm>
            <a:off x="7745400" y="47196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13@|17FFC:16777215|FBC:16777215|LFC:16777215|LBC:16777215"/>
          <p:cNvSpPr/>
          <p:nvPr/>
        </p:nvSpPr>
        <p:spPr>
          <a:xfrm>
            <a:off x="2271600" y="2081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13@|17FFC:16777215|FBC:16777215|LFC:16777215|LBC:16777215"/>
          <p:cNvSpPr/>
          <p:nvPr/>
        </p:nvSpPr>
        <p:spPr>
          <a:xfrm>
            <a:off x="1890720" y="23670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13@|17FFC:16777215|FBC:16777215|LFC:16777215|LBC:16777215"/>
          <p:cNvSpPr/>
          <p:nvPr/>
        </p:nvSpPr>
        <p:spPr>
          <a:xfrm>
            <a:off x="1930320" y="330840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13@|17FFC:16777215|FBC:16777215|LFC:16777215|LBC:16777215"/>
          <p:cNvSpPr/>
          <p:nvPr/>
        </p:nvSpPr>
        <p:spPr>
          <a:xfrm>
            <a:off x="1549440" y="359568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13@|17FFC:16777215|FBC:16777215|LFC:16777215|LBC:16777215"/>
          <p:cNvSpPr/>
          <p:nvPr/>
        </p:nvSpPr>
        <p:spPr>
          <a:xfrm>
            <a:off x="2400480" y="447372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Box 13@|17FFC:16777215|FBC:16777215|LFC:16777215|LBC:16777215"/>
          <p:cNvSpPr/>
          <p:nvPr/>
        </p:nvSpPr>
        <p:spPr>
          <a:xfrm>
            <a:off x="2019240" y="47592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 Box 33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新月形 4"/>
          <p:cNvSpPr/>
          <p:nvPr/>
        </p:nvSpPr>
        <p:spPr>
          <a:xfrm rot="20751000">
            <a:off x="4135320" y="235692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8a8a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新月形 5"/>
          <p:cNvSpPr/>
          <p:nvPr/>
        </p:nvSpPr>
        <p:spPr>
          <a:xfrm rot="4551600">
            <a:off x="4948200" y="132192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c7176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新月形 6"/>
          <p:cNvSpPr/>
          <p:nvPr/>
        </p:nvSpPr>
        <p:spPr>
          <a:xfrm rot="9951000">
            <a:off x="5984640" y="213624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8a8a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新月形 7"/>
          <p:cNvSpPr/>
          <p:nvPr/>
        </p:nvSpPr>
        <p:spPr>
          <a:xfrm rot="15351000">
            <a:off x="5184360" y="316080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c7176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11"/>
          <p:cNvSpPr/>
          <p:nvPr/>
        </p:nvSpPr>
        <p:spPr>
          <a:xfrm flipH="1">
            <a:off x="4847400" y="35337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直接连接符 24"/>
          <p:cNvSpPr/>
          <p:nvPr/>
        </p:nvSpPr>
        <p:spPr>
          <a:xfrm flipH="1">
            <a:off x="3236400" y="3200400"/>
            <a:ext cx="10494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直接连接符 24"/>
          <p:cNvSpPr/>
          <p:nvPr/>
        </p:nvSpPr>
        <p:spPr>
          <a:xfrm flipH="1">
            <a:off x="3982680" y="5343480"/>
            <a:ext cx="103356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Box 13"/>
          <p:cNvSpPr/>
          <p:nvPr/>
        </p:nvSpPr>
        <p:spPr>
          <a:xfrm>
            <a:off x="1066680" y="2886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13"/>
          <p:cNvSpPr/>
          <p:nvPr/>
        </p:nvSpPr>
        <p:spPr>
          <a:xfrm>
            <a:off x="817560" y="3166920"/>
            <a:ext cx="2201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Box 13"/>
          <p:cNvSpPr/>
          <p:nvPr/>
        </p:nvSpPr>
        <p:spPr>
          <a:xfrm>
            <a:off x="7666200" y="1995480"/>
            <a:ext cx="125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Box 13"/>
          <p:cNvSpPr/>
          <p:nvPr/>
        </p:nvSpPr>
        <p:spPr>
          <a:xfrm>
            <a:off x="7666200" y="2278080"/>
            <a:ext cx="238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Box 13"/>
          <p:cNvSpPr/>
          <p:nvPr/>
        </p:nvSpPr>
        <p:spPr>
          <a:xfrm>
            <a:off x="1817640" y="50976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13"/>
          <p:cNvSpPr/>
          <p:nvPr/>
        </p:nvSpPr>
        <p:spPr>
          <a:xfrm>
            <a:off x="1366920" y="5349960"/>
            <a:ext cx="244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13"/>
          <p:cNvSpPr/>
          <p:nvPr/>
        </p:nvSpPr>
        <p:spPr>
          <a:xfrm>
            <a:off x="8599320" y="42418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8593200" y="4557600"/>
            <a:ext cx="23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直接连接符 24"/>
          <p:cNvSpPr/>
          <p:nvPr/>
        </p:nvSpPr>
        <p:spPr>
          <a:xfrm flipH="1">
            <a:off x="6427440" y="2241720"/>
            <a:ext cx="10494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直接连接符 24"/>
          <p:cNvSpPr/>
          <p:nvPr/>
        </p:nvSpPr>
        <p:spPr>
          <a:xfrm flipH="1">
            <a:off x="7372440" y="4560840"/>
            <a:ext cx="10332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 Box 19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图片 2" descr=""/>
          <p:cNvPicPr/>
          <p:nvPr/>
        </p:nvPicPr>
        <p:blipFill>
          <a:blip r:embed="rId1"/>
          <a:stretch/>
        </p:blipFill>
        <p:spPr>
          <a:xfrm>
            <a:off x="8067600" y="912960"/>
            <a:ext cx="3533760" cy="5924520"/>
          </a:xfrm>
          <a:prstGeom prst="rect">
            <a:avLst/>
          </a:prstGeom>
          <a:ln w="0">
            <a:noFill/>
          </a:ln>
        </p:spPr>
      </p:pic>
      <p:sp>
        <p:nvSpPr>
          <p:cNvPr id="369" name="矩形 3"/>
          <p:cNvSpPr/>
          <p:nvPr/>
        </p:nvSpPr>
        <p:spPr>
          <a:xfrm>
            <a:off x="1268280" y="2711520"/>
            <a:ext cx="267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0" name="组合 4"/>
          <p:cNvGrpSpPr/>
          <p:nvPr/>
        </p:nvGrpSpPr>
        <p:grpSpPr>
          <a:xfrm>
            <a:off x="1268280" y="1962000"/>
            <a:ext cx="2973600" cy="749520"/>
            <a:chOff x="1268280" y="1962000"/>
            <a:chExt cx="2973600" cy="749520"/>
          </a:xfrm>
        </p:grpSpPr>
        <p:pic>
          <p:nvPicPr>
            <p:cNvPr id="371" name="图片 5" descr=""/>
            <p:cNvPicPr/>
            <p:nvPr/>
          </p:nvPicPr>
          <p:blipFill>
            <a:blip r:embed="rId2"/>
            <a:stretch/>
          </p:blipFill>
          <p:spPr>
            <a:xfrm>
              <a:off x="1268280" y="1962000"/>
              <a:ext cx="297360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文本框 6"/>
            <p:cNvSpPr/>
            <p:nvPr/>
          </p:nvSpPr>
          <p:spPr>
            <a:xfrm>
              <a:off x="1576440" y="2084400"/>
              <a:ext cx="165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3" name="矩形 7"/>
          <p:cNvSpPr/>
          <p:nvPr/>
        </p:nvSpPr>
        <p:spPr>
          <a:xfrm>
            <a:off x="5183280" y="2711520"/>
            <a:ext cx="267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4" name="组合 8"/>
          <p:cNvGrpSpPr/>
          <p:nvPr/>
        </p:nvGrpSpPr>
        <p:grpSpPr>
          <a:xfrm>
            <a:off x="5183280" y="1962000"/>
            <a:ext cx="2973240" cy="749520"/>
            <a:chOff x="5183280" y="1962000"/>
            <a:chExt cx="2973240" cy="749520"/>
          </a:xfrm>
        </p:grpSpPr>
        <p:pic>
          <p:nvPicPr>
            <p:cNvPr id="375" name="图片 9" descr=""/>
            <p:cNvPicPr/>
            <p:nvPr/>
          </p:nvPicPr>
          <p:blipFill>
            <a:blip r:embed="rId3"/>
            <a:stretch/>
          </p:blipFill>
          <p:spPr>
            <a:xfrm>
              <a:off x="5183280" y="1962000"/>
              <a:ext cx="297324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文本框 10"/>
            <p:cNvSpPr/>
            <p:nvPr/>
          </p:nvSpPr>
          <p:spPr>
            <a:xfrm>
              <a:off x="5491440" y="2084400"/>
              <a:ext cx="165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7" name="矩形 11"/>
          <p:cNvSpPr/>
          <p:nvPr/>
        </p:nvSpPr>
        <p:spPr>
          <a:xfrm>
            <a:off x="1268280" y="4502160"/>
            <a:ext cx="267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8" name="组合 12"/>
          <p:cNvGrpSpPr/>
          <p:nvPr/>
        </p:nvGrpSpPr>
        <p:grpSpPr>
          <a:xfrm>
            <a:off x="1268280" y="3753000"/>
            <a:ext cx="2973600" cy="749160"/>
            <a:chOff x="1268280" y="3753000"/>
            <a:chExt cx="2973600" cy="749160"/>
          </a:xfrm>
        </p:grpSpPr>
        <p:pic>
          <p:nvPicPr>
            <p:cNvPr id="379" name="图片 13" descr=""/>
            <p:cNvPicPr/>
            <p:nvPr/>
          </p:nvPicPr>
          <p:blipFill>
            <a:blip r:embed="rId4"/>
            <a:stretch/>
          </p:blipFill>
          <p:spPr>
            <a:xfrm>
              <a:off x="1268280" y="3753000"/>
              <a:ext cx="297360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文本框 14"/>
            <p:cNvSpPr/>
            <p:nvPr/>
          </p:nvSpPr>
          <p:spPr>
            <a:xfrm>
              <a:off x="1576440" y="3875400"/>
              <a:ext cx="165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1" name="矩形 15"/>
          <p:cNvSpPr/>
          <p:nvPr/>
        </p:nvSpPr>
        <p:spPr>
          <a:xfrm>
            <a:off x="5183280" y="4502160"/>
            <a:ext cx="267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2" name="组合 16"/>
          <p:cNvGrpSpPr/>
          <p:nvPr/>
        </p:nvGrpSpPr>
        <p:grpSpPr>
          <a:xfrm>
            <a:off x="5183280" y="3753000"/>
            <a:ext cx="2973240" cy="749160"/>
            <a:chOff x="5183280" y="3753000"/>
            <a:chExt cx="2973240" cy="749160"/>
          </a:xfrm>
        </p:grpSpPr>
        <p:pic>
          <p:nvPicPr>
            <p:cNvPr id="383" name="图片 17" descr=""/>
            <p:cNvPicPr/>
            <p:nvPr/>
          </p:nvPicPr>
          <p:blipFill>
            <a:blip r:embed="rId5"/>
            <a:stretch/>
          </p:blipFill>
          <p:spPr>
            <a:xfrm>
              <a:off x="5183280" y="3753000"/>
              <a:ext cx="29732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文本框 18"/>
            <p:cNvSpPr/>
            <p:nvPr/>
          </p:nvSpPr>
          <p:spPr>
            <a:xfrm>
              <a:off x="5491440" y="3875400"/>
              <a:ext cx="165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5" name="Text Box 19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图片 1" descr=""/>
          <p:cNvPicPr/>
          <p:nvPr/>
        </p:nvPicPr>
        <p:blipFill>
          <a:blip r:embed="rId1"/>
          <a:stretch/>
        </p:blipFill>
        <p:spPr>
          <a:xfrm>
            <a:off x="3724200" y="1143000"/>
            <a:ext cx="8467920" cy="4591080"/>
          </a:xfrm>
          <a:prstGeom prst="rect">
            <a:avLst/>
          </a:prstGeom>
          <a:ln w="0">
            <a:noFill/>
          </a:ln>
        </p:spPr>
      </p:pic>
      <p:sp>
        <p:nvSpPr>
          <p:cNvPr id="387" name="矩形 2"/>
          <p:cNvSpPr/>
          <p:nvPr/>
        </p:nvSpPr>
        <p:spPr>
          <a:xfrm>
            <a:off x="701640" y="4900680"/>
            <a:ext cx="37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3"/>
          <p:cNvGrpSpPr/>
          <p:nvPr/>
        </p:nvGrpSpPr>
        <p:grpSpPr>
          <a:xfrm>
            <a:off x="701640" y="3832200"/>
            <a:ext cx="3789360" cy="954000"/>
            <a:chOff x="701640" y="3832200"/>
            <a:chExt cx="3789360" cy="954000"/>
          </a:xfrm>
        </p:grpSpPr>
        <p:pic>
          <p:nvPicPr>
            <p:cNvPr id="389" name="图片 4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701640" y="3832200"/>
              <a:ext cx="378936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文本框 5"/>
            <p:cNvSpPr/>
            <p:nvPr/>
          </p:nvSpPr>
          <p:spPr>
            <a:xfrm>
              <a:off x="1086120" y="40122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1" name="Text Box 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Diamond 4"/>
          <p:cNvSpPr/>
          <p:nvPr/>
        </p:nvSpPr>
        <p:spPr>
          <a:xfrm>
            <a:off x="3751200" y="1647720"/>
            <a:ext cx="4665600" cy="4664160"/>
          </a:xfrm>
          <a:prstGeom prst="diamond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ounded Rectangle 15"/>
          <p:cNvSpPr/>
          <p:nvPr/>
        </p:nvSpPr>
        <p:spPr>
          <a:xfrm>
            <a:off x="4195800" y="2090880"/>
            <a:ext cx="1817640" cy="181908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ounded Rectangle 13"/>
          <p:cNvSpPr/>
          <p:nvPr/>
        </p:nvSpPr>
        <p:spPr>
          <a:xfrm>
            <a:off x="6154560" y="2090880"/>
            <a:ext cx="1818000" cy="181908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ounded Rectangle 11"/>
          <p:cNvSpPr/>
          <p:nvPr/>
        </p:nvSpPr>
        <p:spPr>
          <a:xfrm>
            <a:off x="4195800" y="4049640"/>
            <a:ext cx="1817640" cy="181944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21">
                <a:moveTo>
                  <a:pt x="3600" y="0"/>
                </a:moveTo>
                <a:arcTo wR="3600" hR="3600" stAng="16200000" swAng="-5400000"/>
                <a:lnTo>
                  <a:pt x="0" y="18021"/>
                </a:lnTo>
                <a:arcTo wR="3600" hR="3600" stAng="10800000" swAng="-5400000"/>
                <a:lnTo>
                  <a:pt x="18000" y="216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ounded Rectangle 9"/>
          <p:cNvSpPr/>
          <p:nvPr/>
        </p:nvSpPr>
        <p:spPr>
          <a:xfrm>
            <a:off x="6154560" y="4049640"/>
            <a:ext cx="1818000" cy="181944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7" name="Group 49" descr=""/>
          <p:cNvPicPr/>
          <p:nvPr/>
        </p:nvPicPr>
        <p:blipFill>
          <a:blip r:embed="rId1"/>
          <a:stretch/>
        </p:blipFill>
        <p:spPr>
          <a:xfrm>
            <a:off x="6724800" y="4505400"/>
            <a:ext cx="676080" cy="500040"/>
          </a:xfrm>
          <a:prstGeom prst="rect">
            <a:avLst/>
          </a:prstGeom>
          <a:ln w="0">
            <a:noFill/>
          </a:ln>
        </p:spPr>
      </p:pic>
      <p:sp>
        <p:nvSpPr>
          <p:cNvPr id="398" name="Freeform 24"/>
          <p:cNvSpPr/>
          <p:nvPr/>
        </p:nvSpPr>
        <p:spPr>
          <a:xfrm>
            <a:off x="4805280" y="2495520"/>
            <a:ext cx="628560" cy="617400"/>
          </a:xfrm>
          <a:custGeom>
            <a:avLst/>
            <a:gdLst/>
            <a:ahLst/>
            <a:rect l="l" t="t" r="r" b="b"/>
            <a:pathLst>
              <a:path w="127" h="125">
                <a:moveTo>
                  <a:pt x="54" y="69"/>
                </a:moveTo>
                <a:cubicBezTo>
                  <a:pt x="54" y="73"/>
                  <a:pt x="51" y="76"/>
                  <a:pt x="47" y="76"/>
                </a:cubicBezTo>
                <a:cubicBezTo>
                  <a:pt x="44" y="76"/>
                  <a:pt x="41" y="73"/>
                  <a:pt x="41" y="69"/>
                </a:cubicBezTo>
                <a:cubicBezTo>
                  <a:pt x="41" y="66"/>
                  <a:pt x="44" y="63"/>
                  <a:pt x="47" y="63"/>
                </a:cubicBezTo>
                <a:cubicBezTo>
                  <a:pt x="51" y="63"/>
                  <a:pt x="54" y="66"/>
                  <a:pt x="54" y="69"/>
                </a:cubicBezTo>
                <a:close/>
                <a:moveTo>
                  <a:pt x="80" y="63"/>
                </a:moveTo>
                <a:cubicBezTo>
                  <a:pt x="77" y="63"/>
                  <a:pt x="74" y="66"/>
                  <a:pt x="74" y="69"/>
                </a:cubicBezTo>
                <a:cubicBezTo>
                  <a:pt x="74" y="73"/>
                  <a:pt x="77" y="76"/>
                  <a:pt x="80" y="76"/>
                </a:cubicBezTo>
                <a:cubicBezTo>
                  <a:pt x="84" y="76"/>
                  <a:pt x="87" y="73"/>
                  <a:pt x="87" y="69"/>
                </a:cubicBezTo>
                <a:cubicBezTo>
                  <a:pt x="87" y="66"/>
                  <a:pt x="84" y="63"/>
                  <a:pt x="80" y="63"/>
                </a:cubicBezTo>
                <a:close/>
                <a:moveTo>
                  <a:pt x="127" y="66"/>
                </a:moveTo>
                <a:cubicBezTo>
                  <a:pt x="127" y="78"/>
                  <a:pt x="127" y="78"/>
                  <a:pt x="127" y="78"/>
                </a:cubicBezTo>
                <a:cubicBezTo>
                  <a:pt x="127" y="84"/>
                  <a:pt x="122" y="89"/>
                  <a:pt x="116" y="89"/>
                </a:cubicBezTo>
                <a:cubicBezTo>
                  <a:pt x="108" y="89"/>
                  <a:pt x="108" y="89"/>
                  <a:pt x="108" y="89"/>
                </a:cubicBezTo>
                <a:cubicBezTo>
                  <a:pt x="100" y="112"/>
                  <a:pt x="79" y="125"/>
                  <a:pt x="64" y="125"/>
                </a:cubicBezTo>
                <a:cubicBezTo>
                  <a:pt x="48" y="125"/>
                  <a:pt x="28" y="112"/>
                  <a:pt x="19" y="89"/>
                </a:cubicBezTo>
                <a:cubicBezTo>
                  <a:pt x="11" y="89"/>
                  <a:pt x="11" y="89"/>
                  <a:pt x="11" y="89"/>
                </a:cubicBezTo>
                <a:cubicBezTo>
                  <a:pt x="5" y="89"/>
                  <a:pt x="0" y="84"/>
                  <a:pt x="0" y="78"/>
                </a:cubicBezTo>
                <a:cubicBezTo>
                  <a:pt x="0" y="66"/>
                  <a:pt x="0" y="66"/>
                  <a:pt x="0" y="66"/>
                </a:cubicBezTo>
                <a:cubicBezTo>
                  <a:pt x="0" y="61"/>
                  <a:pt x="2" y="58"/>
                  <a:pt x="6" y="56"/>
                </a:cubicBezTo>
                <a:cubicBezTo>
                  <a:pt x="6" y="38"/>
                  <a:pt x="11" y="24"/>
                  <a:pt x="21" y="15"/>
                </a:cubicBezTo>
                <a:cubicBezTo>
                  <a:pt x="31" y="5"/>
                  <a:pt x="45" y="0"/>
                  <a:pt x="64" y="0"/>
                </a:cubicBezTo>
                <a:cubicBezTo>
                  <a:pt x="82" y="0"/>
                  <a:pt x="96" y="5"/>
                  <a:pt x="106" y="15"/>
                </a:cubicBezTo>
                <a:cubicBezTo>
                  <a:pt x="116" y="24"/>
                  <a:pt x="121" y="38"/>
                  <a:pt x="121" y="56"/>
                </a:cubicBezTo>
                <a:cubicBezTo>
                  <a:pt x="125" y="58"/>
                  <a:pt x="127" y="61"/>
                  <a:pt x="127" y="66"/>
                </a:cubicBezTo>
                <a:close/>
                <a:moveTo>
                  <a:pt x="103" y="69"/>
                </a:moveTo>
                <a:cubicBezTo>
                  <a:pt x="103" y="66"/>
                  <a:pt x="103" y="64"/>
                  <a:pt x="103" y="61"/>
                </a:cubicBezTo>
                <a:cubicBezTo>
                  <a:pt x="98" y="56"/>
                  <a:pt x="89" y="53"/>
                  <a:pt x="77" y="52"/>
                </a:cubicBezTo>
                <a:cubicBezTo>
                  <a:pt x="79" y="53"/>
                  <a:pt x="80" y="56"/>
                  <a:pt x="81" y="58"/>
                </a:cubicBezTo>
                <a:cubicBezTo>
                  <a:pt x="74" y="53"/>
                  <a:pt x="60" y="54"/>
                  <a:pt x="50" y="42"/>
                </a:cubicBezTo>
                <a:cubicBezTo>
                  <a:pt x="49" y="41"/>
                  <a:pt x="49" y="40"/>
                  <a:pt x="48" y="40"/>
                </a:cubicBezTo>
                <a:cubicBezTo>
                  <a:pt x="48" y="40"/>
                  <a:pt x="48" y="40"/>
                  <a:pt x="48" y="40"/>
                </a:cubicBezTo>
                <a:cubicBezTo>
                  <a:pt x="48" y="40"/>
                  <a:pt x="48" y="40"/>
                  <a:pt x="48" y="40"/>
                </a:cubicBezTo>
                <a:cubicBezTo>
                  <a:pt x="46" y="37"/>
                  <a:pt x="46" y="36"/>
                  <a:pt x="46" y="37"/>
                </a:cubicBezTo>
                <a:cubicBezTo>
                  <a:pt x="45" y="52"/>
                  <a:pt x="35" y="63"/>
                  <a:pt x="24" y="64"/>
                </a:cubicBezTo>
                <a:cubicBezTo>
                  <a:pt x="24" y="66"/>
                  <a:pt x="24" y="68"/>
                  <a:pt x="24" y="69"/>
                </a:cubicBezTo>
                <a:cubicBezTo>
                  <a:pt x="24" y="75"/>
                  <a:pt x="25" y="81"/>
                  <a:pt x="27" y="86"/>
                </a:cubicBezTo>
                <a:cubicBezTo>
                  <a:pt x="33" y="93"/>
                  <a:pt x="43" y="95"/>
                  <a:pt x="52" y="96"/>
                </a:cubicBezTo>
                <a:cubicBezTo>
                  <a:pt x="54" y="93"/>
                  <a:pt x="58" y="91"/>
                  <a:pt x="63" y="91"/>
                </a:cubicBezTo>
                <a:cubicBezTo>
                  <a:pt x="69" y="91"/>
                  <a:pt x="73" y="95"/>
                  <a:pt x="73" y="99"/>
                </a:cubicBezTo>
                <a:cubicBezTo>
                  <a:pt x="73" y="104"/>
                  <a:pt x="69" y="107"/>
                  <a:pt x="63" y="107"/>
                </a:cubicBezTo>
                <a:cubicBezTo>
                  <a:pt x="58" y="107"/>
                  <a:pt x="54" y="105"/>
                  <a:pt x="52" y="102"/>
                </a:cubicBezTo>
                <a:cubicBezTo>
                  <a:pt x="46" y="102"/>
                  <a:pt x="39" y="101"/>
                  <a:pt x="32" y="98"/>
                </a:cubicBezTo>
                <a:cubicBezTo>
                  <a:pt x="41" y="111"/>
                  <a:pt x="55" y="118"/>
                  <a:pt x="64" y="118"/>
                </a:cubicBezTo>
                <a:cubicBezTo>
                  <a:pt x="77" y="118"/>
                  <a:pt x="103" y="101"/>
                  <a:pt x="103" y="69"/>
                </a:cubicBezTo>
                <a:close/>
                <a:moveTo>
                  <a:pt x="115" y="54"/>
                </a:moveTo>
                <a:cubicBezTo>
                  <a:pt x="114" y="23"/>
                  <a:pt x="96" y="7"/>
                  <a:pt x="64" y="7"/>
                </a:cubicBezTo>
                <a:cubicBezTo>
                  <a:pt x="31" y="7"/>
                  <a:pt x="13" y="23"/>
                  <a:pt x="13" y="54"/>
                </a:cubicBezTo>
                <a:cubicBezTo>
                  <a:pt x="17" y="54"/>
                  <a:pt x="17" y="54"/>
                  <a:pt x="17" y="54"/>
                </a:cubicBezTo>
                <a:cubicBezTo>
                  <a:pt x="19" y="44"/>
                  <a:pt x="22" y="35"/>
                  <a:pt x="27" y="29"/>
                </a:cubicBezTo>
                <a:cubicBezTo>
                  <a:pt x="35" y="18"/>
                  <a:pt x="48" y="13"/>
                  <a:pt x="64" y="13"/>
                </a:cubicBezTo>
                <a:cubicBezTo>
                  <a:pt x="80" y="13"/>
                  <a:pt x="92" y="18"/>
                  <a:pt x="100" y="29"/>
                </a:cubicBezTo>
                <a:cubicBezTo>
                  <a:pt x="105" y="35"/>
                  <a:pt x="109" y="44"/>
                  <a:pt x="110" y="54"/>
                </a:cubicBezTo>
                <a:lnTo>
                  <a:pt x="115" y="54"/>
                </a:lnTo>
                <a:close/>
                <a:moveTo>
                  <a:pt x="115" y="54"/>
                </a:moveTo>
                <a:cubicBezTo>
                  <a:pt x="115" y="54"/>
                  <a:pt x="115" y="54"/>
                  <a:pt x="115" y="5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Group 70" descr=""/>
          <p:cNvPicPr/>
          <p:nvPr/>
        </p:nvPicPr>
        <p:blipFill>
          <a:blip r:embed="rId2"/>
          <a:stretch/>
        </p:blipFill>
        <p:spPr>
          <a:xfrm>
            <a:off x="4827600" y="4516560"/>
            <a:ext cx="573120" cy="561960"/>
          </a:xfrm>
          <a:prstGeom prst="rect">
            <a:avLst/>
          </a:prstGeom>
          <a:ln w="0">
            <a:noFill/>
          </a:ln>
        </p:spPr>
      </p:pic>
      <p:pic>
        <p:nvPicPr>
          <p:cNvPr id="400" name="Group 91" descr=""/>
          <p:cNvPicPr/>
          <p:nvPr/>
        </p:nvPicPr>
        <p:blipFill>
          <a:blip r:embed="rId3"/>
          <a:stretch/>
        </p:blipFill>
        <p:spPr>
          <a:xfrm>
            <a:off x="6761160" y="2517840"/>
            <a:ext cx="609480" cy="633240"/>
          </a:xfrm>
          <a:prstGeom prst="rect">
            <a:avLst/>
          </a:prstGeom>
          <a:ln w="0">
            <a:noFill/>
          </a:ln>
        </p:spPr>
      </p:pic>
      <p:sp>
        <p:nvSpPr>
          <p:cNvPr id="401" name="TextBox 13"/>
          <p:cNvSpPr/>
          <p:nvPr/>
        </p:nvSpPr>
        <p:spPr>
          <a:xfrm>
            <a:off x="1830240" y="25988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13"/>
          <p:cNvSpPr/>
          <p:nvPr/>
        </p:nvSpPr>
        <p:spPr>
          <a:xfrm>
            <a:off x="1449360" y="2884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13"/>
          <p:cNvSpPr/>
          <p:nvPr/>
        </p:nvSpPr>
        <p:spPr>
          <a:xfrm>
            <a:off x="1830240" y="4552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13"/>
          <p:cNvSpPr/>
          <p:nvPr/>
        </p:nvSpPr>
        <p:spPr>
          <a:xfrm>
            <a:off x="1449360" y="48387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Box 13"/>
          <p:cNvSpPr/>
          <p:nvPr/>
        </p:nvSpPr>
        <p:spPr>
          <a:xfrm>
            <a:off x="8385120" y="25988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Box 13"/>
          <p:cNvSpPr/>
          <p:nvPr/>
        </p:nvSpPr>
        <p:spPr>
          <a:xfrm>
            <a:off x="8385120" y="2884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Box 13"/>
          <p:cNvSpPr/>
          <p:nvPr/>
        </p:nvSpPr>
        <p:spPr>
          <a:xfrm>
            <a:off x="8385120" y="4552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Box 13"/>
          <p:cNvSpPr/>
          <p:nvPr/>
        </p:nvSpPr>
        <p:spPr>
          <a:xfrm>
            <a:off x="8385120" y="48387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Box 13"/>
          <p:cNvSpPr/>
          <p:nvPr/>
        </p:nvSpPr>
        <p:spPr>
          <a:xfrm>
            <a:off x="4489560" y="331776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6429240" y="331776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Box 13"/>
          <p:cNvSpPr/>
          <p:nvPr/>
        </p:nvSpPr>
        <p:spPr>
          <a:xfrm>
            <a:off x="4489560" y="52736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Box 13"/>
          <p:cNvSpPr/>
          <p:nvPr/>
        </p:nvSpPr>
        <p:spPr>
          <a:xfrm>
            <a:off x="6432480" y="5237280"/>
            <a:ext cx="122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23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哎呀小小草</dc:creator>
  <dc:description/>
  <cp:keywords/>
  <dc:language>en-US</dc:language>
  <cp:lastModifiedBy>my</cp:lastModifiedBy>
  <dcterms:modified xsi:type="dcterms:W3CDTF">2015-11-24T06:24:15Z</dcterms:modified>
  <cp:revision>4</cp:revision>
  <dc:subject/>
  <dc:title>PowerPoint 演示文稿</dc:title>
</cp:coreProperties>
</file>