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846A-8188-4651-ADE7-6C1F786C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B59-A526-4035-9BC4-1FD136C5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2FA6-E09E-427D-9058-E9F8A843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7E8-BB9A-4C7A-A586-E68DA7CB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672-F197-45CA-894C-E91F14F3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CC90-41AD-4C75-BD6E-93D8C35E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320F-1C37-40D3-ABCE-8A703A76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018-37F6-484E-B428-A41C576F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D089-4872-4D84-9314-8E17C374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46D-E292-457D-9F67-1202E946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312-83DF-46FF-AE7A-FA127BB7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D768-BB36-474A-B31E-1B96AA3E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24C0-1D34-4755-9E9A-EEA73A01D9C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6"/>
          <p:cNvSpPr/>
          <p:nvPr/>
        </p:nvSpPr>
        <p:spPr>
          <a:xfrm>
            <a:off x="3238560" y="1681200"/>
            <a:ext cx="56023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016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文本框 24"/>
          <p:cNvSpPr/>
          <p:nvPr/>
        </p:nvSpPr>
        <p:spPr>
          <a:xfrm>
            <a:off x="4881600" y="4583160"/>
            <a:ext cx="21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小精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文本框 26"/>
          <p:cNvSpPr/>
          <p:nvPr/>
        </p:nvSpPr>
        <p:spPr>
          <a:xfrm>
            <a:off x="4133880" y="3949560"/>
            <a:ext cx="361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BUSINESS REPORT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46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247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0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616040" y="1114560"/>
            <a:ext cx="10336320" cy="4270320"/>
          </a:xfrm>
          <a:prstGeom prst="rect">
            <a:avLst/>
          </a:prstGeom>
          <a:ln w="0">
            <a:noFill/>
          </a:ln>
        </p:spPr>
      </p:pic>
      <p:sp>
        <p:nvSpPr>
          <p:cNvPr id="252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3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54" name="图片 18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1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文本框 2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8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9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0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1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2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4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5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6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7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9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3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6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07" name="图片 63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08" name="文本框 6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文本框 6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6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7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9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30" name="图片 30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31" name="文本框 3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文本框 4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/>
            <a:ahLst/>
            <a:rect l="l" t="t" r="r" b="b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7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78" name="图片 5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79" name="文本框 5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0" name="文本框 5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8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38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3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4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5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6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8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9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1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12" name="图片 3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13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9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4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5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7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8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0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1" name="图片 2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32" name="文本框 2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文本框 3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9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40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0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1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54" name="图片 3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55" name="文本框 3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文本框 3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稻壳儿小白白(http://dwz.cn/Wu2UP)"/>
          <p:cNvSpPr/>
          <p:nvPr/>
        </p:nvSpPr>
        <p:spPr>
          <a:xfrm>
            <a:off x="6313320" y="1776240"/>
            <a:ext cx="52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7a68"/>
                </a:solidFill>
                <a:latin typeface="Arial"/>
              </a:rPr>
              <a:t>2015</a:t>
            </a:r>
            <a:r>
              <a:rPr b="1" lang="zh-CN" sz="2800" spc="-1" strike="noStrike">
                <a:solidFill>
                  <a:srgbClr val="117a68"/>
                </a:solidFill>
                <a:latin typeface="Arial"/>
                <a:ea typeface="微软雅黑"/>
              </a:rPr>
              <a:t>的结束，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a8ea9"/>
                </a:solidFill>
                <a:latin typeface="Arial"/>
                <a:ea typeface="微软雅黑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</a:t>
            </a:r>
            <a:r>
              <a:rPr b="0" lang="zh-CN" sz="2400" spc="-1" strike="noStrike">
                <a:solidFill>
                  <a:srgbClr val="7a8ea9"/>
                </a:solidFill>
                <a:latin typeface="Arial"/>
                <a:ea typeface="微软雅黑"/>
              </a:rPr>
              <a:t>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0" name="图片 4" descr=""/>
          <p:cNvPicPr/>
          <p:nvPr/>
        </p:nvPicPr>
        <p:blipFill>
          <a:blip r:embed="rId1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5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PREFACE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/>
            <a:ahLst/>
            <a:rect l="l" t="t" r="r" b="b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/>
            <a:ahLst/>
            <a:rect l="l" t="t" r="r" b="b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/>
            <a:ahLst/>
            <a:rect l="l" t="t" r="r" b="b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/>
            <a:ahLst/>
            <a:rect l="l" t="t" r="r" b="b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1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2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3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</a:rPr>
              <a:t>我们的</a:t>
            </a:r>
            <a:r>
              <a:rPr b="1" lang="zh-CN" sz="4800" spc="-1" strike="noStrike">
                <a:solidFill>
                  <a:srgbClr val="117a68"/>
                </a:solidFill>
                <a:latin typeface="Arial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4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75" name="图片 2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76" name="文本框 3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7" name="文本框 3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9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480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117a68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/>
            <a:ahLst/>
            <a:rect l="l" t="t" r="r" b="b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/>
            <a:ahLst/>
            <a:rect l="l" t="t" r="r" b="b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/>
            <a:ahLst/>
            <a:rect l="l" t="t" r="r" b="b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/>
            <a:ahLst/>
            <a:rect l="l" t="t" r="r" b="b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0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502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503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1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6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7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9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20" name="图片 7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21" name="文本框 8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文本框 8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236400" y="3200400"/>
            <a:ext cx="1049760" cy="360"/>
            <a:chOff x="3236400" y="3200400"/>
            <a:chExt cx="1049760" cy="360"/>
          </a:xfrm>
        </p:grpSpPr>
        <p:sp>
          <p:nvSpPr>
            <p:cNvPr id="529" name="稻壳儿小白白(http://dwz.cn/Wu2UP)"/>
            <p:cNvSpPr/>
            <p:nvPr/>
          </p:nvSpPr>
          <p:spPr>
            <a:xfrm flipH="1">
              <a:off x="3236400" y="3200400"/>
              <a:ext cx="10494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3236760" y="3200400"/>
              <a:ext cx="104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982680" y="5343480"/>
            <a:ext cx="1033920" cy="360"/>
            <a:chOff x="3982680" y="5343480"/>
            <a:chExt cx="1033920" cy="360"/>
          </a:xfrm>
        </p:grpSpPr>
        <p:sp>
          <p:nvSpPr>
            <p:cNvPr id="532" name="稻壳儿小白白(http://dwz.cn/Wu2UP)"/>
            <p:cNvSpPr/>
            <p:nvPr/>
          </p:nvSpPr>
          <p:spPr>
            <a:xfrm flipH="1">
              <a:off x="3982680" y="5343480"/>
              <a:ext cx="103356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3983040" y="5343480"/>
              <a:ext cx="1033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534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6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7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8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9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427440" y="2241720"/>
            <a:ext cx="1049760" cy="360"/>
            <a:chOff x="6427440" y="2241720"/>
            <a:chExt cx="1049760" cy="360"/>
          </a:xfrm>
        </p:grpSpPr>
        <p:sp>
          <p:nvSpPr>
            <p:cNvPr id="543" name="稻壳儿小白白(http://dwz.cn/Wu2UP)"/>
            <p:cNvSpPr/>
            <p:nvPr/>
          </p:nvSpPr>
          <p:spPr>
            <a:xfrm flipH="1">
              <a:off x="6427440" y="2241720"/>
              <a:ext cx="10494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6427800" y="2241720"/>
              <a:ext cx="104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7372440" y="4560840"/>
            <a:ext cx="1033200" cy="360"/>
            <a:chOff x="7372440" y="4560840"/>
            <a:chExt cx="1033200" cy="360"/>
          </a:xfrm>
        </p:grpSpPr>
        <p:sp>
          <p:nvSpPr>
            <p:cNvPr id="546" name="稻壳儿小白白(http://dwz.cn/Wu2UP)"/>
            <p:cNvSpPr/>
            <p:nvPr/>
          </p:nvSpPr>
          <p:spPr>
            <a:xfrm flipH="1">
              <a:off x="7372440" y="4560840"/>
              <a:ext cx="10332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7372440" y="4560840"/>
              <a:ext cx="103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548" name="图片 3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49" name="文本框 3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文本框 3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 rot="17768400">
            <a:off x="3551400" y="32684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 rot="17768400">
            <a:off x="3225600" y="2672640"/>
            <a:ext cx="82440" cy="10447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4720"/>
              <a:gd name="textAreaBottom" fmla="*/ 1035720 h 1044720"/>
            </a:gdLst>
            <a:ahLst/>
            <a:rect l="textAreaLeft" t="textAreaTop" r="textAreaRight" b="textAreaBottom"/>
            <a:pathLst>
              <a:path w="21600" h="272630">
                <a:moveTo>
                  <a:pt x="8325" y="0"/>
                </a:moveTo>
                <a:arcTo wR="8325" hR="8325" stAng="16200000" swAng="-5400000"/>
                <a:lnTo>
                  <a:pt x="0" y="264305"/>
                </a:lnTo>
                <a:arcTo wR="8325" hR="8325" stAng="10800000" swAng="-5400000"/>
                <a:lnTo>
                  <a:pt x="13275" y="27263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7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8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9" name="稻壳儿小白白(http://dwz.cn/Wu2UP)"/>
          <p:cNvSpPr/>
          <p:nvPr/>
        </p:nvSpPr>
        <p:spPr>
          <a:xfrm rot="16340400">
            <a:off x="3465360" y="2389320"/>
            <a:ext cx="82800" cy="1041120"/>
          </a:xfrm>
          <a:custGeom>
            <a:avLst/>
            <a:gdLst>
              <a:gd name="textAreaLeft" fmla="*/ 9360 w 82800"/>
              <a:gd name="textAreaRight" fmla="*/ 73440 w 82800"/>
              <a:gd name="textAreaTop" fmla="*/ 9360 h 1041120"/>
              <a:gd name="textAreaBottom" fmla="*/ 1031760 h 1041120"/>
            </a:gdLst>
            <a:ahLst/>
            <a:rect l="textAreaLeft" t="textAreaTop" r="textAreaRight" b="textAreaBottom"/>
            <a:pathLst>
              <a:path w="21600" h="270514">
                <a:moveTo>
                  <a:pt x="8325" y="0"/>
                </a:moveTo>
                <a:arcTo wR="8325" hR="8325" stAng="16200000" swAng="-5400000"/>
                <a:lnTo>
                  <a:pt x="0" y="262189"/>
                </a:lnTo>
                <a:arcTo wR="8325" hR="8325" stAng="10800000" swAng="-5400000"/>
                <a:lnTo>
                  <a:pt x="13275" y="270514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0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1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2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6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570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/>
            <a:ahLst/>
            <a:rect l="l" t="t" r="r" b="b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8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9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0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1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/>
            <a:ahLst/>
            <a:rect l="l" t="t" r="r" b="b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3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90" name="图片 57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91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文本框 6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8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08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609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0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61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418520" y="2627280"/>
            <a:ext cx="1652400" cy="560520"/>
          </a:xfrm>
          <a:prstGeom prst="rect">
            <a:avLst/>
          </a:prstGeom>
          <a:ln w="0">
            <a:noFill/>
          </a:ln>
        </p:spPr>
      </p:pic>
      <p:sp>
        <p:nvSpPr>
          <p:cNvPr id="612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13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614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5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616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8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1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2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3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4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5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7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8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9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30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31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2" name="文本框 6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34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635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7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8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0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1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4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645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648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round/>
            <a:tailEnd len="med" type="triangle" w="med"/>
          </a:ln>
        </p:spPr>
      </p:cxnSp>
      <p:cxnSp>
        <p:nvCxnSpPr>
          <p:cNvPr id="649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round/>
            <a:tailEnd len="med" type="triangle" w="med"/>
          </a:ln>
        </p:spPr>
      </p:cxnSp>
      <p:grpSp>
        <p:nvGrpSpPr>
          <p:cNvPr id="650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651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round/>
              <a:tailEnd len="med" type="triangle" w="med"/>
            </a:ln>
          </p:spPr>
        </p:cxnSp>
        <p:cxnSp>
          <p:nvCxnSpPr>
            <p:cNvPr id="652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round/>
              <a:tailEnd len="med" type="triangle" w="med"/>
            </a:ln>
          </p:spPr>
        </p:cxnSp>
      </p:grpSp>
      <p:sp>
        <p:nvSpPr>
          <p:cNvPr id="653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4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5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6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7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8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9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0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1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2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3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67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文本框 4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3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4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/>
            <a:ahLst/>
            <a:rect l="l" t="t" r="r" b="b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1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2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 rot="16200000">
            <a:off x="2097000" y="4160520"/>
            <a:ext cx="539640" cy="546120"/>
          </a:xfrm>
          <a:custGeom>
            <a:avLst/>
            <a:gdLst/>
            <a:ahLst/>
            <a:rect l="l" t="t" r="r" b="b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/>
            <a:ahLst/>
            <a:rect l="l" t="t" r="r" b="b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/>
            <a:ahLst/>
            <a:rect l="l" t="t" r="r" b="b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4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5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6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7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8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9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0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1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2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3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4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5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6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7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8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10" name="图片 68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6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文本框 72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5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6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7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8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9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0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1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2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3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4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5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6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7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8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9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0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1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2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3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9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0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1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42" name="图片 3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43" name="文本框 40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4" name="文本框 4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6819840" y="123516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0"/>
          <p:cNvSpPr/>
          <p:nvPr/>
        </p:nvSpPr>
        <p:spPr>
          <a:xfrm>
            <a:off x="7672320" y="133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1"/>
          <p:cNvSpPr/>
          <p:nvPr/>
        </p:nvSpPr>
        <p:spPr>
          <a:xfrm>
            <a:off x="6819840" y="124776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" name="图片 24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6819840" y="21463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5"/>
          <p:cNvSpPr/>
          <p:nvPr/>
        </p:nvSpPr>
        <p:spPr>
          <a:xfrm>
            <a:off x="7672320" y="2249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文本框 26"/>
          <p:cNvSpPr/>
          <p:nvPr/>
        </p:nvSpPr>
        <p:spPr>
          <a:xfrm>
            <a:off x="6819840" y="21589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8" name="图片 2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6819840" y="30337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8"/>
          <p:cNvSpPr/>
          <p:nvPr/>
        </p:nvSpPr>
        <p:spPr>
          <a:xfrm>
            <a:off x="7672320" y="3137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文本框 29"/>
          <p:cNvSpPr/>
          <p:nvPr/>
        </p:nvSpPr>
        <p:spPr>
          <a:xfrm>
            <a:off x="6819840" y="30463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1" name="图片 30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6819840" y="3946680"/>
            <a:ext cx="725400" cy="664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31"/>
          <p:cNvSpPr/>
          <p:nvPr/>
        </p:nvSpPr>
        <p:spPr>
          <a:xfrm>
            <a:off x="7672320" y="4048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文本框 33"/>
          <p:cNvSpPr/>
          <p:nvPr/>
        </p:nvSpPr>
        <p:spPr>
          <a:xfrm>
            <a:off x="6819840" y="395928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4" name="图片 34" descr=""/>
          <p:cNvPicPr/>
          <p:nvPr/>
        </p:nvPicPr>
        <p:blipFill>
          <a:blip r:embed="rId5"/>
          <a:srcRect l="13634" t="9294" r="6711" b="5219"/>
          <a:stretch/>
        </p:blipFill>
        <p:spPr>
          <a:xfrm>
            <a:off x="6819840" y="485784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35"/>
          <p:cNvSpPr/>
          <p:nvPr/>
        </p:nvSpPr>
        <p:spPr>
          <a:xfrm>
            <a:off x="7672320" y="4959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文本框 37"/>
          <p:cNvSpPr/>
          <p:nvPr/>
        </p:nvSpPr>
        <p:spPr>
          <a:xfrm>
            <a:off x="6819840" y="487044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7" name="图片 18" descr=""/>
          <p:cNvPicPr/>
          <p:nvPr/>
        </p:nvPicPr>
        <p:blipFill>
          <a:blip r:embed="rId6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32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稻壳儿小白白(http://dwz.cn/Wu2UP)"/>
          <p:cNvSpPr/>
          <p:nvPr/>
        </p:nvSpPr>
        <p:spPr>
          <a:xfrm rot="5400000">
            <a:off x="1984680" y="4074120"/>
            <a:ext cx="12650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6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8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9" name="稻壳儿小白白(http://dwz.cn/Wu2UP)"/>
          <p:cNvSpPr/>
          <p:nvPr/>
        </p:nvSpPr>
        <p:spPr>
          <a:xfrm rot="5400000">
            <a:off x="6639840" y="2923200"/>
            <a:ext cx="126504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1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2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3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60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61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4" name="文本框 6"/>
          <p:cNvSpPr/>
          <p:nvPr/>
        </p:nvSpPr>
        <p:spPr>
          <a:xfrm>
            <a:off x="2759040" y="2014560"/>
            <a:ext cx="6748560" cy="50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THANKS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00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101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25560">
            <a:solidFill>
              <a:srgbClr val="117a68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2" name="图片 4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/>
            <a:ahLst/>
            <a:rect l="l" t="t" r="r" b="b"/>
            <a:pathLst>
              <a:path w="462" h="427">
                <a:moveTo>
                  <a:pt x="266" y="0"/>
                </a:moveTo>
                <a:lnTo>
                  <a:pt x="266" y="0"/>
                </a:ln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lnTo>
                  <a:pt x="266" y="426"/>
                </a:ln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/>
            <a:ahLst/>
            <a:rect l="l" t="t" r="r" b="b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/>
            <a:ahLst/>
            <a:rect l="l" t="t" r="r" b="b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/>
            <a:ahLst/>
            <a:rect l="l" t="t" r="r" b="b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/>
            <a:ahLst/>
            <a:rect l="l" t="t" r="r" b="b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/>
            <a:ahLst/>
            <a:rect l="l" t="t" r="r" b="b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7" name="图片 4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4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533600" y="3571560"/>
            <a:ext cx="9166320" cy="360"/>
            <a:chOff x="1533600" y="3571560"/>
            <a:chExt cx="9166320" cy="360"/>
          </a:xfrm>
        </p:grpSpPr>
        <p:sp>
          <p:nvSpPr>
            <p:cNvPr id="161" name="稻壳儿小白白(http://dwz.cn/Wu2UP)"/>
            <p:cNvSpPr/>
            <p:nvPr/>
          </p:nvSpPr>
          <p:spPr>
            <a:xfrm>
              <a:off x="1533600" y="3571920"/>
              <a:ext cx="9166320" cy="0"/>
            </a:xfrm>
            <a:prstGeom prst="line">
              <a:avLst/>
            </a:prstGeom>
            <a:ln w="12600">
              <a:solidFill>
                <a:srgbClr val="adb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 rot="10800000">
              <a:off x="1533600" y="3571200"/>
              <a:ext cx="916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871960" y="1700280"/>
            <a:ext cx="360" cy="4021200"/>
            <a:chOff x="5871960" y="1700280"/>
            <a:chExt cx="360" cy="4021200"/>
          </a:xfrm>
        </p:grpSpPr>
        <p:sp>
          <p:nvSpPr>
            <p:cNvPr id="164" name="稻壳儿小白白(http://dwz.cn/Wu2UP)"/>
            <p:cNvSpPr/>
            <p:nvPr/>
          </p:nvSpPr>
          <p:spPr>
            <a:xfrm flipV="1">
              <a:off x="5872320" y="1700280"/>
              <a:ext cx="0" cy="4021200"/>
            </a:xfrm>
            <a:prstGeom prst="line">
              <a:avLst/>
            </a:prstGeom>
            <a:ln w="12600">
              <a:solidFill>
                <a:srgbClr val="adb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 rot="10800000">
              <a:off x="5871960" y="1700280"/>
              <a:ext cx="360" cy="402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66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0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2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73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74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8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9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1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2" name="图片 41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42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4" name="文本框 4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/>
            <a:ahLst/>
            <a:rect l="l" t="t" r="r" b="b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6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187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188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189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190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191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/>
            <a:ahLst/>
            <a:rect l="l" t="t" r="r" b="b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7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8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9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0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2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3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5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06" name="图片 53" descr=""/>
          <p:cNvPicPr/>
          <p:nvPr/>
        </p:nvPicPr>
        <p:blipFill>
          <a:blip r:embed="rId6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3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4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5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6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217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18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19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20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round/>
            <a:tailEnd len="med" type="arrow" w="med"/>
          </a:ln>
        </p:spPr>
      </p:cxnSp>
      <p:sp>
        <p:nvSpPr>
          <p:cNvPr id="221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6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7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8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9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30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231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232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233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6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7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8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9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0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1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42" name="图片 54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55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4" name="文本框 5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6-05-07T08:41:27Z</dcterms:modified>
  <cp:revision>5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