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333-4985-489D-B3C6-C814712D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481-50A9-469A-8497-FC7862A1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5E8-232E-41A8-9737-624EF7BE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3B2-DF41-42F7-AA37-A89B4795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D96-771C-4FC7-AB9D-A60F0F8E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364-2768-4C42-A1ED-5A13795F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EDB-6FF0-43C4-8BB7-61E9FCF2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5E8-F712-45BF-9D7C-459F2949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8B1-369F-423E-AB21-CFFBE8C1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DEA-4683-4E18-8C97-DF981E4D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43A-B8D1-4DEF-A802-065C547A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A34-F754-4E98-BB05-713CC05B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39CF-9F1D-4C72-8E33-6090469838C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6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7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52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4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7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30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8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8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12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1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2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9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40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4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5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  <a:ea typeface="微软雅黑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  <a:ea typeface="微软雅黑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  <a:ea typeface="微软雅黑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5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6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9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80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0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502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503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20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236400" y="3200400"/>
            <a:ext cx="1049760" cy="360"/>
            <a:chOff x="3236400" y="3200400"/>
            <a:chExt cx="1049760" cy="360"/>
          </a:xfrm>
        </p:grpSpPr>
        <p:sp>
          <p:nvSpPr>
            <p:cNvPr id="529" name="稻壳儿小白白(http://dwz.cn/Wu2UP)"/>
            <p:cNvSpPr/>
            <p:nvPr/>
          </p:nvSpPr>
          <p:spPr>
            <a:xfrm flipH="1">
              <a:off x="3236400" y="320040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236760" y="320040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982680" y="5343480"/>
            <a:ext cx="1033920" cy="360"/>
            <a:chOff x="3982680" y="5343480"/>
            <a:chExt cx="1033920" cy="360"/>
          </a:xfrm>
        </p:grpSpPr>
        <p:sp>
          <p:nvSpPr>
            <p:cNvPr id="532" name="稻壳儿小白白(http://dwz.cn/Wu2UP)"/>
            <p:cNvSpPr/>
            <p:nvPr/>
          </p:nvSpPr>
          <p:spPr>
            <a:xfrm flipH="1">
              <a:off x="3982680" y="5343480"/>
              <a:ext cx="103356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3983040" y="5343480"/>
              <a:ext cx="103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34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9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427440" y="2241720"/>
            <a:ext cx="1049760" cy="360"/>
            <a:chOff x="6427440" y="2241720"/>
            <a:chExt cx="1049760" cy="360"/>
          </a:xfrm>
        </p:grpSpPr>
        <p:sp>
          <p:nvSpPr>
            <p:cNvPr id="543" name="稻壳儿小白白(http://dwz.cn/Wu2UP)"/>
            <p:cNvSpPr/>
            <p:nvPr/>
          </p:nvSpPr>
          <p:spPr>
            <a:xfrm flipH="1">
              <a:off x="6427440" y="224172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6427800" y="224172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372440" y="4560840"/>
            <a:ext cx="1033200" cy="360"/>
            <a:chOff x="7372440" y="4560840"/>
            <a:chExt cx="1033200" cy="360"/>
          </a:xfrm>
        </p:grpSpPr>
        <p:sp>
          <p:nvSpPr>
            <p:cNvPr id="546" name="稻壳儿小白白(http://dwz.cn/Wu2UP)"/>
            <p:cNvSpPr/>
            <p:nvPr/>
          </p:nvSpPr>
          <p:spPr>
            <a:xfrm flipH="1">
              <a:off x="7372440" y="4560840"/>
              <a:ext cx="10332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7372440" y="4560840"/>
              <a:ext cx="103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48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rot="17768400">
            <a:off x="3551400" y="32684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rot="17768400">
            <a:off x="3225600" y="2672640"/>
            <a:ext cx="82440" cy="10447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4720"/>
              <a:gd name="textAreaBottom" fmla="*/ 1035720 h 1044720"/>
            </a:gdLst>
            <a:ahLst/>
            <a:rect l="textAreaLeft" t="textAreaTop" r="textAreaRight" b="textAreaBottom"/>
            <a:pathLst>
              <a:path w="21600" h="272630">
                <a:moveTo>
                  <a:pt x="8325" y="0"/>
                </a:moveTo>
                <a:arcTo wR="8325" hR="8325" stAng="16200000" swAng="-5400000"/>
                <a:lnTo>
                  <a:pt x="0" y="264305"/>
                </a:lnTo>
                <a:arcTo wR="8325" hR="8325" stAng="10800000" swAng="-5400000"/>
                <a:lnTo>
                  <a:pt x="13275" y="27263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 rot="16340400">
            <a:off x="3465360" y="2389320"/>
            <a:ext cx="82800" cy="1041120"/>
          </a:xfrm>
          <a:custGeom>
            <a:avLst/>
            <a:gdLst>
              <a:gd name="textAreaLeft" fmla="*/ 9360 w 82800"/>
              <a:gd name="textAreaRight" fmla="*/ 73440 w 82800"/>
              <a:gd name="textAreaTop" fmla="*/ 9360 h 1041120"/>
              <a:gd name="textAreaBottom" fmla="*/ 1031760 h 1041120"/>
            </a:gdLst>
            <a:ahLst/>
            <a:rect l="textAreaLeft" t="textAreaTop" r="textAreaRight" b="textAreaBottom"/>
            <a:pathLst>
              <a:path w="21600" h="270514">
                <a:moveTo>
                  <a:pt x="8325" y="0"/>
                </a:moveTo>
                <a:arcTo wR="8325" hR="8325" stAng="16200000" swAng="-5400000"/>
                <a:lnTo>
                  <a:pt x="0" y="262189"/>
                </a:lnTo>
                <a:arcTo wR="8325" hR="8325" stAng="10800000" swAng="-5400000"/>
                <a:lnTo>
                  <a:pt x="13275" y="270514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70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90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91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8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609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0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61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12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3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14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16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0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34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35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4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4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4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cxnSp>
        <p:nvCxnSpPr>
          <p:cNvPr id="64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grpSp>
        <p:nvGrpSpPr>
          <p:cNvPr id="65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51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  <p:cxnSp>
          <p:nvCxnSpPr>
            <p:cNvPr id="652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</p:grpSp>
      <p:sp>
        <p:nvSpPr>
          <p:cNvPr id="65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67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 rot="16200000">
            <a:off x="2097000" y="4160520"/>
            <a:ext cx="539640" cy="5461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8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9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10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2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3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稻壳儿小白白(http://dwz.cn/Wu2UP)"/>
          <p:cNvSpPr/>
          <p:nvPr/>
        </p:nvSpPr>
        <p:spPr>
          <a:xfrm rot="5400000">
            <a:off x="1984680" y="407412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9" name="稻壳儿小白白(http://dwz.cn/Wu2UP)"/>
          <p:cNvSpPr/>
          <p:nvPr/>
        </p:nvSpPr>
        <p:spPr>
          <a:xfrm rot="5400000">
            <a:off x="6639840" y="2923200"/>
            <a:ext cx="126504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60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61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4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533600" y="3571560"/>
            <a:ext cx="9166320" cy="360"/>
            <a:chOff x="1533600" y="3571560"/>
            <a:chExt cx="9166320" cy="360"/>
          </a:xfrm>
        </p:grpSpPr>
        <p:sp>
          <p:nvSpPr>
            <p:cNvPr id="161" name="稻壳儿小白白(http://dwz.cn/Wu2UP)"/>
            <p:cNvSpPr/>
            <p:nvPr/>
          </p:nvSpPr>
          <p:spPr>
            <a:xfrm>
              <a:off x="1533600" y="3571920"/>
              <a:ext cx="9166320" cy="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1533600" y="3571200"/>
              <a:ext cx="916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71960" y="1700280"/>
            <a:ext cx="360" cy="4021200"/>
            <a:chOff x="5871960" y="1700280"/>
            <a:chExt cx="360" cy="4021200"/>
          </a:xfrm>
        </p:grpSpPr>
        <p:sp>
          <p:nvSpPr>
            <p:cNvPr id="164" name="稻壳儿小白白(http://dwz.cn/Wu2UP)"/>
            <p:cNvSpPr/>
            <p:nvPr/>
          </p:nvSpPr>
          <p:spPr>
            <a:xfrm flipV="1">
              <a:off x="5872320" y="1700280"/>
              <a:ext cx="0" cy="402120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5871960" y="1700280"/>
              <a:ext cx="360" cy="402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66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4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9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90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91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6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7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8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9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20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round/>
            <a:tailEnd len="med" type="arrow" w="med"/>
          </a:ln>
        </p:spPr>
      </p:cxnSp>
      <p:sp>
        <p:nvSpPr>
          <p:cNvPr id="221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0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31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3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3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2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6-05-07T08:41:27Z</dcterms:modified>
  <cp:revision>5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