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465F-F165-4D99-B38E-982E0EF92DB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6D5-4A62-44EB-8A18-C3675243B6D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E4C8-10F9-4518-B893-64D482A03AA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C108-3AF0-49E5-98C3-0228BC20A95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686F-E625-434C-B40C-C3231545A4E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C01B-60D8-4606-A974-9ADCDDA2BB1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B29A-C224-4130-979C-39468B0C179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387-8BB0-49E4-A68A-6949A4D8992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F76B-EC51-46D3-B0EA-20DA1D9BF7E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188-C198-46A4-A64C-1A2B34E5403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E518-1BC1-4A28-B59B-AAD9D5A1BE7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E3F-904F-4F56-8840-3BB87BE136B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2EF2-2CD2-4272-BAC5-0E2A43C86C7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7544-FA86-4134-BD8A-7B39235540C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957C-7325-493D-B24E-B05AE243547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0E6E-5891-48D4-A163-13A8FF29169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1931-0A49-4FF4-8CD1-C139AE4BA4D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621E-7EFA-43C1-ABBD-B96FC797DEF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2EB5-8AC0-49A0-A9B6-E6691656BD1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496C-52A6-4829-BED4-1E18D1EEFC0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02D2-F2A4-45AD-AAF4-9EED8617659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46D0-AB64-49A7-AF5B-007C65C2237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C5E6-CFFB-4567-8601-5859B6E9507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E42D-106B-4C20-AB64-7A6B3023FDD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F293-97C5-4F94-ABC4-98BE7776FA5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5E01-AAE6-4C3E-B2BC-8C53DDB64B3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18B-CC12-4690-AA77-D40A065E3E7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E056-3300-40E4-A0A8-953656E5181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1882-286E-467D-BDC4-C590B4FFD1E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551C-E982-49A8-A9FB-62E3C27978B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5460-4511-42F7-97CE-EF08E8C4CEE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CD4E-597F-4A2A-A3AB-E36C9DABF95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0EE2-418B-4002-8C92-ECBB3A2AC47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49F-187D-44ED-B78A-6E2C6DCEB84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A9A1-561F-4D38-AFC4-9D74CE02881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A67C-08A2-41AB-9311-BE3BC0763C4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1BBF-AE9C-43C9-AD5B-3CB2EE610C6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BBEF-845F-461F-A02E-6497D71767A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FCFE-E001-48EE-B5C5-56BD2663695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CC06-A67D-425A-AD30-FAA1E12E99F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0E1-18D0-4BE9-AA8F-956AB6F5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C62-71B8-48F8-B63D-726495E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FBB-47DC-4DEC-AB62-7D259C01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406-B5A3-4E3E-9144-89076978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76F-B1B4-492A-9003-59316210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0DC-1E1A-4427-82D7-D8315D30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55C-0400-4300-8646-42148584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000-3827-4D2A-AF5E-0C821AC4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9DE-8078-4C5F-8002-827FB5C9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3D0-9E95-4B04-B34B-A20EDC4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AC4-63C2-4791-ACF1-4DC1E836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2BB-8929-4217-B3DC-9D855C9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AC3D-ED86-47DE-B55F-0F480278DB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550A-52C1-4D3B-9C8F-38F1E974D8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4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64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98C0-9953-496C-BC04-5AB38B0665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54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AutoShape 10"/>
            <p:cNvCxnSpPr>
              <a:stCxn id="254" idx="0"/>
              <a:endCxn id="261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2" name="AutoShape 11"/>
            <p:cNvCxnSpPr>
              <a:stCxn id="254" idx="7"/>
              <a:endCxn id="258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3" name="AutoShape 12"/>
            <p:cNvCxnSpPr>
              <a:stCxn id="254" idx="5"/>
              <a:endCxn id="256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4" name="AutoShape 13"/>
            <p:cNvCxnSpPr>
              <a:stCxn id="258" idx="6"/>
              <a:endCxn id="265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6" name="AutoShape 14"/>
            <p:cNvCxnSpPr>
              <a:stCxn id="256" idx="6"/>
              <a:endCxn id="265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7" name="AutoShape 15"/>
            <p:cNvCxnSpPr>
              <a:stCxn id="256" idx="1"/>
              <a:endCxn id="261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8" name="AutoShape 16"/>
            <p:cNvCxnSpPr>
              <a:stCxn id="258" idx="1"/>
              <a:endCxn id="261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9" name="AutoShape 17"/>
            <p:cNvCxnSpPr>
              <a:stCxn id="270" idx="1"/>
              <a:endCxn id="261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grpSp>
          <p:nvGrpSpPr>
            <p:cNvPr id="271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72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040-A1FA-4CBF-87F8-C0559C28AF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86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96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3F21-2DE8-44B4-B836-C513344423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15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18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21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24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27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30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33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36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9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42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C2EE-B5ED-4CA4-825B-4138A83F0E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52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67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70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73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92FB-668B-4CCC-902C-8F526378AA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3E8F-D996-4A00-928F-63F601BA60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14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24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7D54-C2D2-4324-A0D2-BB74904C4E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43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46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>
                <a:gd name="textAreaLeft" fmla="*/ 0 w 1317600"/>
                <a:gd name="textAreaRight" fmla="*/ 1317600 w 1317600"/>
                <a:gd name="textAreaTop" fmla="*/ 0 h 2374920"/>
                <a:gd name="textAreaBottom" fmla="*/ 2375280 h 2374920"/>
              </a:gdLst>
              <a:ahLst/>
              <a:rect l="textAreaLeft" t="textAreaTop" r="textAreaRight" b="textAreaBottom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68EF-AA60-4C16-A4C0-7F741B3380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798E-4923-4611-A547-DFFCBDA98E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76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9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82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67AE-7759-44DB-82D5-5BE0423DF6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97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607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38EC-20D6-4F19-8F37-7FEEC6C68E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52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8F87-FF3C-4382-B58C-4451C4622E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00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10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8C1B-3510-42F6-A546-A0392D76A9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24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27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EF10-1ADB-4897-AA26-E9F2D285D8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38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6ABD-7FB6-4E07-8A90-77A6EC34CA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5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9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62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9389-352B-44D0-A714-AD96A755D3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7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8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6B9-B98C-453B-AA56-3B567BC357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12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2546-E13F-45F4-B265-3A8BA82704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34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37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40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43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cp:keywords/>
  <dc:language>en-US</dc:language>
  <cp:lastModifiedBy>Yehuan Liu</cp:lastModifiedBy>
  <dcterms:modified xsi:type="dcterms:W3CDTF">2014-11-06T10:21:53Z</dcterms:modified>
  <cp:revision>55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