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F6B-2C51-495B-AB0D-3916A5AA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2D3-0AF9-4FAA-96CE-954BFBC4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C1B83-9E70-456F-8DB7-D9A0A510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54D1B-8E6C-432F-BFD5-B58337D3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BBE9C-C9A3-4C4E-8F58-0D82AAEB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251B4-13BF-42FF-8352-48CBFBF9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C9755-7A0C-4B2A-91E1-C4B7DBEA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883CA-A242-4EC5-8C8B-B5DF5B0B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98291-9308-46B3-9E30-115996EB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123E3-5EB8-4654-9060-1CBEEC8C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2F4A0-6BC5-4533-AEFC-235F75BC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A9078-0E7E-4A23-90BA-171DBC29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B0E-27F0-443D-B101-A8943002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E9BD7-F169-458C-9C44-26A69AF5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6B28A-6022-41A8-B2D2-E11A0CBE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EABCD-74CC-43E0-BF3F-B5B0663C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5D439-513F-4795-B07B-AC5C9F3A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1B626-6360-4B22-8E72-1DFC2FED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3A961-05BB-4744-98D7-AC548039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2B41B-92F4-4E4B-BC96-A9BD3271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714E2-3D7F-4383-8E8C-644F5415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9B3C9-251A-4FA7-AD19-EA1EB9AB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576C0-0591-4E61-80AF-9713D67F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7E9-545C-4C13-BA67-0FE6CFEB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5E1D5-AAFE-4187-AEB3-F8E80A8F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AFF39-598E-40C2-BAA2-6AFE3F83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3EAE3-0988-4B6C-BFC9-FE913397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A06DA-51A5-4AB4-9393-343B0FF7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BA1FB-DAB3-49E5-8860-E5EA8DDB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25547-759A-45E3-B640-E442DDA6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A13BF-AD78-4460-9D76-D2BA5F27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CEA7B-DAFC-4A9C-8978-C7FD8778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0B2A9-E710-40BF-942B-075C4BDA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C6191-6978-4756-BE1D-381C8908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B508-FF54-4D4D-AE15-DF787D8E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96314-BE87-43FB-9DD1-E4F53DBB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10DA7-9490-4BC2-8441-CF104937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6DAEC-45C2-49DF-B455-5CC2A59A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EB8A4-3F7F-4A92-A848-E7D34CA4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33158-47B7-4983-902E-25061C83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7A5CF-7518-45FB-A772-EEF0E603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F6748-263F-4E30-8F57-B9F7C0A2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FE7D2-968B-44A5-9E86-3A6452A9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FCED5-C248-455B-A108-94F44AD7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F6DFD-EFFC-47B3-8007-5D386486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1B11-C70C-48F3-B44D-EB378552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03831-E964-4368-A75A-491040E8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7D159-EC4E-4943-B4CA-5BE6B2A4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DB7B7-3A4B-4770-9719-900EE45D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D99EA-97FE-409D-88C8-B559C942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F6B84-5F93-4EDE-8052-8F103183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A7BD-A786-482D-8DCC-0022D842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D207-E77D-4086-AAA1-29279334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60FA-3514-4DC4-8A54-91A7F925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C9C1-1C56-48EB-B2FA-D5DD7473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121E-D753-4446-9D48-6B09739A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82D-74E6-4C68-A73F-9D17871D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951A-2F52-48A0-91A3-6496FD9B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425D-4FB3-4879-BEA8-63B6D5D2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9029-9C78-471D-8FD7-32C0668F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0740-D26F-46B1-AA58-FD141776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7336-7F6A-4003-AA2B-3C4D9431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72CAF-7444-49DB-8B75-A2BA3CD1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F3908-4D74-420B-BED9-DC99AA41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5F6CB-3D17-45CC-AE25-7C9F3428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AAAB1-33AD-43E1-BB8E-A8745A91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4C93-A295-4CF0-ACF9-57C055CD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687-4428-478B-9456-5D991D21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9F3C7-6363-4C44-9A6B-21674C3F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1E213-8110-457F-A111-56DCB3DF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EF3F2-BF7B-4788-9DB2-1F61CA3D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B243-A9A6-4D4E-A224-5B64F554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CD5D0-B134-41F9-A527-5B29B835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A740-0BE1-497A-8F42-0BD8918F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C56DE-2FC9-461E-9674-42DC2C3F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A6AAD-709D-421F-8280-55DAD1B6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FD18A-F9E6-400A-9977-A0C56F7C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918C8-6357-4639-B934-F1F704BB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698A-5973-4764-B08B-E0CB375E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619DE-3F80-45DE-B172-2E5388A5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128C5-B54F-422F-B7EA-60F367EC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14EFE-0A83-4812-A68A-5461A674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20A54-B39F-4C77-9966-934309C6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DAD7A-7CB9-4DED-AC80-5D21073A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D6168-1960-43FE-9AE8-B868F260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04E98-FE92-43AD-BE7D-DA2793F9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41D97-DC40-4063-8C47-82186E4B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85709-0EB9-4849-AC6E-FC9E6265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9A18F-41F6-4370-A40E-8B75F4F2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9A7-6F84-4F84-B310-831F300F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0D501-8FA7-420B-9A9D-C8E44BFF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CF5D6-47C0-414B-9432-2BF9D372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57C89-05FE-42F2-B812-40D353A1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D2F47-1F78-4300-A401-4F8B3F5F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12314-FFF1-4D35-85C0-C5344BA0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116EE-B43F-4C97-BF83-BAA601E2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29791-2843-4998-B260-80568762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2F310-FF32-4F98-B35D-CDC07C31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02B32-D697-4752-BAE1-4FB56BA2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C397C-E26A-414A-9783-87F79040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C5A-BBE6-4546-A621-098E52A1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48ADA-63D8-4324-8CDC-1AEE61FC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9124D-B887-4FEE-AABF-32FE0817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6231C-02A8-444D-A9C9-6F98F688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3B337-61D5-4BEB-A760-DEBEBA28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0BD51-FDED-4AFB-B9AC-E1CA54E5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7BE30-7620-4060-B119-41C67B12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04246-AC5D-4E40-9595-FD631EC0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1606E-3FC7-4AFE-9CE0-5A5D0DC9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AA04C-F57F-4768-831A-46EB4510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5679E-B33E-45F8-A95E-EEE1BD38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F10-08A6-49C6-87F5-2C39B4E2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10ED9-D445-49A4-A2C5-CB7F3606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4C5E3-4EE3-484D-9616-65F1D241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C7743-FBD0-42FE-8C66-CB2D5252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0F32C-1B9C-4F92-857C-58267EBF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B5940-A124-4115-8E57-A3DD7FB0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54550-955B-4E88-84F2-D665F97A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9EA87-5EE3-4603-BDFE-40374B6C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7035A-EE06-411E-987E-14A0B830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FBD5D-0891-48DA-AC63-C2D0F932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BA881-95FA-4FCC-8B8D-2A067417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245-1F49-42F9-A14A-D308AAD0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BC92C-AF4C-431C-A512-5682739D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96ECD-3B61-4B39-8210-151B5D1D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D8D34-4F77-4A09-BF40-216A893B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47DB3-F487-40E9-A03F-AC8A6DF8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0CF26-0D68-4860-873A-A2AA89B9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FB089-757F-4723-92C1-37F41F1A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37D5D-A8D0-448A-99E4-435DFB9F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0D646-8FA3-4C25-8665-F1010C8D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3D9FE-B65E-405B-8AC5-9D8859B8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43472-03C3-4ED9-8B3A-42FA020A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CFC-6A15-4019-A468-A3D10559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D0716-D48C-4C8B-BE12-077D4C79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5573E-9BDE-4D96-BE25-BBC72308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E5FE6-A91B-453D-8CDD-C73C3C19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C0666-7E25-45A9-9FFF-FB857F30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5CA72-843D-4D8E-9C4A-F21AD19B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37E23-F67E-472B-9C33-198EBDDD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C3CB6-22D0-42F3-B7E2-DF2C7FF1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B9067-5A43-45DB-BAAB-A65EEBC9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CF6F4-123F-48E2-A749-A14FB2C5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F7B4D-B543-4EF6-9D0E-CD4D6E9B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lo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A049-FCAD-4049-959E-C7514526E40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AC38-7573-4C36-A1FC-937AADD616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BE07-1726-43CF-B1F9-90F8F33B507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BD31-EFF7-4AED-B05A-348E42B673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50FF-431A-421F-ACEE-46090B8B9AC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9806-AAF5-4BF0-8113-98FC96AE6A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2000-1295-42C1-883B-DD426D896BD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54CF-1D94-4722-A777-3B515C5AC6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A440-E545-47EC-BF7E-988602C3AB2C}" type="datetime">
              <a:rPr b="0" lang="zh-CN" sz="1200" spc="-1" strike="noStrike">
                <a:solidFill>
                  <a:srgbClr val="898989"/>
                </a:solidFill>
                <a:latin typeface="方正兰亭黑_GB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7825-2023-48CB-988E-B66E0BA75241}" type="slidenum">
              <a:rPr b="0" lang="zh-CN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B702-FA1E-4DC2-94A6-147B183DB1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76AF-485C-430B-AD57-B109D2D92B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5664-E1C6-41E4-BE53-CDDD23062A6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7D56-5523-4948-896F-CA1AF9BB15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48B1-A923-4824-AADA-40CF1A4356E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61D9-1708-4A2E-9799-0A136C8AA9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DE0B-3891-4744-B2FE-08A9CEDC0E2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97C5-10B8-45FB-97BD-5C8836FE0A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444B-E334-43CC-A11B-9B22A796866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DF27-A2B1-4109-952B-66ECD33759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013E-123F-46C1-BA7C-9D5BA017826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A3CA-6BDC-4346-919B-CA78471E02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5F30-581D-46C1-9D8C-33FC60C05BD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FFB4-4918-49C8-967F-57FA86DB54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daxue101.100get.c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01_Main-Background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0" y="4565520"/>
            <a:ext cx="4343400" cy="1219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4406760" y="4565520"/>
            <a:ext cx="1143000" cy="1219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7"/>
          <p:cNvSpPr/>
          <p:nvPr/>
        </p:nvSpPr>
        <p:spPr>
          <a:xfrm>
            <a:off x="838080" y="3632040"/>
            <a:ext cx="3613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Windows </a:t>
            </a:r>
            <a:r>
              <a:rPr b="0" lang="en-US" sz="4500" spc="-1" strike="noStrike">
                <a:solidFill>
                  <a:srgbClr val="0099ff"/>
                </a:solidFill>
                <a:latin typeface="方正兰亭黑_GBK"/>
                <a:ea typeface="宋体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6"/>
          <p:cNvSpPr/>
          <p:nvPr/>
        </p:nvSpPr>
        <p:spPr>
          <a:xfrm>
            <a:off x="4570560" y="-144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：</a:t>
            </a:r>
            <a:r>
              <a:rPr b="0" lang="en-US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4406760" y="3124080"/>
            <a:ext cx="274320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577800" y="3240000"/>
            <a:ext cx="361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PRESENT</a:t>
            </a:r>
            <a:r>
              <a:rPr b="0" lang="en-US" sz="2500" spc="-1" strike="noStrike">
                <a:solidFill>
                  <a:srgbClr val="0099ff"/>
                </a:solidFill>
                <a:latin typeface="方正兰亭黑_GBK"/>
                <a:ea typeface="宋体"/>
              </a:rPr>
              <a:t>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419720" y="5141880"/>
            <a:ext cx="472428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8"/>
          <p:cNvSpPr/>
          <p:nvPr/>
        </p:nvSpPr>
        <p:spPr>
          <a:xfrm>
            <a:off x="162072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方正兰亭黑_GBK"/>
                <a:ea typeface="宋体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9"/>
          <p:cNvSpPr/>
          <p:nvPr/>
        </p:nvSpPr>
        <p:spPr>
          <a:xfrm>
            <a:off x="265428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方正兰亭黑_GBK"/>
                <a:ea typeface="宋体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0"/>
          <p:cNvSpPr/>
          <p:nvPr/>
        </p:nvSpPr>
        <p:spPr>
          <a:xfrm>
            <a:off x="363204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方正兰亭黑_GBK"/>
                <a:ea typeface="宋体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21"/>
          <p:cNvSpPr/>
          <p:nvPr/>
        </p:nvSpPr>
        <p:spPr>
          <a:xfrm>
            <a:off x="162072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d8f1"/>
                </a:solidFill>
                <a:latin typeface="方正兰亭黑_GBK"/>
                <a:ea typeface="宋体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22"/>
          <p:cNvSpPr/>
          <p:nvPr/>
        </p:nvSpPr>
        <p:spPr>
          <a:xfrm>
            <a:off x="265428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方正兰亭黑_GBK"/>
                <a:ea typeface="宋体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3"/>
          <p:cNvSpPr/>
          <p:nvPr/>
        </p:nvSpPr>
        <p:spPr>
          <a:xfrm>
            <a:off x="363204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方正兰亭黑_GBK"/>
                <a:ea typeface="宋体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5" descr="01_Main-Background.jpg"/>
          <p:cNvPicPr/>
          <p:nvPr/>
        </p:nvPicPr>
        <p:blipFill>
          <a:blip r:embed="rId1"/>
          <a:stretch/>
        </p:blipFill>
        <p:spPr>
          <a:xfrm>
            <a:off x="-91296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7"/>
          <p:cNvSpPr/>
          <p:nvPr/>
        </p:nvSpPr>
        <p:spPr>
          <a:xfrm>
            <a:off x="762120" y="36608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ABOUT 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6"/>
          <p:cNvSpPr/>
          <p:nvPr/>
        </p:nvSpPr>
        <p:spPr>
          <a:xfrm>
            <a:off x="4343400" y="35305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玩转大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r>
              <a:rPr b="0" lang="zh-CN" sz="1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：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 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9"/>
          <p:cNvGrpSpPr/>
          <p:nvPr/>
        </p:nvGrpSpPr>
        <p:grpSpPr>
          <a:xfrm>
            <a:off x="4290840" y="2160720"/>
            <a:ext cx="3003840" cy="1542240"/>
            <a:chOff x="4290840" y="2160720"/>
            <a:chExt cx="3003840" cy="1542240"/>
          </a:xfrm>
        </p:grpSpPr>
        <p:sp>
          <p:nvSpPr>
            <p:cNvPr id="522" name="TextBox 29"/>
            <p:cNvSpPr/>
            <p:nvPr/>
          </p:nvSpPr>
          <p:spPr>
            <a:xfrm>
              <a:off x="4290840" y="2268360"/>
              <a:ext cx="2948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HEADIL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30"/>
            <p:cNvSpPr/>
            <p:nvPr/>
          </p:nvSpPr>
          <p:spPr>
            <a:xfrm>
              <a:off x="4322160" y="291708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8"/>
            <p:cNvSpPr/>
            <p:nvPr/>
          </p:nvSpPr>
          <p:spPr>
            <a:xfrm>
              <a:off x="4311720" y="2160720"/>
              <a:ext cx="22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AN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"/>
          <p:cNvSpPr/>
          <p:nvPr/>
        </p:nvSpPr>
        <p:spPr>
          <a:xfrm>
            <a:off x="762120" y="36464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BULLET T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8"/>
          <p:cNvGrpSpPr/>
          <p:nvPr/>
        </p:nvGrpSpPr>
        <p:grpSpPr>
          <a:xfrm>
            <a:off x="4290840" y="1946160"/>
            <a:ext cx="3003840" cy="1542240"/>
            <a:chOff x="4290840" y="1946160"/>
            <a:chExt cx="3003840" cy="1542240"/>
          </a:xfrm>
        </p:grpSpPr>
        <p:sp>
          <p:nvSpPr>
            <p:cNvPr id="531" name="TextBox 29"/>
            <p:cNvSpPr/>
            <p:nvPr/>
          </p:nvSpPr>
          <p:spPr>
            <a:xfrm>
              <a:off x="4290840" y="2053800"/>
              <a:ext cx="2643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HEADIL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30"/>
            <p:cNvSpPr/>
            <p:nvPr/>
          </p:nvSpPr>
          <p:spPr>
            <a:xfrm>
              <a:off x="4322160" y="270360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"/>
            <p:cNvSpPr/>
            <p:nvPr/>
          </p:nvSpPr>
          <p:spPr>
            <a:xfrm>
              <a:off x="4311720" y="1946160"/>
              <a:ext cx="22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AN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12"/>
          <p:cNvGrpSpPr/>
          <p:nvPr/>
        </p:nvGrpSpPr>
        <p:grpSpPr>
          <a:xfrm>
            <a:off x="4383000" y="3376440"/>
            <a:ext cx="3490920" cy="398520"/>
            <a:chOff x="4383000" y="3376440"/>
            <a:chExt cx="3490920" cy="398520"/>
          </a:xfrm>
        </p:grpSpPr>
        <p:sp>
          <p:nvSpPr>
            <p:cNvPr id="535" name="TextBox 26"/>
            <p:cNvSpPr/>
            <p:nvPr/>
          </p:nvSpPr>
          <p:spPr>
            <a:xfrm>
              <a:off x="4674240" y="337644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12"/>
            <p:cNvSpPr/>
            <p:nvPr/>
          </p:nvSpPr>
          <p:spPr>
            <a:xfrm>
              <a:off x="4383000" y="337644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15"/>
          <p:cNvGrpSpPr/>
          <p:nvPr/>
        </p:nvGrpSpPr>
        <p:grpSpPr>
          <a:xfrm>
            <a:off x="4383000" y="3911760"/>
            <a:ext cx="3490920" cy="307080"/>
            <a:chOff x="4383000" y="3911760"/>
            <a:chExt cx="3490920" cy="307080"/>
          </a:xfrm>
        </p:grpSpPr>
        <p:sp>
          <p:nvSpPr>
            <p:cNvPr id="538" name="TextBox 15"/>
            <p:cNvSpPr/>
            <p:nvPr/>
          </p:nvSpPr>
          <p:spPr>
            <a:xfrm>
              <a:off x="4674240" y="391176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16"/>
            <p:cNvSpPr/>
            <p:nvPr/>
          </p:nvSpPr>
          <p:spPr>
            <a:xfrm>
              <a:off x="4383000" y="391176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18"/>
          <p:cNvGrpSpPr/>
          <p:nvPr/>
        </p:nvGrpSpPr>
        <p:grpSpPr>
          <a:xfrm>
            <a:off x="4383000" y="4235400"/>
            <a:ext cx="3490920" cy="398520"/>
            <a:chOff x="4383000" y="4235400"/>
            <a:chExt cx="3490920" cy="398520"/>
          </a:xfrm>
        </p:grpSpPr>
        <p:sp>
          <p:nvSpPr>
            <p:cNvPr id="541" name="TextBox 21"/>
            <p:cNvSpPr/>
            <p:nvPr/>
          </p:nvSpPr>
          <p:spPr>
            <a:xfrm>
              <a:off x="4674240" y="423540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2"/>
            <p:cNvSpPr/>
            <p:nvPr/>
          </p:nvSpPr>
          <p:spPr>
            <a:xfrm>
              <a:off x="4383000" y="423540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21"/>
          <p:cNvGrpSpPr/>
          <p:nvPr/>
        </p:nvGrpSpPr>
        <p:grpSpPr>
          <a:xfrm>
            <a:off x="4383000" y="4784760"/>
            <a:ext cx="3490920" cy="307080"/>
            <a:chOff x="4383000" y="4784760"/>
            <a:chExt cx="3490920" cy="307080"/>
          </a:xfrm>
        </p:grpSpPr>
        <p:sp>
          <p:nvSpPr>
            <p:cNvPr id="544" name="TextBox 27"/>
            <p:cNvSpPr/>
            <p:nvPr/>
          </p:nvSpPr>
          <p:spPr>
            <a:xfrm>
              <a:off x="4674240" y="478476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31"/>
            <p:cNvSpPr/>
            <p:nvPr/>
          </p:nvSpPr>
          <p:spPr>
            <a:xfrm>
              <a:off x="4383000" y="478476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4"/>
          <p:cNvGrpSpPr/>
          <p:nvPr/>
        </p:nvGrpSpPr>
        <p:grpSpPr>
          <a:xfrm>
            <a:off x="4383000" y="5108400"/>
            <a:ext cx="3490920" cy="398520"/>
            <a:chOff x="4383000" y="5108400"/>
            <a:chExt cx="3490920" cy="398520"/>
          </a:xfrm>
        </p:grpSpPr>
        <p:sp>
          <p:nvSpPr>
            <p:cNvPr id="547" name="TextBox 33"/>
            <p:cNvSpPr/>
            <p:nvPr/>
          </p:nvSpPr>
          <p:spPr>
            <a:xfrm>
              <a:off x="4674240" y="510840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34"/>
            <p:cNvSpPr/>
            <p:nvPr/>
          </p:nvSpPr>
          <p:spPr>
            <a:xfrm>
              <a:off x="4383000" y="510840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7"/>
          <p:cNvGrpSpPr/>
          <p:nvPr/>
        </p:nvGrpSpPr>
        <p:grpSpPr>
          <a:xfrm>
            <a:off x="4383000" y="5654520"/>
            <a:ext cx="3490920" cy="307080"/>
            <a:chOff x="4383000" y="5654520"/>
            <a:chExt cx="3490920" cy="307080"/>
          </a:xfrm>
        </p:grpSpPr>
        <p:sp>
          <p:nvSpPr>
            <p:cNvPr id="550" name="TextBox 37"/>
            <p:cNvSpPr/>
            <p:nvPr/>
          </p:nvSpPr>
          <p:spPr>
            <a:xfrm>
              <a:off x="4674240" y="565452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38"/>
            <p:cNvSpPr/>
            <p:nvPr/>
          </p:nvSpPr>
          <p:spPr>
            <a:xfrm>
              <a:off x="4383000" y="565452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3"/>
          <p:cNvSpPr/>
          <p:nvPr/>
        </p:nvSpPr>
        <p:spPr>
          <a:xfrm>
            <a:off x="0" y="1905120"/>
            <a:ext cx="2666880" cy="925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"/>
          <p:cNvSpPr/>
          <p:nvPr/>
        </p:nvSpPr>
        <p:spPr>
          <a:xfrm>
            <a:off x="457200" y="20764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方正兰亭黑_GBK"/>
                <a:ea typeface="宋体"/>
              </a:rPr>
              <a:t>MEET THE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2735280" y="1905120"/>
            <a:ext cx="2398680" cy="26413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9"/>
          <p:cNvSpPr/>
          <p:nvPr/>
        </p:nvSpPr>
        <p:spPr>
          <a:xfrm>
            <a:off x="1503360" y="4638600"/>
            <a:ext cx="1170000" cy="162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1"/>
          <p:cNvSpPr/>
          <p:nvPr/>
        </p:nvSpPr>
        <p:spPr>
          <a:xfrm>
            <a:off x="3973680" y="4638600"/>
            <a:ext cx="1170000" cy="16257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6"/>
          <p:cNvSpPr/>
          <p:nvPr/>
        </p:nvSpPr>
        <p:spPr>
          <a:xfrm>
            <a:off x="6440400" y="4638600"/>
            <a:ext cx="1170000" cy="162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7"/>
          <p:cNvSpPr/>
          <p:nvPr/>
        </p:nvSpPr>
        <p:spPr>
          <a:xfrm>
            <a:off x="6456240" y="2921040"/>
            <a:ext cx="1170000" cy="1625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8"/>
          <p:cNvSpPr/>
          <p:nvPr/>
        </p:nvSpPr>
        <p:spPr>
          <a:xfrm>
            <a:off x="3241800" y="2486160"/>
            <a:ext cx="13716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MEET THE TEAM related goes here. Some text about WELCOME related goes he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9" descr="07_Team-Picture-Image.jpg"/>
          <p:cNvPicPr/>
          <p:nvPr/>
        </p:nvPicPr>
        <p:blipFill>
          <a:blip r:embed="rId2"/>
          <a:stretch/>
        </p:blipFill>
        <p:spPr>
          <a:xfrm>
            <a:off x="1503360" y="292104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0" descr="07_Team-Picture-Image.jpg"/>
          <p:cNvPicPr/>
          <p:nvPr/>
        </p:nvPicPr>
        <p:blipFill>
          <a:blip r:embed="rId3"/>
          <a:stretch/>
        </p:blipFill>
        <p:spPr>
          <a:xfrm>
            <a:off x="2735280" y="464184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1" descr="07_Team-Picture-Image.jpg"/>
          <p:cNvPicPr/>
          <p:nvPr/>
        </p:nvPicPr>
        <p:blipFill>
          <a:blip r:embed="rId4"/>
          <a:stretch/>
        </p:blipFill>
        <p:spPr>
          <a:xfrm>
            <a:off x="5211720" y="2927520"/>
            <a:ext cx="1170000" cy="1622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2" descr="07_Team-Picture-Image.jpg"/>
          <p:cNvPicPr/>
          <p:nvPr/>
        </p:nvPicPr>
        <p:blipFill>
          <a:blip r:embed="rId5"/>
          <a:stretch/>
        </p:blipFill>
        <p:spPr>
          <a:xfrm>
            <a:off x="5211720" y="4638600"/>
            <a:ext cx="1170000" cy="162252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53"/>
          <p:cNvSpPr/>
          <p:nvPr/>
        </p:nvSpPr>
        <p:spPr>
          <a:xfrm>
            <a:off x="1527120" y="536400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4"/>
          <p:cNvSpPr/>
          <p:nvPr/>
        </p:nvSpPr>
        <p:spPr>
          <a:xfrm>
            <a:off x="1527120" y="4776840"/>
            <a:ext cx="1120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5"/>
          <p:cNvSpPr/>
          <p:nvPr/>
        </p:nvSpPr>
        <p:spPr>
          <a:xfrm>
            <a:off x="3994200" y="536400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ff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99ff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3994200" y="4776840"/>
            <a:ext cx="1120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ff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7"/>
          <p:cNvSpPr/>
          <p:nvPr/>
        </p:nvSpPr>
        <p:spPr>
          <a:xfrm>
            <a:off x="6480000" y="363708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8"/>
          <p:cNvSpPr/>
          <p:nvPr/>
        </p:nvSpPr>
        <p:spPr>
          <a:xfrm>
            <a:off x="6480000" y="3049560"/>
            <a:ext cx="1121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9"/>
          <p:cNvSpPr/>
          <p:nvPr/>
        </p:nvSpPr>
        <p:spPr>
          <a:xfrm>
            <a:off x="6480000" y="537696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0"/>
          <p:cNvSpPr/>
          <p:nvPr/>
        </p:nvSpPr>
        <p:spPr>
          <a:xfrm>
            <a:off x="6480000" y="4789440"/>
            <a:ext cx="1121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5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5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5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250" autoRev="1" fill="hold"/>
                                        <p:tgtEl>
                                          <p:spTgt spid="5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5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5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5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5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5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4406760" y="3124080"/>
            <a:ext cx="290844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577800" y="3240000"/>
            <a:ext cx="361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OUR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1523880" y="422280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ff"/>
                </a:solidFill>
                <a:latin typeface="方正兰亭黑_GBK"/>
                <a:ea typeface="宋体"/>
              </a:rPr>
              <a:t>Service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9"/>
          <p:cNvSpPr/>
          <p:nvPr/>
        </p:nvSpPr>
        <p:spPr>
          <a:xfrm>
            <a:off x="2476440" y="4282920"/>
            <a:ext cx="83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c0c0c"/>
                </a:solidFill>
                <a:latin typeface="方正兰亭黑_GBK"/>
                <a:ea typeface="宋体"/>
              </a:rPr>
              <a:t>Service Tw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0"/>
          <p:cNvSpPr/>
          <p:nvPr/>
        </p:nvSpPr>
        <p:spPr>
          <a:xfrm>
            <a:off x="3489480" y="428292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  <a:ea typeface="宋体"/>
              </a:rPr>
              <a:t>Service Thre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1"/>
          <p:cNvSpPr/>
          <p:nvPr/>
        </p:nvSpPr>
        <p:spPr>
          <a:xfrm>
            <a:off x="1498680" y="5229360"/>
            <a:ext cx="81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0e0f4"/>
                </a:solidFill>
                <a:latin typeface="方正兰亭黑_GBK"/>
                <a:ea typeface="宋体"/>
              </a:rPr>
              <a:t>Service Fo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2"/>
          <p:cNvSpPr/>
          <p:nvPr/>
        </p:nvSpPr>
        <p:spPr>
          <a:xfrm>
            <a:off x="2484360" y="5321160"/>
            <a:ext cx="83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a5"/>
                </a:solidFill>
                <a:latin typeface="方正兰亭黑_GBK"/>
                <a:ea typeface="宋体"/>
              </a:rPr>
              <a:t>Service F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23"/>
          <p:cNvSpPr/>
          <p:nvPr/>
        </p:nvSpPr>
        <p:spPr>
          <a:xfrm>
            <a:off x="3489480" y="532116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  <a:ea typeface="宋体"/>
              </a:rPr>
              <a:t>Service Si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4"/>
          <p:cNvSpPr/>
          <p:nvPr/>
        </p:nvSpPr>
        <p:spPr>
          <a:xfrm>
            <a:off x="638964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539748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6"/>
          <p:cNvSpPr/>
          <p:nvPr/>
        </p:nvSpPr>
        <p:spPr>
          <a:xfrm>
            <a:off x="4411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7"/>
          <p:cNvSpPr/>
          <p:nvPr/>
        </p:nvSpPr>
        <p:spPr>
          <a:xfrm>
            <a:off x="7388280" y="3119400"/>
            <a:ext cx="914400" cy="914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8"/>
          <p:cNvSpPr/>
          <p:nvPr/>
        </p:nvSpPr>
        <p:spPr>
          <a:xfrm>
            <a:off x="7388280" y="4135320"/>
            <a:ext cx="914400" cy="9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9"/>
          <p:cNvSpPr/>
          <p:nvPr/>
        </p:nvSpPr>
        <p:spPr>
          <a:xfrm>
            <a:off x="7388280" y="5141880"/>
            <a:ext cx="175572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0"/>
          <p:cNvSpPr/>
          <p:nvPr/>
        </p:nvSpPr>
        <p:spPr>
          <a:xfrm>
            <a:off x="6389640" y="2128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3"/>
          <p:cNvSpPr/>
          <p:nvPr/>
        </p:nvSpPr>
        <p:spPr>
          <a:xfrm>
            <a:off x="7388280" y="212724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34"/>
          <p:cNvSpPr/>
          <p:nvPr/>
        </p:nvSpPr>
        <p:spPr>
          <a:xfrm>
            <a:off x="4465800" y="532116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ervice S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5"/>
          <p:cNvSpPr/>
          <p:nvPr/>
        </p:nvSpPr>
        <p:spPr>
          <a:xfrm>
            <a:off x="5456160" y="5321160"/>
            <a:ext cx="7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ff"/>
                </a:solidFill>
                <a:latin typeface="方正兰亭黑_GBK"/>
                <a:ea typeface="宋体"/>
              </a:rPr>
              <a:t>Service E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6"/>
          <p:cNvSpPr/>
          <p:nvPr/>
        </p:nvSpPr>
        <p:spPr>
          <a:xfrm>
            <a:off x="6454800" y="5321160"/>
            <a:ext cx="7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  <a:ea typeface="宋体"/>
              </a:rPr>
              <a:t>Service N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37"/>
          <p:cNvSpPr/>
          <p:nvPr/>
        </p:nvSpPr>
        <p:spPr>
          <a:xfrm>
            <a:off x="6431040" y="2305080"/>
            <a:ext cx="830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ccff"/>
                </a:solidFill>
                <a:latin typeface="方正兰亭黑_GBK"/>
                <a:ea typeface="宋体"/>
              </a:rPr>
              <a:t>Service Thirte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8"/>
          <p:cNvSpPr/>
          <p:nvPr/>
        </p:nvSpPr>
        <p:spPr>
          <a:xfrm>
            <a:off x="7459560" y="2311560"/>
            <a:ext cx="77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c0c0c"/>
                </a:solidFill>
                <a:latin typeface="方正兰亭黑_GBK"/>
                <a:ea typeface="宋体"/>
              </a:rPr>
              <a:t>Service Twel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39"/>
          <p:cNvSpPr/>
          <p:nvPr/>
        </p:nvSpPr>
        <p:spPr>
          <a:xfrm>
            <a:off x="7467480" y="3279600"/>
            <a:ext cx="78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方正兰亭黑_GBK"/>
                <a:ea typeface="宋体"/>
              </a:rPr>
              <a:t>Service El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40"/>
          <p:cNvSpPr/>
          <p:nvPr/>
        </p:nvSpPr>
        <p:spPr>
          <a:xfrm>
            <a:off x="7459560" y="4297320"/>
            <a:ext cx="77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方正兰亭黑_GBK"/>
                <a:ea typeface="宋体"/>
              </a:rPr>
              <a:t>Service 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0" y="1590840"/>
            <a:ext cx="3384720" cy="731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7"/>
          <p:cNvSpPr/>
          <p:nvPr/>
        </p:nvSpPr>
        <p:spPr>
          <a:xfrm>
            <a:off x="533520" y="1650960"/>
            <a:ext cx="269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GRAPHIC CH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1"/>
          <p:cNvSpPr/>
          <p:nvPr/>
        </p:nvSpPr>
        <p:spPr>
          <a:xfrm>
            <a:off x="3444840" y="1590840"/>
            <a:ext cx="1050840" cy="7315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2"/>
          <p:cNvSpPr/>
          <p:nvPr/>
        </p:nvSpPr>
        <p:spPr>
          <a:xfrm>
            <a:off x="1066680" y="2382840"/>
            <a:ext cx="3429000" cy="2763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42"/>
          <p:cNvSpPr/>
          <p:nvPr/>
        </p:nvSpPr>
        <p:spPr>
          <a:xfrm>
            <a:off x="1187280" y="2454120"/>
            <a:ext cx="3232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About This Graphic Ch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0"/>
          <p:cNvSpPr/>
          <p:nvPr/>
        </p:nvSpPr>
        <p:spPr>
          <a:xfrm>
            <a:off x="4730760" y="1952640"/>
            <a:ext cx="235080" cy="31939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4495680" y="4079880"/>
            <a:ext cx="235080" cy="1066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4965840" y="3013200"/>
            <a:ext cx="2365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3"/>
          <p:cNvSpPr/>
          <p:nvPr/>
        </p:nvSpPr>
        <p:spPr>
          <a:xfrm>
            <a:off x="5600880" y="3013200"/>
            <a:ext cx="234720" cy="2133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4"/>
          <p:cNvSpPr/>
          <p:nvPr/>
        </p:nvSpPr>
        <p:spPr>
          <a:xfrm>
            <a:off x="5365800" y="4435560"/>
            <a:ext cx="235080" cy="711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5"/>
          <p:cNvSpPr/>
          <p:nvPr/>
        </p:nvSpPr>
        <p:spPr>
          <a:xfrm>
            <a:off x="5835600" y="3368520"/>
            <a:ext cx="236520" cy="17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7"/>
          <p:cNvSpPr/>
          <p:nvPr/>
        </p:nvSpPr>
        <p:spPr>
          <a:xfrm>
            <a:off x="6496200" y="1590840"/>
            <a:ext cx="234720" cy="3555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8"/>
          <p:cNvSpPr/>
          <p:nvPr/>
        </p:nvSpPr>
        <p:spPr>
          <a:xfrm>
            <a:off x="6261120" y="3724200"/>
            <a:ext cx="235080" cy="1422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9"/>
          <p:cNvSpPr/>
          <p:nvPr/>
        </p:nvSpPr>
        <p:spPr>
          <a:xfrm>
            <a:off x="6730920" y="2649600"/>
            <a:ext cx="235080" cy="24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1"/>
          <p:cNvSpPr/>
          <p:nvPr/>
        </p:nvSpPr>
        <p:spPr>
          <a:xfrm>
            <a:off x="7377120" y="3368520"/>
            <a:ext cx="236520" cy="1778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7142040" y="4079880"/>
            <a:ext cx="236520" cy="1066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4"/>
          <p:cNvSpPr/>
          <p:nvPr/>
        </p:nvSpPr>
        <p:spPr>
          <a:xfrm>
            <a:off x="7613640" y="4435560"/>
            <a:ext cx="23508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21"/>
          <p:cNvGrpSpPr/>
          <p:nvPr/>
        </p:nvGrpSpPr>
        <p:grpSpPr>
          <a:xfrm>
            <a:off x="4495680" y="1590840"/>
            <a:ext cx="3353040" cy="3555720"/>
            <a:chOff x="4495680" y="1590840"/>
            <a:chExt cx="3353040" cy="3555720"/>
          </a:xfrm>
        </p:grpSpPr>
        <p:sp>
          <p:nvSpPr>
            <p:cNvPr id="624" name="Straight Connector 49"/>
            <p:cNvSpPr/>
            <p:nvPr/>
          </p:nvSpPr>
          <p:spPr>
            <a:xfrm>
              <a:off x="4495680" y="15908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Straight Connector 53"/>
            <p:cNvSpPr/>
            <p:nvPr/>
          </p:nvSpPr>
          <p:spPr>
            <a:xfrm>
              <a:off x="4495680" y="19486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Straight Connector 55"/>
            <p:cNvSpPr/>
            <p:nvPr/>
          </p:nvSpPr>
          <p:spPr>
            <a:xfrm>
              <a:off x="4495680" y="23014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Straight Connector 57"/>
            <p:cNvSpPr/>
            <p:nvPr/>
          </p:nvSpPr>
          <p:spPr>
            <a:xfrm>
              <a:off x="4495680" y="265896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traight Connector 58"/>
            <p:cNvSpPr/>
            <p:nvPr/>
          </p:nvSpPr>
          <p:spPr>
            <a:xfrm>
              <a:off x="4495680" y="301212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traight Connector 60"/>
            <p:cNvSpPr/>
            <p:nvPr/>
          </p:nvSpPr>
          <p:spPr>
            <a:xfrm>
              <a:off x="4495680" y="336960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traight Connector 61"/>
            <p:cNvSpPr/>
            <p:nvPr/>
          </p:nvSpPr>
          <p:spPr>
            <a:xfrm>
              <a:off x="4495680" y="372276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traight Connector 62"/>
            <p:cNvSpPr/>
            <p:nvPr/>
          </p:nvSpPr>
          <p:spPr>
            <a:xfrm>
              <a:off x="4495680" y="40802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traight Connector 63"/>
            <p:cNvSpPr/>
            <p:nvPr/>
          </p:nvSpPr>
          <p:spPr>
            <a:xfrm>
              <a:off x="4495680" y="44330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traight Connector 65"/>
            <p:cNvSpPr/>
            <p:nvPr/>
          </p:nvSpPr>
          <p:spPr>
            <a:xfrm>
              <a:off x="4495680" y="47908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traight Connector 66"/>
            <p:cNvSpPr/>
            <p:nvPr/>
          </p:nvSpPr>
          <p:spPr>
            <a:xfrm>
              <a:off x="4495680" y="51436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Box 68"/>
          <p:cNvSpPr/>
          <p:nvPr/>
        </p:nvSpPr>
        <p:spPr>
          <a:xfrm>
            <a:off x="7861320" y="1476360"/>
            <a:ext cx="444600" cy="36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74"/>
          <p:cNvSpPr/>
          <p:nvPr/>
        </p:nvSpPr>
        <p:spPr>
          <a:xfrm>
            <a:off x="4438800" y="38257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75"/>
          <p:cNvSpPr/>
          <p:nvPr/>
        </p:nvSpPr>
        <p:spPr>
          <a:xfrm>
            <a:off x="4667400" y="166680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9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76"/>
          <p:cNvSpPr/>
          <p:nvPr/>
        </p:nvSpPr>
        <p:spPr>
          <a:xfrm>
            <a:off x="4902120" y="27511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7"/>
          <p:cNvSpPr/>
          <p:nvPr/>
        </p:nvSpPr>
        <p:spPr>
          <a:xfrm>
            <a:off x="5302080" y="4148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78"/>
          <p:cNvSpPr/>
          <p:nvPr/>
        </p:nvSpPr>
        <p:spPr>
          <a:xfrm>
            <a:off x="5530680" y="27511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79"/>
          <p:cNvSpPr/>
          <p:nvPr/>
        </p:nvSpPr>
        <p:spPr>
          <a:xfrm>
            <a:off x="5784840" y="308916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0"/>
          <p:cNvSpPr/>
          <p:nvPr/>
        </p:nvSpPr>
        <p:spPr>
          <a:xfrm>
            <a:off x="6191280" y="34369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1"/>
          <p:cNvSpPr/>
          <p:nvPr/>
        </p:nvSpPr>
        <p:spPr>
          <a:xfrm>
            <a:off x="6375240" y="1295280"/>
            <a:ext cx="4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2"/>
          <p:cNvSpPr/>
          <p:nvPr/>
        </p:nvSpPr>
        <p:spPr>
          <a:xfrm>
            <a:off x="6680160" y="23526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7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83"/>
          <p:cNvSpPr/>
          <p:nvPr/>
        </p:nvSpPr>
        <p:spPr>
          <a:xfrm>
            <a:off x="7067520" y="3800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84"/>
          <p:cNvSpPr/>
          <p:nvPr/>
        </p:nvSpPr>
        <p:spPr>
          <a:xfrm>
            <a:off x="7251840" y="3114720"/>
            <a:ext cx="46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85"/>
          <p:cNvSpPr/>
          <p:nvPr/>
        </p:nvSpPr>
        <p:spPr>
          <a:xfrm>
            <a:off x="7556400" y="4148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6"/>
          <p:cNvSpPr/>
          <p:nvPr/>
        </p:nvSpPr>
        <p:spPr>
          <a:xfrm>
            <a:off x="4495680" y="5689440"/>
            <a:ext cx="182520" cy="2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7"/>
          <p:cNvSpPr/>
          <p:nvPr/>
        </p:nvSpPr>
        <p:spPr>
          <a:xfrm>
            <a:off x="5638680" y="5689440"/>
            <a:ext cx="182520" cy="2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88"/>
          <p:cNvSpPr/>
          <p:nvPr/>
        </p:nvSpPr>
        <p:spPr>
          <a:xfrm>
            <a:off x="6753240" y="5689440"/>
            <a:ext cx="182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91"/>
          <p:cNvSpPr/>
          <p:nvPr/>
        </p:nvSpPr>
        <p:spPr>
          <a:xfrm>
            <a:off x="466740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95959"/>
                </a:solidFill>
                <a:latin typeface="方正兰亭黑_GBK"/>
                <a:ea typeface="宋体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92"/>
          <p:cNvSpPr/>
          <p:nvPr/>
        </p:nvSpPr>
        <p:spPr>
          <a:xfrm>
            <a:off x="581652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ff"/>
                </a:solidFill>
                <a:latin typeface="方正兰亭黑_GBK"/>
                <a:ea typeface="宋体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93"/>
          <p:cNvSpPr/>
          <p:nvPr/>
        </p:nvSpPr>
        <p:spPr>
          <a:xfrm>
            <a:off x="692784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方正兰亭黑_GBK"/>
                <a:ea typeface="宋体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94"/>
          <p:cNvSpPr/>
          <p:nvPr/>
        </p:nvSpPr>
        <p:spPr>
          <a:xfrm>
            <a:off x="4413240" y="5156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95"/>
          <p:cNvSpPr/>
          <p:nvPr/>
        </p:nvSpPr>
        <p:spPr>
          <a:xfrm>
            <a:off x="5302080" y="5156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96"/>
          <p:cNvSpPr/>
          <p:nvPr/>
        </p:nvSpPr>
        <p:spPr>
          <a:xfrm>
            <a:off x="6197760" y="5156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97"/>
          <p:cNvSpPr/>
          <p:nvPr/>
        </p:nvSpPr>
        <p:spPr>
          <a:xfrm>
            <a:off x="7067520" y="51735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98"/>
          <p:cNvSpPr/>
          <p:nvPr/>
        </p:nvSpPr>
        <p:spPr>
          <a:xfrm>
            <a:off x="1187280" y="3173400"/>
            <a:ext cx="1479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99"/>
          <p:cNvSpPr/>
          <p:nvPr/>
        </p:nvSpPr>
        <p:spPr>
          <a:xfrm>
            <a:off x="1187280" y="4103640"/>
            <a:ext cx="1479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00"/>
          <p:cNvSpPr/>
          <p:nvPr/>
        </p:nvSpPr>
        <p:spPr>
          <a:xfrm>
            <a:off x="2857680" y="3173400"/>
            <a:ext cx="14792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01"/>
          <p:cNvSpPr/>
          <p:nvPr/>
        </p:nvSpPr>
        <p:spPr>
          <a:xfrm>
            <a:off x="2857680" y="4103640"/>
            <a:ext cx="14792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2"/>
          <p:cNvSpPr/>
          <p:nvPr/>
        </p:nvSpPr>
        <p:spPr>
          <a:xfrm>
            <a:off x="2971080" y="3259080"/>
            <a:ext cx="355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方正兰亭黑_GBK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方正兰亭黑_GBK"/>
                <a:ea typeface="宋体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方正兰亭黑_GBK"/>
                <a:ea typeface="宋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方正兰亭黑_GBK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01_Main-Background.jpg"/>
          <p:cNvPicPr/>
          <p:nvPr/>
        </p:nvPicPr>
        <p:blipFill>
          <a:blip r:embed="rId2"/>
          <a:stretch/>
        </p:blipFill>
        <p:spPr>
          <a:xfrm>
            <a:off x="3240" y="144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664" name="TextBox 7"/>
          <p:cNvSpPr/>
          <p:nvPr/>
        </p:nvSpPr>
        <p:spPr>
          <a:xfrm>
            <a:off x="4363920" y="3632040"/>
            <a:ext cx="29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ff"/>
                </a:solidFill>
                <a:latin typeface="方正兰亭黑_GBK"/>
                <a:ea typeface="宋体"/>
              </a:rPr>
              <a:t>THANK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0"/>
          <p:cNvSpPr/>
          <p:nvPr/>
        </p:nvSpPr>
        <p:spPr>
          <a:xfrm>
            <a:off x="4091040" y="42609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For Your Potential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7315200" y="3840120"/>
            <a:ext cx="18288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1752480" y="4819680"/>
            <a:ext cx="546732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0" y="4819680"/>
            <a:ext cx="1701720" cy="914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250" autoRev="1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250" autoRev="1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23:44:00Z</dcterms:created>
  <dc:creator>Abdur Razzak</dc:creator>
  <dc:description/>
  <cp:keywords/>
  <dc:language>en-US</dc:language>
  <cp:lastModifiedBy>BST-WLZ</cp:lastModifiedBy>
  <dcterms:modified xsi:type="dcterms:W3CDTF">2015-05-14T06:33:12Z</dcterms:modified>
  <cp:revision>367</cp:revision>
  <dc:subject/>
  <dc:title>Slide 2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