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12C-7520-4AA8-83E7-807F89D8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AFA-E928-4C0F-9EEB-1D2471C8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47D-5AAA-419A-B42B-04ED46C9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32C-1046-4B05-BC2D-E3E75A44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909-790E-433D-9787-AD0FF6C2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0E7-6E9B-4075-B524-24C7DA00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A7F-159A-4709-8EF8-8E7C3FCD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2D9-E0D3-46BD-896D-B7245833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03E-7E35-438D-856A-67B658B4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F4D-0E69-4B6E-A627-CDF55EB3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AF8-067B-485C-BBA6-5B366F11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087-12EB-4DFC-99F1-75114143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1185-D316-485C-8A3F-7E43901845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75A5-7E68-46B4-BE86-12AA44431C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755760" y="7593120"/>
            <a:ext cx="2000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Curious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467760" y="7897680"/>
            <a:ext cx="2274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People Do To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150680" y="8202600"/>
            <a:ext cx="1152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Sun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490040" y="431640"/>
            <a:ext cx="9783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14 Wild Ways Peopl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66520" y="1447920"/>
            <a:ext cx="10945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oothe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Their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unbur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652760" y="5335560"/>
            <a:ext cx="3382920" cy="179532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638360" y="5321160"/>
            <a:ext cx="3411360" cy="1824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879560" y="5411880"/>
            <a:ext cx="2908440" cy="1495440"/>
          </a:xfrm>
          <a:prstGeom prst="pie">
            <a:avLst/>
          </a:prstGeom>
          <a:solidFill>
            <a:srgbClr val="9cb37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866960" y="5398920"/>
            <a:ext cx="2935080" cy="1522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249640" y="5686560"/>
            <a:ext cx="2261880" cy="85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870360" y="6041880"/>
            <a:ext cx="693720" cy="790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3457440" y="5907240"/>
            <a:ext cx="703440" cy="753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056040" y="5776920"/>
            <a:ext cx="690480" cy="725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676600" y="5661000"/>
            <a:ext cx="709560" cy="69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2273400" y="5526000"/>
            <a:ext cx="720720" cy="682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812880" y="3873600"/>
            <a:ext cx="4660920" cy="466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7188120" y="50760"/>
            <a:ext cx="45468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5"/>
          <a:stretch/>
        </p:blipFill>
        <p:spPr>
          <a:xfrm>
            <a:off x="7594560" y="5448240"/>
            <a:ext cx="4559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8700840" y="6172200"/>
            <a:ext cx="2644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old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Mi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826280" y="2006640"/>
            <a:ext cx="29516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838160" y="2832120"/>
            <a:ext cx="33955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en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824840" y="228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6280" y="507960"/>
            <a:ext cx="26038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Ic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ub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8683920" y="7696080"/>
            <a:ext cx="2215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lk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59800" y="8521560"/>
            <a:ext cx="27777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gu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'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re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682840" y="59180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8628120" y="6769080"/>
            <a:ext cx="135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066680" y="-133200"/>
            <a:ext cx="424188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914400" y="-120600"/>
            <a:ext cx="4559400" cy="51926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309760" y="5826240"/>
            <a:ext cx="514440" cy="3055680"/>
          </a:xfrm>
          <a:prstGeom prst="pie">
            <a:avLst/>
          </a:prstGeom>
          <a:solidFill>
            <a:srgbClr val="f1e2d8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2392200" y="5035680"/>
            <a:ext cx="1787760" cy="383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376360" y="5021280"/>
            <a:ext cx="1817640" cy="3868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701800" y="5035680"/>
            <a:ext cx="644760" cy="7365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2685960" y="5021280"/>
            <a:ext cx="676440" cy="765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701800" y="5035680"/>
            <a:ext cx="552600" cy="936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685960" y="5021280"/>
            <a:ext cx="584280" cy="122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2684520" y="6594480"/>
            <a:ext cx="1127160" cy="143820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670120" y="6580080"/>
            <a:ext cx="1155600" cy="1468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459160" y="6288120"/>
            <a:ext cx="1266840" cy="18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712960" y="8393040"/>
            <a:ext cx="1266840" cy="18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813040" y="5815080"/>
            <a:ext cx="425520" cy="493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917360" y="3271680"/>
            <a:ext cx="561960" cy="741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252160" y="3895560"/>
            <a:ext cx="1452600" cy="920880"/>
          </a:xfrm>
          <a:prstGeom prst="pie">
            <a:avLst/>
          </a:prstGeom>
          <a:solidFill>
            <a:srgbClr val="eb94a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229840" y="3881520"/>
            <a:ext cx="1490760" cy="95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217240" y="3868560"/>
            <a:ext cx="1515960" cy="12096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1217240" y="3868560"/>
            <a:ext cx="1515960" cy="96048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8918640" y="2736720"/>
            <a:ext cx="1590480" cy="22482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8862840" y="4495680"/>
            <a:ext cx="1681200" cy="17964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848800" y="4481640"/>
            <a:ext cx="1709640" cy="207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9058320" y="2801880"/>
            <a:ext cx="1652400" cy="20448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726400" y="2771640"/>
            <a:ext cx="1366920" cy="150048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9858240" y="3600360"/>
            <a:ext cx="360" cy="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8988480" y="720720"/>
            <a:ext cx="1682640" cy="2149560"/>
          </a:xfrm>
          <a:prstGeom prst="pie">
            <a:avLst/>
          </a:prstGeom>
          <a:solidFill>
            <a:srgbClr val="efcbc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9090000" y="1879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9264600" y="1731960"/>
            <a:ext cx="874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0159920" y="1789200"/>
            <a:ext cx="856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5b49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d7d7d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9469440" y="1812960"/>
            <a:ext cx="284040" cy="44460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9204480" y="3094200"/>
            <a:ext cx="1056960" cy="5918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32976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98712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580680" y="4084560"/>
            <a:ext cx="734760" cy="336600"/>
          </a:xfrm>
          <a:prstGeom prst="pie">
            <a:avLst/>
          </a:prstGeom>
          <a:solidFill>
            <a:srgbClr val="f0e0d6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833040" y="2460600"/>
            <a:ext cx="274680" cy="152280"/>
          </a:xfrm>
          <a:prstGeom prst="pie">
            <a:avLst/>
          </a:prstGeom>
          <a:noFill/>
          <a:ln w="25560">
            <a:solidFill>
              <a:srgbClr val="452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88840" y="5270400"/>
            <a:ext cx="467388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7594560" y="406440"/>
            <a:ext cx="4559400" cy="9347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919240" y="7175520"/>
            <a:ext cx="775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HAZ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872440" y="6896160"/>
            <a:ext cx="816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8453160" y="6032520"/>
            <a:ext cx="340884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Yogu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gur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reath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a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651320" y="330120"/>
            <a:ext cx="108673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itch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Haz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az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ti-inflamma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tringen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nimi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a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-irritat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776240" y="6554880"/>
            <a:ext cx="1525680" cy="213192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884240" y="7910640"/>
            <a:ext cx="5580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920960" y="8145360"/>
            <a:ext cx="63360" cy="208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090880" y="796752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33720" y="8223120"/>
            <a:ext cx="331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239920" y="8151840"/>
            <a:ext cx="475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2712960" y="7953480"/>
            <a:ext cx="5724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749680" y="8188200"/>
            <a:ext cx="63360" cy="19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921040" y="801036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962440" y="8265960"/>
            <a:ext cx="349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068640" y="8194680"/>
            <a:ext cx="493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49552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282760" y="80564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346480" y="833292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708280" y="8502480"/>
            <a:ext cx="69840" cy="446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2835360" y="8312040"/>
            <a:ext cx="7128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02724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408400" y="8148600"/>
            <a:ext cx="5364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629080" y="8099280"/>
            <a:ext cx="4428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517840" y="8345520"/>
            <a:ext cx="38160" cy="46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652840" y="8337600"/>
            <a:ext cx="39600" cy="666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843280" y="6696000"/>
            <a:ext cx="185760" cy="2003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952720" y="6769080"/>
            <a:ext cx="162000" cy="162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502000" y="6670800"/>
            <a:ext cx="141120" cy="141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489040" y="6656400"/>
            <a:ext cx="168480" cy="169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552760" y="6019920"/>
            <a:ext cx="1806480" cy="141264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990960" y="6607080"/>
            <a:ext cx="942840" cy="92736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976560" y="6593040"/>
            <a:ext cx="970200" cy="955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8342280" y="33847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8469360" y="34290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8601120" y="34434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8702640" y="34574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8818560" y="34862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8962920" y="35305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9093240" y="354492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9194760" y="355932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9296280" y="357336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9428040" y="36162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572760" y="36320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674280" y="36464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761400" y="36608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906120" y="370368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037880" y="371808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139400" y="37339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0240920" y="374796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0371240" y="37908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0497960" y="3805200"/>
            <a:ext cx="14796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8867880" y="8460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8970840" y="8398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90900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9240840" y="8571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93726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947412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95774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9713880" y="8478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98582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996156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004904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0201320" y="8352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033128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0433160" y="81612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0536120" y="8096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1067292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0804680" y="8240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1090944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8448840" y="984240"/>
            <a:ext cx="2595240" cy="2830680"/>
          </a:xfrm>
          <a:prstGeom prst="pie">
            <a:avLst/>
          </a:prstGeom>
          <a:solidFill>
            <a:srgbClr val="c69c6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8434440" y="969840"/>
            <a:ext cx="2624040" cy="2859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6000" y="1839960"/>
            <a:ext cx="1276200" cy="107460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9604440" y="2039760"/>
            <a:ext cx="793800" cy="66852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1384200" y="5334120"/>
            <a:ext cx="4000680" cy="39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7581960" y="165240"/>
            <a:ext cx="4749840" cy="4749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8469000" y="4851360"/>
            <a:ext cx="3362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ool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w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ss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new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novati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w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&am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e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740960" y="469800"/>
            <a:ext cx="35470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Earl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Gr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g?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bag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tra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lut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abb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s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35840" y="6845400"/>
            <a:ext cx="415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</a:rPr>
              <a:t>t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7518240" y="4297320"/>
            <a:ext cx="4686480" cy="54691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774720" y="-120600"/>
            <a:ext cx="5194440" cy="558936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10639440" y="1657440"/>
            <a:ext cx="558720" cy="263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10625040" y="1643040"/>
            <a:ext cx="587520" cy="291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8353440" y="1657440"/>
            <a:ext cx="1028520" cy="425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8337600" y="1643040"/>
            <a:ext cx="1057320" cy="45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8217000" y="1655640"/>
            <a:ext cx="3166920" cy="1494000"/>
          </a:xfrm>
          <a:prstGeom prst="pie">
            <a:avLst/>
          </a:prstGeom>
          <a:solidFill>
            <a:srgbClr val="6ea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8204040" y="1641600"/>
            <a:ext cx="3194280" cy="1523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8217000" y="1778040"/>
            <a:ext cx="2989080" cy="1373040"/>
          </a:xfrm>
          <a:prstGeom prst="pie">
            <a:avLst/>
          </a:prstGeom>
          <a:solidFill>
            <a:srgbClr val="a5b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8204040" y="1762200"/>
            <a:ext cx="3016440" cy="1403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8248680" y="1778040"/>
            <a:ext cx="2927160" cy="1344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8234280" y="1762200"/>
            <a:ext cx="2955960" cy="1374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9242280" y="1886040"/>
            <a:ext cx="486000" cy="33156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9229680" y="1871640"/>
            <a:ext cx="512640" cy="360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9575640" y="2044800"/>
            <a:ext cx="69696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563040" y="2030400"/>
            <a:ext cx="72396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0164600" y="1911240"/>
            <a:ext cx="50040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0150560" y="1897200"/>
            <a:ext cx="52848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8353440" y="1778040"/>
            <a:ext cx="2717640" cy="124920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8337600" y="1762200"/>
            <a:ext cx="2747880" cy="1279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8931240" y="2098800"/>
            <a:ext cx="193680" cy="14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8916840" y="2084400"/>
            <a:ext cx="220680" cy="174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9826560" y="2658960"/>
            <a:ext cx="125640" cy="2174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9813960" y="2644920"/>
            <a:ext cx="152280" cy="245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0039320" y="2263680"/>
            <a:ext cx="146160" cy="1936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0024920" y="2251080"/>
            <a:ext cx="174600" cy="2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506240" y="2305080"/>
            <a:ext cx="187200" cy="1522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0493280" y="2290680"/>
            <a:ext cx="214560" cy="1810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8993160" y="2530440"/>
            <a:ext cx="152280" cy="1872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8978760" y="2517840"/>
            <a:ext cx="181080" cy="2142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9472680" y="2352600"/>
            <a:ext cx="127080" cy="2160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9458280" y="2338560"/>
            <a:ext cx="155520" cy="2426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8429760" y="1876320"/>
            <a:ext cx="212760" cy="1303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8413920" y="1862280"/>
            <a:ext cx="241200" cy="156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0693440" y="1887480"/>
            <a:ext cx="276120" cy="1555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0680840" y="1873080"/>
            <a:ext cx="303120" cy="1843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8217000" y="1657440"/>
            <a:ext cx="242640" cy="118800"/>
          </a:xfrm>
          <a:prstGeom prst="pie">
            <a:avLst/>
          </a:prstGeom>
          <a:solidFill>
            <a:srgbClr val="a9c23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8204040" y="1643040"/>
            <a:ext cx="27000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234280" y="1643040"/>
            <a:ext cx="29232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1090160" y="1655640"/>
            <a:ext cx="222480" cy="122400"/>
          </a:xfrm>
          <a:prstGeom prst="pie">
            <a:avLst/>
          </a:prstGeom>
          <a:solidFill>
            <a:srgbClr val="b6d13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1076120" y="1641600"/>
            <a:ext cx="25056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1025360" y="1641600"/>
            <a:ext cx="27144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660240" y="0"/>
            <a:ext cx="4737240" cy="5595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2936880" y="5737320"/>
            <a:ext cx="1781280" cy="312732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2922480" y="5721480"/>
            <a:ext cx="1811520" cy="3159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949480" y="8666280"/>
            <a:ext cx="1805040" cy="21420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933640" y="8651880"/>
            <a:ext cx="1835280" cy="243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060720" y="8631360"/>
            <a:ext cx="1531800" cy="1029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079800" y="6816600"/>
            <a:ext cx="1380960" cy="954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3436920" y="5657760"/>
            <a:ext cx="806400" cy="6573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3422520" y="5643720"/>
            <a:ext cx="835200" cy="685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3486240" y="5664240"/>
            <a:ext cx="693720" cy="2430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470400" y="5648400"/>
            <a:ext cx="723600" cy="272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422520" y="7051680"/>
            <a:ext cx="1209960" cy="14158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3406680" y="7035840"/>
            <a:ext cx="1239840" cy="1446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3843360" y="7880400"/>
            <a:ext cx="24300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378320" y="7875720"/>
            <a:ext cx="212760" cy="277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3652920" y="7458120"/>
            <a:ext cx="214200" cy="27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3905280" y="7473960"/>
            <a:ext cx="22068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365720" y="7453440"/>
            <a:ext cx="22392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1576440" y="7386480"/>
            <a:ext cx="1681200" cy="147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1563840" y="7373880"/>
            <a:ext cx="1706400" cy="1498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1563840" y="7915320"/>
            <a:ext cx="1706400" cy="9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2548080" y="7661160"/>
            <a:ext cx="423720" cy="5176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1717560" y="7731000"/>
            <a:ext cx="704880" cy="6130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2054160" y="7380360"/>
            <a:ext cx="808200" cy="55080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88840" y="5486400"/>
            <a:ext cx="4254840" cy="4178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7505640" y="266760"/>
            <a:ext cx="4673520" cy="9486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605440" y="4788000"/>
            <a:ext cx="3386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atermel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soc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melo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kout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jui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u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e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rect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760400" y="355680"/>
            <a:ext cx="3301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Shav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rea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hav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ea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clud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lycer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i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oistur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yd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4"/>
          <p:cNvSpPr/>
          <p:nvPr/>
        </p:nvSpPr>
        <p:spPr>
          <a:xfrm>
            <a:off x="1715400" y="51055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9764640" y="2733840"/>
            <a:ext cx="1538280" cy="13586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9750600" y="2730600"/>
            <a:ext cx="1571400" cy="1374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239480" y="2664000"/>
            <a:ext cx="718920" cy="1854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563120" y="2604960"/>
            <a:ext cx="112680" cy="16056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8786880" y="2876400"/>
            <a:ext cx="1914480" cy="16862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8772480" y="2873520"/>
            <a:ext cx="1947960" cy="16952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9169560" y="2774880"/>
            <a:ext cx="873000" cy="2952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9540720" y="2728800"/>
            <a:ext cx="111240" cy="19368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28880" y="-7920"/>
            <a:ext cx="424152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130400" y="4851360"/>
            <a:ext cx="4190760" cy="4305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175520" y="1079640"/>
            <a:ext cx="5359320" cy="86738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1745640" y="698400"/>
            <a:ext cx="2928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ucumb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8494200" y="7277040"/>
            <a:ext cx="3283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i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mato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b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8475480" y="8521560"/>
            <a:ext cx="2805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ens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8505000" y="61848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485200" y="6451560"/>
            <a:ext cx="26892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mato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1743480" y="1600200"/>
            <a:ext cx="2326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'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ar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65080" y="2019240"/>
            <a:ext cx="30549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cumber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ir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ye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754640" y="3251160"/>
            <a:ext cx="2948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774080" y="444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3"/>
          <p:cNvSpPr/>
          <p:nvPr/>
        </p:nvSpPr>
        <p:spPr>
          <a:xfrm>
            <a:off x="1143000" y="0"/>
            <a:ext cx="4229280" cy="4452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2014560" y="5477040"/>
            <a:ext cx="2190600" cy="25905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2000160" y="5460840"/>
            <a:ext cx="2220840" cy="2622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379600" y="5530680"/>
            <a:ext cx="1563840" cy="3952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363760" y="5514840"/>
            <a:ext cx="1593720" cy="42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435400" y="5397480"/>
            <a:ext cx="1488960" cy="333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419200" y="5383080"/>
            <a:ext cx="1519560" cy="3621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3049560" y="6780240"/>
            <a:ext cx="193680" cy="1922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3398760" y="6800760"/>
            <a:ext cx="157320" cy="1796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3755880" y="6772320"/>
            <a:ext cx="163800" cy="19188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929040" y="6743880"/>
            <a:ext cx="173160" cy="198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4105440" y="4581360"/>
            <a:ext cx="846000" cy="2298960"/>
          </a:xfrm>
          <a:prstGeom prst="pie">
            <a:avLst/>
          </a:prstGeom>
          <a:solidFill>
            <a:srgbClr val="b3b3b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089240" y="4567320"/>
            <a:ext cx="876600" cy="2327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8532720" y="2722680"/>
            <a:ext cx="425520" cy="5857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8346960" y="1825560"/>
            <a:ext cx="2749680" cy="2311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8818560" y="2000160"/>
            <a:ext cx="2138400" cy="90648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8802720" y="1984320"/>
            <a:ext cx="2171520" cy="9381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880480" y="2076480"/>
            <a:ext cx="1914480" cy="7128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9032760" y="2898720"/>
            <a:ext cx="1790640" cy="28260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756720" y="2362320"/>
            <a:ext cx="434880" cy="9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9740880" y="234648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9717120" y="2158920"/>
            <a:ext cx="303120" cy="246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9701280" y="2141640"/>
            <a:ext cx="3348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9567720" y="2095560"/>
            <a:ext cx="1396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9551880" y="2079720"/>
            <a:ext cx="173160" cy="320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252000" y="2220840"/>
            <a:ext cx="357120" cy="192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9236160" y="2205000"/>
            <a:ext cx="388800" cy="223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134640" y="2425680"/>
            <a:ext cx="434880" cy="9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9118440" y="240984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306000" y="2484360"/>
            <a:ext cx="30456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9290160" y="2467080"/>
            <a:ext cx="3366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9618840" y="2506680"/>
            <a:ext cx="1378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9601200" y="2489040"/>
            <a:ext cx="171360" cy="322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9718560" y="2478240"/>
            <a:ext cx="355680" cy="191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9702720" y="2460600"/>
            <a:ext cx="387360" cy="225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9736200" y="2460600"/>
            <a:ext cx="407880" cy="135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9718560" y="2444760"/>
            <a:ext cx="441360" cy="1681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9745560" y="2238480"/>
            <a:ext cx="389160" cy="18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9729720" y="2222640"/>
            <a:ext cx="420840" cy="2188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9640800" y="2092320"/>
            <a:ext cx="133560" cy="289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9624960" y="2075040"/>
            <a:ext cx="166680" cy="32220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9366120" y="2152800"/>
            <a:ext cx="27468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9350280" y="2136600"/>
            <a:ext cx="306360" cy="277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9188280" y="2309760"/>
            <a:ext cx="419400" cy="120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9172440" y="2293920"/>
            <a:ext cx="451080" cy="1522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9215280" y="2460600"/>
            <a:ext cx="395280" cy="181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9199440" y="2444760"/>
            <a:ext cx="427320" cy="212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9686880" y="2484360"/>
            <a:ext cx="27612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9671040" y="2467080"/>
            <a:ext cx="308160" cy="277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9550440" y="2373480"/>
            <a:ext cx="222120" cy="14256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9532800" y="2357280"/>
            <a:ext cx="255600" cy="1749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4"/>
          <a:stretch/>
        </p:blipFill>
        <p:spPr>
          <a:xfrm>
            <a:off x="7810560" y="90180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5"/>
          <a:stretch/>
        </p:blipFill>
        <p:spPr>
          <a:xfrm>
            <a:off x="7823160" y="5308560"/>
            <a:ext cx="4241880" cy="444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8696160" y="7632720"/>
            <a:ext cx="29134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oth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p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hamomi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8682840" y="5943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8683560" y="6222960"/>
            <a:ext cx="3102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hamomi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e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1749600" y="1600200"/>
            <a:ext cx="3020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lik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x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LT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lk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1748520" y="4316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1755720" y="711360"/>
            <a:ext cx="3300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Mayonnai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3"/>
          <p:cNvSpPr/>
          <p:nvPr/>
        </p:nvSpPr>
        <p:spPr>
          <a:xfrm>
            <a:off x="8591400" y="1044720"/>
            <a:ext cx="2216160" cy="2892240"/>
          </a:xfrm>
          <a:prstGeom prst="pie">
            <a:avLst/>
          </a:prstGeom>
          <a:solidFill>
            <a:srgbClr val="ec682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8578800" y="1028880"/>
            <a:ext cx="2244600" cy="29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8585280" y="1463760"/>
            <a:ext cx="628560" cy="246204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"/>
          <p:cNvSpPr/>
          <p:nvPr/>
        </p:nvSpPr>
        <p:spPr>
          <a:xfrm>
            <a:off x="8570880" y="1447920"/>
            <a:ext cx="655560" cy="2492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9142560" y="1573200"/>
            <a:ext cx="1649160" cy="222120"/>
          </a:xfrm>
          <a:prstGeom prst="pie">
            <a:avLst/>
          </a:prstGeom>
          <a:solidFill>
            <a:srgbClr val="daa98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9128160" y="1558800"/>
            <a:ext cx="1679400" cy="250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9120240" y="1044720"/>
            <a:ext cx="280800" cy="20952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9105840" y="1028880"/>
            <a:ext cx="309600" cy="237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8916840" y="1092240"/>
            <a:ext cx="1000440" cy="711000"/>
          </a:xfrm>
          <a:prstGeom prst="pie">
            <a:avLst/>
          </a:prstGeom>
          <a:solidFill>
            <a:srgbClr val="5c4a4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8902800" y="1077840"/>
            <a:ext cx="1028520" cy="739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186840" y="2297160"/>
            <a:ext cx="1341360" cy="844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9172440" y="2282760"/>
            <a:ext cx="1368720" cy="873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88840" y="0"/>
            <a:ext cx="5118120" cy="9537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7404120" y="520560"/>
            <a:ext cx="4876920" cy="92329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9445680" y="2349360"/>
            <a:ext cx="901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B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62560" y="4102200"/>
            <a:ext cx="2858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V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434920" y="4267080"/>
            <a:ext cx="172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8353440" y="5626080"/>
            <a:ext cx="3521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king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So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348760" y="2629080"/>
            <a:ext cx="3398400" cy="65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S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d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now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pla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xic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ean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du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1562760" y="1739880"/>
            <a:ext cx="322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re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ckl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self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ineg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1582200" y="457200"/>
            <a:ext cx="21268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ineg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605200" y="4089240"/>
            <a:ext cx="7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3"/>
          <p:cNvSpPr/>
          <p:nvPr/>
        </p:nvSpPr>
        <p:spPr>
          <a:xfrm>
            <a:off x="4083120" y="2803680"/>
            <a:ext cx="4838760" cy="11080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5711760" y="3100320"/>
            <a:ext cx="382680" cy="4795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6477120" y="3224160"/>
            <a:ext cx="315720" cy="363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7623000" y="3224160"/>
            <a:ext cx="304920" cy="36360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0" y="9156600"/>
            <a:ext cx="13004640" cy="596880"/>
          </a:xfrm>
          <a:prstGeom prst="pie">
            <a:avLst/>
          </a:prstGeom>
          <a:solidFill>
            <a:srgbClr val="4d4d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393840" y="5880240"/>
            <a:ext cx="12141000" cy="50760"/>
          </a:xfrm>
          <a:prstGeom prst="pie">
            <a:avLst/>
          </a:prstGeom>
          <a:noFill/>
          <a:ln w="25560">
            <a:solidFill>
              <a:srgbClr val="4c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289400" y="2998800"/>
            <a:ext cx="677880" cy="67644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405320" y="3111480"/>
            <a:ext cx="446040" cy="4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095880" y="32130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6845400" y="3086280"/>
            <a:ext cx="406440" cy="50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7251840" y="3213000"/>
            <a:ext cx="355320" cy="3812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711360" y="6172200"/>
            <a:ext cx="1184904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isclaimer: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oct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fession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healthca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vide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tart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ment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graphi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dvi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200280" y="7480440"/>
            <a:ext cx="607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3767400" y="7670880"/>
            <a:ext cx="6393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lifehacker.com/5872588/freeze-aloe-vera-in-ice-for-soothing-cooling-sunburn-rel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3316320" y="7873920"/>
            <a:ext cx="7460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complex.com/style/2013/02/50-life-hacks-that-will-make-you-more-stylish/earl-grey-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3745080" y="8064360"/>
            <a:ext cx="63190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voices.yahoo.com/the-three-best-natural-sunburn-remedies-3856478.html?cat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504320" y="8267760"/>
            <a:ext cx="46656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parents.com/kids/safety/outdoor/sunburn-remedi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632400" y="8458200"/>
            <a:ext cx="66225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urmc.rochester.edu/encyclopedia/content.aspx?contenttypeid=1&amp;contentid=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2622240" y="1587600"/>
            <a:ext cx="784656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Click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her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o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view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h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full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infographic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for_yang@qq.com</cp:lastModifiedBy>
  <dcterms:modified xsi:type="dcterms:W3CDTF">2014-07-19T14:22:2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