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264-F9A3-4483-8BA0-65CDF798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493-D5FE-4673-8929-A903AC33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6D1-3E73-48CF-8708-05FF318E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E13-0B61-4EAE-A29A-CE5A42F5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01A-EF34-4238-B396-CADDF5F1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442-4A3E-4B16-A806-2596B53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3DC-F076-416B-9429-D4C93CD0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B79-111F-4B43-B6C5-46152FF4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3A5-E2C1-4F0D-8655-1909198D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DD4-767A-4FEA-B6EA-B9AE763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781-836D-4204-8055-D718C52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4E9-3A69-4A6A-B27C-08DFC89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FDF-396F-442F-8FBD-E71E2C0E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未标题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弧度"/>
          <p:cNvPicPr/>
          <p:nvPr/>
        </p:nvPicPr>
        <p:blipFill>
          <a:blip r:embed="rId3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7"/>
          <p:cNvSpPr/>
          <p:nvPr/>
        </p:nvSpPr>
        <p:spPr>
          <a:xfrm>
            <a:off x="3809880" y="76212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6320" y="108000"/>
            <a:ext cx="1388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4"/>
          <p:cNvSpPr/>
          <p:nvPr/>
        </p:nvSpPr>
        <p:spPr>
          <a:xfrm>
            <a:off x="5310360" y="1760400"/>
            <a:ext cx="2971800" cy="29718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949320" y="1760400"/>
            <a:ext cx="2971800" cy="29718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46040" y="30672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1374840" y="1371600"/>
            <a:ext cx="1000080" cy="977760"/>
            <a:chOff x="1374840" y="1371600"/>
            <a:chExt cx="1000080" cy="977760"/>
          </a:xfrm>
        </p:grpSpPr>
        <p:grpSp>
          <p:nvGrpSpPr>
            <p:cNvPr id="299" name="Group 16"/>
            <p:cNvGrpSpPr/>
            <p:nvPr/>
          </p:nvGrpSpPr>
          <p:grpSpPr>
            <a:xfrm>
              <a:off x="1374840" y="1371600"/>
              <a:ext cx="1000080" cy="977760"/>
              <a:chOff x="1374840" y="1371600"/>
              <a:chExt cx="1000080" cy="977760"/>
            </a:xfrm>
          </p:grpSpPr>
          <p:pic>
            <p:nvPicPr>
              <p:cNvPr id="30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371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Oval 18"/>
              <p:cNvSpPr/>
              <p:nvPr/>
            </p:nvSpPr>
            <p:spPr>
              <a:xfrm>
                <a:off x="1374840" y="1371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762525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380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9"/>
          <p:cNvSpPr/>
          <p:nvPr/>
        </p:nvSpPr>
        <p:spPr>
          <a:xfrm>
            <a:off x="6181560" y="30002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6888240" y="1401840"/>
            <a:ext cx="1000080" cy="977760"/>
            <a:chOff x="6888240" y="1401840"/>
            <a:chExt cx="1000080" cy="977760"/>
          </a:xfrm>
        </p:grpSpPr>
        <p:grpSp>
          <p:nvGrpSpPr>
            <p:cNvPr id="305" name="Group 46"/>
            <p:cNvGrpSpPr/>
            <p:nvPr/>
          </p:nvGrpSpPr>
          <p:grpSpPr>
            <a:xfrm>
              <a:off x="6888240" y="1401840"/>
              <a:ext cx="1000080" cy="977760"/>
              <a:chOff x="6888240" y="1401840"/>
              <a:chExt cx="1000080" cy="977760"/>
            </a:xfrm>
          </p:grpSpPr>
          <p:pic>
            <p:nvPicPr>
              <p:cNvPr id="30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4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8"/>
              <p:cNvSpPr/>
              <p:nvPr/>
            </p:nvSpPr>
            <p:spPr>
              <a:xfrm>
                <a:off x="6888240" y="14018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4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50"/>
          <p:cNvSpPr/>
          <p:nvPr/>
        </p:nvSpPr>
        <p:spPr>
          <a:xfrm>
            <a:off x="6854760" y="16923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1374840" y="4124160"/>
            <a:ext cx="1000080" cy="978120"/>
            <a:chOff x="1374840" y="4124160"/>
            <a:chExt cx="1000080" cy="978120"/>
          </a:xfrm>
        </p:grpSpPr>
        <p:grpSp>
          <p:nvGrpSpPr>
            <p:cNvPr id="311" name="Group 16"/>
            <p:cNvGrpSpPr/>
            <p:nvPr/>
          </p:nvGrpSpPr>
          <p:grpSpPr>
            <a:xfrm>
              <a:off x="1374840" y="4124160"/>
              <a:ext cx="1000080" cy="978120"/>
              <a:chOff x="1374840" y="4124160"/>
              <a:chExt cx="1000080" cy="978120"/>
            </a:xfrm>
          </p:grpSpPr>
          <p:pic>
            <p:nvPicPr>
              <p:cNvPr id="31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1241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Oval 18"/>
              <p:cNvSpPr/>
              <p:nvPr/>
            </p:nvSpPr>
            <p:spPr>
              <a:xfrm>
                <a:off x="1374840" y="41241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1335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5"/>
          <p:cNvGrpSpPr/>
          <p:nvPr/>
        </p:nvGrpSpPr>
        <p:grpSpPr>
          <a:xfrm>
            <a:off x="469800" y="2828880"/>
            <a:ext cx="1000080" cy="978120"/>
            <a:chOff x="469800" y="2828880"/>
            <a:chExt cx="1000080" cy="978120"/>
          </a:xfrm>
        </p:grpSpPr>
        <p:grpSp>
          <p:nvGrpSpPr>
            <p:cNvPr id="316" name="Group 16"/>
            <p:cNvGrpSpPr/>
            <p:nvPr/>
          </p:nvGrpSpPr>
          <p:grpSpPr>
            <a:xfrm>
              <a:off x="469800" y="2828880"/>
              <a:ext cx="1000080" cy="978120"/>
              <a:chOff x="469800" y="2828880"/>
              <a:chExt cx="1000080" cy="978120"/>
            </a:xfrm>
          </p:grpSpPr>
          <p:pic>
            <p:nvPicPr>
              <p:cNvPr id="31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28288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Oval 18"/>
              <p:cNvSpPr/>
              <p:nvPr/>
            </p:nvSpPr>
            <p:spPr>
              <a:xfrm>
                <a:off x="469800" y="28288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50000">
                    <a:srgbClr val="8f2d2d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28382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45"/>
          <p:cNvGrpSpPr/>
          <p:nvPr/>
        </p:nvGrpSpPr>
        <p:grpSpPr>
          <a:xfrm>
            <a:off x="6888240" y="4011480"/>
            <a:ext cx="1000080" cy="978120"/>
            <a:chOff x="6888240" y="4011480"/>
            <a:chExt cx="1000080" cy="978120"/>
          </a:xfrm>
        </p:grpSpPr>
        <p:grpSp>
          <p:nvGrpSpPr>
            <p:cNvPr id="321" name="Group 46"/>
            <p:cNvGrpSpPr/>
            <p:nvPr/>
          </p:nvGrpSpPr>
          <p:grpSpPr>
            <a:xfrm>
              <a:off x="6888240" y="4011480"/>
              <a:ext cx="1000080" cy="978120"/>
              <a:chOff x="6888240" y="4011480"/>
              <a:chExt cx="1000080" cy="978120"/>
            </a:xfrm>
          </p:grpSpPr>
          <p:pic>
            <p:nvPicPr>
              <p:cNvPr id="32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0114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Oval 48"/>
              <p:cNvSpPr/>
              <p:nvPr/>
            </p:nvSpPr>
            <p:spPr>
              <a:xfrm>
                <a:off x="6888240" y="40114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020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0"/>
          <p:cNvSpPr/>
          <p:nvPr/>
        </p:nvSpPr>
        <p:spPr>
          <a:xfrm>
            <a:off x="6854760" y="42829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5"/>
          <p:cNvGrpSpPr/>
          <p:nvPr/>
        </p:nvGrpSpPr>
        <p:grpSpPr>
          <a:xfrm>
            <a:off x="7736040" y="2773440"/>
            <a:ext cx="1000080" cy="977760"/>
            <a:chOff x="7736040" y="2773440"/>
            <a:chExt cx="1000080" cy="977760"/>
          </a:xfrm>
        </p:grpSpPr>
        <p:grpSp>
          <p:nvGrpSpPr>
            <p:cNvPr id="327" name="Group 46"/>
            <p:cNvGrpSpPr/>
            <p:nvPr/>
          </p:nvGrpSpPr>
          <p:grpSpPr>
            <a:xfrm>
              <a:off x="7736040" y="2773440"/>
              <a:ext cx="1000080" cy="977760"/>
              <a:chOff x="7736040" y="2773440"/>
              <a:chExt cx="1000080" cy="977760"/>
            </a:xfrm>
          </p:grpSpPr>
          <p:pic>
            <p:nvPicPr>
              <p:cNvPr id="32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7734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48"/>
              <p:cNvSpPr/>
              <p:nvPr/>
            </p:nvSpPr>
            <p:spPr>
              <a:xfrm>
                <a:off x="7736040" y="27734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8a53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7828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50"/>
          <p:cNvSpPr/>
          <p:nvPr/>
        </p:nvSpPr>
        <p:spPr>
          <a:xfrm>
            <a:off x="7702560" y="3059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921120" y="18367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a0a0">
                  <a:alpha val="80000"/>
                </a:srgbClr>
              </a:gs>
              <a:gs pos="100000">
                <a:srgbClr val="ff5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4654440" y="2543040"/>
            <a:ext cx="1676520" cy="1403280"/>
            <a:chOff x="4654440" y="2543040"/>
            <a:chExt cx="1676520" cy="1403280"/>
          </a:xfrm>
        </p:grpSpPr>
        <p:sp>
          <p:nvSpPr>
            <p:cNvPr id="334" name="AutoShape 43"/>
            <p:cNvSpPr/>
            <p:nvPr/>
          </p:nvSpPr>
          <p:spPr>
            <a:xfrm>
              <a:off x="4654440" y="25430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d596"/>
                </a:gs>
                <a:gs pos="100000">
                  <a:srgbClr val="ff9900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4"/>
            <p:cNvSpPr/>
            <p:nvPr/>
          </p:nvSpPr>
          <p:spPr>
            <a:xfrm>
              <a:off x="4709520" y="25984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6b00"/>
                </a:gs>
                <a:gs pos="100000">
                  <a:srgbClr val="ff9900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2930040" y="2560680"/>
            <a:ext cx="1676520" cy="1403280"/>
            <a:chOff x="2930040" y="2560680"/>
            <a:chExt cx="1676520" cy="1403280"/>
          </a:xfrm>
        </p:grpSpPr>
        <p:sp>
          <p:nvSpPr>
            <p:cNvPr id="337" name="AutoShape 46"/>
            <p:cNvSpPr/>
            <p:nvPr/>
          </p:nvSpPr>
          <p:spPr>
            <a:xfrm flipH="1">
              <a:off x="2929680" y="25606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ffa6a6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7"/>
            <p:cNvSpPr/>
            <p:nvPr/>
          </p:nvSpPr>
          <p:spPr>
            <a:xfrm flipH="1">
              <a:off x="2999880" y="26161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aa3535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195720" y="28386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781520" y="28386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692520" y="1455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92520" y="4686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2"/>
          <p:cNvSpPr/>
          <p:nvPr/>
        </p:nvSpPr>
        <p:spPr>
          <a:xfrm flipH="1" flipV="1">
            <a:off x="3921120" y="34941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be5d">
                  <a:alpha val="80000"/>
                </a:srgbClr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0"/>
          <p:cNvSpPr/>
          <p:nvPr/>
        </p:nvSpPr>
        <p:spPr>
          <a:xfrm>
            <a:off x="1346040" y="1692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403280" y="4427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482760" y="3132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4"/>
          <p:cNvSpPr/>
          <p:nvPr/>
        </p:nvSpPr>
        <p:spPr>
          <a:xfrm flipH="1" rot="3046800">
            <a:off x="4723920" y="63000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 flipH="1" rot="3172200">
            <a:off x="2185200" y="284148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"/>
          <p:cNvSpPr/>
          <p:nvPr/>
        </p:nvSpPr>
        <p:spPr>
          <a:xfrm rot="18472800">
            <a:off x="4724280" y="284616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"/>
          <p:cNvSpPr/>
          <p:nvPr/>
        </p:nvSpPr>
        <p:spPr>
          <a:xfrm rot="18553200">
            <a:off x="2190600" y="62856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606840" y="2500200"/>
            <a:ext cx="1647720" cy="164808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846680" y="18255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273400" y="423396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4821120" y="421632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8037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57960" y="2776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832560" y="3487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57960" y="3478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2227320" y="184644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901800" y="1676520"/>
            <a:ext cx="7632720" cy="3054240"/>
            <a:chOff x="901800" y="1676520"/>
            <a:chExt cx="7632720" cy="3054240"/>
          </a:xfrm>
        </p:grpSpPr>
        <p:sp>
          <p:nvSpPr>
            <p:cNvPr id="365" name="AutoShape 5"/>
            <p:cNvSpPr/>
            <p:nvPr/>
          </p:nvSpPr>
          <p:spPr>
            <a:xfrm>
              <a:off x="306252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>
              <a:off x="5797800" y="24750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637380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505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651528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0"/>
            <p:cNvSpPr/>
            <p:nvPr/>
          </p:nvSpPr>
          <p:spPr>
            <a:xfrm>
              <a:off x="6546960" y="183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3333"/>
                </a:gs>
                <a:gs pos="100000">
                  <a:srgbClr val="ff50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"/>
            <p:cNvSpPr/>
            <p:nvPr/>
          </p:nvSpPr>
          <p:spPr>
            <a:xfrm>
              <a:off x="66168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901800" y="16765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1042920" y="18176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00"/>
                </a:gs>
                <a:gs pos="50000">
                  <a:srgbClr val="ff9900"/>
                </a:gs>
                <a:gs pos="100000">
                  <a:srgbClr val="8a5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1044720" y="18208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00"/>
                </a:gs>
                <a:gs pos="100000">
                  <a:srgbClr val="ff99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1136880" y="19116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1163880" y="1936800"/>
              <a:ext cx="1636560" cy="1636920"/>
              <a:chOff x="1163880" y="1936800"/>
              <a:chExt cx="1636560" cy="16369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116388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9"/>
              <p:cNvSpPr/>
              <p:nvPr/>
            </p:nvSpPr>
            <p:spPr>
              <a:xfrm>
                <a:off x="118440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20"/>
              <p:cNvSpPr/>
              <p:nvPr/>
            </p:nvSpPr>
            <p:spPr>
              <a:xfrm>
                <a:off x="120168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21"/>
              <p:cNvSpPr/>
              <p:nvPr/>
            </p:nvSpPr>
            <p:spPr>
              <a:xfrm>
                <a:off x="129060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22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"/>
            <p:cNvSpPr/>
            <p:nvPr/>
          </p:nvSpPr>
          <p:spPr>
            <a:xfrm>
              <a:off x="3638520" y="16830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7">
                    <a:alpha val="32156"/>
                  </a:srgbClr>
                </a:gs>
                <a:gs pos="100000">
                  <a:srgbClr val="7676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3780000" y="18241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8a86"/>
                </a:gs>
                <a:gs pos="50000">
                  <a:srgbClr val="fffff7"/>
                </a:gs>
                <a:gs pos="100000">
                  <a:srgbClr val="8a8a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5"/>
            <p:cNvSpPr/>
            <p:nvPr/>
          </p:nvSpPr>
          <p:spPr>
            <a:xfrm>
              <a:off x="3781440" y="1827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a29d"/>
                </a:gs>
                <a:gs pos="100000">
                  <a:srgbClr val="ffff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6"/>
            <p:cNvSpPr/>
            <p:nvPr/>
          </p:nvSpPr>
          <p:spPr>
            <a:xfrm>
              <a:off x="3873600" y="19177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7"/>
            <p:cNvGrpSpPr/>
            <p:nvPr/>
          </p:nvGrpSpPr>
          <p:grpSpPr>
            <a:xfrm>
              <a:off x="3900600" y="1936800"/>
              <a:ext cx="1636560" cy="1636920"/>
              <a:chOff x="3900600" y="1936800"/>
              <a:chExt cx="1636560" cy="1636920"/>
            </a:xfrm>
          </p:grpSpPr>
          <p:sp>
            <p:nvSpPr>
              <p:cNvPr id="388" name="Oval 28"/>
              <p:cNvSpPr/>
              <p:nvPr/>
            </p:nvSpPr>
            <p:spPr>
              <a:xfrm>
                <a:off x="390060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9"/>
              <p:cNvSpPr/>
              <p:nvPr/>
            </p:nvSpPr>
            <p:spPr>
              <a:xfrm>
                <a:off x="392112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30"/>
              <p:cNvSpPr/>
              <p:nvPr/>
            </p:nvSpPr>
            <p:spPr>
              <a:xfrm>
                <a:off x="393840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31"/>
              <p:cNvSpPr/>
              <p:nvPr/>
            </p:nvSpPr>
            <p:spPr>
              <a:xfrm>
                <a:off x="402732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6647040" y="1936800"/>
              <a:ext cx="1636560" cy="1636920"/>
              <a:chOff x="6647040" y="1936800"/>
              <a:chExt cx="1636560" cy="16369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6647040" y="19368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4"/>
              <p:cNvSpPr/>
              <p:nvPr/>
            </p:nvSpPr>
            <p:spPr>
              <a:xfrm>
                <a:off x="6667560" y="194580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5"/>
              <p:cNvSpPr/>
              <p:nvPr/>
            </p:nvSpPr>
            <p:spPr>
              <a:xfrm>
                <a:off x="6684840" y="19616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6"/>
              <p:cNvSpPr/>
              <p:nvPr/>
            </p:nvSpPr>
            <p:spPr>
              <a:xfrm>
                <a:off x="6773760" y="20034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AutoShape 37"/>
            <p:cNvSpPr/>
            <p:nvPr/>
          </p:nvSpPr>
          <p:spPr>
            <a:xfrm>
              <a:off x="9511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8"/>
            <p:cNvSpPr/>
            <p:nvPr/>
          </p:nvSpPr>
          <p:spPr>
            <a:xfrm>
              <a:off x="368460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9"/>
            <p:cNvSpPr/>
            <p:nvPr/>
          </p:nvSpPr>
          <p:spPr>
            <a:xfrm>
              <a:off x="6437520" y="42148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17110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4542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7197480" y="2522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5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 rot="3418800">
            <a:off x="7125840" y="1811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676920" y="31464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 rot="3418800">
            <a:off x="1791720" y="2138400"/>
            <a:ext cx="92412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888560" y="2496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 rot="3418800">
            <a:off x="3227040" y="4043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3323880" y="4402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 rot="3418800">
            <a:off x="5144760" y="2954160"/>
            <a:ext cx="92376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241600" y="33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210080" y="2160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590920" y="3092400"/>
            <a:ext cx="761760" cy="10666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4191120" y="3679560"/>
            <a:ext cx="91440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6095880" y="2536920"/>
            <a:ext cx="990720" cy="622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866680" y="53658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000400" y="4365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961920" y="36036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1447920" y="990720"/>
            <a:ext cx="6933960" cy="4476240"/>
            <a:chOff x="1447920" y="990720"/>
            <a:chExt cx="6933960" cy="4476240"/>
          </a:xfrm>
        </p:grpSpPr>
        <p:sp>
          <p:nvSpPr>
            <p:cNvPr id="423" name="Freeform 5"/>
            <p:cNvSpPr/>
            <p:nvPr/>
          </p:nvSpPr>
          <p:spPr>
            <a:xfrm>
              <a:off x="1447920" y="1428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5715000" y="280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 rot="20876400">
              <a:off x="3544920" y="441936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3476520" y="320040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3497400" y="320976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3514680" y="322560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1"/>
            <p:cNvSpPr/>
            <p:nvPr/>
          </p:nvSpPr>
          <p:spPr>
            <a:xfrm>
              <a:off x="3606840" y="327024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4026960" y="380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20826600">
              <a:off x="1701720" y="380952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14"/>
            <p:cNvGrpSpPr/>
            <p:nvPr/>
          </p:nvGrpSpPr>
          <p:grpSpPr>
            <a:xfrm>
              <a:off x="1625760" y="2819160"/>
              <a:ext cx="1371240" cy="1440720"/>
              <a:chOff x="1625760" y="2819160"/>
              <a:chExt cx="1371240" cy="1440720"/>
            </a:xfrm>
          </p:grpSpPr>
          <p:sp>
            <p:nvSpPr>
              <p:cNvPr id="433" name="Oval 15"/>
              <p:cNvSpPr/>
              <p:nvPr/>
            </p:nvSpPr>
            <p:spPr>
              <a:xfrm>
                <a:off x="1625760" y="281916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1643400" y="282744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1656720" y="284112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1728360" y="2877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9"/>
              <p:cNvSpPr/>
              <p:nvPr/>
            </p:nvSpPr>
            <p:spPr>
              <a:xfrm>
                <a:off x="2019240" y="33069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0"/>
            <p:cNvSpPr/>
            <p:nvPr/>
          </p:nvSpPr>
          <p:spPr>
            <a:xfrm>
              <a:off x="1592280" y="205416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1668600" y="14475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1681200" y="14522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1692360" y="146340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1746360" y="148896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"/>
            <p:cNvSpPr/>
            <p:nvPr/>
          </p:nvSpPr>
          <p:spPr>
            <a:xfrm>
              <a:off x="1963080" y="1782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2859120" y="152388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2981160" y="99072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8"/>
            <p:cNvSpPr/>
            <p:nvPr/>
          </p:nvSpPr>
          <p:spPr>
            <a:xfrm>
              <a:off x="2990880" y="99360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9"/>
            <p:cNvSpPr/>
            <p:nvPr/>
          </p:nvSpPr>
          <p:spPr>
            <a:xfrm>
              <a:off x="2997360" y="100008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0"/>
            <p:cNvSpPr/>
            <p:nvPr/>
          </p:nvSpPr>
          <p:spPr>
            <a:xfrm>
              <a:off x="3033720" y="101916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1"/>
            <p:cNvSpPr/>
            <p:nvPr/>
          </p:nvSpPr>
          <p:spPr>
            <a:xfrm>
              <a:off x="3126960" y="1203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6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4"/>
          <p:cNvSpPr/>
          <p:nvPr/>
        </p:nvSpPr>
        <p:spPr>
          <a:xfrm>
            <a:off x="2616120" y="31147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"/>
          <p:cNvSpPr/>
          <p:nvPr/>
        </p:nvSpPr>
        <p:spPr>
          <a:xfrm rot="7200000">
            <a:off x="4307400" y="20343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2644200" y="1777680"/>
            <a:ext cx="2482560" cy="2629080"/>
            <a:chOff x="2644200" y="1777680"/>
            <a:chExt cx="2482560" cy="2629080"/>
          </a:xfrm>
        </p:grpSpPr>
        <p:sp>
          <p:nvSpPr>
            <p:cNvPr id="455" name="AutoShape 7"/>
            <p:cNvSpPr/>
            <p:nvPr/>
          </p:nvSpPr>
          <p:spPr>
            <a:xfrm rot="12600000">
              <a:off x="2698200" y="3483720"/>
              <a:ext cx="144108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 rot="7200000">
              <a:off x="3093480" y="2688840"/>
              <a:ext cx="150480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 rot="7200000">
              <a:off x="4166640" y="1762200"/>
              <a:ext cx="62208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10"/>
          <p:cNvSpPr/>
          <p:nvPr/>
        </p:nvSpPr>
        <p:spPr>
          <a:xfrm rot="14400000">
            <a:off x="4421520" y="38880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457160" y="2665080"/>
            <a:ext cx="2172960" cy="2759760"/>
            <a:chOff x="4457160" y="2665080"/>
            <a:chExt cx="2172960" cy="2759760"/>
          </a:xfrm>
        </p:grpSpPr>
        <p:sp>
          <p:nvSpPr>
            <p:cNvPr id="460" name="AutoShape 12"/>
            <p:cNvSpPr/>
            <p:nvPr/>
          </p:nvSpPr>
          <p:spPr>
            <a:xfrm rot="19800000">
              <a:off x="4511520" y="29840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"/>
            <p:cNvSpPr/>
            <p:nvPr/>
          </p:nvSpPr>
          <p:spPr>
            <a:xfrm rot="14400000">
              <a:off x="4904280" y="357984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4"/>
            <p:cNvSpPr/>
            <p:nvPr/>
          </p:nvSpPr>
          <p:spPr>
            <a:xfrm rot="14400000">
              <a:off x="5724360" y="43318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5"/>
          <p:cNvGrpSpPr/>
          <p:nvPr/>
        </p:nvGrpSpPr>
        <p:grpSpPr>
          <a:xfrm>
            <a:off x="2608200" y="4319640"/>
            <a:ext cx="2493720" cy="1395000"/>
            <a:chOff x="2608200" y="4319640"/>
            <a:chExt cx="2493720" cy="1395000"/>
          </a:xfrm>
        </p:grpSpPr>
        <p:sp>
          <p:nvSpPr>
            <p:cNvPr id="464" name="Freeform 16"/>
            <p:cNvSpPr/>
            <p:nvPr/>
          </p:nvSpPr>
          <p:spPr>
            <a:xfrm>
              <a:off x="2608200" y="431964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7"/>
            <p:cNvSpPr/>
            <p:nvPr/>
          </p:nvSpPr>
          <p:spPr>
            <a:xfrm rot="5400000">
              <a:off x="4089960" y="470268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3132000" y="464184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141912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557760" y="484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977640" y="1503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4"/>
          <p:cNvSpPr/>
          <p:nvPr/>
        </p:nvSpPr>
        <p:spPr>
          <a:xfrm>
            <a:off x="914400" y="382572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538360" y="4619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2554200" y="4203720"/>
            <a:ext cx="46368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1884240" y="450684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"/>
          <p:cNvSpPr/>
          <p:nvPr/>
        </p:nvSpPr>
        <p:spPr>
          <a:xfrm>
            <a:off x="1908000" y="198900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1238400" y="4568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1262160" y="3656160"/>
            <a:ext cx="46332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7116840" y="45975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7143840" y="3376440"/>
            <a:ext cx="463320" cy="193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3"/>
          <p:cNvSpPr/>
          <p:nvPr/>
        </p:nvSpPr>
        <p:spPr>
          <a:xfrm>
            <a:off x="6462720" y="4452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4"/>
          <p:cNvSpPr/>
          <p:nvPr/>
        </p:nvSpPr>
        <p:spPr>
          <a:xfrm>
            <a:off x="6486480" y="3583080"/>
            <a:ext cx="463680" cy="193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5816520" y="45464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5838840" y="4357800"/>
            <a:ext cx="463680" cy="193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206360" y="50133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5813280" y="50356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1127160" y="3301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0"/>
          <p:cNvSpPr/>
          <p:nvPr/>
        </p:nvSpPr>
        <p:spPr>
          <a:xfrm>
            <a:off x="1733400" y="16416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2463840" y="3848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5722920" y="4033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350040" y="3235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7018200" y="3033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"/>
          <p:cNvSpPr/>
          <p:nvPr/>
        </p:nvSpPr>
        <p:spPr>
          <a:xfrm>
            <a:off x="3278160" y="12780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6"/>
          <p:cNvSpPr/>
          <p:nvPr/>
        </p:nvSpPr>
        <p:spPr>
          <a:xfrm>
            <a:off x="3603600" y="13906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7"/>
          <p:cNvSpPr/>
          <p:nvPr/>
        </p:nvSpPr>
        <p:spPr>
          <a:xfrm>
            <a:off x="3603600" y="17733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8"/>
          <p:cNvSpPr/>
          <p:nvPr/>
        </p:nvSpPr>
        <p:spPr>
          <a:xfrm>
            <a:off x="3603600" y="21668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3914640" y="1346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3914640" y="1728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3914640" y="2133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32"/>
          <p:cNvSpPr/>
          <p:nvPr/>
        </p:nvSpPr>
        <p:spPr>
          <a:xfrm flipV="1">
            <a:off x="3227400" y="35067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438880" y="121932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968480" y="310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419720" y="14652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583160" y="1878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4417920" y="259092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4419720" y="37069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4419720" y="481824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1"/>
          <p:cNvGrpSpPr/>
          <p:nvPr/>
        </p:nvGrpSpPr>
        <p:grpSpPr>
          <a:xfrm>
            <a:off x="687600" y="1233000"/>
            <a:ext cx="3882240" cy="4178880"/>
            <a:chOff x="687600" y="1233000"/>
            <a:chExt cx="3882240" cy="4178880"/>
          </a:xfrm>
        </p:grpSpPr>
        <p:sp>
          <p:nvSpPr>
            <p:cNvPr id="511" name="AutoShape 12"/>
            <p:cNvSpPr/>
            <p:nvPr/>
          </p:nvSpPr>
          <p:spPr>
            <a:xfrm rot="279000">
              <a:off x="839880" y="137124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rot="15972600">
              <a:off x="677520" y="153360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rot="10800000">
              <a:off x="839880" y="1371600"/>
              <a:ext cx="3577680" cy="3901680"/>
            </a:xfrm>
            <a:custGeom>
              <a:avLst/>
              <a:gdLst>
                <a:gd name="textAreaLeft" fmla="*/ 523440 w 3577680"/>
                <a:gd name="textAreaRight" fmla="*/ 3054240 w 357768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ffff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 rot="5400000">
              <a:off x="677880" y="1533240"/>
              <a:ext cx="3901680" cy="357768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7680"/>
                <a:gd name="textAreaBottom" fmla="*/ 30542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583160" y="30132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4583160" y="416412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572000" y="5216400"/>
            <a:ext cx="31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Arial"/>
              </a:rPr>
              <a:t>单击添加文本单击添加文本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4"/>
          <p:cNvSpPr/>
          <p:nvPr/>
        </p:nvSpPr>
        <p:spPr>
          <a:xfrm flipH="1" rot="16200000">
            <a:off x="2257200" y="269388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 flipH="1" rot="5400000">
            <a:off x="6047640" y="262224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flipH="1" rot="10800000">
            <a:off x="4151880" y="4605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f9900"/>
              </a:gs>
              <a:gs pos="100000">
                <a:srgbClr val="ffd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2797200" y="121932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8"/>
          <p:cNvSpPr/>
          <p:nvPr/>
        </p:nvSpPr>
        <p:spPr>
          <a:xfrm>
            <a:off x="3087720" y="150804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9"/>
          <p:cNvGrpSpPr/>
          <p:nvPr/>
        </p:nvGrpSpPr>
        <p:grpSpPr>
          <a:xfrm>
            <a:off x="3516480" y="1938240"/>
            <a:ext cx="1946160" cy="1949400"/>
            <a:chOff x="3516480" y="1938240"/>
            <a:chExt cx="1946160" cy="1949400"/>
          </a:xfrm>
        </p:grpSpPr>
        <p:sp>
          <p:nvSpPr>
            <p:cNvPr id="526" name="Oval 10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50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3516480" y="193824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8a2b2b"/>
                </a:gs>
                <a:gs pos="50000">
                  <a:srgbClr val="ff5050"/>
                </a:gs>
                <a:gs pos="100000">
                  <a:srgbClr val="8a2b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3"/>
            <p:cNvSpPr/>
            <p:nvPr/>
          </p:nvSpPr>
          <p:spPr>
            <a:xfrm>
              <a:off x="3643920" y="206568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7c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3728520" y="215064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15"/>
          <p:cNvSpPr/>
          <p:nvPr/>
        </p:nvSpPr>
        <p:spPr>
          <a:xfrm>
            <a:off x="611280" y="31640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611280" y="25146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611280" y="1866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a3535"/>
              </a:gs>
              <a:gs pos="50000">
                <a:srgbClr val="ff5050"/>
              </a:gs>
              <a:gs pos="100000">
                <a:srgbClr val="aa353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24880" y="263520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Gulim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6732720" y="31719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6732720" y="252252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6732720" y="187488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8888"/>
              </a:gs>
              <a:gs pos="50000">
                <a:srgbClr val="33cccc"/>
              </a:gs>
              <a:gs pos="100000">
                <a:srgbClr val="228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2"/>
          <p:cNvSpPr/>
          <p:nvPr/>
        </p:nvSpPr>
        <p:spPr>
          <a:xfrm>
            <a:off x="2286000" y="518148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ffff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Gulim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46"/>
          <p:cNvGrpSpPr/>
          <p:nvPr/>
        </p:nvGrpSpPr>
        <p:grpSpPr>
          <a:xfrm>
            <a:off x="838080" y="1143000"/>
            <a:ext cx="6918480" cy="4421160"/>
            <a:chOff x="838080" y="1143000"/>
            <a:chExt cx="6918480" cy="4421160"/>
          </a:xfrm>
        </p:grpSpPr>
        <p:grpSp>
          <p:nvGrpSpPr>
            <p:cNvPr id="542" name="Group 47"/>
            <p:cNvGrpSpPr/>
            <p:nvPr/>
          </p:nvGrpSpPr>
          <p:grpSpPr>
            <a:xfrm>
              <a:off x="2362320" y="1143000"/>
              <a:ext cx="4419000" cy="4376160"/>
              <a:chOff x="2362320" y="1143000"/>
              <a:chExt cx="4419000" cy="4376160"/>
            </a:xfrm>
          </p:grpSpPr>
          <p:sp>
            <p:nvSpPr>
              <p:cNvPr id="543" name="Puzzle3"/>
              <p:cNvSpPr/>
              <p:nvPr/>
            </p:nvSpPr>
            <p:spPr>
              <a:xfrm>
                <a:off x="4514400" y="11430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Puzzle2"/>
              <p:cNvSpPr/>
              <p:nvPr/>
            </p:nvSpPr>
            <p:spPr>
              <a:xfrm>
                <a:off x="4008960" y="283716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Puzzle4"/>
              <p:cNvSpPr/>
              <p:nvPr/>
            </p:nvSpPr>
            <p:spPr>
              <a:xfrm>
                <a:off x="2936160" y="28108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Puzzle1"/>
              <p:cNvSpPr/>
              <p:nvPr/>
            </p:nvSpPr>
            <p:spPr>
              <a:xfrm>
                <a:off x="2362320" y="18464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2"/>
            <p:cNvSpPr/>
            <p:nvPr/>
          </p:nvSpPr>
          <p:spPr>
            <a:xfrm>
              <a:off x="6752880" y="3504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3"/>
            <p:cNvSpPr/>
            <p:nvPr/>
          </p:nvSpPr>
          <p:spPr>
            <a:xfrm>
              <a:off x="838080" y="29098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54"/>
            <p:cNvSpPr/>
            <p:nvPr/>
          </p:nvSpPr>
          <p:spPr>
            <a:xfrm>
              <a:off x="2590920" y="12189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55"/>
            <p:cNvSpPr/>
            <p:nvPr/>
          </p:nvSpPr>
          <p:spPr>
            <a:xfrm>
              <a:off x="4267080" y="51958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60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762120" y="1539720"/>
            <a:ext cx="78595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438280" y="122400"/>
            <a:ext cx="3886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2477520" y="1295280"/>
            <a:ext cx="4218120" cy="4162320"/>
            <a:chOff x="2477520" y="1295280"/>
            <a:chExt cx="4218120" cy="4162320"/>
          </a:xfrm>
        </p:grpSpPr>
        <p:sp>
          <p:nvSpPr>
            <p:cNvPr id="554" name="AutoShape 3"/>
            <p:cNvSpPr/>
            <p:nvPr/>
          </p:nvSpPr>
          <p:spPr>
            <a:xfrm rot="10800000">
              <a:off x="3965760" y="44049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"/>
            <p:cNvSpPr/>
            <p:nvPr/>
          </p:nvSpPr>
          <p:spPr>
            <a:xfrm>
              <a:off x="3983400" y="12952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"/>
            <p:cNvSpPr/>
            <p:nvPr/>
          </p:nvSpPr>
          <p:spPr>
            <a:xfrm rot="7186200">
              <a:off x="5345280" y="36118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6"/>
            <p:cNvSpPr/>
            <p:nvPr/>
          </p:nvSpPr>
          <p:spPr>
            <a:xfrm rot="3597000">
              <a:off x="5342760" y="20786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7"/>
            <p:cNvSpPr/>
            <p:nvPr/>
          </p:nvSpPr>
          <p:spPr>
            <a:xfrm rot="14374200">
              <a:off x="2636640" y="36205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 rot="17985000">
              <a:off x="2640960" y="20736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"/>
            <p:cNvSpPr/>
            <p:nvPr/>
          </p:nvSpPr>
          <p:spPr>
            <a:xfrm>
              <a:off x="3308760" y="47908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2180160" y="463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1102320" y="2486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1102320" y="3906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"/>
          <p:cNvSpPr/>
          <p:nvPr/>
        </p:nvSpPr>
        <p:spPr>
          <a:xfrm>
            <a:off x="7457040" y="2484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7457040" y="3855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6228360" y="1631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3564000" y="2443320"/>
            <a:ext cx="2093760" cy="1811160"/>
          </a:xfrm>
          <a:prstGeom prst="hexagon">
            <a:avLst>
              <a:gd name="adj" fmla="val 2890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3333600" y="4819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4668480" y="1812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25840" y="318132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255760" y="2647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2255760" y="4067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H="1">
            <a:off x="5897160" y="266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5897160" y="40370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4"/>
          <p:cNvSpPr/>
          <p:nvPr/>
        </p:nvSpPr>
        <p:spPr>
          <a:xfrm>
            <a:off x="1100160" y="22874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120760" y="261936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2979720" y="29322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914640" y="32338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6164280" y="385596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9"/>
          <p:cNvSpPr/>
          <p:nvPr/>
        </p:nvSpPr>
        <p:spPr>
          <a:xfrm>
            <a:off x="5013360" y="359568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730520" y="19144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622600" y="19288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605040" y="193212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4737240" y="19256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927760" y="1922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29448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01680" y="340992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2097000" y="39481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3249720" y="448452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9"/>
          <p:cNvSpPr/>
          <p:nvPr/>
        </p:nvSpPr>
        <p:spPr>
          <a:xfrm>
            <a:off x="4138560" y="510552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AutoShape 20"/>
          <p:cNvCxnSpPr>
            <a:stCxn id="578" idx="3"/>
            <a:endCxn id="588" idx="0"/>
          </p:cNvCxnSpPr>
          <p:nvPr/>
        </p:nvCxnSpPr>
        <p:spPr>
          <a:xfrm rot="5400000">
            <a:off x="1926360" y="264312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4" name="AutoShape 21"/>
          <p:cNvCxnSpPr>
            <a:stCxn id="579" idx="3"/>
            <a:endCxn id="589" idx="0"/>
          </p:cNvCxnSpPr>
          <p:nvPr/>
        </p:nvCxnSpPr>
        <p:spPr>
          <a:xfrm rot="5400000">
            <a:off x="2607480" y="2912400"/>
            <a:ext cx="295560" cy="70020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5" name="AutoShape 22"/>
          <p:cNvCxnSpPr>
            <a:stCxn id="580" idx="3"/>
            <a:endCxn id="590" idx="0"/>
          </p:cNvCxnSpPr>
          <p:nvPr/>
        </p:nvCxnSpPr>
        <p:spPr>
          <a:xfrm rot="5400000">
            <a:off x="3480840" y="334296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6" name="AutoShape 23"/>
          <p:cNvCxnSpPr>
            <a:stCxn id="582" idx="3"/>
            <a:endCxn id="591" idx="0"/>
          </p:cNvCxnSpPr>
          <p:nvPr/>
        </p:nvCxnSpPr>
        <p:spPr>
          <a:xfrm rot="5400000">
            <a:off x="4595760" y="3856680"/>
            <a:ext cx="484560" cy="772200"/>
          </a:xfrm>
          <a:prstGeom prst="bentConnector3">
            <a:avLst>
              <a:gd name="adj1" fmla="val 4981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97" name="AutoShape 24"/>
          <p:cNvCxnSpPr>
            <a:stCxn id="581" idx="3"/>
            <a:endCxn id="592" idx="0"/>
          </p:cNvCxnSpPr>
          <p:nvPr/>
        </p:nvCxnSpPr>
        <p:spPr>
          <a:xfrm rot="5400000">
            <a:off x="5585400" y="425916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98" name="AutoShape 25"/>
          <p:cNvSpPr/>
          <p:nvPr/>
        </p:nvSpPr>
        <p:spPr>
          <a:xfrm>
            <a:off x="6164280" y="233208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5013360" y="232884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914640" y="232560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8"/>
          <p:cNvSpPr/>
          <p:nvPr/>
        </p:nvSpPr>
        <p:spPr>
          <a:xfrm>
            <a:off x="2979720" y="23320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2120760" y="233352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7696080" y="763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267080" y="2971800"/>
            <a:ext cx="4724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谢谢观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"/>
          <p:cNvSpPr/>
          <p:nvPr/>
        </p:nvSpPr>
        <p:spPr>
          <a:xfrm>
            <a:off x="226836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1"/>
          <p:cNvSpPr/>
          <p:nvPr/>
        </p:nvSpPr>
        <p:spPr>
          <a:xfrm>
            <a:off x="228276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2"/>
          <p:cNvSpPr/>
          <p:nvPr/>
        </p:nvSpPr>
        <p:spPr>
          <a:xfrm>
            <a:off x="226836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3"/>
          <p:cNvSpPr/>
          <p:nvPr/>
        </p:nvSpPr>
        <p:spPr>
          <a:xfrm>
            <a:off x="226836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4"/>
          <p:cNvSpPr/>
          <p:nvPr/>
        </p:nvSpPr>
        <p:spPr>
          <a:xfrm>
            <a:off x="2579760" y="212076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260028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590920" y="383076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2666880" y="470232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182880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182880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182880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82880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66880" y="198108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90680" y="449568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27600" y="444348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830840" y="1981080"/>
            <a:ext cx="2373120" cy="121932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459240" y="1851120"/>
            <a:ext cx="1361160" cy="1321560"/>
            <a:chOff x="3459240" y="1851120"/>
            <a:chExt cx="1361160" cy="1321560"/>
          </a:xfrm>
        </p:grpSpPr>
        <p:sp>
          <p:nvSpPr>
            <p:cNvPr id="105" name="AutoShape 9"/>
            <p:cNvSpPr/>
            <p:nvPr/>
          </p:nvSpPr>
          <p:spPr>
            <a:xfrm>
              <a:off x="3459240" y="1851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44920" y="1936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4830840" y="3173400"/>
            <a:ext cx="1361160" cy="1321560"/>
            <a:chOff x="4830840" y="3173400"/>
            <a:chExt cx="1361160" cy="1321560"/>
          </a:xfrm>
        </p:grpSpPr>
        <p:sp>
          <p:nvSpPr>
            <p:cNvPr id="108" name="AutoShape 12"/>
            <p:cNvSpPr/>
            <p:nvPr/>
          </p:nvSpPr>
          <p:spPr>
            <a:xfrm>
              <a:off x="4830840" y="317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4916520" y="325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3459240" y="4516560"/>
            <a:ext cx="1361160" cy="1350000"/>
            <a:chOff x="3459240" y="4516560"/>
            <a:chExt cx="1361160" cy="1350000"/>
          </a:xfrm>
        </p:grpSpPr>
        <p:sp>
          <p:nvSpPr>
            <p:cNvPr id="111" name="AutoShape 15"/>
            <p:cNvSpPr/>
            <p:nvPr/>
          </p:nvSpPr>
          <p:spPr>
            <a:xfrm>
              <a:off x="3459240" y="4516560"/>
              <a:ext cx="136116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44920" y="460404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7"/>
          <p:cNvGrpSpPr/>
          <p:nvPr/>
        </p:nvGrpSpPr>
        <p:grpSpPr>
          <a:xfrm>
            <a:off x="2097000" y="3182760"/>
            <a:ext cx="1361520" cy="1321920"/>
            <a:chOff x="2097000" y="3182760"/>
            <a:chExt cx="1361520" cy="1321920"/>
          </a:xfrm>
        </p:grpSpPr>
        <p:sp>
          <p:nvSpPr>
            <p:cNvPr id="114" name="AutoShape 18"/>
            <p:cNvSpPr/>
            <p:nvPr/>
          </p:nvSpPr>
          <p:spPr>
            <a:xfrm>
              <a:off x="2097000" y="31827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2182680" y="32684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609480" y="2103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47228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4900680" y="2138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876920" y="47228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942720" y="2340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984120" y="5003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281200" y="363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5743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3451320" y="356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0"/>
          <p:cNvSpPr/>
          <p:nvPr/>
        </p:nvSpPr>
        <p:spPr>
          <a:xfrm>
            <a:off x="685800" y="355608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707070"/>
              </a:gs>
              <a:gs pos="100000">
                <a:srgbClr val="777777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21"/>
          <p:cNvSpPr/>
          <p:nvPr/>
        </p:nvSpPr>
        <p:spPr>
          <a:xfrm rot="16200000">
            <a:off x="2308320" y="15969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322360" y="294948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23"/>
          <p:cNvSpPr/>
          <p:nvPr/>
        </p:nvSpPr>
        <p:spPr>
          <a:xfrm rot="16200000">
            <a:off x="2444760" y="14954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a5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4"/>
          <p:cNvSpPr/>
          <p:nvPr/>
        </p:nvSpPr>
        <p:spPr>
          <a:xfrm rot="16200000">
            <a:off x="2336760" y="164124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cb7c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5"/>
          <p:cNvSpPr/>
          <p:nvPr/>
        </p:nvSpPr>
        <p:spPr>
          <a:xfrm rot="16200000">
            <a:off x="2267640" y="16909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86280" y="360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486320" y="329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05360" y="373680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4491000" y="399564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H="1">
            <a:off x="2247840" y="348768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31"/>
          <p:cNvSpPr/>
          <p:nvPr/>
        </p:nvSpPr>
        <p:spPr>
          <a:xfrm rot="16200000">
            <a:off x="2288520" y="12643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837f"/>
              </a:gs>
              <a:gs pos="100000">
                <a:srgbClr val="ffff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5257800" y="294624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33"/>
          <p:cNvSpPr/>
          <p:nvPr/>
        </p:nvSpPr>
        <p:spPr>
          <a:xfrm rot="16200000">
            <a:off x="2304000" y="10944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ffff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743200" y="271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5"/>
          <p:cNvCxnSpPr>
            <a:endCxn id="141" idx="3"/>
          </p:cNvCxnSpPr>
          <p:nvPr/>
        </p:nvCxnSpPr>
        <p:spPr>
          <a:xfrm flipV="1" rot="10800000">
            <a:off x="3679200" y="228492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6"/>
          <p:cNvCxnSpPr>
            <a:endCxn id="134" idx="3"/>
          </p:cNvCxnSpPr>
          <p:nvPr/>
        </p:nvCxnSpPr>
        <p:spPr>
          <a:xfrm rot="10800000">
            <a:off x="5022000" y="344880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37"/>
          <p:cNvSpPr/>
          <p:nvPr/>
        </p:nvSpPr>
        <p:spPr>
          <a:xfrm>
            <a:off x="3054240" y="3718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8"/>
          <p:cNvGrpSpPr/>
          <p:nvPr/>
        </p:nvGrpSpPr>
        <p:grpSpPr>
          <a:xfrm>
            <a:off x="6276960" y="2031840"/>
            <a:ext cx="2028960" cy="482400"/>
            <a:chOff x="6276960" y="2031840"/>
            <a:chExt cx="2028960" cy="482400"/>
          </a:xfrm>
        </p:grpSpPr>
        <p:sp>
          <p:nvSpPr>
            <p:cNvPr id="146" name="Freeform 39"/>
            <p:cNvSpPr/>
            <p:nvPr/>
          </p:nvSpPr>
          <p:spPr>
            <a:xfrm>
              <a:off x="6396480" y="23097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0"/>
            <p:cNvSpPr/>
            <p:nvPr/>
          </p:nvSpPr>
          <p:spPr>
            <a:xfrm>
              <a:off x="6276960" y="20318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c1bb"/>
                </a:gs>
                <a:gs pos="100000">
                  <a:srgbClr val="ffff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6324480" y="3556080"/>
            <a:ext cx="2028960" cy="482040"/>
            <a:chOff x="6324480" y="3556080"/>
            <a:chExt cx="2028960" cy="482040"/>
          </a:xfrm>
        </p:grpSpPr>
        <p:sp>
          <p:nvSpPr>
            <p:cNvPr id="149" name="Freeform 42"/>
            <p:cNvSpPr/>
            <p:nvPr/>
          </p:nvSpPr>
          <p:spPr>
            <a:xfrm>
              <a:off x="6444000" y="38336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6324480" y="35560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4242"/>
                </a:gs>
                <a:gs pos="100000">
                  <a:srgbClr val="ff50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4"/>
          <p:cNvGrpSpPr/>
          <p:nvPr/>
        </p:nvGrpSpPr>
        <p:grpSpPr>
          <a:xfrm>
            <a:off x="5867280" y="4851360"/>
            <a:ext cx="2028960" cy="482400"/>
            <a:chOff x="5867280" y="4851360"/>
            <a:chExt cx="2028960" cy="482400"/>
          </a:xfrm>
        </p:grpSpPr>
        <p:sp>
          <p:nvSpPr>
            <p:cNvPr id="152" name="Freeform 45"/>
            <p:cNvSpPr/>
            <p:nvPr/>
          </p:nvSpPr>
          <p:spPr>
            <a:xfrm>
              <a:off x="5986800" y="51292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6"/>
            <p:cNvSpPr/>
            <p:nvPr/>
          </p:nvSpPr>
          <p:spPr>
            <a:xfrm>
              <a:off x="5867280" y="48513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17d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914400" y="5003640"/>
            <a:ext cx="2028960" cy="482400"/>
            <a:chOff x="914400" y="5003640"/>
            <a:chExt cx="2028960" cy="482400"/>
          </a:xfrm>
        </p:grpSpPr>
        <p:sp>
          <p:nvSpPr>
            <p:cNvPr id="155" name="Freeform 48"/>
            <p:cNvSpPr/>
            <p:nvPr/>
          </p:nvSpPr>
          <p:spPr>
            <a:xfrm>
              <a:off x="1033920" y="5281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914400" y="500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d7676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AutoShape 50"/>
          <p:cNvCxnSpPr/>
          <p:nvPr/>
        </p:nvCxnSpPr>
        <p:spPr>
          <a:xfrm rot="10800000">
            <a:off x="4571280" y="385992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1"/>
          <p:cNvCxnSpPr/>
          <p:nvPr/>
        </p:nvCxnSpPr>
        <p:spPr>
          <a:xfrm flipV="1">
            <a:off x="2943360" y="401292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56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914040" y="2133720"/>
            <a:ext cx="7543800" cy="3352680"/>
            <a:chOff x="914040" y="2133720"/>
            <a:chExt cx="7543800" cy="3352680"/>
          </a:xfrm>
        </p:grpSpPr>
        <p:sp>
          <p:nvSpPr>
            <p:cNvPr id="162" name="Line 5"/>
            <p:cNvSpPr/>
            <p:nvPr/>
          </p:nvSpPr>
          <p:spPr>
            <a:xfrm flipH="1">
              <a:off x="914400" y="547848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H="1">
              <a:off x="914400" y="464004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H="1">
              <a:off x="914400" y="380988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H="1">
              <a:off x="914040" y="298116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914400" y="213984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067040" y="213372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067040" y="300492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067040" y="382248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067040" y="46400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368000" y="245088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368000" y="327816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1368000" y="41418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1368000" y="49482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2632320" y="2143080"/>
              <a:ext cx="5825520" cy="3343320"/>
              <a:chOff x="2632320" y="2143080"/>
              <a:chExt cx="5825520" cy="3343320"/>
            </a:xfrm>
          </p:grpSpPr>
          <p:sp>
            <p:nvSpPr>
              <p:cNvPr id="176" name="Freeform 19"/>
              <p:cNvSpPr/>
              <p:nvPr/>
            </p:nvSpPr>
            <p:spPr>
              <a:xfrm>
                <a:off x="7875720" y="214308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50000">
                    <a:srgbClr val="33cccc"/>
                  </a:gs>
                  <a:gs pos="100000">
                    <a:srgbClr val="185e5e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0"/>
              <p:cNvSpPr/>
              <p:nvPr/>
            </p:nvSpPr>
            <p:spPr>
              <a:xfrm>
                <a:off x="5114880" y="214308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1"/>
              <p:cNvSpPr/>
              <p:nvPr/>
            </p:nvSpPr>
            <p:spPr>
              <a:xfrm>
                <a:off x="7296120" y="297504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2525"/>
                  </a:gs>
                  <a:gs pos="50000">
                    <a:srgbClr val="ff5050"/>
                  </a:gs>
                  <a:gs pos="100000">
                    <a:srgbClr val="762525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2"/>
              <p:cNvSpPr/>
              <p:nvPr/>
            </p:nvSpPr>
            <p:spPr>
              <a:xfrm>
                <a:off x="4284720" y="297504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3"/>
              <p:cNvSpPr/>
              <p:nvPr/>
            </p:nvSpPr>
            <p:spPr>
              <a:xfrm>
                <a:off x="6715080" y="380700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4"/>
              <p:cNvSpPr/>
              <p:nvPr/>
            </p:nvSpPr>
            <p:spPr>
              <a:xfrm>
                <a:off x="6137280" y="464040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2"/>
                  </a:gs>
                  <a:gs pos="50000">
                    <a:srgbClr val="fffff7"/>
                  </a:gs>
                  <a:gs pos="100000">
                    <a:srgbClr val="767672"/>
                  </a:gs>
                </a:gsLst>
                <a:lin ang="27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5"/>
              <p:cNvSpPr/>
              <p:nvPr/>
            </p:nvSpPr>
            <p:spPr>
              <a:xfrm>
                <a:off x="2633760" y="464508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fffff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6"/>
              <p:cNvSpPr/>
              <p:nvPr/>
            </p:nvSpPr>
            <p:spPr>
              <a:xfrm>
                <a:off x="3225960" y="229716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5121360" y="268452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59494"/>
                  </a:gs>
                  <a:gs pos="50000">
                    <a:srgbClr val="33cccc"/>
                  </a:gs>
                  <a:gs pos="100000">
                    <a:srgbClr val="259494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4286160" y="351468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3a3a"/>
                  </a:gs>
                  <a:gs pos="50000">
                    <a:srgbClr val="ff5050"/>
                  </a:gs>
                  <a:gs pos="100000">
                    <a:srgbClr val="b93a3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9"/>
              <p:cNvSpPr/>
              <p:nvPr/>
            </p:nvSpPr>
            <p:spPr>
              <a:xfrm>
                <a:off x="3460680" y="380700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3463920" y="434988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b96f00"/>
                  </a:gs>
                  <a:gs pos="50000">
                    <a:srgbClr val="ff9900"/>
                  </a:gs>
                  <a:gs pos="100000">
                    <a:srgbClr val="b96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2632320" y="518652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b9b9b3"/>
                  </a:gs>
                  <a:gs pos="50000">
                    <a:srgbClr val="fffff7"/>
                  </a:gs>
                  <a:gs pos="100000">
                    <a:srgbClr val="b9b9b3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Verdana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3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779480" y="52387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2680" y="29718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335400" y="1494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077920" y="237636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589640" y="237636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324240" y="1276200"/>
            <a:ext cx="2496960" cy="1985760"/>
            <a:chOff x="3324240" y="1276200"/>
            <a:chExt cx="2496960" cy="1985760"/>
          </a:xfrm>
        </p:grpSpPr>
        <p:sp>
          <p:nvSpPr>
            <p:cNvPr id="197" name="AutoShape 11"/>
            <p:cNvSpPr/>
            <p:nvPr/>
          </p:nvSpPr>
          <p:spPr>
            <a:xfrm>
              <a:off x="3324240" y="12762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324240" y="2269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2066760" y="2187720"/>
            <a:ext cx="2496960" cy="1985760"/>
            <a:chOff x="2066760" y="2187720"/>
            <a:chExt cx="2496960" cy="1985760"/>
          </a:xfrm>
        </p:grpSpPr>
        <p:sp>
          <p:nvSpPr>
            <p:cNvPr id="200" name="AutoShape 14"/>
            <p:cNvSpPr/>
            <p:nvPr/>
          </p:nvSpPr>
          <p:spPr>
            <a:xfrm>
              <a:off x="206676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2071440" y="317628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4578480" y="2187720"/>
            <a:ext cx="2496960" cy="1985760"/>
            <a:chOff x="4578480" y="2187720"/>
            <a:chExt cx="2496960" cy="1985760"/>
          </a:xfrm>
        </p:grpSpPr>
        <p:sp>
          <p:nvSpPr>
            <p:cNvPr id="203" name="AutoShape 17"/>
            <p:cNvSpPr/>
            <p:nvPr/>
          </p:nvSpPr>
          <p:spPr>
            <a:xfrm>
              <a:off x="4578480" y="218772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589280" y="317808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9"/>
          <p:cNvSpPr/>
          <p:nvPr/>
        </p:nvSpPr>
        <p:spPr>
          <a:xfrm>
            <a:off x="3646440" y="20685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2374920" y="298440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873680" y="29494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2"/>
          <p:cNvGrpSpPr/>
          <p:nvPr/>
        </p:nvGrpSpPr>
        <p:grpSpPr>
          <a:xfrm>
            <a:off x="3855960" y="3564000"/>
            <a:ext cx="1682640" cy="1552320"/>
            <a:chOff x="3855960" y="3564000"/>
            <a:chExt cx="1682640" cy="1552320"/>
          </a:xfrm>
        </p:grpSpPr>
        <p:sp>
          <p:nvSpPr>
            <p:cNvPr id="209" name="Freeform 23"/>
            <p:cNvSpPr/>
            <p:nvPr/>
          </p:nvSpPr>
          <p:spPr>
            <a:xfrm>
              <a:off x="4022280" y="475956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472640" y="4636800"/>
              <a:ext cx="717840" cy="3312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4938120" y="483732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55960" y="398304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4278600" y="3564000"/>
              <a:ext cx="551880" cy="139644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4783680" y="400644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31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6"/>
          <p:cNvSpPr/>
          <p:nvPr/>
        </p:nvSpPr>
        <p:spPr>
          <a:xfrm rot="13770000">
            <a:off x="4503600" y="3700080"/>
            <a:ext cx="857520" cy="177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7d7d7"/>
              </a:gs>
              <a:gs pos="100000">
                <a:srgbClr val="b2b2b2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7"/>
          <p:cNvSpPr/>
          <p:nvPr/>
        </p:nvSpPr>
        <p:spPr>
          <a:xfrm rot="20856000">
            <a:off x="2633400" y="3300120"/>
            <a:ext cx="939600" cy="154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adada"/>
              </a:gs>
              <a:gs pos="100000">
                <a:srgbClr val="b2b2b2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8"/>
          <p:cNvSpPr/>
          <p:nvPr/>
        </p:nvSpPr>
        <p:spPr>
          <a:xfrm rot="18394200">
            <a:off x="4614840" y="2320560"/>
            <a:ext cx="531720" cy="122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8e8e8"/>
              </a:gs>
              <a:gs pos="100000">
                <a:srgbClr val="b2b2b2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79"/>
          <p:cNvGrpSpPr/>
          <p:nvPr/>
        </p:nvGrpSpPr>
        <p:grpSpPr>
          <a:xfrm>
            <a:off x="3508200" y="2352600"/>
            <a:ext cx="1498680" cy="1420920"/>
            <a:chOff x="3508200" y="2352600"/>
            <a:chExt cx="1498680" cy="1420920"/>
          </a:xfrm>
        </p:grpSpPr>
        <p:grpSp>
          <p:nvGrpSpPr>
            <p:cNvPr id="221" name="Group 80"/>
            <p:cNvGrpSpPr/>
            <p:nvPr/>
          </p:nvGrpSpPr>
          <p:grpSpPr>
            <a:xfrm>
              <a:off x="3508200" y="2352600"/>
              <a:ext cx="1498680" cy="1420920"/>
              <a:chOff x="3508200" y="2352600"/>
              <a:chExt cx="1498680" cy="1420920"/>
            </a:xfrm>
          </p:grpSpPr>
          <p:sp>
            <p:nvSpPr>
              <p:cNvPr id="222" name="Oval 81"/>
              <p:cNvSpPr/>
              <p:nvPr/>
            </p:nvSpPr>
            <p:spPr>
              <a:xfrm>
                <a:off x="3508200" y="2352600"/>
                <a:ext cx="1498680" cy="1420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3e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3679560" y="2376000"/>
                <a:ext cx="1155960" cy="536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83"/>
            <p:cNvSpPr/>
            <p:nvPr/>
          </p:nvSpPr>
          <p:spPr>
            <a:xfrm>
              <a:off x="3783600" y="2950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4"/>
          <p:cNvGrpSpPr/>
          <p:nvPr/>
        </p:nvGrpSpPr>
        <p:grpSpPr>
          <a:xfrm>
            <a:off x="4820040" y="1523880"/>
            <a:ext cx="810720" cy="770040"/>
            <a:chOff x="4820040" y="1523880"/>
            <a:chExt cx="810720" cy="770040"/>
          </a:xfrm>
        </p:grpSpPr>
        <p:grpSp>
          <p:nvGrpSpPr>
            <p:cNvPr id="226" name="Group 85"/>
            <p:cNvGrpSpPr/>
            <p:nvPr/>
          </p:nvGrpSpPr>
          <p:grpSpPr>
            <a:xfrm>
              <a:off x="4820040" y="1523880"/>
              <a:ext cx="810720" cy="770040"/>
              <a:chOff x="4820040" y="1523880"/>
              <a:chExt cx="810720" cy="770040"/>
            </a:xfrm>
          </p:grpSpPr>
          <p:sp>
            <p:nvSpPr>
              <p:cNvPr id="227" name="Oval 86"/>
              <p:cNvSpPr/>
              <p:nvPr/>
            </p:nvSpPr>
            <p:spPr>
              <a:xfrm>
                <a:off x="4820040" y="1523880"/>
                <a:ext cx="810720" cy="770040"/>
              </a:xfrm>
              <a:prstGeom prst="ellipse">
                <a:avLst/>
              </a:prstGeom>
              <a:gradFill rotWithShape="0">
                <a:gsLst>
                  <a:gs pos="0">
                    <a:srgbClr val="fffff7"/>
                  </a:gs>
                  <a:gs pos="100000">
                    <a:srgbClr val="3e3e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4912560" y="1536480"/>
                <a:ext cx="625320" cy="290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88"/>
            <p:cNvSpPr/>
            <p:nvPr/>
          </p:nvSpPr>
          <p:spPr>
            <a:xfrm>
              <a:off x="4943160" y="1814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Verdana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1447920" y="2647800"/>
            <a:ext cx="1622160" cy="1598760"/>
            <a:chOff x="1447920" y="2647800"/>
            <a:chExt cx="1622160" cy="1598760"/>
          </a:xfrm>
        </p:grpSpPr>
        <p:grpSp>
          <p:nvGrpSpPr>
            <p:cNvPr id="231" name="Group 90"/>
            <p:cNvGrpSpPr/>
            <p:nvPr/>
          </p:nvGrpSpPr>
          <p:grpSpPr>
            <a:xfrm>
              <a:off x="1447920" y="2647800"/>
              <a:ext cx="1622160" cy="1598760"/>
              <a:chOff x="1447920" y="2647800"/>
              <a:chExt cx="1622160" cy="1598760"/>
            </a:xfrm>
          </p:grpSpPr>
          <p:sp>
            <p:nvSpPr>
              <p:cNvPr id="232" name="Oval 91"/>
              <p:cNvSpPr/>
              <p:nvPr/>
            </p:nvSpPr>
            <p:spPr>
              <a:xfrm>
                <a:off x="1447920" y="2647800"/>
                <a:ext cx="1622160" cy="15987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082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1633320" y="2674080"/>
                <a:ext cx="1251360" cy="6033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93"/>
            <p:cNvSpPr/>
            <p:nvPr/>
          </p:nvSpPr>
          <p:spPr>
            <a:xfrm>
              <a:off x="1736280" y="3338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4"/>
          <p:cNvGrpSpPr/>
          <p:nvPr/>
        </p:nvGrpSpPr>
        <p:grpSpPr>
          <a:xfrm>
            <a:off x="4756320" y="3832200"/>
            <a:ext cx="1873080" cy="1776600"/>
            <a:chOff x="4756320" y="3832200"/>
            <a:chExt cx="1873080" cy="1776600"/>
          </a:xfrm>
        </p:grpSpPr>
        <p:grpSp>
          <p:nvGrpSpPr>
            <p:cNvPr id="236" name="Group 95"/>
            <p:cNvGrpSpPr/>
            <p:nvPr/>
          </p:nvGrpSpPr>
          <p:grpSpPr>
            <a:xfrm>
              <a:off x="4756320" y="3832200"/>
              <a:ext cx="1873080" cy="1776600"/>
              <a:chOff x="4756320" y="3832200"/>
              <a:chExt cx="1873080" cy="1776600"/>
            </a:xfrm>
          </p:grpSpPr>
          <p:sp>
            <p:nvSpPr>
              <p:cNvPr id="237" name="Oval 96"/>
              <p:cNvSpPr/>
              <p:nvPr/>
            </p:nvSpPr>
            <p:spPr>
              <a:xfrm>
                <a:off x="4756320" y="3832200"/>
                <a:ext cx="1873080" cy="177660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8329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4970160" y="3861360"/>
                <a:ext cx="1445040" cy="670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98"/>
            <p:cNvSpPr/>
            <p:nvPr/>
          </p:nvSpPr>
          <p:spPr>
            <a:xfrm>
              <a:off x="5252760" y="4581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添加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7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1104840" y="1371600"/>
            <a:ext cx="1879200" cy="1919520"/>
            <a:chOff x="1104840" y="1371600"/>
            <a:chExt cx="1879200" cy="1919520"/>
          </a:xfrm>
        </p:grpSpPr>
        <p:pic>
          <p:nvPicPr>
            <p:cNvPr id="243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107000" y="137160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Oval 6"/>
            <p:cNvGrpSpPr/>
            <p:nvPr/>
          </p:nvGrpSpPr>
          <p:grpSpPr>
            <a:xfrm>
              <a:off x="1104840" y="1371600"/>
              <a:ext cx="1868760" cy="1825200"/>
              <a:chOff x="1104840" y="1371600"/>
              <a:chExt cx="1868760" cy="1825200"/>
            </a:xfrm>
          </p:grpSpPr>
          <p:pic>
            <p:nvPicPr>
              <p:cNvPr id="245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4840" y="137160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379160" y="163908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7"/>
            <p:cNvSpPr/>
            <p:nvPr/>
          </p:nvSpPr>
          <p:spPr>
            <a:xfrm>
              <a:off x="1300680" y="140868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1240200" y="2635200"/>
              <a:ext cx="1646280" cy="655920"/>
              <a:chOff x="1240200" y="2635200"/>
              <a:chExt cx="1646280" cy="655920"/>
            </a:xfrm>
          </p:grpSpPr>
          <p:grpSp>
            <p:nvGrpSpPr>
              <p:cNvPr id="249" name="Group 9"/>
              <p:cNvGrpSpPr/>
              <p:nvPr/>
            </p:nvGrpSpPr>
            <p:grpSpPr>
              <a:xfrm>
                <a:off x="1526760" y="2635200"/>
                <a:ext cx="1359720" cy="616320"/>
                <a:chOff x="1526760" y="2635200"/>
                <a:chExt cx="1359720" cy="616320"/>
              </a:xfrm>
            </p:grpSpPr>
            <p:sp>
              <p:nvSpPr>
                <p:cNvPr id="250" name="AutoShape 10"/>
                <p:cNvSpPr/>
                <p:nvPr/>
              </p:nvSpPr>
              <p:spPr>
                <a:xfrm flipH="1" flipV="1" rot="3964800">
                  <a:off x="2268360" y="244908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1"/>
                <p:cNvSpPr/>
                <p:nvPr/>
              </p:nvSpPr>
              <p:spPr>
                <a:xfrm flipH="1" flipV="1" rot="4780200">
                  <a:off x="2114640" y="25092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 flipH="1" flipV="1" rot="5076000">
                  <a:off x="2021040" y="252180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3"/>
                <p:cNvSpPr/>
                <p:nvPr/>
              </p:nvSpPr>
              <p:spPr>
                <a:xfrm flipH="1" flipV="1" rot="5608200">
                  <a:off x="1908360" y="253332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1240200" y="2644200"/>
                <a:ext cx="1356120" cy="646920"/>
                <a:chOff x="1240200" y="2644200"/>
                <a:chExt cx="1356120" cy="646920"/>
              </a:xfrm>
            </p:grpSpPr>
            <p:sp>
              <p:nvSpPr>
                <p:cNvPr id="255" name="AutoShape 15"/>
                <p:cNvSpPr/>
                <p:nvPr/>
              </p:nvSpPr>
              <p:spPr>
                <a:xfrm flipH="1" flipV="1" rot="5317800">
                  <a:off x="1980000" y="253332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16"/>
                <p:cNvSpPr/>
                <p:nvPr/>
              </p:nvSpPr>
              <p:spPr>
                <a:xfrm flipH="1" flipV="1" rot="6133800">
                  <a:off x="1816920" y="25308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 flipH="1" flipV="1" rot="6429000">
                  <a:off x="1725480" y="250632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 flipH="1" flipV="1" rot="6961200">
                  <a:off x="1616760" y="247320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9"/>
          <p:cNvGrpSpPr/>
          <p:nvPr/>
        </p:nvGrpSpPr>
        <p:grpSpPr>
          <a:xfrm>
            <a:off x="1152360" y="3727440"/>
            <a:ext cx="1879560" cy="1916640"/>
            <a:chOff x="1152360" y="3727440"/>
            <a:chExt cx="1879560" cy="1916640"/>
          </a:xfrm>
        </p:grpSpPr>
        <p:pic>
          <p:nvPicPr>
            <p:cNvPr id="260" name="Picture 20" descr="circuler_1"/>
            <p:cNvPicPr/>
            <p:nvPr/>
          </p:nvPicPr>
          <p:blipFill>
            <a:blip r:embed="rId3"/>
            <a:stretch/>
          </p:blipFill>
          <p:spPr>
            <a:xfrm>
              <a:off x="1152360" y="3729240"/>
              <a:ext cx="1879560" cy="181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21"/>
            <p:cNvGrpSpPr/>
            <p:nvPr/>
          </p:nvGrpSpPr>
          <p:grpSpPr>
            <a:xfrm>
              <a:off x="1152360" y="3727440"/>
              <a:ext cx="1864800" cy="1825200"/>
              <a:chOff x="1152360" y="3727440"/>
              <a:chExt cx="1864800" cy="1825200"/>
            </a:xfrm>
          </p:grpSpPr>
          <p:pic>
            <p:nvPicPr>
              <p:cNvPr id="2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27440"/>
                <a:ext cx="186480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425960" y="3997080"/>
                <a:ext cx="131976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22"/>
            <p:cNvSpPr/>
            <p:nvPr/>
          </p:nvSpPr>
          <p:spPr>
            <a:xfrm>
              <a:off x="1346040" y="3766320"/>
              <a:ext cx="1466640" cy="631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286280" y="4986720"/>
              <a:ext cx="1648080" cy="657360"/>
              <a:chOff x="1286280" y="4986720"/>
              <a:chExt cx="1648080" cy="657360"/>
            </a:xfrm>
          </p:grpSpPr>
          <p:grpSp>
            <p:nvGrpSpPr>
              <p:cNvPr id="266" name="Group 24"/>
              <p:cNvGrpSpPr/>
              <p:nvPr/>
            </p:nvGrpSpPr>
            <p:grpSpPr>
              <a:xfrm>
                <a:off x="1572840" y="4986720"/>
                <a:ext cx="1361520" cy="616320"/>
                <a:chOff x="1572840" y="4986720"/>
                <a:chExt cx="1361520" cy="616320"/>
              </a:xfrm>
            </p:grpSpPr>
            <p:sp>
              <p:nvSpPr>
                <p:cNvPr id="267" name="AutoShape 25"/>
                <p:cNvSpPr/>
                <p:nvPr/>
              </p:nvSpPr>
              <p:spPr>
                <a:xfrm flipH="1" flipV="1" rot="3964800">
                  <a:off x="2316240" y="4799880"/>
                  <a:ext cx="235440" cy="98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6"/>
                <p:cNvSpPr/>
                <p:nvPr/>
              </p:nvSpPr>
              <p:spPr>
                <a:xfrm flipH="1" flipV="1" rot="4780200">
                  <a:off x="2162520" y="48603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7"/>
                <p:cNvSpPr/>
                <p:nvPr/>
              </p:nvSpPr>
              <p:spPr>
                <a:xfrm flipH="1" flipV="1" rot="5076000">
                  <a:off x="2068920" y="487296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28"/>
                <p:cNvSpPr/>
                <p:nvPr/>
              </p:nvSpPr>
              <p:spPr>
                <a:xfrm flipH="1" flipV="1" rot="5608200">
                  <a:off x="1955520" y="4884840"/>
                  <a:ext cx="2354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9"/>
              <p:cNvGrpSpPr/>
              <p:nvPr/>
            </p:nvGrpSpPr>
            <p:grpSpPr>
              <a:xfrm>
                <a:off x="1286280" y="4997160"/>
                <a:ext cx="1358280" cy="646920"/>
                <a:chOff x="1286280" y="4997160"/>
                <a:chExt cx="1358280" cy="646920"/>
              </a:xfrm>
            </p:grpSpPr>
            <p:sp>
              <p:nvSpPr>
                <p:cNvPr id="272" name="AutoShape 30"/>
                <p:cNvSpPr/>
                <p:nvPr/>
              </p:nvSpPr>
              <p:spPr>
                <a:xfrm flipH="1" flipV="1" rot="5317800">
                  <a:off x="2028240" y="4885560"/>
                  <a:ext cx="23688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31"/>
                <p:cNvSpPr/>
                <p:nvPr/>
              </p:nvSpPr>
              <p:spPr>
                <a:xfrm flipH="1" flipV="1" rot="6133800">
                  <a:off x="1864440" y="488232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32"/>
                <p:cNvSpPr/>
                <p:nvPr/>
              </p:nvSpPr>
              <p:spPr>
                <a:xfrm flipH="1" flipV="1" rot="6429000">
                  <a:off x="1772280" y="4858560"/>
                  <a:ext cx="23688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33"/>
                <p:cNvSpPr/>
                <p:nvPr/>
              </p:nvSpPr>
              <p:spPr>
                <a:xfrm flipH="1" flipV="1" rot="6961200">
                  <a:off x="1663920" y="4825800"/>
                  <a:ext cx="23688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Group 34"/>
          <p:cNvGrpSpPr/>
          <p:nvPr/>
        </p:nvGrpSpPr>
        <p:grpSpPr>
          <a:xfrm>
            <a:off x="4300560" y="2932200"/>
            <a:ext cx="3701880" cy="1066680"/>
            <a:chOff x="4300560" y="2932200"/>
            <a:chExt cx="3701880" cy="1066680"/>
          </a:xfrm>
        </p:grpSpPr>
        <p:sp>
          <p:nvSpPr>
            <p:cNvPr id="277" name="AutoShape 35"/>
            <p:cNvSpPr/>
            <p:nvPr/>
          </p:nvSpPr>
          <p:spPr>
            <a:xfrm>
              <a:off x="4300560" y="29322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aa8a8"/>
                </a:gs>
                <a:gs pos="100000">
                  <a:srgbClr val="33cccc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36" descr="Picture4"/>
            <p:cNvPicPr/>
            <p:nvPr/>
          </p:nvPicPr>
          <p:blipFill>
            <a:blip r:embed="rId5"/>
            <a:stretch/>
          </p:blipFill>
          <p:spPr>
            <a:xfrm>
              <a:off x="4360680" y="298620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37"/>
            <p:cNvSpPr/>
            <p:nvPr/>
          </p:nvSpPr>
          <p:spPr>
            <a:xfrm>
              <a:off x="4431960" y="30639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8"/>
          <p:cNvGrpSpPr/>
          <p:nvPr/>
        </p:nvGrpSpPr>
        <p:grpSpPr>
          <a:xfrm>
            <a:off x="4297320" y="1604880"/>
            <a:ext cx="3701880" cy="1067040"/>
            <a:chOff x="4297320" y="1604880"/>
            <a:chExt cx="3701880" cy="1067040"/>
          </a:xfrm>
        </p:grpSpPr>
        <p:sp>
          <p:nvSpPr>
            <p:cNvPr id="281" name="AutoShape 39"/>
            <p:cNvSpPr/>
            <p:nvPr/>
          </p:nvSpPr>
          <p:spPr>
            <a:xfrm>
              <a:off x="4297320" y="16048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d2cb"/>
                </a:gs>
                <a:gs pos="100000">
                  <a:srgbClr val="fffff7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40" descr="Picture4"/>
            <p:cNvPicPr/>
            <p:nvPr/>
          </p:nvPicPr>
          <p:blipFill>
            <a:blip r:embed="rId6"/>
            <a:stretch/>
          </p:blipFill>
          <p:spPr>
            <a:xfrm>
              <a:off x="4363920" y="16556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41"/>
            <p:cNvSpPr/>
            <p:nvPr/>
          </p:nvSpPr>
          <p:spPr>
            <a:xfrm>
              <a:off x="4431960" y="17287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2"/>
          <p:cNvGrpSpPr/>
          <p:nvPr/>
        </p:nvGrpSpPr>
        <p:grpSpPr>
          <a:xfrm>
            <a:off x="4303800" y="4262400"/>
            <a:ext cx="3701880" cy="1066680"/>
            <a:chOff x="4303800" y="4262400"/>
            <a:chExt cx="3701880" cy="1066680"/>
          </a:xfrm>
        </p:grpSpPr>
        <p:sp>
          <p:nvSpPr>
            <p:cNvPr id="285" name="AutoShape 43"/>
            <p:cNvSpPr/>
            <p:nvPr/>
          </p:nvSpPr>
          <p:spPr>
            <a:xfrm>
              <a:off x="4303800" y="4262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7e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44" descr="Picture4"/>
            <p:cNvPicPr/>
            <p:nvPr/>
          </p:nvPicPr>
          <p:blipFill>
            <a:blip r:embed="rId7"/>
            <a:stretch/>
          </p:blipFill>
          <p:spPr>
            <a:xfrm>
              <a:off x="4358880" y="430992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45"/>
            <p:cNvSpPr/>
            <p:nvPr/>
          </p:nvSpPr>
          <p:spPr>
            <a:xfrm>
              <a:off x="4431960" y="43768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1066680" y="20732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1171440" y="452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8"/>
          <p:cNvSpPr/>
          <p:nvPr/>
        </p:nvSpPr>
        <p:spPr>
          <a:xfrm rot="16200000">
            <a:off x="2908800" y="4268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9"/>
          <p:cNvSpPr/>
          <p:nvPr/>
        </p:nvSpPr>
        <p:spPr>
          <a:xfrm rot="16200000">
            <a:off x="3475800" y="292140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 flipH="1" rot="16200000">
            <a:off x="2869200" y="17056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8"/>
          <p:cNvSpPr/>
          <p:nvPr/>
        </p:nvSpPr>
        <p:spPr>
          <a:xfrm>
            <a:off x="2438280" y="36360"/>
            <a:ext cx="4114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696080" y="6477120"/>
            <a:ext cx="1389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