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0B2-34AB-46AF-880E-5E1513A7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759-65DE-4C40-93B6-1A76BD0F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1C2-DD90-435E-A607-D1D1CCFE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B7C-44F4-42DB-AA3A-7B72DE1F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4BF-E534-47D7-9DCD-DB4645F9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4B0-7831-4C43-B17B-1B7A7F4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250-A743-4795-A3A1-0445D43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9D6-96AE-479E-80B3-2D59314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66F-3910-4294-80DD-9A435CE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9B6-0F19-4A13-9D07-90B60EC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CAF-405E-4D8E-B3CB-CF30CD46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B43-8F74-4C4D-9EA9-5C90CA1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3065-D339-4C4F-8A45-5FBFCADFBF07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6A24-B127-47A2-A153-50951ABF0D8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4" descr="ch069-0241"/>
          <p:cNvPicPr/>
          <p:nvPr/>
        </p:nvPicPr>
        <p:blipFill>
          <a:blip r:embed="rId1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C0B6-C991-47DF-BE65-2327CA8359E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3F56-29DA-4B40-8C9F-C948DD48461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8DC5-FF26-4C4B-AC33-2AA7B590077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8147-3CF0-4D2A-A8B0-E9AC38B136C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177-B792-4F22-82AF-C25F93E208C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AB5-0AD1-4EC9-922B-0A65ECBF2BF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F3AF-5468-43ED-BBD3-022BED93B21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02E6-EEC1-4EEB-98D7-E84304FE0AE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50A-7EA5-4200-AA7A-7B74C230592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9318-8DA5-4CBE-8D5E-1D1F4F70D38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A18-4428-44F4-9FD3-F1B624BD839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E8F-4593-42E8-8F6B-1C5E86DD7E0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E29E-404D-4C54-B34B-B83BFDDEB1B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774B-FDA8-4AD8-A7BF-84941CEA89B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BFC-A6C7-4A36-9F1C-8BBC3C55F6A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3828-F85F-4175-A414-89EE0C6FF01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2B19-79CD-4A42-B188-0F044B8ECFE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8252-06CD-4ED4-A653-5F5A1C49B5C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5788-F080-42F8-96A7-9D573DF1821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7D5F-7DB5-4FB9-B9B5-E1006066455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4898-59C3-434A-A542-0F16D2A9498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C899-9EBF-4D2D-8A42-B39E813A747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A065-C535-48F4-9FE4-2E794E3A019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9685-68AB-4D17-AD98-ADE1E6BEF76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40F-8B98-4626-B89F-E11A8D1EB91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3DB-CE5A-44E3-9A09-5061B039DF0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1:59Z</dcterms:modified>
  <cp:revision>2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