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BC91-67EA-4E53-846D-413E814E17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6941-D30C-40D2-A1E0-52B84D0DA3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D89-314F-4C2D-A47D-D3697FC629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F40-3BB8-4F7F-B84A-6ECB5DA6D7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0F51-C5A1-42AC-9A8D-8FADE9EE1C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C03-DC3E-441D-A4F3-426F4055FF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2C5-B753-48B6-834E-F965FB4A8A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385-DE3F-4185-A45D-5E767B501A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2F03-EE78-47DE-9EAD-D6C8EBEE13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F6F9-E5ED-4B9C-9E4E-536F9FE481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0F2-8183-41DC-9D20-47568D3DD4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6BA2-63C2-4A28-9561-99900AE22F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7AF-699C-4A7E-8CC3-1FE521938B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DEC-641C-4302-92C2-6F80B315DE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74EF-4E40-45CC-8168-C0769EA09D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B38-C38C-461E-BA16-AF741A9711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210-2C7C-4DEC-8D3D-72B65E052C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3196-B959-473F-9369-38CED2CA1A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4C6-BCE9-41E8-A4F9-A9C2EBDADE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F27-129C-4BEE-998E-877ACD2E9F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9B9-0221-4C8B-AD04-47A9AD7587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4EAF-7319-40EF-A217-BFB275B471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6E6-053B-4595-9325-1FC71B3819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904-443A-4D37-8130-7D05B0DD84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C0B9-7448-4A2A-875F-AB370E0D0C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EBC-9115-4812-83B6-DC9A286F57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A82A-F70D-4C24-BFF6-1D059B3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6DD1-CCD6-440A-BC1A-B365838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B958-381D-46F2-B0C0-27E6707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94CB-2E19-4236-9EF2-7A1F761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3CC7-858D-479A-9A7D-DE644EF5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332D-F588-4ED6-9F9B-D5F4F8A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00B43-FC08-4A5C-8067-09A1A82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BC11A-DECC-427F-A430-D4FC4813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C3D7-F511-44DE-8EAC-A52F2AF4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69E76-707A-4A69-AB5D-9B112783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3569-C07D-4592-A4A2-A65E17F4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FF78-F5EC-4C24-8A2E-6E9A4AD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8D57-EA0C-4CD1-B902-2BCAB2D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92C6A-2745-4A2D-972F-C79CFDEA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9248D-751F-4A33-A4FD-14040A2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DEE7-A09C-48B2-A1FF-82AB0B0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6352E-8B8E-4412-9B29-91EFB65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ACEE4-CBB8-4862-B509-247B320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D6EB-2937-4911-AC9E-2660AA3C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3BCC-2987-4B64-B2EA-EA976DC1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90F7-4693-42C0-9923-C2D666BD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8810D-840E-4288-B5FB-84E60D0C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BA3E4-1156-4DE8-A0D2-F2120F6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A687-9303-47B9-ADDF-28925219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54BE6-C6C4-4170-838B-6CCFBAF4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A6396-866C-4A74-88FC-47C3EB48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75AB2-803F-481A-ACE8-B53B2AA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51FB0-C08A-4874-A116-78C49AD7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C1A3-02F6-4197-BD51-F0BAEA1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E51D9-840C-4721-9F15-4C46A84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A00-C807-47F8-AA83-1499B46B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3AB0-0197-4A67-872A-EACD200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6E39-BBFB-4C4B-91F0-0517F599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89C3B-55A4-45B8-B764-7E7F4083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F658-A478-4507-9A47-ACA1184A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0D044-3410-49EB-A467-CF7170B1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59849-03C7-405A-95C8-2134835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F969A-BF67-4BB2-9357-F48056A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87673-9E8A-4B15-A175-D6E431A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2A77B-B0FA-414D-B457-2AE762E3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21B1-6E20-4981-99D1-C148487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CF6-8606-461A-BED9-96CB343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03CE5-7461-4073-AB6D-C8534AE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567B5-2ACB-44E6-B6E5-213D473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AC704-F268-43B6-842C-DFEFD7C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861F5-061F-4FD8-8A6F-56213F8A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5CFA4-84F9-49B9-AFFD-29E0F41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8DD-3A5F-4F09-9D18-F598DC8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954-45CB-4787-8807-45857A0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D74-6A86-43A0-B68D-1534EDC9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280-4DC6-41BD-8759-086808B8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5BB-1A6F-41AD-B27D-10512AD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444-7678-41A9-82FF-7741921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208-97EC-4486-A97A-D17D2526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299-C2B3-4BEE-A5AC-C2DD2B9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A86-3A7D-4447-91D2-8123D33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9A8-FFC2-4681-8788-B28DED5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0AB2-156E-42D7-9D41-CAE55C15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519-CF85-42E0-8898-EB38120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03F-2467-47D2-AD1E-C9B4BE13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75E-2E24-442E-B14C-271FC2F9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0FB8-A66D-4FBE-9816-BB74375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B9B9-1FE7-43C3-BD7C-1584C7A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E02-DC9F-48A0-9D39-8452D47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7A9A-4087-423C-8A8C-C436B9A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114-A042-43FF-9BDE-1B3D59A8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7BF-6722-4461-AB0E-BF548B86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06A-A2E9-41DF-B130-AF233513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8489-2C22-446F-9F6B-986F951A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154E-667E-40CE-926B-133FB8E4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D55D-C309-41C1-84BF-26CC2F6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DB9A-7A8D-4C92-8106-C5278EB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2BED-0034-4DC9-94C1-32E9BF7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779A-6A37-4989-956D-8910D683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BCB5-C495-452A-9199-1FCAD0C8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E5F9-C28D-4DE5-8964-61E4BAA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FEE5-187C-4E95-8987-04450BE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5C3A-94F8-4959-98F3-C283F12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8AAB-27F4-4A86-91D2-C5B2423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09F2-71C5-46A4-ACE6-CD0AE05A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3A13-8F90-45A8-B671-6F79031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2FDB-1D3A-4150-8E62-6D1E1C45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BDC7-5E7D-4B2E-9656-BCDAA0C5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43BC-F7AC-47A4-A4C0-4AE83F2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EFEA-8202-4436-A055-B26010A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3795-103F-4ED5-8DCC-C48E288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8AA3-F341-4183-96E7-AFB44A78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4B05-32C5-494F-A3FC-A63FE10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88307-D50A-496E-9625-9544D1A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9AF1-E83B-4D71-A42C-AD45E9F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3EEA-FE1E-4FB6-9158-5E95A904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B3D0-06C6-4842-A96B-533270AD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C957-3197-40DA-9115-119314A6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72AA-17D0-4C63-8C26-37995243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9F3D-079B-436C-87BC-0683426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CBEC-5F18-4C6E-A605-E5C87A4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1D88-10D9-4518-BE95-BF3E4DB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6587D-42D1-4C81-BE58-BBC92B8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3E0C-0171-4E63-A30B-B683855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328A-194F-4907-9166-3242E094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02293-EAAC-4BB3-B54D-3C178A5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9EC5-B4D9-4572-9605-364A7B4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D400A-9917-4CB7-8428-C12B4C26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F8806-A6AB-443E-872D-DEB2CC00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5CE9-21BF-4828-B893-54FD606B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E1127-241C-45C6-B332-1E40DEC2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028C-D063-46AA-876D-71DE64B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AF8F-DA00-4610-B728-C0B793C7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1AB7B-91E2-4D1A-8460-A1A408B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587E-404E-4511-A169-6CA957A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D24E4-0F62-4CCE-A9CC-B1F1D2A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33A2-C823-436F-B002-4558AFE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D432-99D9-4A15-B610-863FFC2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F3DD-4701-4D6E-864F-DF17586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3370-B21D-4190-888E-9F429346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B666-C63B-4039-A069-BE2F3C03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539A-AF97-4606-8D22-2ABA0ADD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1A46-D58C-45B7-BEE1-E587FAE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EDBB-E49A-430B-B7F4-879324F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2C7B-7D09-4E48-940D-715134E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F27DD-9487-47AD-BEAD-12F768F1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EC84-1C74-4561-8784-50909F67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5970-0692-4930-BBE6-217BBE8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DFB0-7CF4-4FCC-A80F-2CF65B67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E17C-B8B5-4CCB-8AE0-6602CD4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81CB-161E-4F89-A098-B2675A8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3DB6-5A6E-4299-A6C6-8F240442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1C748-EFC9-49AF-9377-85492189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D91C-13F8-44D4-BC02-7730A681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A55C-016F-467F-87D4-8F135E2B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7D2B-CDE8-414E-BCA9-C63BAB9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E67E9-FAA0-447E-8776-7952CD7B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ABF-8B69-474D-80F1-1B48C7CD56E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E101-6E09-40FC-9258-0793CE971A6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89B-B669-4A33-A92F-32947253EF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4AED-38A9-4D5E-AB04-1322479665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407D-3B28-4790-A00F-A097C856C0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368-80B4-4B5C-80BE-6F2047B67A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0FD0-A80F-4219-8158-7E774E24EF3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23AA-B044-4F14-850C-C2AB6CB8B9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D73-ECCA-4A0B-8715-0766A3DE0A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718-F9E5-4152-912B-C4AF4FDE41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774-2ADF-4193-B6A3-B3E4674330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475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4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0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1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2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753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769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772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8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5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6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7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8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799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81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1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831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4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858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859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886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901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@|17FFC:16777215|FBC:16777215|LFC:16777215|LBC:16777215"/>
          <p:cNvSpPr/>
          <p:nvPr/>
        </p:nvSpPr>
        <p:spPr>
          <a:xfrm>
            <a:off x="143820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@|17FFC:16777215|FBC:16777215|LFC:16777215|LBC:16777215"/>
          <p:cNvSpPr/>
          <p:nvPr/>
        </p:nvSpPr>
        <p:spPr>
          <a:xfrm>
            <a:off x="402912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@|17FFC:16777215|FBC:16777215|LFC:16777215|LBC:16777215"/>
          <p:cNvSpPr/>
          <p:nvPr/>
        </p:nvSpPr>
        <p:spPr>
          <a:xfrm>
            <a:off x="6770520" y="444492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@|17FFC:16777215|FBC:16777215|LFC:16777215|LBC:16777215"/>
          <p:cNvSpPr/>
          <p:nvPr/>
        </p:nvSpPr>
        <p:spPr>
          <a:xfrm>
            <a:off x="936144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1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6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5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6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562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573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5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98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98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8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100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7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9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109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110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1112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4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1115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8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风素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9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710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78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8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07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3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4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2" name="Connector 749"/>
          <p:cNvCxnSpPr>
            <a:stCxn id="653" idx="0"/>
            <a:endCxn id="654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5" name="Connector 750"/>
          <p:cNvCxnSpPr>
            <a:stCxn id="656" idx="0"/>
            <a:endCxn id="654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7" name="Connector 751"/>
          <p:cNvCxnSpPr>
            <a:stCxn id="658" idx="0"/>
            <a:endCxn id="654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9" name="Connector 752"/>
          <p:cNvCxnSpPr>
            <a:stCxn id="660" idx="0"/>
            <a:endCxn id="654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1" name="Connector 753"/>
          <p:cNvCxnSpPr>
            <a:stCxn id="654" idx="0"/>
            <a:endCxn id="662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3" name="Connector 754"/>
          <p:cNvCxnSpPr>
            <a:stCxn id="664" idx="0"/>
            <a:endCxn id="654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5" name="Connector 755"/>
          <p:cNvCxnSpPr>
            <a:stCxn id="654" idx="0"/>
            <a:endCxn id="666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7" name="Connector 756"/>
          <p:cNvCxnSpPr>
            <a:stCxn id="654" idx="0"/>
            <a:endCxn id="668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9" name="Connector 757"/>
          <p:cNvCxnSpPr>
            <a:stCxn id="654" idx="0"/>
            <a:endCxn id="670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1" name="Connector 758"/>
          <p:cNvCxnSpPr>
            <a:stCxn id="654" idx="0"/>
            <a:endCxn id="672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3" name="Connector 759"/>
          <p:cNvCxnSpPr>
            <a:stCxn id="654" idx="0"/>
            <a:endCxn id="674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5" name="Connector 760"/>
          <p:cNvCxnSpPr>
            <a:stCxn id="676" idx="0"/>
            <a:endCxn id="654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654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71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s://dxpu.taobao.com/</dc:creator>
  <dc:description>大侠素材铺
淘宝店：https://dxpu.taobao.com/</dc:description>
  <dc:language>en-US</dc:language>
  <cp:lastModifiedBy>微软用户</cp:lastModifiedBy>
  <dcterms:modified xsi:type="dcterms:W3CDTF">2016-11-04T06:48:06Z</dcterms:modified>
  <cp:revision>11</cp:revision>
  <dc:subject>大侠素材铺</dc:subject>
  <dc:title>大侠素材铺</dc:title>
</cp:coreProperties>
</file>