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A86-696A-4D4E-8905-F677546FC3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090A-E549-4B51-A8F5-539366F85A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C8A5-841E-4536-A4E6-F559C999DC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BA9-BB76-45FA-B242-A2723285D8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E20A-8848-41E8-B8FC-DC12A68F1D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041-3E73-4FBD-8C1C-790B611A7C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CE61-3956-49F5-A85C-553D233C5C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4C5-9207-4A0C-BEA1-493809882A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0039-A08A-4EA0-B7D2-CC2519E085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BED-8F96-47A5-86DF-440CFDF2C9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F83B-058A-4B08-ABD1-CA182EC8D3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B6C-2AB2-4A50-B07E-B202681303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DC7-AA0F-4A4C-8F73-5CB8272931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DA38-33AC-4A29-8D99-B85ACFFC79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CAF-738F-47D2-8CFA-7DBA787034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89A-A636-4473-95E4-79130DA9A6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098E-FBE5-4C65-9D91-E15349799D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C9DC-8A18-474A-92AF-0BB18FC43A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860-CCDF-42DB-8D6E-3461B8916A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9DAD-48C7-46D0-BB72-8849397B3B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F48-D0FE-4CD5-B767-E6CF880E90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E51B-DF72-428D-9F99-B2B4E23143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C4C0-4371-43CE-BD41-7FF6FED4C5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4CD5-CD2C-4AEC-A0FF-C90CD5AD60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0263-9EE0-4368-BFA5-3A56E0B76D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90FA-EEBB-45DD-8307-753504DEC6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F0B1-81C2-4171-A95C-F93271D0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9D48B-F089-49E9-92BD-8CF14439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8B985-EE46-4A93-9989-DDD7FC5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38FF9-34E7-4859-8D91-64CFE3D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34915-38B3-4E2D-903B-CFB7CB0C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25B9-819E-4D42-86B6-E34C24F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E867B-89A8-4258-A0B2-3E98F9F1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AE33F-0C5B-4FD7-AC71-7670BD0C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71C1C-3436-4B77-A873-F7C60DCF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6AEC1-F3C0-4911-ADBE-2641DE04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080B3-DDB6-403C-A807-81EC535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0386-94F9-45BC-919F-AF04B34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2C992-BA24-420D-8CAC-FD990367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4A811-86E9-45C2-92B5-305D034F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9F509-D5BE-4106-BBD9-CCEE715A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D088B-21C7-41CB-88F8-92121A1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4955F-8DB0-48A1-8518-21D7F79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67971-65D0-44DB-BF18-AA9FBAF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3A67-FE41-40B6-82B1-32FB8EF5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4883B-877C-4FB4-B75F-B7F674C0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A959-FD69-438F-9028-719E009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2A552-491A-4406-BC20-6F8C0E0A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F36CD-6337-45D0-BFE2-3230F03D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8DE10-D024-41C1-8497-686882FA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6EBD2-E75A-4640-AC45-F5B6FBD3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C0065-F98B-4F20-8AB4-5DFBAE0D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5FA74-066A-4533-A0FB-DB381274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0C149-B5C1-48E9-BB70-856DD4A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06C32-CCF0-45B3-9428-4D8E2E0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101FA-A050-4189-AD3C-945FD27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001-2C42-403D-9C10-5CEDA0BC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E6E17-5B95-49D8-8764-6016077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7265E-67C4-4428-B776-4C25AAB7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737AA-DA47-40F5-9488-3AC6D9A7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977DA-043B-4228-B7C0-73CFCD97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15B7F-A670-41AA-92FE-6161F54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88357-D90D-40BA-A9A4-9E88119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0FB90-DAED-4082-A9F7-ABDF64A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0D42E-F4CA-4807-8E38-F071CF7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83B1C-A818-469D-B336-9E881CD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6007E-7CF3-402F-A277-944BCCB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E76-DEDC-487B-912B-6EB7E5B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08DC-6477-4929-9EED-3E315FE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10E35-1E13-4711-95F5-8D35214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503EB-87B3-4916-912F-458990C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E8A3-CD04-4031-BDA9-308BF305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A20FA-3F99-4C9C-A926-E45460A3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4EC-66CE-48B8-9B33-086508AA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3FC-AA9C-44AD-9642-4E2BBF0D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834-AC79-4755-AD07-6DC99994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B25-CE50-475B-A2AC-5AFEBBC9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6C8-FD24-476E-9D1F-CE86E6F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7C4-E5B0-4A25-A0CD-74A7B9A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7DB-33BA-459B-8351-9CF91191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072-1D04-49B9-ACE3-09F75217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071-4DF0-4A3E-83E7-667BC27B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CCB-7D7D-44DD-B864-6B87F531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99B3-3516-4C2E-A61E-07572DFB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3060-F303-4DFF-A016-D75E627D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9C6-AB72-466F-AD10-C8B3E67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FC8A-E7A0-4BAE-97D4-E3C7A5A2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552-BE25-4946-A83D-7AE6F90E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B66-0A23-4422-89D7-116B68AF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D1C4-2E24-4154-948A-124E9DC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4A5-867F-4CF9-9938-33CFF89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805-18DC-486F-B064-0CAA5215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BF4-7B5A-4201-BA3F-722238EC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422E-621B-4309-8135-7453948C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D223-BC64-4725-BB11-FF02B600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47CB9-4930-4044-A7EE-ADF0752B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CE90-CE51-4A6E-B0E2-C339D153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6E29-FC12-4C66-B7A2-30003A4F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297E-B05E-45DD-99EC-A8AE1190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A5DD-8386-461E-856E-174C4F9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B97B-29AA-4B87-B3BA-643AE05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206B-8ABE-490A-B21C-052553C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9D8C-C2BE-40D0-914C-AB64BFE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E06E-B397-41AA-8A6E-93042D9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827D-7853-4570-8312-11E04E3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5E06-8F87-4CFE-854F-9CB7602C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0E86-4EA6-4556-87BE-E6292D3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F3F2-CF75-4EE5-B275-03B740C6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3196-2D61-4CFD-BA17-F38FEA1C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0F5F-85CC-4217-BE9F-5FAEA142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9192-BEBA-4974-ABB4-1E6658F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EFE1-4B28-43CA-A63B-9044F7E3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6D5A-4E18-412F-9EF0-70C0CADC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C5183-14B1-4567-8659-01D7295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8466-5DB6-42EE-ACC0-4B259CB1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B47A-7417-439F-9F14-47FA87B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BF41-4EA7-4756-8C1A-A919A5C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1252-0055-4782-8400-39EA46DF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649E-CC83-473D-A256-BD0D30FA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1DAC-019A-4094-AE73-071E1F49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1C6A2-366D-43A8-BDC1-8FA561F7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037F-3E01-41DF-AD75-F3FD4233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657B-B8C3-47F5-B745-09862029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C51F-C156-4D70-819D-3F57F58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447F-76A3-4CED-9638-3F69C42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3964-318D-4F85-8800-1472ED5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2886-C88D-460C-87AA-38EEC91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35FE4-CDAC-4FC4-B81D-E82EAD7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1892-2541-4DE7-B684-F0CDE38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D226-B153-4EB5-9C69-2D5004E7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BB865-2F5E-4B60-A52D-4B92F515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7476-6C20-48F1-BAA8-4BC75E51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0AAE-FFBB-4088-BFD9-3E6B6D25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1417-B7D5-47EC-AB21-8A1C6D8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4733-4F5D-4AFB-BF4C-38C19D00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9A7D-32D9-4316-AD4E-CC48EE4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7AEDA-FC2E-4958-8FA5-AF219C0E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E82B-7B2E-423B-BA40-3F5108B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39CD-4733-42CD-85DD-F706EBA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CED6-3BE6-4240-B93F-21D383B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13A98-75F9-43F7-82EA-4A37FE2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7F4C6-9959-4557-988A-C9C311D0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7A39C-19D6-4FE9-BCFD-CAD7A04E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818AC-F5D0-4ACA-A4D5-061C8DBD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5E59-A467-4227-BBE2-DBD6952F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8F9B-755B-4399-B2D4-B939DFF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2E91-E686-4FDE-B464-6E7B88A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8EA03-47EE-4DB0-8A2A-B57A8AF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9BB3-AE91-4A78-B809-33B0335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243F-69BC-46D5-8702-FA854FA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B44A-6E3F-46F7-87E3-C95FB67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1D37-4C72-4B27-8D29-DAD2F1B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79995-5333-4648-BDB0-F499FA2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CF57-A9DE-49BA-B8B6-4F78521F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C9E59-C53A-46F6-895B-2A133C74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94E0-5619-4E51-85A7-C3139A0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5A7E-AF6C-486D-985B-7A2F9E5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D0BD6-E0A6-4C68-819F-C430E477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944-882F-45FE-91BA-77F50A40404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3DB9-A3EB-4794-BFB6-48E2F08E53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F031-AA7A-41A4-AB0A-108FA7E4ACF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5D1-C066-407C-898C-A7710665D5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837-6071-4395-8F2B-07A3F41671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B2F6-30B2-49C5-90AC-2DE4FC08485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825D-B65E-4553-A7D9-BE631267D41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D3F-0D2C-468E-AB10-B93EDC0991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20A4-8B2F-4167-8552-193D2361153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B602-9B97-423E-B28A-32ADFD06057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C8F3-FAA7-4894-9ACC-77A4823E23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475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4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0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1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752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753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769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772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773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78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4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5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6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7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798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799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81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1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831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834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4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7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858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859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861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886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清风素材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8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0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901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@|17FFC:16777215|FBC:16777215|LFC:16777215|LBC:16777215"/>
          <p:cNvSpPr/>
          <p:nvPr/>
        </p:nvSpPr>
        <p:spPr>
          <a:xfrm>
            <a:off x="143820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@|17FFC:16777215|FBC:16777215|LFC:16777215|LBC:16777215"/>
          <p:cNvSpPr/>
          <p:nvPr/>
        </p:nvSpPr>
        <p:spPr>
          <a:xfrm>
            <a:off x="402912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@|17FFC:16777215|FBC:16777215|LFC:16777215|LBC:16777215"/>
          <p:cNvSpPr/>
          <p:nvPr/>
        </p:nvSpPr>
        <p:spPr>
          <a:xfrm>
            <a:off x="6770520" y="444492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@|17FFC:16777215|FBC:16777215|LFC:16777215|LBC:16777215"/>
          <p:cNvSpPr/>
          <p:nvPr/>
        </p:nvSpPr>
        <p:spPr>
          <a:xfrm>
            <a:off x="9361440" y="4444920"/>
            <a:ext cx="138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1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6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5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6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562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573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5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98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98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98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100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1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7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09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109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110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1112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4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1115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8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风素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9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9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710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77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78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8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07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3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清风素材：囚心钻研，诚心不贰。更多优质作品，请搜索：清风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4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2" name="Connector 749"/>
          <p:cNvCxnSpPr>
            <a:stCxn id="653" idx="0"/>
            <a:endCxn id="654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5" name="Connector 750"/>
          <p:cNvCxnSpPr>
            <a:stCxn id="656" idx="0"/>
            <a:endCxn id="654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7" name="Connector 751"/>
          <p:cNvCxnSpPr>
            <a:stCxn id="658" idx="0"/>
            <a:endCxn id="654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59" name="Connector 752"/>
          <p:cNvCxnSpPr>
            <a:stCxn id="660" idx="0"/>
            <a:endCxn id="654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1" name="Connector 753"/>
          <p:cNvCxnSpPr>
            <a:stCxn id="654" idx="0"/>
            <a:endCxn id="662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3" name="Connector 754"/>
          <p:cNvCxnSpPr>
            <a:stCxn id="664" idx="0"/>
            <a:endCxn id="654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5" name="Connector 755"/>
          <p:cNvCxnSpPr>
            <a:stCxn id="654" idx="0"/>
            <a:endCxn id="666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7" name="Connector 756"/>
          <p:cNvCxnSpPr>
            <a:stCxn id="654" idx="0"/>
            <a:endCxn id="668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69" name="Connector 757"/>
          <p:cNvCxnSpPr>
            <a:stCxn id="654" idx="0"/>
            <a:endCxn id="670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1" name="Connector 758"/>
          <p:cNvCxnSpPr>
            <a:stCxn id="654" idx="0"/>
            <a:endCxn id="672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3" name="Connector 759"/>
          <p:cNvCxnSpPr>
            <a:stCxn id="654" idx="0"/>
            <a:endCxn id="674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675" name="Connector 760"/>
          <p:cNvCxnSpPr>
            <a:stCxn id="676" idx="0"/>
            <a:endCxn id="654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654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687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清风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71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71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s://dxpu.taobao.com/</dc:creator>
  <dc:description>大侠素材铺
淘宝店：https://dxpu.taobao.com/</dc:description>
  <dc:language>en-US</dc:language>
  <cp:lastModifiedBy>微软用户</cp:lastModifiedBy>
  <dcterms:modified xsi:type="dcterms:W3CDTF">2016-11-04T06:48:06Z</dcterms:modified>
  <cp:revision>11</cp:revision>
  <dc:subject>大侠素材铺</dc:subject>
  <dc:title>大侠素材铺</dc:title>
</cp:coreProperties>
</file>