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424-5F25-4D08-ACEC-594EA860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79E-6EEF-4FDD-A593-3850178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3C1-D6D2-42A4-9C46-03E57942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528-6630-447B-A064-13674C67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D97-4F8E-40B8-9FF7-9178BF91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411-029A-472D-9EBA-CDC14B6D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77A-0BD8-4141-86DF-3137CAE8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E58-3B82-497F-AC0F-2BF2F8C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2411-0C69-49B4-A188-D148408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40A7-DCB0-4B80-80C6-08C6C0FF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F9C6-1469-445A-929F-E9A952F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2A7D-6ECE-48F2-9B71-730C168E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DCB6-829F-4B5A-8331-EDDE5FA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38B3-F66F-4D0A-BBF6-F47F670C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1395-BA5A-4EC9-8CE2-A225DF3A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3237-3C61-49BE-869B-B799BE9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E46D-D84A-4B8B-A7A5-F525C20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A566-8713-419B-A575-AB82DAD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BB8-A8AA-40A4-BDAD-49DB91B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7EA5-7CB5-4697-BE33-92CCA8A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42EF-1F19-4ACD-B493-3CDC6AF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B22A-6EFF-4FE8-B616-10A332E5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49BA-AF7D-4CA3-BDEE-68947A5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5626-2B6D-4C92-8A9B-3CD58EAC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8004-E3F5-44ED-AAE4-43B9A025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5A79-BB67-4AC0-B24E-2674AA1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60855-12E6-44A0-9907-674A1611CC0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F48AA-95A7-4588-BACB-28C96B2E36B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E2E7F1-11F9-47A2-A78D-4EDD852CC9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833-D36D-443B-8F8E-92318A5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7B0B8-01B2-44EB-88D2-8A9248AD354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48FCC-0C3B-4D08-8D6E-2A3026D9D2A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6671E-A29C-4773-BD06-99C1D96A7C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C2443-9057-475B-BB65-F7A6874DC57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D6447-0DB7-4866-AD22-1BF7AFE751F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5AF28E-9779-45C2-88BF-F9A013C17D7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9796F-9E78-43E0-8226-2A12E0D4D8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0639D-0854-4072-9FFB-D60D5FDC267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43F8A-B530-4E36-AC41-726A6C8A63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7892-4B60-42E0-A25A-9B269377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D86D-1B36-4792-AC18-5E8D54F7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C27C-A41D-4564-804E-6249F1E0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AABC-25BA-4A27-93D8-589B0A1B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6B09-2BD3-4076-8EF7-C85ED6D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C5A1-68F6-4569-9839-CD209FC4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9755-17C5-45D7-98D9-99D82C1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265-3183-418E-8D1B-F17703E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A0E8-0F00-46BF-A19F-5CD63FBD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9B75-8992-4650-99A5-760E4AF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6348-6DED-469C-9EEA-0A1A11A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ACE6-01F5-4B4B-8164-F9DECE3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CF17-8AC7-48B0-A72B-31072AB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2DCE-0C51-4DE1-9EB9-0BA9543B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A576-1734-4C73-B92A-4FC82B26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817-66A6-4FDA-9C0F-F48D286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6D7-598C-4EA8-8D9E-AD99FAA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D43-2216-4D0C-A5D9-0382B65B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05B-65A6-4742-AA9E-0BB445EC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FB5-E49F-480C-92C5-F802359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EA1-BE3B-4C86-8FF5-A10D039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E29-B931-40D7-8280-EE9A6A865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E5C-9B86-4ED5-8F10-1100B564E058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2614-1447-4A60-A281-F02231934202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640-3435-4BF3-8013-11E239176528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DD6-E6AA-41E0-A86C-69F8B02214EB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680" y="6246360"/>
            <a:ext cx="325080" cy="325080"/>
            <a:chOff x="11380680" y="6246360"/>
            <a:chExt cx="325080" cy="32508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200" y="6293520"/>
              <a:ext cx="2293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8600" y="6344640"/>
              <a:ext cx="257040" cy="12816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6080" y="6245640"/>
            <a:ext cx="326520" cy="326520"/>
            <a:chOff x="10486080" y="6245640"/>
            <a:chExt cx="326520" cy="32652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3600" y="6293520"/>
              <a:ext cx="231120" cy="23040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6200" y="6344280"/>
              <a:ext cx="257040" cy="12888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8CCF-613C-4F69-80A4-E130DD3CF2FF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A6BC-35A6-46C4-B088-8D3F8767C608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F24-9862-46F0-8938-A12915C85D0F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078-A496-449E-9E59-403CBE1BCF81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E3D-AA08-474A-AF0C-5E567C98F56E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4382-77B7-47FE-B262-4EFED4C34C08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/>
            <a:ahLst/>
            <a:rect l="l" t="t" r="r" b="b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/>
            <a:ahLst/>
            <a:rect l="l" t="t" r="r" b="b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/>
                <a:ahLst/>
                <a:rect l="l" t="t" r="r" b="b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/>
                <a:ahLst/>
                <a:rect l="l" t="t" r="r" b="b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/>
                <a:ahLst/>
                <a:rect l="l" t="t" r="r" b="b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/>
                <a:ahLst/>
                <a:rect l="l" t="t" r="r" b="b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/>
                <a:ahLst/>
                <a:rect l="l" t="t" r="r" b="b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/>
                <a:ahLst/>
                <a:rect l="l" t="t" r="r" b="b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/>
                <a:ahLst/>
                <a:rect l="l" t="t" r="r" b="b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/>
                <a:ahLst/>
                <a:rect l="l" t="t" r="r" b="b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/>
                <a:ahLst/>
                <a:rect l="l" t="t" r="r" b="b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/>
                <a:ahLst/>
                <a:rect l="l" t="t" r="r" b="b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/>
                <a:ahLst/>
                <a:rect l="l" t="t" r="r" b="b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/>
                <a:ahLst/>
                <a:rect l="l" t="t" r="r" b="b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/>
                <a:ahLst/>
                <a:rect l="l" t="t" r="r" b="b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/>
                <a:ahLst/>
                <a:rect l="l" t="t" r="r" b="b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/>
                <a:ahLst/>
                <a:rect l="l" t="t" r="r" b="b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/>
                <a:ahLst/>
                <a:rect l="l" t="t" r="r" b="b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/>
                <a:ahLst/>
                <a:rect l="l" t="t" r="r" b="b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/>
                <a:ahLst/>
                <a:rect l="l" t="t" r="r" b="b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/>
                <a:ahLst/>
                <a:rect l="l" t="t" r="r" b="b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/>
                <a:ahLst/>
                <a:rect l="l" t="t" r="r" b="b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/>
                <a:ahLst/>
                <a:rect l="l" t="t" r="r" b="b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/>
                <a:ahLst/>
                <a:rect l="l" t="t" r="r" b="b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/>
                <a:ahLst/>
                <a:rect l="l" t="t" r="r" b="b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/>
                <a:ahLst/>
                <a:rect l="l" t="t" r="r" b="b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/>
                <a:ahLst/>
                <a:rect l="l" t="t" r="r" b="b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/>
                <a:ahLst/>
                <a:rect l="l" t="t" r="r" b="b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/>
                <a:ahLst/>
                <a:rect l="l" t="t" r="r" b="b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/>
                <a:ahLst/>
                <a:rect l="l" t="t" r="r" b="b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/>
                <a:ahLst/>
                <a:rect l="l" t="t" r="r" b="b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/>
                <a:ahLst/>
                <a:rect l="l" t="t" r="r" b="b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/>
                <a:ahLst/>
                <a:rect l="l" t="t" r="r" b="b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/>
                <a:ahLst/>
                <a:rect l="l" t="t" r="r" b="b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/>
                <a:ahLst/>
                <a:rect l="l" t="t" r="r" b="b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/>
                <a:ahLst/>
                <a:rect l="l" t="t" r="r" b="b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/>
                <a:ahLst/>
                <a:rect l="l" t="t" r="r" b="b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/>
                <a:ahLst/>
                <a:rect l="l" t="t" r="r" b="b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/>
                <a:ahLst/>
                <a:rect l="l" t="t" r="r" b="b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/>
                <a:ahLst/>
                <a:rect l="l" t="t" r="r" b="b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/>
                <a:ahLst/>
                <a:rect l="l" t="t" r="r" b="b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/>
                <a:ahLst/>
                <a:rect l="l" t="t" r="r" b="b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/>
                <a:ahLst/>
                <a:rect l="l" t="t" r="r" b="b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663840"/>
            <a:chOff x="1522440" y="3360600"/>
            <a:chExt cx="3325680" cy="66384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663480"/>
            <a:chOff x="1522440" y="2082960"/>
            <a:chExt cx="3325680" cy="66348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663840"/>
            <a:chOff x="1511280" y="4727520"/>
            <a:chExt cx="3327480" cy="66384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/>
              <a:ahLst/>
              <a:rect l="l" t="t" r="r" b="b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/>
            <a:ahLst/>
            <a:rect l="l" t="t" r="r" b="b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/>
                <a:ahLst/>
                <a:rect l="l" t="t" r="r" b="b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而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丫丫精饰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/>
              <a:ahLst/>
              <a:rect l="l" t="t" r="r" b="b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/>
            <a:ahLst/>
            <a:rect l="l" t="t" r="r" b="b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/>
            <a:ahLst/>
            <a:rect l="l" t="t" r="r" b="b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/>
            <a:ahLst/>
            <a:rect l="l" t="t" r="r" b="b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/>
            <a:ahLst/>
            <a:rect l="l" t="t" r="r" b="b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/>
              <a:ahLst/>
              <a:rect l="l" t="t" r="r" b="b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/>
              <a:ahLst/>
              <a:rect l="l" t="t" r="r" b="b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/>
            <a:ahLst/>
            <a:rect l="l" t="t" r="r" b="b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丫丫精饰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/>
            <a:ahLst/>
            <a:rect l="l" t="t" r="r" b="b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6960"/>
            <a:chOff x="992160" y="4162320"/>
            <a:chExt cx="2057400" cy="87696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6960"/>
            <a:chOff x="3743280" y="4162320"/>
            <a:chExt cx="2057400" cy="87696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6960"/>
            <a:chOff x="6494400" y="4162320"/>
            <a:chExt cx="2057400" cy="87696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6960"/>
            <a:chOff x="9245520" y="4162320"/>
            <a:chExt cx="2057400" cy="87696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0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/>
              <a:ahLst/>
              <a:rect l="l" t="t" r="r" b="b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/>
              <a:ahLst/>
              <a:rect l="l" t="t" r="r" b="b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丫丫精饰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/>
              <a:ahLst/>
              <a:rect l="l" t="t" r="r" b="b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/>
              <a:ahLst/>
              <a:rect l="l" t="t" r="r" b="b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/>
              <a:ahLst/>
              <a:rect l="l" t="t" r="r" b="b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/>
              <a:ahLst/>
              <a:rect l="l" t="t" r="r" b="b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/>
              <a:ahLst/>
              <a:rect l="l" t="t" r="r" b="b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/>
              <a:ahLst/>
              <a:rect l="l" t="t" r="r" b="b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/>
                <a:ahLst/>
                <a:rect l="l" t="t" r="r" b="b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/>
                  <a:ahLst/>
                  <a:rect l="l" t="t" r="r" b="b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丫丫精饰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/>
              <a:ahLst/>
              <a:rect l="l" t="t" r="r" b="b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/>
              <a:ahLst/>
              <a:rect l="l" t="t" r="r" b="b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/>
              <a:ahLst/>
              <a:rect l="l" t="t" r="r" b="b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/>
              <a:ahLst/>
              <a:rect l="l" t="t" r="r" b="b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/>
                <a:ahLst/>
                <a:rect l="l" t="t" r="r" b="b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/>
                  <a:ahLst/>
                  <a:rect l="l" t="t" r="r" b="b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/>
                  <a:ahLst/>
                  <a:rect l="l" t="t" r="r" b="b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丫丫精饰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丫丫精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丫丫精饰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向天而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my</cp:lastModifiedBy>
  <dcterms:modified xsi:type="dcterms:W3CDTF">2015-10-24T03:18:1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