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E86-A5A1-48D7-9891-840FB8B9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062-DF34-4883-ABF9-4791A626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2DE-B9C3-411E-AD39-3ADE70B7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187-1EE0-4433-86F0-B523D31F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867-94F2-4811-AFAE-7F7C5B5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675-8A85-462D-A12A-59B3BF6F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530-9E5D-42DF-8C54-259AD110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079-42C4-4F3F-A916-3FC777B2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7F8-3500-4160-8C35-3B80B1E2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61B-3761-4A66-AD34-0F72413D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60B-A660-4FE8-A28E-B9B81015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64B-2C4D-4075-A461-D599B62B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A4A4-8355-4AC2-A1AD-0ECB6ECA3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2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76.png"/><Relationship Id="rId12" Type="http://schemas.openxmlformats.org/officeDocument/2006/relationships/image" Target="../media/image76.png"/><Relationship Id="rId13" Type="http://schemas.openxmlformats.org/officeDocument/2006/relationships/image" Target="../media/image76.png"/><Relationship Id="rId14" Type="http://schemas.openxmlformats.org/officeDocument/2006/relationships/image" Target="../media/image76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" descr="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5" dur="99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13" dur="99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7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7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9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49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9" dur="99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dc:language>en-US</dc:language>
  <cp:lastModifiedBy/>
  <dcterms:modified xsi:type="dcterms:W3CDTF">2014-04-24T11:51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