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477-F2F9-41F5-B220-D45D22B1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BA5-8C70-4AE8-BE45-F46FC2A3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EDA-B9F5-412D-B167-160CBE0A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FA5-6DF0-4B38-A632-885E0A5A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EA5-F5D9-4CCF-AC81-22E5539E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7D7-7B11-40C8-88EB-7FF8DDF3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7F9-206E-4D2F-8FE6-36AEDD21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1F9-4B35-4E49-874F-7233F19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D44-9F9C-45F3-8F60-821CAD01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EEC-ED5F-43A3-9CFD-8462F22D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5C5-0E98-4E15-AC0D-E51CDAF4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079-67D9-477E-8F58-9F749E0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0382-E569-420D-AE4D-640BAC21D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2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76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6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" descr="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99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3" dur="99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7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4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9" dur="99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dc:language>en-US</dc:language>
  <cp:lastModifiedBy/>
  <dcterms:modified xsi:type="dcterms:W3CDTF">2014-04-24T11:51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