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B0D-C2A8-437B-9A73-C4637618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8BE-B176-4EC4-9C68-4AD5E391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6D4-3CDE-43D5-845F-C2EEDEEA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DED-71E6-49A1-AAFC-22D1E412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0BF-F0C7-408F-B17E-07FE8CEB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102-C4FE-40ED-9FB6-7B11A04E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FB2-3256-46A1-BA9C-6370A24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15C-242B-4884-BE2C-BA61ED4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E47-3245-432C-B827-D699CA4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0F9-CA1C-4EB7-8AD5-C7641B0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E50-6815-418E-89D4-31A79D0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CFF-E480-4496-B68C-010E6D0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A44-DAEE-47CA-A8F5-5A6C81CB32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2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45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  <p:pic>
        <p:nvPicPr>
          <p:cNvPr id="66" name="组合 36" descr=""/>
          <p:cNvPicPr/>
          <p:nvPr/>
        </p:nvPicPr>
        <p:blipFill>
          <a:blip r:embed="rId2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2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3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4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65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87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15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2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65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8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49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46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0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4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65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7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68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组合 36" descr=""/>
          <p:cNvPicPr/>
          <p:nvPr/>
        </p:nvPicPr>
        <p:blipFill>
          <a:blip r:embed="rId1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0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97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3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07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4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0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3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56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59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7"/>
                </a:lnTo>
                <a:lnTo>
                  <a:pt x="289" y="6"/>
                </a:lnTo>
                <a:lnTo>
                  <a:pt x="289" y="6"/>
                </a:lnTo>
                <a:lnTo>
                  <a:pt x="287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3" y="63"/>
                </a:lnTo>
                <a:lnTo>
                  <a:pt x="145" y="74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3"/>
                </a:lnTo>
                <a:lnTo>
                  <a:pt x="23" y="11"/>
                </a:lnTo>
                <a:lnTo>
                  <a:pt x="23" y="11"/>
                </a:lnTo>
                <a:lnTo>
                  <a:pt x="21" y="13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2" y="87"/>
                </a:lnTo>
                <a:lnTo>
                  <a:pt x="12" y="87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6"/>
                </a:lnTo>
                <a:lnTo>
                  <a:pt x="34" y="148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1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3"/>
                </a:lnTo>
                <a:lnTo>
                  <a:pt x="0" y="215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70"/>
                </a:lnTo>
                <a:lnTo>
                  <a:pt x="267" y="63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1"/>
                </a:lnTo>
                <a:lnTo>
                  <a:pt x="297" y="30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86" y="139"/>
                </a:lnTo>
                <a:lnTo>
                  <a:pt x="98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0" y="191"/>
                </a:lnTo>
                <a:lnTo>
                  <a:pt x="119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15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3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3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66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69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599" h="21599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2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415" y="182"/>
                  </a:lnTo>
                  <a:lnTo>
                    <a:pt x="387" y="15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701"/>
                  </a:lnTo>
                  <a:lnTo>
                    <a:pt x="761" y="69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17:35Z</dcterms:created>
  <dc:creator>Administrator</dc:creator>
  <dc:description/>
  <dc:language>en-US</dc:language>
  <cp:lastModifiedBy>HZJ</cp:lastModifiedBy>
  <dcterms:modified xsi:type="dcterms:W3CDTF">2015-09-19T08:20:24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