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3.wmf" ContentType="image/x-wmf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320-472D-4CF3-89F8-E158DFE4A5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EE13-7504-432C-B63D-C27768B03291}" type="slidenum"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C57-A761-47B1-9C35-4347A775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E47-98BC-48F4-AA56-822F085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EB8-52B4-43F9-A2AF-E964718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034-44F7-4D02-A8FA-E4D25765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69C1-096F-45A2-B1F8-B19E2126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D323-B1ED-431E-867F-623A56CA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1D53-3B33-4653-B169-5A758EE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5E94-F55C-450C-8BC2-6EF58885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1BB4-EB10-4580-9626-7CCA2BBD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42DD-88B5-4B33-9A24-C704C4A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39E-2D07-433A-9703-C745A5C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6DC-1B5A-40FD-A046-EB02FA8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F3AF-02E6-4FC1-8A8A-6795777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642F-A920-4E14-87F4-5821E040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10B7-94BE-4355-A2AF-5B453B6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372-E2CA-478C-8EB9-92DABAA8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C1B3-6D2D-432F-A9DD-4174B822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10EB-EDC0-4725-B24E-7DB01B5A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8F8D-FA99-4D89-9AA0-23D1F71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4979-2BB8-41C7-A483-82B7C559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50DA-BF77-4FE1-A8DC-43BD1EB0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A301-56E3-48A5-B227-C0900981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527-AC4B-4CEC-A1B5-1A805BAA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B8E6-C7CD-471C-BE66-AF5CEB8A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2506F-B71D-415B-93E5-66A6575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B4C4-95A1-430C-8879-B20AE29E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819E-C989-4557-8589-87989DA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3B27-F7B3-4940-8A95-205000EB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EE3A-0CB7-4A23-9AE8-1CAF6F8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8B42-63C2-4584-ACE5-A3143485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89AF-804B-4057-B5F1-A6CED1D8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2CFDD-93B8-4D47-A09F-0D042E2D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A0EC-B558-44CF-AF72-CBFCD598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B1F-7F37-47CA-A178-F17445A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45C9-9C36-4ED2-B55B-FD4FC95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ADAB-3AD3-4589-A611-5E4B8412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0C87-C6E1-41C0-8FBA-0AFEDAEF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0D135-B726-414E-915A-2A6F3764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CD26-C2A1-4930-A9B0-744B9FA5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7D92-27F5-4D0B-A015-841163E4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B26C-B157-4C9F-85C2-579321A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3ADA-7178-4CD8-905F-67347D2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F0D6-C6D3-42EA-93AF-01AC3A25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357D7-CD0A-42C5-95A8-8D974D23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E17-F8D1-460A-A2A2-FC666BE7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F001-B298-4122-8A5D-49A83DDA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76FF-CA99-43E3-8FAE-288BBD7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5729-2610-4C9C-9DF3-F4747CA6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47AD6-2D27-4209-B92B-3FDDF3FF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4FD8B-F1D7-4116-857A-AB3E6BF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C50B-7323-40A7-8FA0-3769DD0D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5D862-2D36-4E8E-875B-500A201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39FA0-101A-48CF-ABBF-0EAF6D6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E7ED-EE9C-4AAC-8B5A-A536394F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A95C0-EB11-4600-9BDF-E1ED4743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A06-3334-4A74-A2C2-43E127F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2CEA-624C-4C9E-A6A8-8D8F5296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D43-B223-488A-9063-CD60E863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6E9-F63F-4F81-BF4E-B49A015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660-A6F3-4117-9135-5E33094E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1A59-974A-49B9-8E89-9EEE5471BEEE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3AF4-6F64-4DE3-9383-F54EB274051F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F212-BD2B-48F2-8428-7817F5CC8265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477-C1B3-4CC5-B1E7-2B36BDA8CE81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5BD-F5FE-42C1-A0FF-52823B54B6E1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  <a:ea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35080" y="1416600"/>
                <a:ext cx="526212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3920" y="1491480"/>
              <a:ext cx="102780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77640" y="1554480"/>
              <a:ext cx="513720" cy="497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444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3560" y="156600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35440" y="2763000"/>
                <a:ext cx="52617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3920" y="2835360"/>
              <a:ext cx="102780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77640" y="2899800"/>
              <a:ext cx="513720" cy="4921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444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3560" y="28893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1996920" y="4085640"/>
              <a:ext cx="53377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3920" y="4197960"/>
              <a:ext cx="102780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77640" y="4262400"/>
              <a:ext cx="513720" cy="49788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444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3560" y="42519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436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364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364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500720"/>
                <a:ext cx="4172400" cy="95184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  <a:ea typeface="Gulim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960"/>
            <a:chOff x="1573200" y="4059360"/>
            <a:chExt cx="5492880" cy="39996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996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94360" y="4065840"/>
              <a:ext cx="158760" cy="390600"/>
              <a:chOff x="6894360" y="4065840"/>
              <a:chExt cx="158760" cy="39060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94360" y="4065840"/>
                <a:ext cx="15876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480" y="4203000"/>
                <a:ext cx="1836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84360" y="4096080"/>
              <a:ext cx="109440" cy="316800"/>
              <a:chOff x="1584360" y="4096080"/>
              <a:chExt cx="109440" cy="316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4360" y="4096080"/>
                <a:ext cx="1094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000" y="4197960"/>
                <a:ext cx="165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720"/>
            <a:chOff x="1123920" y="3513240"/>
            <a:chExt cx="6391440" cy="39672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672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15560" y="3523680"/>
              <a:ext cx="183600" cy="383400"/>
              <a:chOff x="7315560" y="3523680"/>
              <a:chExt cx="183600" cy="38340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560" y="3523680"/>
                <a:ext cx="183600" cy="38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70000" y="3655800"/>
                <a:ext cx="212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9760" y="3548160"/>
              <a:ext cx="122040" cy="317160"/>
              <a:chOff x="1139760" y="3548160"/>
              <a:chExt cx="122040" cy="31716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354816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7680" y="3651480"/>
                <a:ext cx="1908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70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11560" y="2925720"/>
              <a:ext cx="207360" cy="390240"/>
              <a:chOff x="7711560" y="2925720"/>
              <a:chExt cx="207360" cy="39024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1560" y="2925720"/>
                <a:ext cx="2073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6880" y="306180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9640" y="2956680"/>
              <a:ext cx="140040" cy="317520"/>
              <a:chOff x="719640" y="2956680"/>
              <a:chExt cx="140040" cy="31752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640" y="2956680"/>
                <a:ext cx="140040" cy="3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784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8120"/>
            <a:chOff x="395280" y="2259000"/>
            <a:chExt cx="7848360" cy="43812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7040" y="2267640"/>
              <a:ext cx="225000" cy="426600"/>
              <a:chOff x="7997040" y="2267640"/>
              <a:chExt cx="225000" cy="42660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7040" y="226764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5680" y="24163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14720" y="2297520"/>
              <a:ext cx="151560" cy="353160"/>
              <a:chOff x="414720" y="2297520"/>
              <a:chExt cx="151560" cy="35316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4720" y="2297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800" y="241056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1720" cy="1231560"/>
            <a:chOff x="3726000" y="1125360"/>
            <a:chExt cx="116172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1720" cy="1231560"/>
              <a:chOff x="3726000" y="1125360"/>
              <a:chExt cx="116172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37240" y="2090880"/>
                <a:ext cx="95580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27080" y="1125360"/>
                <a:ext cx="1160640" cy="113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7520"/>
                <a:ext cx="1157400" cy="1133640"/>
                <a:chOff x="3726000" y="1127520"/>
                <a:chExt cx="1157400" cy="1133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7520"/>
                  <a:ext cx="1157400" cy="113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895920" y="1292040"/>
                  <a:ext cx="815760" cy="80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1600" y="4166280"/>
              <a:ext cx="1567080" cy="11966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196640"/>
                <a:gd name="textAreaBottom" fmla="*/ 1197000 h 119664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4520" cy="1911240"/>
              <a:chOff x="4284720" y="3506760"/>
              <a:chExt cx="16452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452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299480" y="3520440"/>
                <a:ext cx="133560" cy="18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89040" y="3514320"/>
              <a:ext cx="1709640" cy="137556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4200" y="4504320"/>
              <a:ext cx="1413000" cy="862560"/>
              <a:chOff x="2914200" y="4504320"/>
              <a:chExt cx="1413000" cy="86256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4200" y="4504320"/>
                <a:ext cx="1413000" cy="86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0040" y="4518720"/>
                <a:ext cx="1384560" cy="83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12640" cy="1406880"/>
              <a:chOff x="2901960" y="3467160"/>
              <a:chExt cx="141264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1264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3840" y="3483360"/>
                <a:ext cx="138456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8080" y="1536480"/>
              <a:ext cx="151560" cy="360000"/>
              <a:chOff x="4078080" y="1536480"/>
              <a:chExt cx="151560" cy="36000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8080" y="153648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5800" y="165096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8720" y="1536480"/>
              <a:ext cx="157680" cy="353880"/>
              <a:chOff x="828720" y="1536480"/>
              <a:chExt cx="157680" cy="35388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720" y="1536480"/>
                <a:ext cx="1576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320" y="165060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9"/>
                </a:lnTo>
                <a:lnTo>
                  <a:pt x="257175" y="392926"/>
                </a:lnTo>
                <a:lnTo>
                  <a:pt x="98232" y="514349"/>
                </a:lnTo>
                <a:lnTo>
                  <a:pt x="158945" y="317884"/>
                </a:lnTo>
                <a:lnTo>
                  <a:pt x="1" y="19646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/>
            <a:ahLst/>
            <a:rect l="l" t="t" r="r" b="b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lnTo>
                  <a:pt x="1" y="231027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/>
              <a:ahLst/>
              <a:rect l="l" t="t" r="r" b="b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/>
                <a:ahLst/>
                <a:rect l="l" t="t" r="r" b="b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596960" y="2414520"/>
            <a:ext cx="5943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  <a:ea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/>
            <a:ahLst/>
            <a:rect l="l" t="t" r="r" b="b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lnTo>
                  <a:pt x="239" y="0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Administrator</cp:lastModifiedBy>
  <dcterms:modified xsi:type="dcterms:W3CDTF">2016-08-22T03:13:29Z</dcterms:modified>
  <cp:revision>72</cp:revision>
  <dc:subject/>
  <dc:title>슬라이드 1</dc:title>
</cp:coreProperties>
</file>