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E96-7898-4839-ABB1-92763E06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D32-B266-4B31-88EF-E92CB8C6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01BF8-9AEA-498D-93E6-CC1FAE95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A9D8A-F142-47F0-A226-6C63AE7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DF7D-D963-4A52-BA8F-2E3F40B5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74863-1C58-4707-B6FE-B77D183E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B21EF-18F1-4F20-9FFD-0D2B42A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E446E-948E-4530-A3DD-64DFC0D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49A47-C0E0-438A-9509-2A47124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80EDE-9691-423E-A6B1-013B40B9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65C4E-768D-4809-9C95-8EC1E6EC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CDEA5-7AD3-4053-A10D-929CACDA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382-E43A-424D-A79B-78334221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0262E-A4C9-4D0C-959B-642008C1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B25CF-1470-4483-80F2-90D5B4B9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AEEDC-29F6-4535-9E86-9240B06D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DF87B-3B20-45E5-B4B2-3EDDD51A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CF3AB-CC38-466B-990A-6BDC718F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F7AC4-4556-49E4-94DC-FC3D800B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4314-0E04-48F8-896D-F0BD1AE6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BFB8A-D312-4CD7-93DC-035F15AE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C903-D005-4C3F-B7CB-DFD12549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D134F-DA55-43C4-8EE8-57AF445B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3CF-AD48-4816-B0B1-09DF9CDE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0DCE2-D114-46D3-8D61-DF3AF5C7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F55A6-BF42-4601-AEDA-7EB45695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81014-6E7B-488F-9D1E-9F4C6523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B341E-5AC1-47B6-AFD7-68537C1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18817-F442-4088-97D9-008B335C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C3381-C335-4B9D-80DF-96187C44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B7E71-0BE6-4083-8300-F9DA320B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D63DE-CB03-4D2D-B814-DFF2910C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7DAB3-DAD0-491D-B241-D4744F81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38342-C465-4E1C-8DF5-0CA5D81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CA22-C579-4455-BFE5-370A3C3D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403E1-1171-4328-B74D-CAAAFCCF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974C2-B3AB-473C-8EFA-0F8AD786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2CC86-13FE-41D7-8565-1FADC5A6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98318-12F4-478F-969F-DC7B0ED4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F5886-BEC9-41ED-92F0-31FC0FAB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6842F-383E-42B6-8B5D-AB454D6A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0EA64-5F6D-45A9-9ECE-7E1D0DA2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E8FBD-C251-44B0-871F-91BED253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1C10E-9DBA-4BA5-A323-246F75E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82E65-BD2A-4B55-862F-77BB1576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F58C-383F-42AA-B089-84183550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E75D4-E716-48B9-A87A-B48749D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AF20E-9664-4F2C-9171-4227CE6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0A007-6313-4CD5-BC8B-8781EAB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474D1-6002-4A98-A688-D4F77C99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69AA9-DF4E-412F-ABC9-F51799FF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73780-7127-4B67-8864-417F261E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44F90-F65E-41DC-A538-970185CD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A3C41-DB21-4B09-A319-0F7CE7ED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2C701-2FA7-41D2-B7AB-9D41C888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64E09-D5AE-478F-AF23-126B9CF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A75D-997C-4051-9BA0-9C5141F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EB5D2-59B8-4A76-BBAD-E0199C2A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66377-E34D-4E4D-B105-03BA690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51CA2-74A3-410A-9CFB-E1890D07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78853-9CC2-44A3-81EC-00E5663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4A607-1FE9-45A7-B6A7-9972B22D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D38C3-4EFB-4635-BC2C-3630008F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100B7-E9DE-48E6-B4D7-F62A1FCC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07B84-340E-4A2D-9137-98E33433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0D654-9B6A-4794-A210-FF4F5815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16BA1-4F12-4AD0-938A-398C59F6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B24-0A96-4DC1-AF4B-FF618D92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0122C-970B-4315-890B-5E741C6B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4D67D-9AA1-447C-A10B-A6E6813E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05295-549A-4862-85D5-1B5CA096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0A65F-0B54-40BB-BBEF-39541E7D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6831A-205E-4A13-8475-3706FF3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46048-E753-4851-99C6-EDE2D3AE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1786E-70FB-4FE2-B90B-476F39F3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CB118-A7D2-4BD5-9D84-23683771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08B8F-BE88-4287-9859-575CCBDC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C5C-3B10-4476-80BE-33FAC942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6C4A-B8AA-4B50-B31E-70E5BF74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E35E-A4A8-4175-B808-97CE39C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14F-00C0-445F-B4DD-9FF41D21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DE15-4F86-439D-A734-0FA596E4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ED24-55BA-4F59-BCAD-8FC7577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413F-D735-4756-9830-E890F437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8442-6774-496A-A40A-EB6E50DD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B9DC-2770-4A54-B09B-9B88D863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82FC-BFA8-4420-B461-40057368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19DB-94A9-4BD5-91B2-6BC10FC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1A78-87FF-48A4-BECA-B69A8391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61FE-7991-4D71-8C2D-6C014F0F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4B49-29D2-488A-9A91-0C4F4F62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39D-87DA-45F2-9230-28A3C69D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244D-4F38-495C-9B45-BBF37977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D958-C024-47E1-A7D9-356100A0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0BF7-5C23-4948-BBB1-BD143792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CA58-2FD9-4FC6-8C78-69F3814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F62F-704F-456D-8130-EC290043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99BE-9F6E-4C31-9F9D-4F69BF2E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E3E0-892C-43E6-B64B-CF53EA59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09C8-EB70-4136-9309-07E96238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B87CB-4CD8-430F-A00D-541F9FC6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6210-B056-4B4D-873E-481D60E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FD2-1026-4E0C-A7FA-1826B817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9FA0-6B11-4ACF-A5E2-4CF07039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EAA3-8479-4DBF-BCC4-C2A305DC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738B-4B87-4745-8489-03036330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3D92-40D8-4C31-81AF-BCCC3A2C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F2CB-52AC-4E85-8631-5444D33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5818-EC8C-479A-86C7-95E061C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F028-7F4F-40FB-BC3C-47DFE983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AC2AA-E95A-49F6-9B6C-79840D36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1CD67-DDBE-4ADA-B2D8-EB228614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DBF0-FC9B-4C51-BDF4-EEB9D69C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219-933D-4CA7-A827-4B5FCCF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50AA-B869-4859-97A3-1625CF7D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DDA0D-2F97-41B6-A0D4-3322FAF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E6925-89CE-45E6-A026-818748D2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6042-9B28-401D-87B1-9C746A1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34F8-8F5D-4C12-A358-30BE271D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EBC3-68B6-4311-BCD7-5B031E51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DC0D-6F6D-4756-A7E4-B2650323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F7A35-7EE0-49BA-B618-A43B335F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3635-7CC1-49C4-ADBB-8F062899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6404-1142-44A5-9493-0D70909C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80C-91E2-475F-9A1A-0D3EBE03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CB13-5EA2-4805-819F-AD29A741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123AC-5464-4B98-859C-3471F75B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2402-41AF-4F16-A032-755C4CC6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85966-BEE8-4234-92E9-6B258B10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E8AC-4D07-403D-9F63-908F83FA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02208-0712-4795-A126-14D3D87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F3EA-6385-4886-ACDB-4E8ACEB6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ED28C-4B84-4CDC-A1DA-C769F186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66208-DE42-4457-B87A-1358F25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9D02C-A164-4EBD-8C64-1FAB1B3F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4DD-5D38-4B5C-8EE8-B26A9E7A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79DF1-75F5-4593-AF62-5B2DDE0C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F088-FC2C-48C8-AB79-2403104F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77939-E762-4DE9-B12B-4761B3A3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C7D7B-7674-40A1-989F-976F4417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6898-3374-48F6-9D80-F0C11FF1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1A12-285A-4505-96AD-ACE7AA54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1AABB-6D26-4CA1-8DEE-5E23A64F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F5839-BD67-4B6E-8F49-07D9A193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DE8A6-28E4-4C3C-8845-97565875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9CD2-E64C-4546-8A9E-E7D33FBF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EEC-DE4C-4446-8109-76FB560A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1BB56-11E3-4692-96A4-F6E61D03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5B58-A490-4573-A0FE-9DEE461F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68A70-BAAD-4A10-B20C-35765FC8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FDB2-D99D-49D8-973E-E453049C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1A06-9754-4646-BB4E-2E1FEC0D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F59EE-788D-4107-8421-29E7C300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52547-7EA9-4010-9551-DAD24750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84CDC-9EE4-44A5-8A47-EBB5272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3F332-F456-4958-A8A1-A35A01E2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3B84D-DC89-4A8C-9D56-804F9E02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988-EBAF-4A60-A442-8625E093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62E07-0B99-44A1-AB05-F560421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56BFC-6B98-454D-8624-57C252DC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1A24-C7E3-475D-9BB3-954C34A5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C580A-3F87-4833-917E-9EB477A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9CE2-060E-4C12-9108-1E9DC3E8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659DE-01B1-4612-AB75-CB8CE385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28F03-B7F0-48AB-87DB-FA9D7AFE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B4C85-C3F2-43C0-8C1D-5FE0E2C8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13406-79B8-4268-A969-278E9997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ECE6B-781B-4330-82A1-5F7E559A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B9E8-BF68-4466-B4E1-4F1173FDAF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756F-2AC7-4705-8ABF-5C971F5966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6217-CEEF-428B-9F1B-C4CB1B03EA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72EA-FFA7-4EAC-B380-734F2BBF9A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E020-F65A-404C-AB1B-E6FABF4BF5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A1E-DEC3-42E5-ACCD-9CD5B6B387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5CFF-40CD-4B6E-8543-6DA3BE0395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1D0-884D-482D-AD15-DAC7887D7F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6690-1CD3-4C7B-8914-344152F52B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97A5-E982-4974-B3BB-73EB4B152E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AB98-0203-49CE-B2C7-A2FDE57F0A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9182-A75D-47E5-9D3A-79B7A09FB0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8962-3AD3-4E61-B8A1-8A245102D3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6903-92A1-4617-86AF-35389EF209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32"/>
          <p:cNvSpPr/>
          <p:nvPr/>
        </p:nvSpPr>
        <p:spPr>
          <a:xfrm>
            <a:off x="465840" y="336600"/>
            <a:ext cx="48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素材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10413000" y="39052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文本框 32"/>
          <p:cNvSpPr/>
          <p:nvPr/>
        </p:nvSpPr>
        <p:spPr>
          <a:xfrm>
            <a:off x="465840" y="336600"/>
            <a:ext cx="48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素材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6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9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5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6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7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8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9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1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2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3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5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6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2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3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4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5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8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0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1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2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3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4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5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2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3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7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1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2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3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0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1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2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3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8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1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3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4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2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3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5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9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0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3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8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9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0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2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9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0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4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5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6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7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9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0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1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2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5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6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0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4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5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9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2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6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7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8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5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Box 1"/>
          <p:cNvSpPr/>
          <p:nvPr/>
        </p:nvSpPr>
        <p:spPr>
          <a:xfrm>
            <a:off x="1998720" y="2516040"/>
            <a:ext cx="83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12sc.taobao.com/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3-16T06:53:16Z</dcterms:modified>
  <cp:revision>123</cp:revision>
  <dc:subject>12sc.taobao.com</dc:subject>
  <dc:title>PowerPoint 演示文稿</dc:title>
</cp:coreProperties>
</file>