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21E-C81A-4D12-BE9B-26A78FFC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3F06-07F0-40F9-A5A8-7FD1E912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43EC-DF31-46AC-921F-6DF9B89A8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F55-18AF-441F-A5ED-34FC2CB5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9DE-3783-45FA-BC5A-8F89B3DDC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BCE7-1D5B-47EA-AFC2-86A3E92F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E6A0-FD16-48A3-B987-13302767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A80F-1D0D-4FBA-87D9-1FB33501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D41A-433B-40FE-84EC-8EF2CE6A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9B69-FE76-4B68-BB40-C174CAD5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84E9-DB3F-4F2C-B24D-414852EF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A20C-38AE-418B-9BE8-9D6E23E6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18D58-F9C1-40DB-8070-07010D935DA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（中~右上右）圆角矩形 1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直接连接符 3"/>
          <p:cNvSpPr/>
          <p:nvPr/>
        </p:nvSpPr>
        <p:spPr>
          <a:xfrm>
            <a:off x="-5472000" y="2852640"/>
            <a:ext cx="543564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接连接符 4"/>
          <p:cNvSpPr/>
          <p:nvPr/>
        </p:nvSpPr>
        <p:spPr>
          <a:xfrm>
            <a:off x="9180360" y="4005360"/>
            <a:ext cx="55087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直接连接符 5"/>
          <p:cNvSpPr/>
          <p:nvPr/>
        </p:nvSpPr>
        <p:spPr>
          <a:xfrm>
            <a:off x="5435640" y="-4032360"/>
            <a:ext cx="0" cy="400536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直接连接符 7"/>
          <p:cNvSpPr/>
          <p:nvPr/>
        </p:nvSpPr>
        <p:spPr>
          <a:xfrm>
            <a:off x="3635280" y="6840360"/>
            <a:ext cx="0" cy="400536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（左下左）圆角矩形 16"/>
          <p:cNvSpPr/>
          <p:nvPr/>
        </p:nvSpPr>
        <p:spPr>
          <a:xfrm>
            <a:off x="755640" y="443700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（左下右）圆角矩形 18"/>
          <p:cNvSpPr/>
          <p:nvPr/>
        </p:nvSpPr>
        <p:spPr>
          <a:xfrm>
            <a:off x="1619280" y="537372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（右上左）圆角矩形 19"/>
          <p:cNvSpPr/>
          <p:nvPr/>
        </p:nvSpPr>
        <p:spPr>
          <a:xfrm>
            <a:off x="5003640" y="836640"/>
            <a:ext cx="1800360" cy="115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（右上右）圆角矩形 20"/>
          <p:cNvSpPr/>
          <p:nvPr/>
        </p:nvSpPr>
        <p:spPr>
          <a:xfrm>
            <a:off x="6588000" y="33336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21"/>
          <p:cNvSpPr/>
          <p:nvPr/>
        </p:nvSpPr>
        <p:spPr>
          <a:xfrm>
            <a:off x="1042920" y="5661000"/>
            <a:ext cx="50472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22"/>
          <p:cNvSpPr/>
          <p:nvPr/>
        </p:nvSpPr>
        <p:spPr>
          <a:xfrm>
            <a:off x="900000" y="5805360"/>
            <a:ext cx="503280" cy="28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24"/>
          <p:cNvSpPr/>
          <p:nvPr/>
        </p:nvSpPr>
        <p:spPr>
          <a:xfrm>
            <a:off x="2627280" y="4941720"/>
            <a:ext cx="360360" cy="3589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25"/>
          <p:cNvSpPr/>
          <p:nvPr/>
        </p:nvSpPr>
        <p:spPr>
          <a:xfrm>
            <a:off x="2771640" y="4691160"/>
            <a:ext cx="216000" cy="215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26"/>
          <p:cNvSpPr/>
          <p:nvPr/>
        </p:nvSpPr>
        <p:spPr>
          <a:xfrm>
            <a:off x="3024360" y="4941720"/>
            <a:ext cx="215640" cy="2145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27"/>
          <p:cNvSpPr/>
          <p:nvPr/>
        </p:nvSpPr>
        <p:spPr>
          <a:xfrm>
            <a:off x="3024360" y="4799160"/>
            <a:ext cx="107640" cy="10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28"/>
          <p:cNvSpPr/>
          <p:nvPr/>
        </p:nvSpPr>
        <p:spPr>
          <a:xfrm>
            <a:off x="3168720" y="4805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29"/>
          <p:cNvSpPr/>
          <p:nvPr/>
        </p:nvSpPr>
        <p:spPr>
          <a:xfrm>
            <a:off x="3078000" y="471636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30"/>
          <p:cNvSpPr/>
          <p:nvPr/>
        </p:nvSpPr>
        <p:spPr>
          <a:xfrm>
            <a:off x="3168720" y="4653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32"/>
          <p:cNvSpPr/>
          <p:nvPr/>
        </p:nvSpPr>
        <p:spPr>
          <a:xfrm rot="5400000">
            <a:off x="6876000" y="1556640"/>
            <a:ext cx="358920" cy="3603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33"/>
          <p:cNvSpPr/>
          <p:nvPr/>
        </p:nvSpPr>
        <p:spPr>
          <a:xfrm rot="5400000">
            <a:off x="7273080" y="1701000"/>
            <a:ext cx="21456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34"/>
          <p:cNvSpPr/>
          <p:nvPr/>
        </p:nvSpPr>
        <p:spPr>
          <a:xfrm rot="5400000">
            <a:off x="7021440" y="1952640"/>
            <a:ext cx="21600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35"/>
          <p:cNvSpPr/>
          <p:nvPr/>
        </p:nvSpPr>
        <p:spPr>
          <a:xfrm rot="5400000">
            <a:off x="7272360" y="195264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36"/>
          <p:cNvSpPr/>
          <p:nvPr/>
        </p:nvSpPr>
        <p:spPr>
          <a:xfrm rot="5400000">
            <a:off x="731844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37"/>
          <p:cNvSpPr/>
          <p:nvPr/>
        </p:nvSpPr>
        <p:spPr>
          <a:xfrm rot="5400000">
            <a:off x="7408800" y="200664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38"/>
          <p:cNvSpPr/>
          <p:nvPr/>
        </p:nvSpPr>
        <p:spPr>
          <a:xfrm rot="5400000">
            <a:off x="740880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39"/>
          <p:cNvSpPr/>
          <p:nvPr/>
        </p:nvSpPr>
        <p:spPr>
          <a:xfrm>
            <a:off x="6012000" y="476280"/>
            <a:ext cx="504720" cy="2887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40"/>
          <p:cNvSpPr/>
          <p:nvPr/>
        </p:nvSpPr>
        <p:spPr>
          <a:xfrm>
            <a:off x="5867280" y="333360"/>
            <a:ext cx="50508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（中~右上左）圆角矩形 41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（中~左下右）圆角矩形 42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（中~左下左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67"/>
          <p:cNvSpPr/>
          <p:nvPr/>
        </p:nvSpPr>
        <p:spPr>
          <a:xfrm>
            <a:off x="4246560" y="3357720"/>
            <a:ext cx="360360" cy="3585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矩形 68"/>
          <p:cNvSpPr/>
          <p:nvPr/>
        </p:nvSpPr>
        <p:spPr>
          <a:xfrm>
            <a:off x="4390920" y="3106800"/>
            <a:ext cx="21600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69"/>
          <p:cNvSpPr/>
          <p:nvPr/>
        </p:nvSpPr>
        <p:spPr>
          <a:xfrm>
            <a:off x="4643280" y="3357720"/>
            <a:ext cx="216000" cy="2142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矩形 70"/>
          <p:cNvSpPr/>
          <p:nvPr/>
        </p:nvSpPr>
        <p:spPr>
          <a:xfrm>
            <a:off x="4643280" y="321480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71"/>
          <p:cNvSpPr/>
          <p:nvPr/>
        </p:nvSpPr>
        <p:spPr>
          <a:xfrm>
            <a:off x="4788000" y="322092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72"/>
          <p:cNvSpPr/>
          <p:nvPr/>
        </p:nvSpPr>
        <p:spPr>
          <a:xfrm>
            <a:off x="4697280" y="3132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73"/>
          <p:cNvSpPr/>
          <p:nvPr/>
        </p:nvSpPr>
        <p:spPr>
          <a:xfrm>
            <a:off x="4788000" y="3132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77"/>
          <p:cNvSpPr/>
          <p:nvPr/>
        </p:nvSpPr>
        <p:spPr>
          <a:xfrm>
            <a:off x="4282920" y="3213000"/>
            <a:ext cx="50508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78"/>
          <p:cNvSpPr/>
          <p:nvPr/>
        </p:nvSpPr>
        <p:spPr>
          <a:xfrm>
            <a:off x="4140360" y="3357720"/>
            <a:ext cx="50292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79"/>
          <p:cNvSpPr/>
          <p:nvPr/>
        </p:nvSpPr>
        <p:spPr>
          <a:xfrm rot="5400000">
            <a:off x="4212000" y="3067920"/>
            <a:ext cx="358920" cy="3603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80"/>
          <p:cNvSpPr/>
          <p:nvPr/>
        </p:nvSpPr>
        <p:spPr>
          <a:xfrm rot="5400000">
            <a:off x="4609080" y="3212280"/>
            <a:ext cx="21456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81"/>
          <p:cNvSpPr/>
          <p:nvPr/>
        </p:nvSpPr>
        <p:spPr>
          <a:xfrm rot="5400000">
            <a:off x="4357080" y="3463920"/>
            <a:ext cx="216000" cy="215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82"/>
          <p:cNvSpPr/>
          <p:nvPr/>
        </p:nvSpPr>
        <p:spPr>
          <a:xfrm rot="5400000">
            <a:off x="4608360" y="346392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83"/>
          <p:cNvSpPr/>
          <p:nvPr/>
        </p:nvSpPr>
        <p:spPr>
          <a:xfrm rot="5400000">
            <a:off x="4654440" y="3608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84"/>
          <p:cNvSpPr/>
          <p:nvPr/>
        </p:nvSpPr>
        <p:spPr>
          <a:xfrm rot="5400000">
            <a:off x="4745160" y="351792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85"/>
          <p:cNvSpPr/>
          <p:nvPr/>
        </p:nvSpPr>
        <p:spPr>
          <a:xfrm rot="5400000">
            <a:off x="4745160" y="3608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86"/>
          <p:cNvSpPr/>
          <p:nvPr/>
        </p:nvSpPr>
        <p:spPr>
          <a:xfrm>
            <a:off x="4356000" y="3355920"/>
            <a:ext cx="50508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87"/>
          <p:cNvSpPr/>
          <p:nvPr/>
        </p:nvSpPr>
        <p:spPr>
          <a:xfrm>
            <a:off x="4211640" y="3213000"/>
            <a:ext cx="50472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（中·遮盖层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矩形 111" descr=""/>
          <p:cNvPicPr/>
          <p:nvPr/>
        </p:nvPicPr>
        <p:blipFill>
          <a:blip r:embed="rId1"/>
          <a:stretch/>
        </p:blipFill>
        <p:spPr>
          <a:xfrm>
            <a:off x="533520" y="3143160"/>
            <a:ext cx="8035920" cy="893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2"/>
          <p:cNvSpPr/>
          <p:nvPr/>
        </p:nvSpPr>
        <p:spPr>
          <a:xfrm>
            <a:off x="6229440" y="4006800"/>
            <a:ext cx="2663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指导老师：</a:t>
            </a: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学生姓名：</a:t>
            </a: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Ja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专       业：工业工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组合 130"/>
          <p:cNvGrpSpPr/>
          <p:nvPr/>
        </p:nvGrpSpPr>
        <p:grpSpPr>
          <a:xfrm>
            <a:off x="-1260360" y="2781360"/>
            <a:ext cx="4895640" cy="1295280"/>
            <a:chOff x="-1260360" y="2781360"/>
            <a:chExt cx="4895640" cy="1295280"/>
          </a:xfrm>
        </p:grpSpPr>
        <p:sp>
          <p:nvSpPr>
            <p:cNvPr id="93" name="矩形 122"/>
            <p:cNvSpPr/>
            <p:nvPr/>
          </p:nvSpPr>
          <p:spPr>
            <a:xfrm>
              <a:off x="-1260360" y="2781360"/>
              <a:ext cx="487836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直接连接符 126"/>
            <p:cNvSpPr/>
            <p:nvPr/>
          </p:nvSpPr>
          <p:spPr>
            <a:xfrm>
              <a:off x="363528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组合 131"/>
          <p:cNvGrpSpPr/>
          <p:nvPr/>
        </p:nvGrpSpPr>
        <p:grpSpPr>
          <a:xfrm>
            <a:off x="5435640" y="2781360"/>
            <a:ext cx="4892760" cy="1295280"/>
            <a:chOff x="5435640" y="2781360"/>
            <a:chExt cx="4892760" cy="1295280"/>
          </a:xfrm>
        </p:grpSpPr>
        <p:sp>
          <p:nvSpPr>
            <p:cNvPr id="96" name="矩形 125"/>
            <p:cNvSpPr/>
            <p:nvPr/>
          </p:nvSpPr>
          <p:spPr>
            <a:xfrm>
              <a:off x="5449680" y="2781360"/>
              <a:ext cx="487872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直接连接符 127"/>
            <p:cNvSpPr/>
            <p:nvPr/>
          </p:nvSpPr>
          <p:spPr>
            <a:xfrm>
              <a:off x="543564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-2.22222E-006 L 1.61233 -2.22222E-006 E">
                                      <p:cBhvr>
                                        <p:cTn id="6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-1.61441 2.22222E-006 E">
                                      <p:cBhvr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0209 L -4.44444E-006 1.61481 E">
                                      <p:cBhvr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0.05382 -0.06111 0.25555 -0.29074 0.32274 -0.36713 E">
                                      <p:cBhvr>
                                        <p:cTn id="59" dur="2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00"/>
                            </p:stCondLst>
                            <p:childTnLst>
                              <p:par>
                                <p:cTn id="6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0.02482 -0.04907 0.11823 -0.23264 0.1493 -0.29398 E">
                                      <p:cBhvr>
                                        <p:cTn id="62" dur="2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"/>
                            </p:stCondLst>
                            <p:childTnLst>
                              <p:par>
                                <p:cTn id="6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-0.03681 0.06111 -0.17448 0.29074 -0.22049 0.36736 E">
                                      <p:cBhvr>
                                        <p:cTn id="65" dur="2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00"/>
                            </p:stCondLst>
                            <p:childTnLst>
                              <p:par>
                                <p:cTn id="6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-0.05243 0.03843 -0.24931 0.18241 -0.31493 0.23056 E">
                                      <p:cBhvr>
                                        <p:cTn id="68" dur="2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86" dur="1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2.22222E-006 -7.40741E-007 C -0.02952 0.03843 -0.13993 0.18218 -0.17674 0.23009 E">
                                      <p:cBhvr>
                                        <p:cTn id="88" dur="11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88889E-006 0 C -0.02951 0.03819 -0.1401 0.18194 -0.17708 0.22986 E">
                                      <p:cBhvr>
                                        <p:cTn id="90" dur="1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94444E-006 -2.59259E-006 C -0.02952 0.03843 -0.14045 0.18241 -0.17743 0.23033 E">
                                      <p:cBhvr>
                                        <p:cTn id="92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4.72222E-006 -3.7037E-007 C -0.02952 0.03843 -0.14011 0.18241 -0.17691 0.23032 E">
                                      <p:cBhvr>
                                        <p:cTn id="94" dur="11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2.5E-006 -1.11111E-006 C -0.02951 0.03843 -0.14028 0.18287 -0.17725 0.23102 E">
                                      <p:cBhvr>
                                        <p:cTn id="96" dur="15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33333E-006 1.85185E-006 C -0.02952 0.03842 -0.14028 0.18264 -0.17709 0.23079 E">
                                      <p:cBhvr>
                                        <p:cTn id="98" dur="12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2.5E-006 1.85185E-006 C -0.02951 0.03842 -0.14028 0.18264 -0.17725 0.23079 E">
                                      <p:cBhvr>
                                        <p:cTn id="100" dur="12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05556E-006 -3.33333E-006 C -0.0592 0.05949 -0.28108 0.28241 -0.35504 0.35672 E">
                                      <p:cBhvr>
                                        <p:cTn id="102" dur="1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66667E-006 3.33333E-006 C -0.0592 0.05949 -0.28125 0.2824 -0.35521 0.35671 E">
                                      <p:cBhvr>
                                        <p:cTn id="104" dur="12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94444E-006 -1.11111E-006 C 0.04861 -0.03704 0.23073 -0.17592 0.2915 -0.22222 E">
                                      <p:cBhvr>
                                        <p:cTn id="106" dur="13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38889E-006 7.40741E-007 C 0.04861 -0.03704 0.23073 -0.1757 0.29132 -0.22199 E">
                                      <p:cBhvr>
                                        <p:cTn id="108" dur="15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94444E-006 -3.33333E-006 C 0.04861 -0.03703 0.23073 -0.17546 0.29132 -0.22176 E">
                                      <p:cBhvr>
                                        <p:cTn id="110" dur="12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209 -0.00162 C 0.04652 -0.03842 0.22864 -0.17685 0.28941 -0.22291 E">
                                      <p:cBhvr>
                                        <p:cTn id="112" dur="18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8.33333E-007 -2.59259E-006 C 0.04844 -0.0368 0.23055 -0.17453 0.29115 -0.2206 E">
                                      <p:cBhvr>
                                        <p:cTn id="114" dur="1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1.85185E-006 C 0.04844 -0.03681 0.23056 -0.17454 0.29115 -0.2206 E">
                                      <p:cBhvr>
                                        <p:cTn id="116" dur="12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-2.59259E-006 C 0.04844 -0.0368 0.23056 -0.17453 0.29115 -0.2206 E">
                                      <p:cBhvr>
                                        <p:cTn id="118" dur="13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05556E-006 3.33333E-006 C 0.03004 -0.07014 0.14306 -0.33287 0.18073 -0.42037 E">
                                      <p:cBhvr>
                                        <p:cTn id="120" dur="15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44444E-006 -1.85185E-006 C 0.03004 -0.07014 0.14289 -0.33356 0.18039 -0.42129 E">
                                      <p:cBhvr>
                                        <p:cTn id="122" dur="17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2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26" dur="1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28" dur="2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0" dur="1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2" dur="22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4" dur="1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6" dur="1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8" dur="1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0" dur="22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2" dur="2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4" dur="1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6" dur="2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8" dur="2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0" dur="22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2" dur="2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4" dur="2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6" dur="1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8" dur="22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1.11111E-006 0 C 0.04097 0 0.08212 0 0.09844 0 E">
                                      <p:cBhvr>
                                        <p:cTn id="232" dur="7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5.27778E-006 2.96296E-006 C -0.04098 0.00023 -0.08195 0.00046 -0.09827 0.00046 E">
                                      <p:cBhvr>
                                        <p:cTn id="234" dur="7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xit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0.09809 0 C -0.01406 -0.00046 0.30087 -0.00231 0.40573 -0.00278 E">
                                      <p:cBhvr>
                                        <p:cTn id="240" dur="6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.09809 -0.00023 C 0.01337 -0.00046 -0.30382 -0.00185 -0.40989 -0.00231 E">
                                      <p:cBhvr>
                                        <p:cTn id="242" dur="6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100"/>
                            </p:stCondLst>
                            <p:childTnLst>
                              <p:par>
                                <p:cTn id="24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" dur="4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685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7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688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689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2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3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694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695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8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9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700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701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4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5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706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707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0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1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712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713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6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7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9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720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721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4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5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1835280" y="1700280"/>
          <a:ext cx="6337080" cy="3816360"/>
        </p:xfrm>
        <a:graphic>
          <a:graphicData uri="http://schemas.openxmlformats.org/drawingml/2006/table">
            <a:tbl>
              <a:tblPr/>
              <a:tblGrid>
                <a:gridCol w="2447640"/>
                <a:gridCol w="2311200"/>
                <a:gridCol w="1578240"/>
              </a:tblGrid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最常使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应加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5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文数据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试平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734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735" name="矩形 105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学习心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直角三角形 106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直角三角形 107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8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739" name="矩形 73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满意度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直角三角形 74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直角三角形 75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2" name="TextBox 78"/>
          <p:cNvSpPr/>
          <p:nvPr/>
        </p:nvSpPr>
        <p:spPr>
          <a:xfrm>
            <a:off x="1619280" y="1251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学习动机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指直接推动学生进行学习的一种内部动力，是激励和指引学生进行学习的一种需要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3" name="组合 116"/>
          <p:cNvGrpSpPr/>
          <p:nvPr/>
        </p:nvGrpSpPr>
        <p:grpSpPr>
          <a:xfrm>
            <a:off x="1547640" y="2195640"/>
            <a:ext cx="5427000" cy="1880280"/>
            <a:chOff x="1547640" y="2195640"/>
            <a:chExt cx="5427000" cy="1880280"/>
          </a:xfrm>
        </p:grpSpPr>
        <p:sp>
          <p:nvSpPr>
            <p:cNvPr id="744" name="圆角矩形 79"/>
            <p:cNvSpPr/>
            <p:nvPr/>
          </p:nvSpPr>
          <p:spPr>
            <a:xfrm>
              <a:off x="1547640" y="2781360"/>
              <a:ext cx="1584360" cy="71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学习动机的主要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矩形 80"/>
            <p:cNvSpPr/>
            <p:nvPr/>
          </p:nvSpPr>
          <p:spPr>
            <a:xfrm>
              <a:off x="4499640" y="219564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知识价值的认识（知识价值观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矩形 81"/>
            <p:cNvSpPr/>
            <p:nvPr/>
          </p:nvSpPr>
          <p:spPr>
            <a:xfrm>
              <a:off x="4280760" y="2699640"/>
              <a:ext cx="22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学习的直接兴趣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兴趣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矩形 82"/>
            <p:cNvSpPr/>
            <p:nvPr/>
          </p:nvSpPr>
          <p:spPr>
            <a:xfrm>
              <a:off x="4416840" y="3707640"/>
              <a:ext cx="25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自身学习能力的认识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能力感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矩形 83"/>
            <p:cNvSpPr/>
            <p:nvPr/>
          </p:nvSpPr>
          <p:spPr>
            <a:xfrm>
              <a:off x="4276080" y="3203640"/>
              <a:ext cx="214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学习成绩的归因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成就归因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直接连接符 85"/>
            <p:cNvSpPr/>
            <p:nvPr/>
          </p:nvSpPr>
          <p:spPr>
            <a:xfrm>
              <a:off x="3132000" y="3140280"/>
              <a:ext cx="360360" cy="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直接连接符 87"/>
            <p:cNvSpPr/>
            <p:nvPr/>
          </p:nvSpPr>
          <p:spPr>
            <a:xfrm>
              <a:off x="3492360" y="2349360"/>
              <a:ext cx="0" cy="151128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直接连接符 89"/>
            <p:cNvSpPr/>
            <p:nvPr/>
          </p:nvSpPr>
          <p:spPr>
            <a:xfrm>
              <a:off x="3492360" y="335592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直接连接符 97"/>
            <p:cNvSpPr/>
            <p:nvPr/>
          </p:nvSpPr>
          <p:spPr>
            <a:xfrm>
              <a:off x="3492360" y="285264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直接连接符 110"/>
            <p:cNvSpPr/>
            <p:nvPr/>
          </p:nvSpPr>
          <p:spPr>
            <a:xfrm>
              <a:off x="3492360" y="234936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直接连接符 111"/>
            <p:cNvSpPr/>
            <p:nvPr/>
          </p:nvSpPr>
          <p:spPr>
            <a:xfrm>
              <a:off x="3492360" y="386100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5" name="圆角矩形 115"/>
          <p:cNvSpPr/>
          <p:nvPr/>
        </p:nvSpPr>
        <p:spPr>
          <a:xfrm>
            <a:off x="1547640" y="4437000"/>
            <a:ext cx="6193080" cy="1440000"/>
          </a:xfrm>
          <a:prstGeom prst="roundRect">
            <a:avLst>
              <a:gd name="adj" fmla="val 10199"/>
            </a:avLst>
          </a:prstGeom>
          <a:solidFill>
            <a:srgbClr val="ffffff"/>
          </a:solidFill>
          <a:ln w="2556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小结：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在举办活动时，应深刻挖掘学生的学习动机，促进学生的阅读量，如可以根据“名人效应”与孔目湖讲堂合作，在讲堂中推荐同学多阅读，并可现场推荐书目，后期再加大宣传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118"/>
          <p:cNvSpPr/>
          <p:nvPr/>
        </p:nvSpPr>
        <p:spPr>
          <a:xfrm>
            <a:off x="1547640" y="1341360"/>
            <a:ext cx="63374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阅读行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重任务型阅读已经成为大学生中常见的一种阅读方式，即大学生在阅读的同时，还同时进行网络聊天，听音乐之类的活动。多任务型阅读会对阅读的效率及效果方面产生不良影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影响电子资源推广原因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阅读设备如平板电脑的普及率不高，而电脑的便捷性相对于纸质图书也不高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期养成的纸质阅读习惯要改成电子阅读需要一定的时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小结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今后阅读设备普及的情况下，人的惰性会使人更倾向使用平板电脑的娱乐功能，图书馆及学校需要在这方面加强引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fill="hold">
                      <p:stCondLst>
                        <p:cond delay="0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3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9" dur="3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1300"/>
                            </p:stCondLst>
                            <p:childTnLst>
                              <p:par>
                                <p:cTn id="16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3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600"/>
                            </p:stCondLst>
                            <p:childTnLst>
                              <p:par>
                                <p:cTn id="16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7" dur="3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5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5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5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6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6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758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0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761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762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5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6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767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768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1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2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773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774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7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779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780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3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4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785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786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9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0" name="圆角矩形 147"/>
          <p:cNvSpPr/>
          <p:nvPr/>
        </p:nvSpPr>
        <p:spPr>
          <a:xfrm>
            <a:off x="2484360" y="1268280"/>
            <a:ext cx="14400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6a6a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南昌大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圆角矩形 148"/>
          <p:cNvSpPr/>
          <p:nvPr/>
        </p:nvSpPr>
        <p:spPr>
          <a:xfrm>
            <a:off x="5148360" y="1268280"/>
            <a:ext cx="143964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6a6a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东交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弧形 149"/>
          <p:cNvSpPr/>
          <p:nvPr/>
        </p:nvSpPr>
        <p:spPr>
          <a:xfrm>
            <a:off x="3203640" y="836640"/>
            <a:ext cx="2663640" cy="2448000"/>
          </a:xfrm>
          <a:custGeom>
            <a:avLst/>
            <a:gdLst/>
            <a:ahLst/>
            <a:rect l="l" t="t" r="r" b="b"/>
            <a:pathLst>
              <a:path stroke="0" w="2663825" h="2447925">
                <a:moveTo>
                  <a:pt x="2655677" y="1088787"/>
                </a:moveTo>
                <a:cubicBezTo>
                  <a:pt x="2661096" y="1133093"/>
                  <a:pt x="2663825" y="1178234"/>
                  <a:pt x="2663825" y="1223962"/>
                </a:cubicBezTo>
                <a:cubicBezTo>
                  <a:pt x="2663825" y="1899938"/>
                  <a:pt x="2067508" y="2447924"/>
                  <a:pt x="1331913" y="2447924"/>
                </a:cubicBezTo>
                <a:cubicBezTo>
                  <a:pt x="596318" y="2447924"/>
                  <a:pt x="1" y="1899938"/>
                  <a:pt x="1" y="1223962"/>
                </a:cubicBezTo>
                <a:cubicBezTo>
                  <a:pt x="1" y="1193705"/>
                  <a:pt x="1196" y="1163705"/>
                  <a:pt x="3520" y="1134308"/>
                </a:cubicBezTo>
                <a:lnTo>
                  <a:pt x="1331912" y="1223962"/>
                </a:lnTo>
                <a:close/>
              </a:path>
              <a:path fill="none" w="2663825" h="2447925">
                <a:moveTo>
                  <a:pt x="2655677" y="1088787"/>
                </a:moveTo>
                <a:cubicBezTo>
                  <a:pt x="2661096" y="1133093"/>
                  <a:pt x="2663825" y="1178234"/>
                  <a:pt x="2663825" y="1223962"/>
                </a:cubicBezTo>
                <a:cubicBezTo>
                  <a:pt x="2663825" y="1899938"/>
                  <a:pt x="2067508" y="2447924"/>
                  <a:pt x="1331913" y="2447924"/>
                </a:cubicBezTo>
                <a:cubicBezTo>
                  <a:pt x="596318" y="2447924"/>
                  <a:pt x="1" y="1899938"/>
                  <a:pt x="1" y="1223962"/>
                </a:cubicBezTo>
                <a:cubicBezTo>
                  <a:pt x="1" y="1193705"/>
                  <a:pt x="1196" y="1163705"/>
                  <a:pt x="3520" y="1134308"/>
                </a:cubicBezTo>
              </a:path>
            </a:pathLst>
          </a:custGeom>
          <a:noFill/>
          <a:ln w="25560">
            <a:solidFill>
              <a:srgbClr val="a6a6a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椭圆 129"/>
          <p:cNvSpPr/>
          <p:nvPr/>
        </p:nvSpPr>
        <p:spPr>
          <a:xfrm>
            <a:off x="3924360" y="2710440"/>
            <a:ext cx="1258920" cy="1167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比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椭圆 137"/>
          <p:cNvSpPr/>
          <p:nvPr/>
        </p:nvSpPr>
        <p:spPr>
          <a:xfrm>
            <a:off x="5508720" y="4479120"/>
            <a:ext cx="1079280" cy="99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直接连接符 136"/>
          <p:cNvSpPr/>
          <p:nvPr/>
        </p:nvSpPr>
        <p:spPr>
          <a:xfrm>
            <a:off x="4998960" y="3708360"/>
            <a:ext cx="668520" cy="916200"/>
          </a:xfrm>
          <a:prstGeom prst="line">
            <a:avLst/>
          </a:prstGeom>
          <a:ln w="25560">
            <a:solidFill>
              <a:srgbClr val="a6a6a6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椭圆 146"/>
          <p:cNvSpPr/>
          <p:nvPr/>
        </p:nvSpPr>
        <p:spPr>
          <a:xfrm>
            <a:off x="3995640" y="4696560"/>
            <a:ext cx="1081080" cy="99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馆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直接连接符 134"/>
          <p:cNvSpPr/>
          <p:nvPr/>
        </p:nvSpPr>
        <p:spPr>
          <a:xfrm flipH="1">
            <a:off x="4537080" y="3879720"/>
            <a:ext cx="17280" cy="816120"/>
          </a:xfrm>
          <a:prstGeom prst="line">
            <a:avLst/>
          </a:prstGeom>
          <a:ln w="25560">
            <a:solidFill>
              <a:srgbClr val="a6a6a6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椭圆 150"/>
          <p:cNvSpPr/>
          <p:nvPr/>
        </p:nvSpPr>
        <p:spPr>
          <a:xfrm>
            <a:off x="2556000" y="4479120"/>
            <a:ext cx="1081080" cy="99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纸质馆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直接连接符 132"/>
          <p:cNvSpPr/>
          <p:nvPr/>
        </p:nvSpPr>
        <p:spPr>
          <a:xfrm flipH="1">
            <a:off x="3478320" y="3708360"/>
            <a:ext cx="630000" cy="916200"/>
          </a:xfrm>
          <a:prstGeom prst="line">
            <a:avLst/>
          </a:prstGeom>
          <a:ln w="25560">
            <a:solidFill>
              <a:srgbClr val="a6a6a6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（小方框遮罩层）矩形 52"/>
          <p:cNvSpPr/>
          <p:nvPr/>
        </p:nvSpPr>
        <p:spPr>
          <a:xfrm>
            <a:off x="545616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2" name="（4对比分析·蓝）组合 40"/>
          <p:cNvGrpSpPr/>
          <p:nvPr/>
        </p:nvGrpSpPr>
        <p:grpSpPr>
          <a:xfrm>
            <a:off x="5364000" y="115920"/>
            <a:ext cx="1729080" cy="673200"/>
            <a:chOff x="5364000" y="115920"/>
            <a:chExt cx="1729080" cy="673200"/>
          </a:xfrm>
        </p:grpSpPr>
        <p:grpSp>
          <p:nvGrpSpPr>
            <p:cNvPr id="803" name="（1绪论）组合 45"/>
            <p:cNvGrpSpPr/>
            <p:nvPr/>
          </p:nvGrpSpPr>
          <p:grpSpPr>
            <a:xfrm>
              <a:off x="5364000" y="115920"/>
              <a:ext cx="1729080" cy="673200"/>
              <a:chOff x="5364000" y="115920"/>
              <a:chExt cx="1729080" cy="673200"/>
            </a:xfrm>
          </p:grpSpPr>
          <p:sp>
            <p:nvSpPr>
              <p:cNvPr id="804" name="圆角矩形 40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矩形 41"/>
              <p:cNvSpPr/>
              <p:nvPr/>
            </p:nvSpPr>
            <p:spPr>
              <a:xfrm>
                <a:off x="545436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6" name="矩形 42"/>
              <p:cNvSpPr/>
              <p:nvPr/>
            </p:nvSpPr>
            <p:spPr>
              <a:xfrm>
                <a:off x="536400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7" name="（1绪论）TextBox 72"/>
            <p:cNvSpPr/>
            <p:nvPr/>
          </p:nvSpPr>
          <p:spPr>
            <a:xfrm>
              <a:off x="5364360" y="11628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8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（3统计与分析·蓝）组合 40"/>
          <p:cNvGrpSpPr/>
          <p:nvPr/>
        </p:nvGrpSpPr>
        <p:grpSpPr>
          <a:xfrm>
            <a:off x="3708360" y="115920"/>
            <a:ext cx="1728720" cy="673200"/>
            <a:chOff x="3708360" y="115920"/>
            <a:chExt cx="1728720" cy="673200"/>
          </a:xfrm>
        </p:grpSpPr>
        <p:grpSp>
          <p:nvGrpSpPr>
            <p:cNvPr id="811" name="（1绪论）组合 45"/>
            <p:cNvGrpSpPr/>
            <p:nvPr/>
          </p:nvGrpSpPr>
          <p:grpSpPr>
            <a:xfrm>
              <a:off x="3708360" y="115920"/>
              <a:ext cx="1728720" cy="673200"/>
              <a:chOff x="3708360" y="115920"/>
              <a:chExt cx="1728720" cy="673200"/>
            </a:xfrm>
          </p:grpSpPr>
          <p:sp>
            <p:nvSpPr>
              <p:cNvPr id="812" name="圆角矩形 48"/>
              <p:cNvSpPr/>
              <p:nvPr/>
            </p:nvSpPr>
            <p:spPr>
              <a:xfrm>
                <a:off x="377964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矩形 49"/>
              <p:cNvSpPr/>
              <p:nvPr/>
            </p:nvSpPr>
            <p:spPr>
              <a:xfrm>
                <a:off x="379872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4" name="矩形 50"/>
              <p:cNvSpPr/>
              <p:nvPr/>
            </p:nvSpPr>
            <p:spPr>
              <a:xfrm>
                <a:off x="370836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5" name="（1绪论）TextBox 72"/>
            <p:cNvSpPr/>
            <p:nvPr/>
          </p:nvSpPr>
          <p:spPr>
            <a:xfrm>
              <a:off x="370836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6" name="（左·遮盖）弧形 71"/>
          <p:cNvSpPr/>
          <p:nvPr/>
        </p:nvSpPr>
        <p:spPr>
          <a:xfrm>
            <a:off x="5435640" y="11592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（左·遮盖）直接连接符 74"/>
          <p:cNvSpPr/>
          <p:nvPr/>
        </p:nvSpPr>
        <p:spPr>
          <a:xfrm flipH="1">
            <a:off x="5435640" y="216000"/>
            <a:ext cx="144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（右·遮盖）弧形 78"/>
          <p:cNvSpPr/>
          <p:nvPr/>
        </p:nvSpPr>
        <p:spPr>
          <a:xfrm rot="5400000">
            <a:off x="6839280" y="116280"/>
            <a:ext cx="181080" cy="17964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（右·遮盖）直接连接符 79"/>
          <p:cNvSpPr/>
          <p:nvPr/>
        </p:nvSpPr>
        <p:spPr>
          <a:xfrm>
            <a:off x="7020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（上·遮盖）直接连接符 84"/>
          <p:cNvSpPr/>
          <p:nvPr/>
        </p:nvSpPr>
        <p:spPr>
          <a:xfrm>
            <a:off x="551988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（左·遮盖）弧形 71"/>
          <p:cNvSpPr/>
          <p:nvPr/>
        </p:nvSpPr>
        <p:spPr>
          <a:xfrm>
            <a:off x="3780000" y="115920"/>
            <a:ext cx="18072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（左·遮盖）直接连接符 74"/>
          <p:cNvSpPr/>
          <p:nvPr/>
        </p:nvSpPr>
        <p:spPr>
          <a:xfrm>
            <a:off x="377676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（右·遮盖）弧形 78"/>
          <p:cNvSpPr/>
          <p:nvPr/>
        </p:nvSpPr>
        <p:spPr>
          <a:xfrm rot="5400000">
            <a:off x="518364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（上·遮盖）直接连接符 84"/>
          <p:cNvSpPr/>
          <p:nvPr/>
        </p:nvSpPr>
        <p:spPr>
          <a:xfrm>
            <a:off x="386388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（小方框遮罩层）矩形 52"/>
          <p:cNvSpPr/>
          <p:nvPr/>
        </p:nvSpPr>
        <p:spPr>
          <a:xfrm>
            <a:off x="3801960" y="51120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1" dur="indefinite" restart="never" nodeType="tmRoot">
          <p:childTnLst>
            <p:seq>
              <p:cTn id="1672" dur="indefinite" nodeType="mainSeq">
                <p:childTnLst>
                  <p:par>
                    <p:cTn id="1673" fill="hold">
                      <p:stCondLst>
                        <p:cond delay="0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1"/>
                            </p:stCondLst>
                            <p:childTnLst>
                              <p:par>
                                <p:cTn id="1678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79" dur="1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1"/>
                            </p:stCondLst>
                            <p:childTnLst>
                              <p:par>
                                <p:cTn id="1682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83" dur="5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151"/>
                            </p:stCondLst>
                            <p:childTnLst>
                              <p:par>
                                <p:cTn id="1686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87" dur="2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351"/>
                            </p:stCondLst>
                            <p:childTnLst>
                              <p:par>
                                <p:cTn id="1690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91" dur="5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401"/>
                            </p:stCondLst>
                            <p:childTnLst>
                              <p:par>
                                <p:cTn id="1694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95" dur="1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1"/>
                            </p:stCondLst>
                            <p:childTnLst>
                              <p:par>
                                <p:cTn id="169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9" dur="2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701"/>
                            </p:stCondLst>
                            <p:childTnLst>
                              <p:par>
                                <p:cTn id="17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4" dur="2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901"/>
                            </p:stCondLst>
                            <p:childTnLst>
                              <p:par>
                                <p:cTn id="170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8" dur="1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2" dur="5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1051"/>
                            </p:stCondLst>
                            <p:childTnLst>
                              <p:par>
                                <p:cTn id="171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6" dur="2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251"/>
                            </p:stCondLst>
                            <p:childTnLst>
                              <p:par>
                                <p:cTn id="17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5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1301"/>
                            </p:stCondLst>
                            <p:childTnLst>
                              <p:par>
                                <p:cTn id="17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4" dur="2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1501"/>
                            </p:stCondLst>
                            <p:childTnLst>
                              <p:par>
                                <p:cTn id="172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1502"/>
                            </p:stCondLst>
                            <p:childTnLst>
                              <p:par>
                                <p:cTn id="172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1503"/>
                            </p:stCondLst>
                            <p:childTnLst>
                              <p:par>
                                <p:cTn id="173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1504"/>
                            </p:stCondLst>
                            <p:childTnLst>
                              <p:par>
                                <p:cTn id="173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1505"/>
                            </p:stCondLst>
                            <p:childTnLst>
                              <p:par>
                                <p:cTn id="173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1506"/>
                            </p:stCondLst>
                            <p:childTnLst>
                              <p:par>
                                <p:cTn id="17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4" dur="2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5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6" dur="2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2106"/>
                            </p:stCondLst>
                            <p:childTnLst>
                              <p:par>
                                <p:cTn id="17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2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3" dur="2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fill="hold">
                            <p:stCondLst>
                              <p:cond delay="2306"/>
                            </p:stCondLst>
                            <p:childTnLst>
                              <p:par>
                                <p:cTn id="17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7" dur="2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2506"/>
                            </p:stCondLst>
                            <p:childTnLst>
                              <p:par>
                                <p:cTn id="175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1" dur="4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2906"/>
                            </p:stCondLst>
                            <p:childTnLst>
                              <p:par>
                                <p:cTn id="17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5" dur="2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8" dur="2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1" dur="2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3106"/>
                            </p:stCondLst>
                            <p:childTnLst>
                              <p:par>
                                <p:cTn id="17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5" dur="2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2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1" dur="2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85" dur="500" fill="hold"/>
                                        <p:tgtEl>
                                          <p:spTgt spid="7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87" dur="5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89" dur="500" fill="hold"/>
                                        <p:tgtEl>
                                          <p:spTgt spid="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1" dur="5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3" dur="500" fill="hold"/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5" dur="500" fill="hold"/>
                                        <p:tgtEl>
                                          <p:spTgt spid="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7" dur="500" fill="hold"/>
                                        <p:tgtEl>
                                          <p:spTgt spid="7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9" dur="500" fill="hold"/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801" dur="5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803" dur="5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829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1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832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833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5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36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7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838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839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2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3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844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845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850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851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4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5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856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857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9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0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1" name="TextBox 66"/>
          <p:cNvSpPr/>
          <p:nvPr/>
        </p:nvSpPr>
        <p:spPr>
          <a:xfrm>
            <a:off x="2050920" y="1341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馆藏 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短、中、长期的馆藏发展计划；加强人文、科普、艺术类馆藏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67"/>
          <p:cNvSpPr/>
          <p:nvPr/>
        </p:nvSpPr>
        <p:spPr>
          <a:xfrm>
            <a:off x="2050920" y="26575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 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灯光、空调等故障处理效率提高，电子阅览室设备更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68"/>
          <p:cNvSpPr/>
          <p:nvPr/>
        </p:nvSpPr>
        <p:spPr>
          <a:xfrm>
            <a:off x="2050920" y="39751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服务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立学科馆员，提升馆员整体素质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69"/>
          <p:cNvSpPr/>
          <p:nvPr/>
        </p:nvSpPr>
        <p:spPr>
          <a:xfrm>
            <a:off x="2050920" y="4923000"/>
            <a:ext cx="60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推广活动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用特殊事件，举办相关活动；善用社交网络；加强电子资源的宣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流程图: 摘录 70"/>
          <p:cNvSpPr/>
          <p:nvPr/>
        </p:nvSpPr>
        <p:spPr>
          <a:xfrm rot="10800000">
            <a:off x="1332000" y="1701360"/>
            <a:ext cx="576000" cy="358920"/>
          </a:xfrm>
          <a:prstGeom prst="flowChartExtract">
            <a:avLst/>
          </a:prstGeom>
          <a:gradFill rotWithShape="0">
            <a:gsLst>
              <a:gs pos="0">
                <a:srgbClr val="a6a6a6">
                  <a:alpha val="63137"/>
                </a:srgbClr>
              </a:gs>
              <a:gs pos="100000">
                <a:srgbClr val="d9d9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流程图: 摘录 74"/>
          <p:cNvSpPr/>
          <p:nvPr/>
        </p:nvSpPr>
        <p:spPr>
          <a:xfrm rot="10800000">
            <a:off x="1332000" y="2925360"/>
            <a:ext cx="576000" cy="358920"/>
          </a:xfrm>
          <a:prstGeom prst="flowChartExtract">
            <a:avLst/>
          </a:prstGeom>
          <a:gradFill rotWithShape="0">
            <a:gsLst>
              <a:gs pos="0">
                <a:srgbClr val="a6a6a6">
                  <a:alpha val="63137"/>
                </a:srgbClr>
              </a:gs>
              <a:gs pos="100000">
                <a:srgbClr val="d9d9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流程图: 摘录 75"/>
          <p:cNvSpPr/>
          <p:nvPr/>
        </p:nvSpPr>
        <p:spPr>
          <a:xfrm rot="10800000">
            <a:off x="1332000" y="4149360"/>
            <a:ext cx="576000" cy="360360"/>
          </a:xfrm>
          <a:prstGeom prst="flowChartExtract">
            <a:avLst/>
          </a:prstGeom>
          <a:gradFill rotWithShape="0">
            <a:gsLst>
              <a:gs pos="0">
                <a:srgbClr val="a6a6a6">
                  <a:alpha val="63137"/>
                </a:srgbClr>
              </a:gs>
              <a:gs pos="100000">
                <a:srgbClr val="d9d9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流程图: 摘录 76"/>
          <p:cNvSpPr/>
          <p:nvPr/>
        </p:nvSpPr>
        <p:spPr>
          <a:xfrm rot="10800000">
            <a:off x="1332000" y="5300280"/>
            <a:ext cx="576000" cy="360360"/>
          </a:xfrm>
          <a:prstGeom prst="flowChartExtract">
            <a:avLst/>
          </a:prstGeom>
          <a:gradFill rotWithShape="0">
            <a:gsLst>
              <a:gs pos="0">
                <a:srgbClr val="a6a6a6">
                  <a:alpha val="63137"/>
                </a:srgbClr>
              </a:gs>
              <a:gs pos="100000">
                <a:srgbClr val="d9d9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extBox 73"/>
          <p:cNvSpPr/>
          <p:nvPr/>
        </p:nvSpPr>
        <p:spPr>
          <a:xfrm>
            <a:off x="-6086520" y="278136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自身积极听取学生意见努力改善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77"/>
          <p:cNvSpPr/>
          <p:nvPr/>
        </p:nvSpPr>
        <p:spPr>
          <a:xfrm>
            <a:off x="-6157800" y="39751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强与校方及其他相关部门沟通、协作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TextBox 78"/>
          <p:cNvSpPr/>
          <p:nvPr/>
        </p:nvSpPr>
        <p:spPr>
          <a:xfrm>
            <a:off x="-6157800" y="5013360"/>
            <a:ext cx="56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望同学们多关注图书馆、参与到图书馆的互动中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流程图: 摘录 80"/>
          <p:cNvSpPr/>
          <p:nvPr/>
        </p:nvSpPr>
        <p:spPr>
          <a:xfrm rot="10800000">
            <a:off x="-6876720" y="285228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流程图: 摘录 81"/>
          <p:cNvSpPr/>
          <p:nvPr/>
        </p:nvSpPr>
        <p:spPr>
          <a:xfrm rot="10800000">
            <a:off x="-6876720" y="407628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流程图: 摘录 82"/>
          <p:cNvSpPr/>
          <p:nvPr/>
        </p:nvSpPr>
        <p:spPr>
          <a:xfrm rot="10800000">
            <a:off x="-6876720" y="519552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矩形 84"/>
          <p:cNvSpPr/>
          <p:nvPr/>
        </p:nvSpPr>
        <p:spPr>
          <a:xfrm>
            <a:off x="-6156360" y="1413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本论文对交大图书馆的积极意义做了充分肯定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流程图: 摘录 85"/>
          <p:cNvSpPr/>
          <p:nvPr/>
        </p:nvSpPr>
        <p:spPr>
          <a:xfrm rot="10800000">
            <a:off x="-6876720" y="162828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（小方框遮罩层）矩形 52"/>
          <p:cNvSpPr/>
          <p:nvPr/>
        </p:nvSpPr>
        <p:spPr>
          <a:xfrm>
            <a:off x="7112160" y="522360"/>
            <a:ext cx="154764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（4对比分析·蓝）组合 40"/>
          <p:cNvGrpSpPr/>
          <p:nvPr/>
        </p:nvGrpSpPr>
        <p:grpSpPr>
          <a:xfrm>
            <a:off x="7020000" y="115920"/>
            <a:ext cx="1728720" cy="673200"/>
            <a:chOff x="7020000" y="115920"/>
            <a:chExt cx="1728720" cy="673200"/>
          </a:xfrm>
        </p:grpSpPr>
        <p:grpSp>
          <p:nvGrpSpPr>
            <p:cNvPr id="880" name="（1绪论）组合 45"/>
            <p:cNvGrpSpPr/>
            <p:nvPr/>
          </p:nvGrpSpPr>
          <p:grpSpPr>
            <a:xfrm>
              <a:off x="7020000" y="115920"/>
              <a:ext cx="1728720" cy="673200"/>
              <a:chOff x="7020000" y="115920"/>
              <a:chExt cx="1728720" cy="673200"/>
            </a:xfrm>
          </p:grpSpPr>
          <p:sp>
            <p:nvSpPr>
              <p:cNvPr id="881" name="圆角矩形 40"/>
              <p:cNvSpPr/>
              <p:nvPr/>
            </p:nvSpPr>
            <p:spPr>
              <a:xfrm>
                <a:off x="7091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矩形 41"/>
              <p:cNvSpPr/>
              <p:nvPr/>
            </p:nvSpPr>
            <p:spPr>
              <a:xfrm>
                <a:off x="711036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矩形 42"/>
              <p:cNvSpPr/>
              <p:nvPr/>
            </p:nvSpPr>
            <p:spPr>
              <a:xfrm>
                <a:off x="702000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4" name="（1绪论）TextBox 72"/>
            <p:cNvSpPr/>
            <p:nvPr/>
          </p:nvSpPr>
          <p:spPr>
            <a:xfrm>
              <a:off x="702036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5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（3统计与分析·蓝）组合 40"/>
          <p:cNvGrpSpPr/>
          <p:nvPr/>
        </p:nvGrpSpPr>
        <p:grpSpPr>
          <a:xfrm>
            <a:off x="5364000" y="115920"/>
            <a:ext cx="1729080" cy="673200"/>
            <a:chOff x="5364000" y="115920"/>
            <a:chExt cx="1729080" cy="673200"/>
          </a:xfrm>
        </p:grpSpPr>
        <p:grpSp>
          <p:nvGrpSpPr>
            <p:cNvPr id="888" name="（1绪论）组合 45"/>
            <p:cNvGrpSpPr/>
            <p:nvPr/>
          </p:nvGrpSpPr>
          <p:grpSpPr>
            <a:xfrm>
              <a:off x="5364000" y="115920"/>
              <a:ext cx="1729080" cy="673200"/>
              <a:chOff x="5364000" y="115920"/>
              <a:chExt cx="1729080" cy="673200"/>
            </a:xfrm>
          </p:grpSpPr>
          <p:sp>
            <p:nvSpPr>
              <p:cNvPr id="889" name="圆角矩形 48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矩形 49"/>
              <p:cNvSpPr/>
              <p:nvPr/>
            </p:nvSpPr>
            <p:spPr>
              <a:xfrm>
                <a:off x="545436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矩形 50"/>
              <p:cNvSpPr/>
              <p:nvPr/>
            </p:nvSpPr>
            <p:spPr>
              <a:xfrm>
                <a:off x="536400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2" name="（1绪论）TextBox 72"/>
            <p:cNvSpPr/>
            <p:nvPr/>
          </p:nvSpPr>
          <p:spPr>
            <a:xfrm>
              <a:off x="5364000" y="11628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3" name="（左·遮盖）弧形 71"/>
          <p:cNvSpPr/>
          <p:nvPr/>
        </p:nvSpPr>
        <p:spPr>
          <a:xfrm>
            <a:off x="7091280" y="11592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（左·遮盖）直接连接符 74"/>
          <p:cNvSpPr/>
          <p:nvPr/>
        </p:nvSpPr>
        <p:spPr>
          <a:xfrm flipH="1">
            <a:off x="7090920" y="216000"/>
            <a:ext cx="180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（右·遮盖）弧形 78"/>
          <p:cNvSpPr/>
          <p:nvPr/>
        </p:nvSpPr>
        <p:spPr>
          <a:xfrm rot="5400000">
            <a:off x="849528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（右·遮盖）直接连接符 79"/>
          <p:cNvSpPr/>
          <p:nvPr/>
        </p:nvSpPr>
        <p:spPr>
          <a:xfrm>
            <a:off x="867564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（上·遮盖）直接连接符 84"/>
          <p:cNvSpPr/>
          <p:nvPr/>
        </p:nvSpPr>
        <p:spPr>
          <a:xfrm>
            <a:off x="717552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（左·遮盖）弧形 71"/>
          <p:cNvSpPr/>
          <p:nvPr/>
        </p:nvSpPr>
        <p:spPr>
          <a:xfrm>
            <a:off x="5435640" y="11592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（左·遮盖）直接连接符 74"/>
          <p:cNvSpPr/>
          <p:nvPr/>
        </p:nvSpPr>
        <p:spPr>
          <a:xfrm>
            <a:off x="54324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（右·遮盖）弧形 78"/>
          <p:cNvSpPr/>
          <p:nvPr/>
        </p:nvSpPr>
        <p:spPr>
          <a:xfrm rot="5400000">
            <a:off x="6839280" y="116280"/>
            <a:ext cx="181080" cy="17964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（右·遮盖）直接连接符 79"/>
          <p:cNvSpPr/>
          <p:nvPr/>
        </p:nvSpPr>
        <p:spPr>
          <a:xfrm>
            <a:off x="7020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（上·遮盖）直接连接符 84"/>
          <p:cNvSpPr/>
          <p:nvPr/>
        </p:nvSpPr>
        <p:spPr>
          <a:xfrm>
            <a:off x="551988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（小方框遮罩层）矩形 52"/>
          <p:cNvSpPr/>
          <p:nvPr/>
        </p:nvSpPr>
        <p:spPr>
          <a:xfrm>
            <a:off x="5457960" y="511200"/>
            <a:ext cx="154764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4" name="组合 92"/>
          <p:cNvGrpSpPr/>
          <p:nvPr/>
        </p:nvGrpSpPr>
        <p:grpSpPr>
          <a:xfrm>
            <a:off x="-101520" y="122760"/>
            <a:ext cx="2305440" cy="2304720"/>
            <a:chOff x="-101520" y="122760"/>
            <a:chExt cx="2305440" cy="2304720"/>
          </a:xfrm>
        </p:grpSpPr>
        <p:sp>
          <p:nvSpPr>
            <p:cNvPr id="905" name="矩形 88"/>
            <p:cNvSpPr/>
            <p:nvPr/>
          </p:nvSpPr>
          <p:spPr>
            <a:xfrm rot="18900000">
              <a:off x="331200" y="970200"/>
              <a:ext cx="1440000" cy="610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书馆反馈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直角三角形 89"/>
            <p:cNvSpPr/>
            <p:nvPr/>
          </p:nvSpPr>
          <p:spPr>
            <a:xfrm rot="18900000">
              <a:off x="1464840" y="249480"/>
              <a:ext cx="612720" cy="6109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直角三角形 90"/>
            <p:cNvSpPr/>
            <p:nvPr/>
          </p:nvSpPr>
          <p:spPr>
            <a:xfrm rot="13500000">
              <a:off x="25560" y="1688400"/>
              <a:ext cx="61092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8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909" name="矩形 97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善建议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直角三角形 98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直角三角形 99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2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fill="hold">
                      <p:stCondLst>
                        <p:cond delay="0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0" fill="hold">
                            <p:stCondLst>
                              <p:cond delay="1"/>
                            </p:stCondLst>
                            <p:childTnLst>
                              <p:par>
                                <p:cTn id="1811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12" dur="1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1"/>
                            </p:stCondLst>
                            <p:childTnLst>
                              <p:par>
                                <p:cTn id="1815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16" dur="5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151"/>
                            </p:stCondLst>
                            <p:childTnLst>
                              <p:par>
                                <p:cTn id="1819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20" dur="2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351"/>
                            </p:stCondLst>
                            <p:childTnLst>
                              <p:par>
                                <p:cTn id="1823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24" dur="5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401"/>
                            </p:stCondLst>
                            <p:childTnLst>
                              <p:par>
                                <p:cTn id="1827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28" dur="1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501"/>
                            </p:stCondLst>
                            <p:childTnLst>
                              <p:par>
                                <p:cTn id="183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2" dur="2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701"/>
                            </p:stCondLst>
                            <p:childTnLst>
                              <p:par>
                                <p:cTn id="18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7" dur="2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901"/>
                            </p:stCondLst>
                            <p:childTnLst>
                              <p:par>
                                <p:cTn id="183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1" dur="1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5" dur="5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051"/>
                            </p:stCondLst>
                            <p:childTnLst>
                              <p:par>
                                <p:cTn id="184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9" dur="2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fill="hold">
                            <p:stCondLst>
                              <p:cond delay="1251"/>
                            </p:stCondLst>
                            <p:childTnLst>
                              <p:par>
                                <p:cTn id="18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3" dur="5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1301"/>
                            </p:stCondLst>
                            <p:childTnLst>
                              <p:par>
                                <p:cTn id="18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7" dur="2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1501"/>
                            </p:stCondLst>
                            <p:childTnLst>
                              <p:par>
                                <p:cTn id="185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1502"/>
                            </p:stCondLst>
                            <p:childTnLst>
                              <p:par>
                                <p:cTn id="186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1503"/>
                            </p:stCondLst>
                            <p:childTnLst>
                              <p:par>
                                <p:cTn id="186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1504"/>
                            </p:stCondLst>
                            <p:childTnLst>
                              <p:par>
                                <p:cTn id="186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1505"/>
                            </p:stCondLst>
                            <p:childTnLst>
                              <p:par>
                                <p:cTn id="187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3" fill="hold">
                            <p:stCondLst>
                              <p:cond delay="1506"/>
                            </p:stCondLst>
                            <p:childTnLst>
                              <p:par>
                                <p:cTn id="18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7" dur="2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8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9" dur="2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2106"/>
                            </p:stCondLst>
                            <p:childTnLst>
                              <p:par>
                                <p:cTn id="18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3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2606"/>
                            </p:stCondLst>
                            <p:childTnLst>
                              <p:par>
                                <p:cTn id="1885" dur="indefinite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fill="hold">
                            <p:stCondLst>
                              <p:cond delay="3206"/>
                            </p:stCondLst>
                            <p:childTnLst>
                              <p:par>
                                <p:cTn id="18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3706"/>
                            </p:stCondLst>
                            <p:childTnLst>
                              <p:par>
                                <p:cTn id="18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4206"/>
                            </p:stCondLst>
                            <p:childTnLst>
                              <p:par>
                                <p:cTn id="19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500"/>
                            </p:stCondLst>
                            <p:childTnLst>
                              <p:par>
                                <p:cTn id="19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3" dur="5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5" dur="5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7" dur="5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9" dur="5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1" dur="5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3" dur="500" fill="hold"/>
                                        <p:tgtEl>
                                          <p:spTgt spid="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5" dur="5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7" dur="500" fill="hold"/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9" dur="500" fill="hold"/>
                                        <p:tgtEl>
                                          <p:spTgt spid="8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1" dur="500" fill="hold"/>
                                        <p:tgtEl>
                                          <p:spTgt spid="8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3" dur="5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5" dur="500" fill="hold"/>
                                        <p:tgtEl>
                                          <p:spTgt spid="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7" dur="5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9" dur="5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51" dur="500" fill="hold"/>
                                        <p:tgtEl>
                                          <p:spTgt spid="8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53" dur="500" fill="hold"/>
                                        <p:tgtEl>
                                          <p:spTgt spid="8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Freeform 8"/>
          <p:cNvSpPr/>
          <p:nvPr/>
        </p:nvSpPr>
        <p:spPr>
          <a:xfrm>
            <a:off x="2987640" y="3139920"/>
            <a:ext cx="3168720" cy="360360"/>
          </a:xfrm>
          <a:custGeom>
            <a:avLst/>
            <a:gdLst/>
            <a:ahLst/>
            <a:rect l="l" t="t" r="r" b="b"/>
            <a:pathLst>
              <a:path w="1996" h="272">
                <a:moveTo>
                  <a:pt x="0" y="0"/>
                </a:moveTo>
                <a:lnTo>
                  <a:pt x="998" y="0"/>
                </a:lnTo>
                <a:lnTo>
                  <a:pt x="1134" y="91"/>
                </a:lnTo>
                <a:lnTo>
                  <a:pt x="1996" y="91"/>
                </a:lnTo>
                <a:lnTo>
                  <a:pt x="1996" y="272"/>
                </a:lnTo>
                <a:lnTo>
                  <a:pt x="0" y="272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Freeform 11"/>
          <p:cNvSpPr/>
          <p:nvPr/>
        </p:nvSpPr>
        <p:spPr>
          <a:xfrm>
            <a:off x="2987640" y="3116160"/>
            <a:ext cx="3168720" cy="360360"/>
          </a:xfrm>
          <a:custGeom>
            <a:avLst/>
            <a:gdLst/>
            <a:ahLst/>
            <a:rect l="l" t="t" r="r" b="b"/>
            <a:pathLst>
              <a:path w="1996" h="272">
                <a:moveTo>
                  <a:pt x="0" y="0"/>
                </a:moveTo>
                <a:lnTo>
                  <a:pt x="998" y="0"/>
                </a:lnTo>
                <a:lnTo>
                  <a:pt x="1134" y="91"/>
                </a:lnTo>
                <a:lnTo>
                  <a:pt x="1996" y="91"/>
                </a:lnTo>
                <a:lnTo>
                  <a:pt x="1996" y="272"/>
                </a:lnTo>
                <a:lnTo>
                  <a:pt x="0" y="272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Rectangle 23"/>
          <p:cNvSpPr/>
          <p:nvPr/>
        </p:nvSpPr>
        <p:spPr>
          <a:xfrm>
            <a:off x="4572000" y="0"/>
            <a:ext cx="4608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24"/>
          <p:cNvSpPr/>
          <p:nvPr/>
        </p:nvSpPr>
        <p:spPr>
          <a:xfrm>
            <a:off x="4535640" y="0"/>
            <a:ext cx="4572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0" y="3139920"/>
            <a:ext cx="9144000" cy="360"/>
            <a:chOff x="0" y="3139920"/>
            <a:chExt cx="9144000" cy="360"/>
          </a:xfrm>
        </p:grpSpPr>
        <p:sp>
          <p:nvSpPr>
            <p:cNvPr id="918" name="Line 25"/>
            <p:cNvSpPr/>
            <p:nvPr/>
          </p:nvSpPr>
          <p:spPr>
            <a:xfrm>
              <a:off x="0" y="3139920"/>
              <a:ext cx="9144000" cy="0"/>
            </a:xfrm>
            <a:prstGeom prst="line">
              <a:avLst/>
            </a:prstGeom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"/>
            <p:cNvSpPr txBox="1"/>
            <p:nvPr/>
          </p:nvSpPr>
          <p:spPr>
            <a:xfrm>
              <a:off x="0" y="31399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0" y="3500280"/>
            <a:ext cx="9144000" cy="360"/>
            <a:chOff x="0" y="3500280"/>
            <a:chExt cx="9144000" cy="360"/>
          </a:xfrm>
        </p:grpSpPr>
        <p:sp>
          <p:nvSpPr>
            <p:cNvPr id="921" name="Line 26"/>
            <p:cNvSpPr/>
            <p:nvPr/>
          </p:nvSpPr>
          <p:spPr>
            <a:xfrm>
              <a:off x="0" y="3500280"/>
              <a:ext cx="9144000" cy="0"/>
            </a:xfrm>
            <a:prstGeom prst="line">
              <a:avLst/>
            </a:prstGeom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"/>
            <p:cNvSpPr txBox="1"/>
            <p:nvPr/>
          </p:nvSpPr>
          <p:spPr>
            <a:xfrm>
              <a:off x="0" y="35002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3" name="Group 27"/>
          <p:cNvGrpSpPr/>
          <p:nvPr/>
        </p:nvGrpSpPr>
        <p:grpSpPr>
          <a:xfrm>
            <a:off x="3203640" y="3257640"/>
            <a:ext cx="2856960" cy="198360"/>
            <a:chOff x="3203640" y="3257640"/>
            <a:chExt cx="2856960" cy="198360"/>
          </a:xfrm>
        </p:grpSpPr>
        <p:sp>
          <p:nvSpPr>
            <p:cNvPr id="924" name="WordArt 28"/>
            <p:cNvSpPr txBox="1"/>
            <p:nvPr/>
          </p:nvSpPr>
          <p:spPr>
            <a:xfrm>
              <a:off x="3203640" y="3257640"/>
              <a:ext cx="1368000" cy="19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0070c0"/>
                  </a:solidFill>
                  <a:latin typeface="宋体"/>
                </a:rPr>
                <a:t>THANKS</a:t>
              </a:r>
              <a:endParaRPr b="0" lang="en-US" sz="1800" spc="-1" strike="noStrike">
                <a:ln w="0">
                  <a:noFill/>
                </a:ln>
                <a:solidFill>
                  <a:srgbClr val="0070c0"/>
                </a:solidFill>
                <a:latin typeface="宋体"/>
                <a:ea typeface="宋体"/>
              </a:endParaRPr>
            </a:p>
          </p:txBody>
        </p:sp>
        <p:sp>
          <p:nvSpPr>
            <p:cNvPr id="925" name="WordArt 29"/>
            <p:cNvSpPr txBox="1"/>
            <p:nvPr/>
          </p:nvSpPr>
          <p:spPr>
            <a:xfrm>
              <a:off x="4654440" y="3275640"/>
              <a:ext cx="1406160" cy="18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ln w="0">
                    <a:noFill/>
                  </a:ln>
                  <a:solidFill>
                    <a:srgbClr val="0070c0"/>
                  </a:solidFill>
                  <a:latin typeface="Dotum"/>
                </a:rPr>
                <a:t>for your time</a:t>
              </a:r>
              <a:endParaRPr b="0" i="1" lang="en-US" sz="1800" spc="-1" strike="noStrike">
                <a:ln w="0">
                  <a:noFill/>
                </a:ln>
                <a:solidFill>
                  <a:srgbClr val="0070c0"/>
                </a:solidFill>
                <a:latin typeface="Dotum"/>
                <a:ea typeface="Dotum"/>
              </a:endParaRPr>
            </a:p>
          </p:txBody>
        </p:sp>
      </p:grpSp>
      <p:sp>
        <p:nvSpPr>
          <p:cNvPr id="926" name="AutoShape 30"/>
          <p:cNvSpPr/>
          <p:nvPr/>
        </p:nvSpPr>
        <p:spPr>
          <a:xfrm>
            <a:off x="2900520" y="3213000"/>
            <a:ext cx="552240" cy="459000"/>
          </a:xfrm>
          <a:custGeom>
            <a:avLst/>
            <a:gdLst>
              <a:gd name="textAreaLeft" fmla="*/ 190080 w 552240"/>
              <a:gd name="textAreaRight" fmla="*/ 362160 w 552240"/>
              <a:gd name="textAreaTop" fmla="*/ 158040 h 459000"/>
              <a:gd name="textAreaBottom" fmla="*/ 300960 h 45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125" y="11709"/>
                </a:lnTo>
                <a:lnTo>
                  <a:pt x="786" y="14846"/>
                </a:lnTo>
                <a:lnTo>
                  <a:pt x="6806" y="13394"/>
                </a:lnTo>
                <a:lnTo>
                  <a:pt x="3163" y="18437"/>
                </a:lnTo>
                <a:lnTo>
                  <a:pt x="8137" y="14748"/>
                </a:lnTo>
                <a:lnTo>
                  <a:pt x="6580" y="20741"/>
                </a:lnTo>
                <a:lnTo>
                  <a:pt x="9810" y="15458"/>
                </a:lnTo>
                <a:lnTo>
                  <a:pt x="10800" y="21600"/>
                </a:lnTo>
                <a:lnTo>
                  <a:pt x="11709" y="15475"/>
                </a:lnTo>
                <a:lnTo>
                  <a:pt x="14846" y="20814"/>
                </a:lnTo>
                <a:lnTo>
                  <a:pt x="13394" y="14794"/>
                </a:lnTo>
                <a:lnTo>
                  <a:pt x="18437" y="18437"/>
                </a:lnTo>
                <a:lnTo>
                  <a:pt x="14748" y="13463"/>
                </a:lnTo>
                <a:lnTo>
                  <a:pt x="20741" y="15020"/>
                </a:lnTo>
                <a:lnTo>
                  <a:pt x="15458" y="11790"/>
                </a:lnTo>
                <a:lnTo>
                  <a:pt x="21600" y="10800"/>
                </a:lnTo>
                <a:lnTo>
                  <a:pt x="15475" y="9891"/>
                </a:lnTo>
                <a:lnTo>
                  <a:pt x="20814" y="6754"/>
                </a:lnTo>
                <a:lnTo>
                  <a:pt x="14794" y="8206"/>
                </a:lnTo>
                <a:lnTo>
                  <a:pt x="18437" y="3163"/>
                </a:lnTo>
                <a:lnTo>
                  <a:pt x="13463" y="6852"/>
                </a:lnTo>
                <a:lnTo>
                  <a:pt x="15020" y="859"/>
                </a:lnTo>
                <a:lnTo>
                  <a:pt x="11790" y="6142"/>
                </a:lnTo>
                <a:lnTo>
                  <a:pt x="10800" y="0"/>
                </a:lnTo>
                <a:lnTo>
                  <a:pt x="9891" y="6125"/>
                </a:lnTo>
                <a:lnTo>
                  <a:pt x="6754" y="786"/>
                </a:lnTo>
                <a:lnTo>
                  <a:pt x="8206" y="6806"/>
                </a:lnTo>
                <a:lnTo>
                  <a:pt x="3163" y="3163"/>
                </a:lnTo>
                <a:lnTo>
                  <a:pt x="6852" y="8137"/>
                </a:lnTo>
                <a:lnTo>
                  <a:pt x="859" y="6580"/>
                </a:lnTo>
                <a:lnTo>
                  <a:pt x="6142" y="9810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AutoShape 31"/>
          <p:cNvSpPr/>
          <p:nvPr/>
        </p:nvSpPr>
        <p:spPr>
          <a:xfrm>
            <a:off x="2776680" y="3125880"/>
            <a:ext cx="792000" cy="636480"/>
          </a:xfrm>
          <a:custGeom>
            <a:avLst/>
            <a:gdLst>
              <a:gd name="textAreaLeft" fmla="*/ 365760 w 792000"/>
              <a:gd name="textAreaRight" fmla="*/ 426240 w 792000"/>
              <a:gd name="textAreaTop" fmla="*/ 294120 h 636480"/>
              <a:gd name="textAreaBottom" fmla="*/ 342360 h 63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AutoShape 32"/>
          <p:cNvSpPr/>
          <p:nvPr/>
        </p:nvSpPr>
        <p:spPr>
          <a:xfrm rot="18909000">
            <a:off x="2682720" y="3060360"/>
            <a:ext cx="981360" cy="787320"/>
          </a:xfrm>
          <a:custGeom>
            <a:avLst/>
            <a:gdLst>
              <a:gd name="textAreaLeft" fmla="*/ 453240 w 981360"/>
              <a:gd name="textAreaRight" fmla="*/ 528120 w 981360"/>
              <a:gd name="textAreaTop" fmla="*/ 363600 h 787320"/>
              <a:gd name="textAreaBottom" fmla="*/ 423720 h 78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2987280" y="0"/>
            <a:ext cx="360" cy="6858000"/>
            <a:chOff x="2987280" y="0"/>
            <a:chExt cx="360" cy="6858000"/>
          </a:xfrm>
        </p:grpSpPr>
        <p:sp>
          <p:nvSpPr>
            <p:cNvPr id="930" name="Line 33"/>
            <p:cNvSpPr/>
            <p:nvPr/>
          </p:nvSpPr>
          <p:spPr>
            <a:xfrm flipV="1">
              <a:off x="2987640" y="0"/>
              <a:ext cx="0" cy="6858000"/>
            </a:xfrm>
            <a:prstGeom prst="line">
              <a:avLst/>
            </a:prstGeom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"/>
            <p:cNvSpPr txBox="1"/>
            <p:nvPr/>
          </p:nvSpPr>
          <p:spPr>
            <a:xfrm rot="10800000">
              <a:off x="29872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6156000" y="0"/>
            <a:ext cx="360" cy="6858000"/>
            <a:chOff x="6156000" y="0"/>
            <a:chExt cx="360" cy="6858000"/>
          </a:xfrm>
        </p:grpSpPr>
        <p:sp>
          <p:nvSpPr>
            <p:cNvPr id="933" name="Line 34"/>
            <p:cNvSpPr/>
            <p:nvPr/>
          </p:nvSpPr>
          <p:spPr>
            <a:xfrm flipV="1">
              <a:off x="6156360" y="0"/>
              <a:ext cx="0" cy="6858000"/>
            </a:xfrm>
            <a:prstGeom prst="line">
              <a:avLst/>
            </a:prstGeom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"/>
            <p:cNvSpPr txBox="1"/>
            <p:nvPr/>
          </p:nvSpPr>
          <p:spPr>
            <a:xfrm rot="10800000">
              <a:off x="61560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5" name="AutoShape 35"/>
          <p:cNvSpPr/>
          <p:nvPr/>
        </p:nvSpPr>
        <p:spPr>
          <a:xfrm flipH="1">
            <a:off x="5689440" y="3168720"/>
            <a:ext cx="758880" cy="609480"/>
          </a:xfrm>
          <a:custGeom>
            <a:avLst/>
            <a:gdLst>
              <a:gd name="textAreaLeft" fmla="*/ 349920 w 758880"/>
              <a:gd name="textAreaRight" fmla="*/ 408960 w 758880"/>
              <a:gd name="textAreaTop" fmla="*/ 281160 h 609480"/>
              <a:gd name="textAreaBottom" fmla="*/ 3283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1" y="9961"/>
                </a:lnTo>
                <a:lnTo>
                  <a:pt x="10800" y="0"/>
                </a:lnTo>
                <a:lnTo>
                  <a:pt x="11639" y="9961"/>
                </a:lnTo>
                <a:lnTo>
                  <a:pt x="21600" y="10800"/>
                </a:lnTo>
                <a:lnTo>
                  <a:pt x="11639" y="11639"/>
                </a:lnTo>
                <a:lnTo>
                  <a:pt x="10800" y="21600"/>
                </a:lnTo>
                <a:lnTo>
                  <a:pt x="9961" y="11639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AutoShape 36"/>
          <p:cNvSpPr/>
          <p:nvPr/>
        </p:nvSpPr>
        <p:spPr>
          <a:xfrm flipV="1" rot="18909600">
            <a:off x="5757480" y="3211560"/>
            <a:ext cx="625320" cy="503280"/>
          </a:xfrm>
          <a:custGeom>
            <a:avLst/>
            <a:gdLst>
              <a:gd name="textAreaLeft" fmla="*/ 288360 w 625320"/>
              <a:gd name="textAreaRight" fmla="*/ 336960 w 625320"/>
              <a:gd name="textAreaTop" fmla="*/ 232200 h 503280"/>
              <a:gd name="textAreaBottom" fmla="*/ 2710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7" y="9967"/>
                </a:lnTo>
                <a:lnTo>
                  <a:pt x="10800" y="0"/>
                </a:lnTo>
                <a:lnTo>
                  <a:pt x="11633" y="9967"/>
                </a:lnTo>
                <a:lnTo>
                  <a:pt x="21600" y="10800"/>
                </a:lnTo>
                <a:lnTo>
                  <a:pt x="11633" y="11633"/>
                </a:lnTo>
                <a:lnTo>
                  <a:pt x="10800" y="21600"/>
                </a:lnTo>
                <a:lnTo>
                  <a:pt x="9967" y="11633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4" dur="indefinite" restart="never" nodeType="tmRoot">
          <p:childTnLst>
            <p:seq>
              <p:cTn id="1955" dur="indefinite" nodeType="mainSeq">
                <p:childTnLst>
                  <p:par>
                    <p:cTn id="1956" fill="hold">
                      <p:stCondLst>
                        <p:cond delay="0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dur="indefinite" nodeType="afterEffect" fill="hold" presetClass="entr" presetID="16" presetSubtype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60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dur="indefinite" nodeType="withEffect" fill="hold" presetClass="entr" presetID="16" presetSubtype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63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100"/>
                            </p:stCondLst>
                            <p:childTnLst>
                              <p:par>
                                <p:cTn id="1965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6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0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5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6" fill="hold">
                            <p:stCondLst>
                              <p:cond delay="2100"/>
                            </p:stCondLst>
                            <p:childTnLst>
                              <p:par>
                                <p:cTn id="19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2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2600"/>
                            </p:stCondLst>
                            <p:childTnLst>
                              <p:par>
                                <p:cTn id="199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99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6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97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dur="indefinite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0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dur="indefinite" nodeType="withEffect" fill="hold" presetClass="entr" presetID="16" presetSubtype="2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7" dur="6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8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2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7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2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3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4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6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7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151 0 E">
                                      <p:cBhvr>
                                        <p:cTn id="2030" dur="3000" fill="hold"/>
                                        <p:tgtEl>
                                          <p:spTgt spid="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1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151 0 E">
                                      <p:cBhvr>
                                        <p:cTn id="2032" dur="3000" fill="hold"/>
                                        <p:tgtEl>
                                          <p:spTgt spid="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3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151 0 E">
                                      <p:cBhvr>
                                        <p:cTn id="2034" dur="3000" fill="hold"/>
                                        <p:tgtEl>
                                          <p:spTgt spid="9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5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1600000">
                                      <p:cBhvr>
                                        <p:cTn id="2036" dur="5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038" dur="5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9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1600000">
                                      <p:cBhvr>
                                        <p:cTn id="2040" dur="5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1" dur="indefinite" nodeType="withEffect" fill="hold" presetClass="exit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2" dur="2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2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4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6" dur="indefinite" nodeType="withEffect" fill="hold" presetClass="exit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7" dur="20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20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9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1" dur="indefinite" nodeType="withEffect" fill="hold" presetClass="exit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2" dur="20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20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4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6" dur="indefinite" nodeType="withEffect" fill="hold" presetClass="entr" presetID="53" presetSubtype="16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1" dur="indefinite" nodeType="withEffect" fill="hold" presetClass="entr" presetID="53" presetSubtype="16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dur="indefinite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10800000">
                                      <p:cBhvr>
                                        <p:cTn id="2067" dur="2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8" dur="indefinite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-10800000">
                                      <p:cBhvr>
                                        <p:cTn id="2069" dur="2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0" dur="indefinite" nodeType="withEffect" fill="hold" presetClass="exit" presetID="53" presetSubtype="16">
                                  <p:stCondLst>
                                    <p:cond delay="4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1" dur="3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3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3" dur="3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dur="indefinite" nodeType="withEffect" fill="hold" presetClass="exit" presetID="53" presetSubtype="16">
                                  <p:stCondLst>
                                    <p:cond delay="4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6" dur="3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3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8" dur="3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（左下左）圆角矩形 16"/>
          <p:cNvSpPr/>
          <p:nvPr/>
        </p:nvSpPr>
        <p:spPr>
          <a:xfrm>
            <a:off x="755640" y="443700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（左下右）圆角矩形 18"/>
          <p:cNvSpPr/>
          <p:nvPr/>
        </p:nvSpPr>
        <p:spPr>
          <a:xfrm>
            <a:off x="1619280" y="537372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（右上左）圆角矩形 19"/>
          <p:cNvSpPr/>
          <p:nvPr/>
        </p:nvSpPr>
        <p:spPr>
          <a:xfrm>
            <a:off x="5003640" y="836640"/>
            <a:ext cx="1800360" cy="115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（右上右）圆角矩形 20"/>
          <p:cNvSpPr/>
          <p:nvPr/>
        </p:nvSpPr>
        <p:spPr>
          <a:xfrm>
            <a:off x="6588000" y="33336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21"/>
          <p:cNvSpPr/>
          <p:nvPr/>
        </p:nvSpPr>
        <p:spPr>
          <a:xfrm>
            <a:off x="1042920" y="5661000"/>
            <a:ext cx="50472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22"/>
          <p:cNvSpPr/>
          <p:nvPr/>
        </p:nvSpPr>
        <p:spPr>
          <a:xfrm>
            <a:off x="900000" y="5805360"/>
            <a:ext cx="503280" cy="28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4"/>
          <p:cNvSpPr/>
          <p:nvPr/>
        </p:nvSpPr>
        <p:spPr>
          <a:xfrm>
            <a:off x="2627280" y="4941720"/>
            <a:ext cx="360360" cy="3589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25"/>
          <p:cNvSpPr/>
          <p:nvPr/>
        </p:nvSpPr>
        <p:spPr>
          <a:xfrm>
            <a:off x="2771640" y="4691160"/>
            <a:ext cx="216000" cy="215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26"/>
          <p:cNvSpPr/>
          <p:nvPr/>
        </p:nvSpPr>
        <p:spPr>
          <a:xfrm>
            <a:off x="3024360" y="4941720"/>
            <a:ext cx="215640" cy="2145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27"/>
          <p:cNvSpPr/>
          <p:nvPr/>
        </p:nvSpPr>
        <p:spPr>
          <a:xfrm>
            <a:off x="3024360" y="4799160"/>
            <a:ext cx="107640" cy="10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28"/>
          <p:cNvSpPr/>
          <p:nvPr/>
        </p:nvSpPr>
        <p:spPr>
          <a:xfrm>
            <a:off x="3168720" y="4805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29"/>
          <p:cNvSpPr/>
          <p:nvPr/>
        </p:nvSpPr>
        <p:spPr>
          <a:xfrm>
            <a:off x="3078000" y="471636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30"/>
          <p:cNvSpPr/>
          <p:nvPr/>
        </p:nvSpPr>
        <p:spPr>
          <a:xfrm>
            <a:off x="3168720" y="4653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32"/>
          <p:cNvSpPr/>
          <p:nvPr/>
        </p:nvSpPr>
        <p:spPr>
          <a:xfrm rot="5400000">
            <a:off x="6876000" y="1556640"/>
            <a:ext cx="358920" cy="3603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33"/>
          <p:cNvSpPr/>
          <p:nvPr/>
        </p:nvSpPr>
        <p:spPr>
          <a:xfrm rot="5400000">
            <a:off x="7273080" y="1701000"/>
            <a:ext cx="21456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34"/>
          <p:cNvSpPr/>
          <p:nvPr/>
        </p:nvSpPr>
        <p:spPr>
          <a:xfrm rot="5400000">
            <a:off x="7021440" y="1952640"/>
            <a:ext cx="21600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35"/>
          <p:cNvSpPr/>
          <p:nvPr/>
        </p:nvSpPr>
        <p:spPr>
          <a:xfrm rot="5400000">
            <a:off x="7272360" y="195264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36"/>
          <p:cNvSpPr/>
          <p:nvPr/>
        </p:nvSpPr>
        <p:spPr>
          <a:xfrm rot="5400000">
            <a:off x="731844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37"/>
          <p:cNvSpPr/>
          <p:nvPr/>
        </p:nvSpPr>
        <p:spPr>
          <a:xfrm rot="5400000">
            <a:off x="7408800" y="200664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38"/>
          <p:cNvSpPr/>
          <p:nvPr/>
        </p:nvSpPr>
        <p:spPr>
          <a:xfrm rot="5400000">
            <a:off x="740880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6012000" y="476280"/>
            <a:ext cx="504720" cy="2887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40"/>
          <p:cNvSpPr/>
          <p:nvPr/>
        </p:nvSpPr>
        <p:spPr>
          <a:xfrm>
            <a:off x="5867280" y="333360"/>
            <a:ext cx="50508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（中·遮盖层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矩形 111" descr=""/>
          <p:cNvPicPr/>
          <p:nvPr/>
        </p:nvPicPr>
        <p:blipFill>
          <a:blip r:embed="rId1"/>
          <a:stretch/>
        </p:blipFill>
        <p:spPr>
          <a:xfrm>
            <a:off x="533520" y="3143160"/>
            <a:ext cx="8035920" cy="893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2"/>
          <p:cNvSpPr/>
          <p:nvPr/>
        </p:nvSpPr>
        <p:spPr>
          <a:xfrm>
            <a:off x="6229440" y="4006800"/>
            <a:ext cx="2663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指导老师：</a:t>
            </a: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学生姓名：雅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专    业：工业工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130"/>
          <p:cNvGrpSpPr/>
          <p:nvPr/>
        </p:nvGrpSpPr>
        <p:grpSpPr>
          <a:xfrm>
            <a:off x="-4932360" y="2781360"/>
            <a:ext cx="4896360" cy="1295280"/>
            <a:chOff x="-4932360" y="2781360"/>
            <a:chExt cx="4896360" cy="1295280"/>
          </a:xfrm>
        </p:grpSpPr>
        <p:sp>
          <p:nvSpPr>
            <p:cNvPr id="124" name="矩形 122"/>
            <p:cNvSpPr/>
            <p:nvPr/>
          </p:nvSpPr>
          <p:spPr>
            <a:xfrm>
              <a:off x="-4932360" y="2781360"/>
              <a:ext cx="487872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直接连接符 126"/>
            <p:cNvSpPr/>
            <p:nvPr/>
          </p:nvSpPr>
          <p:spPr>
            <a:xfrm>
              <a:off x="-3600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组合 131"/>
          <p:cNvGrpSpPr/>
          <p:nvPr/>
        </p:nvGrpSpPr>
        <p:grpSpPr>
          <a:xfrm>
            <a:off x="9180360" y="2781360"/>
            <a:ext cx="4892760" cy="1295280"/>
            <a:chOff x="9180360" y="2781360"/>
            <a:chExt cx="4892760" cy="1295280"/>
          </a:xfrm>
        </p:grpSpPr>
        <p:sp>
          <p:nvSpPr>
            <p:cNvPr id="127" name="矩形 125"/>
            <p:cNvSpPr/>
            <p:nvPr/>
          </p:nvSpPr>
          <p:spPr>
            <a:xfrm>
              <a:off x="9194400" y="2781360"/>
              <a:ext cx="487872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直接连接符 127"/>
            <p:cNvSpPr/>
            <p:nvPr/>
          </p:nvSpPr>
          <p:spPr>
            <a:xfrm>
              <a:off x="918036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252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"/>
                            </p:stCondLst>
                            <p:childTnLst>
                              <p:par>
                                <p:cTn id="25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C 0.08368 0 0.39792 0 0.5026 0 E">
                                      <p:cBhvr>
                                        <p:cTn id="256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C -0.0842 -0.00023 -0.40035 -0.00093 -0.50573 -0.00116 E">
                                      <p:cBhvr>
                                        <p:cTn id="258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00"/>
                            </p:stCondLst>
                            <p:childTnLst>
                              <p:par>
                                <p:cTn id="26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01"/>
                            </p:stCondLst>
                            <p:childTnLst>
                              <p:par>
                                <p:cTn id="2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2"/>
                            </p:stCondLst>
                            <p:childTnLst>
                              <p:par>
                                <p:cTn id="26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26 0 C 0.48594 0 0.42378 0 0.40295 0 E">
                                      <p:cBhvr>
                                        <p:cTn id="267" dur="3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573 -0.00116 C -0.48959 -0.00116 -0.42917 -0.00093 -0.40903 -0.00093 E">
                                      <p:cBhvr>
                                        <p:cTn id="269" dur="3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02"/>
                            </p:stCondLst>
                            <p:childTnLst>
                              <p:par>
                                <p:cTn id="27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103"/>
                            </p:stCondLst>
                            <p:childTnLst>
                              <p:par>
                                <p:cTn id="27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674 0.17662 -0.1533 0.35347 -0.18403 0.42407 E">
                                      <p:cBhvr>
                                        <p:cTn id="277" dur="14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674 0.17662 -0.1533 0.35347 -0.18403 0.42407 E">
                                      <p:cBhvr>
                                        <p:cTn id="279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1" dur="9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3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5" dur="14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7" dur="11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9" dur="9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91" dur="12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93" dur="14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295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297" dur="8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299" dur="12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301" dur="6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303" dur="9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305" dur="14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307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 -0.14907 0.3 -0.29815 0.36007 -0.35787 E">
                                      <p:cBhvr>
                                        <p:cTn id="309" dur="9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 -0.14907 0.3 -0.29815 0.36007 -0.35787 E">
                                      <p:cBhvr>
                                        <p:cTn id="311" dur="13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3" dur="1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5" dur="12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1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" dur="1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1" dur="1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" dur="1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" dur="1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9" dur="1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16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3" dur="17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5" dur="1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7" dur="17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9" dur="16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1" dur="1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3" dur="16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5" dur="1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7" dur="17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803"/>
                            </p:stCondLst>
                            <p:childTnLst>
                              <p:par>
                                <p:cTn id="34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23 C 0.03629 -0.06088 0.17465 -0.29074 0.22066 -0.36736 E">
                                      <p:cBhvr>
                                        <p:cTn id="350" dur="2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3"/>
                            </p:stCondLst>
                            <p:childTnLst>
                              <p:par>
                                <p:cTn id="35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4"/>
                            </p:stCondLst>
                            <p:childTnLst>
                              <p:par>
                                <p:cTn id="35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46 C 0.13055 -0.09653 0.26163 -0.19329 0.31406 -0.23195 E">
                                      <p:cBhvr>
                                        <p:cTn id="356" dur="2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204"/>
                            </p:stCondLst>
                            <p:childTnLst>
                              <p:par>
                                <p:cTn id="35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205"/>
                            </p:stCondLst>
                            <p:childTnLst>
                              <p:par>
                                <p:cTn id="36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46 C -0.02483 0.04861 -0.11823 0.23264 -0.14948 0.29398 E">
                                      <p:cBhvr>
                                        <p:cTn id="362" dur="2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405"/>
                            </p:stCondLst>
                            <p:childTnLst>
                              <p:par>
                                <p:cTn id="36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406"/>
                            </p:stCondLst>
                            <p:childTnLst>
                              <p:par>
                                <p:cTn id="36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6 2.59259E-006 C -0.13507 0.15347 -0.26909 0.30717 -0.32309 0.36852 E">
                                      <p:cBhvr>
                                        <p:cTn id="368" dur="2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606"/>
                            </p:stCondLst>
                            <p:childTnLst>
                              <p:par>
                                <p:cTn id="37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607"/>
                            </p:stCondLst>
                            <p:childTnLst>
                              <p:par>
                                <p:cTn id="37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608"/>
                            </p:stCondLst>
                            <p:childTnLst>
                              <p:par>
                                <p:cTn id="39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49"/>
          <p:cNvGrpSpPr/>
          <p:nvPr/>
        </p:nvGrpSpPr>
        <p:grpSpPr>
          <a:xfrm>
            <a:off x="7020000" y="115920"/>
            <a:ext cx="1728720" cy="676080"/>
            <a:chOff x="7020000" y="115920"/>
            <a:chExt cx="1728720" cy="676080"/>
          </a:xfrm>
        </p:grpSpPr>
        <p:sp>
          <p:nvSpPr>
            <p:cNvPr id="130" name="圆角矩形 50"/>
            <p:cNvSpPr/>
            <p:nvPr/>
          </p:nvSpPr>
          <p:spPr>
            <a:xfrm>
              <a:off x="7091280" y="115920"/>
              <a:ext cx="158616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矩形 51"/>
            <p:cNvSpPr/>
            <p:nvPr/>
          </p:nvSpPr>
          <p:spPr>
            <a:xfrm>
              <a:off x="7110360" y="331560"/>
              <a:ext cx="155268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矩形 52"/>
            <p:cNvSpPr/>
            <p:nvPr/>
          </p:nvSpPr>
          <p:spPr>
            <a:xfrm>
              <a:off x="7020000" y="576360"/>
              <a:ext cx="172872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TextBox 79"/>
          <p:cNvSpPr/>
          <p:nvPr/>
        </p:nvSpPr>
        <p:spPr>
          <a:xfrm>
            <a:off x="6983280" y="1159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及反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28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sp>
          <p:nvSpPr>
            <p:cNvPr id="135" name="圆角矩形 29"/>
            <p:cNvSpPr/>
            <p:nvPr/>
          </p:nvSpPr>
          <p:spPr>
            <a:xfrm>
              <a:off x="2124000" y="115920"/>
              <a:ext cx="158472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30"/>
            <p:cNvSpPr/>
            <p:nvPr/>
          </p:nvSpPr>
          <p:spPr>
            <a:xfrm>
              <a:off x="2143080" y="331560"/>
              <a:ext cx="155448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矩形 31"/>
            <p:cNvSpPr/>
            <p:nvPr/>
          </p:nvSpPr>
          <p:spPr>
            <a:xfrm>
              <a:off x="2052720" y="576360"/>
              <a:ext cx="172728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TextBox 71"/>
          <p:cNvSpPr/>
          <p:nvPr/>
        </p:nvSpPr>
        <p:spPr>
          <a:xfrm>
            <a:off x="2124000" y="1159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调查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组合 3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sp>
          <p:nvSpPr>
            <p:cNvPr id="140" name="圆角矩形 33"/>
            <p:cNvSpPr/>
            <p:nvPr/>
          </p:nvSpPr>
          <p:spPr>
            <a:xfrm>
              <a:off x="3779640" y="115920"/>
              <a:ext cx="158472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矩形 34"/>
            <p:cNvSpPr/>
            <p:nvPr/>
          </p:nvSpPr>
          <p:spPr>
            <a:xfrm>
              <a:off x="3798720" y="331560"/>
              <a:ext cx="155124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矩形 35"/>
            <p:cNvSpPr/>
            <p:nvPr/>
          </p:nvSpPr>
          <p:spPr>
            <a:xfrm>
              <a:off x="3708360" y="576360"/>
              <a:ext cx="172728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TextBox 77"/>
          <p:cNvSpPr/>
          <p:nvPr/>
        </p:nvSpPr>
        <p:spPr>
          <a:xfrm>
            <a:off x="3708360" y="1159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统计与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组合 36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sp>
          <p:nvSpPr>
            <p:cNvPr id="145" name="圆角矩形 37"/>
            <p:cNvSpPr/>
            <p:nvPr/>
          </p:nvSpPr>
          <p:spPr>
            <a:xfrm>
              <a:off x="5435280" y="115920"/>
              <a:ext cx="158616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矩形 38"/>
            <p:cNvSpPr/>
            <p:nvPr/>
          </p:nvSpPr>
          <p:spPr>
            <a:xfrm>
              <a:off x="5454360" y="331560"/>
              <a:ext cx="155304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矩形 39"/>
            <p:cNvSpPr/>
            <p:nvPr/>
          </p:nvSpPr>
          <p:spPr>
            <a:xfrm>
              <a:off x="5364000" y="576360"/>
              <a:ext cx="172908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TextBox 78"/>
          <p:cNvSpPr/>
          <p:nvPr/>
        </p:nvSpPr>
        <p:spPr>
          <a:xfrm>
            <a:off x="5435640" y="1159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对比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组合 45"/>
          <p:cNvGrpSpPr/>
          <p:nvPr/>
        </p:nvGrpSpPr>
        <p:grpSpPr>
          <a:xfrm>
            <a:off x="395280" y="115920"/>
            <a:ext cx="1728720" cy="676080"/>
            <a:chOff x="395280" y="115920"/>
            <a:chExt cx="1728720" cy="676080"/>
          </a:xfrm>
        </p:grpSpPr>
        <p:sp>
          <p:nvSpPr>
            <p:cNvPr id="150" name="圆角矩形 46"/>
            <p:cNvSpPr/>
            <p:nvPr/>
          </p:nvSpPr>
          <p:spPr>
            <a:xfrm>
              <a:off x="466560" y="115920"/>
              <a:ext cx="158616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矩形 47"/>
            <p:cNvSpPr/>
            <p:nvPr/>
          </p:nvSpPr>
          <p:spPr>
            <a:xfrm>
              <a:off x="485640" y="331560"/>
              <a:ext cx="154800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矩形 48"/>
            <p:cNvSpPr/>
            <p:nvPr/>
          </p:nvSpPr>
          <p:spPr>
            <a:xfrm>
              <a:off x="395280" y="576360"/>
              <a:ext cx="172872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TextBox 72"/>
          <p:cNvSpPr/>
          <p:nvPr/>
        </p:nvSpPr>
        <p:spPr>
          <a:xfrm>
            <a:off x="557280" y="1159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绪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圆角矩形 88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85"/>
          <p:cNvSpPr/>
          <p:nvPr/>
        </p:nvSpPr>
        <p:spPr>
          <a:xfrm>
            <a:off x="8748720" y="620640"/>
            <a:ext cx="144360" cy="66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86"/>
          <p:cNvSpPr/>
          <p:nvPr/>
        </p:nvSpPr>
        <p:spPr>
          <a:xfrm>
            <a:off x="-252360" y="6237360"/>
            <a:ext cx="9001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87"/>
          <p:cNvSpPr/>
          <p:nvPr/>
        </p:nvSpPr>
        <p:spPr>
          <a:xfrm>
            <a:off x="247680" y="-458640"/>
            <a:ext cx="216000" cy="66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84"/>
          <p:cNvSpPr/>
          <p:nvPr/>
        </p:nvSpPr>
        <p:spPr>
          <a:xfrm>
            <a:off x="449280" y="547560"/>
            <a:ext cx="921708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圆角矩形 49"/>
          <p:cNvSpPr/>
          <p:nvPr/>
        </p:nvSpPr>
        <p:spPr>
          <a:xfrm>
            <a:off x="4498920" y="1096920"/>
            <a:ext cx="352908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绪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圆角矩形 53"/>
          <p:cNvSpPr/>
          <p:nvPr/>
        </p:nvSpPr>
        <p:spPr>
          <a:xfrm>
            <a:off x="4498920" y="2041560"/>
            <a:ext cx="35290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查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圆角矩形 55"/>
          <p:cNvSpPr/>
          <p:nvPr/>
        </p:nvSpPr>
        <p:spPr>
          <a:xfrm>
            <a:off x="4498920" y="2963880"/>
            <a:ext cx="3529080" cy="735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数据统计与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圆角矩形 59"/>
          <p:cNvSpPr/>
          <p:nvPr/>
        </p:nvSpPr>
        <p:spPr>
          <a:xfrm>
            <a:off x="4498920" y="3900600"/>
            <a:ext cx="3529080" cy="73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昌大与交大图书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对比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圆角矩形 63"/>
          <p:cNvSpPr/>
          <p:nvPr/>
        </p:nvSpPr>
        <p:spPr>
          <a:xfrm>
            <a:off x="4498920" y="4803840"/>
            <a:ext cx="3567240" cy="766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改善建议及反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椭圆 71"/>
          <p:cNvSpPr/>
          <p:nvPr/>
        </p:nvSpPr>
        <p:spPr>
          <a:xfrm>
            <a:off x="4354560" y="1052640"/>
            <a:ext cx="360360" cy="3585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椭圆 72"/>
          <p:cNvSpPr/>
          <p:nvPr/>
        </p:nvSpPr>
        <p:spPr>
          <a:xfrm>
            <a:off x="4354560" y="199692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椭圆 73"/>
          <p:cNvSpPr/>
          <p:nvPr/>
        </p:nvSpPr>
        <p:spPr>
          <a:xfrm>
            <a:off x="4354560" y="290664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椭圆 74"/>
          <p:cNvSpPr/>
          <p:nvPr/>
        </p:nvSpPr>
        <p:spPr>
          <a:xfrm>
            <a:off x="4354560" y="386712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椭圆 75"/>
          <p:cNvSpPr/>
          <p:nvPr/>
        </p:nvSpPr>
        <p:spPr>
          <a:xfrm>
            <a:off x="4354560" y="476424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170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（中·遮盖层）圆角矩形 43"/>
          <p:cNvSpPr/>
          <p:nvPr/>
        </p:nvSpPr>
        <p:spPr>
          <a:xfrm>
            <a:off x="154764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56"/>
          <p:cNvSpPr/>
          <p:nvPr/>
        </p:nvSpPr>
        <p:spPr>
          <a:xfrm>
            <a:off x="1547640" y="292428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（中·遮盖层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0 C -0.09532 0 -0.19028 0 -0.2283 0 E">
                                      <p:cBhvr>
                                        <p:cTn id="415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1"/>
                            </p:stCondLst>
                            <p:childTnLst>
                              <p:par>
                                <p:cTn id="4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2"/>
                            </p:stCondLst>
                            <p:childTnLst>
                              <p:par>
                                <p:cTn id="4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2"/>
                            </p:stCondLst>
                            <p:childTnLst>
                              <p:par>
                                <p:cTn id="4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202"/>
                            </p:stCondLst>
                            <p:childTnLst>
                              <p:par>
                                <p:cTn id="443" dur="indefinite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1"/>
                            </p:stCondLst>
                            <p:childTnLst>
                              <p:par>
                                <p:cTn id="4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502"/>
                            </p:stCondLst>
                            <p:childTnLst>
                              <p:par>
                                <p:cTn id="4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2"/>
                            </p:stCondLst>
                            <p:childTnLst>
                              <p:par>
                                <p:cTn id="4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502"/>
                            </p:stCondLst>
                            <p:childTnLst>
                              <p:par>
                                <p:cTn id="4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5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8" dur="3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1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4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7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0" dur="3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3" dur="3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"/>
                            </p:stCondLst>
                            <p:childTnLst>
                              <p:par>
                                <p:cTn id="486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48148E-006 L -0.54723 -0.16366 E">
                                      <p:cBhvr>
                                        <p:cTn id="487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48148E-006 L -0.36598 -0.30162 E">
                                      <p:cBhvr>
                                        <p:cTn id="489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1849 -0.43704 E">
                                      <p:cBhvr>
                                        <p:cTn id="491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22222E-006 L 0.00416 -0.57361 E">
                                      <p:cBhvr>
                                        <p:cTn id="493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022E-016 L 0.17535 -0.70764 E">
                                      <p:cBhvr>
                                        <p:cTn id="495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800"/>
                            </p:stCondLst>
                            <p:childTnLst>
                              <p:par>
                                <p:cTn id="497" dur="indefinite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3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300"/>
                            </p:stCondLst>
                            <p:childTnLst>
                              <p:par>
                                <p:cTn id="54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4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600"/>
                            </p:stCondLst>
                            <p:childTnLst>
                              <p:par>
                                <p:cTn id="547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48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900"/>
                            </p:stCondLst>
                            <p:childTnLst>
                              <p:par>
                                <p:cTn id="551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52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200"/>
                            </p:stCondLst>
                            <p:childTnLst>
                              <p:par>
                                <p:cTn id="555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6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800"/>
                            </p:stCondLst>
                            <p:childTnLst>
                              <p:par>
                                <p:cTn id="5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177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180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181" name="圆角矩形 115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矩形 116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矩形 117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186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187" name="圆角矩形 120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矩形 121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矩形 122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0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192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193" name="圆角矩形 125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矩形 126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矩形 127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6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198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199" name="圆角矩形 49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矩形 50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矩形 51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2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6a6a6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204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205" name="圆角矩形 130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矩形 131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矩形 132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（背景）矩形 57"/>
          <p:cNvSpPr/>
          <p:nvPr/>
        </p:nvSpPr>
        <p:spPr>
          <a:xfrm>
            <a:off x="1476360" y="1197000"/>
            <a:ext cx="61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学图书馆肩负支援教学研究的重大任务，同时作为大学生的第二课堂，对大学生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面拓展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专业技能提升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面素质的培养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起着至关重要的作用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华东交大作为一所以工为主的教学研究型大学。图书馆在推动华东交大“努力打造有竞争力的教学研究型大学”的进程中起着不可替代的作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组合 72"/>
          <p:cNvGrpSpPr/>
          <p:nvPr/>
        </p:nvGrpSpPr>
        <p:grpSpPr>
          <a:xfrm>
            <a:off x="915840" y="981000"/>
            <a:ext cx="5311800" cy="2233800"/>
            <a:chOff x="915840" y="981000"/>
            <a:chExt cx="5311800" cy="2233800"/>
          </a:xfrm>
        </p:grpSpPr>
        <p:sp>
          <p:nvSpPr>
            <p:cNvPr id="212" name="弧形 64"/>
            <p:cNvSpPr/>
            <p:nvPr/>
          </p:nvSpPr>
          <p:spPr>
            <a:xfrm>
              <a:off x="915840" y="2136960"/>
              <a:ext cx="1185840" cy="1076400"/>
            </a:xfrm>
            <a:custGeom>
              <a:avLst/>
              <a:gdLst/>
              <a:ahLst/>
              <a:rect l="l" t="t" r="r" b="b"/>
              <a:pathLst>
                <a:path stroke="0" w="1185862" h="1076650">
                  <a:moveTo>
                    <a:pt x="577967" y="1076478"/>
                  </a:moveTo>
                  <a:cubicBezTo>
                    <a:pt x="257375" y="1069235"/>
                    <a:pt x="-1" y="831068"/>
                    <a:pt x="-1" y="538324"/>
                  </a:cubicBezTo>
                  <a:lnTo>
                    <a:pt x="592931" y="538325"/>
                  </a:lnTo>
                  <a:close/>
                </a:path>
                <a:path fill="none" w="1185862" h="1076650">
                  <a:moveTo>
                    <a:pt x="577967" y="1076478"/>
                  </a:moveTo>
                  <a:cubicBezTo>
                    <a:pt x="257375" y="1069235"/>
                    <a:pt x="-1" y="831068"/>
                    <a:pt x="-1" y="538324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直接连接符 65"/>
            <p:cNvSpPr/>
            <p:nvPr/>
          </p:nvSpPr>
          <p:spPr>
            <a:xfrm>
              <a:off x="915840" y="981000"/>
              <a:ext cx="0" cy="169416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直接连接符 66"/>
            <p:cNvSpPr/>
            <p:nvPr/>
          </p:nvSpPr>
          <p:spPr>
            <a:xfrm>
              <a:off x="1491840" y="3214800"/>
              <a:ext cx="4735800" cy="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（内容·虚线）组合 67"/>
          <p:cNvGrpSpPr/>
          <p:nvPr/>
        </p:nvGrpSpPr>
        <p:grpSpPr>
          <a:xfrm>
            <a:off x="2555640" y="3641760"/>
            <a:ext cx="5616360" cy="2259000"/>
            <a:chOff x="2555640" y="3641760"/>
            <a:chExt cx="5616360" cy="2259000"/>
          </a:xfrm>
        </p:grpSpPr>
        <p:sp>
          <p:nvSpPr>
            <p:cNvPr id="216" name="弧形 68"/>
            <p:cNvSpPr/>
            <p:nvPr/>
          </p:nvSpPr>
          <p:spPr>
            <a:xfrm flipH="1">
              <a:off x="6917760" y="4811760"/>
              <a:ext cx="1253880" cy="1089000"/>
            </a:xfrm>
            <a:custGeom>
              <a:avLst/>
              <a:gdLst/>
              <a:ahLst/>
              <a:rect l="l" t="t" r="r" b="b"/>
              <a:pathLst>
                <a:path stroke="0" w="1089623" h="1089341">
                  <a:moveTo>
                    <a:pt x="529672" y="1089130"/>
                  </a:moveTo>
                  <a:cubicBezTo>
                    <a:pt x="235741" y="1081077"/>
                    <a:pt x="0" y="840397"/>
                    <a:pt x="0" y="544670"/>
                  </a:cubicBezTo>
                  <a:lnTo>
                    <a:pt x="544811" y="544670"/>
                  </a:lnTo>
                  <a:close/>
                </a:path>
                <a:path fill="none" w="1089623" h="1089341">
                  <a:moveTo>
                    <a:pt x="529672" y="1089130"/>
                  </a:moveTo>
                  <a:cubicBezTo>
                    <a:pt x="235741" y="1081077"/>
                    <a:pt x="0" y="840397"/>
                    <a:pt x="0" y="544670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直接连接符 69"/>
            <p:cNvSpPr/>
            <p:nvPr/>
          </p:nvSpPr>
          <p:spPr>
            <a:xfrm>
              <a:off x="8172000" y="3641760"/>
              <a:ext cx="0" cy="171468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直接连接符 70"/>
            <p:cNvSpPr/>
            <p:nvPr/>
          </p:nvSpPr>
          <p:spPr>
            <a:xfrm flipH="1">
              <a:off x="2555640" y="5900760"/>
              <a:ext cx="5006880" cy="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（背景·标题）组合 86"/>
          <p:cNvGrpSpPr/>
          <p:nvPr/>
        </p:nvGrpSpPr>
        <p:grpSpPr>
          <a:xfrm>
            <a:off x="539640" y="837720"/>
            <a:ext cx="855720" cy="456120"/>
            <a:chOff x="539640" y="837720"/>
            <a:chExt cx="855720" cy="456120"/>
          </a:xfrm>
        </p:grpSpPr>
        <p:sp>
          <p:nvSpPr>
            <p:cNvPr id="220" name="Rectangle 8"/>
            <p:cNvSpPr/>
            <p:nvPr/>
          </p:nvSpPr>
          <p:spPr>
            <a:xfrm>
              <a:off x="602640" y="1139400"/>
              <a:ext cx="720720" cy="154440"/>
            </a:xfrm>
            <a:custGeom>
              <a:avLst/>
              <a:gdLst/>
              <a:ahLst/>
              <a:rect l="l" t="t" r="r" b="b"/>
              <a:pathLst>
                <a:path w="3093568" h="271442">
                  <a:moveTo>
                    <a:pt x="0" y="0"/>
                  </a:moveTo>
                  <a:lnTo>
                    <a:pt x="3093568" y="0"/>
                  </a:lnTo>
                  <a:lnTo>
                    <a:pt x="3093568" y="271442"/>
                  </a:lnTo>
                  <a:cubicBezTo>
                    <a:pt x="1777407" y="81360"/>
                    <a:pt x="1788744" y="3494"/>
                    <a:pt x="0" y="27144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矩形 71"/>
            <p:cNvSpPr/>
            <p:nvPr/>
          </p:nvSpPr>
          <p:spPr>
            <a:xfrm>
              <a:off x="539640" y="837720"/>
              <a:ext cx="85572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背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（内容）矩形 73"/>
          <p:cNvSpPr/>
          <p:nvPr/>
        </p:nvSpPr>
        <p:spPr>
          <a:xfrm>
            <a:off x="1258920" y="42465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华东交通大学学生图书馆利用方式，学生对图书改善建议，图书馆利用效果等方面的调查，结合大学生学习心理，对利用方式进行分析。利用横向对比，调查南昌大学，分析交大和南大的差异。并将改善措施提交校图书管理部门，得到反馈建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（方法·方框）圆角矩形 96"/>
          <p:cNvSpPr/>
          <p:nvPr/>
        </p:nvSpPr>
        <p:spPr>
          <a:xfrm>
            <a:off x="2484360" y="3500280"/>
            <a:ext cx="352764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卷调查、访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（内容·标题）组合 97"/>
          <p:cNvGrpSpPr/>
          <p:nvPr/>
        </p:nvGrpSpPr>
        <p:grpSpPr>
          <a:xfrm>
            <a:off x="7748640" y="3358080"/>
            <a:ext cx="855720" cy="455040"/>
            <a:chOff x="7748640" y="3358080"/>
            <a:chExt cx="855720" cy="455040"/>
          </a:xfrm>
        </p:grpSpPr>
        <p:sp>
          <p:nvSpPr>
            <p:cNvPr id="225" name="Rectangle 8"/>
            <p:cNvSpPr/>
            <p:nvPr/>
          </p:nvSpPr>
          <p:spPr>
            <a:xfrm>
              <a:off x="7811640" y="3659400"/>
              <a:ext cx="720720" cy="153720"/>
            </a:xfrm>
            <a:custGeom>
              <a:avLst/>
              <a:gdLst/>
              <a:ahLst/>
              <a:rect l="l" t="t" r="r" b="b"/>
              <a:pathLst>
                <a:path w="3093568" h="271442">
                  <a:moveTo>
                    <a:pt x="0" y="0"/>
                  </a:moveTo>
                  <a:lnTo>
                    <a:pt x="3093568" y="0"/>
                  </a:lnTo>
                  <a:lnTo>
                    <a:pt x="3093568" y="271442"/>
                  </a:lnTo>
                  <a:cubicBezTo>
                    <a:pt x="1777407" y="81360"/>
                    <a:pt x="1788744" y="3494"/>
                    <a:pt x="0" y="27144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矩形 99"/>
            <p:cNvSpPr/>
            <p:nvPr/>
          </p:nvSpPr>
          <p:spPr>
            <a:xfrm>
              <a:off x="7748640" y="3358080"/>
              <a:ext cx="85572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（方法）矩形 105"/>
          <p:cNvSpPr/>
          <p:nvPr/>
        </p:nvSpPr>
        <p:spPr>
          <a:xfrm>
            <a:off x="2708280" y="3562920"/>
            <a:ext cx="85572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（背景·遮盖白条）矩形 106"/>
          <p:cNvSpPr/>
          <p:nvPr/>
        </p:nvSpPr>
        <p:spPr>
          <a:xfrm>
            <a:off x="1258920" y="3141720"/>
            <a:ext cx="51134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（内容·遮盖白条） 108"/>
          <p:cNvSpPr/>
          <p:nvPr/>
        </p:nvSpPr>
        <p:spPr>
          <a:xfrm>
            <a:off x="2556000" y="5877000"/>
            <a:ext cx="53290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（小方框遮罩层）矩形 52"/>
          <p:cNvSpPr/>
          <p:nvPr/>
        </p:nvSpPr>
        <p:spPr>
          <a:xfrm>
            <a:off x="48564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（1绪论·蓝）组合 40"/>
          <p:cNvGrpSpPr/>
          <p:nvPr/>
        </p:nvGrpSpPr>
        <p:grpSpPr>
          <a:xfrm>
            <a:off x="395280" y="115920"/>
            <a:ext cx="1728720" cy="673200"/>
            <a:chOff x="395280" y="115920"/>
            <a:chExt cx="1728720" cy="673200"/>
          </a:xfrm>
        </p:grpSpPr>
        <p:grpSp>
          <p:nvGrpSpPr>
            <p:cNvPr id="235" name="（1绪论）组合 45"/>
            <p:cNvGrpSpPr/>
            <p:nvPr/>
          </p:nvGrpSpPr>
          <p:grpSpPr>
            <a:xfrm>
              <a:off x="395280" y="115920"/>
              <a:ext cx="1728720" cy="673200"/>
              <a:chOff x="395280" y="115920"/>
              <a:chExt cx="1728720" cy="673200"/>
            </a:xfrm>
          </p:grpSpPr>
          <p:sp>
            <p:nvSpPr>
              <p:cNvPr id="236" name="圆角矩形 135"/>
              <p:cNvSpPr/>
              <p:nvPr/>
            </p:nvSpPr>
            <p:spPr>
              <a:xfrm>
                <a:off x="46656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矩形 136"/>
              <p:cNvSpPr/>
              <p:nvPr/>
            </p:nvSpPr>
            <p:spPr>
              <a:xfrm>
                <a:off x="48564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矩形 137"/>
              <p:cNvSpPr/>
              <p:nvPr/>
            </p:nvSpPr>
            <p:spPr>
              <a:xfrm>
                <a:off x="39528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9" name="（1绪论）TextBox 72"/>
            <p:cNvSpPr/>
            <p:nvPr/>
          </p:nvSpPr>
          <p:spPr>
            <a:xfrm>
              <a:off x="556920" y="1162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（左·遮盖）弧形 71"/>
          <p:cNvSpPr/>
          <p:nvPr/>
        </p:nvSpPr>
        <p:spPr>
          <a:xfrm>
            <a:off x="46836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（左·遮盖）直接连接符 74"/>
          <p:cNvSpPr/>
          <p:nvPr/>
        </p:nvSpPr>
        <p:spPr>
          <a:xfrm>
            <a:off x="46836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（右·遮盖）弧形 78"/>
          <p:cNvSpPr/>
          <p:nvPr/>
        </p:nvSpPr>
        <p:spPr>
          <a:xfrm rot="5400000">
            <a:off x="187056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（右·遮盖）直接连接符 79"/>
          <p:cNvSpPr/>
          <p:nvPr/>
        </p:nvSpPr>
        <p:spPr>
          <a:xfrm flipH="1">
            <a:off x="2050560" y="209520"/>
            <a:ext cx="180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（上·遮盖）直接连接符 84"/>
          <p:cNvSpPr/>
          <p:nvPr/>
        </p:nvSpPr>
        <p:spPr>
          <a:xfrm>
            <a:off x="550800" y="115920"/>
            <a:ext cx="14083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00"/>
                            </p:stCondLst>
                            <p:childTnLst>
                              <p:par>
                                <p:cTn id="57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00"/>
                            </p:stCondLst>
                            <p:childTnLst>
                              <p:par>
                                <p:cTn id="5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450"/>
                            </p:stCondLst>
                            <p:childTnLst>
                              <p:par>
                                <p:cTn id="58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2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650"/>
                            </p:stCondLst>
                            <p:childTnLst>
                              <p:par>
                                <p:cTn id="58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700"/>
                            </p:stCondLst>
                            <p:childTnLst>
                              <p:par>
                                <p:cTn id="5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1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800"/>
                            </p:stCondLst>
                            <p:childTnLst>
                              <p:par>
                                <p:cTn id="59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801"/>
                            </p:stCondLst>
                            <p:childTnLst>
                              <p:par>
                                <p:cTn id="59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02"/>
                            </p:stCondLst>
                            <p:childTnLst>
                              <p:par>
                                <p:cTn id="60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803"/>
                            </p:stCondLst>
                            <p:childTnLst>
                              <p:par>
                                <p:cTn id="60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804"/>
                            </p:stCondLst>
                            <p:childTnLst>
                              <p:par>
                                <p:cTn id="60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805"/>
                            </p:stCondLst>
                            <p:childTnLst>
                              <p:par>
                                <p:cTn id="6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2" dur="2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4" dur="2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405"/>
                            </p:stCondLst>
                            <p:childTnLst>
                              <p:par>
                                <p:cTn id="6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2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605"/>
                            </p:stCondLst>
                            <p:childTnLst>
                              <p:par>
                                <p:cTn id="6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2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805"/>
                            </p:stCondLst>
                            <p:childTnLst>
                              <p:par>
                                <p:cTn id="62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5" dur="2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5"/>
                            </p:stCondLst>
                            <p:childTnLst>
                              <p:par>
                                <p:cTn id="6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2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205"/>
                            </p:stCondLst>
                            <p:childTnLst>
                              <p:par>
                                <p:cTn id="6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2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405"/>
                            </p:stCondLst>
                            <p:childTnLst>
                              <p:par>
                                <p:cTn id="6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605"/>
                            </p:stCondLst>
                            <p:childTnLst>
                              <p:par>
                                <p:cTn id="6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805"/>
                            </p:stCondLst>
                            <p:childTnLst>
                              <p:par>
                                <p:cTn id="6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5"/>
                            </p:stCondLst>
                            <p:childTnLst>
                              <p:par>
                                <p:cTn id="6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2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205"/>
                            </p:stCondLst>
                            <p:childTnLst>
                              <p:par>
                                <p:cTn id="6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405"/>
                            </p:stCondLst>
                            <p:childTnLst>
                              <p:par>
                                <p:cTn id="656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57" dur="2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605"/>
                            </p:stCondLst>
                            <p:childTnLst>
                              <p:par>
                                <p:cTn id="6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2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66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68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4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6" dur="5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80" dur="5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8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84" dur="5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86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1.25903 -0.00509 E">
                                      <p:cBhvr>
                                        <p:cTn id="688" dur="5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246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249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250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3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255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256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9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261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262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5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267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268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1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273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274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7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（调查对象）组合 165"/>
          <p:cNvGrpSpPr/>
          <p:nvPr/>
        </p:nvGrpSpPr>
        <p:grpSpPr>
          <a:xfrm>
            <a:off x="-7885080" y="907920"/>
            <a:ext cx="6769440" cy="4981680"/>
            <a:chOff x="-7885080" y="907920"/>
            <a:chExt cx="6769440" cy="4981680"/>
          </a:xfrm>
        </p:grpSpPr>
        <p:sp>
          <p:nvSpPr>
            <p:cNvPr id="279" name="（方法·方框）圆角矩形 96"/>
            <p:cNvSpPr/>
            <p:nvPr/>
          </p:nvSpPr>
          <p:spPr>
            <a:xfrm>
              <a:off x="-6445080" y="17125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土建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（方法·方框）圆角矩形 96"/>
            <p:cNvSpPr/>
            <p:nvPr/>
          </p:nvSpPr>
          <p:spPr>
            <a:xfrm>
              <a:off x="-6445080" y="244476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电气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（方法·方框）圆角矩形 96"/>
            <p:cNvSpPr/>
            <p:nvPr/>
          </p:nvSpPr>
          <p:spPr>
            <a:xfrm>
              <a:off x="-6445080" y="31766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机电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（方法·方框）圆角矩形 96"/>
            <p:cNvSpPr/>
            <p:nvPr/>
          </p:nvSpPr>
          <p:spPr>
            <a:xfrm>
              <a:off x="-6445080" y="39085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经管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（方法·方框）圆角矩形 96"/>
            <p:cNvSpPr/>
            <p:nvPr/>
          </p:nvSpPr>
          <p:spPr>
            <a:xfrm>
              <a:off x="-6445080" y="46418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体育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（方法·方框）圆角矩形 96"/>
            <p:cNvSpPr/>
            <p:nvPr/>
          </p:nvSpPr>
          <p:spPr>
            <a:xfrm>
              <a:off x="-6445080" y="5384880"/>
              <a:ext cx="158436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研究生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（方法·方框）圆角矩形 96"/>
            <p:cNvSpPr/>
            <p:nvPr/>
          </p:nvSpPr>
          <p:spPr>
            <a:xfrm>
              <a:off x="-4644720" y="17366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信息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（方法·方框）圆角矩形 96"/>
            <p:cNvSpPr/>
            <p:nvPr/>
          </p:nvSpPr>
          <p:spPr>
            <a:xfrm>
              <a:off x="-4644720" y="2468520"/>
              <a:ext cx="158436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人文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（方法·方框）圆角矩形 96"/>
            <p:cNvSpPr/>
            <p:nvPr/>
          </p:nvSpPr>
          <p:spPr>
            <a:xfrm>
              <a:off x="-4644720" y="32018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基础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（方法·方框）圆角矩形 96"/>
            <p:cNvSpPr/>
            <p:nvPr/>
          </p:nvSpPr>
          <p:spPr>
            <a:xfrm>
              <a:off x="-4644720" y="39337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外院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（方法·方框）圆角矩形 96"/>
            <p:cNvSpPr/>
            <p:nvPr/>
          </p:nvSpPr>
          <p:spPr>
            <a:xfrm>
              <a:off x="-4644720" y="466560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艺术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（方法·方框）圆角矩形 96"/>
            <p:cNvSpPr/>
            <p:nvPr/>
          </p:nvSpPr>
          <p:spPr>
            <a:xfrm>
              <a:off x="-7885080" y="2720880"/>
              <a:ext cx="576000" cy="14396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439640"/>
                <a:gd name="textAreaBottom" fmla="*/ 1411560 h 1439640"/>
              </a:gdLst>
              <a:ahLst/>
              <a:rect l="textAreaLeft" t="textAreaTop" r="textAreaRight" b="textAreaBottom"/>
              <a:pathLst>
                <a:path w="21600" h="53966">
                  <a:moveTo>
                    <a:pt x="3600" y="0"/>
                  </a:moveTo>
                  <a:arcTo wR="3600" hR="3600" stAng="16200000" swAng="-5400000"/>
                  <a:lnTo>
                    <a:pt x="0" y="50366"/>
                  </a:lnTo>
                  <a:arcTo wR="3600" hR="3600" stAng="10800000" swAng="-5400000"/>
                  <a:lnTo>
                    <a:pt x="18000" y="539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调查对象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（方法·方框）圆角矩形 96"/>
            <p:cNvSpPr/>
            <p:nvPr/>
          </p:nvSpPr>
          <p:spPr>
            <a:xfrm>
              <a:off x="-2844360" y="17125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国际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（方法·方框）圆角矩形 96"/>
            <p:cNvSpPr/>
            <p:nvPr/>
          </p:nvSpPr>
          <p:spPr>
            <a:xfrm>
              <a:off x="-2844360" y="244476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轨道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（方法·方框）圆角矩形 96"/>
            <p:cNvSpPr/>
            <p:nvPr/>
          </p:nvSpPr>
          <p:spPr>
            <a:xfrm>
              <a:off x="-2844360" y="31766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软件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（方法·方框）圆角矩形 96"/>
            <p:cNvSpPr/>
            <p:nvPr/>
          </p:nvSpPr>
          <p:spPr>
            <a:xfrm>
              <a:off x="-6588000" y="1591920"/>
              <a:ext cx="5472360" cy="3673800"/>
            </a:xfrm>
            <a:prstGeom prst="roundRect">
              <a:avLst>
                <a:gd name="adj" fmla="val 4880"/>
              </a:avLst>
            </a:prstGeom>
            <a:noFill/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直接连接符 135"/>
            <p:cNvSpPr/>
            <p:nvPr/>
          </p:nvSpPr>
          <p:spPr>
            <a:xfrm>
              <a:off x="-6948360" y="1207800"/>
              <a:ext cx="0" cy="439272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直接连接符 147"/>
            <p:cNvSpPr/>
            <p:nvPr/>
          </p:nvSpPr>
          <p:spPr>
            <a:xfrm>
              <a:off x="-6948360" y="5637240"/>
              <a:ext cx="502920" cy="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接连接符 155"/>
            <p:cNvSpPr/>
            <p:nvPr/>
          </p:nvSpPr>
          <p:spPr>
            <a:xfrm flipV="1">
              <a:off x="-7308720" y="3429000"/>
              <a:ext cx="720720" cy="1080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圆角矩形 156"/>
            <p:cNvSpPr/>
            <p:nvPr/>
          </p:nvSpPr>
          <p:spPr>
            <a:xfrm>
              <a:off x="-2484000" y="4016520"/>
              <a:ext cx="1008000" cy="86508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圆角矩形 158"/>
            <p:cNvSpPr/>
            <p:nvPr/>
          </p:nvSpPr>
          <p:spPr>
            <a:xfrm>
              <a:off x="-4428720" y="5384880"/>
              <a:ext cx="1225440" cy="50472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研究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（方法·方框）圆角矩形 96"/>
            <p:cNvSpPr/>
            <p:nvPr/>
          </p:nvSpPr>
          <p:spPr>
            <a:xfrm>
              <a:off x="-6445080" y="9079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轨道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直接连接符 160"/>
            <p:cNvSpPr/>
            <p:nvPr/>
          </p:nvSpPr>
          <p:spPr>
            <a:xfrm>
              <a:off x="-6948360" y="1160280"/>
              <a:ext cx="502920" cy="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圆角矩形 161"/>
            <p:cNvSpPr/>
            <p:nvPr/>
          </p:nvSpPr>
          <p:spPr>
            <a:xfrm>
              <a:off x="-4428720" y="920520"/>
              <a:ext cx="1225440" cy="50328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AutoShape 4"/>
          <p:cNvSpPr/>
          <p:nvPr/>
        </p:nvSpPr>
        <p:spPr>
          <a:xfrm rot="5400000">
            <a:off x="-2249280" y="1007640"/>
            <a:ext cx="4824360" cy="4770720"/>
          </a:xfrm>
          <a:custGeom>
            <a:avLst/>
            <a:gdLst/>
            <a:ahLst/>
            <a:rect l="l" t="t" r="r" b="b"/>
            <a:pathLst>
              <a:path w="21598" h="10642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close/>
              </a:path>
            </a:pathLst>
          </a:custGeom>
          <a:gradFill rotWithShape="0">
            <a:gsLst>
              <a:gs pos="0">
                <a:srgbClr val="f7f6f1"/>
              </a:gs>
              <a:gs pos="50000">
                <a:srgbClr val="eeece1"/>
              </a:gs>
              <a:gs pos="100000">
                <a:srgbClr val="f7f6f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AutoShape 5"/>
          <p:cNvSpPr/>
          <p:nvPr/>
        </p:nvSpPr>
        <p:spPr>
          <a:xfrm flipH="1" rot="5400000">
            <a:off x="-1843920" y="1441800"/>
            <a:ext cx="4032360" cy="392904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eeec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1547640" y="1049400"/>
            <a:ext cx="1800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的与习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Group 8" descr=""/>
          <p:cNvPicPr/>
          <p:nvPr/>
        </p:nvPicPr>
        <p:blipFill>
          <a:blip r:embed="rId3"/>
          <a:stretch/>
        </p:blipFill>
        <p:spPr>
          <a:xfrm>
            <a:off x="1281240" y="1136520"/>
            <a:ext cx="338040" cy="33984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16"/>
          <p:cNvSpPr/>
          <p:nvPr/>
        </p:nvSpPr>
        <p:spPr>
          <a:xfrm>
            <a:off x="2284560" y="1827360"/>
            <a:ext cx="180000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馆藏质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Group 17" descr=""/>
          <p:cNvPicPr/>
          <p:nvPr/>
        </p:nvPicPr>
        <p:blipFill>
          <a:blip r:embed="rId4"/>
          <a:stretch/>
        </p:blipFill>
        <p:spPr>
          <a:xfrm>
            <a:off x="1979640" y="1911240"/>
            <a:ext cx="338040" cy="3384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25"/>
          <p:cNvSpPr/>
          <p:nvPr/>
        </p:nvSpPr>
        <p:spPr>
          <a:xfrm>
            <a:off x="2550960" y="2603520"/>
            <a:ext cx="1800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环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Oval 28"/>
          <p:cNvSpPr/>
          <p:nvPr/>
        </p:nvSpPr>
        <p:spPr>
          <a:xfrm>
            <a:off x="2268360" y="2685960"/>
            <a:ext cx="338400" cy="3384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4"/>
          <p:cNvSpPr/>
          <p:nvPr/>
        </p:nvSpPr>
        <p:spPr>
          <a:xfrm>
            <a:off x="2627280" y="3381480"/>
            <a:ext cx="1800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与服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Group 35" descr=""/>
          <p:cNvPicPr/>
          <p:nvPr/>
        </p:nvPicPr>
        <p:blipFill>
          <a:blip r:embed="rId5"/>
          <a:stretch/>
        </p:blipFill>
        <p:spPr>
          <a:xfrm>
            <a:off x="2332080" y="3460680"/>
            <a:ext cx="338040" cy="33804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43"/>
          <p:cNvSpPr/>
          <p:nvPr/>
        </p:nvSpPr>
        <p:spPr>
          <a:xfrm>
            <a:off x="1886040" y="4937040"/>
            <a:ext cx="180000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息传递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Oval 46"/>
          <p:cNvSpPr/>
          <p:nvPr/>
        </p:nvSpPr>
        <p:spPr>
          <a:xfrm>
            <a:off x="1619280" y="5008680"/>
            <a:ext cx="338040" cy="3380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直接连接符 304"/>
          <p:cNvSpPr/>
          <p:nvPr/>
        </p:nvSpPr>
        <p:spPr>
          <a:xfrm>
            <a:off x="3348000" y="1303200"/>
            <a:ext cx="1440000" cy="0"/>
          </a:xfrm>
          <a:prstGeom prst="line">
            <a:avLst/>
          </a:prstGeom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直接连接符 305"/>
          <p:cNvSpPr/>
          <p:nvPr/>
        </p:nvSpPr>
        <p:spPr>
          <a:xfrm>
            <a:off x="4788000" y="3267000"/>
            <a:ext cx="37764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直接连接符 306"/>
          <p:cNvSpPr/>
          <p:nvPr/>
        </p:nvSpPr>
        <p:spPr>
          <a:xfrm>
            <a:off x="4788000" y="1292400"/>
            <a:ext cx="0" cy="198720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直接连接符 307"/>
          <p:cNvSpPr/>
          <p:nvPr/>
        </p:nvSpPr>
        <p:spPr>
          <a:xfrm>
            <a:off x="5162400" y="220500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直接连接符 308"/>
          <p:cNvSpPr/>
          <p:nvPr/>
        </p:nvSpPr>
        <p:spPr>
          <a:xfrm>
            <a:off x="5162400" y="429264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直接连接符 309"/>
          <p:cNvSpPr/>
          <p:nvPr/>
        </p:nvSpPr>
        <p:spPr>
          <a:xfrm>
            <a:off x="5148360" y="2205000"/>
            <a:ext cx="0" cy="208764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接连接符 310"/>
          <p:cNvSpPr/>
          <p:nvPr/>
        </p:nvSpPr>
        <p:spPr>
          <a:xfrm>
            <a:off x="5162400" y="359712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接连接符 311"/>
          <p:cNvSpPr/>
          <p:nvPr/>
        </p:nvSpPr>
        <p:spPr>
          <a:xfrm>
            <a:off x="5162400" y="290052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矩形 312"/>
          <p:cNvSpPr/>
          <p:nvPr/>
        </p:nvSpPr>
        <p:spPr>
          <a:xfrm>
            <a:off x="5998320" y="20509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频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313"/>
          <p:cNvSpPr/>
          <p:nvPr/>
        </p:nvSpPr>
        <p:spPr>
          <a:xfrm>
            <a:off x="5998320" y="2708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时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314"/>
          <p:cNvSpPr/>
          <p:nvPr/>
        </p:nvSpPr>
        <p:spPr>
          <a:xfrm>
            <a:off x="5790600" y="3389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行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315"/>
          <p:cNvSpPr/>
          <p:nvPr/>
        </p:nvSpPr>
        <p:spPr>
          <a:xfrm>
            <a:off x="5946120" y="40766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目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直接连接符 316"/>
          <p:cNvSpPr/>
          <p:nvPr/>
        </p:nvSpPr>
        <p:spPr>
          <a:xfrm>
            <a:off x="4084560" y="2081160"/>
            <a:ext cx="70344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直接连接符 317"/>
          <p:cNvSpPr/>
          <p:nvPr/>
        </p:nvSpPr>
        <p:spPr>
          <a:xfrm>
            <a:off x="4788000" y="2060640"/>
            <a:ext cx="0" cy="123660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318"/>
          <p:cNvSpPr/>
          <p:nvPr/>
        </p:nvSpPr>
        <p:spPr>
          <a:xfrm>
            <a:off x="4788000" y="3284640"/>
            <a:ext cx="37764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直接连接符 319"/>
          <p:cNvSpPr/>
          <p:nvPr/>
        </p:nvSpPr>
        <p:spPr>
          <a:xfrm>
            <a:off x="5162400" y="177336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直接连接符 320"/>
          <p:cNvSpPr/>
          <p:nvPr/>
        </p:nvSpPr>
        <p:spPr>
          <a:xfrm>
            <a:off x="5162400" y="479736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321"/>
          <p:cNvSpPr/>
          <p:nvPr/>
        </p:nvSpPr>
        <p:spPr>
          <a:xfrm>
            <a:off x="5148360" y="1773360"/>
            <a:ext cx="0" cy="302400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直接连接符 322"/>
          <p:cNvSpPr/>
          <p:nvPr/>
        </p:nvSpPr>
        <p:spPr>
          <a:xfrm>
            <a:off x="5162400" y="342900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直接连接符 323"/>
          <p:cNvSpPr/>
          <p:nvPr/>
        </p:nvSpPr>
        <p:spPr>
          <a:xfrm>
            <a:off x="5162400" y="263700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324"/>
          <p:cNvSpPr/>
          <p:nvPr/>
        </p:nvSpPr>
        <p:spPr>
          <a:xfrm>
            <a:off x="5648400" y="1425600"/>
            <a:ext cx="25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符合就读科系的馆藏资料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325"/>
          <p:cNvSpPr/>
          <p:nvPr/>
        </p:nvSpPr>
        <p:spPr>
          <a:xfrm>
            <a:off x="5648400" y="4076640"/>
            <a:ext cx="25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纸本图书、纸本期刊、视听资料、电子书、电子期刊馆藏，感到最满意的类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矩形 326"/>
          <p:cNvSpPr/>
          <p:nvPr/>
        </p:nvSpPr>
        <p:spPr>
          <a:xfrm>
            <a:off x="5648400" y="245268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加强的馆藏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矩形 327"/>
          <p:cNvSpPr/>
          <p:nvPr/>
        </p:nvSpPr>
        <p:spPr>
          <a:xfrm>
            <a:off x="5648400" y="308124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的馆藏资料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直接连接符 328"/>
          <p:cNvSpPr/>
          <p:nvPr/>
        </p:nvSpPr>
        <p:spPr>
          <a:xfrm>
            <a:off x="4351320" y="2857680"/>
            <a:ext cx="43668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直接连接符 329"/>
          <p:cNvSpPr/>
          <p:nvPr/>
        </p:nvSpPr>
        <p:spPr>
          <a:xfrm>
            <a:off x="5148360" y="2349360"/>
            <a:ext cx="0" cy="172728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矩形 330"/>
          <p:cNvSpPr/>
          <p:nvPr/>
        </p:nvSpPr>
        <p:spPr>
          <a:xfrm>
            <a:off x="5648400" y="216540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图书馆的空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矩形 331"/>
          <p:cNvSpPr/>
          <p:nvPr/>
        </p:nvSpPr>
        <p:spPr>
          <a:xfrm>
            <a:off x="5648400" y="342900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环境是否符合整齐清洁、气氛宁静舒适、灯光足够、阅读座位足够、标示清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直接连接符 332"/>
          <p:cNvSpPr/>
          <p:nvPr/>
        </p:nvSpPr>
        <p:spPr>
          <a:xfrm>
            <a:off x="5148360" y="2349360"/>
            <a:ext cx="43164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直接连接符 333"/>
          <p:cNvSpPr/>
          <p:nvPr/>
        </p:nvSpPr>
        <p:spPr>
          <a:xfrm>
            <a:off x="5148360" y="4076640"/>
            <a:ext cx="43164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直接连接符 334"/>
          <p:cNvSpPr/>
          <p:nvPr/>
        </p:nvSpPr>
        <p:spPr>
          <a:xfrm>
            <a:off x="4788000" y="2852640"/>
            <a:ext cx="0" cy="43200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直接连接符 335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AutoShape 43"/>
          <p:cNvSpPr/>
          <p:nvPr/>
        </p:nvSpPr>
        <p:spPr>
          <a:xfrm>
            <a:off x="2397240" y="4159080"/>
            <a:ext cx="1800000" cy="5083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广活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Oval 46"/>
          <p:cNvSpPr/>
          <p:nvPr/>
        </p:nvSpPr>
        <p:spPr>
          <a:xfrm>
            <a:off x="2124000" y="4233960"/>
            <a:ext cx="338040" cy="3394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直接连接符 338"/>
          <p:cNvSpPr/>
          <p:nvPr/>
        </p:nvSpPr>
        <p:spPr>
          <a:xfrm>
            <a:off x="4427640" y="363528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339"/>
          <p:cNvSpPr/>
          <p:nvPr/>
        </p:nvSpPr>
        <p:spPr>
          <a:xfrm>
            <a:off x="5148360" y="1484280"/>
            <a:ext cx="0" cy="367344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直接连接符 340"/>
          <p:cNvSpPr/>
          <p:nvPr/>
        </p:nvSpPr>
        <p:spPr>
          <a:xfrm>
            <a:off x="5148360" y="148428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直接连接符 341"/>
          <p:cNvSpPr/>
          <p:nvPr/>
        </p:nvSpPr>
        <p:spPr>
          <a:xfrm>
            <a:off x="5148360" y="242100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直接连接符 342"/>
          <p:cNvSpPr/>
          <p:nvPr/>
        </p:nvSpPr>
        <p:spPr>
          <a:xfrm>
            <a:off x="5148360" y="422100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直接连接符 343"/>
          <p:cNvSpPr/>
          <p:nvPr/>
        </p:nvSpPr>
        <p:spPr>
          <a:xfrm>
            <a:off x="514836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直接连接符 344"/>
          <p:cNvSpPr/>
          <p:nvPr/>
        </p:nvSpPr>
        <p:spPr>
          <a:xfrm>
            <a:off x="4788000" y="3284640"/>
            <a:ext cx="0" cy="36036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直接连接符 345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直接连接符 346"/>
          <p:cNvSpPr/>
          <p:nvPr/>
        </p:nvSpPr>
        <p:spPr>
          <a:xfrm>
            <a:off x="5148360" y="515772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矩形 347"/>
          <p:cNvSpPr/>
          <p:nvPr/>
        </p:nvSpPr>
        <p:spPr>
          <a:xfrm>
            <a:off x="5508720" y="119700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借还柜台服务的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矩形 348"/>
          <p:cNvSpPr/>
          <p:nvPr/>
        </p:nvSpPr>
        <p:spPr>
          <a:xfrm>
            <a:off x="5508720" y="206064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参考咨询室或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线咨询服务的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矩形 349"/>
          <p:cNvSpPr/>
          <p:nvPr/>
        </p:nvSpPr>
        <p:spPr>
          <a:xfrm>
            <a:off x="5508720" y="29242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昌北高校图书馆联盟服务的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矩形 350"/>
          <p:cNvSpPr/>
          <p:nvPr/>
        </p:nvSpPr>
        <p:spPr>
          <a:xfrm>
            <a:off x="5508720" y="3860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图书馆网页的功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矩形 351"/>
          <p:cNvSpPr/>
          <p:nvPr/>
        </p:nvSpPr>
        <p:spPr>
          <a:xfrm>
            <a:off x="5508720" y="479736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解决图书馆或资料库使用上的问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直接连接符 352"/>
          <p:cNvSpPr/>
          <p:nvPr/>
        </p:nvSpPr>
        <p:spPr>
          <a:xfrm>
            <a:off x="4788000" y="3284640"/>
            <a:ext cx="0" cy="115236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直接连接符 353"/>
          <p:cNvSpPr/>
          <p:nvPr/>
        </p:nvSpPr>
        <p:spPr>
          <a:xfrm>
            <a:off x="5148360" y="1700280"/>
            <a:ext cx="0" cy="316872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直接连接符 354"/>
          <p:cNvSpPr/>
          <p:nvPr/>
        </p:nvSpPr>
        <p:spPr>
          <a:xfrm>
            <a:off x="4197240" y="4413240"/>
            <a:ext cx="5907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直接连接符 355"/>
          <p:cNvSpPr/>
          <p:nvPr/>
        </p:nvSpPr>
        <p:spPr>
          <a:xfrm>
            <a:off x="5148360" y="170028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直接连接符 356"/>
          <p:cNvSpPr/>
          <p:nvPr/>
        </p:nvSpPr>
        <p:spPr>
          <a:xfrm>
            <a:off x="5148360" y="3789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直接连接符 357"/>
          <p:cNvSpPr/>
          <p:nvPr/>
        </p:nvSpPr>
        <p:spPr>
          <a:xfrm>
            <a:off x="5148360" y="2781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直接连接符 358"/>
          <p:cNvSpPr/>
          <p:nvPr/>
        </p:nvSpPr>
        <p:spPr>
          <a:xfrm>
            <a:off x="5148360" y="486900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直接连接符 359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224"/>
          <p:cNvSpPr/>
          <p:nvPr/>
        </p:nvSpPr>
        <p:spPr>
          <a:xfrm>
            <a:off x="5576760" y="13525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利用教育培训课程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225"/>
          <p:cNvSpPr/>
          <p:nvPr/>
        </p:nvSpPr>
        <p:spPr>
          <a:xfrm>
            <a:off x="5508720" y="24210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利用教育培训课程上课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226"/>
          <p:cNvSpPr/>
          <p:nvPr/>
        </p:nvSpPr>
        <p:spPr>
          <a:xfrm>
            <a:off x="5508720" y="3429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利用教育培训课程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227"/>
          <p:cNvSpPr/>
          <p:nvPr/>
        </p:nvSpPr>
        <p:spPr>
          <a:xfrm>
            <a:off x="5508720" y="4508640"/>
            <a:ext cx="25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喜欢图书馆举办的活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直接连接符 364"/>
          <p:cNvSpPr/>
          <p:nvPr/>
        </p:nvSpPr>
        <p:spPr>
          <a:xfrm>
            <a:off x="4788000" y="3284640"/>
            <a:ext cx="0" cy="192708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直接连接符 365"/>
          <p:cNvSpPr/>
          <p:nvPr/>
        </p:nvSpPr>
        <p:spPr>
          <a:xfrm>
            <a:off x="3686040" y="5191200"/>
            <a:ext cx="11019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直接连接符 366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直接连接符 367"/>
          <p:cNvSpPr/>
          <p:nvPr/>
        </p:nvSpPr>
        <p:spPr>
          <a:xfrm>
            <a:off x="5148360" y="2565360"/>
            <a:ext cx="0" cy="144000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直接连接符 368"/>
          <p:cNvSpPr/>
          <p:nvPr/>
        </p:nvSpPr>
        <p:spPr>
          <a:xfrm>
            <a:off x="5148360" y="2565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直接连接符 369"/>
          <p:cNvSpPr/>
          <p:nvPr/>
        </p:nvSpPr>
        <p:spPr>
          <a:xfrm>
            <a:off x="5148360" y="4005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矩形 227"/>
          <p:cNvSpPr/>
          <p:nvPr/>
        </p:nvSpPr>
        <p:spPr>
          <a:xfrm>
            <a:off x="5508720" y="3645000"/>
            <a:ext cx="259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望通过何种方式得到图书馆的信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矩形 227"/>
          <p:cNvSpPr/>
          <p:nvPr/>
        </p:nvSpPr>
        <p:spPr>
          <a:xfrm>
            <a:off x="5508720" y="2205000"/>
            <a:ext cx="259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望通过何种方式得到图书馆的信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（小方框遮罩层）矩形 52"/>
          <p:cNvSpPr/>
          <p:nvPr/>
        </p:nvSpPr>
        <p:spPr>
          <a:xfrm>
            <a:off x="214308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5" name="（2调查设计·蓝）组合 40"/>
          <p:cNvGrpSpPr/>
          <p:nvPr/>
        </p:nvGrpSpPr>
        <p:grpSpPr>
          <a:xfrm>
            <a:off x="2050920" y="115920"/>
            <a:ext cx="1729080" cy="673200"/>
            <a:chOff x="2050920" y="115920"/>
            <a:chExt cx="1729080" cy="673200"/>
          </a:xfrm>
        </p:grpSpPr>
        <p:grpSp>
          <p:nvGrpSpPr>
            <p:cNvPr id="386" name="（1绪论）组合 45"/>
            <p:cNvGrpSpPr/>
            <p:nvPr/>
          </p:nvGrpSpPr>
          <p:grpSpPr>
            <a:xfrm>
              <a:off x="2050920" y="115920"/>
              <a:ext cx="1729080" cy="673200"/>
              <a:chOff x="2050920" y="115920"/>
              <a:chExt cx="1729080" cy="673200"/>
            </a:xfrm>
          </p:grpSpPr>
          <p:sp>
            <p:nvSpPr>
              <p:cNvPr id="387" name="圆角矩形 39"/>
              <p:cNvSpPr/>
              <p:nvPr/>
            </p:nvSpPr>
            <p:spPr>
              <a:xfrm>
                <a:off x="2122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矩形 40"/>
              <p:cNvSpPr/>
              <p:nvPr/>
            </p:nvSpPr>
            <p:spPr>
              <a:xfrm>
                <a:off x="214128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矩形 41"/>
              <p:cNvSpPr/>
              <p:nvPr/>
            </p:nvSpPr>
            <p:spPr>
              <a:xfrm>
                <a:off x="205092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0" name="（1绪论）TextBox 72"/>
            <p:cNvSpPr/>
            <p:nvPr/>
          </p:nvSpPr>
          <p:spPr>
            <a:xfrm>
              <a:off x="2122920" y="11628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3" name="（1绪论·蓝）组合 40"/>
          <p:cNvGrpSpPr/>
          <p:nvPr/>
        </p:nvGrpSpPr>
        <p:grpSpPr>
          <a:xfrm>
            <a:off x="395280" y="115920"/>
            <a:ext cx="1728720" cy="673200"/>
            <a:chOff x="395280" y="115920"/>
            <a:chExt cx="1728720" cy="673200"/>
          </a:xfrm>
        </p:grpSpPr>
        <p:grpSp>
          <p:nvGrpSpPr>
            <p:cNvPr id="394" name="（1绪论）组合 45"/>
            <p:cNvGrpSpPr/>
            <p:nvPr/>
          </p:nvGrpSpPr>
          <p:grpSpPr>
            <a:xfrm>
              <a:off x="395280" y="115920"/>
              <a:ext cx="1728720" cy="673200"/>
              <a:chOff x="395280" y="115920"/>
              <a:chExt cx="1728720" cy="673200"/>
            </a:xfrm>
          </p:grpSpPr>
          <p:sp>
            <p:nvSpPr>
              <p:cNvPr id="395" name="圆角矩形 92"/>
              <p:cNvSpPr/>
              <p:nvPr/>
            </p:nvSpPr>
            <p:spPr>
              <a:xfrm>
                <a:off x="46656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矩形 93"/>
              <p:cNvSpPr/>
              <p:nvPr/>
            </p:nvSpPr>
            <p:spPr>
              <a:xfrm>
                <a:off x="48564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矩形 94"/>
              <p:cNvSpPr/>
              <p:nvPr/>
            </p:nvSpPr>
            <p:spPr>
              <a:xfrm>
                <a:off x="39528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8" name="（1绪论）TextBox 72"/>
            <p:cNvSpPr/>
            <p:nvPr/>
          </p:nvSpPr>
          <p:spPr>
            <a:xfrm>
              <a:off x="556920" y="1162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9" name="（左·遮盖）弧形 71"/>
          <p:cNvSpPr/>
          <p:nvPr/>
        </p:nvSpPr>
        <p:spPr>
          <a:xfrm>
            <a:off x="2124000" y="115920"/>
            <a:ext cx="17964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（左·遮盖）直接连接符 74"/>
          <p:cNvSpPr/>
          <p:nvPr/>
        </p:nvSpPr>
        <p:spPr>
          <a:xfrm>
            <a:off x="2124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（右·遮盖）弧形 78"/>
          <p:cNvSpPr/>
          <p:nvPr/>
        </p:nvSpPr>
        <p:spPr>
          <a:xfrm rot="5400000">
            <a:off x="3526920" y="11556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（右·遮盖）直接连接符 79"/>
          <p:cNvSpPr/>
          <p:nvPr/>
        </p:nvSpPr>
        <p:spPr>
          <a:xfrm>
            <a:off x="370836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（上·遮盖）直接连接符 84"/>
          <p:cNvSpPr/>
          <p:nvPr/>
        </p:nvSpPr>
        <p:spPr>
          <a:xfrm>
            <a:off x="220680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（左·遮盖）弧形 71"/>
          <p:cNvSpPr/>
          <p:nvPr/>
        </p:nvSpPr>
        <p:spPr>
          <a:xfrm>
            <a:off x="46836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（左·遮盖）直接连接符 74"/>
          <p:cNvSpPr/>
          <p:nvPr/>
        </p:nvSpPr>
        <p:spPr>
          <a:xfrm>
            <a:off x="46836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（右·遮盖）弧形 78"/>
          <p:cNvSpPr/>
          <p:nvPr/>
        </p:nvSpPr>
        <p:spPr>
          <a:xfrm rot="5400000">
            <a:off x="187056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（右·遮盖）直接连接符 79"/>
          <p:cNvSpPr/>
          <p:nvPr/>
        </p:nvSpPr>
        <p:spPr>
          <a:xfrm flipH="1">
            <a:off x="2050560" y="209520"/>
            <a:ext cx="180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（上·遮盖）直接连接符 84"/>
          <p:cNvSpPr/>
          <p:nvPr/>
        </p:nvSpPr>
        <p:spPr>
          <a:xfrm>
            <a:off x="550800" y="115920"/>
            <a:ext cx="14083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（小方框遮罩层）矩形 52"/>
          <p:cNvSpPr/>
          <p:nvPr/>
        </p:nvSpPr>
        <p:spPr>
          <a:xfrm>
            <a:off x="488880" y="511200"/>
            <a:ext cx="154944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"/>
                            </p:stCondLst>
                            <p:childTnLst>
                              <p:par>
                                <p:cTn id="696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7" dur="1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1"/>
                            </p:stCondLst>
                            <p:childTnLst>
                              <p:par>
                                <p:cTn id="700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01" dur="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51"/>
                            </p:stCondLst>
                            <p:childTnLst>
                              <p:par>
                                <p:cTn id="704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05" dur="2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351"/>
                            </p:stCondLst>
                            <p:childTnLst>
                              <p:par>
                                <p:cTn id="708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09" dur="5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401"/>
                            </p:stCondLst>
                            <p:childTnLst>
                              <p:par>
                                <p:cTn id="712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13" dur="1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1"/>
                            </p:stCondLst>
                            <p:childTnLst>
                              <p:par>
                                <p:cTn id="71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7" dur="2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701"/>
                            </p:stCondLst>
                            <p:childTnLst>
                              <p:par>
                                <p:cTn id="7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2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901"/>
                            </p:stCondLst>
                            <p:childTnLst>
                              <p:par>
                                <p:cTn id="72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51"/>
                            </p:stCondLst>
                            <p:childTnLst>
                              <p:par>
                                <p:cTn id="73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4" dur="2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251"/>
                            </p:stCondLst>
                            <p:childTnLst>
                              <p:par>
                                <p:cTn id="7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301"/>
                            </p:stCondLst>
                            <p:childTnLst>
                              <p:par>
                                <p:cTn id="7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2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1"/>
                            </p:stCondLst>
                            <p:childTnLst>
                              <p:par>
                                <p:cTn id="74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502"/>
                            </p:stCondLst>
                            <p:childTnLst>
                              <p:par>
                                <p:cTn id="74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3"/>
                            </p:stCondLst>
                            <p:childTnLst>
                              <p:par>
                                <p:cTn id="75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504"/>
                            </p:stCondLst>
                            <p:childTnLst>
                              <p:par>
                                <p:cTn id="75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505"/>
                            </p:stCondLst>
                            <p:childTnLst>
                              <p:par>
                                <p:cTn id="75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506"/>
                            </p:stCondLst>
                            <p:childTnLst>
                              <p:par>
                                <p:cTn id="7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2" dur="2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4" dur="2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106"/>
                            </p:stCondLst>
                            <p:childTnLst>
                              <p:par>
                                <p:cTn id="7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3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406"/>
                            </p:stCondLst>
                            <p:childTnLst>
                              <p:par>
                                <p:cTn id="7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2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2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2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2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2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2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606"/>
                            </p:stCondLst>
                            <p:childTnLst>
                              <p:par>
                                <p:cTn id="7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2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806"/>
                            </p:stCondLst>
                            <p:childTnLst>
                              <p:par>
                                <p:cTn id="7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2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006"/>
                            </p:stCondLst>
                            <p:childTnLst>
                              <p:par>
                                <p:cTn id="8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2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206"/>
                            </p:stCondLst>
                            <p:childTnLst>
                              <p:par>
                                <p:cTn id="8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2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3406"/>
                            </p:stCondLst>
                            <p:childTnLst>
                              <p:par>
                                <p:cTn id="8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2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3606"/>
                            </p:stCondLst>
                            <p:childTnLst>
                              <p:par>
                                <p:cTn id="8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2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8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0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"/>
                            </p:stCondLst>
                            <p:childTnLst>
                              <p:par>
                                <p:cTn id="8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2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00"/>
                            </p:stCondLst>
                            <p:childTnLst>
                              <p:par>
                                <p:cTn id="8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2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600"/>
                            </p:stCondLst>
                            <p:childTnLst>
                              <p:par>
                                <p:cTn id="8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2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2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2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2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2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2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800"/>
                            </p:stCondLst>
                            <p:childTnLst>
                              <p:par>
                                <p:cTn id="8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2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2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2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2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6 L 0.82674 -3.7037E-006 E">
                                      <p:cBhvr>
                                        <p:cTn id="864" dur="5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5 0.00254 L 0.82674 1.84971E-006 E">
                                      <p:cBhvr>
                                        <p:cTn id="866" dur="5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68" dur="5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0" dur="5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2" dur="5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4" dur="5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6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8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80" dur="5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82" dur="5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84" dur="5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86" dur="5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9" dur="1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1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2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700"/>
                            </p:stCondLst>
                            <p:childTnLst>
                              <p:par>
                                <p:cTn id="89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2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900"/>
                            </p:stCondLst>
                            <p:childTnLst>
                              <p:par>
                                <p:cTn id="9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2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100"/>
                            </p:stCondLst>
                            <p:childTnLst>
                              <p:par>
                                <p:cTn id="9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2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2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2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2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2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300"/>
                            </p:stCondLst>
                            <p:childTnLst>
                              <p:par>
                                <p:cTn id="9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2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2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2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2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35" dur="5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37" dur="5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39" dur="5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1" dur="5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3" dur="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5" dur="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7" dur="5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9" dur="5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51" dur="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53" dur="5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55" dur="5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57" dur="5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0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2" dur="1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700"/>
                            </p:stCondLst>
                            <p:childTnLst>
                              <p:par>
                                <p:cTn id="9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2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900"/>
                            </p:stCondLst>
                            <p:childTnLst>
                              <p:par>
                                <p:cTn id="9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2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100"/>
                            </p:stCondLst>
                            <p:childTnLst>
                              <p:par>
                                <p:cTn id="9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2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300"/>
                            </p:stCondLst>
                            <p:childTnLst>
                              <p:par>
                                <p:cTn id="9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2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2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2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500"/>
                            </p:stCondLst>
                            <p:childTnLst>
                              <p:par>
                                <p:cTn id="9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2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2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995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997" dur="5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999" dur="5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1" dur="5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3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5" dur="5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7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9" dur="5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2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4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700"/>
                            </p:stCondLst>
                            <p:childTnLst>
                              <p:par>
                                <p:cTn id="10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1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800"/>
                            </p:stCondLst>
                            <p:childTnLst>
                              <p:par>
                                <p:cTn id="10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1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900"/>
                            </p:stCondLst>
                            <p:childTnLst>
                              <p:par>
                                <p:cTn id="10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1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2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2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2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2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2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2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200"/>
                            </p:stCondLst>
                            <p:childTnLst>
                              <p:par>
                                <p:cTn id="10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2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2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2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2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2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65" dur="5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67" dur="5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69" dur="5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1" dur="5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3" dur="5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5" dur="5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7" dur="5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9" dur="5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1" dur="5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3" dur="5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5" dur="5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7" dur="5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9" dur="5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91" dur="5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4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6" dur="1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700"/>
                            </p:stCondLst>
                            <p:childTnLst>
                              <p:par>
                                <p:cTn id="10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2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900"/>
                            </p:stCondLst>
                            <p:childTnLst>
                              <p:par>
                                <p:cTn id="110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2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100"/>
                            </p:stCondLst>
                            <p:childTnLst>
                              <p:par>
                                <p:cTn id="11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2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1300"/>
                            </p:stCondLst>
                            <p:childTnLst>
                              <p:par>
                                <p:cTn id="11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2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2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2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2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2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2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2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2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2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1" dur="5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3" dur="5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5" dur="5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7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9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1" dur="5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3" dur="5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5" dur="5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7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9" dur="5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61" dur="5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63" dur="5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6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8" dur="1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700"/>
                            </p:stCondLst>
                            <p:childTnLst>
                              <p:par>
                                <p:cTn id="11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2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900"/>
                            </p:stCondLst>
                            <p:childTnLst>
                              <p:par>
                                <p:cTn id="11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2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100"/>
                            </p:stCondLst>
                            <p:childTnLst>
                              <p:par>
                                <p:cTn id="11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2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300"/>
                            </p:stCondLst>
                            <p:childTnLst>
                              <p:par>
                                <p:cTn id="11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2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2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2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2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2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1" dur="5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3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5" dur="5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7" dur="5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9" dur="5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1" dur="5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3" dur="5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5" dur="5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7" dur="5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9" dur="5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1" dur="5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3" dur="5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5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7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9" dur="5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1" dur="5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3" dur="5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5" dur="5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7" dur="5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9" dur="5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41" dur="5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43" dur="5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45" dur="5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9219 -3.38575E-006 C 1.19045 0.00047 1.93368 0.00208 2.18143 0.00278 E">
                                      <p:cBhvr>
                                        <p:cTn id="1249" dur="5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412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4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415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416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0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421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422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5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6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427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428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1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2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433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434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7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8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439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440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3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4" name="（信息传递方式）空心弧 88"/>
          <p:cNvSpPr/>
          <p:nvPr/>
        </p:nvSpPr>
        <p:spPr>
          <a:xfrm rot="3517800">
            <a:off x="2497680" y="1302480"/>
            <a:ext cx="4125960" cy="4041720"/>
          </a:xfrm>
          <a:custGeom>
            <a:avLst/>
            <a:gdLst/>
            <a:ahLst/>
            <a:rect l="l" t="t" r="r" b="b"/>
            <a:pathLst>
              <a:path w="4125912" h="4041775">
                <a:moveTo>
                  <a:pt x="7382" y="1850070"/>
                </a:moveTo>
                <a:cubicBezTo>
                  <a:pt x="62785" y="1202859"/>
                  <a:pt x="428950" y="642930"/>
                  <a:pt x="958978" y="313414"/>
                </a:cubicBezTo>
                <a:lnTo>
                  <a:pt x="1125130" y="570170"/>
                </a:lnTo>
                <a:cubicBezTo>
                  <a:pt x="672046" y="849581"/>
                  <a:pt x="359109" y="1325538"/>
                  <a:pt x="311761" y="1875257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图片 63" descr=""/>
          <p:cNvPicPr/>
          <p:nvPr/>
        </p:nvPicPr>
        <p:blipFill>
          <a:blip r:embed="rId3"/>
          <a:stretch/>
        </p:blipFill>
        <p:spPr>
          <a:xfrm>
            <a:off x="1044720" y="1125360"/>
            <a:ext cx="2879640" cy="194328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64" descr=""/>
          <p:cNvPicPr/>
          <p:nvPr/>
        </p:nvPicPr>
        <p:blipFill>
          <a:blip r:embed="rId4"/>
          <a:stretch/>
        </p:blipFill>
        <p:spPr>
          <a:xfrm>
            <a:off x="1044720" y="3573360"/>
            <a:ext cx="2882880" cy="1941480"/>
          </a:xfrm>
          <a:prstGeom prst="rect">
            <a:avLst/>
          </a:prstGeom>
          <a:ln w="0">
            <a:noFill/>
          </a:ln>
        </p:spPr>
      </p:pic>
      <p:sp>
        <p:nvSpPr>
          <p:cNvPr id="447" name="圆角矩形 129"/>
          <p:cNvSpPr/>
          <p:nvPr/>
        </p:nvSpPr>
        <p:spPr>
          <a:xfrm>
            <a:off x="4429080" y="1590840"/>
            <a:ext cx="1871640" cy="10080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效纸质问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9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圆角矩形 130"/>
          <p:cNvSpPr/>
          <p:nvPr/>
        </p:nvSpPr>
        <p:spPr>
          <a:xfrm>
            <a:off x="4429080" y="4038480"/>
            <a:ext cx="1871640" cy="1008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效网络问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（方法）矩形 105"/>
          <p:cNvSpPr/>
          <p:nvPr/>
        </p:nvSpPr>
        <p:spPr>
          <a:xfrm rot="19469400">
            <a:off x="6608880" y="2792160"/>
            <a:ext cx="1498320" cy="10494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64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直接连接符 133"/>
          <p:cNvSpPr/>
          <p:nvPr/>
        </p:nvSpPr>
        <p:spPr>
          <a:xfrm flipV="1">
            <a:off x="3924360" y="2095560"/>
            <a:ext cx="504720" cy="1440"/>
          </a:xfrm>
          <a:prstGeom prst="line">
            <a:avLst/>
          </a:prstGeom>
          <a:ln w="1908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直接连接符 134"/>
          <p:cNvSpPr/>
          <p:nvPr/>
        </p:nvSpPr>
        <p:spPr>
          <a:xfrm flipV="1">
            <a:off x="3927600" y="4543560"/>
            <a:ext cx="501480" cy="1440"/>
          </a:xfrm>
          <a:prstGeom prst="line">
            <a:avLst/>
          </a:prstGeom>
          <a:ln w="1908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圆角矩形 142"/>
          <p:cNvSpPr/>
          <p:nvPr/>
        </p:nvSpPr>
        <p:spPr>
          <a:xfrm>
            <a:off x="-7597800" y="4941720"/>
            <a:ext cx="7201080" cy="1079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5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456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457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0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1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3" name="（1绪论·蓝）组合 40"/>
          <p:cNvGrpSpPr/>
          <p:nvPr/>
        </p:nvGrpSpPr>
        <p:grpSpPr>
          <a:xfrm>
            <a:off x="2050920" y="115920"/>
            <a:ext cx="1729080" cy="673200"/>
            <a:chOff x="2050920" y="115920"/>
            <a:chExt cx="1729080" cy="673200"/>
          </a:xfrm>
        </p:grpSpPr>
        <p:grpSp>
          <p:nvGrpSpPr>
            <p:cNvPr id="464" name="（1绪论）组合 45"/>
            <p:cNvGrpSpPr/>
            <p:nvPr/>
          </p:nvGrpSpPr>
          <p:grpSpPr>
            <a:xfrm>
              <a:off x="2050920" y="115920"/>
              <a:ext cx="1729080" cy="673200"/>
              <a:chOff x="2050920" y="115920"/>
              <a:chExt cx="1729080" cy="673200"/>
            </a:xfrm>
          </p:grpSpPr>
          <p:sp>
            <p:nvSpPr>
              <p:cNvPr id="465" name="圆角矩形 92"/>
              <p:cNvSpPr/>
              <p:nvPr/>
            </p:nvSpPr>
            <p:spPr>
              <a:xfrm>
                <a:off x="2122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矩形 93"/>
              <p:cNvSpPr/>
              <p:nvPr/>
            </p:nvSpPr>
            <p:spPr>
              <a:xfrm>
                <a:off x="214128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矩形 94"/>
              <p:cNvSpPr/>
              <p:nvPr/>
            </p:nvSpPr>
            <p:spPr>
              <a:xfrm>
                <a:off x="205092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8" name="（1绪论）TextBox 72"/>
            <p:cNvSpPr/>
            <p:nvPr/>
          </p:nvSpPr>
          <p:spPr>
            <a:xfrm>
              <a:off x="2122920" y="11628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9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（左·遮盖）弧形 71"/>
          <p:cNvSpPr/>
          <p:nvPr/>
        </p:nvSpPr>
        <p:spPr>
          <a:xfrm>
            <a:off x="2124000" y="115920"/>
            <a:ext cx="17964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（左·遮盖）直接连接符 74"/>
          <p:cNvSpPr/>
          <p:nvPr/>
        </p:nvSpPr>
        <p:spPr>
          <a:xfrm>
            <a:off x="2124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（右·遮盖）弧形 78"/>
          <p:cNvSpPr/>
          <p:nvPr/>
        </p:nvSpPr>
        <p:spPr>
          <a:xfrm rot="5400000">
            <a:off x="3526200" y="116280"/>
            <a:ext cx="181080" cy="17964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（右·遮盖）直接连接符 79"/>
          <p:cNvSpPr/>
          <p:nvPr/>
        </p:nvSpPr>
        <p:spPr>
          <a:xfrm flipH="1">
            <a:off x="3706920" y="209520"/>
            <a:ext cx="144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（上·遮盖）直接连接符 84"/>
          <p:cNvSpPr/>
          <p:nvPr/>
        </p:nvSpPr>
        <p:spPr>
          <a:xfrm>
            <a:off x="220680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（小方框遮罩层）矩形 52"/>
          <p:cNvSpPr/>
          <p:nvPr/>
        </p:nvSpPr>
        <p:spPr>
          <a:xfrm>
            <a:off x="2144880" y="511200"/>
            <a:ext cx="15490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（频率）TextBox 81"/>
          <p:cNvSpPr/>
          <p:nvPr/>
        </p:nvSpPr>
        <p:spPr>
          <a:xfrm>
            <a:off x="2666880" y="1341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频率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2019240" y="2060640"/>
          <a:ext cx="5145120" cy="2663640"/>
        </p:xfrm>
        <a:graphic>
          <a:graphicData uri="http://schemas.openxmlformats.org/drawingml/2006/table">
            <a:tbl>
              <a:tblPr/>
              <a:tblGrid>
                <a:gridCol w="2265480"/>
                <a:gridCol w="1171440"/>
                <a:gridCol w="1708200"/>
              </a:tblGrid>
              <a:tr h="444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4428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.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星期至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8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44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个月至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4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3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个学期至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.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44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不曾到过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1332000" y="1916280"/>
          <a:ext cx="6553080" cy="3671640"/>
        </p:xfrm>
        <a:graphic>
          <a:graphicData uri="http://schemas.openxmlformats.org/drawingml/2006/table">
            <a:tbl>
              <a:tblPr/>
              <a:tblGrid>
                <a:gridCol w="4537080"/>
                <a:gridCol w="936720"/>
                <a:gridCol w="1079280"/>
              </a:tblGrid>
              <a:tr h="40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借书或还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2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自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看休闲性期刊或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7.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使用视听中心的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复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使用电子资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询问官员使用图书馆或电子资源相关问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参加图书馆举办的活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.5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4" name="（目的）TextBox 81"/>
          <p:cNvSpPr/>
          <p:nvPr/>
        </p:nvSpPr>
        <p:spPr>
          <a:xfrm>
            <a:off x="2700360" y="134136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7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使用目的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2268360" y="1989000"/>
          <a:ext cx="4594320" cy="2592360"/>
        </p:xfrm>
        <a:graphic>
          <a:graphicData uri="http://schemas.openxmlformats.org/drawingml/2006/table">
            <a:tbl>
              <a:tblPr/>
              <a:tblGrid>
                <a:gridCol w="2287440"/>
                <a:gridCol w="997200"/>
                <a:gridCol w="1309680"/>
              </a:tblGrid>
              <a:tr h="431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432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早读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上午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33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中午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下午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316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晚上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以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2340000" y="1989000"/>
          <a:ext cx="4464000" cy="2592360"/>
        </p:xfrm>
        <a:graphic>
          <a:graphicData uri="http://schemas.openxmlformats.org/drawingml/2006/table">
            <a:tbl>
              <a:tblPr/>
              <a:tblGrid>
                <a:gridCol w="1847880"/>
                <a:gridCol w="1184400"/>
                <a:gridCol w="1431720"/>
              </a:tblGrid>
              <a:tr h="539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514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独自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2.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6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bf5ff"/>
                    </a:solidFill>
                  </a:tcPr>
                </a:tc>
              </a:tr>
              <a:tr h="51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以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</a:tr>
            </a:tbl>
          </a:graphicData>
        </a:graphic>
      </p:graphicFrame>
      <p:sp>
        <p:nvSpPr>
          <p:cNvPr id="487" name="TextBox 85"/>
          <p:cNvSpPr/>
          <p:nvPr/>
        </p:nvSpPr>
        <p:spPr>
          <a:xfrm>
            <a:off x="2786040" y="1341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5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时间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86"/>
          <p:cNvSpPr/>
          <p:nvPr/>
        </p:nvSpPr>
        <p:spPr>
          <a:xfrm>
            <a:off x="2771640" y="137304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6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否与同学一起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490" name="矩形 89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的与习惯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直角三角形 97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直角三角形 105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0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"/>
                            </p:stCondLst>
                            <p:childTnLst>
                              <p:par>
                                <p:cTn id="1257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58" dur="1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01"/>
                            </p:stCondLst>
                            <p:childTnLst>
                              <p:par>
                                <p:cTn id="1261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62" dur="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51"/>
                            </p:stCondLst>
                            <p:childTnLst>
                              <p:par>
                                <p:cTn id="1265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6" dur="2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351"/>
                            </p:stCondLst>
                            <p:childTnLst>
                              <p:par>
                                <p:cTn id="1269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70" dur="5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401"/>
                            </p:stCondLst>
                            <p:childTnLst>
                              <p:par>
                                <p:cTn id="1273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74" dur="1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501"/>
                            </p:stCondLst>
                            <p:childTnLst>
                              <p:par>
                                <p:cTn id="127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8" dur="2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701"/>
                            </p:stCondLst>
                            <p:childTnLst>
                              <p:par>
                                <p:cTn id="12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2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901"/>
                            </p:stCondLst>
                            <p:childTnLst>
                              <p:par>
                                <p:cTn id="12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1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51"/>
                            </p:stCondLst>
                            <p:childTnLst>
                              <p:par>
                                <p:cTn id="129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5" dur="2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251"/>
                            </p:stCondLst>
                            <p:childTnLst>
                              <p:par>
                                <p:cTn id="129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9" dur="5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1301"/>
                            </p:stCondLst>
                            <p:childTnLst>
                              <p:par>
                                <p:cTn id="13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2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1501"/>
                            </p:stCondLst>
                            <p:childTnLst>
                              <p:par>
                                <p:cTn id="130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502"/>
                            </p:stCondLst>
                            <p:childTnLst>
                              <p:par>
                                <p:cTn id="130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503"/>
                            </p:stCondLst>
                            <p:childTnLst>
                              <p:par>
                                <p:cTn id="131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504"/>
                            </p:stCondLst>
                            <p:childTnLst>
                              <p:par>
                                <p:cTn id="131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505"/>
                            </p:stCondLst>
                            <p:childTnLst>
                              <p:par>
                                <p:cTn id="131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506"/>
                            </p:stCondLst>
                            <p:childTnLst>
                              <p:par>
                                <p:cTn id="13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3" dur="2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5" dur="2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106"/>
                            </p:stCondLst>
                            <p:childTnLst>
                              <p:par>
                                <p:cTn id="13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2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2306"/>
                            </p:stCondLst>
                            <p:childTnLst>
                              <p:par>
                                <p:cTn id="13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1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2406"/>
                            </p:stCondLst>
                            <p:childTnLst>
                              <p:par>
                                <p:cTn id="13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2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2606"/>
                            </p:stCondLst>
                            <p:childTnLst>
                              <p:par>
                                <p:cTn id="13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2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2806"/>
                            </p:stCondLst>
                            <p:childTnLst>
                              <p:par>
                                <p:cTn id="13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1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2906"/>
                            </p:stCondLst>
                            <p:childTnLst>
                              <p:par>
                                <p:cTn id="13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2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3106"/>
                            </p:stCondLst>
                            <p:childTnLst>
                              <p:par>
                                <p:cTn id="1351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8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0" dur="5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2" dur="5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4" dur="5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6" dur="5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8" dur="5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70" dur="5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72" dur="5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500"/>
                            </p:stCondLst>
                            <p:childTnLst>
                              <p:par>
                                <p:cTn id="13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8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9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00"/>
                            </p:stCondLst>
                            <p:childTnLst>
                              <p:par>
                                <p:cTn id="13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0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0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2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3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3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494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6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497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498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1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2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503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504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7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8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509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510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3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4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515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516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9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0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521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522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25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6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8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529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530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3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4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2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543" name="矩形 89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馆藏质量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直角三角形 97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直角三角形 105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546" name=""/>
          <p:cNvGraphicFramePr/>
          <p:nvPr/>
        </p:nvGraphicFramePr>
        <p:xfrm>
          <a:off x="1476360" y="1700280"/>
          <a:ext cx="6337440" cy="3703680"/>
        </p:xfrm>
        <a:graphic>
          <a:graphicData uri="http://schemas.openxmlformats.org/drawingml/2006/table">
            <a:tbl>
              <a:tblPr/>
              <a:tblGrid>
                <a:gridCol w="2448000"/>
                <a:gridCol w="2311200"/>
                <a:gridCol w="1578240"/>
              </a:tblGrid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最常使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应加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5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文数据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试平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1258920" y="1700280"/>
          <a:ext cx="6912000" cy="3672000"/>
        </p:xfrm>
        <a:graphic>
          <a:graphicData uri="http://schemas.openxmlformats.org/drawingml/2006/table">
            <a:tbl>
              <a:tblPr/>
              <a:tblGrid>
                <a:gridCol w="1128600"/>
                <a:gridCol w="1128960"/>
                <a:gridCol w="1122120"/>
                <a:gridCol w="1065240"/>
                <a:gridCol w="1187640"/>
                <a:gridCol w="1279440"/>
              </a:tblGrid>
              <a:tr h="351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类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31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文学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8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4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科普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4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.7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1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经管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.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0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艺术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7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.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1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理工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.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.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史地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0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.5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军事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.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.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外文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1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24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未使用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.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6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548" name="（加强馆藏类别）TextBox 81"/>
          <p:cNvSpPr/>
          <p:nvPr/>
        </p:nvSpPr>
        <p:spPr>
          <a:xfrm>
            <a:off x="1835280" y="115740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总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2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类型馆藏应加强的类别汇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72"/>
          <p:cNvSpPr/>
          <p:nvPr/>
        </p:nvSpPr>
        <p:spPr>
          <a:xfrm>
            <a:off x="1835280" y="115740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总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及应加强馆藏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圆角矩形 73"/>
          <p:cNvSpPr/>
          <p:nvPr/>
        </p:nvSpPr>
        <p:spPr>
          <a:xfrm>
            <a:off x="1258920" y="5516640"/>
            <a:ext cx="554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：由 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1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11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1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 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1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14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圆角矩形 74"/>
          <p:cNvSpPr/>
          <p:nvPr/>
        </p:nvSpPr>
        <p:spPr>
          <a:xfrm>
            <a:off x="1484280" y="5516640"/>
            <a:ext cx="258300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：由 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8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9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2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553" name="矩形 76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的与习惯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直角三角形 77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直角三角形 78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0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4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4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6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6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500"/>
                            </p:stCondLst>
                            <p:childTnLst>
                              <p:par>
                                <p:cTn id="14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557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9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560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561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4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5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566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567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0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1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572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573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6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7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578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579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2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3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584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585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8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9" name="（信息传递方式）空心弧 88"/>
          <p:cNvSpPr/>
          <p:nvPr/>
        </p:nvSpPr>
        <p:spPr>
          <a:xfrm rot="3517800">
            <a:off x="2497680" y="1302480"/>
            <a:ext cx="4125960" cy="4041720"/>
          </a:xfrm>
          <a:custGeom>
            <a:avLst/>
            <a:gdLst/>
            <a:ahLst/>
            <a:rect l="l" t="t" r="r" b="b"/>
            <a:pathLst>
              <a:path w="4125912" h="4041775">
                <a:moveTo>
                  <a:pt x="7382" y="1850070"/>
                </a:moveTo>
                <a:cubicBezTo>
                  <a:pt x="62785" y="1202859"/>
                  <a:pt x="428950" y="642930"/>
                  <a:pt x="958978" y="313414"/>
                </a:cubicBezTo>
                <a:lnTo>
                  <a:pt x="1125130" y="570170"/>
                </a:lnTo>
                <a:cubicBezTo>
                  <a:pt x="672046" y="849581"/>
                  <a:pt x="359109" y="1325538"/>
                  <a:pt x="311761" y="1875257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2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593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594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7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8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2556000" y="2498760"/>
          <a:ext cx="3624120" cy="2984400"/>
        </p:xfrm>
        <a:graphic>
          <a:graphicData uri="http://schemas.openxmlformats.org/drawingml/2006/table">
            <a:tbl>
              <a:tblPr/>
              <a:tblGrid>
                <a:gridCol w="1938240"/>
                <a:gridCol w="758880"/>
                <a:gridCol w="927000"/>
              </a:tblGrid>
              <a:tr h="287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借阅、还书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6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文期刊、报纸阅览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7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文期刊阅览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7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电子阅览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考咨询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7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北区借阅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7.5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北区期刊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.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习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6.4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41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使用图书馆阅读空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3276720" y="3525840"/>
          <a:ext cx="3456000" cy="1924200"/>
        </p:xfrm>
        <a:graphic>
          <a:graphicData uri="http://schemas.openxmlformats.org/drawingml/2006/table">
            <a:tbl>
              <a:tblPr/>
              <a:tblGrid>
                <a:gridCol w="1349280"/>
                <a:gridCol w="841320"/>
                <a:gridCol w="1265400"/>
              </a:tblGrid>
              <a:tr h="287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整体清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8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7.9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气氛宁静、舒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5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灯光足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1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阅览座位足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9.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示清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7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608" name="圆角矩形 89"/>
          <p:cNvSpPr/>
          <p:nvPr/>
        </p:nvSpPr>
        <p:spPr>
          <a:xfrm>
            <a:off x="3851280" y="1413000"/>
            <a:ext cx="1440000" cy="6109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环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2390760" y="2451240"/>
          <a:ext cx="3168720" cy="1611000"/>
        </p:xfrm>
        <a:graphic>
          <a:graphicData uri="http://schemas.openxmlformats.org/drawingml/2006/table">
            <a:tbl>
              <a:tblPr/>
              <a:tblGrid>
                <a:gridCol w="1873080"/>
                <a:gridCol w="574920"/>
                <a:gridCol w="720720"/>
              </a:tblGrid>
              <a:tr h="19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态度亲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.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可以解答我的问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需要加强专业知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5.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与馆员沟通不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5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对于图书馆的新措施表示清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使用借还书柜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6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2678040" y="2811600"/>
          <a:ext cx="3471840" cy="1598400"/>
        </p:xfrm>
        <a:graphic>
          <a:graphicData uri="http://schemas.openxmlformats.org/drawingml/2006/table">
            <a:tbl>
              <a:tblPr/>
              <a:tblGrid>
                <a:gridCol w="2247840"/>
                <a:gridCol w="576360"/>
                <a:gridCol w="647640"/>
              </a:tblGrid>
              <a:tr h="19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态度亲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可以解答我的问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.5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需要加强专业知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.6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与馆员沟通不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对于图书馆的新措施表示清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使用参考咨询室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线咨询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4.7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5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3038400" y="3206880"/>
          <a:ext cx="3246480" cy="1779480"/>
        </p:xfrm>
        <a:graphic>
          <a:graphicData uri="http://schemas.openxmlformats.org/drawingml/2006/table">
            <a:tbl>
              <a:tblPr/>
              <a:tblGrid>
                <a:gridCol w="1878120"/>
                <a:gridCol w="647640"/>
                <a:gridCol w="72072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态度亲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6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帮助很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7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借阅速度太慢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.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借阅流程复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文数据库检索查询不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检索目录查询不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使用昌北高校图书馆联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.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325680" y="3578400"/>
          <a:ext cx="3035160" cy="1212840"/>
        </p:xfrm>
        <a:graphic>
          <a:graphicData uri="http://schemas.openxmlformats.org/drawingml/2006/table">
            <a:tbl>
              <a:tblPr/>
              <a:tblGrid>
                <a:gridCol w="1738440"/>
                <a:gridCol w="576000"/>
                <a:gridCol w="72072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询馆藏目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询电子资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7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587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推荐图书、期刊或视听资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9.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询资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9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使用图书馆网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3614760" y="3963960"/>
          <a:ext cx="3622680" cy="1598760"/>
        </p:xfrm>
        <a:graphic>
          <a:graphicData uri="http://schemas.openxmlformats.org/drawingml/2006/table">
            <a:tbl>
              <a:tblPr/>
              <a:tblGrid>
                <a:gridCol w="2327400"/>
                <a:gridCol w="647640"/>
                <a:gridCol w="64764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到图书馆咨询馆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7.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打电话咨询图书馆馆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mail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问读者咨询服务的馆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3.4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问同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2.5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己想办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有图书馆或资料库使用上的问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14" name="圆角矩形 78"/>
          <p:cNvSpPr/>
          <p:nvPr/>
        </p:nvSpPr>
        <p:spPr>
          <a:xfrm>
            <a:off x="3851280" y="1413000"/>
            <a:ext cx="1440000" cy="612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服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1908000" y="2282760"/>
          <a:ext cx="4178160" cy="1031760"/>
        </p:xfrm>
        <a:graphic>
          <a:graphicData uri="http://schemas.openxmlformats.org/drawingml/2006/table">
            <a:tbl>
              <a:tblPr/>
              <a:tblGrid>
                <a:gridCol w="2133720"/>
                <a:gridCol w="1358640"/>
                <a:gridCol w="685800"/>
              </a:tblGrid>
              <a:tr h="190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60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介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电子资源检索技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3.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79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个数据库检索技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5.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需要图书馆利用教育课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2197080" y="2643120"/>
          <a:ext cx="4213080" cy="1263600"/>
        </p:xfrm>
        <a:graphic>
          <a:graphicData uri="http://schemas.openxmlformats.org/drawingml/2006/table">
            <a:tbl>
              <a:tblPr/>
              <a:tblGrid>
                <a:gridCol w="2168640"/>
                <a:gridCol w="1358640"/>
                <a:gridCol w="68580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文字说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.4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视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2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互动课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.7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聊天室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.3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需要图书馆利用教育课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2590920" y="3005280"/>
          <a:ext cx="4322520" cy="1806480"/>
        </p:xfrm>
        <a:graphic>
          <a:graphicData uri="http://schemas.openxmlformats.org/drawingml/2006/table">
            <a:tbl>
              <a:tblPr/>
              <a:tblGrid>
                <a:gridCol w="2277720"/>
                <a:gridCol w="1359000"/>
                <a:gridCol w="685800"/>
              </a:tblGrid>
              <a:tr h="190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态度热诚、专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帮助很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一点帮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.7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内容不切合需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场地不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表达能力不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安排不合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4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参加图书馆利用教育课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4.4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2878200" y="3362400"/>
          <a:ext cx="4425840" cy="2298600"/>
        </p:xfrm>
        <a:graphic>
          <a:graphicData uri="http://schemas.openxmlformats.org/drawingml/2006/table">
            <a:tbl>
              <a:tblPr/>
              <a:tblGrid>
                <a:gridCol w="2381400"/>
                <a:gridCol w="1358640"/>
                <a:gridCol w="685800"/>
              </a:tblGrid>
              <a:tr h="190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60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利用教育培训课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.6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书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.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奖问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征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荐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.7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书目推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.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搜索竞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演讲比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.6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“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读者之星”评选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.6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体验之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0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参加过图书馆举办的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6.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619" name="圆角矩形 83"/>
          <p:cNvSpPr/>
          <p:nvPr/>
        </p:nvSpPr>
        <p:spPr>
          <a:xfrm>
            <a:off x="3848040" y="1419120"/>
            <a:ext cx="1440000" cy="612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活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2413080" y="2496960"/>
          <a:ext cx="4314600" cy="1936800"/>
        </p:xfrm>
        <a:graphic>
          <a:graphicData uri="http://schemas.openxmlformats.org/drawingml/2006/table">
            <a:tbl>
              <a:tblPr/>
              <a:tblGrid>
                <a:gridCol w="2269800"/>
                <a:gridCol w="1359000"/>
                <a:gridCol w="68580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海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2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横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.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新网、交大新闻主页等公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1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网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79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食堂电子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馆内公告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在线咨询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班委宣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知道图书馆举办的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.5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2700360" y="2930400"/>
          <a:ext cx="4121280" cy="2687760"/>
        </p:xfrm>
        <a:graphic>
          <a:graphicData uri="http://schemas.openxmlformats.org/drawingml/2006/table">
            <a:tbl>
              <a:tblPr/>
              <a:tblGrid>
                <a:gridCol w="2076480"/>
                <a:gridCol w="1359000"/>
                <a:gridCol w="68580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海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0.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横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.8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新网、交大主页公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0.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网页的快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.5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食堂电子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6.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馆内宣传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.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班委宣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79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人人网公共主页或人人小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.9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浪微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空间公共主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.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希望得到图书馆的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9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知道图书馆举办的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622" name="圆角矩形 86"/>
          <p:cNvSpPr/>
          <p:nvPr/>
        </p:nvSpPr>
        <p:spPr>
          <a:xfrm>
            <a:off x="3851280" y="1413000"/>
            <a:ext cx="1440000" cy="612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传递方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3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624" name="矩形 97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馆藏质量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直角三角形 105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直角三角形 107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fill="hold">
                      <p:stCondLst>
                        <p:cond delay="0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9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1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1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1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500"/>
                            </p:stCondLst>
                            <p:childTnLst>
                              <p:par>
                                <p:cTn id="15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5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5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7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7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500"/>
                            </p:stCondLst>
                            <p:childTnLst>
                              <p:par>
                                <p:cTn id="15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0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0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0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628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0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631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632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5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6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637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638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1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2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643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644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7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8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649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650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3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4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655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656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9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0" name="（信息传递方式）空心弧 88"/>
          <p:cNvSpPr/>
          <p:nvPr/>
        </p:nvSpPr>
        <p:spPr>
          <a:xfrm rot="3517800">
            <a:off x="2497680" y="1302480"/>
            <a:ext cx="4125960" cy="4041720"/>
          </a:xfrm>
          <a:custGeom>
            <a:avLst/>
            <a:gdLst/>
            <a:ahLst/>
            <a:rect l="l" t="t" r="r" b="b"/>
            <a:pathLst>
              <a:path w="4125912" h="4041775">
                <a:moveTo>
                  <a:pt x="7382" y="1850070"/>
                </a:moveTo>
                <a:cubicBezTo>
                  <a:pt x="62785" y="1202859"/>
                  <a:pt x="428950" y="642930"/>
                  <a:pt x="958978" y="313414"/>
                </a:cubicBezTo>
                <a:lnTo>
                  <a:pt x="1125130" y="570170"/>
                </a:lnTo>
                <a:cubicBezTo>
                  <a:pt x="672046" y="849581"/>
                  <a:pt x="359109" y="1325538"/>
                  <a:pt x="311761" y="1875257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664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665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8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9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835280" y="1700280"/>
          <a:ext cx="6337080" cy="3816360"/>
        </p:xfrm>
        <a:graphic>
          <a:graphicData uri="http://schemas.openxmlformats.org/drawingml/2006/table">
            <a:tbl>
              <a:tblPr/>
              <a:tblGrid>
                <a:gridCol w="2447640"/>
                <a:gridCol w="2311200"/>
                <a:gridCol w="1578240"/>
              </a:tblGrid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最常使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应加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5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文数据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试平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8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679" name="矩形 105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满意度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直角三角形 106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直角三角形 107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682" name=""/>
          <p:cNvGraphicFramePr/>
          <p:nvPr/>
        </p:nvGraphicFramePr>
        <p:xfrm>
          <a:off x="900000" y="1989000"/>
          <a:ext cx="7488360" cy="3406680"/>
        </p:xfrm>
        <a:graphic>
          <a:graphicData uri="http://schemas.openxmlformats.org/drawingml/2006/table">
            <a:tbl>
              <a:tblPr/>
              <a:tblGrid>
                <a:gridCol w="1279440"/>
                <a:gridCol w="1177920"/>
                <a:gridCol w="1284480"/>
                <a:gridCol w="1284120"/>
                <a:gridCol w="1284480"/>
                <a:gridCol w="1177920"/>
              </a:tblGrid>
              <a:tr h="274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非常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普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不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非常不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馆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4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8.54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.7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.70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4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环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.4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4.1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0.4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.04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服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.4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.72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3.62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.04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活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2.48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.18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整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满意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48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4.86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1.1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.3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83" name="TextBox 109"/>
          <p:cNvSpPr/>
          <p:nvPr/>
        </p:nvSpPr>
        <p:spPr>
          <a:xfrm>
            <a:off x="2916360" y="141300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28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满意度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0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500"/>
                            </p:stCondLst>
                            <p:childTnLst>
                              <p:par>
                                <p:cTn id="16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5:16:49Z</dcterms:created>
  <dc:creator>xp</dc:creator>
  <dc:description/>
  <dc:language>en-US</dc:language>
  <cp:lastModifiedBy>Administrator</cp:lastModifiedBy>
  <dcterms:modified xsi:type="dcterms:W3CDTF">2016-06-17T05:22:50Z</dcterms:modified>
  <cp:revision>3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