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691-F9EE-470D-BD3E-00B9FE2E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54C-32A4-4D44-8FD1-43E150BB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B2D-E66D-4345-8D4A-5E00D001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4AD9-49D8-412E-9B60-E8BA3855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DF27-5909-489D-9D02-03435A22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7D37-C865-40AD-9449-75C28721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602A-7931-40AF-983E-4802A698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CB6C-1C11-4321-A7C9-0973634D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E03D-2C3F-4437-99AF-EB3122D9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9990-1023-47DC-B012-8CE1C9B9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23D8-9B30-41CE-8D19-5A9C5486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648-B0A0-418F-ADEB-9EDBA810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EF62-8712-422A-91E3-93A6D560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A61F-4EE1-4AE6-A131-72275945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7B83-9C61-4F66-9010-6F556E4E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2942-F4BA-47A6-BFD1-86C4F281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BDD2-6CFB-4179-8F3B-5C08DC18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F82-DE72-4F9E-8213-2C93F487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8AA-EC79-4CDB-822C-17CBF3AB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B02-90DD-4975-A721-D2B1A2F5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F1F7-2CD6-48A5-93BA-34DFAC93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227-321E-45DE-8AC1-5DA25F6E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AD3-81ED-40AE-9C75-120F78BB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0038-332D-46B3-B695-71B982CD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8EF0-88C2-420B-AE4D-B60162B61B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D0F3-0531-44C4-880E-29541A6456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请在此处填入你需要的内容。请在此处填入你需要的内容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21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71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1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cp:keywords/>
  <dc:language>en-US</dc:language>
  <cp:lastModifiedBy>Administrator</cp:lastModifiedBy>
  <dcterms:modified xsi:type="dcterms:W3CDTF">2015-11-10T06:22:1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