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714-35C9-486A-B80A-DA442E84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CE9-3BE4-4E49-8B38-F4F97D2E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949-BF10-4B16-B3BE-810BBB73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242-29FB-4419-BC31-898ECC30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5063-D361-48B2-BC2D-E1AD2F57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B20E-316E-46BE-BB33-FB9377D4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5F2F-239A-452D-A203-51BE4378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311B-A42B-4E24-9CA4-F1BC2511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C62A-82F2-403A-A14B-25A5B9EC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499-C6FD-4DDA-A402-20FF67E7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4F34-79FA-480D-A0E9-4C505235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7E4A-87EB-4E28-8E6A-B4460051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0CFA-530B-48F3-83A6-6148A791CE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214880" y="78588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857840" y="16430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5198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4640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34977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34261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00040" y="6429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4265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42656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140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51984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069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66409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16405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519840" y="711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2426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6283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426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51984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711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59979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26406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1408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51984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5286240" y="4214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23547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14064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5198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14976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4212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6783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5198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22831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3711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56408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44820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64267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1783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4212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cp:keywords/>
  <dc:language>en-US</dc:language>
  <cp:lastModifiedBy>Yehuan Liu</cp:lastModifiedBy>
  <dcterms:modified xsi:type="dcterms:W3CDTF">2014-11-06T10:23:57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