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4C4-9F79-4BE3-9662-008952F9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8C8-1451-4F90-A044-28C9CD6D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5C7-8B46-40A9-AB12-4348FF53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7ED-4D4F-4AB7-903B-2BC85033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7BB-5C1F-4676-94B7-20ADC85D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541-884B-4A0A-B60A-A945E390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838-D541-4337-A450-B02BB9A4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754-2CF1-4C80-B676-F2C33476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74F3-85FD-4471-8CBF-3014243B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991-0AA1-4B30-8AA3-14A8C9AA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C27-7098-483E-AF0A-CB4C8587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5A7-2EAD-458B-A752-41DB0851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1D99-2564-408F-AF67-3653AB1C48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-25560"/>
            <a:ext cx="9148680" cy="688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7" descr="003-1.png"/>
          <p:cNvPicPr/>
          <p:nvPr/>
        </p:nvPicPr>
        <p:blipFill>
          <a:blip r:embed="rId1"/>
          <a:stretch/>
        </p:blipFill>
        <p:spPr>
          <a:xfrm>
            <a:off x="0" y="-212760"/>
            <a:ext cx="7243920" cy="7242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8" descr="未标题-3.png"/>
          <p:cNvPicPr/>
          <p:nvPr/>
        </p:nvPicPr>
        <p:blipFill>
          <a:blip r:embed="rId2"/>
          <a:stretch/>
        </p:blipFill>
        <p:spPr>
          <a:xfrm>
            <a:off x="-395280" y="-25560"/>
            <a:ext cx="3164040" cy="3094200"/>
          </a:xfrm>
          <a:prstGeom prst="rect">
            <a:avLst/>
          </a:prstGeom>
          <a:ln w="0">
            <a:noFill/>
          </a:ln>
        </p:spPr>
      </p:pic>
      <p:sp>
        <p:nvSpPr>
          <p:cNvPr id="44" name="直接连接符 42"/>
          <p:cNvSpPr/>
          <p:nvPr/>
        </p:nvSpPr>
        <p:spPr>
          <a:xfrm>
            <a:off x="0" y="5950080"/>
            <a:ext cx="9148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43"/>
          <p:cNvSpPr/>
          <p:nvPr/>
        </p:nvSpPr>
        <p:spPr>
          <a:xfrm>
            <a:off x="2235240" y="4336920"/>
            <a:ext cx="1407960" cy="1559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任意多边形 3"/>
          <p:cNvSpPr/>
          <p:nvPr/>
        </p:nvSpPr>
        <p:spPr>
          <a:xfrm>
            <a:off x="2571840" y="4695840"/>
            <a:ext cx="452520" cy="1254240"/>
          </a:xfrm>
          <a:custGeom>
            <a:avLst/>
            <a:gdLst/>
            <a:ahLst/>
            <a:rect l="l" t="t" r="r" b="b"/>
            <a:pathLst>
              <a:path w="452487" h="1253765">
                <a:moveTo>
                  <a:pt x="0" y="1253765"/>
                </a:moveTo>
                <a:cubicBezTo>
                  <a:pt x="81699" y="1191705"/>
                  <a:pt x="163399" y="1129646"/>
                  <a:pt x="226244" y="1046376"/>
                </a:cubicBezTo>
                <a:cubicBezTo>
                  <a:pt x="289090" y="963106"/>
                  <a:pt x="339366" y="856269"/>
                  <a:pt x="377073" y="754145"/>
                </a:cubicBezTo>
                <a:cubicBezTo>
                  <a:pt x="414780" y="652021"/>
                  <a:pt x="452487" y="559324"/>
                  <a:pt x="452487" y="433633"/>
                </a:cubicBezTo>
                <a:cubicBezTo>
                  <a:pt x="452487" y="307942"/>
                  <a:pt x="414780" y="153971"/>
                  <a:pt x="377073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任意多边形 4"/>
          <p:cNvSpPr/>
          <p:nvPr/>
        </p:nvSpPr>
        <p:spPr>
          <a:xfrm>
            <a:off x="2401920" y="3994200"/>
            <a:ext cx="72540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任意多边形 5"/>
          <p:cNvSpPr/>
          <p:nvPr/>
        </p:nvSpPr>
        <p:spPr>
          <a:xfrm>
            <a:off x="3030480" y="3780000"/>
            <a:ext cx="469800" cy="222120"/>
          </a:xfrm>
          <a:custGeom>
            <a:avLst/>
            <a:gdLst/>
            <a:ahLst/>
            <a:rect l="l" t="t" r="r" b="b"/>
            <a:pathLst>
              <a:path w="469823" h="220945">
                <a:moveTo>
                  <a:pt x="1953" y="179747"/>
                </a:moveTo>
                <a:cubicBezTo>
                  <a:pt x="12951" y="151466"/>
                  <a:pt x="77367" y="77623"/>
                  <a:pt x="124501" y="47771"/>
                </a:cubicBezTo>
                <a:cubicBezTo>
                  <a:pt x="171635" y="17919"/>
                  <a:pt x="229767" y="-4076"/>
                  <a:pt x="284757" y="637"/>
                </a:cubicBezTo>
                <a:cubicBezTo>
                  <a:pt x="339747" y="5350"/>
                  <a:pt x="426159" y="47771"/>
                  <a:pt x="454439" y="76052"/>
                </a:cubicBezTo>
                <a:cubicBezTo>
                  <a:pt x="482719" y="104332"/>
                  <a:pt x="465437" y="146753"/>
                  <a:pt x="454439" y="170320"/>
                </a:cubicBezTo>
                <a:cubicBezTo>
                  <a:pt x="443441" y="193887"/>
                  <a:pt x="430873" y="209598"/>
                  <a:pt x="388452" y="217454"/>
                </a:cubicBezTo>
                <a:cubicBezTo>
                  <a:pt x="346032" y="225310"/>
                  <a:pt x="199916" y="217454"/>
                  <a:pt x="199916" y="217454"/>
                </a:cubicBezTo>
                <a:cubicBezTo>
                  <a:pt x="144926" y="217454"/>
                  <a:pt x="88366" y="222167"/>
                  <a:pt x="58514" y="217454"/>
                </a:cubicBezTo>
                <a:cubicBezTo>
                  <a:pt x="28662" y="212741"/>
                  <a:pt x="-9045" y="208028"/>
                  <a:pt x="1953" y="17974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任意多边形 6"/>
          <p:cNvSpPr/>
          <p:nvPr/>
        </p:nvSpPr>
        <p:spPr>
          <a:xfrm>
            <a:off x="3181320" y="4059360"/>
            <a:ext cx="433440" cy="253800"/>
          </a:xfrm>
          <a:custGeom>
            <a:avLst/>
            <a:gdLst/>
            <a:ahLst/>
            <a:rect l="l" t="t" r="r" b="b"/>
            <a:pathLst>
              <a:path w="432726" h="253541">
                <a:moveTo>
                  <a:pt x="1852" y="32503"/>
                </a:moveTo>
                <a:cubicBezTo>
                  <a:pt x="17563" y="8936"/>
                  <a:pt x="152681" y="-8347"/>
                  <a:pt x="218668" y="4222"/>
                </a:cubicBezTo>
                <a:cubicBezTo>
                  <a:pt x="284656" y="16791"/>
                  <a:pt x="363212" y="71781"/>
                  <a:pt x="397777" y="107917"/>
                </a:cubicBezTo>
                <a:cubicBezTo>
                  <a:pt x="432342" y="144053"/>
                  <a:pt x="440198" y="197472"/>
                  <a:pt x="426058" y="221039"/>
                </a:cubicBezTo>
                <a:cubicBezTo>
                  <a:pt x="411918" y="244606"/>
                  <a:pt x="363212" y="261888"/>
                  <a:pt x="312936" y="249319"/>
                </a:cubicBezTo>
                <a:cubicBezTo>
                  <a:pt x="262660" y="236750"/>
                  <a:pt x="174676" y="180190"/>
                  <a:pt x="124400" y="145625"/>
                </a:cubicBezTo>
                <a:cubicBezTo>
                  <a:pt x="74124" y="111060"/>
                  <a:pt x="-13859" y="56070"/>
                  <a:pt x="1852" y="3250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7"/>
          <p:cNvSpPr/>
          <p:nvPr/>
        </p:nvSpPr>
        <p:spPr>
          <a:xfrm>
            <a:off x="3097080" y="4260960"/>
            <a:ext cx="370080" cy="325440"/>
          </a:xfrm>
          <a:custGeom>
            <a:avLst/>
            <a:gdLst/>
            <a:ahLst/>
            <a:rect l="l" t="t" r="r" b="b"/>
            <a:pathLst>
              <a:path w="370890" h="325759">
                <a:moveTo>
                  <a:pt x="49323" y="683"/>
                </a:moveTo>
                <a:cubicBezTo>
                  <a:pt x="83888" y="-4030"/>
                  <a:pt x="165587" y="16395"/>
                  <a:pt x="209579" y="38391"/>
                </a:cubicBezTo>
                <a:cubicBezTo>
                  <a:pt x="253571" y="60387"/>
                  <a:pt x="286565" y="91810"/>
                  <a:pt x="313274" y="132659"/>
                </a:cubicBezTo>
                <a:cubicBezTo>
                  <a:pt x="339983" y="173508"/>
                  <a:pt x="377691" y="252064"/>
                  <a:pt x="369835" y="283487"/>
                </a:cubicBezTo>
                <a:cubicBezTo>
                  <a:pt x="361979" y="314910"/>
                  <a:pt x="311703" y="335335"/>
                  <a:pt x="266140" y="321195"/>
                </a:cubicBezTo>
                <a:cubicBezTo>
                  <a:pt x="220577" y="307055"/>
                  <a:pt x="140450" y="241067"/>
                  <a:pt x="96458" y="198646"/>
                </a:cubicBezTo>
                <a:cubicBezTo>
                  <a:pt x="52466" y="156225"/>
                  <a:pt x="11616" y="98094"/>
                  <a:pt x="2189" y="66671"/>
                </a:cubicBezTo>
                <a:cubicBezTo>
                  <a:pt x="-7238" y="35248"/>
                  <a:pt x="14758" y="5396"/>
                  <a:pt x="49323" y="68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任意多边形 8"/>
          <p:cNvSpPr/>
          <p:nvPr/>
        </p:nvSpPr>
        <p:spPr>
          <a:xfrm>
            <a:off x="2900520" y="4410000"/>
            <a:ext cx="314280" cy="360360"/>
          </a:xfrm>
          <a:custGeom>
            <a:avLst/>
            <a:gdLst/>
            <a:ahLst/>
            <a:rect l="l" t="t" r="r" b="b"/>
            <a:pathLst>
              <a:path w="313001" h="360794">
                <a:moveTo>
                  <a:pt x="37707" y="2431"/>
                </a:moveTo>
                <a:cubicBezTo>
                  <a:pt x="69130" y="-3854"/>
                  <a:pt x="146115" y="860"/>
                  <a:pt x="188536" y="30712"/>
                </a:cubicBezTo>
                <a:cubicBezTo>
                  <a:pt x="230957" y="60564"/>
                  <a:pt x="271806" y="139120"/>
                  <a:pt x="292231" y="181541"/>
                </a:cubicBezTo>
                <a:cubicBezTo>
                  <a:pt x="312656" y="223962"/>
                  <a:pt x="315797" y="255384"/>
                  <a:pt x="311084" y="285235"/>
                </a:cubicBezTo>
                <a:cubicBezTo>
                  <a:pt x="306371" y="315086"/>
                  <a:pt x="303228" y="363792"/>
                  <a:pt x="263950" y="360650"/>
                </a:cubicBezTo>
                <a:cubicBezTo>
                  <a:pt x="224672" y="357508"/>
                  <a:pt x="119406" y="315087"/>
                  <a:pt x="75414" y="266382"/>
                </a:cubicBezTo>
                <a:cubicBezTo>
                  <a:pt x="31422" y="217677"/>
                  <a:pt x="6284" y="113982"/>
                  <a:pt x="0" y="68419"/>
                </a:cubicBezTo>
                <a:cubicBezTo>
                  <a:pt x="-6285" y="22856"/>
                  <a:pt x="6284" y="8716"/>
                  <a:pt x="37707" y="24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10"/>
          <p:cNvSpPr/>
          <p:nvPr/>
        </p:nvSpPr>
        <p:spPr>
          <a:xfrm>
            <a:off x="2654280" y="4476600"/>
            <a:ext cx="231840" cy="370080"/>
          </a:xfrm>
          <a:custGeom>
            <a:avLst/>
            <a:gdLst/>
            <a:ahLst/>
            <a:rect l="l" t="t" r="r" b="b"/>
            <a:pathLst>
              <a:path w="231017" h="370223">
                <a:moveTo>
                  <a:pt x="67284" y="11457"/>
                </a:moveTo>
                <a:cubicBezTo>
                  <a:pt x="98707" y="-18394"/>
                  <a:pt x="163124" y="14599"/>
                  <a:pt x="189833" y="58591"/>
                </a:cubicBezTo>
                <a:cubicBezTo>
                  <a:pt x="216542" y="102583"/>
                  <a:pt x="240109" y="223560"/>
                  <a:pt x="227540" y="275407"/>
                </a:cubicBezTo>
                <a:cubicBezTo>
                  <a:pt x="214971" y="327254"/>
                  <a:pt x="152125" y="375959"/>
                  <a:pt x="114418" y="369675"/>
                </a:cubicBezTo>
                <a:cubicBezTo>
                  <a:pt x="76711" y="363391"/>
                  <a:pt x="10724" y="295832"/>
                  <a:pt x="1297" y="237700"/>
                </a:cubicBezTo>
                <a:cubicBezTo>
                  <a:pt x="-8130" y="179568"/>
                  <a:pt x="35861" y="41308"/>
                  <a:pt x="67284" y="1145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11"/>
          <p:cNvSpPr/>
          <p:nvPr/>
        </p:nvSpPr>
        <p:spPr>
          <a:xfrm>
            <a:off x="2306520" y="4492800"/>
            <a:ext cx="257400" cy="384120"/>
          </a:xfrm>
          <a:custGeom>
            <a:avLst/>
            <a:gdLst/>
            <a:ahLst/>
            <a:rect l="l" t="t" r="r" b="b"/>
            <a:pathLst>
              <a:path w="256146" h="383766">
                <a:moveTo>
                  <a:pt x="216867" y="4385"/>
                </a:moveTo>
                <a:cubicBezTo>
                  <a:pt x="248290" y="20096"/>
                  <a:pt x="260860" y="101795"/>
                  <a:pt x="254575" y="155214"/>
                </a:cubicBezTo>
                <a:cubicBezTo>
                  <a:pt x="248291" y="208633"/>
                  <a:pt x="209012" y="287190"/>
                  <a:pt x="179160" y="324897"/>
                </a:cubicBezTo>
                <a:cubicBezTo>
                  <a:pt x="149308" y="362604"/>
                  <a:pt x="105316" y="392456"/>
                  <a:pt x="75465" y="381458"/>
                </a:cubicBezTo>
                <a:cubicBezTo>
                  <a:pt x="45613" y="370460"/>
                  <a:pt x="1622" y="312328"/>
                  <a:pt x="51" y="258909"/>
                </a:cubicBezTo>
                <a:cubicBezTo>
                  <a:pt x="-1520" y="205490"/>
                  <a:pt x="33045" y="104938"/>
                  <a:pt x="66039" y="60946"/>
                </a:cubicBezTo>
                <a:cubicBezTo>
                  <a:pt x="99033" y="16954"/>
                  <a:pt x="185444" y="-11326"/>
                  <a:pt x="216867" y="4385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12"/>
          <p:cNvSpPr/>
          <p:nvPr/>
        </p:nvSpPr>
        <p:spPr>
          <a:xfrm>
            <a:off x="2050920" y="4276800"/>
            <a:ext cx="331920" cy="306360"/>
          </a:xfrm>
          <a:custGeom>
            <a:avLst/>
            <a:gdLst/>
            <a:ahLst/>
            <a:rect l="l" t="t" r="r" b="b"/>
            <a:pathLst>
              <a:path w="331702" h="306489">
                <a:moveTo>
                  <a:pt x="330900" y="32481"/>
                </a:moveTo>
                <a:cubicBezTo>
                  <a:pt x="324615" y="68617"/>
                  <a:pt x="272769" y="175454"/>
                  <a:pt x="227206" y="221017"/>
                </a:cubicBezTo>
                <a:cubicBezTo>
                  <a:pt x="181643" y="266580"/>
                  <a:pt x="95230" y="301146"/>
                  <a:pt x="57523" y="305859"/>
                </a:cubicBezTo>
                <a:cubicBezTo>
                  <a:pt x="19816" y="310572"/>
                  <a:pt x="-5323" y="288576"/>
                  <a:pt x="962" y="249298"/>
                </a:cubicBezTo>
                <a:cubicBezTo>
                  <a:pt x="7246" y="210020"/>
                  <a:pt x="51238" y="111038"/>
                  <a:pt x="95230" y="70189"/>
                </a:cubicBezTo>
                <a:cubicBezTo>
                  <a:pt x="139222" y="29340"/>
                  <a:pt x="224063" y="12057"/>
                  <a:pt x="264913" y="4201"/>
                </a:cubicBezTo>
                <a:cubicBezTo>
                  <a:pt x="305763" y="-3655"/>
                  <a:pt x="337185" y="-3655"/>
                  <a:pt x="330900" y="3248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3"/>
          <p:cNvSpPr/>
          <p:nvPr/>
        </p:nvSpPr>
        <p:spPr>
          <a:xfrm>
            <a:off x="2171880" y="4032360"/>
            <a:ext cx="371160" cy="206280"/>
          </a:xfrm>
          <a:custGeom>
            <a:avLst/>
            <a:gdLst/>
            <a:ahLst/>
            <a:rect l="l" t="t" r="r" b="b"/>
            <a:pathLst>
              <a:path w="370844" h="206441">
                <a:moveTo>
                  <a:pt x="313859" y="3242"/>
                </a:moveTo>
                <a:cubicBezTo>
                  <a:pt x="269867" y="-1471"/>
                  <a:pt x="158317" y="-3042"/>
                  <a:pt x="106470" y="12669"/>
                </a:cubicBezTo>
                <a:cubicBezTo>
                  <a:pt x="54623" y="28380"/>
                  <a:pt x="13773" y="66087"/>
                  <a:pt x="2775" y="97510"/>
                </a:cubicBezTo>
                <a:cubicBezTo>
                  <a:pt x="-8223" y="128933"/>
                  <a:pt x="15344" y="187065"/>
                  <a:pt x="40482" y="201205"/>
                </a:cubicBezTo>
                <a:cubicBezTo>
                  <a:pt x="65620" y="215345"/>
                  <a:pt x="106470" y="198062"/>
                  <a:pt x="153604" y="182351"/>
                </a:cubicBezTo>
                <a:cubicBezTo>
                  <a:pt x="200738" y="166640"/>
                  <a:pt x="287150" y="130504"/>
                  <a:pt x="323286" y="106937"/>
                </a:cubicBezTo>
                <a:cubicBezTo>
                  <a:pt x="359422" y="83370"/>
                  <a:pt x="373562" y="58232"/>
                  <a:pt x="370420" y="40949"/>
                </a:cubicBezTo>
                <a:cubicBezTo>
                  <a:pt x="367278" y="23667"/>
                  <a:pt x="357851" y="7955"/>
                  <a:pt x="313859" y="324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14"/>
          <p:cNvSpPr/>
          <p:nvPr/>
        </p:nvSpPr>
        <p:spPr>
          <a:xfrm>
            <a:off x="2401920" y="3759120"/>
            <a:ext cx="398520" cy="257400"/>
          </a:xfrm>
          <a:custGeom>
            <a:avLst/>
            <a:gdLst/>
            <a:ahLst/>
            <a:rect l="l" t="t" r="r" b="b"/>
            <a:pathLst>
              <a:path w="398809" h="256943">
                <a:moveTo>
                  <a:pt x="386583" y="162590"/>
                </a:moveTo>
                <a:cubicBezTo>
                  <a:pt x="361445" y="131167"/>
                  <a:pt x="270318" y="66751"/>
                  <a:pt x="216900" y="40042"/>
                </a:cubicBezTo>
                <a:cubicBezTo>
                  <a:pt x="163482" y="13333"/>
                  <a:pt x="102208" y="-7092"/>
                  <a:pt x="66072" y="2335"/>
                </a:cubicBezTo>
                <a:cubicBezTo>
                  <a:pt x="29936" y="11762"/>
                  <a:pt x="1655" y="60467"/>
                  <a:pt x="84" y="96603"/>
                </a:cubicBezTo>
                <a:cubicBezTo>
                  <a:pt x="-1487" y="132739"/>
                  <a:pt x="18938" y="192442"/>
                  <a:pt x="56645" y="219151"/>
                </a:cubicBezTo>
                <a:cubicBezTo>
                  <a:pt x="94352" y="245860"/>
                  <a:pt x="174480" y="255287"/>
                  <a:pt x="226327" y="256858"/>
                </a:cubicBezTo>
                <a:cubicBezTo>
                  <a:pt x="278174" y="258429"/>
                  <a:pt x="341020" y="238005"/>
                  <a:pt x="367729" y="228578"/>
                </a:cubicBezTo>
                <a:cubicBezTo>
                  <a:pt x="394438" y="219151"/>
                  <a:pt x="411721" y="194013"/>
                  <a:pt x="386583" y="16259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5"/>
          <p:cNvSpPr/>
          <p:nvPr/>
        </p:nvSpPr>
        <p:spPr>
          <a:xfrm>
            <a:off x="2835360" y="3610080"/>
            <a:ext cx="228600" cy="333360"/>
          </a:xfrm>
          <a:custGeom>
            <a:avLst/>
            <a:gdLst/>
            <a:ahLst/>
            <a:rect l="l" t="t" r="r" b="b"/>
            <a:pathLst>
              <a:path w="229236" h="333615">
                <a:moveTo>
                  <a:pt x="37825" y="331572"/>
                </a:moveTo>
                <a:cubicBezTo>
                  <a:pt x="12687" y="319003"/>
                  <a:pt x="-1453" y="245160"/>
                  <a:pt x="118" y="199597"/>
                </a:cubicBezTo>
                <a:cubicBezTo>
                  <a:pt x="1689" y="154034"/>
                  <a:pt x="22114" y="91189"/>
                  <a:pt x="47252" y="58195"/>
                </a:cubicBezTo>
                <a:cubicBezTo>
                  <a:pt x="72390" y="25201"/>
                  <a:pt x="121096" y="-7793"/>
                  <a:pt x="150947" y="1634"/>
                </a:cubicBezTo>
                <a:cubicBezTo>
                  <a:pt x="180799" y="11061"/>
                  <a:pt x="216934" y="78620"/>
                  <a:pt x="226361" y="114756"/>
                </a:cubicBezTo>
                <a:cubicBezTo>
                  <a:pt x="235788" y="150892"/>
                  <a:pt x="220077" y="191741"/>
                  <a:pt x="207508" y="218450"/>
                </a:cubicBezTo>
                <a:cubicBezTo>
                  <a:pt x="194939" y="245159"/>
                  <a:pt x="174514" y="254586"/>
                  <a:pt x="150947" y="275011"/>
                </a:cubicBezTo>
                <a:cubicBezTo>
                  <a:pt x="127380" y="295436"/>
                  <a:pt x="62963" y="344141"/>
                  <a:pt x="37825" y="33157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9"/>
          <p:cNvSpPr/>
          <p:nvPr/>
        </p:nvSpPr>
        <p:spPr>
          <a:xfrm>
            <a:off x="3036960" y="5364000"/>
            <a:ext cx="712800" cy="368640"/>
          </a:xfrm>
          <a:custGeom>
            <a:avLst/>
            <a:gdLst/>
            <a:ahLst/>
            <a:rect l="l" t="t" r="r" b="b"/>
            <a:pathLst>
              <a:path w="712452" h="367801">
                <a:moveTo>
                  <a:pt x="712452" y="169683"/>
                </a:moveTo>
                <a:cubicBezTo>
                  <a:pt x="703025" y="173610"/>
                  <a:pt x="693598" y="177538"/>
                  <a:pt x="665318" y="197963"/>
                </a:cubicBezTo>
                <a:cubicBezTo>
                  <a:pt x="637038" y="218388"/>
                  <a:pt x="593045" y="268664"/>
                  <a:pt x="542769" y="292231"/>
                </a:cubicBezTo>
                <a:cubicBezTo>
                  <a:pt x="492493" y="315798"/>
                  <a:pt x="406080" y="334652"/>
                  <a:pt x="363660" y="339365"/>
                </a:cubicBezTo>
                <a:cubicBezTo>
                  <a:pt x="321240" y="344078"/>
                  <a:pt x="300815" y="315799"/>
                  <a:pt x="288246" y="320512"/>
                </a:cubicBezTo>
                <a:cubicBezTo>
                  <a:pt x="275677" y="325225"/>
                  <a:pt x="310242" y="370788"/>
                  <a:pt x="288246" y="367646"/>
                </a:cubicBezTo>
                <a:cubicBezTo>
                  <a:pt x="266250" y="364504"/>
                  <a:pt x="193978" y="326796"/>
                  <a:pt x="156271" y="301658"/>
                </a:cubicBezTo>
                <a:cubicBezTo>
                  <a:pt x="118564" y="276520"/>
                  <a:pt x="87140" y="251382"/>
                  <a:pt x="62002" y="216817"/>
                </a:cubicBezTo>
                <a:cubicBezTo>
                  <a:pt x="36864" y="182252"/>
                  <a:pt x="14869" y="130404"/>
                  <a:pt x="5442" y="94268"/>
                </a:cubicBezTo>
                <a:cubicBezTo>
                  <a:pt x="-3985" y="58132"/>
                  <a:pt x="728" y="29066"/>
                  <a:pt x="5442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20"/>
          <p:cNvSpPr/>
          <p:nvPr/>
        </p:nvSpPr>
        <p:spPr>
          <a:xfrm>
            <a:off x="3070080" y="5345280"/>
            <a:ext cx="378000" cy="56880"/>
          </a:xfrm>
          <a:custGeom>
            <a:avLst/>
            <a:gdLst/>
            <a:ahLst/>
            <a:rect l="l" t="t" r="r" b="b"/>
            <a:pathLst>
              <a:path w="377072" h="57053">
                <a:moveTo>
                  <a:pt x="0" y="38199"/>
                </a:moveTo>
                <a:cubicBezTo>
                  <a:pt x="51062" y="20916"/>
                  <a:pt x="102124" y="3634"/>
                  <a:pt x="141402" y="492"/>
                </a:cubicBezTo>
                <a:cubicBezTo>
                  <a:pt x="180680" y="-2650"/>
                  <a:pt x="196392" y="9918"/>
                  <a:pt x="235670" y="19345"/>
                </a:cubicBezTo>
                <a:cubicBezTo>
                  <a:pt x="274948" y="28772"/>
                  <a:pt x="326010" y="42912"/>
                  <a:pt x="377072" y="57053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22"/>
          <p:cNvSpPr/>
          <p:nvPr/>
        </p:nvSpPr>
        <p:spPr>
          <a:xfrm>
            <a:off x="2535120" y="4865760"/>
            <a:ext cx="406440" cy="565200"/>
          </a:xfrm>
          <a:custGeom>
            <a:avLst/>
            <a:gdLst/>
            <a:ahLst/>
            <a:rect l="l" t="t" r="r" b="b"/>
            <a:pathLst>
              <a:path w="406502" h="565608">
                <a:moveTo>
                  <a:pt x="0" y="565608"/>
                </a:moveTo>
                <a:cubicBezTo>
                  <a:pt x="13354" y="561680"/>
                  <a:pt x="26709" y="557753"/>
                  <a:pt x="65987" y="537328"/>
                </a:cubicBezTo>
                <a:cubicBezTo>
                  <a:pt x="105265" y="516903"/>
                  <a:pt x="196392" y="477625"/>
                  <a:pt x="235670" y="443060"/>
                </a:cubicBezTo>
                <a:cubicBezTo>
                  <a:pt x="274948" y="408495"/>
                  <a:pt x="285947" y="340936"/>
                  <a:pt x="301658" y="329938"/>
                </a:cubicBezTo>
                <a:cubicBezTo>
                  <a:pt x="317369" y="318940"/>
                  <a:pt x="312656" y="388070"/>
                  <a:pt x="329938" y="377072"/>
                </a:cubicBezTo>
                <a:cubicBezTo>
                  <a:pt x="347220" y="366074"/>
                  <a:pt x="399068" y="312655"/>
                  <a:pt x="405352" y="263950"/>
                </a:cubicBezTo>
                <a:cubicBezTo>
                  <a:pt x="411637" y="215245"/>
                  <a:pt x="391212" y="128833"/>
                  <a:pt x="367645" y="84841"/>
                </a:cubicBezTo>
                <a:cubicBezTo>
                  <a:pt x="344078" y="40849"/>
                  <a:pt x="304014" y="20424"/>
                  <a:pt x="263950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23"/>
          <p:cNvSpPr/>
          <p:nvPr/>
        </p:nvSpPr>
        <p:spPr>
          <a:xfrm>
            <a:off x="2722680" y="4894200"/>
            <a:ext cx="71280" cy="263520"/>
          </a:xfrm>
          <a:custGeom>
            <a:avLst/>
            <a:gdLst/>
            <a:ahLst/>
            <a:rect l="l" t="t" r="r" b="b"/>
            <a:pathLst>
              <a:path w="72337" h="263951">
                <a:moveTo>
                  <a:pt x="65988" y="0"/>
                </a:moveTo>
                <a:cubicBezTo>
                  <a:pt x="71487" y="43992"/>
                  <a:pt x="76986" y="87984"/>
                  <a:pt x="65988" y="131976"/>
                </a:cubicBezTo>
                <a:cubicBezTo>
                  <a:pt x="54990" y="175968"/>
                  <a:pt x="27495" y="219959"/>
                  <a:pt x="0" y="263951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24"/>
          <p:cNvSpPr/>
          <p:nvPr/>
        </p:nvSpPr>
        <p:spPr>
          <a:xfrm>
            <a:off x="3087720" y="3932280"/>
            <a:ext cx="156960" cy="57240"/>
          </a:xfrm>
          <a:custGeom>
            <a:avLst/>
            <a:gdLst/>
            <a:ahLst/>
            <a:rect l="l" t="t" r="r" b="b"/>
            <a:pathLst>
              <a:path w="158045" h="56444">
                <a:moveTo>
                  <a:pt x="0" y="56444"/>
                </a:moveTo>
                <a:cubicBezTo>
                  <a:pt x="26341" y="38570"/>
                  <a:pt x="52682" y="20696"/>
                  <a:pt x="79023" y="11289"/>
                </a:cubicBezTo>
                <a:cubicBezTo>
                  <a:pt x="105364" y="1882"/>
                  <a:pt x="131704" y="941"/>
                  <a:pt x="158045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3214800" y="4116240"/>
            <a:ext cx="168120" cy="38160"/>
          </a:xfrm>
          <a:custGeom>
            <a:avLst/>
            <a:gdLst/>
            <a:ahLst/>
            <a:rect l="l" t="t" r="r" b="b"/>
            <a:pathLst>
              <a:path w="169334" h="37126">
                <a:moveTo>
                  <a:pt x="0" y="3259"/>
                </a:moveTo>
                <a:cubicBezTo>
                  <a:pt x="19756" y="436"/>
                  <a:pt x="39512" y="-2386"/>
                  <a:pt x="67734" y="3259"/>
                </a:cubicBezTo>
                <a:cubicBezTo>
                  <a:pt x="95956" y="8904"/>
                  <a:pt x="132645" y="23015"/>
                  <a:pt x="169334" y="3712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26"/>
          <p:cNvSpPr/>
          <p:nvPr/>
        </p:nvSpPr>
        <p:spPr>
          <a:xfrm>
            <a:off x="3108240" y="4299120"/>
            <a:ext cx="150840" cy="95040"/>
          </a:xfrm>
          <a:custGeom>
            <a:avLst/>
            <a:gdLst/>
            <a:ahLst/>
            <a:rect l="l" t="t" r="r" b="b"/>
            <a:pathLst>
              <a:path w="150829" h="94268">
                <a:moveTo>
                  <a:pt x="0" y="0"/>
                </a:moveTo>
                <a:cubicBezTo>
                  <a:pt x="34565" y="10998"/>
                  <a:pt x="69130" y="21996"/>
                  <a:pt x="94268" y="37707"/>
                </a:cubicBezTo>
                <a:cubicBezTo>
                  <a:pt x="119406" y="53418"/>
                  <a:pt x="135117" y="73843"/>
                  <a:pt x="150829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7"/>
          <p:cNvSpPr/>
          <p:nvPr/>
        </p:nvSpPr>
        <p:spPr>
          <a:xfrm>
            <a:off x="2919240" y="4432320"/>
            <a:ext cx="114480" cy="112680"/>
          </a:xfrm>
          <a:custGeom>
            <a:avLst/>
            <a:gdLst/>
            <a:ahLst/>
            <a:rect l="l" t="t" r="r" b="b"/>
            <a:pathLst>
              <a:path w="113122" h="113121">
                <a:moveTo>
                  <a:pt x="0" y="0"/>
                </a:moveTo>
                <a:cubicBezTo>
                  <a:pt x="37707" y="14140"/>
                  <a:pt x="75414" y="28281"/>
                  <a:pt x="94268" y="47134"/>
                </a:cubicBezTo>
                <a:cubicBezTo>
                  <a:pt x="113122" y="65987"/>
                  <a:pt x="113122" y="89554"/>
                  <a:pt x="113122" y="113121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28"/>
          <p:cNvSpPr/>
          <p:nvPr/>
        </p:nvSpPr>
        <p:spPr>
          <a:xfrm>
            <a:off x="2732040" y="4506840"/>
            <a:ext cx="55440" cy="131760"/>
          </a:xfrm>
          <a:custGeom>
            <a:avLst/>
            <a:gdLst/>
            <a:ahLst/>
            <a:rect l="l" t="t" r="r" b="b"/>
            <a:pathLst>
              <a:path w="56561" h="131976">
                <a:moveTo>
                  <a:pt x="0" y="0"/>
                </a:moveTo>
                <a:cubicBezTo>
                  <a:pt x="18853" y="21996"/>
                  <a:pt x="37707" y="43992"/>
                  <a:pt x="47134" y="65988"/>
                </a:cubicBezTo>
                <a:cubicBezTo>
                  <a:pt x="56561" y="87984"/>
                  <a:pt x="56561" y="109980"/>
                  <a:pt x="56561" y="13197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30"/>
          <p:cNvSpPr/>
          <p:nvPr/>
        </p:nvSpPr>
        <p:spPr>
          <a:xfrm>
            <a:off x="2448000" y="4497480"/>
            <a:ext cx="57240" cy="102960"/>
          </a:xfrm>
          <a:custGeom>
            <a:avLst/>
            <a:gdLst/>
            <a:ahLst/>
            <a:rect l="l" t="t" r="r" b="b"/>
            <a:pathLst>
              <a:path w="56561" h="103695">
                <a:moveTo>
                  <a:pt x="56561" y="0"/>
                </a:moveTo>
                <a:cubicBezTo>
                  <a:pt x="37707" y="10213"/>
                  <a:pt x="18854" y="20426"/>
                  <a:pt x="9427" y="37708"/>
                </a:cubicBezTo>
                <a:cubicBezTo>
                  <a:pt x="0" y="54990"/>
                  <a:pt x="0" y="103695"/>
                  <a:pt x="0" y="103695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任意多边形 31"/>
          <p:cNvSpPr/>
          <p:nvPr/>
        </p:nvSpPr>
        <p:spPr>
          <a:xfrm>
            <a:off x="2270160" y="4289400"/>
            <a:ext cx="93600" cy="95400"/>
          </a:xfrm>
          <a:custGeom>
            <a:avLst/>
            <a:gdLst/>
            <a:ahLst/>
            <a:rect l="l" t="t" r="r" b="b"/>
            <a:pathLst>
              <a:path w="94268" h="94268">
                <a:moveTo>
                  <a:pt x="94268" y="0"/>
                </a:moveTo>
                <a:cubicBezTo>
                  <a:pt x="64416" y="10998"/>
                  <a:pt x="34564" y="21996"/>
                  <a:pt x="18853" y="37707"/>
                </a:cubicBezTo>
                <a:cubicBezTo>
                  <a:pt x="3142" y="53418"/>
                  <a:pt x="1571" y="73843"/>
                  <a:pt x="0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任意多边形 32"/>
          <p:cNvSpPr/>
          <p:nvPr/>
        </p:nvSpPr>
        <p:spPr>
          <a:xfrm>
            <a:off x="2411280" y="4060800"/>
            <a:ext cx="131760" cy="31680"/>
          </a:xfrm>
          <a:custGeom>
            <a:avLst/>
            <a:gdLst/>
            <a:ahLst/>
            <a:rect l="l" t="t" r="r" b="b"/>
            <a:pathLst>
              <a:path w="131975" h="31002">
                <a:moveTo>
                  <a:pt x="131975" y="2721"/>
                </a:moveTo>
                <a:cubicBezTo>
                  <a:pt x="91125" y="364"/>
                  <a:pt x="50276" y="-1993"/>
                  <a:pt x="28280" y="2721"/>
                </a:cubicBezTo>
                <a:cubicBezTo>
                  <a:pt x="6284" y="7435"/>
                  <a:pt x="3142" y="19218"/>
                  <a:pt x="0" y="31002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任意多边形 33"/>
          <p:cNvSpPr/>
          <p:nvPr/>
        </p:nvSpPr>
        <p:spPr>
          <a:xfrm>
            <a:off x="2684520" y="3903840"/>
            <a:ext cx="74520" cy="83880"/>
          </a:xfrm>
          <a:custGeom>
            <a:avLst/>
            <a:gdLst/>
            <a:ahLst/>
            <a:rect l="l" t="t" r="r" b="b"/>
            <a:pathLst>
              <a:path w="75415" h="84841">
                <a:moveTo>
                  <a:pt x="75415" y="84841"/>
                </a:moveTo>
                <a:cubicBezTo>
                  <a:pt x="72272" y="68344"/>
                  <a:pt x="69130" y="51847"/>
                  <a:pt x="56561" y="37707"/>
                </a:cubicBezTo>
                <a:cubicBezTo>
                  <a:pt x="43992" y="23567"/>
                  <a:pt x="21996" y="11783"/>
                  <a:pt x="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34"/>
          <p:cNvSpPr/>
          <p:nvPr/>
        </p:nvSpPr>
        <p:spPr>
          <a:xfrm>
            <a:off x="2892600" y="3809880"/>
            <a:ext cx="45720" cy="122400"/>
          </a:xfrm>
          <a:custGeom>
            <a:avLst/>
            <a:gdLst/>
            <a:ahLst/>
            <a:rect l="l" t="t" r="r" b="b"/>
            <a:pathLst>
              <a:path w="47134" h="122548">
                <a:moveTo>
                  <a:pt x="0" y="122548"/>
                </a:moveTo>
                <a:cubicBezTo>
                  <a:pt x="785" y="95053"/>
                  <a:pt x="1571" y="67559"/>
                  <a:pt x="9427" y="47134"/>
                </a:cubicBezTo>
                <a:cubicBezTo>
                  <a:pt x="17283" y="26709"/>
                  <a:pt x="32208" y="13354"/>
                  <a:pt x="47134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35"/>
          <p:cNvSpPr/>
          <p:nvPr/>
        </p:nvSpPr>
        <p:spPr>
          <a:xfrm>
            <a:off x="3030480" y="5106960"/>
            <a:ext cx="711360" cy="406440"/>
          </a:xfrm>
          <a:custGeom>
            <a:avLst/>
            <a:gdLst/>
            <a:ahLst/>
            <a:rect l="l" t="t" r="r" b="b"/>
            <a:pathLst>
              <a:path w="711200" h="406605">
                <a:moveTo>
                  <a:pt x="0" y="248561"/>
                </a:moveTo>
                <a:cubicBezTo>
                  <a:pt x="31044" y="209990"/>
                  <a:pt x="62089" y="171420"/>
                  <a:pt x="101600" y="135672"/>
                </a:cubicBezTo>
                <a:cubicBezTo>
                  <a:pt x="141111" y="99924"/>
                  <a:pt x="195674" y="56650"/>
                  <a:pt x="237067" y="34072"/>
                </a:cubicBezTo>
                <a:cubicBezTo>
                  <a:pt x="278460" y="11494"/>
                  <a:pt x="321734" y="2086"/>
                  <a:pt x="349956" y="205"/>
                </a:cubicBezTo>
                <a:cubicBezTo>
                  <a:pt x="378178" y="-1676"/>
                  <a:pt x="400756" y="9613"/>
                  <a:pt x="406400" y="22783"/>
                </a:cubicBezTo>
                <a:cubicBezTo>
                  <a:pt x="412044" y="35953"/>
                  <a:pt x="372533" y="66058"/>
                  <a:pt x="383822" y="79228"/>
                </a:cubicBezTo>
                <a:cubicBezTo>
                  <a:pt x="395111" y="92398"/>
                  <a:pt x="438385" y="86753"/>
                  <a:pt x="474133" y="101805"/>
                </a:cubicBezTo>
                <a:cubicBezTo>
                  <a:pt x="509881" y="116857"/>
                  <a:pt x="564444" y="139435"/>
                  <a:pt x="598311" y="169539"/>
                </a:cubicBezTo>
                <a:cubicBezTo>
                  <a:pt x="632178" y="199643"/>
                  <a:pt x="658518" y="242917"/>
                  <a:pt x="677333" y="282428"/>
                </a:cubicBezTo>
                <a:cubicBezTo>
                  <a:pt x="696148" y="321939"/>
                  <a:pt x="703674" y="364272"/>
                  <a:pt x="711200" y="406605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36"/>
          <p:cNvSpPr/>
          <p:nvPr/>
        </p:nvSpPr>
        <p:spPr>
          <a:xfrm>
            <a:off x="2500200" y="4857840"/>
            <a:ext cx="192240" cy="565200"/>
          </a:xfrm>
          <a:custGeom>
            <a:avLst/>
            <a:gdLst/>
            <a:ahLst/>
            <a:rect l="l" t="t" r="r" b="b"/>
            <a:pathLst>
              <a:path w="192307" h="564444">
                <a:moveTo>
                  <a:pt x="192307" y="0"/>
                </a:moveTo>
                <a:cubicBezTo>
                  <a:pt x="157499" y="9407"/>
                  <a:pt x="122692" y="18814"/>
                  <a:pt x="90707" y="45155"/>
                </a:cubicBezTo>
                <a:cubicBezTo>
                  <a:pt x="58722" y="71496"/>
                  <a:pt x="6040" y="135466"/>
                  <a:pt x="396" y="158044"/>
                </a:cubicBezTo>
                <a:cubicBezTo>
                  <a:pt x="-5248" y="180622"/>
                  <a:pt x="51197" y="163689"/>
                  <a:pt x="56841" y="180622"/>
                </a:cubicBezTo>
                <a:cubicBezTo>
                  <a:pt x="62485" y="197555"/>
                  <a:pt x="39907" y="225777"/>
                  <a:pt x="34263" y="259644"/>
                </a:cubicBezTo>
                <a:cubicBezTo>
                  <a:pt x="28619" y="293511"/>
                  <a:pt x="21093" y="333022"/>
                  <a:pt x="22974" y="383822"/>
                </a:cubicBezTo>
                <a:cubicBezTo>
                  <a:pt x="24855" y="434622"/>
                  <a:pt x="35203" y="499533"/>
                  <a:pt x="45552" y="564444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44"/>
          <p:cNvSpPr/>
          <p:nvPr/>
        </p:nvSpPr>
        <p:spPr>
          <a:xfrm>
            <a:off x="2411280" y="3989520"/>
            <a:ext cx="72576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solidFill>
            <a:srgbClr val="ffcc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extBox 45" descr=""/>
          <p:cNvPicPr/>
          <p:nvPr/>
        </p:nvPicPr>
        <p:blipFill>
          <a:blip r:embed="rId3"/>
          <a:stretch/>
        </p:blipFill>
        <p:spPr>
          <a:xfrm>
            <a:off x="3297240" y="1274760"/>
            <a:ext cx="4756320" cy="13590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46" descr=""/>
          <p:cNvPicPr/>
          <p:nvPr/>
        </p:nvPicPr>
        <p:blipFill>
          <a:blip r:embed="rId4"/>
          <a:stretch/>
        </p:blipFill>
        <p:spPr>
          <a:xfrm>
            <a:off x="3809880" y="2182680"/>
            <a:ext cx="4486320" cy="135900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47" descr=""/>
          <p:cNvPicPr/>
          <p:nvPr/>
        </p:nvPicPr>
        <p:blipFill>
          <a:blip r:embed="rId5"/>
          <a:stretch/>
        </p:blipFill>
        <p:spPr>
          <a:xfrm>
            <a:off x="5834160" y="884160"/>
            <a:ext cx="3133800" cy="20242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48" descr=""/>
          <p:cNvPicPr/>
          <p:nvPr/>
        </p:nvPicPr>
        <p:blipFill>
          <a:blip r:embed="rId6"/>
          <a:stretch/>
        </p:blipFill>
        <p:spPr>
          <a:xfrm>
            <a:off x="5913360" y="895320"/>
            <a:ext cx="3054600" cy="19270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9" descr=""/>
          <p:cNvPicPr/>
          <p:nvPr/>
        </p:nvPicPr>
        <p:blipFill>
          <a:blip r:embed="rId7"/>
          <a:stretch/>
        </p:blipFill>
        <p:spPr>
          <a:xfrm>
            <a:off x="4065480" y="3029040"/>
            <a:ext cx="4017960" cy="136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2" descr=""/>
          <p:cNvPicPr/>
          <p:nvPr/>
        </p:nvPicPr>
        <p:blipFill>
          <a:blip r:embed="rId1"/>
          <a:stretch/>
        </p:blipFill>
        <p:spPr>
          <a:xfrm>
            <a:off x="-755640" y="-998640"/>
            <a:ext cx="10656720" cy="88567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8" descr="01-3.png"/>
          <p:cNvPicPr/>
          <p:nvPr/>
        </p:nvPicPr>
        <p:blipFill>
          <a:blip r:embed="rId2"/>
          <a:stretch/>
        </p:blipFill>
        <p:spPr>
          <a:xfrm>
            <a:off x="4680" y="1785960"/>
            <a:ext cx="9134640" cy="48769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9" descr="01-2.png"/>
          <p:cNvPicPr/>
          <p:nvPr/>
        </p:nvPicPr>
        <p:blipFill>
          <a:blip r:embed="rId3"/>
          <a:stretch/>
        </p:blipFill>
        <p:spPr>
          <a:xfrm>
            <a:off x="4680" y="1928880"/>
            <a:ext cx="9134640" cy="4876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0" descr="图片1.png"/>
          <p:cNvPicPr/>
          <p:nvPr/>
        </p:nvPicPr>
        <p:blipFill>
          <a:blip r:embed="rId4"/>
          <a:stretch/>
        </p:blipFill>
        <p:spPr>
          <a:xfrm>
            <a:off x="0" y="2046240"/>
            <a:ext cx="9144000" cy="4883040"/>
          </a:xfrm>
          <a:prstGeom prst="rect">
            <a:avLst/>
          </a:prstGeom>
          <a:ln w="0">
            <a:noFill/>
          </a:ln>
        </p:spPr>
      </p:pic>
      <p:pic>
        <p:nvPicPr>
          <p:cNvPr id="84" name="矩形 2095" descr=""/>
          <p:cNvPicPr/>
          <p:nvPr/>
        </p:nvPicPr>
        <p:blipFill>
          <a:blip r:embed="rId5"/>
          <a:stretch/>
        </p:blipFill>
        <p:spPr>
          <a:xfrm>
            <a:off x="2097000" y="1378080"/>
            <a:ext cx="3267000" cy="1358640"/>
          </a:xfrm>
          <a:prstGeom prst="rect">
            <a:avLst/>
          </a:prstGeom>
          <a:ln w="0">
            <a:noFill/>
          </a:ln>
        </p:spPr>
      </p:pic>
      <p:pic>
        <p:nvPicPr>
          <p:cNvPr id="85" name="矩形 2096" descr=""/>
          <p:cNvPicPr/>
          <p:nvPr/>
        </p:nvPicPr>
        <p:blipFill>
          <a:blip r:embed="rId6"/>
          <a:stretch/>
        </p:blipFill>
        <p:spPr>
          <a:xfrm>
            <a:off x="1158840" y="2494080"/>
            <a:ext cx="6942240" cy="13586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" descr=""/>
          <p:cNvPicPr/>
          <p:nvPr/>
        </p:nvPicPr>
        <p:blipFill>
          <a:blip r:embed="rId7"/>
          <a:stretch/>
        </p:blipFill>
        <p:spPr>
          <a:xfrm>
            <a:off x="4700520" y="1182600"/>
            <a:ext cx="1803600" cy="168300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737" descr=""/>
          <p:cNvPicPr/>
          <p:nvPr/>
        </p:nvPicPr>
        <p:blipFill>
          <a:blip r:embed="rId8"/>
          <a:stretch/>
        </p:blipFill>
        <p:spPr>
          <a:xfrm>
            <a:off x="5589720" y="1182600"/>
            <a:ext cx="2511360" cy="16830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2206 L 0 0.10463 E">
                                      <p:cBhvr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854"/>
          <p:cNvSpPr/>
          <p:nvPr/>
        </p:nvSpPr>
        <p:spPr>
          <a:xfrm>
            <a:off x="4137120" y="1341360"/>
            <a:ext cx="4381560" cy="1346400"/>
          </a:xfrm>
          <a:custGeom>
            <a:avLst/>
            <a:gdLst/>
            <a:ahLst/>
            <a:rect l="l" t="t" r="r" b="b"/>
            <a:pathLst>
              <a:path w="2760" h="848">
                <a:moveTo>
                  <a:pt x="0" y="834"/>
                </a:moveTo>
                <a:cubicBezTo>
                  <a:pt x="33" y="699"/>
                  <a:pt x="177" y="641"/>
                  <a:pt x="249" y="622"/>
                </a:cubicBezTo>
                <a:cubicBezTo>
                  <a:pt x="321" y="603"/>
                  <a:pt x="455" y="633"/>
                  <a:pt x="535" y="690"/>
                </a:cubicBezTo>
                <a:cubicBezTo>
                  <a:pt x="577" y="635"/>
                  <a:pt x="634" y="608"/>
                  <a:pt x="679" y="608"/>
                </a:cubicBezTo>
                <a:cubicBezTo>
                  <a:pt x="724" y="608"/>
                  <a:pt x="769" y="647"/>
                  <a:pt x="807" y="690"/>
                </a:cubicBezTo>
                <a:cubicBezTo>
                  <a:pt x="820" y="656"/>
                  <a:pt x="828" y="640"/>
                  <a:pt x="858" y="626"/>
                </a:cubicBezTo>
                <a:cubicBezTo>
                  <a:pt x="888" y="612"/>
                  <a:pt x="913" y="628"/>
                  <a:pt x="943" y="645"/>
                </a:cubicBezTo>
                <a:cubicBezTo>
                  <a:pt x="955" y="616"/>
                  <a:pt x="961" y="601"/>
                  <a:pt x="991" y="583"/>
                </a:cubicBezTo>
                <a:cubicBezTo>
                  <a:pt x="1021" y="565"/>
                  <a:pt x="1060" y="592"/>
                  <a:pt x="1079" y="600"/>
                </a:cubicBezTo>
                <a:cubicBezTo>
                  <a:pt x="1042" y="551"/>
                  <a:pt x="1003" y="462"/>
                  <a:pt x="1050" y="392"/>
                </a:cubicBezTo>
                <a:cubicBezTo>
                  <a:pt x="1097" y="322"/>
                  <a:pt x="1194" y="313"/>
                  <a:pt x="1243" y="338"/>
                </a:cubicBezTo>
                <a:cubicBezTo>
                  <a:pt x="1246" y="299"/>
                  <a:pt x="1275" y="280"/>
                  <a:pt x="1311" y="274"/>
                </a:cubicBezTo>
                <a:cubicBezTo>
                  <a:pt x="1347" y="268"/>
                  <a:pt x="1394" y="292"/>
                  <a:pt x="1405" y="332"/>
                </a:cubicBezTo>
                <a:cubicBezTo>
                  <a:pt x="1414" y="310"/>
                  <a:pt x="1428" y="299"/>
                  <a:pt x="1446" y="299"/>
                </a:cubicBezTo>
                <a:cubicBezTo>
                  <a:pt x="1464" y="299"/>
                  <a:pt x="1483" y="313"/>
                  <a:pt x="1495" y="332"/>
                </a:cubicBezTo>
                <a:cubicBezTo>
                  <a:pt x="1460" y="279"/>
                  <a:pt x="1422" y="138"/>
                  <a:pt x="1519" y="69"/>
                </a:cubicBezTo>
                <a:cubicBezTo>
                  <a:pt x="1616" y="0"/>
                  <a:pt x="1750" y="80"/>
                  <a:pt x="1760" y="146"/>
                </a:cubicBezTo>
                <a:cubicBezTo>
                  <a:pt x="1779" y="101"/>
                  <a:pt x="1843" y="98"/>
                  <a:pt x="1867" y="110"/>
                </a:cubicBezTo>
                <a:cubicBezTo>
                  <a:pt x="1891" y="122"/>
                  <a:pt x="1912" y="133"/>
                  <a:pt x="1927" y="198"/>
                </a:cubicBezTo>
                <a:cubicBezTo>
                  <a:pt x="1960" y="149"/>
                  <a:pt x="2074" y="146"/>
                  <a:pt x="2121" y="192"/>
                </a:cubicBezTo>
                <a:cubicBezTo>
                  <a:pt x="2168" y="238"/>
                  <a:pt x="2174" y="312"/>
                  <a:pt x="2157" y="377"/>
                </a:cubicBezTo>
                <a:cubicBezTo>
                  <a:pt x="2197" y="346"/>
                  <a:pt x="2254" y="343"/>
                  <a:pt x="2284" y="362"/>
                </a:cubicBezTo>
                <a:cubicBezTo>
                  <a:pt x="2314" y="381"/>
                  <a:pt x="2329" y="418"/>
                  <a:pt x="2316" y="472"/>
                </a:cubicBezTo>
                <a:cubicBezTo>
                  <a:pt x="2344" y="463"/>
                  <a:pt x="2367" y="466"/>
                  <a:pt x="2382" y="481"/>
                </a:cubicBezTo>
                <a:cubicBezTo>
                  <a:pt x="2397" y="496"/>
                  <a:pt x="2419" y="526"/>
                  <a:pt x="2408" y="557"/>
                </a:cubicBezTo>
                <a:cubicBezTo>
                  <a:pt x="2492" y="519"/>
                  <a:pt x="2760" y="574"/>
                  <a:pt x="2697" y="848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856"/>
          <p:cNvSpPr/>
          <p:nvPr/>
        </p:nvSpPr>
        <p:spPr>
          <a:xfrm>
            <a:off x="466560" y="1905120"/>
            <a:ext cx="4156200" cy="1739880"/>
          </a:xfrm>
          <a:custGeom>
            <a:avLst/>
            <a:gdLst/>
            <a:ahLst/>
            <a:rect l="l" t="t" r="r" b="b"/>
            <a:pathLst>
              <a:path w="2618" h="1096">
                <a:moveTo>
                  <a:pt x="208" y="1096"/>
                </a:moveTo>
                <a:cubicBezTo>
                  <a:pt x="175" y="1063"/>
                  <a:pt x="24" y="1062"/>
                  <a:pt x="12" y="900"/>
                </a:cubicBezTo>
                <a:cubicBezTo>
                  <a:pt x="0" y="738"/>
                  <a:pt x="110" y="668"/>
                  <a:pt x="169" y="670"/>
                </a:cubicBezTo>
                <a:cubicBezTo>
                  <a:pt x="136" y="606"/>
                  <a:pt x="197" y="546"/>
                  <a:pt x="247" y="521"/>
                </a:cubicBezTo>
                <a:cubicBezTo>
                  <a:pt x="296" y="496"/>
                  <a:pt x="373" y="488"/>
                  <a:pt x="465" y="520"/>
                </a:cubicBezTo>
                <a:cubicBezTo>
                  <a:pt x="421" y="428"/>
                  <a:pt x="485" y="351"/>
                  <a:pt x="557" y="310"/>
                </a:cubicBezTo>
                <a:cubicBezTo>
                  <a:pt x="630" y="270"/>
                  <a:pt x="791" y="265"/>
                  <a:pt x="854" y="311"/>
                </a:cubicBezTo>
                <a:cubicBezTo>
                  <a:pt x="854" y="265"/>
                  <a:pt x="898" y="218"/>
                  <a:pt x="939" y="207"/>
                </a:cubicBezTo>
                <a:cubicBezTo>
                  <a:pt x="980" y="196"/>
                  <a:pt x="1029" y="193"/>
                  <a:pt x="1100" y="232"/>
                </a:cubicBezTo>
                <a:cubicBezTo>
                  <a:pt x="1100" y="177"/>
                  <a:pt x="1156" y="50"/>
                  <a:pt x="1292" y="25"/>
                </a:cubicBezTo>
                <a:cubicBezTo>
                  <a:pt x="1428" y="0"/>
                  <a:pt x="1522" y="81"/>
                  <a:pt x="1562" y="159"/>
                </a:cubicBezTo>
                <a:cubicBezTo>
                  <a:pt x="1639" y="134"/>
                  <a:pt x="1720" y="178"/>
                  <a:pt x="1752" y="208"/>
                </a:cubicBezTo>
                <a:cubicBezTo>
                  <a:pt x="1783" y="238"/>
                  <a:pt x="1807" y="309"/>
                  <a:pt x="1764" y="358"/>
                </a:cubicBezTo>
                <a:cubicBezTo>
                  <a:pt x="1802" y="337"/>
                  <a:pt x="1854" y="350"/>
                  <a:pt x="1878" y="369"/>
                </a:cubicBezTo>
                <a:cubicBezTo>
                  <a:pt x="1902" y="387"/>
                  <a:pt x="1920" y="428"/>
                  <a:pt x="1901" y="461"/>
                </a:cubicBezTo>
                <a:cubicBezTo>
                  <a:pt x="1999" y="418"/>
                  <a:pt x="2154" y="456"/>
                  <a:pt x="2226" y="510"/>
                </a:cubicBezTo>
                <a:cubicBezTo>
                  <a:pt x="2298" y="564"/>
                  <a:pt x="2329" y="686"/>
                  <a:pt x="2322" y="766"/>
                </a:cubicBezTo>
                <a:cubicBezTo>
                  <a:pt x="2365" y="751"/>
                  <a:pt x="2400" y="748"/>
                  <a:pt x="2441" y="765"/>
                </a:cubicBezTo>
                <a:cubicBezTo>
                  <a:pt x="2483" y="782"/>
                  <a:pt x="2501" y="814"/>
                  <a:pt x="2507" y="849"/>
                </a:cubicBezTo>
                <a:cubicBezTo>
                  <a:pt x="2615" y="852"/>
                  <a:pt x="2600" y="1039"/>
                  <a:pt x="2618" y="1077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823"/>
          <p:cNvSpPr/>
          <p:nvPr/>
        </p:nvSpPr>
        <p:spPr>
          <a:xfrm>
            <a:off x="3220920" y="3166920"/>
            <a:ext cx="3727440" cy="1486080"/>
          </a:xfrm>
          <a:custGeom>
            <a:avLst/>
            <a:gdLst/>
            <a:ahLst/>
            <a:rect l="l" t="t" r="r" b="b"/>
            <a:pathLst>
              <a:path w="2348" h="936">
                <a:moveTo>
                  <a:pt x="329" y="342"/>
                </a:moveTo>
                <a:cubicBezTo>
                  <a:pt x="351" y="251"/>
                  <a:pt x="459" y="197"/>
                  <a:pt x="519" y="200"/>
                </a:cubicBezTo>
                <a:cubicBezTo>
                  <a:pt x="579" y="203"/>
                  <a:pt x="630" y="218"/>
                  <a:pt x="673" y="254"/>
                </a:cubicBezTo>
                <a:cubicBezTo>
                  <a:pt x="714" y="182"/>
                  <a:pt x="762" y="83"/>
                  <a:pt x="894" y="62"/>
                </a:cubicBezTo>
                <a:cubicBezTo>
                  <a:pt x="1026" y="41"/>
                  <a:pt x="1098" y="152"/>
                  <a:pt x="1145" y="206"/>
                </a:cubicBezTo>
                <a:cubicBezTo>
                  <a:pt x="1179" y="164"/>
                  <a:pt x="1183" y="142"/>
                  <a:pt x="1237" y="130"/>
                </a:cubicBezTo>
                <a:cubicBezTo>
                  <a:pt x="1291" y="118"/>
                  <a:pt x="1314" y="149"/>
                  <a:pt x="1353" y="182"/>
                </a:cubicBezTo>
                <a:cubicBezTo>
                  <a:pt x="1377" y="107"/>
                  <a:pt x="1462" y="12"/>
                  <a:pt x="1633" y="6"/>
                </a:cubicBezTo>
                <a:cubicBezTo>
                  <a:pt x="1804" y="0"/>
                  <a:pt x="1881" y="166"/>
                  <a:pt x="1921" y="246"/>
                </a:cubicBezTo>
                <a:cubicBezTo>
                  <a:pt x="1990" y="253"/>
                  <a:pt x="2023" y="249"/>
                  <a:pt x="2068" y="291"/>
                </a:cubicBezTo>
                <a:cubicBezTo>
                  <a:pt x="2113" y="333"/>
                  <a:pt x="2124" y="379"/>
                  <a:pt x="2120" y="443"/>
                </a:cubicBezTo>
                <a:cubicBezTo>
                  <a:pt x="2174" y="439"/>
                  <a:pt x="2256" y="478"/>
                  <a:pt x="2295" y="521"/>
                </a:cubicBezTo>
                <a:cubicBezTo>
                  <a:pt x="2334" y="564"/>
                  <a:pt x="2348" y="742"/>
                  <a:pt x="2343" y="801"/>
                </a:cubicBezTo>
                <a:cubicBezTo>
                  <a:pt x="2008" y="930"/>
                  <a:pt x="617" y="936"/>
                  <a:pt x="336" y="878"/>
                </a:cubicBezTo>
                <a:cubicBezTo>
                  <a:pt x="0" y="802"/>
                  <a:pt x="331" y="443"/>
                  <a:pt x="329" y="34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7" descr=""/>
          <p:cNvPicPr/>
          <p:nvPr/>
        </p:nvPicPr>
        <p:blipFill>
          <a:blip r:embed="rId1"/>
          <a:stretch/>
        </p:blipFill>
        <p:spPr>
          <a:xfrm>
            <a:off x="-2394000" y="-1825560"/>
            <a:ext cx="6170760" cy="40971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0" descr=""/>
          <p:cNvPicPr/>
          <p:nvPr/>
        </p:nvPicPr>
        <p:blipFill>
          <a:blip r:embed="rId2"/>
          <a:stretch/>
        </p:blipFill>
        <p:spPr>
          <a:xfrm>
            <a:off x="-2333520" y="-167796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35" descr=""/>
          <p:cNvPicPr/>
          <p:nvPr/>
        </p:nvPicPr>
        <p:blipFill>
          <a:blip r:embed="rId3"/>
          <a:stretch/>
        </p:blipFill>
        <p:spPr>
          <a:xfrm>
            <a:off x="2255760" y="115920"/>
            <a:ext cx="3468600" cy="135900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36" descr=""/>
          <p:cNvPicPr/>
          <p:nvPr/>
        </p:nvPicPr>
        <p:blipFill>
          <a:blip r:embed="rId4"/>
          <a:stretch/>
        </p:blipFill>
        <p:spPr>
          <a:xfrm>
            <a:off x="1695600" y="4809960"/>
            <a:ext cx="5937120" cy="2090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9" descr=""/>
          <p:cNvPicPr/>
          <p:nvPr/>
        </p:nvPicPr>
        <p:blipFill>
          <a:blip r:embed="rId5"/>
          <a:stretch/>
        </p:blipFill>
        <p:spPr>
          <a:xfrm>
            <a:off x="-2411280" y="-118260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0" descr=""/>
          <p:cNvPicPr/>
          <p:nvPr/>
        </p:nvPicPr>
        <p:blipFill>
          <a:blip r:embed="rId6"/>
          <a:stretch/>
        </p:blipFill>
        <p:spPr>
          <a:xfrm>
            <a:off x="-2351160" y="-1033560"/>
            <a:ext cx="6170760" cy="4097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1" descr=""/>
          <p:cNvPicPr/>
          <p:nvPr/>
        </p:nvPicPr>
        <p:blipFill>
          <a:blip r:embed="rId7"/>
          <a:stretch/>
        </p:blipFill>
        <p:spPr>
          <a:xfrm>
            <a:off x="-2411280" y="-241200"/>
            <a:ext cx="6170400" cy="40971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2" descr=""/>
          <p:cNvPicPr/>
          <p:nvPr/>
        </p:nvPicPr>
        <p:blipFill>
          <a:blip r:embed="rId8"/>
          <a:stretch/>
        </p:blipFill>
        <p:spPr>
          <a:xfrm>
            <a:off x="-2351160" y="-93600"/>
            <a:ext cx="6170760" cy="40989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3" descr=""/>
          <p:cNvPicPr/>
          <p:nvPr/>
        </p:nvPicPr>
        <p:blipFill>
          <a:blip r:embed="rId9"/>
          <a:stretch/>
        </p:blipFill>
        <p:spPr>
          <a:xfrm>
            <a:off x="-2411280" y="587520"/>
            <a:ext cx="6170400" cy="4100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4" descr=""/>
          <p:cNvPicPr/>
          <p:nvPr/>
        </p:nvPicPr>
        <p:blipFill>
          <a:blip r:embed="rId10"/>
          <a:stretch/>
        </p:blipFill>
        <p:spPr>
          <a:xfrm>
            <a:off x="-2351160" y="736560"/>
            <a:ext cx="6170760" cy="41004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2" descr=""/>
          <p:cNvPicPr/>
          <p:nvPr/>
        </p:nvPicPr>
        <p:blipFill>
          <a:blip r:embed="rId11"/>
          <a:stretch/>
        </p:blipFill>
        <p:spPr>
          <a:xfrm>
            <a:off x="4853160" y="-65160"/>
            <a:ext cx="2449440" cy="16020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6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1">
                                  <p:stCondLst>
                                    <p:cond delay="28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6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39" dur="9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1" dur="9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47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9" dur="10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55" dur="6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57" dur="6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63" dur="9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65" dur="9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13181040" y="3430440"/>
            <a:ext cx="26362800" cy="358560"/>
            <a:chOff x="-13181040" y="3430440"/>
            <a:chExt cx="26362800" cy="358560"/>
          </a:xfrm>
        </p:grpSpPr>
        <p:sp>
          <p:nvSpPr>
            <p:cNvPr id="103" name="Freeform 43"/>
            <p:cNvSpPr/>
            <p:nvPr/>
          </p:nvSpPr>
          <p:spPr>
            <a:xfrm>
              <a:off x="-13181040" y="343044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73"/>
            <p:cNvSpPr/>
            <p:nvPr/>
          </p:nvSpPr>
          <p:spPr>
            <a:xfrm>
              <a:off x="-6586200" y="343296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4"/>
            <p:cNvSpPr/>
            <p:nvPr/>
          </p:nvSpPr>
          <p:spPr>
            <a:xfrm>
              <a:off x="3960" y="3437640"/>
              <a:ext cx="6584040" cy="34884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75"/>
            <p:cNvSpPr/>
            <p:nvPr/>
          </p:nvSpPr>
          <p:spPr>
            <a:xfrm>
              <a:off x="6598440" y="3440160"/>
              <a:ext cx="6583320" cy="34884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-15660720" y="3502080"/>
            <a:ext cx="26362800" cy="358200"/>
            <a:chOff x="-15660720" y="3502080"/>
            <a:chExt cx="26362800" cy="358200"/>
          </a:xfrm>
        </p:grpSpPr>
        <p:sp>
          <p:nvSpPr>
            <p:cNvPr id="108" name="Freeform 195"/>
            <p:cNvSpPr/>
            <p:nvPr/>
          </p:nvSpPr>
          <p:spPr>
            <a:xfrm>
              <a:off x="-15660720" y="3502080"/>
              <a:ext cx="6584040" cy="34812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6"/>
            <p:cNvSpPr/>
            <p:nvPr/>
          </p:nvSpPr>
          <p:spPr>
            <a:xfrm>
              <a:off x="-9065880" y="3504600"/>
              <a:ext cx="6583320" cy="34812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97"/>
            <p:cNvSpPr/>
            <p:nvPr/>
          </p:nvSpPr>
          <p:spPr>
            <a:xfrm>
              <a:off x="-2475360" y="350928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98"/>
            <p:cNvSpPr/>
            <p:nvPr/>
          </p:nvSpPr>
          <p:spPr>
            <a:xfrm>
              <a:off x="4118760" y="351180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-2017800" y="4471920"/>
            <a:ext cx="1448280" cy="1621080"/>
            <a:chOff x="-2017800" y="4471920"/>
            <a:chExt cx="1448280" cy="1621080"/>
          </a:xfrm>
        </p:grpSpPr>
        <p:sp>
          <p:nvSpPr>
            <p:cNvPr id="113" name="任意多边形 15"/>
            <p:cNvSpPr/>
            <p:nvPr/>
          </p:nvSpPr>
          <p:spPr>
            <a:xfrm>
              <a:off x="-1631880" y="4471920"/>
              <a:ext cx="1062360" cy="1621080"/>
            </a:xfrm>
            <a:custGeom>
              <a:avLst/>
              <a:gdLst/>
              <a:ahLst/>
              <a:rect l="l" t="t" r="r" b="b"/>
              <a:pathLst>
                <a:path w="1062819" h="1621321">
                  <a:moveTo>
                    <a:pt x="0" y="0"/>
                  </a:moveTo>
                  <a:cubicBezTo>
                    <a:pt x="62564" y="8823"/>
                    <a:pt x="125128" y="17646"/>
                    <a:pt x="192505" y="38501"/>
                  </a:cubicBezTo>
                  <a:cubicBezTo>
                    <a:pt x="259882" y="59356"/>
                    <a:pt x="404261" y="125128"/>
                    <a:pt x="404261" y="125128"/>
                  </a:cubicBezTo>
                  <a:cubicBezTo>
                    <a:pt x="471638" y="152399"/>
                    <a:pt x="535806" y="163629"/>
                    <a:pt x="596766" y="202130"/>
                  </a:cubicBezTo>
                  <a:cubicBezTo>
                    <a:pt x="657726" y="240631"/>
                    <a:pt x="723499" y="303196"/>
                    <a:pt x="770021" y="356135"/>
                  </a:cubicBezTo>
                  <a:cubicBezTo>
                    <a:pt x="816543" y="409074"/>
                    <a:pt x="840606" y="452387"/>
                    <a:pt x="875899" y="519764"/>
                  </a:cubicBezTo>
                  <a:cubicBezTo>
                    <a:pt x="911192" y="587141"/>
                    <a:pt x="951297" y="705853"/>
                    <a:pt x="981777" y="760396"/>
                  </a:cubicBezTo>
                  <a:cubicBezTo>
                    <a:pt x="1012257" y="814939"/>
                    <a:pt x="1049154" y="811731"/>
                    <a:pt x="1058779" y="847023"/>
                  </a:cubicBezTo>
                  <a:cubicBezTo>
                    <a:pt x="1068404" y="882315"/>
                    <a:pt x="1060383" y="943275"/>
                    <a:pt x="1039528" y="972151"/>
                  </a:cubicBezTo>
                  <a:cubicBezTo>
                    <a:pt x="1018673" y="1001027"/>
                    <a:pt x="965734" y="983381"/>
                    <a:pt x="933650" y="1020278"/>
                  </a:cubicBezTo>
                  <a:cubicBezTo>
                    <a:pt x="901566" y="1057175"/>
                    <a:pt x="877503" y="1145407"/>
                    <a:pt x="847023" y="1193533"/>
                  </a:cubicBezTo>
                  <a:cubicBezTo>
                    <a:pt x="816543" y="1241659"/>
                    <a:pt x="794084" y="1267327"/>
                    <a:pt x="750770" y="1309036"/>
                  </a:cubicBezTo>
                  <a:cubicBezTo>
                    <a:pt x="707456" y="1350745"/>
                    <a:pt x="648101" y="1402080"/>
                    <a:pt x="587141" y="1443789"/>
                  </a:cubicBezTo>
                  <a:cubicBezTo>
                    <a:pt x="526181" y="1485498"/>
                    <a:pt x="455595" y="1530417"/>
                    <a:pt x="385010" y="1559293"/>
                  </a:cubicBezTo>
                  <a:cubicBezTo>
                    <a:pt x="314425" y="1588169"/>
                    <a:pt x="216568" y="1607419"/>
                    <a:pt x="163629" y="1617044"/>
                  </a:cubicBezTo>
                  <a:cubicBezTo>
                    <a:pt x="110690" y="1626669"/>
                    <a:pt x="67377" y="1617044"/>
                    <a:pt x="67377" y="161704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任意多边形 18"/>
            <p:cNvSpPr/>
            <p:nvPr/>
          </p:nvSpPr>
          <p:spPr>
            <a:xfrm>
              <a:off x="-2009520" y="4471920"/>
              <a:ext cx="609480" cy="654120"/>
            </a:xfrm>
            <a:custGeom>
              <a:avLst/>
              <a:gdLst/>
              <a:ahLst/>
              <a:rect l="l" t="t" r="r" b="b"/>
              <a:pathLst>
                <a:path w="609550" h="654801">
                  <a:moveTo>
                    <a:pt x="368126" y="0"/>
                  </a:moveTo>
                  <a:cubicBezTo>
                    <a:pt x="425076" y="56949"/>
                    <a:pt x="482026" y="113899"/>
                    <a:pt x="522131" y="173255"/>
                  </a:cubicBezTo>
                  <a:cubicBezTo>
                    <a:pt x="562236" y="232611"/>
                    <a:pt x="616779" y="308009"/>
                    <a:pt x="608758" y="356135"/>
                  </a:cubicBezTo>
                  <a:cubicBezTo>
                    <a:pt x="600737" y="404261"/>
                    <a:pt x="506088" y="429929"/>
                    <a:pt x="474004" y="462013"/>
                  </a:cubicBezTo>
                  <a:cubicBezTo>
                    <a:pt x="441920" y="494097"/>
                    <a:pt x="430691" y="516556"/>
                    <a:pt x="416253" y="548640"/>
                  </a:cubicBezTo>
                  <a:cubicBezTo>
                    <a:pt x="401815" y="580724"/>
                    <a:pt x="408232" y="649705"/>
                    <a:pt x="387377" y="654518"/>
                  </a:cubicBezTo>
                  <a:cubicBezTo>
                    <a:pt x="366522" y="659331"/>
                    <a:pt x="328021" y="601579"/>
                    <a:pt x="291124" y="577516"/>
                  </a:cubicBezTo>
                  <a:cubicBezTo>
                    <a:pt x="254227" y="553453"/>
                    <a:pt x="212518" y="529389"/>
                    <a:pt x="165996" y="510139"/>
                  </a:cubicBezTo>
                  <a:cubicBezTo>
                    <a:pt x="119474" y="490889"/>
                    <a:pt x="36055" y="470034"/>
                    <a:pt x="11992" y="462013"/>
                  </a:cubicBezTo>
                  <a:cubicBezTo>
                    <a:pt x="-12071" y="453992"/>
                    <a:pt x="4773" y="458002"/>
                    <a:pt x="21617" y="462013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任意多边形 19"/>
            <p:cNvSpPr/>
            <p:nvPr/>
          </p:nvSpPr>
          <p:spPr>
            <a:xfrm>
              <a:off x="-1545840" y="5820120"/>
              <a:ext cx="433440" cy="258840"/>
            </a:xfrm>
            <a:custGeom>
              <a:avLst/>
              <a:gdLst/>
              <a:ahLst/>
              <a:rect l="l" t="t" r="r" b="b"/>
              <a:pathLst>
                <a:path w="433137" h="259882">
                  <a:moveTo>
                    <a:pt x="0" y="259882"/>
                  </a:moveTo>
                  <a:cubicBezTo>
                    <a:pt x="69783" y="228600"/>
                    <a:pt x="139566" y="197318"/>
                    <a:pt x="211756" y="154004"/>
                  </a:cubicBezTo>
                  <a:cubicBezTo>
                    <a:pt x="283946" y="110690"/>
                    <a:pt x="358541" y="55345"/>
                    <a:pt x="433137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任意多边形 20"/>
            <p:cNvSpPr/>
            <p:nvPr/>
          </p:nvSpPr>
          <p:spPr>
            <a:xfrm>
              <a:off x="-1593720" y="5839200"/>
              <a:ext cx="471600" cy="182520"/>
            </a:xfrm>
            <a:custGeom>
              <a:avLst/>
              <a:gdLst/>
              <a:ahLst/>
              <a:rect l="l" t="t" r="r" b="b"/>
              <a:pathLst>
                <a:path w="471638" h="182880">
                  <a:moveTo>
                    <a:pt x="0" y="182880"/>
                  </a:moveTo>
                  <a:cubicBezTo>
                    <a:pt x="71387" y="169244"/>
                    <a:pt x="142775" y="155609"/>
                    <a:pt x="221381" y="125129"/>
                  </a:cubicBezTo>
                  <a:cubicBezTo>
                    <a:pt x="299987" y="94649"/>
                    <a:pt x="385812" y="47324"/>
                    <a:pt x="471638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任意多边形 21"/>
            <p:cNvSpPr/>
            <p:nvPr/>
          </p:nvSpPr>
          <p:spPr>
            <a:xfrm>
              <a:off x="-1593720" y="5820120"/>
              <a:ext cx="326880" cy="191880"/>
            </a:xfrm>
            <a:custGeom>
              <a:avLst/>
              <a:gdLst/>
              <a:ahLst/>
              <a:rect l="l" t="t" r="r" b="b"/>
              <a:pathLst>
                <a:path w="327259" h="192505">
                  <a:moveTo>
                    <a:pt x="0" y="192505"/>
                  </a:moveTo>
                  <a:cubicBezTo>
                    <a:pt x="59355" y="165233"/>
                    <a:pt x="118711" y="137962"/>
                    <a:pt x="173254" y="105878"/>
                  </a:cubicBezTo>
                  <a:cubicBezTo>
                    <a:pt x="227797" y="73794"/>
                    <a:pt x="327259" y="0"/>
                    <a:pt x="327259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任意多边形 22"/>
            <p:cNvSpPr/>
            <p:nvPr/>
          </p:nvSpPr>
          <p:spPr>
            <a:xfrm>
              <a:off x="-1661760" y="5820120"/>
              <a:ext cx="376200" cy="95040"/>
            </a:xfrm>
            <a:custGeom>
              <a:avLst/>
              <a:gdLst/>
              <a:ahLst/>
              <a:rect l="l" t="t" r="r" b="b"/>
              <a:pathLst>
                <a:path w="375385" h="96252">
                  <a:moveTo>
                    <a:pt x="375385" y="0"/>
                  </a:moveTo>
                  <a:cubicBezTo>
                    <a:pt x="310414" y="30480"/>
                    <a:pt x="245444" y="60960"/>
                    <a:pt x="182880" y="77002"/>
                  </a:cubicBezTo>
                  <a:cubicBezTo>
                    <a:pt x="120316" y="93044"/>
                    <a:pt x="60158" y="94648"/>
                    <a:pt x="0" y="9625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任意多边形 24"/>
            <p:cNvSpPr/>
            <p:nvPr/>
          </p:nvSpPr>
          <p:spPr>
            <a:xfrm>
              <a:off x="-2008080" y="4933800"/>
              <a:ext cx="231840" cy="568440"/>
            </a:xfrm>
            <a:custGeom>
              <a:avLst/>
              <a:gdLst/>
              <a:ahLst/>
              <a:rect l="l" t="t" r="r" b="b"/>
              <a:pathLst>
                <a:path w="231007" h="567890">
                  <a:moveTo>
                    <a:pt x="19251" y="0"/>
                  </a:moveTo>
                  <a:cubicBezTo>
                    <a:pt x="78606" y="54543"/>
                    <a:pt x="137962" y="109086"/>
                    <a:pt x="173255" y="163629"/>
                  </a:cubicBezTo>
                  <a:cubicBezTo>
                    <a:pt x="208548" y="218172"/>
                    <a:pt x="231007" y="272715"/>
                    <a:pt x="231007" y="327258"/>
                  </a:cubicBezTo>
                  <a:cubicBezTo>
                    <a:pt x="231007" y="381801"/>
                    <a:pt x="211756" y="450783"/>
                    <a:pt x="173255" y="490888"/>
                  </a:cubicBezTo>
                  <a:cubicBezTo>
                    <a:pt x="134754" y="530993"/>
                    <a:pt x="67377" y="549441"/>
                    <a:pt x="0" y="56789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任意多边形 25"/>
            <p:cNvSpPr/>
            <p:nvPr/>
          </p:nvSpPr>
          <p:spPr>
            <a:xfrm>
              <a:off x="-2017800" y="5462640"/>
              <a:ext cx="442800" cy="68040"/>
            </a:xfrm>
            <a:custGeom>
              <a:avLst/>
              <a:gdLst/>
              <a:ahLst/>
              <a:rect l="l" t="t" r="r" b="b"/>
              <a:pathLst>
                <a:path w="442762" h="68054">
                  <a:moveTo>
                    <a:pt x="0" y="28876"/>
                  </a:moveTo>
                  <a:cubicBezTo>
                    <a:pt x="59355" y="50533"/>
                    <a:pt x="118711" y="72190"/>
                    <a:pt x="192505" y="67377"/>
                  </a:cubicBezTo>
                  <a:cubicBezTo>
                    <a:pt x="266299" y="62564"/>
                    <a:pt x="354530" y="31282"/>
                    <a:pt x="442762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任意多边形 26"/>
            <p:cNvSpPr/>
            <p:nvPr/>
          </p:nvSpPr>
          <p:spPr>
            <a:xfrm>
              <a:off x="-1631880" y="5462640"/>
              <a:ext cx="87120" cy="452520"/>
            </a:xfrm>
            <a:custGeom>
              <a:avLst/>
              <a:gdLst/>
              <a:ahLst/>
              <a:rect l="l" t="t" r="r" b="b"/>
              <a:pathLst>
                <a:path w="88242" h="452387">
                  <a:moveTo>
                    <a:pt x="48126" y="0"/>
                  </a:moveTo>
                  <a:cubicBezTo>
                    <a:pt x="71387" y="39303"/>
                    <a:pt x="94648" y="78606"/>
                    <a:pt x="86627" y="154004"/>
                  </a:cubicBezTo>
                  <a:cubicBezTo>
                    <a:pt x="78606" y="229402"/>
                    <a:pt x="39303" y="340894"/>
                    <a:pt x="0" y="45238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任意多边形 28"/>
            <p:cNvSpPr/>
            <p:nvPr/>
          </p:nvSpPr>
          <p:spPr>
            <a:xfrm>
              <a:off x="-1055160" y="4663800"/>
              <a:ext cx="172800" cy="442800"/>
            </a:xfrm>
            <a:custGeom>
              <a:avLst/>
              <a:gdLst/>
              <a:ahLst/>
              <a:rect l="l" t="t" r="r" b="b"/>
              <a:pathLst>
                <a:path w="173255" h="442762">
                  <a:moveTo>
                    <a:pt x="0" y="0"/>
                  </a:moveTo>
                  <a:cubicBezTo>
                    <a:pt x="38501" y="59355"/>
                    <a:pt x="77002" y="118711"/>
                    <a:pt x="105878" y="192505"/>
                  </a:cubicBezTo>
                  <a:cubicBezTo>
                    <a:pt x="134754" y="266299"/>
                    <a:pt x="154004" y="354530"/>
                    <a:pt x="173255" y="44276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任意多边形 29"/>
            <p:cNvSpPr/>
            <p:nvPr/>
          </p:nvSpPr>
          <p:spPr>
            <a:xfrm>
              <a:off x="-901080" y="5299200"/>
              <a:ext cx="42840" cy="490680"/>
            </a:xfrm>
            <a:custGeom>
              <a:avLst/>
              <a:gdLst/>
              <a:ahLst/>
              <a:rect l="l" t="t" r="r" b="b"/>
              <a:pathLst>
                <a:path w="42205" h="490888">
                  <a:moveTo>
                    <a:pt x="38501" y="0"/>
                  </a:moveTo>
                  <a:cubicBezTo>
                    <a:pt x="41709" y="60157"/>
                    <a:pt x="44918" y="120315"/>
                    <a:pt x="38501" y="202130"/>
                  </a:cubicBezTo>
                  <a:cubicBezTo>
                    <a:pt x="32084" y="283945"/>
                    <a:pt x="16042" y="387416"/>
                    <a:pt x="0" y="490888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椭圆 30"/>
            <p:cNvSpPr/>
            <p:nvPr/>
          </p:nvSpPr>
          <p:spPr>
            <a:xfrm>
              <a:off x="-968040" y="5106960"/>
              <a:ext cx="177840" cy="1918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任意多边形 31"/>
            <p:cNvSpPr/>
            <p:nvPr/>
          </p:nvSpPr>
          <p:spPr>
            <a:xfrm>
              <a:off x="-1206000" y="4749480"/>
              <a:ext cx="145800" cy="963720"/>
            </a:xfrm>
            <a:custGeom>
              <a:avLst/>
              <a:gdLst/>
              <a:ahLst/>
              <a:rect l="l" t="t" r="r" b="b"/>
              <a:pathLst>
                <a:path w="145250" h="964015">
                  <a:moveTo>
                    <a:pt x="6788" y="1489"/>
                  </a:moveTo>
                  <a:cubicBezTo>
                    <a:pt x="21226" y="12718"/>
                    <a:pt x="72560" y="80095"/>
                    <a:pt x="93415" y="155493"/>
                  </a:cubicBezTo>
                  <a:cubicBezTo>
                    <a:pt x="114270" y="230891"/>
                    <a:pt x="123895" y="360832"/>
                    <a:pt x="131916" y="453876"/>
                  </a:cubicBezTo>
                  <a:cubicBezTo>
                    <a:pt x="139937" y="546920"/>
                    <a:pt x="151166" y="628735"/>
                    <a:pt x="141541" y="713758"/>
                  </a:cubicBezTo>
                  <a:cubicBezTo>
                    <a:pt x="131916" y="798781"/>
                    <a:pt x="90206" y="964015"/>
                    <a:pt x="74164" y="964015"/>
                  </a:cubicBezTo>
                  <a:cubicBezTo>
                    <a:pt x="58122" y="964015"/>
                    <a:pt x="53310" y="829261"/>
                    <a:pt x="45289" y="713758"/>
                  </a:cubicBezTo>
                  <a:cubicBezTo>
                    <a:pt x="37268" y="598255"/>
                    <a:pt x="32455" y="375270"/>
                    <a:pt x="26038" y="270996"/>
                  </a:cubicBezTo>
                  <a:cubicBezTo>
                    <a:pt x="19621" y="166722"/>
                    <a:pt x="8392" y="131430"/>
                    <a:pt x="6788" y="88116"/>
                  </a:cubicBezTo>
                  <a:cubicBezTo>
                    <a:pt x="5184" y="44802"/>
                    <a:pt x="-7650" y="-9740"/>
                    <a:pt x="6788" y="1489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椭圆 36"/>
            <p:cNvSpPr/>
            <p:nvPr/>
          </p:nvSpPr>
          <p:spPr>
            <a:xfrm>
              <a:off x="-863280" y="518472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任意多边形 38"/>
            <p:cNvSpPr/>
            <p:nvPr/>
          </p:nvSpPr>
          <p:spPr>
            <a:xfrm>
              <a:off x="-1093320" y="5270400"/>
              <a:ext cx="115920" cy="37800"/>
            </a:xfrm>
            <a:custGeom>
              <a:avLst/>
              <a:gdLst/>
              <a:ahLst/>
              <a:rect l="l" t="t" r="r" b="b"/>
              <a:pathLst>
                <a:path w="115504" h="39057">
                  <a:moveTo>
                    <a:pt x="0" y="19806"/>
                  </a:moveTo>
                  <a:cubicBezTo>
                    <a:pt x="14438" y="8576"/>
                    <a:pt x="28876" y="-2653"/>
                    <a:pt x="48127" y="556"/>
                  </a:cubicBezTo>
                  <a:cubicBezTo>
                    <a:pt x="67378" y="3764"/>
                    <a:pt x="91441" y="21410"/>
                    <a:pt x="115504" y="39057"/>
                  </a:cubicBez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椭圆 40"/>
          <p:cNvSpPr/>
          <p:nvPr/>
        </p:nvSpPr>
        <p:spPr>
          <a:xfrm>
            <a:off x="-458640" y="5018040"/>
            <a:ext cx="144360" cy="163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41"/>
          <p:cNvSpPr/>
          <p:nvPr/>
        </p:nvSpPr>
        <p:spPr>
          <a:xfrm>
            <a:off x="-387360" y="4676760"/>
            <a:ext cx="208080" cy="216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椭圆 42"/>
          <p:cNvSpPr/>
          <p:nvPr/>
        </p:nvSpPr>
        <p:spPr>
          <a:xfrm>
            <a:off x="-314280" y="4245120"/>
            <a:ext cx="27936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TextBox 12" descr=""/>
          <p:cNvPicPr/>
          <p:nvPr/>
        </p:nvPicPr>
        <p:blipFill>
          <a:blip r:embed="rId1"/>
          <a:stretch/>
        </p:blipFill>
        <p:spPr>
          <a:xfrm>
            <a:off x="60480" y="225360"/>
            <a:ext cx="3431880" cy="135900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33" descr=""/>
          <p:cNvPicPr/>
          <p:nvPr/>
        </p:nvPicPr>
        <p:blipFill>
          <a:blip r:embed="rId2"/>
          <a:stretch/>
        </p:blipFill>
        <p:spPr>
          <a:xfrm>
            <a:off x="4017960" y="1133640"/>
            <a:ext cx="5308560" cy="209700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4" descr=""/>
          <p:cNvPicPr/>
          <p:nvPr/>
        </p:nvPicPr>
        <p:blipFill>
          <a:blip r:embed="rId3"/>
          <a:stretch/>
        </p:blipFill>
        <p:spPr>
          <a:xfrm>
            <a:off x="2614680" y="109440"/>
            <a:ext cx="3541680" cy="17557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89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94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299" dur="8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1" dur="8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3" dur="8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5" dur="8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1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5" repeatCount="indefinite">
                                  <p:stCondLst>
                                    <p:cond delay="1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5" repeatCount="indefinite">
                                  <p:stCondLst>
                                    <p:cond delay="1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2"/>
          <p:cNvSpPr/>
          <p:nvPr/>
        </p:nvSpPr>
        <p:spPr>
          <a:xfrm>
            <a:off x="6913440" y="736560"/>
            <a:ext cx="285840" cy="628560"/>
          </a:xfrm>
          <a:custGeom>
            <a:avLst/>
            <a:gdLst/>
            <a:ahLst/>
            <a:rect l="l" t="t" r="r" b="b"/>
            <a:pathLst>
              <a:path w="285076" h="629392">
                <a:moveTo>
                  <a:pt x="130697" y="629392"/>
                </a:moveTo>
                <a:cubicBezTo>
                  <a:pt x="105956" y="592776"/>
                  <a:pt x="81216" y="556161"/>
                  <a:pt x="59445" y="510639"/>
                </a:cubicBezTo>
                <a:cubicBezTo>
                  <a:pt x="37674" y="465117"/>
                  <a:pt x="2047" y="395844"/>
                  <a:pt x="68" y="356260"/>
                </a:cubicBezTo>
                <a:cubicBezTo>
                  <a:pt x="-1911" y="316676"/>
                  <a:pt x="39653" y="302821"/>
                  <a:pt x="47570" y="273133"/>
                </a:cubicBezTo>
                <a:cubicBezTo>
                  <a:pt x="55487" y="243445"/>
                  <a:pt x="39653" y="207818"/>
                  <a:pt x="47570" y="178130"/>
                </a:cubicBezTo>
                <a:cubicBezTo>
                  <a:pt x="55487" y="148442"/>
                  <a:pt x="73300" y="118754"/>
                  <a:pt x="95071" y="95003"/>
                </a:cubicBezTo>
                <a:cubicBezTo>
                  <a:pt x="116842" y="71252"/>
                  <a:pt x="146531" y="51460"/>
                  <a:pt x="178198" y="35626"/>
                </a:cubicBezTo>
                <a:cubicBezTo>
                  <a:pt x="209866" y="19792"/>
                  <a:pt x="247471" y="9896"/>
                  <a:pt x="28507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任意多边形 3"/>
          <p:cNvSpPr/>
          <p:nvPr/>
        </p:nvSpPr>
        <p:spPr>
          <a:xfrm>
            <a:off x="7199280" y="736560"/>
            <a:ext cx="925560" cy="986040"/>
          </a:xfrm>
          <a:custGeom>
            <a:avLst/>
            <a:gdLst/>
            <a:ahLst/>
            <a:rect l="l" t="t" r="r" b="b"/>
            <a:pathLst>
              <a:path w="926275" h="997527">
                <a:moveTo>
                  <a:pt x="0" y="0"/>
                </a:moveTo>
                <a:cubicBezTo>
                  <a:pt x="33647" y="2968"/>
                  <a:pt x="67294" y="5937"/>
                  <a:pt x="95003" y="11875"/>
                </a:cubicBezTo>
                <a:cubicBezTo>
                  <a:pt x="122712" y="17813"/>
                  <a:pt x="144484" y="27709"/>
                  <a:pt x="166255" y="35626"/>
                </a:cubicBezTo>
                <a:cubicBezTo>
                  <a:pt x="188026" y="43543"/>
                  <a:pt x="197922" y="41563"/>
                  <a:pt x="225631" y="59376"/>
                </a:cubicBezTo>
                <a:cubicBezTo>
                  <a:pt x="253340" y="77189"/>
                  <a:pt x="306779" y="114795"/>
                  <a:pt x="332509" y="142504"/>
                </a:cubicBezTo>
                <a:cubicBezTo>
                  <a:pt x="358239" y="170213"/>
                  <a:pt x="378031" y="201880"/>
                  <a:pt x="380010" y="225631"/>
                </a:cubicBezTo>
                <a:cubicBezTo>
                  <a:pt x="381989" y="249382"/>
                  <a:pt x="344384" y="263237"/>
                  <a:pt x="344384" y="285008"/>
                </a:cubicBezTo>
                <a:cubicBezTo>
                  <a:pt x="344384" y="306779"/>
                  <a:pt x="374072" y="332510"/>
                  <a:pt x="380010" y="356260"/>
                </a:cubicBezTo>
                <a:cubicBezTo>
                  <a:pt x="385948" y="380010"/>
                  <a:pt x="387927" y="407719"/>
                  <a:pt x="380010" y="427511"/>
                </a:cubicBezTo>
                <a:cubicBezTo>
                  <a:pt x="372093" y="447303"/>
                  <a:pt x="348343" y="455221"/>
                  <a:pt x="332509" y="475013"/>
                </a:cubicBezTo>
                <a:cubicBezTo>
                  <a:pt x="316675" y="494805"/>
                  <a:pt x="294904" y="524494"/>
                  <a:pt x="285008" y="546265"/>
                </a:cubicBezTo>
                <a:cubicBezTo>
                  <a:pt x="275112" y="568036"/>
                  <a:pt x="251362" y="560119"/>
                  <a:pt x="273133" y="605641"/>
                </a:cubicBezTo>
                <a:cubicBezTo>
                  <a:pt x="294904" y="651163"/>
                  <a:pt x="366156" y="777833"/>
                  <a:pt x="415636" y="819397"/>
                </a:cubicBezTo>
                <a:cubicBezTo>
                  <a:pt x="465116" y="860961"/>
                  <a:pt x="520535" y="839189"/>
                  <a:pt x="570016" y="855023"/>
                </a:cubicBezTo>
                <a:cubicBezTo>
                  <a:pt x="619497" y="870857"/>
                  <a:pt x="653144" y="890649"/>
                  <a:pt x="712520" y="914400"/>
                </a:cubicBezTo>
                <a:cubicBezTo>
                  <a:pt x="771897" y="938151"/>
                  <a:pt x="926275" y="997527"/>
                  <a:pt x="926275" y="997527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任意多边形 4"/>
          <p:cNvSpPr/>
          <p:nvPr/>
        </p:nvSpPr>
        <p:spPr>
          <a:xfrm>
            <a:off x="8064360" y="1733400"/>
            <a:ext cx="179640" cy="2102040"/>
          </a:xfrm>
          <a:custGeom>
            <a:avLst/>
            <a:gdLst/>
            <a:ahLst/>
            <a:rect l="l" t="t" r="r" b="b"/>
            <a:pathLst>
              <a:path w="179819" h="2102373">
                <a:moveTo>
                  <a:pt x="37189" y="0"/>
                </a:moveTo>
                <a:cubicBezTo>
                  <a:pt x="59950" y="47501"/>
                  <a:pt x="82711" y="95003"/>
                  <a:pt x="96565" y="142504"/>
                </a:cubicBezTo>
                <a:cubicBezTo>
                  <a:pt x="110420" y="190005"/>
                  <a:pt x="112399" y="247403"/>
                  <a:pt x="120316" y="285008"/>
                </a:cubicBezTo>
                <a:cubicBezTo>
                  <a:pt x="128233" y="322613"/>
                  <a:pt x="140109" y="306779"/>
                  <a:pt x="144067" y="368135"/>
                </a:cubicBezTo>
                <a:cubicBezTo>
                  <a:pt x="148026" y="429491"/>
                  <a:pt x="144067" y="653143"/>
                  <a:pt x="144067" y="653143"/>
                </a:cubicBezTo>
                <a:cubicBezTo>
                  <a:pt x="144067" y="724395"/>
                  <a:pt x="138129" y="758042"/>
                  <a:pt x="144067" y="795647"/>
                </a:cubicBezTo>
                <a:cubicBezTo>
                  <a:pt x="150005" y="833252"/>
                  <a:pt x="177714" y="825335"/>
                  <a:pt x="179693" y="878774"/>
                </a:cubicBezTo>
                <a:cubicBezTo>
                  <a:pt x="181672" y="932213"/>
                  <a:pt x="159900" y="1045029"/>
                  <a:pt x="155942" y="1116281"/>
                </a:cubicBezTo>
                <a:cubicBezTo>
                  <a:pt x="151984" y="1187533"/>
                  <a:pt x="157921" y="1246909"/>
                  <a:pt x="155942" y="1306286"/>
                </a:cubicBezTo>
                <a:cubicBezTo>
                  <a:pt x="153963" y="1365663"/>
                  <a:pt x="151984" y="1423061"/>
                  <a:pt x="144067" y="1472541"/>
                </a:cubicBezTo>
                <a:cubicBezTo>
                  <a:pt x="136150" y="1522022"/>
                  <a:pt x="106462" y="1551709"/>
                  <a:pt x="108441" y="1603169"/>
                </a:cubicBezTo>
                <a:cubicBezTo>
                  <a:pt x="110420" y="1654629"/>
                  <a:pt x="155942" y="1739735"/>
                  <a:pt x="155942" y="1781299"/>
                </a:cubicBezTo>
                <a:cubicBezTo>
                  <a:pt x="155942" y="1822863"/>
                  <a:pt x="114379" y="1828800"/>
                  <a:pt x="108441" y="1852551"/>
                </a:cubicBezTo>
                <a:cubicBezTo>
                  <a:pt x="102503" y="1876302"/>
                  <a:pt x="136150" y="1884219"/>
                  <a:pt x="120316" y="1923803"/>
                </a:cubicBezTo>
                <a:cubicBezTo>
                  <a:pt x="104482" y="1963387"/>
                  <a:pt x="33230" y="2062349"/>
                  <a:pt x="13438" y="2090058"/>
                </a:cubicBezTo>
                <a:cubicBezTo>
                  <a:pt x="-6354" y="2117767"/>
                  <a:pt x="1563" y="2090058"/>
                  <a:pt x="1563" y="209005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5"/>
          <p:cNvSpPr/>
          <p:nvPr/>
        </p:nvSpPr>
        <p:spPr>
          <a:xfrm>
            <a:off x="7602480" y="3848040"/>
            <a:ext cx="463680" cy="1935360"/>
          </a:xfrm>
          <a:custGeom>
            <a:avLst/>
            <a:gdLst/>
            <a:ahLst/>
            <a:rect l="l" t="t" r="r" b="b"/>
            <a:pathLst>
              <a:path w="451263" h="1935678">
                <a:moveTo>
                  <a:pt x="451263" y="0"/>
                </a:moveTo>
                <a:cubicBezTo>
                  <a:pt x="419595" y="15833"/>
                  <a:pt x="389907" y="31667"/>
                  <a:pt x="356260" y="47501"/>
                </a:cubicBezTo>
                <a:cubicBezTo>
                  <a:pt x="322613" y="63335"/>
                  <a:pt x="263236" y="59377"/>
                  <a:pt x="249382" y="95003"/>
                </a:cubicBezTo>
                <a:cubicBezTo>
                  <a:pt x="235528" y="130629"/>
                  <a:pt x="265216" y="193964"/>
                  <a:pt x="273133" y="261257"/>
                </a:cubicBezTo>
                <a:cubicBezTo>
                  <a:pt x="281050" y="328550"/>
                  <a:pt x="296884" y="413658"/>
                  <a:pt x="296884" y="498764"/>
                </a:cubicBezTo>
                <a:cubicBezTo>
                  <a:pt x="296884" y="583870"/>
                  <a:pt x="279071" y="700644"/>
                  <a:pt x="273133" y="771896"/>
                </a:cubicBezTo>
                <a:cubicBezTo>
                  <a:pt x="267195" y="843148"/>
                  <a:pt x="273133" y="860962"/>
                  <a:pt x="261258" y="926276"/>
                </a:cubicBezTo>
                <a:cubicBezTo>
                  <a:pt x="249383" y="991590"/>
                  <a:pt x="219694" y="1110343"/>
                  <a:pt x="201881" y="1163782"/>
                </a:cubicBezTo>
                <a:cubicBezTo>
                  <a:pt x="184068" y="1217221"/>
                  <a:pt x="162297" y="1221179"/>
                  <a:pt x="154380" y="1246909"/>
                </a:cubicBezTo>
                <a:cubicBezTo>
                  <a:pt x="146463" y="1272639"/>
                  <a:pt x="160318" y="1294410"/>
                  <a:pt x="154380" y="1318161"/>
                </a:cubicBezTo>
                <a:cubicBezTo>
                  <a:pt x="148442" y="1341912"/>
                  <a:pt x="118754" y="1389413"/>
                  <a:pt x="118754" y="1389413"/>
                </a:cubicBezTo>
                <a:cubicBezTo>
                  <a:pt x="106879" y="1413164"/>
                  <a:pt x="89066" y="1442852"/>
                  <a:pt x="83128" y="1460665"/>
                </a:cubicBezTo>
                <a:cubicBezTo>
                  <a:pt x="77190" y="1478478"/>
                  <a:pt x="77190" y="1468582"/>
                  <a:pt x="83128" y="1496291"/>
                </a:cubicBezTo>
                <a:cubicBezTo>
                  <a:pt x="89066" y="1524000"/>
                  <a:pt x="108858" y="1591294"/>
                  <a:pt x="118754" y="1626920"/>
                </a:cubicBezTo>
                <a:cubicBezTo>
                  <a:pt x="128650" y="1662546"/>
                  <a:pt x="144483" y="1680359"/>
                  <a:pt x="142504" y="1710047"/>
                </a:cubicBezTo>
                <a:cubicBezTo>
                  <a:pt x="140525" y="1739735"/>
                  <a:pt x="116774" y="1775362"/>
                  <a:pt x="106878" y="1805050"/>
                </a:cubicBezTo>
                <a:cubicBezTo>
                  <a:pt x="96982" y="1834738"/>
                  <a:pt x="100941" y="1866406"/>
                  <a:pt x="83128" y="1888177"/>
                </a:cubicBezTo>
                <a:cubicBezTo>
                  <a:pt x="65315" y="1909948"/>
                  <a:pt x="32657" y="1922813"/>
                  <a:pt x="0" y="193567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7"/>
          <p:cNvSpPr/>
          <p:nvPr/>
        </p:nvSpPr>
        <p:spPr>
          <a:xfrm>
            <a:off x="6843600" y="4227480"/>
            <a:ext cx="509760" cy="1751040"/>
          </a:xfrm>
          <a:custGeom>
            <a:avLst/>
            <a:gdLst/>
            <a:ahLst/>
            <a:rect l="l" t="t" r="r" b="b"/>
            <a:pathLst>
              <a:path w="510639" h="1751699">
                <a:moveTo>
                  <a:pt x="368135" y="0"/>
                </a:moveTo>
                <a:cubicBezTo>
                  <a:pt x="370114" y="27709"/>
                  <a:pt x="372093" y="55418"/>
                  <a:pt x="368135" y="95002"/>
                </a:cubicBezTo>
                <a:cubicBezTo>
                  <a:pt x="364177" y="134586"/>
                  <a:pt x="352302" y="186046"/>
                  <a:pt x="344385" y="237506"/>
                </a:cubicBezTo>
                <a:cubicBezTo>
                  <a:pt x="336468" y="288966"/>
                  <a:pt x="318655" y="346364"/>
                  <a:pt x="320634" y="403761"/>
                </a:cubicBezTo>
                <a:cubicBezTo>
                  <a:pt x="322613" y="461158"/>
                  <a:pt x="340426" y="514596"/>
                  <a:pt x="356260" y="581890"/>
                </a:cubicBezTo>
                <a:cubicBezTo>
                  <a:pt x="372094" y="649184"/>
                  <a:pt x="399803" y="744187"/>
                  <a:pt x="415637" y="807522"/>
                </a:cubicBezTo>
                <a:cubicBezTo>
                  <a:pt x="431471" y="870857"/>
                  <a:pt x="435429" y="904504"/>
                  <a:pt x="451263" y="961901"/>
                </a:cubicBezTo>
                <a:cubicBezTo>
                  <a:pt x="467097" y="1019298"/>
                  <a:pt x="500743" y="1043049"/>
                  <a:pt x="510639" y="1151906"/>
                </a:cubicBezTo>
                <a:cubicBezTo>
                  <a:pt x="520535" y="1260763"/>
                  <a:pt x="520535" y="1525979"/>
                  <a:pt x="510639" y="1615044"/>
                </a:cubicBezTo>
                <a:cubicBezTo>
                  <a:pt x="500743" y="1704109"/>
                  <a:pt x="492827" y="1664525"/>
                  <a:pt x="451263" y="1686296"/>
                </a:cubicBezTo>
                <a:cubicBezTo>
                  <a:pt x="409699" y="1708067"/>
                  <a:pt x="312717" y="1735776"/>
                  <a:pt x="261257" y="1745672"/>
                </a:cubicBezTo>
                <a:cubicBezTo>
                  <a:pt x="209797" y="1755568"/>
                  <a:pt x="186047" y="1751610"/>
                  <a:pt x="142504" y="1745672"/>
                </a:cubicBezTo>
                <a:cubicBezTo>
                  <a:pt x="98961" y="1739734"/>
                  <a:pt x="49480" y="1724890"/>
                  <a:pt x="0" y="171004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"/>
          <p:cNvSpPr/>
          <p:nvPr/>
        </p:nvSpPr>
        <p:spPr>
          <a:xfrm>
            <a:off x="6616800" y="2801880"/>
            <a:ext cx="336600" cy="3135240"/>
          </a:xfrm>
          <a:custGeom>
            <a:avLst/>
            <a:gdLst/>
            <a:ahLst/>
            <a:rect l="l" t="t" r="r" b="b"/>
            <a:pathLst>
              <a:path w="336501" h="3135085">
                <a:moveTo>
                  <a:pt x="238649" y="3135085"/>
                </a:moveTo>
                <a:cubicBezTo>
                  <a:pt x="232711" y="3093521"/>
                  <a:pt x="226774" y="3051958"/>
                  <a:pt x="238649" y="3016332"/>
                </a:cubicBezTo>
                <a:cubicBezTo>
                  <a:pt x="250524" y="2980706"/>
                  <a:pt x="294067" y="2968830"/>
                  <a:pt x="309901" y="2921329"/>
                </a:cubicBezTo>
                <a:cubicBezTo>
                  <a:pt x="325735" y="2873828"/>
                  <a:pt x="343547" y="2794659"/>
                  <a:pt x="333651" y="2731324"/>
                </a:cubicBezTo>
                <a:cubicBezTo>
                  <a:pt x="323755" y="2667989"/>
                  <a:pt x="276254" y="2612571"/>
                  <a:pt x="250524" y="2541319"/>
                </a:cubicBezTo>
                <a:cubicBezTo>
                  <a:pt x="224794" y="2470067"/>
                  <a:pt x="199064" y="2381003"/>
                  <a:pt x="179272" y="2303813"/>
                </a:cubicBezTo>
                <a:cubicBezTo>
                  <a:pt x="159480" y="2226623"/>
                  <a:pt x="147605" y="2169225"/>
                  <a:pt x="131771" y="2078181"/>
                </a:cubicBezTo>
                <a:cubicBezTo>
                  <a:pt x="115937" y="1987137"/>
                  <a:pt x="98124" y="1844634"/>
                  <a:pt x="84269" y="1757548"/>
                </a:cubicBezTo>
                <a:cubicBezTo>
                  <a:pt x="70414" y="1670462"/>
                  <a:pt x="54581" y="1650670"/>
                  <a:pt x="48643" y="1555667"/>
                </a:cubicBezTo>
                <a:cubicBezTo>
                  <a:pt x="42705" y="1460664"/>
                  <a:pt x="52601" y="1284514"/>
                  <a:pt x="48643" y="1187532"/>
                </a:cubicBezTo>
                <a:cubicBezTo>
                  <a:pt x="44685" y="1090550"/>
                  <a:pt x="30831" y="1080654"/>
                  <a:pt x="24893" y="973776"/>
                </a:cubicBezTo>
                <a:cubicBezTo>
                  <a:pt x="18955" y="866898"/>
                  <a:pt x="13017" y="546265"/>
                  <a:pt x="13017" y="546265"/>
                </a:cubicBezTo>
                <a:cubicBezTo>
                  <a:pt x="9059" y="403761"/>
                  <a:pt x="3121" y="209797"/>
                  <a:pt x="1142" y="118753"/>
                </a:cubicBezTo>
                <a:cubicBezTo>
                  <a:pt x="-837" y="27709"/>
                  <a:pt x="152" y="13854"/>
                  <a:pt x="1142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2"/>
          <p:cNvSpPr/>
          <p:nvPr/>
        </p:nvSpPr>
        <p:spPr>
          <a:xfrm>
            <a:off x="5952960" y="2801880"/>
            <a:ext cx="652680" cy="966960"/>
          </a:xfrm>
          <a:custGeom>
            <a:avLst/>
            <a:gdLst/>
            <a:ahLst/>
            <a:rect l="l" t="t" r="r" b="b"/>
            <a:pathLst>
              <a:path w="653143" h="965447">
                <a:moveTo>
                  <a:pt x="653143" y="0"/>
                </a:moveTo>
                <a:cubicBezTo>
                  <a:pt x="633350" y="0"/>
                  <a:pt x="613558" y="0"/>
                  <a:pt x="593766" y="35626"/>
                </a:cubicBezTo>
                <a:cubicBezTo>
                  <a:pt x="573974" y="71252"/>
                  <a:pt x="548244" y="156358"/>
                  <a:pt x="534390" y="213755"/>
                </a:cubicBezTo>
                <a:cubicBezTo>
                  <a:pt x="520535" y="271152"/>
                  <a:pt x="522514" y="334488"/>
                  <a:pt x="510639" y="380010"/>
                </a:cubicBezTo>
                <a:cubicBezTo>
                  <a:pt x="498764" y="425532"/>
                  <a:pt x="475013" y="443345"/>
                  <a:pt x="463138" y="486888"/>
                </a:cubicBezTo>
                <a:cubicBezTo>
                  <a:pt x="451263" y="530431"/>
                  <a:pt x="437408" y="599703"/>
                  <a:pt x="439387" y="641267"/>
                </a:cubicBezTo>
                <a:cubicBezTo>
                  <a:pt x="441366" y="682831"/>
                  <a:pt x="469075" y="704602"/>
                  <a:pt x="475013" y="736270"/>
                </a:cubicBezTo>
                <a:cubicBezTo>
                  <a:pt x="480951" y="767938"/>
                  <a:pt x="490847" y="805542"/>
                  <a:pt x="475013" y="831272"/>
                </a:cubicBezTo>
                <a:cubicBezTo>
                  <a:pt x="459179" y="857002"/>
                  <a:pt x="407719" y="878774"/>
                  <a:pt x="380010" y="890649"/>
                </a:cubicBezTo>
                <a:cubicBezTo>
                  <a:pt x="352301" y="902524"/>
                  <a:pt x="328550" y="890649"/>
                  <a:pt x="308758" y="902524"/>
                </a:cubicBezTo>
                <a:cubicBezTo>
                  <a:pt x="288966" y="914399"/>
                  <a:pt x="279070" y="953984"/>
                  <a:pt x="261257" y="961901"/>
                </a:cubicBezTo>
                <a:cubicBezTo>
                  <a:pt x="243444" y="969818"/>
                  <a:pt x="227610" y="963881"/>
                  <a:pt x="201880" y="950026"/>
                </a:cubicBezTo>
                <a:cubicBezTo>
                  <a:pt x="176150" y="936172"/>
                  <a:pt x="124691" y="898566"/>
                  <a:pt x="106878" y="878774"/>
                </a:cubicBezTo>
                <a:cubicBezTo>
                  <a:pt x="89065" y="858982"/>
                  <a:pt x="112816" y="857002"/>
                  <a:pt x="95003" y="831272"/>
                </a:cubicBezTo>
                <a:cubicBezTo>
                  <a:pt x="77190" y="805542"/>
                  <a:pt x="0" y="724394"/>
                  <a:pt x="0" y="72439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任意多边形 13"/>
          <p:cNvSpPr/>
          <p:nvPr/>
        </p:nvSpPr>
        <p:spPr>
          <a:xfrm>
            <a:off x="5452920" y="3538440"/>
            <a:ext cx="546120" cy="2197080"/>
          </a:xfrm>
          <a:custGeom>
            <a:avLst/>
            <a:gdLst/>
            <a:ahLst/>
            <a:rect l="l" t="t" r="r" b="b"/>
            <a:pathLst>
              <a:path w="546265" h="2196935">
                <a:moveTo>
                  <a:pt x="498764" y="0"/>
                </a:moveTo>
                <a:cubicBezTo>
                  <a:pt x="494805" y="14844"/>
                  <a:pt x="490847" y="29688"/>
                  <a:pt x="498764" y="71252"/>
                </a:cubicBezTo>
                <a:cubicBezTo>
                  <a:pt x="506681" y="112816"/>
                  <a:pt x="546265" y="195943"/>
                  <a:pt x="546265" y="249382"/>
                </a:cubicBezTo>
                <a:cubicBezTo>
                  <a:pt x="546265" y="302821"/>
                  <a:pt x="508660" y="356259"/>
                  <a:pt x="498764" y="391885"/>
                </a:cubicBezTo>
                <a:cubicBezTo>
                  <a:pt x="488868" y="427511"/>
                  <a:pt x="510640" y="433449"/>
                  <a:pt x="486889" y="463137"/>
                </a:cubicBezTo>
                <a:cubicBezTo>
                  <a:pt x="463138" y="492825"/>
                  <a:pt x="380011" y="530431"/>
                  <a:pt x="356260" y="570015"/>
                </a:cubicBezTo>
                <a:cubicBezTo>
                  <a:pt x="332509" y="609600"/>
                  <a:pt x="344385" y="645226"/>
                  <a:pt x="344385" y="700644"/>
                </a:cubicBezTo>
                <a:cubicBezTo>
                  <a:pt x="344385" y="756062"/>
                  <a:pt x="368135" y="841168"/>
                  <a:pt x="356260" y="902524"/>
                </a:cubicBezTo>
                <a:cubicBezTo>
                  <a:pt x="344385" y="963880"/>
                  <a:pt x="296884" y="1019298"/>
                  <a:pt x="273133" y="1068779"/>
                </a:cubicBezTo>
                <a:cubicBezTo>
                  <a:pt x="249382" y="1118260"/>
                  <a:pt x="235527" y="1163782"/>
                  <a:pt x="213756" y="1199408"/>
                </a:cubicBezTo>
                <a:cubicBezTo>
                  <a:pt x="191984" y="1235034"/>
                  <a:pt x="154379" y="1229096"/>
                  <a:pt x="142504" y="1282535"/>
                </a:cubicBezTo>
                <a:cubicBezTo>
                  <a:pt x="130629" y="1335974"/>
                  <a:pt x="158338" y="1454727"/>
                  <a:pt x="142504" y="1520041"/>
                </a:cubicBezTo>
                <a:cubicBezTo>
                  <a:pt x="126670" y="1585355"/>
                  <a:pt x="69273" y="1628899"/>
                  <a:pt x="47502" y="1674421"/>
                </a:cubicBezTo>
                <a:cubicBezTo>
                  <a:pt x="25731" y="1719943"/>
                  <a:pt x="13855" y="1761507"/>
                  <a:pt x="11876" y="1793174"/>
                </a:cubicBezTo>
                <a:cubicBezTo>
                  <a:pt x="9897" y="1824841"/>
                  <a:pt x="35626" y="1838696"/>
                  <a:pt x="35626" y="1864426"/>
                </a:cubicBezTo>
                <a:cubicBezTo>
                  <a:pt x="35626" y="1890156"/>
                  <a:pt x="11876" y="1919844"/>
                  <a:pt x="11876" y="1947553"/>
                </a:cubicBezTo>
                <a:cubicBezTo>
                  <a:pt x="11876" y="1975262"/>
                  <a:pt x="23751" y="2008909"/>
                  <a:pt x="35626" y="2030680"/>
                </a:cubicBezTo>
                <a:cubicBezTo>
                  <a:pt x="47501" y="2052452"/>
                  <a:pt x="79170" y="2056411"/>
                  <a:pt x="83128" y="2078182"/>
                </a:cubicBezTo>
                <a:cubicBezTo>
                  <a:pt x="87086" y="2099953"/>
                  <a:pt x="73232" y="2141517"/>
                  <a:pt x="59377" y="2161309"/>
                </a:cubicBezTo>
                <a:cubicBezTo>
                  <a:pt x="45522" y="2181101"/>
                  <a:pt x="22761" y="2189018"/>
                  <a:pt x="0" y="219693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任意多边形 14"/>
          <p:cNvSpPr/>
          <p:nvPr/>
        </p:nvSpPr>
        <p:spPr>
          <a:xfrm>
            <a:off x="5162400" y="5492880"/>
            <a:ext cx="297000" cy="242640"/>
          </a:xfrm>
          <a:custGeom>
            <a:avLst/>
            <a:gdLst/>
            <a:ahLst/>
            <a:rect l="l" t="t" r="r" b="b"/>
            <a:pathLst>
              <a:path w="296883" h="242587">
                <a:moveTo>
                  <a:pt x="296883" y="238017"/>
                </a:moveTo>
                <a:cubicBezTo>
                  <a:pt x="268184" y="241975"/>
                  <a:pt x="239485" y="245934"/>
                  <a:pt x="201880" y="238017"/>
                </a:cubicBezTo>
                <a:cubicBezTo>
                  <a:pt x="164275" y="230100"/>
                  <a:pt x="95003" y="210308"/>
                  <a:pt x="71252" y="190516"/>
                </a:cubicBezTo>
                <a:cubicBezTo>
                  <a:pt x="47501" y="170724"/>
                  <a:pt x="65315" y="137077"/>
                  <a:pt x="59377" y="119264"/>
                </a:cubicBezTo>
                <a:cubicBezTo>
                  <a:pt x="53439" y="101451"/>
                  <a:pt x="43543" y="101451"/>
                  <a:pt x="35626" y="83638"/>
                </a:cubicBezTo>
                <a:cubicBezTo>
                  <a:pt x="27709" y="65825"/>
                  <a:pt x="17813" y="26240"/>
                  <a:pt x="11875" y="12386"/>
                </a:cubicBezTo>
                <a:cubicBezTo>
                  <a:pt x="5937" y="-1469"/>
                  <a:pt x="2968" y="-479"/>
                  <a:pt x="0" y="51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任意多边形 15"/>
          <p:cNvSpPr/>
          <p:nvPr/>
        </p:nvSpPr>
        <p:spPr>
          <a:xfrm>
            <a:off x="5151600" y="4780080"/>
            <a:ext cx="123840" cy="712800"/>
          </a:xfrm>
          <a:custGeom>
            <a:avLst/>
            <a:gdLst/>
            <a:ahLst/>
            <a:rect l="l" t="t" r="r" b="b"/>
            <a:pathLst>
              <a:path w="123324" h="712520">
                <a:moveTo>
                  <a:pt x="4571" y="712520"/>
                </a:moveTo>
                <a:cubicBezTo>
                  <a:pt x="612" y="686790"/>
                  <a:pt x="-3346" y="661060"/>
                  <a:pt x="4571" y="629392"/>
                </a:cubicBezTo>
                <a:cubicBezTo>
                  <a:pt x="12488" y="597724"/>
                  <a:pt x="44156" y="566057"/>
                  <a:pt x="52073" y="522514"/>
                </a:cubicBezTo>
                <a:cubicBezTo>
                  <a:pt x="59990" y="478971"/>
                  <a:pt x="54052" y="411678"/>
                  <a:pt x="52073" y="368135"/>
                </a:cubicBezTo>
                <a:cubicBezTo>
                  <a:pt x="50094" y="324592"/>
                  <a:pt x="34260" y="288966"/>
                  <a:pt x="40197" y="261257"/>
                </a:cubicBezTo>
                <a:cubicBezTo>
                  <a:pt x="46134" y="233548"/>
                  <a:pt x="77802" y="223652"/>
                  <a:pt x="87698" y="201881"/>
                </a:cubicBezTo>
                <a:cubicBezTo>
                  <a:pt x="97594" y="180110"/>
                  <a:pt x="93636" y="156359"/>
                  <a:pt x="99574" y="130629"/>
                </a:cubicBezTo>
                <a:cubicBezTo>
                  <a:pt x="105512" y="104899"/>
                  <a:pt x="123324" y="69272"/>
                  <a:pt x="123324" y="47501"/>
                </a:cubicBezTo>
                <a:cubicBezTo>
                  <a:pt x="123324" y="25730"/>
                  <a:pt x="111449" y="12865"/>
                  <a:pt x="99574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任意多边形 18"/>
          <p:cNvSpPr/>
          <p:nvPr/>
        </p:nvSpPr>
        <p:spPr>
          <a:xfrm>
            <a:off x="4551480" y="4773600"/>
            <a:ext cx="676080" cy="1116000"/>
          </a:xfrm>
          <a:custGeom>
            <a:avLst/>
            <a:gdLst/>
            <a:ahLst/>
            <a:rect l="l" t="t" r="r" b="b"/>
            <a:pathLst>
              <a:path w="676893" h="1116280">
                <a:moveTo>
                  <a:pt x="676893" y="0"/>
                </a:moveTo>
                <a:cubicBezTo>
                  <a:pt x="668976" y="21771"/>
                  <a:pt x="661060" y="43542"/>
                  <a:pt x="653143" y="71251"/>
                </a:cubicBezTo>
                <a:cubicBezTo>
                  <a:pt x="645226" y="98960"/>
                  <a:pt x="641267" y="138545"/>
                  <a:pt x="629392" y="166254"/>
                </a:cubicBezTo>
                <a:cubicBezTo>
                  <a:pt x="617517" y="193963"/>
                  <a:pt x="587829" y="186046"/>
                  <a:pt x="581891" y="237506"/>
                </a:cubicBezTo>
                <a:cubicBezTo>
                  <a:pt x="575953" y="288966"/>
                  <a:pt x="597724" y="409699"/>
                  <a:pt x="593766" y="475013"/>
                </a:cubicBezTo>
                <a:cubicBezTo>
                  <a:pt x="589808" y="540327"/>
                  <a:pt x="570015" y="571995"/>
                  <a:pt x="558140" y="629392"/>
                </a:cubicBezTo>
                <a:cubicBezTo>
                  <a:pt x="546265" y="686789"/>
                  <a:pt x="534389" y="765958"/>
                  <a:pt x="522514" y="819397"/>
                </a:cubicBezTo>
                <a:cubicBezTo>
                  <a:pt x="510639" y="872836"/>
                  <a:pt x="488867" y="910441"/>
                  <a:pt x="486888" y="950025"/>
                </a:cubicBezTo>
                <a:cubicBezTo>
                  <a:pt x="484909" y="989609"/>
                  <a:pt x="510639" y="1029194"/>
                  <a:pt x="510639" y="1056903"/>
                </a:cubicBezTo>
                <a:cubicBezTo>
                  <a:pt x="510639" y="1084612"/>
                  <a:pt x="528452" y="1106384"/>
                  <a:pt x="486888" y="1116280"/>
                </a:cubicBezTo>
                <a:cubicBezTo>
                  <a:pt x="445324" y="1126176"/>
                  <a:pt x="310737" y="1126176"/>
                  <a:pt x="261257" y="1116280"/>
                </a:cubicBezTo>
                <a:cubicBezTo>
                  <a:pt x="211777" y="1106384"/>
                  <a:pt x="219693" y="1070757"/>
                  <a:pt x="190005" y="1056903"/>
                </a:cubicBezTo>
                <a:cubicBezTo>
                  <a:pt x="160317" y="1043049"/>
                  <a:pt x="114794" y="1050966"/>
                  <a:pt x="83127" y="1033153"/>
                </a:cubicBezTo>
                <a:cubicBezTo>
                  <a:pt x="51460" y="1015340"/>
                  <a:pt x="25730" y="982682"/>
                  <a:pt x="0" y="95002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任意多边形 19"/>
          <p:cNvSpPr/>
          <p:nvPr/>
        </p:nvSpPr>
        <p:spPr>
          <a:xfrm>
            <a:off x="4548240" y="5522760"/>
            <a:ext cx="169920" cy="212760"/>
          </a:xfrm>
          <a:custGeom>
            <a:avLst/>
            <a:gdLst/>
            <a:ahLst/>
            <a:rect l="l" t="t" r="r" b="b"/>
            <a:pathLst>
              <a:path w="168498" h="212165">
                <a:moveTo>
                  <a:pt x="2244" y="212165"/>
                </a:moveTo>
                <a:cubicBezTo>
                  <a:pt x="-725" y="181487"/>
                  <a:pt x="-3694" y="150809"/>
                  <a:pt x="14119" y="117162"/>
                </a:cubicBezTo>
                <a:cubicBezTo>
                  <a:pt x="31932" y="83515"/>
                  <a:pt x="83392" y="28097"/>
                  <a:pt x="109122" y="10284"/>
                </a:cubicBezTo>
                <a:cubicBezTo>
                  <a:pt x="134852" y="-7529"/>
                  <a:pt x="151675" y="1377"/>
                  <a:pt x="168498" y="1028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任意多边形 21"/>
          <p:cNvSpPr/>
          <p:nvPr/>
        </p:nvSpPr>
        <p:spPr>
          <a:xfrm>
            <a:off x="4383000" y="2505240"/>
            <a:ext cx="785880" cy="3028680"/>
          </a:xfrm>
          <a:custGeom>
            <a:avLst/>
            <a:gdLst/>
            <a:ahLst/>
            <a:rect l="l" t="t" r="r" b="b"/>
            <a:pathLst>
              <a:path w="784900" h="3028207">
                <a:moveTo>
                  <a:pt x="333637" y="3028207"/>
                </a:moveTo>
                <a:cubicBezTo>
                  <a:pt x="340564" y="2944090"/>
                  <a:pt x="347492" y="2859973"/>
                  <a:pt x="357388" y="2778825"/>
                </a:cubicBezTo>
                <a:cubicBezTo>
                  <a:pt x="367284" y="2697677"/>
                  <a:pt x="383118" y="2610592"/>
                  <a:pt x="393014" y="2541319"/>
                </a:cubicBezTo>
                <a:cubicBezTo>
                  <a:pt x="402910" y="2472046"/>
                  <a:pt x="416764" y="2418607"/>
                  <a:pt x="416764" y="2363189"/>
                </a:cubicBezTo>
                <a:cubicBezTo>
                  <a:pt x="416764" y="2307771"/>
                  <a:pt x="393014" y="2254332"/>
                  <a:pt x="393014" y="2208810"/>
                </a:cubicBezTo>
                <a:cubicBezTo>
                  <a:pt x="393014" y="2163288"/>
                  <a:pt x="406868" y="2131621"/>
                  <a:pt x="416764" y="2090057"/>
                </a:cubicBezTo>
                <a:cubicBezTo>
                  <a:pt x="426660" y="2048493"/>
                  <a:pt x="448432" y="1997033"/>
                  <a:pt x="452390" y="1959428"/>
                </a:cubicBezTo>
                <a:cubicBezTo>
                  <a:pt x="456348" y="1921823"/>
                  <a:pt x="448432" y="1886196"/>
                  <a:pt x="440515" y="1864425"/>
                </a:cubicBezTo>
                <a:cubicBezTo>
                  <a:pt x="432598" y="1842654"/>
                  <a:pt x="408847" y="1866405"/>
                  <a:pt x="404889" y="1828800"/>
                </a:cubicBezTo>
                <a:cubicBezTo>
                  <a:pt x="400931" y="1791195"/>
                  <a:pt x="426660" y="1706088"/>
                  <a:pt x="416764" y="1638794"/>
                </a:cubicBezTo>
                <a:cubicBezTo>
                  <a:pt x="406868" y="1571500"/>
                  <a:pt x="379160" y="1506186"/>
                  <a:pt x="345513" y="1425038"/>
                </a:cubicBezTo>
                <a:cubicBezTo>
                  <a:pt x="311866" y="1343890"/>
                  <a:pt x="252489" y="1207324"/>
                  <a:pt x="214884" y="1151906"/>
                </a:cubicBezTo>
                <a:cubicBezTo>
                  <a:pt x="177279" y="1096488"/>
                  <a:pt x="147590" y="1124196"/>
                  <a:pt x="119881" y="1092529"/>
                </a:cubicBezTo>
                <a:cubicBezTo>
                  <a:pt x="92172" y="1060862"/>
                  <a:pt x="68421" y="1013361"/>
                  <a:pt x="48629" y="961901"/>
                </a:cubicBezTo>
                <a:cubicBezTo>
                  <a:pt x="28837" y="910441"/>
                  <a:pt x="-6789" y="837210"/>
                  <a:pt x="1128" y="783771"/>
                </a:cubicBezTo>
                <a:cubicBezTo>
                  <a:pt x="9045" y="730332"/>
                  <a:pt x="44671" y="714498"/>
                  <a:pt x="96131" y="641267"/>
                </a:cubicBezTo>
                <a:cubicBezTo>
                  <a:pt x="147591" y="568036"/>
                  <a:pt x="256448" y="409698"/>
                  <a:pt x="309887" y="344384"/>
                </a:cubicBezTo>
                <a:cubicBezTo>
                  <a:pt x="363326" y="279070"/>
                  <a:pt x="349471" y="294903"/>
                  <a:pt x="416764" y="249381"/>
                </a:cubicBezTo>
                <a:cubicBezTo>
                  <a:pt x="484057" y="203859"/>
                  <a:pt x="652292" y="112814"/>
                  <a:pt x="713648" y="71251"/>
                </a:cubicBezTo>
                <a:cubicBezTo>
                  <a:pt x="775004" y="29688"/>
                  <a:pt x="784900" y="0"/>
                  <a:pt x="7849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任意多边形 22"/>
          <p:cNvSpPr/>
          <p:nvPr/>
        </p:nvSpPr>
        <p:spPr>
          <a:xfrm>
            <a:off x="5018040" y="1895400"/>
            <a:ext cx="341280" cy="609840"/>
          </a:xfrm>
          <a:custGeom>
            <a:avLst/>
            <a:gdLst/>
            <a:ahLst/>
            <a:rect l="l" t="t" r="r" b="b"/>
            <a:pathLst>
              <a:path w="340311" h="610286">
                <a:moveTo>
                  <a:pt x="138050" y="610286"/>
                </a:moveTo>
                <a:cubicBezTo>
                  <a:pt x="107372" y="568722"/>
                  <a:pt x="76694" y="527158"/>
                  <a:pt x="54923" y="491532"/>
                </a:cubicBezTo>
                <a:cubicBezTo>
                  <a:pt x="33152" y="455906"/>
                  <a:pt x="13360" y="447990"/>
                  <a:pt x="7422" y="396530"/>
                </a:cubicBezTo>
                <a:cubicBezTo>
                  <a:pt x="1484" y="345070"/>
                  <a:pt x="-10391" y="246109"/>
                  <a:pt x="19297" y="182774"/>
                </a:cubicBezTo>
                <a:cubicBezTo>
                  <a:pt x="48985" y="119439"/>
                  <a:pt x="136072" y="46207"/>
                  <a:pt x="185552" y="16519"/>
                </a:cubicBezTo>
                <a:cubicBezTo>
                  <a:pt x="235032" y="-13169"/>
                  <a:pt x="290450" y="6623"/>
                  <a:pt x="316180" y="4644"/>
                </a:cubicBezTo>
                <a:cubicBezTo>
                  <a:pt x="341910" y="2665"/>
                  <a:pt x="340920" y="3654"/>
                  <a:pt x="339931" y="464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任意多边形 23"/>
          <p:cNvSpPr/>
          <p:nvPr/>
        </p:nvSpPr>
        <p:spPr>
          <a:xfrm>
            <a:off x="5346720" y="1900080"/>
            <a:ext cx="795240" cy="1140120"/>
          </a:xfrm>
          <a:custGeom>
            <a:avLst/>
            <a:gdLst/>
            <a:ahLst/>
            <a:rect l="l" t="t" r="r" b="b"/>
            <a:pathLst>
              <a:path w="795647" h="1140031">
                <a:moveTo>
                  <a:pt x="0" y="0"/>
                </a:moveTo>
                <a:cubicBezTo>
                  <a:pt x="67293" y="12865"/>
                  <a:pt x="134587" y="25730"/>
                  <a:pt x="178130" y="59377"/>
                </a:cubicBezTo>
                <a:cubicBezTo>
                  <a:pt x="221673" y="93024"/>
                  <a:pt x="245424" y="154379"/>
                  <a:pt x="261258" y="201880"/>
                </a:cubicBezTo>
                <a:cubicBezTo>
                  <a:pt x="277092" y="249381"/>
                  <a:pt x="279071" y="298862"/>
                  <a:pt x="273133" y="344384"/>
                </a:cubicBezTo>
                <a:cubicBezTo>
                  <a:pt x="267195" y="389906"/>
                  <a:pt x="241466" y="437408"/>
                  <a:pt x="225632" y="475013"/>
                </a:cubicBezTo>
                <a:cubicBezTo>
                  <a:pt x="209798" y="512618"/>
                  <a:pt x="184068" y="542307"/>
                  <a:pt x="178130" y="570016"/>
                </a:cubicBezTo>
                <a:cubicBezTo>
                  <a:pt x="172192" y="597725"/>
                  <a:pt x="164276" y="613558"/>
                  <a:pt x="190006" y="641267"/>
                </a:cubicBezTo>
                <a:cubicBezTo>
                  <a:pt x="215736" y="668976"/>
                  <a:pt x="281050" y="710540"/>
                  <a:pt x="332510" y="736270"/>
                </a:cubicBezTo>
                <a:cubicBezTo>
                  <a:pt x="383970" y="762000"/>
                  <a:pt x="447304" y="765959"/>
                  <a:pt x="498764" y="795647"/>
                </a:cubicBezTo>
                <a:cubicBezTo>
                  <a:pt x="550224" y="825335"/>
                  <a:pt x="601684" y="874816"/>
                  <a:pt x="641268" y="914400"/>
                </a:cubicBezTo>
                <a:cubicBezTo>
                  <a:pt x="680853" y="953984"/>
                  <a:pt x="710541" y="995548"/>
                  <a:pt x="736271" y="1033153"/>
                </a:cubicBezTo>
                <a:cubicBezTo>
                  <a:pt x="762001" y="1070758"/>
                  <a:pt x="778824" y="1105394"/>
                  <a:pt x="795647" y="114003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任意多边形 24"/>
          <p:cNvSpPr/>
          <p:nvPr/>
        </p:nvSpPr>
        <p:spPr>
          <a:xfrm>
            <a:off x="6141960" y="1353960"/>
            <a:ext cx="917640" cy="1662120"/>
          </a:xfrm>
          <a:custGeom>
            <a:avLst/>
            <a:gdLst/>
            <a:ahLst/>
            <a:rect l="l" t="t" r="r" b="b"/>
            <a:pathLst>
              <a:path w="917828" h="1662545">
                <a:moveTo>
                  <a:pt x="0" y="1662545"/>
                </a:moveTo>
                <a:cubicBezTo>
                  <a:pt x="49480" y="1530927"/>
                  <a:pt x="98961" y="1399309"/>
                  <a:pt x="118753" y="1330036"/>
                </a:cubicBezTo>
                <a:cubicBezTo>
                  <a:pt x="138545" y="1260763"/>
                  <a:pt x="114795" y="1280556"/>
                  <a:pt x="118753" y="1246909"/>
                </a:cubicBezTo>
                <a:cubicBezTo>
                  <a:pt x="122711" y="1213262"/>
                  <a:pt x="134587" y="1151907"/>
                  <a:pt x="142504" y="1128156"/>
                </a:cubicBezTo>
                <a:cubicBezTo>
                  <a:pt x="150421" y="1104405"/>
                  <a:pt x="156359" y="1145969"/>
                  <a:pt x="166255" y="1104405"/>
                </a:cubicBezTo>
                <a:cubicBezTo>
                  <a:pt x="176151" y="1062841"/>
                  <a:pt x="182089" y="985652"/>
                  <a:pt x="201881" y="878774"/>
                </a:cubicBezTo>
                <a:cubicBezTo>
                  <a:pt x="221673" y="771896"/>
                  <a:pt x="263237" y="546265"/>
                  <a:pt x="285008" y="463138"/>
                </a:cubicBezTo>
                <a:cubicBezTo>
                  <a:pt x="306779" y="380011"/>
                  <a:pt x="312717" y="403761"/>
                  <a:pt x="332509" y="380010"/>
                </a:cubicBezTo>
                <a:cubicBezTo>
                  <a:pt x="352301" y="356259"/>
                  <a:pt x="348343" y="344385"/>
                  <a:pt x="403761" y="320634"/>
                </a:cubicBezTo>
                <a:cubicBezTo>
                  <a:pt x="459179" y="296883"/>
                  <a:pt x="599704" y="257299"/>
                  <a:pt x="665018" y="237507"/>
                </a:cubicBezTo>
                <a:cubicBezTo>
                  <a:pt x="730332" y="217715"/>
                  <a:pt x="760021" y="219694"/>
                  <a:pt x="795647" y="201881"/>
                </a:cubicBezTo>
                <a:cubicBezTo>
                  <a:pt x="831273" y="184068"/>
                  <a:pt x="858982" y="148442"/>
                  <a:pt x="878774" y="130629"/>
                </a:cubicBezTo>
                <a:cubicBezTo>
                  <a:pt x="898566" y="112816"/>
                  <a:pt x="908462" y="116774"/>
                  <a:pt x="914400" y="95003"/>
                </a:cubicBezTo>
                <a:cubicBezTo>
                  <a:pt x="920338" y="73231"/>
                  <a:pt x="917369" y="36615"/>
                  <a:pt x="9144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任意多边形 26"/>
          <p:cNvSpPr/>
          <p:nvPr/>
        </p:nvSpPr>
        <p:spPr>
          <a:xfrm>
            <a:off x="7186680" y="4208400"/>
            <a:ext cx="415800" cy="1575000"/>
          </a:xfrm>
          <a:custGeom>
            <a:avLst/>
            <a:gdLst/>
            <a:ahLst/>
            <a:rect l="l" t="t" r="r" b="b"/>
            <a:pathLst>
              <a:path w="415636" h="1574470">
                <a:moveTo>
                  <a:pt x="0" y="18803"/>
                </a:moveTo>
                <a:cubicBezTo>
                  <a:pt x="18802" y="12865"/>
                  <a:pt x="37605" y="6927"/>
                  <a:pt x="59376" y="6927"/>
                </a:cubicBezTo>
                <a:cubicBezTo>
                  <a:pt x="81147" y="6927"/>
                  <a:pt x="102919" y="-14844"/>
                  <a:pt x="130628" y="18803"/>
                </a:cubicBezTo>
                <a:cubicBezTo>
                  <a:pt x="158337" y="52450"/>
                  <a:pt x="207818" y="151411"/>
                  <a:pt x="225631" y="208808"/>
                </a:cubicBezTo>
                <a:cubicBezTo>
                  <a:pt x="243444" y="266205"/>
                  <a:pt x="235527" y="299852"/>
                  <a:pt x="237506" y="363187"/>
                </a:cubicBezTo>
                <a:cubicBezTo>
                  <a:pt x="239485" y="426522"/>
                  <a:pt x="247402" y="531421"/>
                  <a:pt x="237506" y="588818"/>
                </a:cubicBezTo>
                <a:cubicBezTo>
                  <a:pt x="227610" y="646215"/>
                  <a:pt x="193964" y="666007"/>
                  <a:pt x="178130" y="707571"/>
                </a:cubicBezTo>
                <a:cubicBezTo>
                  <a:pt x="162296" y="749135"/>
                  <a:pt x="144483" y="796637"/>
                  <a:pt x="142504" y="838200"/>
                </a:cubicBezTo>
                <a:cubicBezTo>
                  <a:pt x="140525" y="879763"/>
                  <a:pt x="154379" y="923306"/>
                  <a:pt x="166254" y="956953"/>
                </a:cubicBezTo>
                <a:cubicBezTo>
                  <a:pt x="178129" y="990600"/>
                  <a:pt x="203860" y="1008414"/>
                  <a:pt x="213756" y="1040081"/>
                </a:cubicBezTo>
                <a:cubicBezTo>
                  <a:pt x="223652" y="1071749"/>
                  <a:pt x="223652" y="1109353"/>
                  <a:pt x="225631" y="1146958"/>
                </a:cubicBezTo>
                <a:cubicBezTo>
                  <a:pt x="227610" y="1184563"/>
                  <a:pt x="225631" y="1265712"/>
                  <a:pt x="225631" y="1265712"/>
                </a:cubicBezTo>
                <a:cubicBezTo>
                  <a:pt x="225631" y="1305296"/>
                  <a:pt x="219693" y="1350818"/>
                  <a:pt x="225631" y="1384465"/>
                </a:cubicBezTo>
                <a:cubicBezTo>
                  <a:pt x="231569" y="1418112"/>
                  <a:pt x="247403" y="1441862"/>
                  <a:pt x="261257" y="1467592"/>
                </a:cubicBezTo>
                <a:cubicBezTo>
                  <a:pt x="275112" y="1493322"/>
                  <a:pt x="283028" y="1521031"/>
                  <a:pt x="308758" y="1538844"/>
                </a:cubicBezTo>
                <a:cubicBezTo>
                  <a:pt x="334488" y="1556657"/>
                  <a:pt x="375062" y="1565563"/>
                  <a:pt x="415636" y="157447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任意多边形 29"/>
          <p:cNvSpPr/>
          <p:nvPr/>
        </p:nvSpPr>
        <p:spPr>
          <a:xfrm>
            <a:off x="7756560" y="2433600"/>
            <a:ext cx="119160" cy="833400"/>
          </a:xfrm>
          <a:custGeom>
            <a:avLst/>
            <a:gdLst/>
            <a:ahLst/>
            <a:rect l="l" t="t" r="r" b="b"/>
            <a:pathLst>
              <a:path w="119012" h="832831">
                <a:moveTo>
                  <a:pt x="47760" y="640"/>
                </a:moveTo>
                <a:cubicBezTo>
                  <a:pt x="59635" y="12515"/>
                  <a:pt x="75469" y="204499"/>
                  <a:pt x="83386" y="273772"/>
                </a:cubicBezTo>
                <a:cubicBezTo>
                  <a:pt x="91303" y="343045"/>
                  <a:pt x="89323" y="341066"/>
                  <a:pt x="95261" y="416276"/>
                </a:cubicBezTo>
                <a:cubicBezTo>
                  <a:pt x="101199" y="491486"/>
                  <a:pt x="119012" y="661699"/>
                  <a:pt x="119012" y="725034"/>
                </a:cubicBezTo>
                <a:cubicBezTo>
                  <a:pt x="119012" y="788369"/>
                  <a:pt x="109116" y="780452"/>
                  <a:pt x="95261" y="796286"/>
                </a:cubicBezTo>
                <a:cubicBezTo>
                  <a:pt x="81406" y="812120"/>
                  <a:pt x="47759" y="853684"/>
                  <a:pt x="35884" y="820037"/>
                </a:cubicBezTo>
                <a:cubicBezTo>
                  <a:pt x="24009" y="786390"/>
                  <a:pt x="25988" y="657741"/>
                  <a:pt x="24009" y="594406"/>
                </a:cubicBezTo>
                <a:cubicBezTo>
                  <a:pt x="22030" y="531071"/>
                  <a:pt x="27967" y="481591"/>
                  <a:pt x="24009" y="440027"/>
                </a:cubicBezTo>
                <a:cubicBezTo>
                  <a:pt x="20051" y="398463"/>
                  <a:pt x="2237" y="384608"/>
                  <a:pt x="258" y="345024"/>
                </a:cubicBezTo>
                <a:cubicBezTo>
                  <a:pt x="-1721" y="305440"/>
                  <a:pt x="8176" y="259917"/>
                  <a:pt x="12134" y="202520"/>
                </a:cubicBezTo>
                <a:cubicBezTo>
                  <a:pt x="16092" y="145123"/>
                  <a:pt x="35885" y="-11235"/>
                  <a:pt x="47760" y="640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TextBox 32" descr=""/>
          <p:cNvPicPr/>
          <p:nvPr/>
        </p:nvPicPr>
        <p:blipFill>
          <a:blip r:embed="rId1"/>
          <a:stretch/>
        </p:blipFill>
        <p:spPr>
          <a:xfrm>
            <a:off x="268200" y="1298520"/>
            <a:ext cx="2664000" cy="137808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33" descr=""/>
          <p:cNvPicPr/>
          <p:nvPr/>
        </p:nvPicPr>
        <p:blipFill>
          <a:blip r:embed="rId2"/>
          <a:stretch/>
        </p:blipFill>
        <p:spPr>
          <a:xfrm>
            <a:off x="268200" y="3578400"/>
            <a:ext cx="4492800" cy="211608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 34" descr=""/>
          <p:cNvPicPr/>
          <p:nvPr/>
        </p:nvPicPr>
        <p:blipFill>
          <a:blip r:embed="rId3"/>
          <a:stretch/>
        </p:blipFill>
        <p:spPr>
          <a:xfrm>
            <a:off x="1914480" y="2243160"/>
            <a:ext cx="2535120" cy="16891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3:06:44Z</dcterms:created>
  <dc:creator>橙子</dc:creator>
  <dc:description/>
  <dc:language>en-US</dc:language>
  <cp:lastModifiedBy>angel</cp:lastModifiedBy>
  <cp:lastPrinted>1899-12-30T00:00:00Z</cp:lastPrinted>
  <dcterms:modified xsi:type="dcterms:W3CDTF">2015-12-11T01:36:49Z</dcterms:modified>
  <cp:revision>67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