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78E-0931-4179-8130-F7DC921A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6CE-8D4F-48F3-B0FD-46F3260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86942-952C-45F8-A305-F91AC1D7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E74EE-B3C1-41C5-BA02-46B8B6A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CF278-05CF-4AA4-B129-BD82FC5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FFF0-EAB8-4042-B2A9-B36E33B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BF47-5A83-476B-95A3-E868D6B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ACF5-4443-4B3F-A414-3B6B48E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B88C7-BF69-486F-8968-50BC453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1C320-A2F5-460E-9C9C-E8E0344E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6CBC-CC96-4FA2-A4E0-A6313241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7D2DD-DC71-4E25-99F8-74173568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591-06B0-4659-9CB7-9DB6454A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F670-7222-4DE9-883C-5E18AD0C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64220-E7DA-4D22-B4E7-651AACC2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8CD4F-85FC-4FC7-8852-A210D7F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2447B-8FC0-4C40-96C6-B6874792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C1BA2-6AA7-44D2-ACA4-73CEEA0C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0E8DE-5BD3-4908-BC62-5E37EBE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0522D-9BEB-47C6-B426-0DC6A918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CDEF6-5A35-4E67-8F6C-27BE0F4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95B03-8D43-4233-BD59-188680A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D4AD-D713-4FBA-A2BA-468F003D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94D-4259-4D08-8657-5806968B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6B7D9-F965-4B48-9C84-A3D71864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B92D-BC2D-43D5-A6B4-0BCCD2F0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D1BD-01BD-4169-AE34-DF535E7C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E3656-335C-452E-80EB-21AC1B13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91BF-45E1-452F-B78F-0DB66BC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E129-F339-4D0A-B2EC-45E4DE2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B6902-EDEC-430A-B854-95B0494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FCC5-9280-41FD-871B-DEA4769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1F78E-8F04-4E45-A6A7-381FCA6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2BF6-A7AE-4D98-BEC3-8E0C8DE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358-423D-4616-B7D9-603E060A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E28B-AF70-43ED-817B-F1A8A13B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76BD6-E8F6-4B0C-9672-5B99C5EA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83AD9-6839-4A35-BA52-6589497F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EF091-D6E7-493D-A8E1-2C19EE97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26AA0-03BD-456F-82E6-F5968A9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F040A-CDF1-439E-8DEE-AD180D7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35AEA-52DB-48E2-8B89-8F794F2D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461E2-1578-4F91-B57B-1AF07D18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6AEB8-3815-42B9-A948-7C4CF3F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08E4-0210-48B6-BD37-248ADD7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0FF-95C9-4D4D-8DBB-9D12367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50E64-F88C-4ED9-8BE1-6620409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FEF2-1A97-4E28-95F0-6C78D58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8A870-391F-4FC9-A6A5-EC8204D5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8B047-06CA-47FA-92AC-270FD7FC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9BE9-8C52-423D-8612-8EF4C1D9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D89-9548-4935-8469-E36E387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5C3-94F0-4D70-833D-AE65E69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B4D3-7582-4D69-81B6-96DB546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3679-95FC-4F3E-87EF-E1978BE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A5DF-718D-445E-A601-7212FF3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DA7-2AE4-4A53-A1F9-B8E072B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D73-1202-48A8-9B3F-3AB7DB0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908A-E3D1-4459-8AD7-0611484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C0A-D2D1-4381-8DDF-728010C9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73D-948A-4924-B4C1-6F314A9E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5945-E9B1-43DD-87AC-7E47F78F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9BED-78D9-498D-B466-1B8FF1E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EFB1-DD20-4DB6-9B2A-342C1E9A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3B18-ADC2-4EB8-B690-AAFE590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EC59-7A46-479C-93CF-67F64F8A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8F40-8E71-4BA3-BE05-47F2CA4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020-FB81-4402-8E1D-9D18C4A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DA80-16CD-4CB5-8E08-9417A6B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F671-CA75-4F3C-8E01-A5354F1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4DE9-92FD-4110-8D63-B64A7D9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7C95-F6E0-41CA-93B6-A17ACF9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B493-21B0-445C-8E0F-AACC8E7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7DA5-1C71-4818-88D0-DB922CC5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5B72-E7E6-42B1-B2F0-B84D0BE1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3CE7-E80E-4C97-9652-6C6A5693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A0D2-676A-4EE9-8D4A-A17CC60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6D32-7601-4FC3-B77E-0997EA07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EAE-B56C-4771-8E39-2BA1F817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A10B-0C97-4276-B170-A6F7C5C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D88D-5AFD-47F3-A050-D1A14134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0264-746D-43D6-BA73-6671F967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F41B-7FE2-415E-AA5E-A67266B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6E72-5CBF-434A-864A-E38CC1C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4A88-7DBF-4F7D-930F-ECB9D43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2E80-E1AF-4724-829D-DC8070A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B997-BAD6-4D02-A02C-A4CF8FE8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4F3C-5A0F-452F-94BC-127A0480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FEEB6-7C32-482D-AFFC-8E7953B3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2A1-FD37-4B29-820D-AFEA5CC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5222A-09B9-4106-8C7F-FD770BE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E6C0-DF44-4E62-A10B-AD9EA1A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EEAB-14FC-4693-92EB-B9E5F0E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B7D1A-79A5-4C52-A09E-6338E36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1F3A-DCE1-408E-8E7C-8969BE3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44DD1-405F-470F-B068-601D0C4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DE736-447A-41AA-99F0-A71CE11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79A5-184F-417A-B64A-DFE649A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BAB6-7E6B-4089-8CE5-E397A9B3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DB38-41B6-4267-B861-DE31E6E7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B76-68FB-4D94-B919-B132A5E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BE21-D029-4A38-ACEE-87E0DDE8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985B-4DE3-4466-9041-AC6B09E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5B20-B32E-4B6A-9322-EA7D6DDD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BFA1-9AD4-47A5-8031-D97A2B48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50BE-36A6-412E-AE4A-21BF3CB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84667-C6B9-4C4F-97BF-932CCF3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602C-0AAF-4BE4-9789-3B2F7FD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F404-2118-4EBA-BB1A-39C0E5F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4872-02AC-4584-AE05-C8496DF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15EBE-12CC-4268-9A09-6C96089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A54-D839-44C5-A0F7-B0FDBAA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76F7-D19F-457F-99DD-936351A4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D2DE-5B43-4889-BC4E-272F06B0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7EAE-7FE0-4B55-8D56-02629CE4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684C-FFF8-409A-8D88-F3A877A7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9013F-8CA3-4457-85F5-758DE6C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49E3-F187-48B4-86CF-3B441DFF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750D-CDEB-42C0-A665-559D65F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1D259-08A3-4EA3-9BB8-95A74BBC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5CBB-8039-43D3-A9AD-7185366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51B24-A4E2-4D42-B726-547F12A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CF4-07E4-4095-ABF0-7CD94CA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3E6CF-043E-4D16-A1B6-143B1050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C93A-9433-46E7-8C69-62A4A56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DB41-3C49-4532-A469-F91162D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3B7C-A734-42CD-90AE-49FD1974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460A-C894-4EA2-AD74-48CF04C4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DE283-84FB-49E8-9D36-1B279AE8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766D-EECA-4CFC-BA77-7178B2EA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AEC28-9494-4B9C-AD91-DF23AB7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ECC9-67C8-4C82-8ADE-7B2F5A7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00441-1587-458B-BBA9-33D236FE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646-8305-44E6-8AD0-74CBAB0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4E5E-9DB5-41B8-B319-4B538FBF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71E8-06D3-405B-8C5F-C7BFDCB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9796-7F63-4F96-9988-C156E40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9B586-14A2-42B1-8DD6-7D36598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22DA-25D8-4BAB-9D5F-FCDBFC70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CAE5-7C19-45D7-B0D2-39A69016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C7B2-7DA0-42D8-A71F-3925B20E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A247-2961-483A-AB5C-DABA3694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8D998-7CE9-4FB9-A705-CEDC4C66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927CE-8D91-4D7E-AC45-4D97CAE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FDE-0922-41DA-AD5A-958CBC2EB2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1752-8857-41F1-B858-65E3899646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9BD-E78F-4FF8-8A7A-8F0481DD1D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53B-E5FE-4BA7-A6B6-29315D9342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A3A1-4154-47E5-8B4B-80116A08BE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C4D1-03A9-49EC-B053-BE37FF0C97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92D3-94AD-43BE-9C62-495BD05A1D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B74-CC2B-4D0D-94D5-637C82E31F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218-A31E-45DF-A24E-D5275FDE1038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7868-6F28-44CA-9A89-E29BCBDD422F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8C3-E348-41DB-86EB-3FFDD548DB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F13-BE98-4EFE-B66D-595CDECE54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41F1-4234-43B1-90F5-1357FB994C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199-600A-47F3-B4C8-EF145EC67B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9664-9F7A-4D8D-9114-0B770892B6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3AC-C22B-4A8E-BE47-894838D861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008-D546-4A95-A8B1-27DCDB3057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EEB9-B135-4DE8-8C56-D6D8BCAD6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ABF4-4786-49FE-8264-BED04AF741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1FD0-D58B-4329-B76B-5E09C05AAB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A6B7-AEF7-4F4C-9BBB-93C937BB84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2A1A-4EB1-4DB1-BB7D-A232905365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7D4-9395-470E-AE4D-6A7D5DA7B8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CCC7-9358-4319-8F2B-7A41C4EA10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dc:language>en-US</dc:language>
  <cp:lastModifiedBy>lenovo</cp:lastModifiedBy>
  <dcterms:modified xsi:type="dcterms:W3CDTF">2015-01-06T18:19:10Z</dcterms:modified>
  <cp:revision>366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