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98D3-8DAC-488F-8C0F-E4354BCB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4FB1-62FD-4FFD-BEB3-151BE26D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FFE8-3DFA-4DD0-8ED0-A97988B7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70E0-DDAB-4FD9-B8A7-65273CE2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79E6-F0E9-4B42-B675-DEDAFADE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757-570C-44B4-9372-0677D773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6ED-61B5-4E7B-A24B-EAD910F7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6681-FC4D-4397-B7A7-77095555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EB7-73B9-49C2-8281-CEE92014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004D-0DF6-4D09-BC3A-09ED831E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FC13-E167-434C-8F23-8B40DCE9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CCB-AD50-4902-BCF7-D1BBD196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F0FC-6FCB-4100-ACB4-CD70F1EEA8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-138240" y="-27000"/>
            <a:ext cx="9282240" cy="6645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F:\希言\新建文件夹\ppt-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F:\希言\新建文件夹\ppt-03.png"/>
          <p:cNvPicPr/>
          <p:nvPr/>
        </p:nvPicPr>
        <p:blipFill>
          <a:blip r:embed="rId2"/>
          <a:stretch/>
        </p:blipFill>
        <p:spPr>
          <a:xfrm>
            <a:off x="3940200" y="5710320"/>
            <a:ext cx="1384200" cy="474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F:\希言\新建文件夹\ppt-02.png"/>
          <p:cNvPicPr/>
          <p:nvPr/>
        </p:nvPicPr>
        <p:blipFill>
          <a:blip r:embed="rId3"/>
          <a:stretch/>
        </p:blipFill>
        <p:spPr>
          <a:xfrm>
            <a:off x="795240" y="1471680"/>
            <a:ext cx="7491600" cy="7984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3273480" y="2541600"/>
            <a:ext cx="250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轻松生活 自在设计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F:\希言\新建文件夹\ppt-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F:\希言\新建文件夹\ppt2-11.png"/>
          <p:cNvPicPr/>
          <p:nvPr/>
        </p:nvPicPr>
        <p:blipFill>
          <a:blip r:embed="rId2"/>
          <a:stretch/>
        </p:blipFill>
        <p:spPr>
          <a:xfrm>
            <a:off x="1352520" y="1387440"/>
            <a:ext cx="2811600" cy="41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F:\希言\新建文件夹\ppt2-11.png"/>
          <p:cNvPicPr/>
          <p:nvPr/>
        </p:nvPicPr>
        <p:blipFill>
          <a:blip r:embed="rId3"/>
          <a:stretch/>
        </p:blipFill>
        <p:spPr>
          <a:xfrm>
            <a:off x="1352520" y="2494080"/>
            <a:ext cx="2811600" cy="41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:\希言\新建文件夹\ppt2-11.png"/>
          <p:cNvPicPr/>
          <p:nvPr/>
        </p:nvPicPr>
        <p:blipFill>
          <a:blip r:embed="rId4"/>
          <a:stretch/>
        </p:blipFill>
        <p:spPr>
          <a:xfrm>
            <a:off x="1352520" y="3581280"/>
            <a:ext cx="2811600" cy="416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F:\希言\新建文件夹\ppt2-11.png"/>
          <p:cNvPicPr/>
          <p:nvPr/>
        </p:nvPicPr>
        <p:blipFill>
          <a:blip r:embed="rId5"/>
          <a:stretch/>
        </p:blipFill>
        <p:spPr>
          <a:xfrm>
            <a:off x="1352520" y="4680000"/>
            <a:ext cx="281160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F:\希言\ppt-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F:\希言\新建文件夹\ppt2-09.png"/>
          <p:cNvPicPr/>
          <p:nvPr/>
        </p:nvPicPr>
        <p:blipFill>
          <a:blip r:embed="rId2"/>
          <a:stretch/>
        </p:blipFill>
        <p:spPr>
          <a:xfrm>
            <a:off x="795240" y="1154160"/>
            <a:ext cx="3130560" cy="457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F:\希言\新建文件夹\ppt-04.png"/>
          <p:cNvPicPr/>
          <p:nvPr/>
        </p:nvPicPr>
        <p:blipFill>
          <a:blip r:embed="rId3"/>
          <a:stretch/>
        </p:blipFill>
        <p:spPr>
          <a:xfrm>
            <a:off x="2840040" y="4857840"/>
            <a:ext cx="24462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F:\希言\新建文件夹\ppt-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F:\希言\新建文件夹\ppt-05.png"/>
          <p:cNvPicPr/>
          <p:nvPr/>
        </p:nvPicPr>
        <p:blipFill>
          <a:blip r:embed="rId2"/>
          <a:stretch/>
        </p:blipFill>
        <p:spPr>
          <a:xfrm>
            <a:off x="1166760" y="1589040"/>
            <a:ext cx="6286680" cy="13525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1082520" y="3029040"/>
            <a:ext cx="54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希言设计是一个以设计师，艺术家为主的，展示自己想法与作品的平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为我们相信设计师是改变世界的很重要的力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F:\希言\新建文件夹\ppt2-11.png"/>
          <p:cNvPicPr/>
          <p:nvPr/>
        </p:nvPicPr>
        <p:blipFill>
          <a:blip r:embed="rId3"/>
          <a:stretch/>
        </p:blipFill>
        <p:spPr>
          <a:xfrm>
            <a:off x="1174680" y="3618000"/>
            <a:ext cx="28260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F:\希言\新建文件夹\ppt2-13.png"/>
          <p:cNvPicPr/>
          <p:nvPr/>
        </p:nvPicPr>
        <p:blipFill>
          <a:blip r:embed="rId1"/>
          <a:stretch/>
        </p:blipFill>
        <p:spPr>
          <a:xfrm>
            <a:off x="0" y="1832040"/>
            <a:ext cx="9142560" cy="3529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F:\希言\ppt2-12.png"/>
          <p:cNvPicPr/>
          <p:nvPr/>
        </p:nvPicPr>
        <p:blipFill>
          <a:blip r:embed="rId2"/>
          <a:stretch/>
        </p:blipFill>
        <p:spPr>
          <a:xfrm>
            <a:off x="2428920" y="2416320"/>
            <a:ext cx="4278240" cy="24256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7143840" y="285840"/>
            <a:ext cx="170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   </a:t>
            </a:r>
            <a:r>
              <a:rPr b="1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方正集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25</a:t>
            </a: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周年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F:\希言\ppt-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F:\希言\新建文件夹\ppt-10.png"/>
          <p:cNvPicPr/>
          <p:nvPr/>
        </p:nvPicPr>
        <p:blipFill>
          <a:blip r:embed="rId2"/>
          <a:stretch/>
        </p:blipFill>
        <p:spPr>
          <a:xfrm>
            <a:off x="1797120" y="797040"/>
            <a:ext cx="941400" cy="4929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F:\希言\新建文件夹\ppt-06.png"/>
          <p:cNvPicPr/>
          <p:nvPr/>
        </p:nvPicPr>
        <p:blipFill>
          <a:blip r:embed="rId3"/>
          <a:stretch/>
        </p:blipFill>
        <p:spPr>
          <a:xfrm>
            <a:off x="2846520" y="4857840"/>
            <a:ext cx="4071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F:\希言\新建文件夹\ppt-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1082520" y="3029040"/>
            <a:ext cx="54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希言设计是一个以设计师，艺术家为主的，展示自己想法与作品的平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为我们相信设计师是改变世界的很重要的力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F:\希言\新建文件夹\ppt2-11.png"/>
          <p:cNvPicPr/>
          <p:nvPr/>
        </p:nvPicPr>
        <p:blipFill>
          <a:blip r:embed="rId2"/>
          <a:stretch/>
        </p:blipFill>
        <p:spPr>
          <a:xfrm>
            <a:off x="1174680" y="3618000"/>
            <a:ext cx="2826000" cy="417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F:\希言\新建文件夹\ppt-07.png"/>
          <p:cNvPicPr/>
          <p:nvPr/>
        </p:nvPicPr>
        <p:blipFill>
          <a:blip r:embed="rId3"/>
          <a:stretch/>
        </p:blipFill>
        <p:spPr>
          <a:xfrm>
            <a:off x="1171440" y="1571760"/>
            <a:ext cx="69008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F:\希言\新建文件夹\ppt-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F:\希言\新建文件夹\ppt-08.png"/>
          <p:cNvPicPr/>
          <p:nvPr/>
        </p:nvPicPr>
        <p:blipFill>
          <a:blip r:embed="rId2"/>
          <a:stretch/>
        </p:blipFill>
        <p:spPr>
          <a:xfrm>
            <a:off x="2762280" y="2286000"/>
            <a:ext cx="364320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SUNNY-PC</cp:lastModifiedBy>
  <dcterms:modified xsi:type="dcterms:W3CDTF">2015-01-06T16:21:49Z</dcterms:modified>
  <cp:revision>12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