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922-18C0-4FB4-89E9-B4DC74F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2C7-65B3-4A6F-8387-8B9BA84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EBB-5B75-47C0-ABFD-0DDE5F6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017-5D2D-4C7F-8D5D-0A0CC9A4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EB5-0857-4F91-BD5D-7D222B73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365-C68A-4DAC-97C7-AB086304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C54-888C-46A9-A8FF-75857C35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A96-DF51-4150-8BF7-511C321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39A-DD8E-4890-8325-3CE6AE75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9B1-8C20-4271-9E2D-A455A41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993-6D35-48FE-9978-E902438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265-FC1C-4A2F-91EB-B6E975C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6676-38BE-43E7-8804-AA3BFB039C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4359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美乐辰旗舰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080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美乐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小精灵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8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3"/>
          <p:cNvSpPr/>
          <p:nvPr/>
        </p:nvSpPr>
        <p:spPr>
          <a:xfrm>
            <a:off x="2011320" y="1836720"/>
            <a:ext cx="333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2027160" y="341640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2027160" y="491976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3"/>
          <p:cNvSpPr/>
          <p:nvPr/>
        </p:nvSpPr>
        <p:spPr>
          <a:xfrm>
            <a:off x="7337520" y="183348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3"/>
          <p:cNvSpPr/>
          <p:nvPr/>
        </p:nvSpPr>
        <p:spPr>
          <a:xfrm>
            <a:off x="7337520" y="341640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7337520" y="491976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5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9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2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5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8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946080" y="433872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3692520" y="4338720"/>
            <a:ext cx="24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7"/>
          <p:cNvSpPr/>
          <p:nvPr/>
        </p:nvSpPr>
        <p:spPr>
          <a:xfrm>
            <a:off x="6346800" y="4338720"/>
            <a:ext cx="24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8"/>
          <p:cNvSpPr/>
          <p:nvPr/>
        </p:nvSpPr>
        <p:spPr>
          <a:xfrm>
            <a:off x="9075600" y="4338720"/>
            <a:ext cx="231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3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8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2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精灵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5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精灵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0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27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0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3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9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1735200" y="3751200"/>
            <a:ext cx="3651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6500880" y="3751200"/>
            <a:ext cx="3651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0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98F-981E-42DC-9947-65E848C33E58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9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2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5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8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1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74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77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0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3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18"/>
          <p:cNvGrpSpPr/>
          <p:nvPr/>
        </p:nvGrpSpPr>
        <p:grpSpPr>
          <a:xfrm>
            <a:off x="2286000" y="1963800"/>
            <a:ext cx="3570120" cy="676440"/>
            <a:chOff x="2286000" y="1963800"/>
            <a:chExt cx="3570120" cy="676440"/>
          </a:xfrm>
        </p:grpSpPr>
        <p:sp>
          <p:nvSpPr>
            <p:cNvPr id="191" name="矩形 19"/>
            <p:cNvSpPr/>
            <p:nvPr/>
          </p:nvSpPr>
          <p:spPr>
            <a:xfrm>
              <a:off x="2286000" y="2333160"/>
              <a:ext cx="357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1"/>
          <p:cNvGrpSpPr/>
          <p:nvPr/>
        </p:nvGrpSpPr>
        <p:grpSpPr>
          <a:xfrm>
            <a:off x="7319880" y="1963800"/>
            <a:ext cx="3570480" cy="676440"/>
            <a:chOff x="7319880" y="1963800"/>
            <a:chExt cx="3570480" cy="676440"/>
          </a:xfrm>
        </p:grpSpPr>
        <p:sp>
          <p:nvSpPr>
            <p:cNvPr id="194" name="矩形 22"/>
            <p:cNvSpPr/>
            <p:nvPr/>
          </p:nvSpPr>
          <p:spPr>
            <a:xfrm>
              <a:off x="7319880" y="2333160"/>
              <a:ext cx="357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4"/>
          <p:cNvGrpSpPr/>
          <p:nvPr/>
        </p:nvGrpSpPr>
        <p:grpSpPr>
          <a:xfrm>
            <a:off x="2286000" y="4449600"/>
            <a:ext cx="3570120" cy="676440"/>
            <a:chOff x="2286000" y="4449600"/>
            <a:chExt cx="3570120" cy="676440"/>
          </a:xfrm>
        </p:grpSpPr>
        <p:sp>
          <p:nvSpPr>
            <p:cNvPr id="197" name="矩形 25"/>
            <p:cNvSpPr/>
            <p:nvPr/>
          </p:nvSpPr>
          <p:spPr>
            <a:xfrm>
              <a:off x="2286000" y="4818960"/>
              <a:ext cx="357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27"/>
          <p:cNvGrpSpPr/>
          <p:nvPr/>
        </p:nvGrpSpPr>
        <p:grpSpPr>
          <a:xfrm>
            <a:off x="7319880" y="4449600"/>
            <a:ext cx="3570480" cy="676440"/>
            <a:chOff x="7319880" y="4449600"/>
            <a:chExt cx="3570480" cy="676440"/>
          </a:xfrm>
        </p:grpSpPr>
        <p:sp>
          <p:nvSpPr>
            <p:cNvPr id="200" name="矩形 28"/>
            <p:cNvSpPr/>
            <p:nvPr/>
          </p:nvSpPr>
          <p:spPr>
            <a:xfrm>
              <a:off x="7319880" y="4818960"/>
              <a:ext cx="357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7-25T06:37:48Z</dcterms:modified>
  <cp:revision>2</cp:revision>
  <dc:subject/>
  <dc:title>PowerPoint 演示文稿</dc:title>
</cp:coreProperties>
</file>