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4ED-814E-4000-90D6-0213AD6B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4C6-3701-4134-A958-FEFB564F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722-7487-46E3-A253-981B42CE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D11-7BE5-468C-9FC0-E2E56956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6A4-AA3B-488B-81C5-3E8661AA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622-20A5-451E-933A-63F320FA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500-4981-4601-A581-6E4BD61D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4AB-6577-4A1A-A79C-C70229D1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41C-EAAF-43FE-8728-04616F03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F75-D6E2-40ED-8B58-20A2710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5D1-0D3F-4F59-B7AE-2B627469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F95-D43D-4858-9D91-31E9A961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ECCC-6EA1-4830-B7E7-19E9C68565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百度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34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37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40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43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Rectangle 19"/>
          <p:cNvSpPr/>
          <p:nvPr/>
        </p:nvSpPr>
        <p:spPr>
          <a:xfrm>
            <a:off x="1230480" y="5397480"/>
            <a:ext cx="94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80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2365920"/>
            <a:chOff x="1123920" y="2336760"/>
            <a:chExt cx="2049480" cy="236592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84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680"/>
              <a:ext cx="2049480" cy="1107000"/>
              <a:chOff x="1123920" y="3595680"/>
              <a:chExt cx="2049480" cy="110700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2387880"/>
            <a:chOff x="3770280" y="2314440"/>
            <a:chExt cx="2049480" cy="238788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1107000"/>
              <a:chOff x="3770280" y="3595320"/>
              <a:chExt cx="2049480" cy="110700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2350080"/>
            <a:chOff x="6416640" y="2352600"/>
            <a:chExt cx="2049480" cy="235008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680"/>
              <a:ext cx="2049480" cy="1107000"/>
              <a:chOff x="6416640" y="3595680"/>
              <a:chExt cx="2049480" cy="110700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2383560"/>
            <a:chOff x="9063000" y="2319480"/>
            <a:chExt cx="2048040" cy="238356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040"/>
              <a:ext cx="2048040" cy="1107000"/>
              <a:chOff x="9063000" y="3596040"/>
              <a:chExt cx="2048040" cy="110700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69720"/>
                <a:ext cx="2048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7960"/>
            <a:ext cx="2049480" cy="3317760"/>
            <a:chOff x="984240" y="1767960"/>
            <a:chExt cx="2049480" cy="331776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7960"/>
            <a:ext cx="2049480" cy="3317760"/>
            <a:chOff x="3719520" y="1767960"/>
            <a:chExt cx="2049480" cy="331776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3310560"/>
            <a:chOff x="6454800" y="1768320"/>
            <a:chExt cx="2049480" cy="331056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56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3332880"/>
            <a:chOff x="9113760" y="1752480"/>
            <a:chExt cx="2048040" cy="333288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11-10T05:56:43Z</dcterms:modified>
  <cp:revision>1</cp:revision>
  <dc:subject/>
  <dc:title>PowerPoint 演示文稿</dc:title>
</cp:coreProperties>
</file>