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36F-3F6D-4E2E-8208-2BA7B090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C0D-709F-47CE-9A97-AD3757FD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4CD-67AF-4EF4-8656-4B275724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935-D651-4205-AB46-2422F4E8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8CD1-D153-4ECE-A0BC-9ED7646F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4817-C41D-4CE1-A61B-7CF0EF02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8C3E-F267-4D43-A5CB-894395C9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D00F-57FD-4D46-996F-211FC039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A46B-2B7B-4E15-8FDA-1EAB17A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AB18-02DF-4DE8-9798-E4D69038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B58E-2C6A-40B0-BA9E-BC0D76D8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D7D-9D99-4053-B0AB-C1C55DEB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6D93-7B5D-41C9-A2B8-FD0EBDBD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42A5-2253-428E-8208-48E9E849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675E-DF20-4A59-A5A0-673EA242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AB76-4418-44C6-B80F-2ADA7F69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4C17-FEED-402D-93C2-734D155B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FC5-5895-4C74-8328-6F3955F2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3C9-6BC4-49E6-A078-27111E8D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B5D-175C-482C-B6C1-A70B478B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C6C-A28C-4B35-A3D3-D27563D7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F0F-1DA5-4117-A8F0-F6B5682C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CA5-9B75-4267-A543-C0D2ABD4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A8A-4CD7-45DB-AA1D-FBED37BD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C516-27D0-4D53-9369-32568B004D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6770-D50F-4FF3-912C-F1EEE7FBFC51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4098"/>
          <p:cNvGrpSpPr/>
          <p:nvPr/>
        </p:nvGrpSpPr>
        <p:grpSpPr>
          <a:xfrm>
            <a:off x="1601640" y="1473120"/>
            <a:ext cx="755640" cy="755640"/>
            <a:chOff x="1601640" y="1473120"/>
            <a:chExt cx="755640" cy="755640"/>
          </a:xfrm>
        </p:grpSpPr>
        <p:sp>
          <p:nvSpPr>
            <p:cNvPr id="84" name="Rectangle 3"/>
            <p:cNvSpPr/>
            <p:nvPr/>
          </p:nvSpPr>
          <p:spPr>
            <a:xfrm>
              <a:off x="1601640" y="1473120"/>
              <a:ext cx="755640" cy="755640"/>
            </a:xfrm>
            <a:prstGeom prst="rect">
              <a:avLst/>
            </a:prstGeom>
            <a:noFill/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1601640" y="1473120"/>
              <a:ext cx="400320" cy="400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5"/>
          <p:cNvSpPr/>
          <p:nvPr/>
        </p:nvSpPr>
        <p:spPr>
          <a:xfrm>
            <a:off x="1979640" y="1855800"/>
            <a:ext cx="7845480" cy="136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014640" y="2030400"/>
            <a:ext cx="60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键入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4103"/>
          <p:cNvGrpSpPr/>
          <p:nvPr/>
        </p:nvGrpSpPr>
        <p:grpSpPr>
          <a:xfrm>
            <a:off x="9837720" y="3219480"/>
            <a:ext cx="793800" cy="577800"/>
            <a:chOff x="9837720" y="3219480"/>
            <a:chExt cx="793800" cy="577800"/>
          </a:xfrm>
        </p:grpSpPr>
        <p:sp>
          <p:nvSpPr>
            <p:cNvPr id="89" name="Rectangle 8"/>
            <p:cNvSpPr/>
            <p:nvPr/>
          </p:nvSpPr>
          <p:spPr>
            <a:xfrm>
              <a:off x="10198440" y="3580560"/>
              <a:ext cx="216360" cy="216720"/>
            </a:xfrm>
            <a:prstGeom prst="rect">
              <a:avLst/>
            </a:prstGeom>
            <a:solidFill>
              <a:srgbClr val="66cc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10415160" y="3363840"/>
              <a:ext cx="216360" cy="216720"/>
            </a:xfrm>
            <a:prstGeom prst="rect">
              <a:avLst/>
            </a:prstGeom>
            <a:solidFill>
              <a:srgbClr val="66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9837720" y="3219480"/>
              <a:ext cx="360720" cy="361080"/>
            </a:xfrm>
            <a:prstGeom prst="rect">
              <a:avLst/>
            </a:prstGeom>
            <a:solidFill>
              <a:srgbClr val="33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1"/>
          <p:cNvSpPr/>
          <p:nvPr/>
        </p:nvSpPr>
        <p:spPr>
          <a:xfrm>
            <a:off x="2128680" y="1944720"/>
            <a:ext cx="7548840" cy="1187280"/>
          </a:xfrm>
          <a:prstGeom prst="rect">
            <a:avLst/>
          </a:prstGeom>
          <a:noFill/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94" name="云层" descr=""/>
          <p:cNvPicPr/>
          <p:nvPr/>
        </p:nvPicPr>
        <p:blipFill>
          <a:blip r:embed="rId2"/>
          <a:srcRect l="13813" t="9223" r="29255" b="5969"/>
          <a:stretch/>
        </p:blipFill>
        <p:spPr>
          <a:xfrm rot="238800">
            <a:off x="14245920" y="592200"/>
            <a:ext cx="3968640" cy="18176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23"/>
          <p:cNvSpPr/>
          <p:nvPr/>
        </p:nvSpPr>
        <p:spPr>
          <a:xfrm>
            <a:off x="5388120" y="1133640"/>
            <a:ext cx="145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124"/>
          <p:cNvGrpSpPr/>
          <p:nvPr/>
        </p:nvGrpSpPr>
        <p:grpSpPr>
          <a:xfrm>
            <a:off x="5832360" y="2651040"/>
            <a:ext cx="561960" cy="560520"/>
            <a:chOff x="5832360" y="2651040"/>
            <a:chExt cx="561960" cy="560520"/>
          </a:xfrm>
        </p:grpSpPr>
        <p:sp>
          <p:nvSpPr>
            <p:cNvPr id="97" name="椭圆 25"/>
            <p:cNvSpPr/>
            <p:nvPr/>
          </p:nvSpPr>
          <p:spPr>
            <a:xfrm>
              <a:off x="5832360" y="2651040"/>
              <a:ext cx="56196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6"/>
            <p:cNvSpPr/>
            <p:nvPr/>
          </p:nvSpPr>
          <p:spPr>
            <a:xfrm>
              <a:off x="5857560" y="2676240"/>
              <a:ext cx="51156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28"/>
            <p:cNvSpPr/>
            <p:nvPr/>
          </p:nvSpPr>
          <p:spPr>
            <a:xfrm>
              <a:off x="5946120" y="2731320"/>
              <a:ext cx="3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5128"/>
          <p:cNvGrpSpPr/>
          <p:nvPr/>
        </p:nvGrpSpPr>
        <p:grpSpPr>
          <a:xfrm>
            <a:off x="5857920" y="3522600"/>
            <a:ext cx="560520" cy="560520"/>
            <a:chOff x="5857920" y="3522600"/>
            <a:chExt cx="560520" cy="560520"/>
          </a:xfrm>
        </p:grpSpPr>
        <p:sp>
          <p:nvSpPr>
            <p:cNvPr id="101" name="椭圆 33"/>
            <p:cNvSpPr/>
            <p:nvPr/>
          </p:nvSpPr>
          <p:spPr>
            <a:xfrm>
              <a:off x="5857920" y="35226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34"/>
            <p:cNvSpPr/>
            <p:nvPr/>
          </p:nvSpPr>
          <p:spPr>
            <a:xfrm>
              <a:off x="5883120" y="35478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35"/>
            <p:cNvSpPr/>
            <p:nvPr/>
          </p:nvSpPr>
          <p:spPr>
            <a:xfrm>
              <a:off x="5971320" y="36028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5132"/>
          <p:cNvGrpSpPr/>
          <p:nvPr/>
        </p:nvGrpSpPr>
        <p:grpSpPr>
          <a:xfrm>
            <a:off x="5857920" y="4370400"/>
            <a:ext cx="560520" cy="560520"/>
            <a:chOff x="5857920" y="4370400"/>
            <a:chExt cx="560520" cy="560520"/>
          </a:xfrm>
        </p:grpSpPr>
        <p:sp>
          <p:nvSpPr>
            <p:cNvPr id="105" name="椭圆 37"/>
            <p:cNvSpPr/>
            <p:nvPr/>
          </p:nvSpPr>
          <p:spPr>
            <a:xfrm>
              <a:off x="5857920" y="43704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38"/>
            <p:cNvSpPr/>
            <p:nvPr/>
          </p:nvSpPr>
          <p:spPr>
            <a:xfrm>
              <a:off x="5883120" y="43956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39"/>
            <p:cNvSpPr/>
            <p:nvPr/>
          </p:nvSpPr>
          <p:spPr>
            <a:xfrm>
              <a:off x="5971320" y="44506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6"/>
          <p:cNvSpPr/>
          <p:nvPr/>
        </p:nvSpPr>
        <p:spPr>
          <a:xfrm>
            <a:off x="6483240" y="26766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483240" y="352908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483240" y="4383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77556E-017 L -0.83099 2.77556E-017 E">
                                      <p:cBhvr>
                                        <p:cTn id="6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29167E-006 -4.81481E-006 L -0.15065 -4.81481E-006 E">
                                      <p:cBhvr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3.7037E-007 L -0.15157 3.7037E-007 E">
                                      <p:cBhvr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7.40741E-007 L -0.15261 7.40741E-007 E">
                                      <p:cBhvr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1.11111E-006 L -0.15703 -0.00533 E">
                                      <p:cBhvr>
                                        <p:cTn id="58" dur="75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4.07407E-006 L -0.15507 -0.00254 E">
                                      <p:cBhvr>
                                        <p:cTn id="60" dur="75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-2.96296E-006 L -0.15508 -0.00371 E">
                                      <p:cBhvr>
                                        <p:cTn id="62" dur="7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12" name="组合 6146"/>
          <p:cNvGrpSpPr/>
          <p:nvPr/>
        </p:nvGrpSpPr>
        <p:grpSpPr>
          <a:xfrm>
            <a:off x="660600" y="-1409760"/>
            <a:ext cx="1533240" cy="1591920"/>
            <a:chOff x="660600" y="-1409760"/>
            <a:chExt cx="1533240" cy="1591920"/>
          </a:xfrm>
        </p:grpSpPr>
        <p:grpSp>
          <p:nvGrpSpPr>
            <p:cNvPr id="113" name="组合 6147"/>
            <p:cNvGrpSpPr/>
            <p:nvPr/>
          </p:nvGrpSpPr>
          <p:grpSpPr>
            <a:xfrm>
              <a:off x="660600" y="-1409760"/>
              <a:ext cx="1533240" cy="1591920"/>
              <a:chOff x="660600" y="-1409760"/>
              <a:chExt cx="1533240" cy="1591920"/>
            </a:xfrm>
          </p:grpSpPr>
          <p:sp>
            <p:nvSpPr>
              <p:cNvPr id="114" name="任意多边形 4"/>
              <p:cNvSpPr/>
              <p:nvPr/>
            </p:nvSpPr>
            <p:spPr>
              <a:xfrm flipH="1" rot="12492600">
                <a:off x="889560" y="-127008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5"/>
              <p:cNvSpPr/>
              <p:nvPr/>
            </p:nvSpPr>
            <p:spPr>
              <a:xfrm rot="12492600">
                <a:off x="1374480" y="-100980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任意多边形 6"/>
              <p:cNvSpPr/>
              <p:nvPr/>
            </p:nvSpPr>
            <p:spPr>
              <a:xfrm rot="12492600">
                <a:off x="1681560" y="-1426320"/>
                <a:ext cx="70920" cy="55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7"/>
              <p:cNvSpPr/>
              <p:nvPr/>
            </p:nvSpPr>
            <p:spPr>
              <a:xfrm rot="12492600">
                <a:off x="1606320" y="-983520"/>
                <a:ext cx="70920" cy="2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文本框 9"/>
            <p:cNvSpPr/>
            <p:nvPr/>
          </p:nvSpPr>
          <p:spPr>
            <a:xfrm>
              <a:off x="1336680" y="-1017360"/>
              <a:ext cx="54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任意多边形 13"/>
          <p:cNvSpPr/>
          <p:nvPr/>
        </p:nvSpPr>
        <p:spPr>
          <a:xfrm>
            <a:off x="2063880" y="1008000"/>
            <a:ext cx="8534160" cy="4772160"/>
          </a:xfrm>
          <a:prstGeom prst="pi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927080" y="1128600"/>
            <a:ext cx="42055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[</a:t>
            </a:r>
            <a:r>
              <a:rPr b="0" lang="zh-CN" sz="3600" spc="-1" strike="noStrike">
                <a:solidFill>
                  <a:srgbClr val="01c1ff"/>
                </a:solidFill>
                <a:latin typeface="微软雅黑"/>
                <a:ea typeface="微软雅黑"/>
              </a:rPr>
              <a:t>单击此处添加标题</a:t>
            </a: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5"/>
          <p:cNvSpPr/>
          <p:nvPr/>
        </p:nvSpPr>
        <p:spPr>
          <a:xfrm>
            <a:off x="2193840" y="2309760"/>
            <a:ext cx="818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875E-006 -1.11111E-006 L 0.00013 0.32986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3"/>
          <p:cNvSpPr/>
          <p:nvPr/>
        </p:nvSpPr>
        <p:spPr>
          <a:xfrm>
            <a:off x="4603680" y="261612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5"/>
          <p:cNvSpPr/>
          <p:nvPr/>
        </p:nvSpPr>
        <p:spPr>
          <a:xfrm>
            <a:off x="5491080" y="4046400"/>
            <a:ext cx="84240" cy="209520"/>
          </a:xfrm>
          <a:prstGeom prst="line">
            <a:avLst/>
          </a:prstGeom>
          <a:ln w="12600">
            <a:solidFill>
              <a:srgbClr val="ffffff">
                <a:alpha val="4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6"/>
          <p:cNvSpPr/>
          <p:nvPr/>
        </p:nvSpPr>
        <p:spPr>
          <a:xfrm flipH="1">
            <a:off x="6480000" y="4046400"/>
            <a:ext cx="82800" cy="20952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7"/>
          <p:cNvSpPr/>
          <p:nvPr/>
        </p:nvSpPr>
        <p:spPr>
          <a:xfrm>
            <a:off x="6015600" y="3799080"/>
            <a:ext cx="2160" cy="22680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" descr=""/>
          <p:cNvPicPr/>
          <p:nvPr/>
        </p:nvPicPr>
        <p:blipFill>
          <a:blip r:embed="rId2"/>
          <a:srcRect l="55276" t="24643" r="37567" b="57364"/>
          <a:stretch/>
        </p:blipFill>
        <p:spPr>
          <a:xfrm>
            <a:off x="4019400" y="2138400"/>
            <a:ext cx="400320" cy="9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"/>
          <p:cNvPicPr/>
          <p:nvPr/>
        </p:nvPicPr>
        <p:blipFill>
          <a:blip r:embed="rId3"/>
          <a:srcRect l="37568" t="57369" r="55280" b="24648"/>
          <a:stretch/>
        </p:blipFill>
        <p:spPr>
          <a:xfrm>
            <a:off x="7400880" y="2955960"/>
            <a:ext cx="399960" cy="95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6" dur="3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175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3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75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2" dur="3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75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9:48:00Z</dcterms:created>
  <dc:creator>D13001</dc:creator>
  <dc:description/>
  <cp:keywords/>
  <dc:language>en-US</dc:language>
  <cp:lastModifiedBy>Microsoft</cp:lastModifiedBy>
  <dcterms:modified xsi:type="dcterms:W3CDTF">2016-04-19T05:33:32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