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769-734D-4DD8-A9FC-499198BF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975-56E9-405F-84E2-30023787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52D-D3C4-48D6-B14F-E6745BD8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39F-F652-4F0F-A077-6A53E271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4582-18BB-4DD5-961A-E787FB0B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47FB-1360-494D-BFE4-3C47FDE4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26DB-944F-424D-BB59-6CD77C35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C345-E81A-4E0A-94A4-16E48046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601D-BD16-457F-B19B-921B110A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D8F7-89AB-4A3A-9DEF-50EE7E78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FACE-2313-4457-B976-37AC321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39B-BD4D-40BE-B387-A36202E5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6E6F-F442-46E8-B294-130265ED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1F10-8AE9-42B4-BA0B-E0192DE4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0899-099C-49D6-B0CA-6FEF946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D772-D99B-4E28-909C-8505BB11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3364-99D6-48F2-83CC-36230A70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727-4048-4FDA-8E00-F39F727C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F54-A76B-4A89-9530-C1BD5FE1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E4C-4F50-453C-A10C-41D210D5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F26-2487-4555-BCDC-A59304F6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7DF-140A-473A-A5EE-8181F55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27A-4099-44EC-8EC5-7B6C6E39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C2F-6997-40D8-BDC8-8C80704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195D-1C81-41FB-9204-D0BDC3C46F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360" y="274320"/>
            <a:ext cx="109681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360" y="1598760"/>
            <a:ext cx="109681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36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3760" y="6244920"/>
            <a:ext cx="38653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4044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22BC-2573-4F46-8728-84799BAC0849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4098"/>
          <p:cNvGrpSpPr/>
          <p:nvPr/>
        </p:nvGrpSpPr>
        <p:grpSpPr>
          <a:xfrm>
            <a:off x="1601640" y="1473120"/>
            <a:ext cx="755640" cy="755640"/>
            <a:chOff x="1601640" y="1473120"/>
            <a:chExt cx="755640" cy="755640"/>
          </a:xfrm>
        </p:grpSpPr>
        <p:sp>
          <p:nvSpPr>
            <p:cNvPr id="84" name="Rectangle 3"/>
            <p:cNvSpPr/>
            <p:nvPr/>
          </p:nvSpPr>
          <p:spPr>
            <a:xfrm>
              <a:off x="1601640" y="1473120"/>
              <a:ext cx="755640" cy="755640"/>
            </a:xfrm>
            <a:prstGeom prst="rect">
              <a:avLst/>
            </a:pr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"/>
            <p:cNvSpPr/>
            <p:nvPr/>
          </p:nvSpPr>
          <p:spPr>
            <a:xfrm>
              <a:off x="1601640" y="1473120"/>
              <a:ext cx="400320" cy="400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1979640" y="1855800"/>
            <a:ext cx="7845480" cy="136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014640" y="2030400"/>
            <a:ext cx="60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键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4103"/>
          <p:cNvGrpSpPr/>
          <p:nvPr/>
        </p:nvGrpSpPr>
        <p:grpSpPr>
          <a:xfrm>
            <a:off x="9837720" y="3219480"/>
            <a:ext cx="793800" cy="577800"/>
            <a:chOff x="9837720" y="3219480"/>
            <a:chExt cx="793800" cy="577800"/>
          </a:xfrm>
        </p:grpSpPr>
        <p:sp>
          <p:nvSpPr>
            <p:cNvPr id="89" name="Rectangle 8"/>
            <p:cNvSpPr/>
            <p:nvPr/>
          </p:nvSpPr>
          <p:spPr>
            <a:xfrm>
              <a:off x="10198440" y="3580560"/>
              <a:ext cx="216360" cy="216720"/>
            </a:xfrm>
            <a:prstGeom prst="rect">
              <a:avLst/>
            </a:prstGeom>
            <a:solidFill>
              <a:srgbClr val="66cc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10415160" y="3363840"/>
              <a:ext cx="216360" cy="216720"/>
            </a:xfrm>
            <a:prstGeom prst="rect">
              <a:avLst/>
            </a:prstGeom>
            <a:solidFill>
              <a:srgbClr val="66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9837720" y="3219480"/>
              <a:ext cx="360720" cy="361080"/>
            </a:xfrm>
            <a:prstGeom prst="rect">
              <a:avLst/>
            </a:prstGeom>
            <a:solidFill>
              <a:srgbClr val="33cc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1"/>
          <p:cNvSpPr/>
          <p:nvPr/>
        </p:nvSpPr>
        <p:spPr>
          <a:xfrm>
            <a:off x="2128680" y="1944720"/>
            <a:ext cx="7548840" cy="1187280"/>
          </a:xfrm>
          <a:prstGeom prst="rect">
            <a:avLst/>
          </a:prstGeom>
          <a:noFill/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pic>
        <p:nvPicPr>
          <p:cNvPr id="94" name="云层" descr=""/>
          <p:cNvPicPr/>
          <p:nvPr/>
        </p:nvPicPr>
        <p:blipFill>
          <a:blip r:embed="rId2"/>
          <a:srcRect l="13813" t="9223" r="29255" b="5969"/>
          <a:stretch/>
        </p:blipFill>
        <p:spPr>
          <a:xfrm rot="238800">
            <a:off x="14245920" y="592200"/>
            <a:ext cx="3968640" cy="18176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23"/>
          <p:cNvSpPr/>
          <p:nvPr/>
        </p:nvSpPr>
        <p:spPr>
          <a:xfrm>
            <a:off x="5388120" y="1133640"/>
            <a:ext cx="14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5124"/>
          <p:cNvGrpSpPr/>
          <p:nvPr/>
        </p:nvGrpSpPr>
        <p:grpSpPr>
          <a:xfrm>
            <a:off x="5832360" y="2651040"/>
            <a:ext cx="561960" cy="560520"/>
            <a:chOff x="5832360" y="2651040"/>
            <a:chExt cx="561960" cy="560520"/>
          </a:xfrm>
        </p:grpSpPr>
        <p:sp>
          <p:nvSpPr>
            <p:cNvPr id="97" name="椭圆 25"/>
            <p:cNvSpPr/>
            <p:nvPr/>
          </p:nvSpPr>
          <p:spPr>
            <a:xfrm>
              <a:off x="5832360" y="2651040"/>
              <a:ext cx="56196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6"/>
            <p:cNvSpPr/>
            <p:nvPr/>
          </p:nvSpPr>
          <p:spPr>
            <a:xfrm>
              <a:off x="5857560" y="2676240"/>
              <a:ext cx="51156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28"/>
            <p:cNvSpPr/>
            <p:nvPr/>
          </p:nvSpPr>
          <p:spPr>
            <a:xfrm>
              <a:off x="5946120" y="2731320"/>
              <a:ext cx="3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5128"/>
          <p:cNvGrpSpPr/>
          <p:nvPr/>
        </p:nvGrpSpPr>
        <p:grpSpPr>
          <a:xfrm>
            <a:off x="5857920" y="3522600"/>
            <a:ext cx="560520" cy="560520"/>
            <a:chOff x="5857920" y="3522600"/>
            <a:chExt cx="560520" cy="560520"/>
          </a:xfrm>
        </p:grpSpPr>
        <p:sp>
          <p:nvSpPr>
            <p:cNvPr id="101" name="椭圆 33"/>
            <p:cNvSpPr/>
            <p:nvPr/>
          </p:nvSpPr>
          <p:spPr>
            <a:xfrm>
              <a:off x="5857920" y="35226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4"/>
            <p:cNvSpPr/>
            <p:nvPr/>
          </p:nvSpPr>
          <p:spPr>
            <a:xfrm>
              <a:off x="5883120" y="35478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35"/>
            <p:cNvSpPr/>
            <p:nvPr/>
          </p:nvSpPr>
          <p:spPr>
            <a:xfrm>
              <a:off x="5971320" y="36028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5132"/>
          <p:cNvGrpSpPr/>
          <p:nvPr/>
        </p:nvGrpSpPr>
        <p:grpSpPr>
          <a:xfrm>
            <a:off x="5857920" y="4370400"/>
            <a:ext cx="560520" cy="560520"/>
            <a:chOff x="5857920" y="4370400"/>
            <a:chExt cx="560520" cy="560520"/>
          </a:xfrm>
        </p:grpSpPr>
        <p:sp>
          <p:nvSpPr>
            <p:cNvPr id="105" name="椭圆 37"/>
            <p:cNvSpPr/>
            <p:nvPr/>
          </p:nvSpPr>
          <p:spPr>
            <a:xfrm>
              <a:off x="5857920" y="4370400"/>
              <a:ext cx="560520" cy="56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38"/>
            <p:cNvSpPr/>
            <p:nvPr/>
          </p:nvSpPr>
          <p:spPr>
            <a:xfrm>
              <a:off x="5883120" y="4395600"/>
              <a:ext cx="510120" cy="510120"/>
            </a:xfrm>
            <a:prstGeom prst="ellipse">
              <a:avLst/>
            </a:prstGeom>
            <a:noFill/>
            <a:ln w="12600">
              <a:solidFill>
                <a:srgbClr val="81d9f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39"/>
            <p:cNvSpPr/>
            <p:nvPr/>
          </p:nvSpPr>
          <p:spPr>
            <a:xfrm>
              <a:off x="5971320" y="4450680"/>
              <a:ext cx="3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6"/>
          <p:cNvSpPr/>
          <p:nvPr/>
        </p:nvSpPr>
        <p:spPr>
          <a:xfrm>
            <a:off x="6483240" y="26766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483240" y="352908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483240" y="4383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77556E-017 L -0.83099 2.77556E-017 E">
                                      <p:cBhvr>
                                        <p:cTn id="6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29167E-006 -4.81481E-006 L -0.15065 -4.81481E-006 E">
                                      <p:cBhvr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3.7037E-007 L -0.15157 3.7037E-007 E">
                                      <p:cBhvr>
                                        <p:cTn id="3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58333E-006 7.40741E-007 L -0.15261 7.40741E-007 E">
                                      <p:cBhvr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1.11111E-006 L -0.15703 -0.00533 E">
                                      <p:cBhvr>
                                        <p:cTn id="58" dur="7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4.07407E-006 L -0.15507 -0.00254 E">
                                      <p:cBhvr>
                                        <p:cTn id="60" dur="75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3.54167E-006 -2.96296E-006 L -0.15508 -0.00371 E">
                                      <p:cBhvr>
                                        <p:cTn id="62" dur="7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12" name="组合 6146"/>
          <p:cNvGrpSpPr/>
          <p:nvPr/>
        </p:nvGrpSpPr>
        <p:grpSpPr>
          <a:xfrm>
            <a:off x="660600" y="-1409760"/>
            <a:ext cx="1533240" cy="1591920"/>
            <a:chOff x="660600" y="-1409760"/>
            <a:chExt cx="1533240" cy="1591920"/>
          </a:xfrm>
        </p:grpSpPr>
        <p:grpSp>
          <p:nvGrpSpPr>
            <p:cNvPr id="113" name="组合 6147"/>
            <p:cNvGrpSpPr/>
            <p:nvPr/>
          </p:nvGrpSpPr>
          <p:grpSpPr>
            <a:xfrm>
              <a:off x="660600" y="-1409760"/>
              <a:ext cx="1533240" cy="1591920"/>
              <a:chOff x="660600" y="-1409760"/>
              <a:chExt cx="1533240" cy="1591920"/>
            </a:xfrm>
          </p:grpSpPr>
          <p:sp>
            <p:nvSpPr>
              <p:cNvPr id="114" name="任意多边形 4"/>
              <p:cNvSpPr/>
              <p:nvPr/>
            </p:nvSpPr>
            <p:spPr>
              <a:xfrm flipH="1" rot="12492600">
                <a:off x="889560" y="-127008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5"/>
              <p:cNvSpPr/>
              <p:nvPr/>
            </p:nvSpPr>
            <p:spPr>
              <a:xfrm rot="12492600">
                <a:off x="1374480" y="-1009800"/>
                <a:ext cx="589680" cy="1119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任意多边形 6"/>
              <p:cNvSpPr/>
              <p:nvPr/>
            </p:nvSpPr>
            <p:spPr>
              <a:xfrm rot="12492600">
                <a:off x="1681560" y="-1426320"/>
                <a:ext cx="70920" cy="55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"/>
              <p:cNvSpPr/>
              <p:nvPr/>
            </p:nvSpPr>
            <p:spPr>
              <a:xfrm rot="12492600">
                <a:off x="1606320" y="-983520"/>
                <a:ext cx="70920" cy="234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文本框 9"/>
            <p:cNvSpPr/>
            <p:nvPr/>
          </p:nvSpPr>
          <p:spPr>
            <a:xfrm>
              <a:off x="1336680" y="-1017360"/>
              <a:ext cx="54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任意多边形 13"/>
          <p:cNvSpPr/>
          <p:nvPr/>
        </p:nvSpPr>
        <p:spPr>
          <a:xfrm>
            <a:off x="2063880" y="1008000"/>
            <a:ext cx="8534160" cy="4772160"/>
          </a:xfrm>
          <a:prstGeom prst="pi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927080" y="1128600"/>
            <a:ext cx="42055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[</a:t>
            </a:r>
            <a:r>
              <a:rPr b="0" lang="zh-CN" sz="3600" spc="-1" strike="noStrike">
                <a:solidFill>
                  <a:srgbClr val="01c1ff"/>
                </a:solidFill>
                <a:latin typeface="微软雅黑"/>
                <a:ea typeface="微软雅黑"/>
              </a:rPr>
              <a:t>单击此处添加标题</a:t>
            </a:r>
            <a:r>
              <a:rPr b="1" lang="zh-CN" sz="4200" spc="-1" strike="noStrike">
                <a:solidFill>
                  <a:srgbClr val="33ccff"/>
                </a:solidFill>
                <a:latin typeface="微软雅黑"/>
                <a:ea typeface="微软雅黑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5"/>
          <p:cNvSpPr/>
          <p:nvPr/>
        </p:nvSpPr>
        <p:spPr>
          <a:xfrm>
            <a:off x="2193840" y="2309760"/>
            <a:ext cx="818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875E-006 -1.11111E-006 L 0.00013 0.32986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3"/>
          <p:cNvSpPr/>
          <p:nvPr/>
        </p:nvSpPr>
        <p:spPr>
          <a:xfrm>
            <a:off x="4603680" y="261612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5"/>
          <p:cNvSpPr/>
          <p:nvPr/>
        </p:nvSpPr>
        <p:spPr>
          <a:xfrm>
            <a:off x="5491080" y="4046400"/>
            <a:ext cx="84240" cy="209520"/>
          </a:xfrm>
          <a:prstGeom prst="line">
            <a:avLst/>
          </a:prstGeom>
          <a:ln w="12600">
            <a:solidFill>
              <a:srgbClr val="ffffff">
                <a:alpha val="47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"/>
          <p:cNvSpPr/>
          <p:nvPr/>
        </p:nvSpPr>
        <p:spPr>
          <a:xfrm flipH="1">
            <a:off x="6480000" y="4046400"/>
            <a:ext cx="82800" cy="20952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7"/>
          <p:cNvSpPr/>
          <p:nvPr/>
        </p:nvSpPr>
        <p:spPr>
          <a:xfrm>
            <a:off x="6015600" y="3799080"/>
            <a:ext cx="2160" cy="22680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" descr=""/>
          <p:cNvPicPr/>
          <p:nvPr/>
        </p:nvPicPr>
        <p:blipFill>
          <a:blip r:embed="rId2"/>
          <a:srcRect l="55276" t="24643" r="37567" b="57364"/>
          <a:stretch/>
        </p:blipFill>
        <p:spPr>
          <a:xfrm>
            <a:off x="4019400" y="2138400"/>
            <a:ext cx="400320" cy="9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"/>
          <p:cNvPicPr/>
          <p:nvPr/>
        </p:nvPicPr>
        <p:blipFill>
          <a:blip r:embed="rId3"/>
          <a:srcRect l="37568" t="57369" r="55280" b="24648"/>
          <a:stretch/>
        </p:blipFill>
        <p:spPr>
          <a:xfrm>
            <a:off x="7400880" y="2955960"/>
            <a:ext cx="39996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" dur="3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175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3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2" dur="3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75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9:48:00Z</dcterms:created>
  <dc:creator>D13001</dc:creator>
  <dc:description/>
  <cp:keywords/>
  <dc:language>en-US</dc:language>
  <cp:lastModifiedBy>Microsoft</cp:lastModifiedBy>
  <dcterms:modified xsi:type="dcterms:W3CDTF">2016-04-19T05:33:32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