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118-1CAE-4EC6-AC11-0219070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D67-4A06-4A8D-AA40-BCFAF016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D59AB-B43E-4C19-A1D3-A536315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69A5C-9470-4AE9-A752-88EFBBB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B341C-666E-467D-9F8E-1198862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9C2AE-F790-4610-8BC9-6D9A763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6282D-CEF5-4F17-B636-9DF0C036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EEB4-E164-4D3D-8178-7371ECC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8470-8740-455E-8330-E3A7B7B6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4B204-9F33-43B5-8F42-15C5B7AE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E465A-4F51-47F4-83EA-B3DE8B0E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8B870-C898-4353-B472-87343BB3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B47-E005-4B95-A6C0-2D0128B5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E5237-A606-4F80-BA69-9772ABC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DA7E-212F-4EA1-AA75-CC6A089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E97A7-07A3-4023-80AD-B545475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039D8-ED55-4F61-98C6-76B65B9B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92FE2-FDE2-4623-9163-C2CEF567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810B3-7AD3-4625-B7E8-4098649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00700-CD4B-47E1-BA85-BF733EC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9A97-FFFB-4F82-8296-2A63112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D67EE-3725-46CE-8524-23B6F586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63BE1-5EA7-45E4-9076-BD64092A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DEB-E9E0-486E-8471-26D2144A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E488-E15D-4A90-ABF9-545C0F21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964BB-78BB-430B-8074-6E34836A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72140-A912-4F78-AF3A-64020B7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37B3-8129-4B3C-86B3-F22D9D13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62765-D387-463A-92D2-F316642D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54C9-47DD-4BEC-BCD9-C0FEE3BF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103B4-2B0D-42D4-83D2-7884387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6E77A-8243-4504-B92C-D235CE9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01753-61A6-42CA-B02E-9BD9A77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8ADBC-5404-4542-96FA-32D8675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25DF-9563-4E51-9FC5-83B2247C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80648-5280-40F0-80B7-3C9C302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82692-D64B-4FFE-9897-B8A57DC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D52B-C4E6-4AB3-9AE8-41D33B50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09B2-AB16-4E45-B1C4-0E490D5D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10157-D72A-44E5-A199-C5B38690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70353-D038-41ED-89C0-AFA8EA6D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FAD95-8AE0-44D4-9200-892DE826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B298B-E654-4186-9F05-7D95D82E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41D4A-A195-4A5F-A9C0-608AB8C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165F2-EC19-4DFB-962F-60D429A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1BB6-B497-482A-AC6E-70FEB72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A16A-C87B-4A8C-A224-4BCB0F7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19A58-8554-454A-81F4-6B75971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968B4-8753-4961-BF60-E28CC30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4B6B3-2F5F-48AD-B019-D2897F70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5C6D3-6A6A-4582-A284-F51C3332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B7254-83E0-4459-9699-82878306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F0D68-8989-434A-9763-8AB298C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34BD2-00BC-41F5-A2FE-BBE3D4C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6BF0E-E010-493F-8127-A57CA76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09A3D-CA25-4CF4-A619-CAF410AC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1759-788B-4C78-9944-35A74E8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322CA-B8EF-4428-AC43-BE1A3B6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E3C30-9C10-490C-AE30-51B96FA4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EFAB1-B1F3-4E1C-8CD0-997D06CA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CBD21-2E4B-4B20-817E-04A0BE4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D5D15-A075-4F57-9186-C967DEA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754D5-B4EE-4C16-8331-633F3007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E36CF-0FF9-4587-8132-1E20BB90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100-AE01-45FF-A7E4-B3A135E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1906-3800-4E69-BF4B-DF058DB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91C0-20AB-4A31-9D1C-A287E40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34AF-1EC9-495D-AC32-C3E8CB6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EC0-C016-49C1-977B-32E6E13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BE4-BEDA-4335-8C16-EC53503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8686-86E4-445F-A8E2-39B6F81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957-FF19-4590-BC94-AA17319B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270-92E3-4861-9BD2-7CDF6377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BC08-4F5D-439D-BE47-74E30E70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BAEC-F6AB-448D-9EC8-22ECEF30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F844-A945-477C-A379-7A691A9C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5AB7-2946-48AC-8A54-E9B274B7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92B2-9FAB-4412-9D1C-EC05D383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4B6E-01A0-4737-AD95-2120942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745-B406-4C90-B55D-F86EE3B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8C58-E92B-415E-A09E-2AD3A879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4880-7E1A-4ACA-BDE3-0EBBB07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11EB-FAA4-4251-8CF4-2312967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A31C-EBE7-4E91-95C6-91C7659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5FB7-1A20-40CA-8A80-542232B5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13C0-B04D-4194-AB4A-39B1BE7E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BF976-EF99-45BA-8CE2-7910E0C9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A85E-A9C4-4FD9-8AD8-B09DD92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2423-5974-478B-AF70-E984AFF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FEED-9CBC-4E36-8386-507DB18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6EC-0801-4E81-BDBA-415A33E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72E3F-45DD-46FB-8F25-850C222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1CA9-83A4-4118-9989-B87F36B2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5B8D-ED9A-44E2-80CD-E9430216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F7B8-D960-41E6-890C-E32C857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66A0-47E4-44E1-B664-D9865EE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DB78F-B1C2-4C23-B733-A529436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7BAAC-074D-498E-BF3C-014FB33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25D2-6E41-4589-B50A-5EB9C1BC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124C-22BB-4588-B1B0-134D13F3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566E-737F-4BFF-AB1D-1760C4A8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299-086D-42C0-8CC7-C6B04BE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ECA2-30A7-4D64-9EFD-D0B94BFC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98166-29D3-4174-8255-00DAB98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4596-58CD-44CD-BE22-ED545054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57EE-47F7-411D-8BB3-29EBE35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E167B-A811-43C8-BC79-5FE96E4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39E2-196B-4D22-856D-26E99E6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3694-600D-4E9B-8DDB-A5678EC5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95F4-F1EB-4E19-81C5-AA925FF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DB5F-324B-4C9F-B532-F24C812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91A0-A2CF-45ED-9B6C-1833F7EB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ABD-250C-471C-9EA3-ABD11F5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D4FA-98B3-4EDA-B7D3-4DBEB48C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7780-A8C7-4245-A4B7-E0ADA411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91CD-3D96-4906-AB86-6442B537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35EF4-F4BE-423B-8B93-8452D3D9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F0A63-1285-4E82-B902-D68A7B05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76F9-C01F-4CB8-BE1A-DA6813A2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E280-51FC-4201-BA02-1C3FC123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5DD7-0121-4801-8616-1F31952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6527-D8FA-4004-9EB5-3859E5AF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0DC97-A670-4FE3-A35B-27231A8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55C-A38C-42FB-A20E-B5EF0D5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DE01-446D-4308-8090-A319FBE3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BA67-C890-4DFC-9BF8-EA10D9B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357A-BEAD-4678-8354-F0AF5AED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B3CA-A060-456C-BFA5-A90878D5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DB5F-9F5F-4F98-838D-14273EB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9F17-C688-4FBC-8FEC-EE697F3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C8895-6AC8-41CC-AC80-A732FBA1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950C-83B6-4CB5-A2A5-8104EE1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7258-D98A-4D0D-B0D6-1860618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7D1C-89D9-41FF-A3F4-9BB7884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BFE-70C6-4CA1-92BD-41AC964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29FD-F43E-4402-9E19-EFD1B09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4B21-466F-42B2-8EAE-BDF7ED2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38A8-6F32-484D-A1B7-B420225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5469-BFD2-45F9-8A96-4F0A5FAF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6B23F-AE64-44D0-9682-393B56FD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80651-B900-492C-A5F2-C72C9F68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8E25C-A260-42AC-81F5-0A85DFB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5D49-EA78-4F1B-B730-6BA0876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42107-7D80-47D9-9CA1-52AA24BC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32D22-4430-4A1B-AA63-8ECC9F6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A1A-5BA5-4B9B-A9EB-68CECEB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FF6EF-3844-43E1-A5B0-ECE066F3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9192B-64EC-4F64-BA31-D5AEE2D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593F6-DEDA-4DB4-BEC5-03688E7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3ABA7-B02E-40F3-ABA0-EF79756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0C658-3BCD-4E51-8846-8C81915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509DC-4121-473E-AF01-B518CE82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C8F0-5BBC-4973-80F9-4FBA8BD6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0196F-1E7A-443D-B271-353313F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7DF73-4DFF-48E7-91FC-29804D0A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913F3-F258-4921-BCDB-BE6F0CB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4852-9AD1-4740-B44C-88D51210BA1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29D-7597-4D42-995A-086524CE7E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D2A1-9BA7-4197-8DB3-355687D8D4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198-DCA3-4C8D-B53B-A3317331ED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BFF2-2E4A-4611-9885-CCD0591172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817-1D4B-4567-B6BA-A76E4FE121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15AA-32A7-472A-AD8C-A33E3543A5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FB61-79B5-4155-B1DF-FF1D286FE7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71D0-79B0-4552-901F-815358E012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881-5224-42DF-B62A-F165476328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BA6B-55FA-4545-9CEB-A763CCE115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C08-E994-4A05-9DB8-34E2FC8D44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D809-9DAA-4D4F-9CD0-92F8078CB4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545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592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595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598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602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 rot="4260000">
              <a:off x="6292440" y="71496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609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46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651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667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85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688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702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23" name="Picture 5" descr="header_bg"/>
            <p:cNvPicPr/>
            <p:nvPr/>
          </p:nvPicPr>
          <p:blipFill>
            <a:blip r:embed="rId7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 rot="2460000">
              <a:off x="985680" y="94932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729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42" name="Picture 24" descr="header_bg"/>
            <p:cNvPicPr/>
            <p:nvPr/>
          </p:nvPicPr>
          <p:blipFill>
            <a:blip r:embed="rId8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ngel</cp:lastModifiedBy>
  <dcterms:modified xsi:type="dcterms:W3CDTF">2015-12-11T01:09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