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E19-D4A4-428A-99ED-F3DEACBF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C19-5137-437A-9681-C55FBAB7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DF0-289B-4ACC-9699-981C6827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EC7-A5EB-4A15-A071-CE0BD883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3BD2-4681-4BF2-A195-5534F0B1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E5E6-3DE6-4EA8-9188-0A5AD528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09EA-45CB-4AC3-A881-F022677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7406-D6F8-4D53-A41D-076F1BD3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5D15-E8CA-4BE8-A6FB-733A542F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0993-AE5D-4C53-8B76-B607D8D1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BDFE-5941-4045-93EF-B59DAC2E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571-56BD-4DC6-85D1-5907186D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F250-2351-4E7F-B1E6-C84A6DAB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8489-8346-4E85-8344-B4C1B337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F9CB-7D81-4C10-8052-5DC61FDD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DAAF-C8CE-4E5F-9EFB-A7291A6F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87D0-4D92-40FF-B764-DF5DB3A8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B0DDD-5CE2-4BBE-B054-DD216C7F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623EF-9B41-4F11-A78F-08D09F2A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35476-F3D3-4D6C-93B5-5F557E02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A06EE-6098-42BF-96B0-0480917F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11F4D-BA93-4BB9-96B4-D339E107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8E9-C051-454B-AD2B-DE455A07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6A9E1-87C8-4BFA-A453-F24AA2F3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FEB74-601E-4CC7-AC6A-632B87FF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366B9-3512-4C1F-8A0B-3BF95417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E3C8-2F86-4234-BBEE-365B5473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9BE71-59F4-4EE7-A4DA-17875EC6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349CB-94B6-44D0-A0D9-3E52DB6F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DF0AA-C069-44FD-A711-9E1917CD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C35-4191-46F8-9138-2EA6B2E4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1A5-90DB-4260-B98F-288FED3C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81C-F07B-4B43-938F-E3F68743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087-936B-413D-A1CD-47D96439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4C2-04F1-4EF5-AE77-47957056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8D9-41B8-4F1A-BCFF-6D14500A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CF3E-AA68-4D17-8865-46CF6CE11D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B52E-0E36-4F43-B3D8-0C701DDDB3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Documents and Settings\Administrator\桌面\莲 2(1).png"/>
          <p:cNvPicPr/>
          <p:nvPr/>
        </p:nvPicPr>
        <p:blipFill>
          <a:blip r:embed="rId2"/>
          <a:stretch/>
        </p:blipFill>
        <p:spPr>
          <a:xfrm>
            <a:off x="549360" y="-1440"/>
            <a:ext cx="1182600" cy="120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C:\Documents and Settings\Administrator\桌面\33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718240"/>
          </a:xfrm>
          <a:prstGeom prst="rect">
            <a:avLst/>
          </a:prstGeom>
          <a:ln w="0">
            <a:noFill/>
          </a:ln>
        </p:spPr>
      </p:pic>
      <p:sp>
        <p:nvSpPr>
          <p:cNvPr id="85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D778-E21B-4F49-B027-C29184FFE9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9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3095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50"/>
                            </p:stCondLst>
                            <p:childTnLst>
                              <p:par>
                                <p:cTn id="2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6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7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8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1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2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3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6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7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8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1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2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3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"/>
                            </p:stCondLst>
                            <p:childTnLst>
                              <p:par>
                                <p:cTn id="4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"/>
                            </p:stCondLst>
                            <p:childTnLst>
                              <p:par>
                                <p:cTn id="6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50"/>
                            </p:stCondLst>
                            <p:childTnLst>
                              <p:par>
                                <p:cTn id="7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5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63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2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4319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50"/>
                            </p:stCondLst>
                            <p:childTnLst>
                              <p:par>
                                <p:cTn id="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750"/>
                            </p:stCondLst>
                            <p:childTnLst>
                              <p:par>
                                <p:cTn id="1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50"/>
                            </p:stCondLst>
                            <p:childTnLst>
                              <p:par>
                                <p:cTn id="11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13:35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