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DEB-ADA1-417C-AE09-D3363BDC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E5E-C692-4DAF-96E2-577FF095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E8B-0850-4D51-9D78-C53476A1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332-ADF3-442B-812C-70955414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4A8-FBC1-413A-A165-E64D63F3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B12-AB2F-43B8-A1F8-8197F2F7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F40-DE13-4353-8B85-B305BF0B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CB7-51BE-434C-9E59-6B1627A1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DB5-DDFE-4454-A229-E109BAB2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A24-79A6-4C93-8BD7-C275C572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B87-60F7-4863-BE1E-E719E17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651-F552-4CEC-BB86-082149E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DB901-3608-43B6-8974-450E047EBE1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58ED6-B4E5-41DF-94C1-CFDCD9EE9D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2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8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7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五角星 8"/>
            <p:cNvSpPr/>
            <p:nvPr/>
          </p:nvSpPr>
          <p:spPr>
            <a:xfrm>
              <a:off x="1245960" y="1314360"/>
              <a:ext cx="642960" cy="641160"/>
            </a:xfrm>
            <a:custGeom>
              <a:avLst/>
              <a:gdLst/>
              <a:ahLst/>
              <a:rect l="l" t="t" r="r" b="b"/>
              <a:pathLst>
                <a:path w="642841" h="641452">
                  <a:moveTo>
                    <a:pt x="1" y="245012"/>
                  </a:moveTo>
                  <a:lnTo>
                    <a:pt x="245545" y="245014"/>
                  </a:lnTo>
                  <a:lnTo>
                    <a:pt x="321421" y="0"/>
                  </a:lnTo>
                  <a:lnTo>
                    <a:pt x="397296" y="245014"/>
                  </a:lnTo>
                  <a:lnTo>
                    <a:pt x="642840" y="245012"/>
                  </a:lnTo>
                  <a:lnTo>
                    <a:pt x="444190" y="396437"/>
                  </a:lnTo>
                  <a:lnTo>
                    <a:pt x="520069" y="641450"/>
                  </a:lnTo>
                  <a:lnTo>
                    <a:pt x="321421" y="490022"/>
                  </a:lnTo>
                  <a:lnTo>
                    <a:pt x="122772" y="641450"/>
                  </a:lnTo>
                  <a:lnTo>
                    <a:pt x="198651" y="396437"/>
                  </a:lnTo>
                  <a:lnTo>
                    <a:pt x="1" y="2450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3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7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42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52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53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6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5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Diana</dc:creator>
  <dc:description/>
  <cp:keywords/>
  <dc:language>en-US</dc:language>
  <cp:lastModifiedBy>姜天宝</cp:lastModifiedBy>
  <dcterms:modified xsi:type="dcterms:W3CDTF">2014-11-15T01:50:30Z</dcterms:modified>
  <cp:revision>7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9.1.0.4856</vt:lpwstr>
  </property>
</Properties>
</file>