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280-A560-4907-8926-FBB2F4B6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6AA-9818-4644-9986-BA22D7C7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1FD-406E-44C7-B09B-BD61DC61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F44-495A-4DAA-A94B-D12E56E8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A123-4D9D-493A-8AE0-4C7076DC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B35-D2CA-44B4-8589-B691DD30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E51-8AB8-4F61-A63E-04FF766E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07D9-FB97-42A1-8B24-8D33DB10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F91-5D67-4FFC-B99A-C3249805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866-D78C-47B8-B50E-B03E7D76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50A-7264-4F6A-A4C7-C60B5D27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6D5-3C91-4189-93AA-07DCCB99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A902-E6B5-4A8B-B59D-4D55E72FEDC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ECE6-BE6D-4E71-A56A-468C6F5994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9244080" y="1913040"/>
            <a:ext cx="2948040" cy="429552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0" y="1913040"/>
            <a:ext cx="9244080" cy="4295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254160" y="338040"/>
            <a:ext cx="12493800" cy="960120"/>
            <a:chOff x="-254160" y="338040"/>
            <a:chExt cx="12493800" cy="960120"/>
          </a:xfrm>
        </p:grpSpPr>
        <p:grpSp>
          <p:nvGrpSpPr>
            <p:cNvPr id="44" name="Group 5"/>
            <p:cNvGrpSpPr/>
            <p:nvPr/>
          </p:nvGrpSpPr>
          <p:grpSpPr>
            <a:xfrm>
              <a:off x="-254160" y="338040"/>
              <a:ext cx="12481920" cy="960120"/>
              <a:chOff x="-254160" y="338040"/>
              <a:chExt cx="12481920" cy="960120"/>
            </a:xfrm>
          </p:grpSpPr>
          <p:sp>
            <p:nvSpPr>
              <p:cNvPr id="45" name="直角三角形 9"/>
              <p:cNvSpPr/>
              <p:nvPr/>
            </p:nvSpPr>
            <p:spPr>
              <a:xfrm flipH="1" flipV="1">
                <a:off x="-22680" y="989280"/>
                <a:ext cx="759240" cy="308520"/>
              </a:xfrm>
              <a:prstGeom prst="rtTriangle">
                <a:avLst/>
              </a:prstGeom>
              <a:solidFill>
                <a:srgbClr val="2e7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0"/>
              <p:cNvSpPr/>
              <p:nvPr/>
            </p:nvSpPr>
            <p:spPr>
              <a:xfrm>
                <a:off x="5040" y="338040"/>
                <a:ext cx="12222720" cy="66816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文本框 11"/>
              <p:cNvSpPr/>
              <p:nvPr/>
            </p:nvSpPr>
            <p:spPr>
              <a:xfrm>
                <a:off x="-254160" y="390960"/>
                <a:ext cx="7924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《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哈佛商业评论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》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经典文章解读系列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直接连接符 8"/>
            <p:cNvSpPr/>
            <p:nvPr/>
          </p:nvSpPr>
          <p:spPr>
            <a:xfrm>
              <a:off x="7381440" y="685800"/>
              <a:ext cx="48582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文本框 14"/>
          <p:cNvSpPr/>
          <p:nvPr/>
        </p:nvSpPr>
        <p:spPr>
          <a:xfrm>
            <a:off x="317520" y="2451240"/>
            <a:ext cx="562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89f0"/>
                </a:solidFill>
                <a:latin typeface="微软雅黑"/>
                <a:ea typeface="微软雅黑"/>
              </a:rPr>
              <a:t>初为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3827520" y="4172040"/>
            <a:ext cx="5513400" cy="523800"/>
            <a:chOff x="3827520" y="4172040"/>
            <a:chExt cx="5513400" cy="523800"/>
          </a:xfrm>
        </p:grpSpPr>
        <p:sp>
          <p:nvSpPr>
            <p:cNvPr id="51" name="矩形 16"/>
            <p:cNvSpPr/>
            <p:nvPr/>
          </p:nvSpPr>
          <p:spPr>
            <a:xfrm>
              <a:off x="3853800" y="4172040"/>
              <a:ext cx="4935240" cy="5238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7"/>
            <p:cNvSpPr/>
            <p:nvPr/>
          </p:nvSpPr>
          <p:spPr>
            <a:xfrm>
              <a:off x="3827520" y="4172040"/>
              <a:ext cx="551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明星员工被提拔，是福还是祸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9"/>
          <p:cNvSpPr/>
          <p:nvPr/>
        </p:nvSpPr>
        <p:spPr>
          <a:xfrm>
            <a:off x="7043040" y="1989000"/>
            <a:ext cx="20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：达人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3"/>
          <p:cNvSpPr/>
          <p:nvPr/>
        </p:nvSpPr>
        <p:spPr>
          <a:xfrm>
            <a:off x="-2052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2742480" y="398880"/>
            <a:ext cx="6706800" cy="6222960"/>
            <a:chOff x="2742480" y="398880"/>
            <a:chExt cx="6706800" cy="6222960"/>
          </a:xfrm>
        </p:grpSpPr>
        <p:sp>
          <p:nvSpPr>
            <p:cNvPr id="140" name="矩形 5"/>
            <p:cNvSpPr/>
            <p:nvPr/>
          </p:nvSpPr>
          <p:spPr>
            <a:xfrm rot="1892400">
              <a:off x="3544200" y="1193760"/>
              <a:ext cx="4244040" cy="4264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3"/>
            <p:cNvSpPr/>
            <p:nvPr/>
          </p:nvSpPr>
          <p:spPr>
            <a:xfrm rot="900000">
              <a:off x="3178080" y="1804320"/>
              <a:ext cx="5835600" cy="4132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4"/>
            <p:cNvSpPr/>
            <p:nvPr/>
          </p:nvSpPr>
          <p:spPr>
            <a:xfrm>
              <a:off x="3819960" y="2484720"/>
              <a:ext cx="4691880" cy="24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五大误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6"/>
            <p:cNvSpPr/>
            <p:nvPr/>
          </p:nvSpPr>
          <p:spPr>
            <a:xfrm flipH="1" rot="17008200">
              <a:off x="3263760" y="1769760"/>
              <a:ext cx="719640" cy="7200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一：管理者掌握着重要权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863640" y="927000"/>
            <a:ext cx="6152040" cy="720720"/>
            <a:chOff x="863640" y="927000"/>
            <a:chExt cx="6152040" cy="720720"/>
          </a:xfrm>
        </p:grpSpPr>
        <p:sp>
          <p:nvSpPr>
            <p:cNvPr id="147" name="直角三角形 6"/>
            <p:cNvSpPr/>
            <p:nvPr/>
          </p:nvSpPr>
          <p:spPr>
            <a:xfrm flipV="1">
              <a:off x="6387840" y="1420920"/>
              <a:ext cx="62784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5"/>
            <p:cNvSpPr/>
            <p:nvPr/>
          </p:nvSpPr>
          <p:spPr>
            <a:xfrm>
              <a:off x="863640" y="927000"/>
              <a:ext cx="61383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7"/>
            <p:cNvSpPr/>
            <p:nvPr/>
          </p:nvSpPr>
          <p:spPr>
            <a:xfrm>
              <a:off x="383112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现在我可以自由地实现自己的想法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7896240" y="3610080"/>
            <a:ext cx="4059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没面子的是，我可能会因为自己的手下而丢了饭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54" name="直接连接符 17"/>
          <p:cNvSpPr/>
          <p:nvPr/>
        </p:nvSpPr>
        <p:spPr>
          <a:xfrm>
            <a:off x="8583480" y="3524400"/>
            <a:ext cx="26481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8"/>
          <p:cNvSpPr/>
          <p:nvPr/>
        </p:nvSpPr>
        <p:spPr>
          <a:xfrm>
            <a:off x="8569440" y="234936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互相依赖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1"/>
          <p:cNvSpPr/>
          <p:nvPr/>
        </p:nvSpPr>
        <p:spPr>
          <a:xfrm>
            <a:off x="795240" y="3989520"/>
            <a:ext cx="6205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抛开权力神话，接受必须应付各种依存关系的这一现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将注意力从领导下属转移到管理与上司和同级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7"/>
          <p:cNvGrpSpPr/>
          <p:nvPr/>
        </p:nvGrpSpPr>
        <p:grpSpPr>
          <a:xfrm>
            <a:off x="863280" y="2911320"/>
            <a:ext cx="2329560" cy="1175040"/>
            <a:chOff x="863280" y="2911320"/>
            <a:chExt cx="2329560" cy="1175040"/>
          </a:xfrm>
        </p:grpSpPr>
        <p:sp>
          <p:nvSpPr>
            <p:cNvPr id="160" name="矩形 22"/>
            <p:cNvSpPr/>
            <p:nvPr/>
          </p:nvSpPr>
          <p:spPr>
            <a:xfrm>
              <a:off x="863280" y="2911320"/>
              <a:ext cx="2329560" cy="851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角三角形 23"/>
            <p:cNvSpPr/>
            <p:nvPr/>
          </p:nvSpPr>
          <p:spPr>
            <a:xfrm flipV="1">
              <a:off x="2565000" y="376236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4"/>
            <p:cNvSpPr/>
            <p:nvPr/>
          </p:nvSpPr>
          <p:spPr>
            <a:xfrm>
              <a:off x="1266120" y="3053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二：权力源自管理者的职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932040" y="927000"/>
            <a:ext cx="5358960" cy="720720"/>
            <a:chOff x="932040" y="927000"/>
            <a:chExt cx="5358960" cy="720720"/>
          </a:xfrm>
        </p:grpSpPr>
        <p:sp>
          <p:nvSpPr>
            <p:cNvPr id="166" name="直角三角形 6"/>
            <p:cNvSpPr/>
            <p:nvPr/>
          </p:nvSpPr>
          <p:spPr>
            <a:xfrm flipV="1">
              <a:off x="566352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7"/>
            <p:cNvSpPr/>
            <p:nvPr/>
          </p:nvSpPr>
          <p:spPr>
            <a:xfrm>
              <a:off x="932040" y="927000"/>
              <a:ext cx="534564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8"/>
            <p:cNvSpPr/>
            <p:nvPr/>
          </p:nvSpPr>
          <p:spPr>
            <a:xfrm>
              <a:off x="353988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最终我将会站在职业阶梯的顶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2"/>
          <p:cNvSpPr/>
          <p:nvPr/>
        </p:nvSpPr>
        <p:spPr>
          <a:xfrm>
            <a:off x="7937640" y="3629160"/>
            <a:ext cx="4100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家十分谨慎，你必须下功夫赢得他们的信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非来自正式职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品质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做正确之事的意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能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知道如何做正确的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影响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并执行正确之事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6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78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3"/>
          <p:cNvSpPr/>
          <p:nvPr/>
        </p:nvSpPr>
        <p:spPr>
          <a:xfrm>
            <a:off x="795240" y="219240"/>
            <a:ext cx="959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三：管理者必须控制自己的直接下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863640" y="927000"/>
            <a:ext cx="4321080" cy="720720"/>
            <a:chOff x="863640" y="927000"/>
            <a:chExt cx="4321080" cy="720720"/>
          </a:xfrm>
        </p:grpSpPr>
        <p:sp>
          <p:nvSpPr>
            <p:cNvPr id="184" name="直角三角形 6"/>
            <p:cNvSpPr/>
            <p:nvPr/>
          </p:nvSpPr>
          <p:spPr>
            <a:xfrm flipV="1">
              <a:off x="455724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5"/>
            <p:cNvSpPr/>
            <p:nvPr/>
          </p:nvSpPr>
          <p:spPr>
            <a:xfrm>
              <a:off x="863640" y="927000"/>
              <a:ext cx="43077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7"/>
            <p:cNvSpPr/>
            <p:nvPr/>
          </p:nvSpPr>
          <p:spPr>
            <a:xfrm>
              <a:off x="2845800" y="945000"/>
              <a:ext cx="5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必须让我的下属服从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2"/>
          <p:cNvSpPr/>
          <p:nvPr/>
        </p:nvSpPr>
        <p:spPr>
          <a:xfrm>
            <a:off x="7991640" y="3946680"/>
            <a:ext cx="384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从不等于承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3"/>
          <p:cNvSpPr/>
          <p:nvPr/>
        </p:nvSpPr>
        <p:spPr>
          <a:xfrm>
            <a:off x="8583480" y="23781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6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7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期望的是承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95" name="矩形 19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角三角形 20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1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22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建立一种问询文化，发挥自己的影响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参考哈佛商业评论经典文章解读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谁背上了猴子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四：管理者必须专注于建立良好的个人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932040" y="927000"/>
            <a:ext cx="5645520" cy="720720"/>
            <a:chOff x="932040" y="927000"/>
            <a:chExt cx="5645520" cy="720720"/>
          </a:xfrm>
        </p:grpSpPr>
        <p:sp>
          <p:nvSpPr>
            <p:cNvPr id="202" name="直角三角形 6"/>
            <p:cNvSpPr/>
            <p:nvPr/>
          </p:nvSpPr>
          <p:spPr>
            <a:xfrm flipV="1">
              <a:off x="595008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7"/>
            <p:cNvSpPr/>
            <p:nvPr/>
          </p:nvSpPr>
          <p:spPr>
            <a:xfrm>
              <a:off x="932040" y="927000"/>
              <a:ext cx="563220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8"/>
            <p:cNvSpPr/>
            <p:nvPr/>
          </p:nvSpPr>
          <p:spPr>
            <a:xfrm>
              <a:off x="345456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与每一位下属建立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的是领导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213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矩形 21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驾驭团队的集体力量，提高个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绩效和投入程度；通过塑造团队文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激发团队各种人才解决问题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五：管理者必须确保一切运转顺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932040" y="927000"/>
            <a:ext cx="6683400" cy="720720"/>
            <a:chOff x="932040" y="927000"/>
            <a:chExt cx="6683400" cy="720720"/>
          </a:xfrm>
        </p:grpSpPr>
        <p:sp>
          <p:nvSpPr>
            <p:cNvPr id="220" name="直角三角形 6"/>
            <p:cNvSpPr/>
            <p:nvPr/>
          </p:nvSpPr>
          <p:spPr>
            <a:xfrm flipV="1">
              <a:off x="698796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7"/>
            <p:cNvSpPr/>
            <p:nvPr/>
          </p:nvSpPr>
          <p:spPr>
            <a:xfrm>
              <a:off x="932040" y="927000"/>
              <a:ext cx="667008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8"/>
            <p:cNvSpPr/>
            <p:nvPr/>
          </p:nvSpPr>
          <p:spPr>
            <a:xfrm>
              <a:off x="399384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确保运营顺利，一切运行良好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9275040" y="3052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改善团队绩效而变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"/>
          <p:cNvGrpSpPr/>
          <p:nvPr/>
        </p:nvGrpSpPr>
        <p:grpSpPr>
          <a:xfrm>
            <a:off x="931680" y="4022640"/>
            <a:ext cx="2328120" cy="1174680"/>
            <a:chOff x="931680" y="4022640"/>
            <a:chExt cx="2328120" cy="1174680"/>
          </a:xfrm>
        </p:grpSpPr>
        <p:sp>
          <p:nvSpPr>
            <p:cNvPr id="231" name="矩形 18"/>
            <p:cNvSpPr/>
            <p:nvPr/>
          </p:nvSpPr>
          <p:spPr>
            <a:xfrm>
              <a:off x="931680" y="4022640"/>
              <a:ext cx="232812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角三角形 19"/>
            <p:cNvSpPr/>
            <p:nvPr/>
          </p:nvSpPr>
          <p:spPr>
            <a:xfrm flipV="1">
              <a:off x="2632320" y="4873320"/>
              <a:ext cx="62748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0"/>
            <p:cNvSpPr/>
            <p:nvPr/>
          </p:nvSpPr>
          <p:spPr>
            <a:xfrm>
              <a:off x="1333440" y="41648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1"/>
          <p:cNvSpPr/>
          <p:nvPr/>
        </p:nvSpPr>
        <p:spPr>
          <a:xfrm>
            <a:off x="795240" y="5118120"/>
            <a:ext cx="80758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议和发起各种变革来提高团队的绩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为自己的成功创造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3"/>
          <p:cNvSpPr/>
          <p:nvPr/>
        </p:nvSpPr>
        <p:spPr>
          <a:xfrm rot="10800000">
            <a:off x="-308160" y="-252720"/>
            <a:ext cx="12683880" cy="1112760"/>
          </a:xfrm>
          <a:custGeom>
            <a:avLst/>
            <a:gdLst/>
            <a:ahLst/>
            <a:rect l="l" t="t" r="r" b="b"/>
            <a:pathLst>
              <a:path w="12192000" h="5789109">
                <a:moveTo>
                  <a:pt x="1180403" y="239394"/>
                </a:moveTo>
                <a:lnTo>
                  <a:pt x="10931850" y="0"/>
                </a:lnTo>
                <a:lnTo>
                  <a:pt x="12192000" y="5789109"/>
                </a:lnTo>
                <a:lnTo>
                  <a:pt x="0" y="5789109"/>
                </a:lnTo>
                <a:lnTo>
                  <a:pt x="1180403" y="23939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3"/>
          <p:cNvSpPr/>
          <p:nvPr/>
        </p:nvSpPr>
        <p:spPr>
          <a:xfrm>
            <a:off x="-20520" y="804960"/>
            <a:ext cx="12187080" cy="605304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880920" y="3218040"/>
            <a:ext cx="2379960" cy="764280"/>
            <a:chOff x="880920" y="3218040"/>
            <a:chExt cx="2379960" cy="764280"/>
          </a:xfrm>
        </p:grpSpPr>
        <p:sp>
          <p:nvSpPr>
            <p:cNvPr id="238" name="文本框 12"/>
            <p:cNvSpPr/>
            <p:nvPr/>
          </p:nvSpPr>
          <p:spPr>
            <a:xfrm>
              <a:off x="880920" y="3218040"/>
              <a:ext cx="2379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角色的特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7"/>
          <p:cNvGrpSpPr/>
          <p:nvPr/>
        </p:nvGrpSpPr>
        <p:grpSpPr>
          <a:xfrm>
            <a:off x="8942400" y="3218040"/>
            <a:ext cx="2227320" cy="1434600"/>
            <a:chOff x="8942400" y="3218040"/>
            <a:chExt cx="2227320" cy="1434600"/>
          </a:xfrm>
        </p:grpSpPr>
        <p:sp>
          <p:nvSpPr>
            <p:cNvPr id="240" name="文本框 14"/>
            <p:cNvSpPr/>
            <p:nvPr/>
          </p:nvSpPr>
          <p:spPr>
            <a:xfrm>
              <a:off x="8942400" y="321804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期望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0"/>
          <p:cNvGrpSpPr/>
          <p:nvPr/>
        </p:nvGrpSpPr>
        <p:grpSpPr>
          <a:xfrm>
            <a:off x="4956120" y="3218040"/>
            <a:ext cx="2228760" cy="764280"/>
            <a:chOff x="4956120" y="3218040"/>
            <a:chExt cx="2228760" cy="764280"/>
          </a:xfrm>
        </p:grpSpPr>
        <p:sp>
          <p:nvSpPr>
            <p:cNvPr id="242" name="文本框 15"/>
            <p:cNvSpPr/>
            <p:nvPr/>
          </p:nvSpPr>
          <p:spPr>
            <a:xfrm>
              <a:off x="4956120" y="3218040"/>
              <a:ext cx="2228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权力的来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2820960" y="920880"/>
            <a:ext cx="2227320" cy="1434600"/>
            <a:chOff x="2820960" y="920880"/>
            <a:chExt cx="2227320" cy="1434600"/>
          </a:xfrm>
        </p:grpSpPr>
        <p:sp>
          <p:nvSpPr>
            <p:cNvPr id="244" name="文本框 16"/>
            <p:cNvSpPr/>
            <p:nvPr/>
          </p:nvSpPr>
          <p:spPr>
            <a:xfrm>
              <a:off x="2820960" y="92088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6"/>
          <p:cNvGrpSpPr/>
          <p:nvPr/>
        </p:nvGrpSpPr>
        <p:grpSpPr>
          <a:xfrm>
            <a:off x="6954840" y="846000"/>
            <a:ext cx="2227320" cy="1434600"/>
            <a:chOff x="6954840" y="846000"/>
            <a:chExt cx="2227320" cy="1434600"/>
          </a:xfrm>
        </p:grpSpPr>
        <p:sp>
          <p:nvSpPr>
            <p:cNvPr id="246" name="文本框 17"/>
            <p:cNvSpPr/>
            <p:nvPr/>
          </p:nvSpPr>
          <p:spPr>
            <a:xfrm>
              <a:off x="6954840" y="84600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挑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2025720" y="5297400"/>
            <a:ext cx="1324080" cy="825120"/>
            <a:chOff x="2025720" y="5297400"/>
            <a:chExt cx="1324080" cy="825120"/>
          </a:xfrm>
        </p:grpSpPr>
        <p:sp>
          <p:nvSpPr>
            <p:cNvPr id="248" name="直接连接符 26"/>
            <p:cNvSpPr/>
            <p:nvPr/>
          </p:nvSpPr>
          <p:spPr>
            <a:xfrm>
              <a:off x="20257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24"/>
            <p:cNvSpPr/>
            <p:nvPr/>
          </p:nvSpPr>
          <p:spPr>
            <a:xfrm>
              <a:off x="25376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2"/>
          <p:cNvGrpSpPr/>
          <p:nvPr/>
        </p:nvGrpSpPr>
        <p:grpSpPr>
          <a:xfrm>
            <a:off x="6099120" y="5297400"/>
            <a:ext cx="1324080" cy="825120"/>
            <a:chOff x="6099120" y="5297400"/>
            <a:chExt cx="1324080" cy="825120"/>
          </a:xfrm>
        </p:grpSpPr>
        <p:sp>
          <p:nvSpPr>
            <p:cNvPr id="251" name="直接连接符 29"/>
            <p:cNvSpPr/>
            <p:nvPr/>
          </p:nvSpPr>
          <p:spPr>
            <a:xfrm>
              <a:off x="60991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30"/>
            <p:cNvSpPr/>
            <p:nvPr/>
          </p:nvSpPr>
          <p:spPr>
            <a:xfrm>
              <a:off x="66110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"/>
          <p:cNvGrpSpPr/>
          <p:nvPr/>
        </p:nvGrpSpPr>
        <p:grpSpPr>
          <a:xfrm>
            <a:off x="10090080" y="5297400"/>
            <a:ext cx="1324080" cy="825120"/>
            <a:chOff x="10090080" y="5297400"/>
            <a:chExt cx="1324080" cy="825120"/>
          </a:xfrm>
        </p:grpSpPr>
        <p:sp>
          <p:nvSpPr>
            <p:cNvPr id="254" name="直接连接符 32"/>
            <p:cNvSpPr/>
            <p:nvPr/>
          </p:nvSpPr>
          <p:spPr>
            <a:xfrm>
              <a:off x="1009008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33"/>
            <p:cNvSpPr/>
            <p:nvPr/>
          </p:nvSpPr>
          <p:spPr>
            <a:xfrm>
              <a:off x="1060200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8"/>
          <p:cNvGrpSpPr/>
          <p:nvPr/>
        </p:nvGrpSpPr>
        <p:grpSpPr>
          <a:xfrm>
            <a:off x="3959280" y="2990880"/>
            <a:ext cx="1324080" cy="825120"/>
            <a:chOff x="3959280" y="2990880"/>
            <a:chExt cx="1324080" cy="825120"/>
          </a:xfrm>
        </p:grpSpPr>
        <p:sp>
          <p:nvSpPr>
            <p:cNvPr id="257" name="直接连接符 35"/>
            <p:cNvSpPr/>
            <p:nvPr/>
          </p:nvSpPr>
          <p:spPr>
            <a:xfrm>
              <a:off x="3959280" y="359964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36"/>
            <p:cNvSpPr/>
            <p:nvPr/>
          </p:nvSpPr>
          <p:spPr>
            <a:xfrm>
              <a:off x="4471200" y="299088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1"/>
          <p:cNvGrpSpPr/>
          <p:nvPr/>
        </p:nvGrpSpPr>
        <p:grpSpPr>
          <a:xfrm>
            <a:off x="8096400" y="2914560"/>
            <a:ext cx="1323720" cy="825120"/>
            <a:chOff x="8096400" y="2914560"/>
            <a:chExt cx="1323720" cy="825120"/>
          </a:xfrm>
        </p:grpSpPr>
        <p:sp>
          <p:nvSpPr>
            <p:cNvPr id="260" name="直接连接符 38"/>
            <p:cNvSpPr/>
            <p:nvPr/>
          </p:nvSpPr>
          <p:spPr>
            <a:xfrm>
              <a:off x="8096400" y="3524760"/>
              <a:ext cx="90108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39"/>
            <p:cNvSpPr/>
            <p:nvPr/>
          </p:nvSpPr>
          <p:spPr>
            <a:xfrm>
              <a:off x="8608320" y="2914560"/>
              <a:ext cx="81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矩形 1"/>
          <p:cNvSpPr/>
          <p:nvPr/>
        </p:nvSpPr>
        <p:spPr>
          <a:xfrm>
            <a:off x="4207680" y="7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不明白的五大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795240" y="915840"/>
            <a:ext cx="112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9f0"/>
                </a:solidFill>
                <a:latin typeface="微软雅黑"/>
                <a:ea typeface="微软雅黑"/>
              </a:rPr>
              <a:t>课堂上无法教授这种技艺，主要途径是在职体验，尤其是负面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5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当领导是一个通过实践学习的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6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3845160" y="3255840"/>
            <a:ext cx="4874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紧张犯错的时候，也是在学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这是一种</a:t>
            </a: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渐递增</a:t>
            </a: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的过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 flipV="1">
            <a:off x="2343240" y="5089680"/>
            <a:ext cx="7505640" cy="410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10"/>
          <p:cNvSpPr/>
          <p:nvPr/>
        </p:nvSpPr>
        <p:spPr>
          <a:xfrm flipV="1">
            <a:off x="2343240" y="4981680"/>
            <a:ext cx="7505640" cy="39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3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892800" y="2809800"/>
            <a:ext cx="452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cheap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quick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arn efficiently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863640" y="4835520"/>
            <a:ext cx="116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抱失败，学会低成本、快速的失败，高效的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8"/>
          <p:cNvSpPr/>
          <p:nvPr/>
        </p:nvSpPr>
        <p:spPr>
          <a:xfrm>
            <a:off x="1082520" y="333360"/>
            <a:ext cx="10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要敢于不断尝试和犯错来使自己进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角三角形 10"/>
          <p:cNvSpPr/>
          <p:nvPr/>
        </p:nvSpPr>
        <p:spPr>
          <a:xfrm flipV="1">
            <a:off x="11350800" y="5964120"/>
            <a:ext cx="84132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11"/>
          <p:cNvSpPr/>
          <p:nvPr/>
        </p:nvSpPr>
        <p:spPr>
          <a:xfrm>
            <a:off x="8312040" y="1447920"/>
            <a:ext cx="2907000" cy="2906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2"/>
          <p:cNvSpPr/>
          <p:nvPr/>
        </p:nvSpPr>
        <p:spPr>
          <a:xfrm>
            <a:off x="8426520" y="1562040"/>
            <a:ext cx="2676600" cy="26766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3"/>
          <p:cNvSpPr/>
          <p:nvPr/>
        </p:nvSpPr>
        <p:spPr>
          <a:xfrm>
            <a:off x="8488440" y="2147760"/>
            <a:ext cx="273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样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5"/>
          <p:cNvSpPr/>
          <p:nvPr/>
        </p:nvSpPr>
        <p:spPr>
          <a:xfrm>
            <a:off x="9252720" y="16257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4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3" descr=""/>
          <p:cNvPicPr/>
          <p:nvPr/>
        </p:nvPicPr>
        <p:blipFill>
          <a:blip r:embed="rId1"/>
          <a:stretch/>
        </p:blipFill>
        <p:spPr>
          <a:xfrm>
            <a:off x="7310520" y="622440"/>
            <a:ext cx="3876480" cy="59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1" name="矩形 5"/>
          <p:cNvSpPr/>
          <p:nvPr/>
        </p:nvSpPr>
        <p:spPr>
          <a:xfrm>
            <a:off x="127080" y="3092400"/>
            <a:ext cx="69530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任第一年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业务骨干到职业经理人的成功转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 成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/>
          <p:cNvSpPr/>
          <p:nvPr/>
        </p:nvSpPr>
        <p:spPr>
          <a:xfrm>
            <a:off x="794520" y="1693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荐书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"/>
          <p:cNvSpPr/>
          <p:nvPr/>
        </p:nvSpPr>
        <p:spPr>
          <a:xfrm>
            <a:off x="3040920" y="488484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章经管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械工业出版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8"/>
          <p:cNvSpPr/>
          <p:nvPr/>
        </p:nvSpPr>
        <p:spPr>
          <a:xfrm flipH="1" flipV="1">
            <a:off x="-22320" y="5934240"/>
            <a:ext cx="83520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863640" y="219240"/>
            <a:ext cx="638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明星员工的升职之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1045800" y="3619080"/>
            <a:ext cx="9807480" cy="2670120"/>
            <a:chOff x="1045800" y="3619080"/>
            <a:chExt cx="9807480" cy="2670120"/>
          </a:xfrm>
        </p:grpSpPr>
        <p:sp>
          <p:nvSpPr>
            <p:cNvPr id="56" name="矩形 5"/>
            <p:cNvSpPr/>
            <p:nvPr/>
          </p:nvSpPr>
          <p:spPr>
            <a:xfrm rot="10800000">
              <a:off x="869184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6"/>
            <p:cNvSpPr/>
            <p:nvPr/>
          </p:nvSpPr>
          <p:spPr>
            <a:xfrm rot="10800000">
              <a:off x="61434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7"/>
            <p:cNvSpPr/>
            <p:nvPr/>
          </p:nvSpPr>
          <p:spPr>
            <a:xfrm rot="10800000">
              <a:off x="35946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"/>
            <p:cNvSpPr/>
            <p:nvPr/>
          </p:nvSpPr>
          <p:spPr>
            <a:xfrm rot="10800000">
              <a:off x="10458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下箭头 10"/>
            <p:cNvSpPr/>
            <p:nvPr/>
          </p:nvSpPr>
          <p:spPr>
            <a:xfrm rot="10800000">
              <a:off x="918540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下箭头 11"/>
            <p:cNvSpPr/>
            <p:nvPr/>
          </p:nvSpPr>
          <p:spPr>
            <a:xfrm rot="10800000">
              <a:off x="656424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下箭头 12"/>
            <p:cNvSpPr/>
            <p:nvPr/>
          </p:nvSpPr>
          <p:spPr>
            <a:xfrm rot="10800000">
              <a:off x="40417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下箭头 13"/>
            <p:cNvSpPr/>
            <p:nvPr/>
          </p:nvSpPr>
          <p:spPr>
            <a:xfrm rot="10800000">
              <a:off x="14911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15"/>
          <p:cNvSpPr/>
          <p:nvPr/>
        </p:nvSpPr>
        <p:spPr>
          <a:xfrm>
            <a:off x="1957680" y="4414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聪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6"/>
          <p:cNvSpPr/>
          <p:nvPr/>
        </p:nvSpPr>
        <p:spPr>
          <a:xfrm>
            <a:off x="4461480" y="440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自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6782040" y="4457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有远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9098640" y="4487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足智多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9"/>
          <p:cNvSpPr/>
          <p:nvPr/>
        </p:nvSpPr>
        <p:spPr>
          <a:xfrm>
            <a:off x="6875280" y="2054160"/>
            <a:ext cx="7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、老板、搭档都喜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0" descr=""/>
          <p:cNvPicPr/>
          <p:nvPr/>
        </p:nvPicPr>
        <p:blipFill>
          <a:blip r:embed="rId1"/>
          <a:stretch/>
        </p:blipFill>
        <p:spPr>
          <a:xfrm>
            <a:off x="3498840" y="5195880"/>
            <a:ext cx="1309680" cy="1073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"/>
          <p:cNvPicPr/>
          <p:nvPr/>
        </p:nvPicPr>
        <p:blipFill>
          <a:blip r:embed="rId2"/>
          <a:stretch/>
        </p:blipFill>
        <p:spPr>
          <a:xfrm>
            <a:off x="6180120" y="5286240"/>
            <a:ext cx="1065240" cy="900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3" descr=""/>
          <p:cNvPicPr/>
          <p:nvPr/>
        </p:nvPicPr>
        <p:blipFill>
          <a:blip r:embed="rId3"/>
          <a:stretch/>
        </p:blipFill>
        <p:spPr>
          <a:xfrm>
            <a:off x="8636040" y="5338800"/>
            <a:ext cx="1299960" cy="1073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4" descr=""/>
          <p:cNvPicPr/>
          <p:nvPr/>
        </p:nvPicPr>
        <p:blipFill>
          <a:blip r:embed="rId4"/>
          <a:stretch/>
        </p:blipFill>
        <p:spPr>
          <a:xfrm>
            <a:off x="843120" y="1584360"/>
            <a:ext cx="2805120" cy="172728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25"/>
          <p:cNvSpPr/>
          <p:nvPr/>
        </p:nvSpPr>
        <p:spPr>
          <a:xfrm>
            <a:off x="3602160" y="2909880"/>
            <a:ext cx="691200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30" descr=""/>
          <p:cNvPicPr/>
          <p:nvPr/>
        </p:nvPicPr>
        <p:blipFill>
          <a:blip r:embed="rId5"/>
          <a:stretch/>
        </p:blipFill>
        <p:spPr>
          <a:xfrm>
            <a:off x="9142560" y="417600"/>
            <a:ext cx="2739960" cy="1914480"/>
          </a:xfrm>
          <a:prstGeom prst="rect">
            <a:avLst/>
          </a:prstGeom>
          <a:ln w="0">
            <a:noFill/>
          </a:ln>
        </p:spPr>
      </p:pic>
      <p:sp>
        <p:nvSpPr>
          <p:cNvPr id="75" name="任意多边形 31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2" descr=""/>
          <p:cNvPicPr/>
          <p:nvPr/>
        </p:nvPicPr>
        <p:blipFill>
          <a:blip r:embed="rId6"/>
          <a:stretch/>
        </p:blipFill>
        <p:spPr>
          <a:xfrm>
            <a:off x="898560" y="5084640"/>
            <a:ext cx="1270080" cy="114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5"/>
          <p:cNvSpPr/>
          <p:nvPr/>
        </p:nvSpPr>
        <p:spPr>
          <a:xfrm rot="1892400">
            <a:off x="3544560" y="1428840"/>
            <a:ext cx="4243320" cy="4265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3"/>
          <p:cNvSpPr/>
          <p:nvPr/>
        </p:nvSpPr>
        <p:spPr>
          <a:xfrm rot="900000">
            <a:off x="3177720" y="1919160"/>
            <a:ext cx="5835600" cy="413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3330720" y="2798640"/>
            <a:ext cx="5954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，老板应如何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成长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6"/>
          <p:cNvSpPr/>
          <p:nvPr/>
        </p:nvSpPr>
        <p:spPr>
          <a:xfrm flipH="1" rot="17008200">
            <a:off x="3263040" y="2002320"/>
            <a:ext cx="719280" cy="72072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2"/>
          <p:cNvSpPr/>
          <p:nvPr/>
        </p:nvSpPr>
        <p:spPr>
          <a:xfrm>
            <a:off x="4915080" y="2260440"/>
            <a:ext cx="7277040" cy="3297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"/>
          <p:cNvSpPr/>
          <p:nvPr/>
        </p:nvSpPr>
        <p:spPr>
          <a:xfrm>
            <a:off x="6588000" y="28670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帮你的</a:t>
            </a:r>
            <a:r>
              <a:rPr b="0" lang="zh-CN" sz="8000" spc="-1" strike="noStrike">
                <a:solidFill>
                  <a:srgbClr val="0089f0"/>
                </a:solidFill>
                <a:latin typeface="微软雅黑"/>
                <a:ea typeface="微软雅黑"/>
              </a:rPr>
              <a:t>新经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7" descr=""/>
          <p:cNvPicPr/>
          <p:nvPr/>
        </p:nvPicPr>
        <p:blipFill>
          <a:blip r:embed="rId1"/>
          <a:stretch/>
        </p:blipFill>
        <p:spPr>
          <a:xfrm>
            <a:off x="0" y="2271600"/>
            <a:ext cx="491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5"/>
          <p:cNvGrpSpPr/>
          <p:nvPr/>
        </p:nvGrpSpPr>
        <p:grpSpPr>
          <a:xfrm>
            <a:off x="5265720" y="4084560"/>
            <a:ext cx="5675400" cy="522360"/>
            <a:chOff x="5265720" y="4084560"/>
            <a:chExt cx="5675400" cy="522360"/>
          </a:xfrm>
        </p:grpSpPr>
        <p:sp>
          <p:nvSpPr>
            <p:cNvPr id="293" name="矩形 15"/>
            <p:cNvSpPr/>
            <p:nvPr/>
          </p:nvSpPr>
          <p:spPr>
            <a:xfrm>
              <a:off x="5265720" y="4084560"/>
              <a:ext cx="4933800" cy="5223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8"/>
            <p:cNvSpPr/>
            <p:nvPr/>
          </p:nvSpPr>
          <p:spPr>
            <a:xfrm>
              <a:off x="5429160" y="4084560"/>
              <a:ext cx="55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有麻烦，老板怎么做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"/>
          <p:cNvGrpSpPr/>
          <p:nvPr/>
        </p:nvGrpSpPr>
        <p:grpSpPr>
          <a:xfrm>
            <a:off x="10054800" y="1738440"/>
            <a:ext cx="1496160" cy="398880"/>
            <a:chOff x="10054800" y="1738440"/>
            <a:chExt cx="1496160" cy="398880"/>
          </a:xfrm>
        </p:grpSpPr>
        <p:sp>
          <p:nvSpPr>
            <p:cNvPr id="296" name="矩形 21"/>
            <p:cNvSpPr/>
            <p:nvPr/>
          </p:nvSpPr>
          <p:spPr>
            <a:xfrm>
              <a:off x="10054800" y="1738440"/>
              <a:ext cx="149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者：卡罗尔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•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沃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直接连接符 26"/>
          <p:cNvSpPr/>
          <p:nvPr/>
        </p:nvSpPr>
        <p:spPr>
          <a:xfrm>
            <a:off x="-36360" y="6581880"/>
            <a:ext cx="35956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7"/>
          <p:cNvSpPr/>
          <p:nvPr/>
        </p:nvSpPr>
        <p:spPr>
          <a:xfrm>
            <a:off x="1960560" y="282600"/>
            <a:ext cx="82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哈佛商业评论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典文章解读系列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6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"/>
          <p:cNvSpPr/>
          <p:nvPr/>
        </p:nvSpPr>
        <p:spPr>
          <a:xfrm>
            <a:off x="4219560" y="7128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日发布，欢迎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546120" y="496080"/>
            <a:ext cx="9835920" cy="4705920"/>
            <a:chOff x="546120" y="496080"/>
            <a:chExt cx="9835920" cy="4705920"/>
          </a:xfrm>
        </p:grpSpPr>
        <p:sp>
          <p:nvSpPr>
            <p:cNvPr id="78" name="梯形 1"/>
            <p:cNvSpPr/>
            <p:nvPr/>
          </p:nvSpPr>
          <p:spPr>
            <a:xfrm rot="10107000">
              <a:off x="1029240" y="2138040"/>
              <a:ext cx="9229680" cy="2161800"/>
            </a:xfrm>
            <a:custGeom>
              <a:avLst/>
              <a:gdLst/>
              <a:ahLst/>
              <a:rect l="l" t="t" r="r" b="b"/>
              <a:pathLst>
                <a:path w="9102796" h="1624083">
                  <a:moveTo>
                    <a:pt x="0" y="1614111"/>
                  </a:moveTo>
                  <a:lnTo>
                    <a:pt x="392112" y="0"/>
                  </a:lnTo>
                  <a:lnTo>
                    <a:pt x="8745588" y="590697"/>
                  </a:lnTo>
                  <a:lnTo>
                    <a:pt x="9102796" y="1624083"/>
                  </a:lnTo>
                  <a:lnTo>
                    <a:pt x="0" y="16141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4"/>
            <p:cNvGrpSpPr/>
            <p:nvPr/>
          </p:nvGrpSpPr>
          <p:grpSpPr>
            <a:xfrm>
              <a:off x="546120" y="496080"/>
              <a:ext cx="9645120" cy="4675680"/>
              <a:chOff x="546120" y="496080"/>
              <a:chExt cx="9645120" cy="4675680"/>
            </a:xfrm>
          </p:grpSpPr>
          <p:sp>
            <p:nvSpPr>
              <p:cNvPr id="80" name="等腰三角形 3"/>
              <p:cNvSpPr/>
              <p:nvPr/>
            </p:nvSpPr>
            <p:spPr>
              <a:xfrm rot="19733400">
                <a:off x="1494000" y="851400"/>
                <a:ext cx="1729080" cy="1265040"/>
              </a:xfrm>
              <a:custGeom>
                <a:avLst/>
                <a:gdLst/>
                <a:ahLst/>
                <a:rect l="l" t="t" r="r" b="b"/>
                <a:pathLst>
                  <a:path w="1405240" h="1402127">
                    <a:moveTo>
                      <a:pt x="825229" y="1402127"/>
                    </a:moveTo>
                    <a:lnTo>
                      <a:pt x="0" y="0"/>
                    </a:lnTo>
                    <a:lnTo>
                      <a:pt x="1405240" y="1363006"/>
                    </a:lnTo>
                    <a:lnTo>
                      <a:pt x="825229" y="1402127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角三角形 2"/>
              <p:cNvSpPr/>
              <p:nvPr/>
            </p:nvSpPr>
            <p:spPr>
              <a:xfrm flipH="1" rot="20853600">
                <a:off x="610560" y="1842840"/>
                <a:ext cx="2938320" cy="918360"/>
              </a:xfrm>
              <a:custGeom>
                <a:avLst/>
                <a:gdLst/>
                <a:ahLst/>
                <a:rect l="l" t="t" r="r" b="b"/>
                <a:pathLst>
                  <a:path w="2207831" h="689727">
                    <a:moveTo>
                      <a:pt x="123375" y="689727"/>
                    </a:moveTo>
                    <a:lnTo>
                      <a:pt x="0" y="0"/>
                    </a:lnTo>
                    <a:lnTo>
                      <a:pt x="2207831" y="682528"/>
                    </a:lnTo>
                    <a:lnTo>
                      <a:pt x="123375" y="689727"/>
                    </a:lnTo>
                    <a:close/>
                  </a:path>
                </a:pathLst>
              </a:custGeom>
              <a:solidFill>
                <a:srgbClr val="0070c0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梯形 1"/>
              <p:cNvSpPr/>
              <p:nvPr/>
            </p:nvSpPr>
            <p:spPr>
              <a:xfrm rot="10053600">
                <a:off x="837000" y="2040480"/>
                <a:ext cx="9229680" cy="2162160"/>
              </a:xfrm>
              <a:custGeom>
                <a:avLst/>
                <a:gdLst/>
                <a:ahLst/>
                <a:rect l="l" t="t" r="r" b="b"/>
                <a:pathLst>
                  <a:path w="9102796" h="1624083">
                    <a:moveTo>
                      <a:pt x="0" y="1614111"/>
                    </a:moveTo>
                    <a:lnTo>
                      <a:pt x="392112" y="0"/>
                    </a:lnTo>
                    <a:lnTo>
                      <a:pt x="8905186" y="353869"/>
                    </a:lnTo>
                    <a:lnTo>
                      <a:pt x="9102796" y="1624083"/>
                    </a:lnTo>
                    <a:lnTo>
                      <a:pt x="0" y="1614111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矩形 4"/>
          <p:cNvSpPr/>
          <p:nvPr/>
        </p:nvSpPr>
        <p:spPr>
          <a:xfrm rot="20922600">
            <a:off x="3321000" y="221580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了职，加了薪，做了领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切就万事大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 rot="777000">
            <a:off x="9333000" y="3257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 rot="20638800">
            <a:off x="8402760" y="396072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 rot="2275200">
            <a:off x="10113840" y="470448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椭圆 13"/>
          <p:cNvSpPr/>
          <p:nvPr/>
        </p:nvSpPr>
        <p:spPr>
          <a:xfrm>
            <a:off x="2922480" y="255600"/>
            <a:ext cx="6346800" cy="63468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2"/>
          <p:cNvSpPr/>
          <p:nvPr/>
        </p:nvSpPr>
        <p:spPr>
          <a:xfrm>
            <a:off x="3327480" y="660240"/>
            <a:ext cx="5537160" cy="5537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 rot="19613400">
            <a:off x="1525680" y="4052520"/>
            <a:ext cx="3814560" cy="27558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 rot="727200">
            <a:off x="1244520" y="888480"/>
            <a:ext cx="5040360" cy="20736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 rot="294000">
            <a:off x="7095600" y="2355840"/>
            <a:ext cx="5274000" cy="318924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"/>
          <p:cNvSpPr/>
          <p:nvPr/>
        </p:nvSpPr>
        <p:spPr>
          <a:xfrm>
            <a:off x="3575160" y="907920"/>
            <a:ext cx="5040360" cy="50403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7170840" y="1731600"/>
            <a:ext cx="1353240" cy="3047400"/>
            <a:chOff x="7170840" y="1731600"/>
            <a:chExt cx="1353240" cy="3047400"/>
          </a:xfrm>
        </p:grpSpPr>
        <p:sp>
          <p:nvSpPr>
            <p:cNvPr id="94" name="梯形 4"/>
            <p:cNvSpPr/>
            <p:nvPr/>
          </p:nvSpPr>
          <p:spPr>
            <a:xfrm flipV="1" rot="11359800">
              <a:off x="7344000" y="1798200"/>
              <a:ext cx="1006560" cy="221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"/>
            <p:cNvSpPr/>
            <p:nvPr/>
          </p:nvSpPr>
          <p:spPr>
            <a:xfrm rot="560400">
              <a:off x="7241040" y="4088160"/>
              <a:ext cx="718920" cy="63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7"/>
          <p:cNvSpPr/>
          <p:nvPr/>
        </p:nvSpPr>
        <p:spPr>
          <a:xfrm rot="20994000">
            <a:off x="3687480" y="1674720"/>
            <a:ext cx="3428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253960" y="5340240"/>
            <a:ext cx="127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亲密伙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再尊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不喜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10061280" y="3429000"/>
            <a:ext cx="16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麻烦不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佛成了火灾现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1887840" y="1031760"/>
            <a:ext cx="91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乎崩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疑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7"/>
          <p:cNvSpPr/>
          <p:nvPr/>
        </p:nvSpPr>
        <p:spPr>
          <a:xfrm flipH="1">
            <a:off x="9469440" y="323208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8"/>
          <p:cNvSpPr/>
          <p:nvPr/>
        </p:nvSpPr>
        <p:spPr>
          <a:xfrm flipH="1">
            <a:off x="1547640" y="83340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9"/>
          <p:cNvSpPr/>
          <p:nvPr/>
        </p:nvSpPr>
        <p:spPr>
          <a:xfrm flipH="1">
            <a:off x="1666800" y="522612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 rot="21082200">
            <a:off x="4572720" y="3881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会这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"/>
          <p:cNvSpPr/>
          <p:nvPr/>
        </p:nvSpPr>
        <p:spPr>
          <a:xfrm>
            <a:off x="863640" y="219240"/>
            <a:ext cx="98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往往是在最基本的法则摔跟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2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55800" y="1606680"/>
            <a:ext cx="9431280" cy="4092840"/>
            <a:chOff x="1855800" y="1606680"/>
            <a:chExt cx="9431280" cy="4092840"/>
          </a:xfrm>
        </p:grpSpPr>
        <p:grpSp>
          <p:nvGrpSpPr>
            <p:cNvPr id="107" name="Group 5"/>
            <p:cNvGrpSpPr/>
            <p:nvPr/>
          </p:nvGrpSpPr>
          <p:grpSpPr>
            <a:xfrm>
              <a:off x="1855800" y="4494960"/>
              <a:ext cx="7356600" cy="1204560"/>
              <a:chOff x="1855800" y="4494960"/>
              <a:chExt cx="7356600" cy="1204560"/>
            </a:xfrm>
          </p:grpSpPr>
          <p:sp>
            <p:nvSpPr>
              <p:cNvPr id="108" name="直角三角形 7"/>
              <p:cNvSpPr/>
              <p:nvPr/>
            </p:nvSpPr>
            <p:spPr>
              <a:xfrm flipV="1" rot="1551600">
                <a:off x="8352360" y="484344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矩形 10"/>
              <p:cNvSpPr/>
              <p:nvPr/>
            </p:nvSpPr>
            <p:spPr>
              <a:xfrm>
                <a:off x="1855800" y="4494960"/>
                <a:ext cx="73566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8"/>
            <p:cNvGrpSpPr/>
            <p:nvPr/>
          </p:nvGrpSpPr>
          <p:grpSpPr>
            <a:xfrm>
              <a:off x="1855800" y="2759760"/>
              <a:ext cx="9322200" cy="1221480"/>
              <a:chOff x="1855800" y="2759760"/>
              <a:chExt cx="9322200" cy="1221480"/>
            </a:xfrm>
          </p:grpSpPr>
          <p:sp>
            <p:nvSpPr>
              <p:cNvPr id="111" name="直角三角形 7"/>
              <p:cNvSpPr/>
              <p:nvPr/>
            </p:nvSpPr>
            <p:spPr>
              <a:xfrm flipV="1" rot="1551600">
                <a:off x="10317960" y="312516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4"/>
              <p:cNvSpPr/>
              <p:nvPr/>
            </p:nvSpPr>
            <p:spPr>
              <a:xfrm>
                <a:off x="1855800" y="2759760"/>
                <a:ext cx="93222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矩形 7"/>
            <p:cNvSpPr/>
            <p:nvPr/>
          </p:nvSpPr>
          <p:spPr>
            <a:xfrm>
              <a:off x="1855800" y="1606680"/>
              <a:ext cx="943128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公司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想当然的认为新经理会在潜移默化中学会管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新经理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岗位仅仅是技术能力卓越就够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 rot="21246600">
            <a:off x="482760" y="1233360"/>
            <a:ext cx="3727440" cy="3716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 rot="21226800">
            <a:off x="614160" y="1391760"/>
            <a:ext cx="3479760" cy="3364200"/>
          </a:xfrm>
          <a:prstGeom prst="rect">
            <a:avLst/>
          </a:prstGeom>
          <a:ln w="0">
            <a:noFill/>
          </a:ln>
        </p:spPr>
      </p:pic>
      <p:sp>
        <p:nvSpPr>
          <p:cNvPr id="118" name="矩形 7"/>
          <p:cNvSpPr/>
          <p:nvPr/>
        </p:nvSpPr>
        <p:spPr>
          <a:xfrm>
            <a:off x="4433760" y="1560600"/>
            <a:ext cx="7758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       </a:t>
            </a: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当一切都不受你的控制时：就好像你没有孩子却突然间变成了孩子的父母，你必须了解照料小孩的一切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位新经理的感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4"/>
          <p:cNvSpPr/>
          <p:nvPr/>
        </p:nvSpPr>
        <p:spPr>
          <a:xfrm>
            <a:off x="863640" y="219240"/>
            <a:ext cx="77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升职，面临的是更大的挑战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5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2874960" y="1549440"/>
            <a:ext cx="6937200" cy="3216600"/>
            <a:chOff x="2874960" y="1549440"/>
            <a:chExt cx="6937200" cy="3216600"/>
          </a:xfrm>
        </p:grpSpPr>
        <p:sp>
          <p:nvSpPr>
            <p:cNvPr id="122" name="直角三角形 7"/>
            <p:cNvSpPr/>
            <p:nvPr/>
          </p:nvSpPr>
          <p:spPr>
            <a:xfrm flipV="1" rot="1551600">
              <a:off x="8952480" y="327564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角三角形 7"/>
            <p:cNvSpPr/>
            <p:nvPr/>
          </p:nvSpPr>
          <p:spPr>
            <a:xfrm flipV="1" rot="1551600">
              <a:off x="7260120" y="390996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6"/>
            <p:cNvSpPr/>
            <p:nvPr/>
          </p:nvSpPr>
          <p:spPr>
            <a:xfrm>
              <a:off x="2874960" y="3566520"/>
              <a:ext cx="523152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9"/>
            <p:cNvSpPr/>
            <p:nvPr/>
          </p:nvSpPr>
          <p:spPr>
            <a:xfrm>
              <a:off x="2874960" y="2912760"/>
              <a:ext cx="693720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"/>
            <p:cNvSpPr/>
            <p:nvPr/>
          </p:nvSpPr>
          <p:spPr>
            <a:xfrm>
              <a:off x="4208760" y="1549440"/>
              <a:ext cx="4082040" cy="26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角色转变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他们的任务不再是实现自己的成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而是使其他人能够有所成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"/>
          <p:cNvSpPr/>
          <p:nvPr/>
        </p:nvSpPr>
        <p:spPr>
          <a:xfrm>
            <a:off x="4704120" y="4195800"/>
            <a:ext cx="10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设一个团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往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做成一笔生意更重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3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/>
          <p:cNvSpPr/>
          <p:nvPr/>
        </p:nvSpPr>
        <p:spPr>
          <a:xfrm rot="21246600">
            <a:off x="493560" y="1275840"/>
            <a:ext cx="2874960" cy="387036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4224240" y="1658880"/>
            <a:ext cx="775836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那些曾经让你成功的因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不会让你继续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马歇尔</a:t>
            </a: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•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戈德史密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6813720" y="3952800"/>
            <a:ext cx="516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球高级领导者教练领域的先驱与权威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福布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位最受尊重的执行教练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最有影响力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管理思想家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" descr=""/>
          <p:cNvPicPr/>
          <p:nvPr/>
        </p:nvPicPr>
        <p:blipFill>
          <a:blip r:embed="rId1"/>
          <a:stretch/>
        </p:blipFill>
        <p:spPr>
          <a:xfrm rot="21258000">
            <a:off x="609120" y="1371240"/>
            <a:ext cx="2649600" cy="3594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2349360" y="1930320"/>
            <a:ext cx="7845480" cy="2477520"/>
            <a:chOff x="2349360" y="1930320"/>
            <a:chExt cx="7845480" cy="2477520"/>
          </a:xfrm>
        </p:grpSpPr>
        <p:sp>
          <p:nvSpPr>
            <p:cNvPr id="136" name="矩形 4"/>
            <p:cNvSpPr/>
            <p:nvPr/>
          </p:nvSpPr>
          <p:spPr>
            <a:xfrm>
              <a:off x="2483280" y="3670920"/>
              <a:ext cx="7575120" cy="736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3"/>
            <p:cNvSpPr/>
            <p:nvPr/>
          </p:nvSpPr>
          <p:spPr>
            <a:xfrm>
              <a:off x="2349360" y="1930320"/>
              <a:ext cx="78454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更可怕的是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些错误的观点让转型变得更困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6:46:00Z</dcterms:created>
  <dc:creator>xiaoba ba</dc:creator>
  <dc:description/>
  <dc:language>en-US</dc:language>
  <cp:lastModifiedBy>Administrator</cp:lastModifiedBy>
  <dcterms:modified xsi:type="dcterms:W3CDTF">2016-08-02T06:17:17Z</dcterms:modified>
  <cp:revision>3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