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566-1C4D-477E-A307-F63C0DC2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DEF-2DEF-4E5C-82C8-2DAA2F1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1E32A-2359-469C-A8A3-0C79F12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787BF-AF7F-4EC3-9C7A-F2AAFF74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F184F-E65E-445A-865E-E58C2F1C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4611A-4D1A-4C56-A531-2967DD4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5C5A-E0D9-4BD0-BE6E-0ABD1D03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EBF6F-8CD0-46B5-975A-21FE130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545D0-3F4B-4845-9FA2-2D845E27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5373-0A0B-4012-A3A2-0389C402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21BAA-6255-4FCF-9357-321E332E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07559-B61C-412C-8FBF-D774120C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DDF-6A60-4EA3-BBF3-B6AE5982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0D166-5302-4C10-B627-B9A6AB4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A83F1-424C-4DC9-A93D-173084BC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8FED9-10F2-4CFA-9C34-1D0B04A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CAD7D-2FBF-48F0-A731-149CEBF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A824A-1D22-4C69-AB79-1AA69B35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F4D22-94F3-4489-9DA5-3BB7B29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2842D-E6CC-48D1-BE46-57EE039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54C4F-337A-446F-8722-8C92FED5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28DBC-05C8-4989-8500-DA7A09C4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1B808-A0AB-4AFE-801A-5BCF3046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9E1-316B-471A-B890-48B8E705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3A3D4-5800-4049-B91D-62EBC28F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04DA7-72A8-452F-92C9-D5564338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36A3B-C168-47DA-839B-4EA251D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0426-44C0-49C8-ACC5-67F9BC35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D52EC-6D08-4E13-A54F-B6702F94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EDF5F-0026-4251-B984-A343B02B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F855C-9FEA-445D-98DE-9BBF19E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C3B9B-48CF-4733-A93C-AA0CE7F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4D6BB-F10D-4CC9-8991-E2880BC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5913-9741-4312-AB12-896960DE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21E5-6CAD-414F-82A6-B133571F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060BD-08A8-4731-BF92-5C753201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8A921-CC7A-4DD9-A5DC-200FC5AE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A38AE-A315-433C-854E-F6E5EE44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12818-AFC5-4B2A-AC9B-7D4C4641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19A06-0454-4BD6-8E27-51702097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F4922-FFC6-488C-BC28-C9B8FBE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76444-3AB5-41E5-AF7E-B2423FD3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452E0-8576-4D23-95AB-A42A592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21AB5-88B5-4592-B4C1-A4692DFC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BF3EB-89A7-4592-8E42-600B9D77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DCF-ACEC-408D-BCB9-13EEC47F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7AA4A-0573-4168-8360-8B653BF1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E66BE-3E92-452B-85C1-5348594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452AF-6A14-450C-8769-F6AEB5E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8B5BC-92D8-4CBC-A226-7F6C0F6E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A7264-FA4B-41A4-9D97-E5C7DE99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E98EE-A8B7-40FC-A7B9-03C4ACD2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C66A5-EC3D-4B2C-B2D3-1DB447D2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DDF4E-4E04-4E69-8C3C-0DD1D5DC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E5788-0120-4966-B7C0-8FBB8359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4D6DC-6520-4D4F-BE71-A9E02A33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EFD1-0D38-4098-A4BB-63860499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9DF9F-5365-4F7C-8B1E-7E557B37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EF206-F020-48BC-BDB4-BD577CB3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3E278-2ACF-4D1C-AD2E-B9AEA4F6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1C89E-B97F-4A1D-A58C-624F7B1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406A7-5398-4D64-881E-0C3FE733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85B14-027E-4985-A820-DDA9A19A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898DE-2EDC-43B8-8714-87F15DCB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8C6E-F150-4F73-9135-28168C5E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C911-623B-4BF4-B8C8-148735E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18D8-0332-4A97-9305-8688B26C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479-3ED3-4499-BFC6-E4904F4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10E-501F-4BE5-824A-B100915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BDA-822B-4EC5-8779-CB3531F8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C0EE-DB7A-4AFF-8BFC-3401443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563-E7A3-4D82-B5BC-45B424E9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9D33-156F-49B2-B7B1-961A275C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D540-1D56-4DE9-921F-893E605E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D3B5-A363-4060-96B5-7A52D793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A9F8-C735-419D-A520-2C1A95EE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5422-42B2-4399-B8A6-725DBF5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FFEE-C3C6-4520-A9AD-9B40EBD2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6F08-0562-443E-97DD-4B0CA1D6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3DC-C9D4-47C7-9037-4C1FE114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B1B1-32DE-49C8-82C9-97878A6D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CDED-5045-49FE-9268-01C0FEBF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F093-09D0-4705-8D77-BDCE0E7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C0DF-7C78-4E79-BC01-A575226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D2D2-8EFA-41CD-B486-B3F348EB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17975-8E5A-4B14-BCC2-B16A31DE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1D2C-9E7A-4EE8-B50D-01F8A196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0F56-62EE-4FC3-A797-C5A1EB4D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C94C-F65C-47EF-B54C-F249A45F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0E3F-B064-4B6C-9EC1-DB96E0F5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29A-E010-414E-B9BD-8A735413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FD8A-779E-4328-A12F-FE513750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52B8-F5E3-4449-A2EF-E6336065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A0D0-6124-4F67-A5DA-36446C62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94C6-EFB0-43E0-AF04-72EF3E1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83CB-4695-4037-8849-BB09E900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8DD13-E013-4D62-9442-5CA350F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B1BD-9978-4C6B-B87C-4FF81FE6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1AB9-F374-487A-B684-62042AD8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FFA6-0FFB-4010-89F4-2A75FC20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52750-81BA-4DA5-A404-DBD5DCE4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CDF-D7A3-47C8-AA82-3CE96EE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0F941-3C7C-472F-9E88-36834C6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28606-6DB5-4A03-B154-5B8EF7D8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73AE-BC74-4496-8A81-1AAF74EE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B6C5-0C41-4296-AB75-6FE77E3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4A3A-BCAF-4FBC-B51B-2422A58E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8CA9-24EB-46DD-9756-961DA80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5565-E7F4-4DFE-A0C6-0DBEC21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35DE6-C69F-46EB-96A6-4D4007B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7F16A-A33D-4D52-BB14-6348D29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DAD4-DA80-4C99-97DE-8F4D9710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90A-E21D-4AC2-BAAE-D188D7EA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A37EB-9648-472F-B9A6-47577A6A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E7CB4-19EF-4B40-A313-305E77CD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D8278-447F-448C-86D2-FA3885A6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049E8-C7F6-4FF4-A0E1-8DBCDA0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BF1BD-BAED-40D9-9D12-D31207C9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C194-2C7B-452C-8EDE-2ED0D67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44A5-8F46-4794-BA8A-01B53BD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50D57-E8C6-407D-9F78-C8464C5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1036E-C0AC-4A11-A908-DBAD402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F679A-1A41-4B9E-B995-A4F56AE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9A6-C7ED-45C7-B52A-39E9854D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9F67A-4165-4C34-AB5F-230B15C6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047A1-EBDE-49BC-BB40-8E2FCC2B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4416-738E-4B90-B36F-204C17BB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ED72-C907-48A0-B0FA-9567B87B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64138-9025-466F-B702-2BAA8638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F7A5-7635-4C0B-8E01-21FD07F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C6946-5EB9-48AC-857F-A70C2EA5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73B1F-95D1-4067-908D-89ADD61A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A487-E6A7-444E-B569-DD1FAB75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C9E2-0229-40DF-BF32-BEF862BE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8AD-0FEF-4B52-9DEF-581D1DA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0D5BD-EEF6-4D95-A0E8-20121279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9137-9DAD-463C-8D40-3DE8BFD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1A2BC-1EBF-4714-A64D-C9E0DCF3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51B98-A8B9-480C-A50C-A1E2E5AA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8D1B-FD99-4798-BB18-BD816086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BA6A2-F3CA-478D-9610-B6DE5135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E9A11-EC29-42D6-B6B1-71416754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9E062-6E32-4AA9-8F7C-C2AE49B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2EB61-2ED1-450B-871D-CB4B9798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CF17F-6C25-4897-B91E-B600D9DA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BE6-6C2E-4028-839A-47CD30E7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BE8E8-7FB4-456F-A885-795D01FF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7DC2-57B6-44FB-AF77-1083406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0F88-C5CB-42F1-8FCC-03A61E1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BB5E1-8F53-42DF-9808-461A1A5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7F06-214B-4274-97BB-1AFA3AFF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91A42-214A-473E-AD54-CC313299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EC4C-F142-41BA-B871-7ED14CF5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26F1A-D1F8-4D20-BC3E-E05A86D1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5388D-13B2-47A6-8BE6-DC52FCE1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9A5B6-E10F-4E2B-811B-1D9AC20D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FE60-E88B-41F3-B644-02B4FACC506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62E-100B-4F79-9ABA-B164A1F4E2B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A7B-D586-491A-943C-26D66491B19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FBA1-9861-4468-A4C1-44B1E80CD3A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E0DB-13A1-41D0-AEB4-37CD76DC47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686-D61B-492F-9712-961C90A5CB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C20B-56B0-4AE3-B3C2-EC567EEB21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9C6A-8DA5-4341-BB00-3C693BD4B0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2EB9-30FF-47CA-8745-6E16CF8074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9989-DDCE-4A7A-945C-EC450A2C16F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78C2-9ABA-4461-A95B-334DF92C98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528-74E9-4D12-BD45-0254B77A333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C49-6F61-427C-A13E-37E49CC3BD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30040"/>
            <a:ext cx="1906560" cy="1571400"/>
          </a:xfrm>
          <a:prstGeom prst="rect">
            <a:avLst/>
          </a:prstGeom>
          <a:ln w="0">
            <a:noFill/>
          </a:ln>
        </p:spPr>
      </p:pic>
      <p:sp>
        <p:nvSpPr>
          <p:cNvPr id="534" name="Line 53"/>
          <p:cNvSpPr/>
          <p:nvPr/>
        </p:nvSpPr>
        <p:spPr>
          <a:xfrm>
            <a:off x="6000840" y="4941720"/>
            <a:ext cx="24480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5"/>
          <p:cNvSpPr/>
          <p:nvPr/>
        </p:nvSpPr>
        <p:spPr>
          <a:xfrm>
            <a:off x="6000840" y="557208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8"/>
          <p:cNvSpPr/>
          <p:nvPr/>
        </p:nvSpPr>
        <p:spPr>
          <a:xfrm>
            <a:off x="642960" y="1857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6"/>
          <p:cNvSpPr/>
          <p:nvPr/>
        </p:nvSpPr>
        <p:spPr>
          <a:xfrm>
            <a:off x="6000840" y="564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DFB0-E067-4662-A786-A2B76FBE8135}" type="datetime"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6/7/30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3"/>
          <p:cNvSpPr/>
          <p:nvPr/>
        </p:nvSpPr>
        <p:spPr>
          <a:xfrm>
            <a:off x="6000840" y="6215040"/>
            <a:ext cx="24480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0"/>
          <p:cNvSpPr/>
          <p:nvPr/>
        </p:nvSpPr>
        <p:spPr>
          <a:xfrm>
            <a:off x="285840" y="8571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4"/>
          <p:cNvSpPr/>
          <p:nvPr/>
        </p:nvSpPr>
        <p:spPr>
          <a:xfrm>
            <a:off x="2571840" y="857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87b8"/>
                </a:solidFill>
                <a:latin typeface="华文彩云"/>
                <a:ea typeface="华文彩云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8"/>
          <p:cNvGrpSpPr/>
          <p:nvPr/>
        </p:nvGrpSpPr>
        <p:grpSpPr>
          <a:xfrm>
            <a:off x="1467000" y="5156280"/>
            <a:ext cx="991080" cy="796680"/>
            <a:chOff x="1467000" y="5156280"/>
            <a:chExt cx="991080" cy="796680"/>
          </a:xfrm>
        </p:grpSpPr>
        <p:grpSp>
          <p:nvGrpSpPr>
            <p:cNvPr id="544" name="Group 23"/>
            <p:cNvGrpSpPr/>
            <p:nvPr/>
          </p:nvGrpSpPr>
          <p:grpSpPr>
            <a:xfrm>
              <a:off x="1467000" y="5156280"/>
              <a:ext cx="991080" cy="796680"/>
              <a:chOff x="1467000" y="5156280"/>
              <a:chExt cx="991080" cy="796680"/>
            </a:xfrm>
          </p:grpSpPr>
          <p:sp>
            <p:nvSpPr>
              <p:cNvPr id="545" name="Line 47"/>
              <p:cNvSpPr/>
              <p:nvPr/>
            </p:nvSpPr>
            <p:spPr>
              <a:xfrm flipV="1">
                <a:off x="1467000" y="5706000"/>
                <a:ext cx="178560" cy="194760"/>
              </a:xfrm>
              <a:prstGeom prst="line">
                <a:avLst/>
              </a:prstGeom>
              <a:ln w="9360">
                <a:solidFill>
                  <a:srgbClr val="ffffff">
                    <a:alpha val="3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48"/>
              <p:cNvSpPr/>
              <p:nvPr/>
            </p:nvSpPr>
            <p:spPr>
              <a:xfrm flipV="1">
                <a:off x="1491480" y="5860800"/>
                <a:ext cx="271080" cy="92160"/>
              </a:xfrm>
              <a:prstGeom prst="line">
                <a:avLst/>
              </a:prstGeom>
              <a:ln w="9360">
                <a:solidFill>
                  <a:srgbClr val="ffffff">
                    <a:alpha val="3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Group 34"/>
          <p:cNvGrpSpPr/>
          <p:nvPr/>
        </p:nvGrpSpPr>
        <p:grpSpPr>
          <a:xfrm>
            <a:off x="2619360" y="3584520"/>
            <a:ext cx="991080" cy="797040"/>
            <a:chOff x="2619360" y="3584520"/>
            <a:chExt cx="991080" cy="797040"/>
          </a:xfrm>
        </p:grpSpPr>
        <p:grpSp>
          <p:nvGrpSpPr>
            <p:cNvPr id="549" name="Group 35"/>
            <p:cNvGrpSpPr/>
            <p:nvPr/>
          </p:nvGrpSpPr>
          <p:grpSpPr>
            <a:xfrm>
              <a:off x="2619360" y="3584520"/>
              <a:ext cx="991080" cy="797040"/>
              <a:chOff x="2619360" y="3584520"/>
              <a:chExt cx="991080" cy="797040"/>
            </a:xfrm>
          </p:grpSpPr>
          <p:grpSp>
            <p:nvGrpSpPr>
              <p:cNvPr id="550" name="Group 40"/>
              <p:cNvGrpSpPr/>
              <p:nvPr/>
            </p:nvGrpSpPr>
            <p:grpSpPr>
              <a:xfrm>
                <a:off x="2619360" y="3584520"/>
                <a:ext cx="991080" cy="797040"/>
                <a:chOff x="2619360" y="3584520"/>
                <a:chExt cx="991080" cy="797040"/>
              </a:xfrm>
            </p:grpSpPr>
            <p:sp>
              <p:nvSpPr>
                <p:cNvPr id="551" name="Line 47"/>
                <p:cNvSpPr/>
                <p:nvPr/>
              </p:nvSpPr>
              <p:spPr>
                <a:xfrm flipV="1">
                  <a:off x="2619360" y="41346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48"/>
                <p:cNvSpPr/>
                <p:nvPr/>
              </p:nvSpPr>
              <p:spPr>
                <a:xfrm flipV="1">
                  <a:off x="2643840" y="42894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4" name="Group 5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555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407320" y="430200"/>
            <a:ext cx="9082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795" name="Group 3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796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5"/>
            <p:cNvSpPr/>
            <p:nvPr/>
          </p:nvSpPr>
          <p:spPr>
            <a:xfrm>
              <a:off x="4960080" y="2099880"/>
              <a:ext cx="2399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6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799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3"/>
          <p:cNvGrpSpPr/>
          <p:nvPr/>
        </p:nvGrpSpPr>
        <p:grpSpPr>
          <a:xfrm>
            <a:off x="66960" y="-69840"/>
            <a:ext cx="2979360" cy="1915200"/>
            <a:chOff x="66960" y="-69840"/>
            <a:chExt cx="2979360" cy="1915200"/>
          </a:xfrm>
        </p:grpSpPr>
        <p:sp>
          <p:nvSpPr>
            <p:cNvPr id="806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2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15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29"/>
          <p:cNvGrpSpPr/>
          <p:nvPr/>
        </p:nvGrpSpPr>
        <p:grpSpPr>
          <a:xfrm>
            <a:off x="1285920" y="6916680"/>
            <a:ext cx="3857760" cy="3425760"/>
            <a:chOff x="1285920" y="6916680"/>
            <a:chExt cx="3857760" cy="3425760"/>
          </a:xfrm>
        </p:grpSpPr>
        <p:pic>
          <p:nvPicPr>
            <p:cNvPr id="821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矩形 62"/>
            <p:cNvSpPr/>
            <p:nvPr/>
          </p:nvSpPr>
          <p:spPr>
            <a:xfrm>
              <a:off x="2037240" y="9936720"/>
              <a:ext cx="23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32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824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827" name="Group 3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828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831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66960" y="-69840"/>
            <a:ext cx="2979360" cy="1915200"/>
            <a:chOff x="66960" y="-69840"/>
            <a:chExt cx="2979360" cy="1915200"/>
          </a:xfrm>
        </p:grpSpPr>
        <p:sp>
          <p:nvSpPr>
            <p:cNvPr id="838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4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29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853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856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4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58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9"/>
          <p:cNvGrpSpPr/>
          <p:nvPr/>
        </p:nvGrpSpPr>
        <p:grpSpPr>
          <a:xfrm>
            <a:off x="-28080" y="2071800"/>
            <a:ext cx="3002040" cy="2811240"/>
            <a:chOff x="-28080" y="2071800"/>
            <a:chExt cx="3002040" cy="2811240"/>
          </a:xfrm>
        </p:grpSpPr>
        <p:sp>
          <p:nvSpPr>
            <p:cNvPr id="862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19"/>
          <p:cNvGrpSpPr/>
          <p:nvPr/>
        </p:nvGrpSpPr>
        <p:grpSpPr>
          <a:xfrm>
            <a:off x="3115080" y="2357280"/>
            <a:ext cx="3002040" cy="2811600"/>
            <a:chOff x="3115080" y="2357280"/>
            <a:chExt cx="3002040" cy="2811600"/>
          </a:xfrm>
        </p:grpSpPr>
        <p:sp>
          <p:nvSpPr>
            <p:cNvPr id="871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29"/>
          <p:cNvGrpSpPr/>
          <p:nvPr/>
        </p:nvGrpSpPr>
        <p:grpSpPr>
          <a:xfrm>
            <a:off x="6210720" y="2143080"/>
            <a:ext cx="3002040" cy="2811600"/>
            <a:chOff x="6210720" y="2143080"/>
            <a:chExt cx="3002040" cy="2811600"/>
          </a:xfrm>
        </p:grpSpPr>
        <p:sp>
          <p:nvSpPr>
            <p:cNvPr id="880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39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889" name="Rounded Rectangle 95">
              <a:hlinkClick r:id="rId2" action="ppaction://hlinksldjump"/>
            </p:cNvPr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45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895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898" name="Group 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99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9"/>
          <p:cNvGrpSpPr/>
          <p:nvPr/>
        </p:nvGrpSpPr>
        <p:grpSpPr>
          <a:xfrm>
            <a:off x="66960" y="6858000"/>
            <a:ext cx="2979360" cy="1987920"/>
            <a:chOff x="66960" y="6858000"/>
            <a:chExt cx="2979360" cy="1987920"/>
          </a:xfrm>
        </p:grpSpPr>
        <p:sp>
          <p:nvSpPr>
            <p:cNvPr id="905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9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914" name="Group 20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915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26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921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5"/>
            <p:cNvSpPr/>
            <p:nvPr/>
          </p:nvSpPr>
          <p:spPr>
            <a:xfrm>
              <a:off x="4873680" y="2127240"/>
              <a:ext cx="19465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9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924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TextBox 75"/>
          <p:cNvSpPr/>
          <p:nvPr/>
        </p:nvSpPr>
        <p:spPr>
          <a:xfrm>
            <a:off x="-192708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33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928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931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93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16"/>
          <p:cNvSpPr/>
          <p:nvPr/>
        </p:nvSpPr>
        <p:spPr>
          <a:xfrm>
            <a:off x="-2641680" y="500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940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14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943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7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946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34"/>
          <p:cNvGrpSpPr/>
          <p:nvPr/>
        </p:nvGrpSpPr>
        <p:grpSpPr>
          <a:xfrm>
            <a:off x="285840" y="3929040"/>
            <a:ext cx="1357200" cy="857160"/>
            <a:chOff x="285840" y="3929040"/>
            <a:chExt cx="1357200" cy="857160"/>
          </a:xfrm>
        </p:grpSpPr>
        <p:sp>
          <p:nvSpPr>
            <p:cNvPr id="949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1"/>
            <p:cNvSpPr/>
            <p:nvPr/>
          </p:nvSpPr>
          <p:spPr>
            <a:xfrm>
              <a:off x="584280" y="4014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37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952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40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955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50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29" dur="5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3"/>
          <p:cNvGrpSpPr/>
          <p:nvPr/>
        </p:nvGrpSpPr>
        <p:grpSpPr>
          <a:xfrm>
            <a:off x="262080" y="1820880"/>
            <a:ext cx="8715240" cy="4786920"/>
            <a:chOff x="262080" y="1820880"/>
            <a:chExt cx="8715240" cy="4786920"/>
          </a:xfrm>
        </p:grpSpPr>
        <p:grpSp>
          <p:nvGrpSpPr>
            <p:cNvPr id="960" name="Group 4"/>
            <p:cNvGrpSpPr/>
            <p:nvPr/>
          </p:nvGrpSpPr>
          <p:grpSpPr>
            <a:xfrm>
              <a:off x="262080" y="1820880"/>
              <a:ext cx="8715240" cy="3788640"/>
              <a:chOff x="262080" y="1820880"/>
              <a:chExt cx="8715240" cy="3788640"/>
            </a:xfrm>
          </p:grpSpPr>
          <p:grpSp>
            <p:nvGrpSpPr>
              <p:cNvPr id="961" name="Group 5"/>
              <p:cNvGrpSpPr/>
              <p:nvPr/>
            </p:nvGrpSpPr>
            <p:grpSpPr>
              <a:xfrm>
                <a:off x="262080" y="1820880"/>
                <a:ext cx="8715240" cy="3788640"/>
                <a:chOff x="262080" y="1820880"/>
                <a:chExt cx="8715240" cy="3788640"/>
              </a:xfrm>
            </p:grpSpPr>
            <p:sp>
              <p:nvSpPr>
                <p:cNvPr id="962" name="AutoShape 4"/>
                <p:cNvSpPr/>
                <p:nvPr/>
              </p:nvSpPr>
              <p:spPr>
                <a:xfrm>
                  <a:off x="262080" y="2679480"/>
                  <a:ext cx="8715240" cy="293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3" name="Group 7"/>
                <p:cNvGrpSpPr/>
                <p:nvPr/>
              </p:nvGrpSpPr>
              <p:grpSpPr>
                <a:xfrm>
                  <a:off x="476280" y="1820880"/>
                  <a:ext cx="1500120" cy="3074040"/>
                  <a:chOff x="476280" y="1820880"/>
                  <a:chExt cx="1500120" cy="3074040"/>
                </a:xfrm>
              </p:grpSpPr>
              <p:grpSp>
                <p:nvGrpSpPr>
                  <p:cNvPr id="964" name="Group 8"/>
                  <p:cNvGrpSpPr/>
                  <p:nvPr/>
                </p:nvGrpSpPr>
                <p:grpSpPr>
                  <a:xfrm>
                    <a:off x="476280" y="1821600"/>
                    <a:ext cx="1500120" cy="3073320"/>
                    <a:chOff x="476280" y="1821600"/>
                    <a:chExt cx="1500120" cy="3073320"/>
                  </a:xfrm>
                </p:grpSpPr>
                <p:sp>
                  <p:nvSpPr>
                    <p:cNvPr id="965" name="AutoShape 9"/>
                    <p:cNvSpPr/>
                    <p:nvPr/>
                  </p:nvSpPr>
                  <p:spPr>
                    <a:xfrm>
                      <a:off x="476280" y="1821600"/>
                      <a:ext cx="1500120" cy="307332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3320"/>
                        <a:gd name="textAreaBottom" fmla="*/ 3000240 h 3073320"/>
                      </a:gdLst>
                      <a:ahLst/>
                      <a:rect l="textAreaLeft" t="textAreaTop" r="textAreaRight" b="textAreaBottom"/>
                      <a:pathLst>
                        <a:path w="21600" h="4424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47"/>
                          </a:lnTo>
                          <a:arcTo wR="3600" hR="3600" stAng="10800000" swAng="-5400000"/>
                          <a:lnTo>
                            <a:pt x="18000" y="4424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AutoShape 10"/>
                    <p:cNvSpPr/>
                    <p:nvPr/>
                  </p:nvSpPr>
                  <p:spPr>
                    <a:xfrm>
                      <a:off x="535680" y="1856880"/>
                      <a:ext cx="1377000" cy="4244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7" name="Text Box 14"/>
                  <p:cNvSpPr/>
                  <p:nvPr/>
                </p:nvSpPr>
                <p:spPr>
                  <a:xfrm>
                    <a:off x="519480" y="25714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TextBox 84"/>
                  <p:cNvSpPr/>
                  <p:nvPr/>
                </p:nvSpPr>
                <p:spPr>
                  <a:xfrm>
                    <a:off x="525600" y="182088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3"/>
                <p:cNvGrpSpPr/>
                <p:nvPr/>
              </p:nvGrpSpPr>
              <p:grpSpPr>
                <a:xfrm>
                  <a:off x="2190600" y="1820880"/>
                  <a:ext cx="1428480" cy="3074040"/>
                  <a:chOff x="2190600" y="1820880"/>
                  <a:chExt cx="1428480" cy="3074040"/>
                </a:xfrm>
              </p:grpSpPr>
              <p:grpSp>
                <p:nvGrpSpPr>
                  <p:cNvPr id="970" name="Group 14"/>
                  <p:cNvGrpSpPr/>
                  <p:nvPr/>
                </p:nvGrpSpPr>
                <p:grpSpPr>
                  <a:xfrm>
                    <a:off x="2190600" y="1821600"/>
                    <a:ext cx="1428480" cy="3073320"/>
                    <a:chOff x="2190600" y="1821600"/>
                    <a:chExt cx="1428480" cy="3073320"/>
                  </a:xfrm>
                </p:grpSpPr>
                <p:sp>
                  <p:nvSpPr>
                    <p:cNvPr id="971" name="AutoShape 9"/>
                    <p:cNvSpPr/>
                    <p:nvPr/>
                  </p:nvSpPr>
                  <p:spPr>
                    <a:xfrm>
                      <a:off x="2190600" y="1821600"/>
                      <a:ext cx="1428480" cy="307332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3320"/>
                        <a:gd name="textAreaBottom" fmla="*/ 3003840 h 3073320"/>
                      </a:gdLst>
                      <a:ahLst/>
                      <a:rect l="textAreaLeft" t="textAreaTop" r="textAreaRight" b="textAreaBottom"/>
                      <a:pathLst>
                        <a:path w="21600" h="4646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65"/>
                          </a:lnTo>
                          <a:arcTo wR="3600" hR="3600" stAng="10800000" swAng="-5400000"/>
                          <a:lnTo>
                            <a:pt x="18000" y="4646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"/>
                    <p:cNvSpPr/>
                    <p:nvPr/>
                  </p:nvSpPr>
                  <p:spPr>
                    <a:xfrm>
                      <a:off x="2247120" y="1856880"/>
                      <a:ext cx="1311120" cy="4244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Text Box 14"/>
                  <p:cNvSpPr/>
                  <p:nvPr/>
                </p:nvSpPr>
                <p:spPr>
                  <a:xfrm>
                    <a:off x="2261880" y="28558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TextBox 89"/>
                  <p:cNvSpPr/>
                  <p:nvPr/>
                </p:nvSpPr>
                <p:spPr>
                  <a:xfrm>
                    <a:off x="2190600" y="1820880"/>
                    <a:ext cx="1428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Group 19"/>
                <p:cNvGrpSpPr/>
                <p:nvPr/>
              </p:nvGrpSpPr>
              <p:grpSpPr>
                <a:xfrm>
                  <a:off x="3810240" y="1820880"/>
                  <a:ext cx="1452240" cy="3074040"/>
                  <a:chOff x="3810240" y="1820880"/>
                  <a:chExt cx="1452240" cy="3074040"/>
                </a:xfrm>
              </p:grpSpPr>
              <p:grpSp>
                <p:nvGrpSpPr>
                  <p:cNvPr id="976" name="Group 20"/>
                  <p:cNvGrpSpPr/>
                  <p:nvPr/>
                </p:nvGrpSpPr>
                <p:grpSpPr>
                  <a:xfrm>
                    <a:off x="3810240" y="1821600"/>
                    <a:ext cx="1444320" cy="3073320"/>
                    <a:chOff x="3810240" y="1821600"/>
                    <a:chExt cx="1444320" cy="3073320"/>
                  </a:xfrm>
                </p:grpSpPr>
                <p:sp>
                  <p:nvSpPr>
                    <p:cNvPr id="977" name="AutoShape 9"/>
                    <p:cNvSpPr/>
                    <p:nvPr/>
                  </p:nvSpPr>
                  <p:spPr>
                    <a:xfrm>
                      <a:off x="3823560" y="1821600"/>
                      <a:ext cx="1430640" cy="3073320"/>
                    </a:xfrm>
                    <a:custGeom>
                      <a:avLst/>
                      <a:gdLst>
                        <a:gd name="textAreaLeft" fmla="*/ 69840 w 1430640"/>
                        <a:gd name="textAreaRight" fmla="*/ 1360800 w 1430640"/>
                        <a:gd name="textAreaTop" fmla="*/ 69840 h 3073320"/>
                        <a:gd name="textAreaBottom" fmla="*/ 3003480 h 3073320"/>
                      </a:gdLst>
                      <a:ahLst/>
                      <a:rect l="textAreaLeft" t="textAreaTop" r="textAreaRight" b="textAreaBottom"/>
                      <a:pathLst>
                        <a:path w="21600" h="4639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95"/>
                          </a:lnTo>
                          <a:arcTo wR="3600" hR="3600" stAng="10800000" swAng="-5400000"/>
                          <a:lnTo>
                            <a:pt x="18000" y="4639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0"/>
                    <p:cNvSpPr/>
                    <p:nvPr/>
                  </p:nvSpPr>
                  <p:spPr>
                    <a:xfrm>
                      <a:off x="3810240" y="1856880"/>
                      <a:ext cx="1444320" cy="4244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9" name="Text Box 14"/>
                  <p:cNvSpPr/>
                  <p:nvPr/>
                </p:nvSpPr>
                <p:spPr>
                  <a:xfrm>
                    <a:off x="3918960" y="2679480"/>
                    <a:ext cx="133524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TextBox 95"/>
                  <p:cNvSpPr/>
                  <p:nvPr/>
                </p:nvSpPr>
                <p:spPr>
                  <a:xfrm>
                    <a:off x="3825720" y="1820880"/>
                    <a:ext cx="1436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Group 25"/>
                <p:cNvGrpSpPr/>
                <p:nvPr/>
              </p:nvGrpSpPr>
              <p:grpSpPr>
                <a:xfrm>
                  <a:off x="5534640" y="1820880"/>
                  <a:ext cx="1442520" cy="3074040"/>
                  <a:chOff x="5534640" y="1820880"/>
                  <a:chExt cx="1442520" cy="3074040"/>
                </a:xfrm>
              </p:grpSpPr>
              <p:grpSp>
                <p:nvGrpSpPr>
                  <p:cNvPr id="982" name="Group 26"/>
                  <p:cNvGrpSpPr/>
                  <p:nvPr/>
                </p:nvGrpSpPr>
                <p:grpSpPr>
                  <a:xfrm>
                    <a:off x="5534640" y="1821600"/>
                    <a:ext cx="1442520" cy="3073320"/>
                    <a:chOff x="5534640" y="1821600"/>
                    <a:chExt cx="1442520" cy="3073320"/>
                  </a:xfrm>
                </p:grpSpPr>
                <p:sp>
                  <p:nvSpPr>
                    <p:cNvPr id="983" name="AutoShape 9"/>
                    <p:cNvSpPr/>
                    <p:nvPr/>
                  </p:nvSpPr>
                  <p:spPr>
                    <a:xfrm>
                      <a:off x="5534640" y="1821600"/>
                      <a:ext cx="1428480" cy="307332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3320"/>
                        <a:gd name="textAreaBottom" fmla="*/ 3003840 h 3073320"/>
                      </a:gdLst>
                      <a:ahLst/>
                      <a:rect l="textAreaLeft" t="textAreaTop" r="textAreaRight" b="textAreaBottom"/>
                      <a:pathLst>
                        <a:path w="21600" h="4646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65"/>
                          </a:lnTo>
                          <a:arcTo wR="3600" hR="3600" stAng="10800000" swAng="-5400000"/>
                          <a:lnTo>
                            <a:pt x="18000" y="4646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AutoShape 10"/>
                    <p:cNvSpPr/>
                    <p:nvPr/>
                  </p:nvSpPr>
                  <p:spPr>
                    <a:xfrm>
                      <a:off x="5534640" y="185904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5" name="Text Box 14"/>
                  <p:cNvSpPr/>
                  <p:nvPr/>
                </p:nvSpPr>
                <p:spPr>
                  <a:xfrm>
                    <a:off x="5644440" y="28263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TextBox 103"/>
                  <p:cNvSpPr/>
                  <p:nvPr/>
                </p:nvSpPr>
                <p:spPr>
                  <a:xfrm>
                    <a:off x="5534640" y="182088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Group 31"/>
                <p:cNvGrpSpPr/>
                <p:nvPr/>
              </p:nvGrpSpPr>
              <p:grpSpPr>
                <a:xfrm>
                  <a:off x="7177680" y="1821600"/>
                  <a:ext cx="1442520" cy="3072960"/>
                  <a:chOff x="7177680" y="1821600"/>
                  <a:chExt cx="1442520" cy="3072960"/>
                </a:xfrm>
              </p:grpSpPr>
              <p:grpSp>
                <p:nvGrpSpPr>
                  <p:cNvPr id="988" name="Group 32"/>
                  <p:cNvGrpSpPr/>
                  <p:nvPr/>
                </p:nvGrpSpPr>
                <p:grpSpPr>
                  <a:xfrm>
                    <a:off x="7177680" y="1821600"/>
                    <a:ext cx="1442520" cy="3072960"/>
                    <a:chOff x="7177680" y="1821600"/>
                    <a:chExt cx="1442520" cy="3072960"/>
                  </a:xfrm>
                </p:grpSpPr>
                <p:sp>
                  <p:nvSpPr>
                    <p:cNvPr id="989" name="AutoShape 9"/>
                    <p:cNvSpPr/>
                    <p:nvPr/>
                  </p:nvSpPr>
                  <p:spPr>
                    <a:xfrm>
                      <a:off x="7177680" y="1821600"/>
                      <a:ext cx="1428480" cy="307296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960"/>
                        <a:gd name="textAreaBottom" fmla="*/ 3003480 h 3072960"/>
                      </a:gdLst>
                      <a:ahLst/>
                      <a:rect l="textAreaLeft" t="textAreaTop" r="textAreaRight" b="textAreaBottom"/>
                      <a:pathLst>
                        <a:path w="21600" h="464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60"/>
                          </a:lnTo>
                          <a:arcTo wR="3600" hR="3600" stAng="10800000" swAng="-5400000"/>
                          <a:lnTo>
                            <a:pt x="18000" y="464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AutoShape 10"/>
                    <p:cNvSpPr/>
                    <p:nvPr/>
                  </p:nvSpPr>
                  <p:spPr>
                    <a:xfrm>
                      <a:off x="7177680" y="185904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1" name="Text Box 14"/>
                  <p:cNvSpPr/>
                  <p:nvPr/>
                </p:nvSpPr>
                <p:spPr>
                  <a:xfrm>
                    <a:off x="7301520" y="287388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TextBox 109"/>
                  <p:cNvSpPr/>
                  <p:nvPr/>
                </p:nvSpPr>
                <p:spPr>
                  <a:xfrm>
                    <a:off x="7177680" y="1892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37"/>
              <p:cNvGrpSpPr/>
              <p:nvPr/>
            </p:nvGrpSpPr>
            <p:grpSpPr>
              <a:xfrm>
                <a:off x="1971720" y="4894920"/>
                <a:ext cx="504000" cy="495720"/>
                <a:chOff x="1971720" y="4894920"/>
                <a:chExt cx="504000" cy="495720"/>
              </a:xfrm>
            </p:grpSpPr>
            <p:grpSp>
              <p:nvGrpSpPr>
                <p:cNvPr id="994" name="Group 38"/>
                <p:cNvGrpSpPr/>
                <p:nvPr/>
              </p:nvGrpSpPr>
              <p:grpSpPr>
                <a:xfrm>
                  <a:off x="2173320" y="4894920"/>
                  <a:ext cx="302400" cy="495720"/>
                  <a:chOff x="2173320" y="4894920"/>
                  <a:chExt cx="302400" cy="495720"/>
                </a:xfrm>
              </p:grpSpPr>
              <p:sp>
                <p:nvSpPr>
                  <p:cNvPr id="995" name="Oval 32"/>
                  <p:cNvSpPr/>
                  <p:nvPr/>
                </p:nvSpPr>
                <p:spPr>
                  <a:xfrm>
                    <a:off x="217332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Oval 33"/>
                  <p:cNvSpPr/>
                  <p:nvPr/>
                </p:nvSpPr>
                <p:spPr>
                  <a:xfrm>
                    <a:off x="227412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Oval 34"/>
                  <p:cNvSpPr/>
                  <p:nvPr/>
                </p:nvSpPr>
                <p:spPr>
                  <a:xfrm>
                    <a:off x="237492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Oval 35"/>
                  <p:cNvSpPr/>
                  <p:nvPr/>
                </p:nvSpPr>
                <p:spPr>
                  <a:xfrm>
                    <a:off x="227412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Oval 36"/>
                  <p:cNvSpPr/>
                  <p:nvPr/>
                </p:nvSpPr>
                <p:spPr>
                  <a:xfrm>
                    <a:off x="217332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Group 44"/>
                <p:cNvGrpSpPr/>
                <p:nvPr/>
              </p:nvGrpSpPr>
              <p:grpSpPr>
                <a:xfrm>
                  <a:off x="1971720" y="4894920"/>
                  <a:ext cx="302400" cy="495720"/>
                  <a:chOff x="1971720" y="4894920"/>
                  <a:chExt cx="302400" cy="495720"/>
                </a:xfrm>
              </p:grpSpPr>
              <p:sp>
                <p:nvSpPr>
                  <p:cNvPr id="1001" name="Oval 38"/>
                  <p:cNvSpPr/>
                  <p:nvPr/>
                </p:nvSpPr>
                <p:spPr>
                  <a:xfrm>
                    <a:off x="197172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Oval 39"/>
                  <p:cNvSpPr/>
                  <p:nvPr/>
                </p:nvSpPr>
                <p:spPr>
                  <a:xfrm>
                    <a:off x="207252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Oval 40"/>
                  <p:cNvSpPr/>
                  <p:nvPr/>
                </p:nvSpPr>
                <p:spPr>
                  <a:xfrm>
                    <a:off x="217332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Oval 41"/>
                  <p:cNvSpPr/>
                  <p:nvPr/>
                </p:nvSpPr>
                <p:spPr>
                  <a:xfrm>
                    <a:off x="207252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Oval 42"/>
                  <p:cNvSpPr/>
                  <p:nvPr/>
                </p:nvSpPr>
                <p:spPr>
                  <a:xfrm>
                    <a:off x="197172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6" name="Group 50"/>
              <p:cNvGrpSpPr/>
              <p:nvPr/>
            </p:nvGrpSpPr>
            <p:grpSpPr>
              <a:xfrm>
                <a:off x="3543480" y="4894920"/>
                <a:ext cx="504000" cy="495720"/>
                <a:chOff x="3543480" y="4894920"/>
                <a:chExt cx="504000" cy="495720"/>
              </a:xfrm>
            </p:grpSpPr>
            <p:grpSp>
              <p:nvGrpSpPr>
                <p:cNvPr id="1007" name="Group 51"/>
                <p:cNvGrpSpPr/>
                <p:nvPr/>
              </p:nvGrpSpPr>
              <p:grpSpPr>
                <a:xfrm>
                  <a:off x="3745080" y="4894920"/>
                  <a:ext cx="302400" cy="495720"/>
                  <a:chOff x="3745080" y="4894920"/>
                  <a:chExt cx="302400" cy="495720"/>
                </a:xfrm>
              </p:grpSpPr>
              <p:sp>
                <p:nvSpPr>
                  <p:cNvPr id="1008" name="Oval 32"/>
                  <p:cNvSpPr/>
                  <p:nvPr/>
                </p:nvSpPr>
                <p:spPr>
                  <a:xfrm>
                    <a:off x="374508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Oval 33"/>
                  <p:cNvSpPr/>
                  <p:nvPr/>
                </p:nvSpPr>
                <p:spPr>
                  <a:xfrm>
                    <a:off x="384588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Oval 34"/>
                  <p:cNvSpPr/>
                  <p:nvPr/>
                </p:nvSpPr>
                <p:spPr>
                  <a:xfrm>
                    <a:off x="394668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Oval 35"/>
                  <p:cNvSpPr/>
                  <p:nvPr/>
                </p:nvSpPr>
                <p:spPr>
                  <a:xfrm>
                    <a:off x="384588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Oval 36"/>
                  <p:cNvSpPr/>
                  <p:nvPr/>
                </p:nvSpPr>
                <p:spPr>
                  <a:xfrm>
                    <a:off x="374508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57"/>
                <p:cNvGrpSpPr/>
                <p:nvPr/>
              </p:nvGrpSpPr>
              <p:grpSpPr>
                <a:xfrm>
                  <a:off x="3543480" y="4894920"/>
                  <a:ext cx="302400" cy="495720"/>
                  <a:chOff x="3543480" y="4894920"/>
                  <a:chExt cx="302400" cy="495720"/>
                </a:xfrm>
              </p:grpSpPr>
              <p:sp>
                <p:nvSpPr>
                  <p:cNvPr id="1014" name="Oval 38"/>
                  <p:cNvSpPr/>
                  <p:nvPr/>
                </p:nvSpPr>
                <p:spPr>
                  <a:xfrm>
                    <a:off x="354348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Oval 39"/>
                  <p:cNvSpPr/>
                  <p:nvPr/>
                </p:nvSpPr>
                <p:spPr>
                  <a:xfrm>
                    <a:off x="364428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Oval 40"/>
                  <p:cNvSpPr/>
                  <p:nvPr/>
                </p:nvSpPr>
                <p:spPr>
                  <a:xfrm>
                    <a:off x="374508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Oval 41"/>
                  <p:cNvSpPr/>
                  <p:nvPr/>
                </p:nvSpPr>
                <p:spPr>
                  <a:xfrm>
                    <a:off x="364428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Oval 42"/>
                  <p:cNvSpPr/>
                  <p:nvPr/>
                </p:nvSpPr>
                <p:spPr>
                  <a:xfrm>
                    <a:off x="354348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9" name="Group 63"/>
              <p:cNvGrpSpPr/>
              <p:nvPr/>
            </p:nvGrpSpPr>
            <p:grpSpPr>
              <a:xfrm>
                <a:off x="5257800" y="4894920"/>
                <a:ext cx="504000" cy="495720"/>
                <a:chOff x="5257800" y="4894920"/>
                <a:chExt cx="504000" cy="495720"/>
              </a:xfrm>
            </p:grpSpPr>
            <p:grpSp>
              <p:nvGrpSpPr>
                <p:cNvPr id="1020" name="Group 64"/>
                <p:cNvGrpSpPr/>
                <p:nvPr/>
              </p:nvGrpSpPr>
              <p:grpSpPr>
                <a:xfrm>
                  <a:off x="5459400" y="4894920"/>
                  <a:ext cx="302400" cy="495720"/>
                  <a:chOff x="5459400" y="4894920"/>
                  <a:chExt cx="302400" cy="495720"/>
                </a:xfrm>
              </p:grpSpPr>
              <p:sp>
                <p:nvSpPr>
                  <p:cNvPr id="1021" name="Oval 32"/>
                  <p:cNvSpPr/>
                  <p:nvPr/>
                </p:nvSpPr>
                <p:spPr>
                  <a:xfrm>
                    <a:off x="545940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Oval 33"/>
                  <p:cNvSpPr/>
                  <p:nvPr/>
                </p:nvSpPr>
                <p:spPr>
                  <a:xfrm>
                    <a:off x="556020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Oval 34"/>
                  <p:cNvSpPr/>
                  <p:nvPr/>
                </p:nvSpPr>
                <p:spPr>
                  <a:xfrm>
                    <a:off x="566100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Oval 35"/>
                  <p:cNvSpPr/>
                  <p:nvPr/>
                </p:nvSpPr>
                <p:spPr>
                  <a:xfrm>
                    <a:off x="556020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Oval 36"/>
                  <p:cNvSpPr/>
                  <p:nvPr/>
                </p:nvSpPr>
                <p:spPr>
                  <a:xfrm>
                    <a:off x="545940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Group 70"/>
                <p:cNvGrpSpPr/>
                <p:nvPr/>
              </p:nvGrpSpPr>
              <p:grpSpPr>
                <a:xfrm>
                  <a:off x="5257800" y="4894920"/>
                  <a:ext cx="302400" cy="495720"/>
                  <a:chOff x="5257800" y="4894920"/>
                  <a:chExt cx="302400" cy="495720"/>
                </a:xfrm>
              </p:grpSpPr>
              <p:sp>
                <p:nvSpPr>
                  <p:cNvPr id="1027" name="Oval 38"/>
                  <p:cNvSpPr/>
                  <p:nvPr/>
                </p:nvSpPr>
                <p:spPr>
                  <a:xfrm>
                    <a:off x="525780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Oval 39"/>
                  <p:cNvSpPr/>
                  <p:nvPr/>
                </p:nvSpPr>
                <p:spPr>
                  <a:xfrm>
                    <a:off x="535860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Oval 40"/>
                  <p:cNvSpPr/>
                  <p:nvPr/>
                </p:nvSpPr>
                <p:spPr>
                  <a:xfrm>
                    <a:off x="545940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Oval 41"/>
                  <p:cNvSpPr/>
                  <p:nvPr/>
                </p:nvSpPr>
                <p:spPr>
                  <a:xfrm>
                    <a:off x="535860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Oval 42"/>
                  <p:cNvSpPr/>
                  <p:nvPr/>
                </p:nvSpPr>
                <p:spPr>
                  <a:xfrm>
                    <a:off x="525780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2" name="Group 76"/>
              <p:cNvGrpSpPr/>
              <p:nvPr/>
            </p:nvGrpSpPr>
            <p:grpSpPr>
              <a:xfrm>
                <a:off x="6900840" y="4898160"/>
                <a:ext cx="504000" cy="495720"/>
                <a:chOff x="6900840" y="4898160"/>
                <a:chExt cx="504000" cy="495720"/>
              </a:xfrm>
            </p:grpSpPr>
            <p:grpSp>
              <p:nvGrpSpPr>
                <p:cNvPr id="1033" name="Group 77"/>
                <p:cNvGrpSpPr/>
                <p:nvPr/>
              </p:nvGrpSpPr>
              <p:grpSpPr>
                <a:xfrm>
                  <a:off x="7102440" y="4898160"/>
                  <a:ext cx="302400" cy="495720"/>
                  <a:chOff x="7102440" y="4898160"/>
                  <a:chExt cx="302400" cy="495720"/>
                </a:xfrm>
              </p:grpSpPr>
              <p:sp>
                <p:nvSpPr>
                  <p:cNvPr id="1034" name="Oval 32"/>
                  <p:cNvSpPr/>
                  <p:nvPr/>
                </p:nvSpPr>
                <p:spPr>
                  <a:xfrm>
                    <a:off x="7102440" y="48981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Oval 33"/>
                  <p:cNvSpPr/>
                  <p:nvPr/>
                </p:nvSpPr>
                <p:spPr>
                  <a:xfrm>
                    <a:off x="7203240" y="49975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Oval 34"/>
                  <p:cNvSpPr/>
                  <p:nvPr/>
                </p:nvSpPr>
                <p:spPr>
                  <a:xfrm>
                    <a:off x="7304040" y="50965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Oval 35"/>
                  <p:cNvSpPr/>
                  <p:nvPr/>
                </p:nvSpPr>
                <p:spPr>
                  <a:xfrm>
                    <a:off x="7203240" y="51958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Oval 36"/>
                  <p:cNvSpPr/>
                  <p:nvPr/>
                </p:nvSpPr>
                <p:spPr>
                  <a:xfrm>
                    <a:off x="7102440" y="52952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Group 83"/>
                <p:cNvGrpSpPr/>
                <p:nvPr/>
              </p:nvGrpSpPr>
              <p:grpSpPr>
                <a:xfrm>
                  <a:off x="6900840" y="4898160"/>
                  <a:ext cx="302400" cy="495720"/>
                  <a:chOff x="6900840" y="4898160"/>
                  <a:chExt cx="302400" cy="495720"/>
                </a:xfrm>
              </p:grpSpPr>
              <p:sp>
                <p:nvSpPr>
                  <p:cNvPr id="1040" name="Oval 38"/>
                  <p:cNvSpPr/>
                  <p:nvPr/>
                </p:nvSpPr>
                <p:spPr>
                  <a:xfrm>
                    <a:off x="6900840" y="48981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Oval 39"/>
                  <p:cNvSpPr/>
                  <p:nvPr/>
                </p:nvSpPr>
                <p:spPr>
                  <a:xfrm>
                    <a:off x="7001640" y="49975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Oval 40"/>
                  <p:cNvSpPr/>
                  <p:nvPr/>
                </p:nvSpPr>
                <p:spPr>
                  <a:xfrm>
                    <a:off x="7102440" y="50965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Oval 41"/>
                  <p:cNvSpPr/>
                  <p:nvPr/>
                </p:nvSpPr>
                <p:spPr>
                  <a:xfrm>
                    <a:off x="7001640" y="51958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Oval 42"/>
                  <p:cNvSpPr/>
                  <p:nvPr/>
                </p:nvSpPr>
                <p:spPr>
                  <a:xfrm>
                    <a:off x="6900840" y="52952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45" name="TextBox 184"/>
            <p:cNvSpPr/>
            <p:nvPr/>
          </p:nvSpPr>
          <p:spPr>
            <a:xfrm>
              <a:off x="3863160" y="6239520"/>
              <a:ext cx="15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1204920" y="485316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38" dur="5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05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1"/>
          <p:cNvSpPr/>
          <p:nvPr/>
        </p:nvSpPr>
        <p:spPr>
          <a:xfrm>
            <a:off x="-69840" y="571680"/>
            <a:ext cx="27417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101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8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1059" name="Group 9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1060" name="Group 10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1061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矩形 121"/>
            <p:cNvSpPr/>
            <p:nvPr/>
          </p:nvSpPr>
          <p:spPr>
            <a:xfrm>
              <a:off x="3415680" y="4643280"/>
              <a:ext cx="34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Group 15"/>
          <p:cNvGrpSpPr/>
          <p:nvPr/>
        </p:nvGrpSpPr>
        <p:grpSpPr>
          <a:xfrm>
            <a:off x="434520" y="2286000"/>
            <a:ext cx="8579160" cy="1774800"/>
            <a:chOff x="434520" y="2286000"/>
            <a:chExt cx="8579160" cy="1774800"/>
          </a:xfrm>
        </p:grpSpPr>
        <p:grpSp>
          <p:nvGrpSpPr>
            <p:cNvPr id="1066" name="Group 16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1067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19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1070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22"/>
            <p:cNvGrpSpPr/>
            <p:nvPr/>
          </p:nvGrpSpPr>
          <p:grpSpPr>
            <a:xfrm>
              <a:off x="434520" y="2428560"/>
              <a:ext cx="729360" cy="1286280"/>
              <a:chOff x="434520" y="2428560"/>
              <a:chExt cx="729360" cy="1286280"/>
            </a:xfrm>
          </p:grpSpPr>
          <p:grpSp>
            <p:nvGrpSpPr>
              <p:cNvPr id="1073" name="Group 23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1074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5" name="Group 25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1076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8" name="TextBox 128"/>
              <p:cNvSpPr/>
              <p:nvPr/>
            </p:nvSpPr>
            <p:spPr>
              <a:xfrm>
                <a:off x="434520" y="2556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29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1080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33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1084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250" autoRev="1" fill="hold"/>
                                        <p:tgtEl>
                                          <p:spTgt spid="10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087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6"/>
          <p:cNvGrpSpPr/>
          <p:nvPr/>
        </p:nvGrpSpPr>
        <p:grpSpPr>
          <a:xfrm>
            <a:off x="434520" y="2928960"/>
            <a:ext cx="8579160" cy="1773360"/>
            <a:chOff x="434520" y="2928960"/>
            <a:chExt cx="8579160" cy="1773360"/>
          </a:xfrm>
        </p:grpSpPr>
        <p:grpSp>
          <p:nvGrpSpPr>
            <p:cNvPr id="1091" name="Group 7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1092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10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1095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13"/>
            <p:cNvGrpSpPr/>
            <p:nvPr/>
          </p:nvGrpSpPr>
          <p:grpSpPr>
            <a:xfrm>
              <a:off x="434520" y="3071160"/>
              <a:ext cx="729360" cy="1285560"/>
              <a:chOff x="434520" y="3071160"/>
              <a:chExt cx="729360" cy="1285560"/>
            </a:xfrm>
          </p:grpSpPr>
          <p:grpSp>
            <p:nvGrpSpPr>
              <p:cNvPr id="1098" name="Group 14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1099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0" name="Group 16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1101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3" name="TextBox 42"/>
              <p:cNvSpPr/>
              <p:nvPr/>
            </p:nvSpPr>
            <p:spPr>
              <a:xfrm>
                <a:off x="434520" y="31986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20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1105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25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11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7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1116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WordArt 14"/>
            <p:cNvSpPr txBox="1"/>
            <p:nvPr/>
          </p:nvSpPr>
          <p:spPr>
            <a:xfrm>
              <a:off x="1442160" y="2339280"/>
              <a:ext cx="1165680" cy="33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noFill/>
                  <a:latin typeface="微软雅黑"/>
                </a:rPr>
                <a:t>研究目的</a:t>
              </a:r>
              <a:endParaRPr b="1" lang="en-US" sz="1760" spc="1" strike="noStrike">
                <a:ln w="0">
                  <a:noFill/>
                </a:ln>
                <a:noFill/>
                <a:latin typeface="微软雅黑"/>
                <a:ea typeface="微软雅黑"/>
              </a:endParaRPr>
            </a:p>
          </p:txBody>
        </p:sp>
        <p:sp>
          <p:nvSpPr>
            <p:cNvPr id="1119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12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1121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WordArt 14"/>
            <p:cNvSpPr txBox="1"/>
            <p:nvPr/>
          </p:nvSpPr>
          <p:spPr>
            <a:xfrm>
              <a:off x="1428480" y="3428640"/>
              <a:ext cx="1214280" cy="35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主要思想</a:t>
              </a:r>
              <a:endParaRPr b="1" lang="en-US" sz="1760" spc="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125" name="Group 17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1126" name="Group 18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1127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WordArt 14"/>
            <p:cNvSpPr txBox="1"/>
            <p:nvPr/>
          </p:nvSpPr>
          <p:spPr>
            <a:xfrm>
              <a:off x="1428480" y="4572000"/>
              <a:ext cx="12142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实验方法</a:t>
              </a:r>
              <a:endParaRPr b="1" lang="en-US" sz="1760" spc="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131" name="Group 23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1132" name="Group 24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1133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WordArt 14"/>
            <p:cNvSpPr txBox="1"/>
            <p:nvPr/>
          </p:nvSpPr>
          <p:spPr>
            <a:xfrm>
              <a:off x="1428480" y="5714640"/>
              <a:ext cx="12142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创新与难点</a:t>
              </a:r>
              <a:endParaRPr b="1" lang="en-US" sz="1760" spc="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137" name="TextBox 78"/>
          <p:cNvSpPr/>
          <p:nvPr/>
        </p:nvSpPr>
        <p:spPr>
          <a:xfrm>
            <a:off x="406008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70" dur="5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140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8"/>
          <p:cNvGrpSpPr/>
          <p:nvPr/>
        </p:nvGrpSpPr>
        <p:grpSpPr>
          <a:xfrm>
            <a:off x="189000" y="1257840"/>
            <a:ext cx="8768520" cy="4926960"/>
            <a:chOff x="189000" y="1257840"/>
            <a:chExt cx="8768520" cy="4926960"/>
          </a:xfrm>
        </p:grpSpPr>
        <p:sp>
          <p:nvSpPr>
            <p:cNvPr id="1145" name="Line 18"/>
            <p:cNvSpPr/>
            <p:nvPr/>
          </p:nvSpPr>
          <p:spPr>
            <a:xfrm flipV="1">
              <a:off x="2999880" y="3786120"/>
              <a:ext cx="1143000" cy="537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9"/>
            <p:cNvSpPr/>
            <p:nvPr/>
          </p:nvSpPr>
          <p:spPr>
            <a:xfrm flipV="1">
              <a:off x="7000560" y="2214720"/>
              <a:ext cx="714240" cy="3571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7"/>
            <p:cNvSpPr/>
            <p:nvPr/>
          </p:nvSpPr>
          <p:spPr>
            <a:xfrm>
              <a:off x="1499760" y="3214800"/>
              <a:ext cx="571320" cy="7855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Group 12"/>
            <p:cNvGrpSpPr/>
            <p:nvPr/>
          </p:nvGrpSpPr>
          <p:grpSpPr>
            <a:xfrm>
              <a:off x="285120" y="1928880"/>
              <a:ext cx="1642680" cy="1914120"/>
              <a:chOff x="285120" y="1928880"/>
              <a:chExt cx="1642680" cy="1914120"/>
            </a:xfrm>
          </p:grpSpPr>
          <p:sp>
            <p:nvSpPr>
              <p:cNvPr id="1149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26"/>
              <p:cNvSpPr/>
              <p:nvPr/>
            </p:nvSpPr>
            <p:spPr>
              <a:xfrm>
                <a:off x="713520" y="22860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5"/>
            <p:cNvGrpSpPr/>
            <p:nvPr/>
          </p:nvGrpSpPr>
          <p:grpSpPr>
            <a:xfrm>
              <a:off x="1683360" y="3714840"/>
              <a:ext cx="1484640" cy="1914120"/>
              <a:chOff x="1683360" y="3714840"/>
              <a:chExt cx="1484640" cy="1914120"/>
            </a:xfrm>
          </p:grpSpPr>
          <p:sp>
            <p:nvSpPr>
              <p:cNvPr id="1152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矩形 27"/>
              <p:cNvSpPr/>
              <p:nvPr/>
            </p:nvSpPr>
            <p:spPr>
              <a:xfrm>
                <a:off x="2070720" y="4071960"/>
                <a:ext cx="857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18"/>
            <p:cNvGrpSpPr/>
            <p:nvPr/>
          </p:nvGrpSpPr>
          <p:grpSpPr>
            <a:xfrm>
              <a:off x="7457400" y="1257840"/>
              <a:ext cx="1500120" cy="1838880"/>
              <a:chOff x="7457400" y="1257840"/>
              <a:chExt cx="1500120" cy="1838880"/>
            </a:xfrm>
          </p:grpSpPr>
          <p:sp>
            <p:nvSpPr>
              <p:cNvPr id="1155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矩形 34"/>
              <p:cNvSpPr/>
              <p:nvPr/>
            </p:nvSpPr>
            <p:spPr>
              <a:xfrm>
                <a:off x="7885800" y="15397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7" name="Group 21"/>
            <p:cNvGrpSpPr/>
            <p:nvPr/>
          </p:nvGrpSpPr>
          <p:grpSpPr>
            <a:xfrm>
              <a:off x="5714280" y="1954080"/>
              <a:ext cx="1500120" cy="1883520"/>
              <a:chOff x="5714280" y="1954080"/>
              <a:chExt cx="1500120" cy="1883520"/>
            </a:xfrm>
          </p:grpSpPr>
          <p:sp>
            <p:nvSpPr>
              <p:cNvPr id="1158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矩形 37"/>
              <p:cNvSpPr/>
              <p:nvPr/>
            </p:nvSpPr>
            <p:spPr>
              <a:xfrm>
                <a:off x="6071400" y="22806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24"/>
            <p:cNvGrpSpPr/>
            <p:nvPr/>
          </p:nvGrpSpPr>
          <p:grpSpPr>
            <a:xfrm>
              <a:off x="3877200" y="2888640"/>
              <a:ext cx="1356840" cy="1842480"/>
              <a:chOff x="3877200" y="2888640"/>
              <a:chExt cx="1356840" cy="1842480"/>
            </a:xfrm>
          </p:grpSpPr>
          <p:sp>
            <p:nvSpPr>
              <p:cNvPr id="1161" name="Rectangle 9"/>
              <p:cNvSpPr/>
              <p:nvPr/>
            </p:nvSpPr>
            <p:spPr>
              <a:xfrm rot="3418800">
                <a:off x="405540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矩形 38"/>
              <p:cNvSpPr/>
              <p:nvPr/>
            </p:nvSpPr>
            <p:spPr>
              <a:xfrm>
                <a:off x="4163040" y="31741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Line 18"/>
            <p:cNvSpPr/>
            <p:nvPr/>
          </p:nvSpPr>
          <p:spPr>
            <a:xfrm flipV="1">
              <a:off x="5071680" y="3000240"/>
              <a:ext cx="928440" cy="3949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23"/>
            <p:cNvSpPr/>
            <p:nvPr/>
          </p:nvSpPr>
          <p:spPr>
            <a:xfrm>
              <a:off x="189000" y="41475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76" dur="500" fill="hold"/>
                                        <p:tgtEl>
                                          <p:spTgt spid="1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589" dur="1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宋体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2290680" y="269244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WordArt 2"/>
          <p:cNvSpPr txBox="1"/>
          <p:nvPr/>
        </p:nvSpPr>
        <p:spPr>
          <a:xfrm>
            <a:off x="825480" y="3289320"/>
            <a:ext cx="5181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Thank You!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pic>
        <p:nvPicPr>
          <p:cNvPr id="1170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171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4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568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570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9"/>
          <p:cNvGrpSpPr/>
          <p:nvPr/>
        </p:nvGrpSpPr>
        <p:grpSpPr>
          <a:xfrm>
            <a:off x="-28080" y="2071800"/>
            <a:ext cx="3002040" cy="2811240"/>
            <a:chOff x="-28080" y="2071800"/>
            <a:chExt cx="3002040" cy="2811240"/>
          </a:xfrm>
        </p:grpSpPr>
        <p:sp>
          <p:nvSpPr>
            <p:cNvPr id="574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9"/>
          <p:cNvGrpSpPr/>
          <p:nvPr/>
        </p:nvGrpSpPr>
        <p:grpSpPr>
          <a:xfrm>
            <a:off x="3115080" y="2357280"/>
            <a:ext cx="3002040" cy="2811600"/>
            <a:chOff x="3115080" y="2357280"/>
            <a:chExt cx="3002040" cy="2811600"/>
          </a:xfrm>
        </p:grpSpPr>
        <p:sp>
          <p:nvSpPr>
            <p:cNvPr id="583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9"/>
          <p:cNvGrpSpPr/>
          <p:nvPr/>
        </p:nvGrpSpPr>
        <p:grpSpPr>
          <a:xfrm>
            <a:off x="6210720" y="2143080"/>
            <a:ext cx="3002040" cy="2811600"/>
            <a:chOff x="6210720" y="2143080"/>
            <a:chExt cx="3002040" cy="2811600"/>
          </a:xfrm>
        </p:grpSpPr>
        <p:sp>
          <p:nvSpPr>
            <p:cNvPr id="592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39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601" name="Rounded Rectangle 95">
              <a:hlinkClick r:id="rId2" action="ppaction://hlinksldjump"/>
            </p:cNvPr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45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607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3"/>
          <p:cNvGrpSpPr/>
          <p:nvPr/>
        </p:nvGrpSpPr>
        <p:grpSpPr>
          <a:xfrm>
            <a:off x="65160" y="6858000"/>
            <a:ext cx="2620800" cy="1829160"/>
            <a:chOff x="65160" y="6858000"/>
            <a:chExt cx="2620800" cy="1829160"/>
          </a:xfrm>
        </p:grpSpPr>
        <p:sp>
          <p:nvSpPr>
            <p:cNvPr id="611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3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620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4949280" y="1957320"/>
              <a:ext cx="33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623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82"/>
          <p:cNvSpPr/>
          <p:nvPr/>
        </p:nvSpPr>
        <p:spPr>
          <a:xfrm>
            <a:off x="500040" y="478620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83"/>
          <p:cNvSpPr/>
          <p:nvPr/>
        </p:nvSpPr>
        <p:spPr>
          <a:xfrm>
            <a:off x="612360" y="5500800"/>
            <a:ext cx="337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20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627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4"/>
          <p:cNvGrpSpPr/>
          <p:nvPr/>
        </p:nvGrpSpPr>
        <p:grpSpPr>
          <a:xfrm>
            <a:off x="428760" y="1714680"/>
            <a:ext cx="6858000" cy="2571480"/>
            <a:chOff x="428760" y="1714680"/>
            <a:chExt cx="6858000" cy="2571480"/>
          </a:xfrm>
        </p:grpSpPr>
        <p:sp>
          <p:nvSpPr>
            <p:cNvPr id="631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>
              <a:off x="57132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>
              <a:off x="549360" y="324036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549360" y="4286160"/>
              <a:ext cx="337968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3"/>
          <p:cNvGrpSpPr/>
          <p:nvPr/>
        </p:nvGrpSpPr>
        <p:grpSpPr>
          <a:xfrm>
            <a:off x="65160" y="0"/>
            <a:ext cx="2620800" cy="1829160"/>
            <a:chOff x="65160" y="0"/>
            <a:chExt cx="2620800" cy="1829160"/>
          </a:xfrm>
        </p:grpSpPr>
        <p:sp>
          <p:nvSpPr>
            <p:cNvPr id="639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2"/>
          <p:cNvSpPr/>
          <p:nvPr/>
        </p:nvSpPr>
        <p:spPr>
          <a:xfrm>
            <a:off x="571680" y="2214720"/>
            <a:ext cx="3357360" cy="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2"/>
          <p:cNvSpPr/>
          <p:nvPr/>
        </p:nvSpPr>
        <p:spPr>
          <a:xfrm>
            <a:off x="549360" y="3240000"/>
            <a:ext cx="3379680" cy="4608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2"/>
          <p:cNvSpPr/>
          <p:nvPr/>
        </p:nvSpPr>
        <p:spPr>
          <a:xfrm>
            <a:off x="500040" y="4357800"/>
            <a:ext cx="3379680" cy="144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8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653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5186160" y="1959120"/>
              <a:ext cx="28609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656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6215040" y="6858000"/>
            <a:ext cx="4500720" cy="4155120"/>
            <a:chOff x="6215040" y="6858000"/>
            <a:chExt cx="4500720" cy="4155120"/>
          </a:xfrm>
        </p:grpSpPr>
        <p:pic>
          <p:nvPicPr>
            <p:cNvPr id="659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矩形 29"/>
            <p:cNvSpPr/>
            <p:nvPr/>
          </p:nvSpPr>
          <p:spPr>
            <a:xfrm>
              <a:off x="6995880" y="10644840"/>
              <a:ext cx="30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8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663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3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668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65160" y="0"/>
            <a:ext cx="2620800" cy="1829160"/>
            <a:chOff x="65160" y="0"/>
            <a:chExt cx="2620800" cy="1829160"/>
          </a:xfrm>
        </p:grpSpPr>
        <p:sp>
          <p:nvSpPr>
            <p:cNvPr id="671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428760" y="1714680"/>
            <a:ext cx="6858000" cy="2571480"/>
            <a:chOff x="428760" y="1714680"/>
            <a:chExt cx="6858000" cy="2571480"/>
          </a:xfrm>
        </p:grpSpPr>
        <p:sp>
          <p:nvSpPr>
            <p:cNvPr id="680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>
              <a:off x="57132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"/>
            <p:cNvSpPr/>
            <p:nvPr/>
          </p:nvSpPr>
          <p:spPr>
            <a:xfrm>
              <a:off x="549360" y="324036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2"/>
            <p:cNvSpPr/>
            <p:nvPr/>
          </p:nvSpPr>
          <p:spPr>
            <a:xfrm>
              <a:off x="549360" y="4286160"/>
              <a:ext cx="337968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24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688" name="Group 25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689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28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692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1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695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矩形 75"/>
            <p:cNvSpPr/>
            <p:nvPr/>
          </p:nvSpPr>
          <p:spPr>
            <a:xfrm>
              <a:off x="5452920" y="4997160"/>
              <a:ext cx="13280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36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700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4"/>
          <p:cNvSpPr/>
          <p:nvPr/>
        </p:nvSpPr>
        <p:spPr>
          <a:xfrm>
            <a:off x="6553080" y="662940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13B-461C-47E1-A063-745CB5AB4A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05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707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-28080" y="2071800"/>
            <a:ext cx="3002040" cy="2811240"/>
            <a:chOff x="-28080" y="2071800"/>
            <a:chExt cx="3002040" cy="2811240"/>
          </a:xfrm>
        </p:grpSpPr>
        <p:sp>
          <p:nvSpPr>
            <p:cNvPr id="711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9"/>
          <p:cNvGrpSpPr/>
          <p:nvPr/>
        </p:nvGrpSpPr>
        <p:grpSpPr>
          <a:xfrm>
            <a:off x="3115080" y="2357280"/>
            <a:ext cx="3002040" cy="2811600"/>
            <a:chOff x="3115080" y="2357280"/>
            <a:chExt cx="3002040" cy="2811600"/>
          </a:xfrm>
        </p:grpSpPr>
        <p:sp>
          <p:nvSpPr>
            <p:cNvPr id="720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29"/>
          <p:cNvGrpSpPr/>
          <p:nvPr/>
        </p:nvGrpSpPr>
        <p:grpSpPr>
          <a:xfrm>
            <a:off x="6210720" y="2143080"/>
            <a:ext cx="3002040" cy="2811600"/>
            <a:chOff x="6210720" y="2143080"/>
            <a:chExt cx="3002040" cy="2811600"/>
          </a:xfrm>
        </p:grpSpPr>
        <p:sp>
          <p:nvSpPr>
            <p:cNvPr id="729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39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738" name="Rounded Rectangle 95">
              <a:hlinkClick r:id="rId2" action="ppaction://hlinksldjump"/>
            </p:cNvPr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45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744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3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748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5"/>
            <p:cNvSpPr/>
            <p:nvPr/>
          </p:nvSpPr>
          <p:spPr>
            <a:xfrm>
              <a:off x="4770360" y="1957320"/>
              <a:ext cx="1641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6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751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66960" y="6858000"/>
            <a:ext cx="2979360" cy="1916640"/>
            <a:chOff x="66960" y="6858000"/>
            <a:chExt cx="2979360" cy="1916640"/>
          </a:xfrm>
        </p:grpSpPr>
        <p:sp>
          <p:nvSpPr>
            <p:cNvPr id="758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76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999000" y="4071960"/>
            <a:ext cx="4287240" cy="1393920"/>
            <a:chOff x="999000" y="4071960"/>
            <a:chExt cx="4287240" cy="1393920"/>
          </a:xfrm>
        </p:grpSpPr>
        <p:sp>
          <p:nvSpPr>
            <p:cNvPr id="773" name="矩形 37"/>
            <p:cNvSpPr/>
            <p:nvPr/>
          </p:nvSpPr>
          <p:spPr>
            <a:xfrm>
              <a:off x="1050480" y="4274280"/>
              <a:ext cx="203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38"/>
            <p:cNvSpPr/>
            <p:nvPr/>
          </p:nvSpPr>
          <p:spPr>
            <a:xfrm>
              <a:off x="999000" y="4917600"/>
              <a:ext cx="99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5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Group 34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778" name="Group 35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779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Group 37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781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0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784" name="Group 41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cxnSp>
              <p:nvCxnSpPr>
                <p:cNvPr id="785" name="肘形连接符​​ 9"/>
                <p:cNvCxnSpPr/>
                <p:nvPr/>
              </p:nvCxnSpPr>
              <p:spPr>
                <a:xfrm flipV="1">
                  <a:off x="2820600" y="4250160"/>
                  <a:ext cx="1322280" cy="250560"/>
                </a:xfrm>
                <a:prstGeom prst="straightConnector1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786" name="肘形连接符​​ 11"/>
                <p:cNvCxnSpPr/>
                <p:nvPr/>
              </p:nvCxnSpPr>
              <p:spPr>
                <a:xfrm>
                  <a:off x="2820600" y="5143320"/>
                  <a:ext cx="1393560" cy="465120"/>
                </a:xfrm>
                <a:prstGeom prst="straightConnector1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787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Group 45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789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1" name="Group 48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792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琪琪</dc:creator>
  <dc:description/>
  <cp:keywords/>
  <dc:language>en-US</dc:language>
  <cp:lastModifiedBy>Administrator</cp:lastModifiedBy>
  <cp:lastPrinted>1899-12-30T00:00:00Z</cp:lastPrinted>
  <dcterms:modified xsi:type="dcterms:W3CDTF">2016-07-25T07:46:04Z</dcterms:modified>
  <cp:revision>309</cp:revision>
  <dc:subject/>
  <dc:title>    Female Authority and Narrative Voice  A Feminist Narratological Reading of Tillie Olsen’s Work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