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E40B1-6731-4244-A7DB-F3FA84573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432B0-4033-4D9A-BF00-F08C6522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2F09-D48C-4654-9375-2F8C4AF3F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6DD8F-AEEE-4F93-AB1B-7064DFAB4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E20C7-B3B2-4416-96A2-CD1E2127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DF2D1-5F2D-4B51-8DF8-C993B213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76054-CC09-44A4-B469-94C81D3D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B249-2FFA-4455-B850-16FBE8A26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122D-0DD5-4366-9A4E-8AC44D75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2636-1B8E-4CA6-B380-DF7002B50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6233-7B6D-4B00-839B-3A1D2F46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7999-A070-4D95-8337-3B789D022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CC4A-5D29-4ED9-B2DD-6F32D32AED25}" type="datetime">
              <a:rPr b="0" lang="zh-CN" sz="1200" spc="-1" strike="noStrike">
                <a:solidFill>
                  <a:srgbClr val="898989"/>
                </a:solidFill>
                <a:latin typeface="Arial"/>
                <a:ea typeface="方正兰亭细黑_GBK"/>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E248-8454-44DD-82D8-683A06F4DD5B}"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