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6E5-6DC7-4105-B21B-55903844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096-05FD-4D1A-ADF8-92362C2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7D1-252C-4197-91A1-6D416CB6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201-5B57-41C5-B861-E3DAF8E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830-B562-4F15-B819-D2A30EB2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6DB-908F-400A-9E01-671C6B3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8480-74EE-407E-B7CE-751B9A06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C41-8952-44D5-9680-1A03CDC8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5520-EC01-4817-B66E-93F6F827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57E-2304-455E-86FF-BD914D57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CE35-0F16-499D-A729-E43B738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1593-E583-4707-9520-7A6B3B9E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0F6-D327-4E9D-9A9B-A825232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EFA5-00DC-49EF-8537-A5C4971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D03-2241-48B8-BD9F-979BABCC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AF6-4283-4812-AA25-074591B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C4B2-F581-4FB7-AEA8-29CEE98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2ED0-3D4F-4D4A-A986-5C1E8E8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4A7-0DC2-4826-BFC2-201A41AD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1EE-55FD-4BE0-889D-95259439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7F6-4A6D-4CCE-9C0C-8DA0F90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D79-9B3F-4E9D-A0F0-1B1E565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918-FC50-4A63-8B8C-C887183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7C3-0D3D-42E4-95BF-7B212CD7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FEA-66D7-4C84-AADA-CFF670CE7F16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A95-D6CE-4290-ADE5-D9ECA8FF3248}" type="slidenum">
              <a:rPr b="0" lang="en-US" sz="800" spc="-1" strike="noStrike">
                <a:solidFill>
                  <a:srgbClr val="8c8c8c"/>
                </a:solidFill>
                <a:latin typeface="Calibri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0"/>
            <a:ext cx="6095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ITLE LAYOUT</a:t>
            </a:r>
            <a:endParaRPr b="0" lang="en-US" sz="8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55960" y="38412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609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55960" y="2239920"/>
            <a:ext cx="4799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pic>
        <p:nvPicPr>
          <p:cNvPr id="202" name="Content Placeholder 5" descr="Clustered Column Chart"/>
          <p:cNvPicPr/>
          <p:nvPr/>
        </p:nvPicPr>
        <p:blipFill>
          <a:blip r:embed="rId1"/>
          <a:stretch/>
        </p:blipFill>
        <p:spPr>
          <a:xfrm>
            <a:off x="1930320" y="1936800"/>
            <a:ext cx="947412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781680" y="1981080"/>
          <a:ext cx="4572000" cy="20890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522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8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2224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83500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9200" y="4096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6600" y="380520"/>
            <a:ext cx="5489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9200" y="2238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810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810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81680" y="1679040"/>
            <a:ext cx="4572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40"/>
              </a:solidFill>
              <a:latin typeface="Calibri"/>
              <a:ea typeface="宋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81680" y="2509920"/>
            <a:ext cx="45720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  <a:ea typeface="宋体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/>
  <dc:description/>
  <dc:language>en-US</dc:language>
  <cp:lastModifiedBy>Administrator</cp:lastModifiedBy>
  <dcterms:modified xsi:type="dcterms:W3CDTF">2016-06-17T04:46:07Z</dcterms:modified>
  <cp:revision>3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_TemplateID">
    <vt:lpwstr>TC030310279991</vt:lpwstr>
  </property>
</Properties>
</file>