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31A-9AA2-4B4C-BDD5-0B118C6D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17E-9291-4740-A1CD-11CA01D7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EA9-FC0A-4B88-ACD0-B10E7E60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81D-570A-41F2-9B52-B4D7890D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757-3473-40F3-BFAC-DF41B01A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F1D-ABFC-4FFA-A4D9-33DB80F5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D244-3697-4648-AE8A-94B9FE61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EC9E-8419-4A6A-9845-673E903C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EC7F-563E-44D8-870E-4E1E4772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DA44-B6B2-4829-B8C6-11E426C6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B850-1F61-4913-B222-E51D6CF5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BCF1-E10A-4E92-9EF2-773D85C4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2A5F-25F4-4311-BD57-5D307B0E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0E31-90B9-4880-A162-08EC30CB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9A21-91AF-4979-8035-313ED9D8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51F4-230E-4821-8C28-CD60E737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013E-EF78-479B-BBC3-BBAA5AA1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1DE0-319A-4502-8134-9148D87A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ABA6-6DBE-4F10-8A31-4D0544F0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3CB-2CD7-4D51-BBBC-917EB6CF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897-D1AD-4CA6-9739-4FBAAF61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656-9B25-4214-A466-A2D1BB21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8A0-612E-424A-819F-10D6C86B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A3B-A04B-47BD-8BF2-D5B0868C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FD69-EAFC-4CF3-8C5C-7687B188D409}" type="slidenum">
              <a:rPr b="0" lang="en-US" sz="800" spc="-1" strike="noStrike">
                <a:solidFill>
                  <a:srgbClr val="8c8c8c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B875-2C4B-474C-9A1D-3E4D7E1D877F}" type="slidenum">
              <a:rPr b="0" lang="en-US" sz="800" spc="-1" strike="noStrike">
                <a:solidFill>
                  <a:srgbClr val="8c8c8c"/>
                </a:solidFill>
                <a:latin typeface="Calibri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75564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ITLE LAYOUT</a:t>
            </a:r>
            <a:endParaRPr b="0" lang="en-US" sz="80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480" y="3955680"/>
            <a:ext cx="68580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宋体"/>
              </a:rPr>
              <a:t>Subtitl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5960" y="38412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6095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55960" y="2239920"/>
            <a:ext cx="4799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LIS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CH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pic>
        <p:nvPicPr>
          <p:cNvPr id="202" name="Content Placeholder 5" descr="Clustered Column Chart"/>
          <p:cNvPicPr/>
          <p:nvPr/>
        </p:nvPicPr>
        <p:blipFill>
          <a:blip r:embed="rId1"/>
          <a:stretch/>
        </p:blipFill>
        <p:spPr>
          <a:xfrm>
            <a:off x="1930320" y="1936800"/>
            <a:ext cx="9474120" cy="458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TABLE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781680" y="1981080"/>
          <a:ext cx="4572000" cy="20890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522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  <a:tr h="522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SMART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8" name="Content Placeholder 4" descr="Interconnected Block Process"/>
          <p:cNvPicPr/>
          <p:nvPr/>
        </p:nvPicPr>
        <p:blipFill>
          <a:blip r:embed="rId1"/>
          <a:stretch/>
        </p:blipFill>
        <p:spPr>
          <a:xfrm>
            <a:off x="6778800" y="1981080"/>
            <a:ext cx="4730400" cy="44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22240"/>
            <a:ext cx="8686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283500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9200" y="4096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6600" y="380520"/>
            <a:ext cx="5489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59200" y="22384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810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9810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7816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816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2:50:02Z</dcterms:created>
  <dc:creator/>
  <dc:description/>
  <dc:language>en-US</dc:language>
  <cp:lastModifiedBy>Administrator</cp:lastModifiedBy>
  <dcterms:modified xsi:type="dcterms:W3CDTF">2016-06-17T04:46:07Z</dcterms:modified>
  <cp:revision>3</cp:revision>
  <dc:subject/>
  <dc:title>TITL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_TemplateID">
    <vt:lpwstr>TC030310279991</vt:lpwstr>
  </property>
</Properties>
</file>