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5CD-F988-4294-B822-C729E171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3BE-35FF-4D5E-A386-011B1056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05E-CBD0-4870-833D-775DDD79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D18-CEAB-45AB-95C5-45EE424F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312-375A-4322-BC10-7304BAD6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D55-A7A8-4A7F-AD40-9AD063BE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43E-7351-4CEF-B6A0-ED22F249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57F-9ED0-4F51-955A-AB0CAC75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B00-E0FC-4D6B-BB61-D29AE3A0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CC5-1599-433A-84AB-4F2E7CA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042-8849-48F1-A446-9D354558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2D5-B8BC-4CFC-8AE7-7DF067E7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FD7D-F380-4E47-92F9-ACC189495A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BDEE-A79C-4F2E-BDB3-C2AF9813FF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custGeom>
            <a:avLst/>
            <a:gdLst/>
            <a:ahLst/>
            <a:rect l="l" t="t" r="r" b="b"/>
            <a:pathLst>
              <a:path w="2309323" h="3107284">
                <a:moveTo>
                  <a:pt x="1333781" y="0"/>
                </a:moveTo>
                <a:lnTo>
                  <a:pt x="1338028" y="108367"/>
                </a:lnTo>
                <a:cubicBezTo>
                  <a:pt x="1351666" y="281403"/>
                  <a:pt x="1385571" y="446719"/>
                  <a:pt x="1436636" y="600312"/>
                </a:cubicBezTo>
                <a:lnTo>
                  <a:pt x="1495575" y="746602"/>
                </a:lnTo>
                <a:lnTo>
                  <a:pt x="1899119" y="686068"/>
                </a:lnTo>
                <a:lnTo>
                  <a:pt x="1634102" y="1014607"/>
                </a:lnTo>
                <a:lnTo>
                  <a:pt x="1638203" y="1021918"/>
                </a:lnTo>
                <a:cubicBezTo>
                  <a:pt x="1802759" y="1274205"/>
                  <a:pt x="2023527" y="1463586"/>
                  <a:pt x="2275653" y="1558036"/>
                </a:cubicBezTo>
                <a:lnTo>
                  <a:pt x="2309323" y="1568473"/>
                </a:lnTo>
                <a:lnTo>
                  <a:pt x="2265694" y="1582928"/>
                </a:lnTo>
                <a:cubicBezTo>
                  <a:pt x="1784665" y="1775710"/>
                  <a:pt x="1425266" y="2324207"/>
                  <a:pt x="1372821" y="2989629"/>
                </a:cubicBezTo>
                <a:lnTo>
                  <a:pt x="1368210" y="3107284"/>
                </a:lnTo>
                <a:lnTo>
                  <a:pt x="1164986" y="3024034"/>
                </a:lnTo>
                <a:cubicBezTo>
                  <a:pt x="462117" y="2703843"/>
                  <a:pt x="0" y="2161606"/>
                  <a:pt x="0" y="1546590"/>
                </a:cubicBezTo>
                <a:cubicBezTo>
                  <a:pt x="0" y="931574"/>
                  <a:pt x="462117" y="389337"/>
                  <a:pt x="1164986" y="69147"/>
                </a:cubicBezTo>
                <a:lnTo>
                  <a:pt x="1333781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custGeom>
            <a:avLst/>
            <a:gdLst/>
            <a:ahLst/>
            <a:rect l="l" t="t" r="r" b="b"/>
            <a:pathLst>
              <a:path w="2320998" h="2107137">
                <a:moveTo>
                  <a:pt x="1160500" y="0"/>
                </a:moveTo>
                <a:cubicBezTo>
                  <a:pt x="1525332" y="0"/>
                  <a:pt x="1872895" y="50421"/>
                  <a:pt x="2189021" y="141603"/>
                </a:cubicBezTo>
                <a:lnTo>
                  <a:pt x="2318397" y="184103"/>
                </a:lnTo>
                <a:lnTo>
                  <a:pt x="2320998" y="250486"/>
                </a:lnTo>
                <a:cubicBezTo>
                  <a:pt x="2320998" y="973100"/>
                  <a:pt x="1923200" y="1575995"/>
                  <a:pt x="1394380" y="1715429"/>
                </a:cubicBezTo>
                <a:lnTo>
                  <a:pt x="1306388" y="1732732"/>
                </a:lnTo>
                <a:lnTo>
                  <a:pt x="1160499" y="2107137"/>
                </a:lnTo>
                <a:lnTo>
                  <a:pt x="1014610" y="1732732"/>
                </a:lnTo>
                <a:lnTo>
                  <a:pt x="926618" y="1715429"/>
                </a:lnTo>
                <a:cubicBezTo>
                  <a:pt x="699981" y="1655672"/>
                  <a:pt x="497410" y="1510789"/>
                  <a:pt x="339903" y="1307839"/>
                </a:cubicBezTo>
                <a:lnTo>
                  <a:pt x="270102" y="1208880"/>
                </a:lnTo>
                <a:lnTo>
                  <a:pt x="542789" y="870833"/>
                </a:lnTo>
                <a:lnTo>
                  <a:pt x="128737" y="932943"/>
                </a:lnTo>
                <a:lnTo>
                  <a:pt x="91198" y="832533"/>
                </a:lnTo>
                <a:cubicBezTo>
                  <a:pt x="32473" y="653635"/>
                  <a:pt x="0" y="456947"/>
                  <a:pt x="0" y="250486"/>
                </a:cubicBezTo>
                <a:lnTo>
                  <a:pt x="2602" y="184104"/>
                </a:lnTo>
                <a:lnTo>
                  <a:pt x="131980" y="141603"/>
                </a:lnTo>
                <a:cubicBezTo>
                  <a:pt x="448106" y="50421"/>
                  <a:pt x="795668" y="0"/>
                  <a:pt x="1160500" y="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custGeom>
            <a:avLst/>
            <a:gdLst/>
            <a:ahLst/>
            <a:rect l="l" t="t" r="r" b="b"/>
            <a:pathLst>
              <a:path w="2379354" h="1717440">
                <a:moveTo>
                  <a:pt x="1284624" y="0"/>
                </a:moveTo>
                <a:lnTo>
                  <a:pt x="1394380" y="21584"/>
                </a:lnTo>
                <a:cubicBezTo>
                  <a:pt x="1625739" y="82586"/>
                  <a:pt x="1832019" y="232298"/>
                  <a:pt x="1990881" y="441934"/>
                </a:cubicBezTo>
                <a:lnTo>
                  <a:pt x="2000524" y="455770"/>
                </a:lnTo>
                <a:lnTo>
                  <a:pt x="2379354" y="398943"/>
                </a:lnTo>
                <a:lnTo>
                  <a:pt x="2141326" y="694024"/>
                </a:lnTo>
                <a:lnTo>
                  <a:pt x="2167246" y="742219"/>
                </a:lnTo>
                <a:cubicBezTo>
                  <a:pt x="2265058" y="961402"/>
                  <a:pt x="2320998" y="1215546"/>
                  <a:pt x="2320998" y="1486526"/>
                </a:cubicBezTo>
                <a:lnTo>
                  <a:pt x="2319429" y="1526564"/>
                </a:lnTo>
                <a:lnTo>
                  <a:pt x="2169436" y="1575838"/>
                </a:lnTo>
                <a:cubicBezTo>
                  <a:pt x="1853310" y="1667019"/>
                  <a:pt x="1505747" y="1717440"/>
                  <a:pt x="1140915" y="1717440"/>
                </a:cubicBezTo>
                <a:cubicBezTo>
                  <a:pt x="776083" y="1717440"/>
                  <a:pt x="428521" y="1667019"/>
                  <a:pt x="112395" y="1575838"/>
                </a:cubicBezTo>
                <a:lnTo>
                  <a:pt x="2080" y="1539599"/>
                </a:lnTo>
                <a:lnTo>
                  <a:pt x="0" y="1486526"/>
                </a:lnTo>
                <a:cubicBezTo>
                  <a:pt x="0" y="763913"/>
                  <a:pt x="397798" y="161017"/>
                  <a:pt x="926618" y="21584"/>
                </a:cubicBezTo>
                <a:lnTo>
                  <a:pt x="999992" y="7155"/>
                </a:lnTo>
                <a:lnTo>
                  <a:pt x="1140914" y="368813"/>
                </a:lnTo>
                <a:lnTo>
                  <a:pt x="12846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custGeom>
            <a:avLst/>
            <a:gdLst/>
            <a:ahLst/>
            <a:rect l="l" t="t" r="r" b="b"/>
            <a:pathLst>
              <a:path w="2305159" h="4248639">
                <a:moveTo>
                  <a:pt x="971378" y="0"/>
                </a:moveTo>
                <a:lnTo>
                  <a:pt x="1140174" y="69147"/>
                </a:lnTo>
                <a:cubicBezTo>
                  <a:pt x="1843042" y="389337"/>
                  <a:pt x="2305159" y="931574"/>
                  <a:pt x="2305159" y="1546590"/>
                </a:cubicBezTo>
                <a:cubicBezTo>
                  <a:pt x="2305159" y="1892537"/>
                  <a:pt x="2158943" y="2215455"/>
                  <a:pt x="1905908" y="2488780"/>
                </a:cubicBezTo>
                <a:lnTo>
                  <a:pt x="1875299" y="2519731"/>
                </a:lnTo>
                <a:lnTo>
                  <a:pt x="2055324" y="4248639"/>
                </a:lnTo>
                <a:lnTo>
                  <a:pt x="1310805" y="2935833"/>
                </a:lnTo>
                <a:lnTo>
                  <a:pt x="1140174" y="3024034"/>
                </a:lnTo>
                <a:lnTo>
                  <a:pt x="944880" y="3104035"/>
                </a:lnTo>
                <a:lnTo>
                  <a:pt x="940397" y="2989629"/>
                </a:lnTo>
                <a:cubicBezTo>
                  <a:pt x="920730" y="2740096"/>
                  <a:pt x="857898" y="2507005"/>
                  <a:pt x="761673" y="2302950"/>
                </a:cubicBezTo>
                <a:lnTo>
                  <a:pt x="760213" y="2300304"/>
                </a:lnTo>
                <a:lnTo>
                  <a:pt x="1025901" y="1970933"/>
                </a:lnTo>
                <a:lnTo>
                  <a:pt x="599788" y="2034852"/>
                </a:lnTo>
                <a:lnTo>
                  <a:pt x="527596" y="1937283"/>
                </a:lnTo>
                <a:cubicBezTo>
                  <a:pt x="391191" y="1777537"/>
                  <a:pt x="227910" y="1655221"/>
                  <a:pt x="47523" y="1582928"/>
                </a:cubicBezTo>
                <a:lnTo>
                  <a:pt x="0" y="1567183"/>
                </a:lnTo>
                <a:lnTo>
                  <a:pt x="29506" y="1558036"/>
                </a:lnTo>
                <a:cubicBezTo>
                  <a:pt x="533759" y="1369135"/>
                  <a:pt x="912579" y="800512"/>
                  <a:pt x="967131" y="108367"/>
                </a:cubicBezTo>
                <a:lnTo>
                  <a:pt x="971378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1160" y="2154240"/>
            <a:ext cx="1234800" cy="930240"/>
          </a:xfrm>
          <a:prstGeom prst="parallelogram">
            <a:avLst>
              <a:gd name="adj" fmla="val 25036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1880" y="348228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1880" y="480924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custGeom>
            <a:avLst/>
            <a:gdLst/>
            <a:ahLst/>
            <a:rect l="l" t="t" r="r" b="b"/>
            <a:pathLst>
              <a:path w="116" h="112">
                <a:moveTo>
                  <a:pt x="95" y="29"/>
                </a:moveTo>
                <a:lnTo>
                  <a:pt x="52" y="72"/>
                </a:lnTo>
                <a:lnTo>
                  <a:pt x="67" y="86"/>
                </a:lnTo>
                <a:lnTo>
                  <a:pt x="116" y="36"/>
                </a:lnTo>
                <a:lnTo>
                  <a:pt x="102" y="21"/>
                </a:lnTo>
                <a:lnTo>
                  <a:pt x="95" y="29"/>
                </a:lnTo>
                <a:close/>
                <a:moveTo>
                  <a:pt x="50" y="79"/>
                </a:moveTo>
                <a:lnTo>
                  <a:pt x="50" y="88"/>
                </a:lnTo>
                <a:lnTo>
                  <a:pt x="59" y="88"/>
                </a:lnTo>
                <a:lnTo>
                  <a:pt x="50" y="79"/>
                </a:lnTo>
                <a:close/>
                <a:moveTo>
                  <a:pt x="17" y="67"/>
                </a:moveTo>
                <a:lnTo>
                  <a:pt x="17" y="74"/>
                </a:lnTo>
                <a:lnTo>
                  <a:pt x="45" y="74"/>
                </a:lnTo>
                <a:lnTo>
                  <a:pt x="45" y="72"/>
                </a:lnTo>
                <a:lnTo>
                  <a:pt x="50" y="67"/>
                </a:lnTo>
                <a:lnTo>
                  <a:pt x="17" y="67"/>
                </a:lnTo>
                <a:close/>
                <a:moveTo>
                  <a:pt x="81" y="36"/>
                </a:moveTo>
                <a:lnTo>
                  <a:pt x="17" y="36"/>
                </a:lnTo>
                <a:lnTo>
                  <a:pt x="17" y="45"/>
                </a:lnTo>
                <a:lnTo>
                  <a:pt x="74" y="45"/>
                </a:lnTo>
                <a:lnTo>
                  <a:pt x="81" y="36"/>
                </a:lnTo>
                <a:close/>
                <a:moveTo>
                  <a:pt x="17" y="60"/>
                </a:moveTo>
                <a:lnTo>
                  <a:pt x="57" y="60"/>
                </a:lnTo>
                <a:lnTo>
                  <a:pt x="67" y="50"/>
                </a:lnTo>
                <a:lnTo>
                  <a:pt x="17" y="50"/>
                </a:lnTo>
                <a:lnTo>
                  <a:pt x="17" y="60"/>
                </a:lnTo>
                <a:close/>
                <a:moveTo>
                  <a:pt x="88" y="103"/>
                </a:moveTo>
                <a:lnTo>
                  <a:pt x="10" y="103"/>
                </a:lnTo>
                <a:lnTo>
                  <a:pt x="10" y="24"/>
                </a:lnTo>
                <a:lnTo>
                  <a:pt x="24" y="24"/>
                </a:lnTo>
                <a:lnTo>
                  <a:pt x="24" y="9"/>
                </a:lnTo>
                <a:lnTo>
                  <a:pt x="88" y="9"/>
                </a:lnTo>
                <a:lnTo>
                  <a:pt x="88" y="31"/>
                </a:lnTo>
                <a:lnTo>
                  <a:pt x="95" y="21"/>
                </a:lnTo>
                <a:lnTo>
                  <a:pt x="95" y="0"/>
                </a:lnTo>
                <a:lnTo>
                  <a:pt x="22" y="0"/>
                </a:lnTo>
                <a:lnTo>
                  <a:pt x="0" y="21"/>
                </a:lnTo>
                <a:lnTo>
                  <a:pt x="0" y="112"/>
                </a:lnTo>
                <a:lnTo>
                  <a:pt x="95" y="112"/>
                </a:lnTo>
                <a:lnTo>
                  <a:pt x="95" y="62"/>
                </a:lnTo>
                <a:lnTo>
                  <a:pt x="88" y="72"/>
                </a:lnTo>
                <a:lnTo>
                  <a:pt x="88" y="103"/>
                </a:lnTo>
                <a:close/>
                <a:moveTo>
                  <a:pt x="17" y="88"/>
                </a:moveTo>
                <a:lnTo>
                  <a:pt x="45" y="88"/>
                </a:lnTo>
                <a:lnTo>
                  <a:pt x="45" y="81"/>
                </a:lnTo>
                <a:lnTo>
                  <a:pt x="17" y="81"/>
                </a:lnTo>
                <a:lnTo>
                  <a:pt x="17" y="88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4040" y="3086640"/>
            <a:ext cx="132084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2320" y="3110400"/>
            <a:ext cx="143172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160" y="4014360"/>
            <a:ext cx="1320840" cy="1320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5600" y="1855440"/>
            <a:ext cx="4508280" cy="3886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8280" y="1639800"/>
            <a:ext cx="5010120" cy="4317840"/>
          </a:xfrm>
          <a:prstGeom prst="hexagon">
            <a:avLst>
              <a:gd name="adj" fmla="val 2500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custGeom>
            <a:avLst/>
            <a:gdLst/>
            <a:ahLst/>
            <a:rect l="l" t="t" r="r" b="b"/>
            <a:pathLst>
              <a:path w="1482739" h="2368485">
                <a:moveTo>
                  <a:pt x="618292" y="0"/>
                </a:moveTo>
                <a:lnTo>
                  <a:pt x="1482739" y="684778"/>
                </a:lnTo>
                <a:lnTo>
                  <a:pt x="1388693" y="821331"/>
                </a:lnTo>
                <a:cubicBezTo>
                  <a:pt x="1208281" y="1110339"/>
                  <a:pt x="1104029" y="1451787"/>
                  <a:pt x="1104029" y="1817583"/>
                </a:cubicBezTo>
                <a:cubicBezTo>
                  <a:pt x="1104029" y="1947644"/>
                  <a:pt x="1117209" y="2074627"/>
                  <a:pt x="1142305" y="2197269"/>
                </a:cubicBezTo>
                <a:lnTo>
                  <a:pt x="1186329" y="2368485"/>
                </a:lnTo>
                <a:lnTo>
                  <a:pt x="52879" y="2368485"/>
                </a:lnTo>
                <a:lnTo>
                  <a:pt x="15427" y="2123089"/>
                </a:lnTo>
                <a:cubicBezTo>
                  <a:pt x="5226" y="2022641"/>
                  <a:pt x="0" y="1920723"/>
                  <a:pt x="0" y="1817583"/>
                </a:cubicBezTo>
                <a:cubicBezTo>
                  <a:pt x="0" y="1218087"/>
                  <a:pt x="176550" y="659826"/>
                  <a:pt x="480494" y="191958"/>
                </a:cubicBezTo>
                <a:lnTo>
                  <a:pt x="618292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custGeom>
            <a:avLst/>
            <a:gdLst/>
            <a:ahLst/>
            <a:rect l="l" t="t" r="r" b="b"/>
            <a:pathLst>
              <a:path w="2229750" h="1759042">
                <a:moveTo>
                  <a:pt x="2229750" y="0"/>
                </a:moveTo>
                <a:lnTo>
                  <a:pt x="2229750" y="1105606"/>
                </a:lnTo>
                <a:lnTo>
                  <a:pt x="2099663" y="1112175"/>
                </a:lnTo>
                <a:cubicBezTo>
                  <a:pt x="1624662" y="1160414"/>
                  <a:pt x="1201825" y="1385111"/>
                  <a:pt x="897739" y="1719680"/>
                </a:cubicBezTo>
                <a:lnTo>
                  <a:pt x="865058" y="1759042"/>
                </a:lnTo>
                <a:lnTo>
                  <a:pt x="0" y="1073780"/>
                </a:lnTo>
                <a:lnTo>
                  <a:pt x="129369" y="924877"/>
                </a:lnTo>
                <a:cubicBezTo>
                  <a:pt x="640582" y="388685"/>
                  <a:pt x="1349142" y="42321"/>
                  <a:pt x="2138526" y="2307"/>
                </a:cubicBezTo>
                <a:lnTo>
                  <a:pt x="222975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custGeom>
            <a:avLst/>
            <a:gdLst/>
            <a:ahLst/>
            <a:rect l="l" t="t" r="r" b="b"/>
            <a:pathLst>
              <a:path w="1483619" h="2369744">
                <a:moveTo>
                  <a:pt x="864424" y="0"/>
                </a:moveTo>
                <a:lnTo>
                  <a:pt x="1003126" y="193217"/>
                </a:lnTo>
                <a:cubicBezTo>
                  <a:pt x="1307069" y="661085"/>
                  <a:pt x="1483619" y="1219346"/>
                  <a:pt x="1483619" y="1818842"/>
                </a:cubicBezTo>
                <a:cubicBezTo>
                  <a:pt x="1483619" y="1921982"/>
                  <a:pt x="1478393" y="2023900"/>
                  <a:pt x="1468192" y="2124348"/>
                </a:cubicBezTo>
                <a:lnTo>
                  <a:pt x="1430740" y="2369744"/>
                </a:lnTo>
                <a:lnTo>
                  <a:pt x="297290" y="2369744"/>
                </a:lnTo>
                <a:lnTo>
                  <a:pt x="341315" y="2198528"/>
                </a:lnTo>
                <a:cubicBezTo>
                  <a:pt x="366411" y="2075886"/>
                  <a:pt x="379590" y="1948903"/>
                  <a:pt x="379590" y="1818842"/>
                </a:cubicBezTo>
                <a:cubicBezTo>
                  <a:pt x="379590" y="1453046"/>
                  <a:pt x="275339" y="1111598"/>
                  <a:pt x="94927" y="822590"/>
                </a:cubicBezTo>
                <a:lnTo>
                  <a:pt x="0" y="684759"/>
                </a:lnTo>
                <a:lnTo>
                  <a:pt x="8644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custGeom>
            <a:avLst/>
            <a:gdLst/>
            <a:ahLst/>
            <a:rect l="l" t="t" r="r" b="b"/>
            <a:pathLst>
              <a:path w="2231226" h="1757913">
                <a:moveTo>
                  <a:pt x="0" y="0"/>
                </a:moveTo>
                <a:lnTo>
                  <a:pt x="93716" y="2370"/>
                </a:lnTo>
                <a:cubicBezTo>
                  <a:pt x="883101" y="42384"/>
                  <a:pt x="1591661" y="388748"/>
                  <a:pt x="2102874" y="924940"/>
                </a:cubicBezTo>
                <a:lnTo>
                  <a:pt x="2231226" y="1072673"/>
                </a:lnTo>
                <a:lnTo>
                  <a:pt x="1366195" y="1757913"/>
                </a:lnTo>
                <a:lnTo>
                  <a:pt x="1334504" y="1719743"/>
                </a:lnTo>
                <a:cubicBezTo>
                  <a:pt x="1030417" y="1385174"/>
                  <a:pt x="607581" y="1160477"/>
                  <a:pt x="132579" y="1112238"/>
                </a:cubicBezTo>
                <a:lnTo>
                  <a:pt x="0" y="11055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custGeom>
            <a:avLst/>
            <a:gdLst/>
            <a:ahLst/>
            <a:rect l="l" t="t" r="r" b="b"/>
            <a:pathLst>
              <a:path w="4113070" h="2620420">
                <a:moveTo>
                  <a:pt x="2056535" y="0"/>
                </a:moveTo>
                <a:cubicBezTo>
                  <a:pt x="3192328" y="0"/>
                  <a:pt x="4113070" y="920742"/>
                  <a:pt x="4113070" y="2056535"/>
                </a:cubicBezTo>
                <a:cubicBezTo>
                  <a:pt x="4113070" y="2198509"/>
                  <a:pt x="4098684" y="2337123"/>
                  <a:pt x="4071289" y="2470999"/>
                </a:cubicBezTo>
                <a:lnTo>
                  <a:pt x="4032869" y="2620420"/>
                </a:lnTo>
                <a:lnTo>
                  <a:pt x="80202" y="2620420"/>
                </a:lnTo>
                <a:lnTo>
                  <a:pt x="41782" y="2470999"/>
                </a:lnTo>
                <a:cubicBezTo>
                  <a:pt x="14387" y="2337123"/>
                  <a:pt x="0" y="2198509"/>
                  <a:pt x="0" y="2056535"/>
                </a:cubicBezTo>
                <a:cubicBezTo>
                  <a:pt x="0" y="920742"/>
                  <a:pt x="920742" y="0"/>
                  <a:pt x="2056535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custGeom>
            <a:avLst/>
            <a:gdLst/>
            <a:ahLst/>
            <a:rect l="l" t="t" r="r" b="b"/>
            <a:pathLst>
              <a:path w="324000" h="2776241">
                <a:moveTo>
                  <a:pt x="162000" y="0"/>
                </a:moveTo>
                <a:lnTo>
                  <a:pt x="324000" y="2612570"/>
                </a:lnTo>
                <a:lnTo>
                  <a:pt x="323663" y="2612570"/>
                </a:lnTo>
                <a:lnTo>
                  <a:pt x="324000" y="2614241"/>
                </a:lnTo>
                <a:cubicBezTo>
                  <a:pt x="324000" y="2703711"/>
                  <a:pt x="251470" y="2776241"/>
                  <a:pt x="162000" y="2776241"/>
                </a:cubicBezTo>
                <a:cubicBezTo>
                  <a:pt x="72530" y="2776241"/>
                  <a:pt x="0" y="2703711"/>
                  <a:pt x="0" y="2614241"/>
                </a:cubicBezTo>
                <a:lnTo>
                  <a:pt x="338" y="2612570"/>
                </a:lnTo>
                <a:lnTo>
                  <a:pt x="0" y="2612570"/>
                </a:lnTo>
                <a:lnTo>
                  <a:pt x="16200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4640" y="4127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2320" y="54601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440" y="4916520"/>
            <a:ext cx="546120" cy="199368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2896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62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3400" y="1997640"/>
            <a:ext cx="19656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76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772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0840" y="3946320"/>
            <a:ext cx="644400" cy="755640"/>
          </a:xfrm>
          <a:custGeom>
            <a:avLst/>
            <a:gdLst>
              <a:gd name="textAreaLeft" fmla="*/ 0 w 644400"/>
              <a:gd name="textAreaRight" fmla="*/ 644760 w 6444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588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10Z</dcterms:modified>
  <cp:revision>7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