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DB0-98A1-4721-916C-881CECBD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B8A-132E-41CF-A0D3-4F3FCC78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FC7-203B-47DC-A748-F8485513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21B-AC2F-40B8-BC7F-DD9BBB4D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8A0A-F852-40F9-94A2-F2EB1945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E29A-37AB-4090-86CE-8B6092E1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D397-E14F-43BA-B6EE-ADBFEE02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3A51-0BFB-4B4E-9FEF-68702F9F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3DDF-6E43-4279-8C56-1B4B9072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6D09-C8B8-4CE5-B016-11A7FE89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DA15-AA2C-4A1D-B17A-71ED3A0F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AC8-1CE1-4156-84B6-412C97EC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FF0D-8156-4765-BA46-A1A2B3BB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EE84-50A3-46DE-8C4F-3631E446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9C68-6909-4F52-99F1-F312BCC6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D56B-9333-457A-8B1F-ACBA786D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C1CF-DBB1-405F-8269-9A48523A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136-B547-4224-84D4-62C27022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493-297A-40ED-B3E2-2A9B83D9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F36-D647-4911-AC05-379CEE79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8908-B722-4485-887A-3A86DE09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DBA-9146-4416-960D-7E04302F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8965-6533-40FC-817D-19BD35C8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D1B1-D66F-4F29-ABDE-49DE84C4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8A0B-E8E2-4F53-87CB-65311EB0E2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2ED8-C579-430B-8840-368E1EDE37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请在此处填入你需要的内容。请在此处填入你需要的内容。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更专业的模板。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99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447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497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47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深夜列车</dc:creator>
  <dc:description/>
  <cp:keywords/>
  <dc:language>en-US</dc:language>
  <cp:lastModifiedBy>Administrator</cp:lastModifiedBy>
  <dcterms:modified xsi:type="dcterms:W3CDTF">2016-07-26T01:18:06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