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169-9759-46C0-8789-FC21BE94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F79-E934-443F-AD32-D8226E57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066-AF34-40AE-AD52-1143B232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FE6-DAB5-4ED5-8F83-269E923C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B52B-76C5-47A6-8F8C-4F9F9851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BC50-5DFC-4B08-8796-0A2798F7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8CB8-4D24-486A-9EEB-3EABA927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4EA0-CCE8-4E9F-ACBD-48129814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B4C3-1BD6-4DC3-A8E2-7F1891EB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AB3E-5419-40D1-8F40-DE711557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C2EA-FB7D-4CC6-A54B-0302440E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7B6-4F16-4B9A-8BA1-C2450769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ABC1-2441-4DCA-89D2-F1F0DF71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9C65-E542-4A4B-BEE6-FF034950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7AC0-3C24-4B6E-876A-57A3BA50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ADB0-A595-4119-8E17-3F110209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5CDB-87DB-4942-BBC5-81024C38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7E8-640F-4E2B-A222-B333F164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6D0-E809-41EF-8D44-439469B1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A6A-58F9-4F52-B752-207AE829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F44-A00B-4575-A537-2E37015F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E10-B427-4D9E-8BB1-5F157566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049-EC0E-45C6-A24A-93B365EA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E85-D606-4465-8042-CC4EAD23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1AEA-C75A-4EE9-8109-FB0E1D8464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E885-63DD-48D6-8138-B940405584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请在此处填入你需要的内容。请在此处填入你需要的内容。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99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47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97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47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深夜列车</dc:creator>
  <dc:description/>
  <cp:keywords/>
  <dc:language>en-US</dc:language>
  <cp:lastModifiedBy>Administrator</cp:lastModifiedBy>
  <dcterms:modified xsi:type="dcterms:W3CDTF">2016-07-26T01:18:06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